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9.wmf" ContentType="image/x-wmf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D4F-1F01-487A-BCCC-C0557DA8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F6E-224D-4D4F-A366-F318DF41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0F02-DF20-41D7-800C-3F622CB1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EE0-B49A-4CE4-AC6E-809CAA31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953E-174D-424D-9456-80208620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DCC5-56F4-472A-B1FC-FF47ABAA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4AD7-58C8-4013-A35A-4BC52C56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C330-848B-49AC-B0BF-8D9B71CA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A137-C7A3-4A5F-A296-CDB4D01F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B109-8653-4EAF-8748-B1F70D14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6225-2084-4214-9593-F173950A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FED-E4EB-4B91-8F5F-C5E365B1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9F07-AAC9-42C7-8836-ADCD30D7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774C-182E-467F-A63B-3A34C0FC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32D0-E8C2-4B8C-AB1D-67C712D4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A0B4-D45F-49D2-837A-EF9981B4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302F-E8F7-4340-926D-0B94451C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DF07B-3786-4C57-97AB-5FA776CB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3060-1C9E-400A-BB94-68C89677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7EE44-87DC-4D92-8115-ADC23560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EAA67-17AE-479F-8E53-B13F690F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0865-D53A-403C-A504-8593FAB2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C13-02E2-45D1-8814-4DF1942F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6ACB-196B-4FE4-AF03-182AD17C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867F-415D-4D1E-A1F6-FED4847D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2431-A268-4C54-87C7-695C3E2E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0A0F-6236-41FF-AF72-4EBE9416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B9EF-4927-4C63-A79C-8DDAEF9C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2447-A250-4F84-8200-08A3B8F5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E649C-FFBB-4A69-BAC7-B9DE5DA0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8BD-72B1-4BF3-BF36-D7BB3F40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647-2A11-4A5C-B1DA-77F38FD6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DA8-0921-4436-B41E-B7F14EB6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0DE-43C5-4DB0-BF57-FE15D103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B22-4C4D-4437-8C49-BEB91396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87D-D7F7-476E-B4C6-14F4D174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3545-2F5C-488A-8A32-C9760BDF1A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21D2-A67F-4E83-BFA1-1F22100449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A2F-AABD-4D4A-8398-AA0BF19E4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332000" y="2205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今天你安全吗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2612880" y="2060640"/>
            <a:ext cx="3980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1706400" y="1557360"/>
            <a:ext cx="57150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2633760" y="1773360"/>
            <a:ext cx="3876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1068480" y="1125360"/>
            <a:ext cx="695304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1" descr=""/>
          <p:cNvPicPr/>
          <p:nvPr/>
        </p:nvPicPr>
        <p:blipFill>
          <a:blip r:embed="rId1"/>
          <a:stretch/>
        </p:blipFill>
        <p:spPr>
          <a:xfrm>
            <a:off x="1995480" y="1989000"/>
            <a:ext cx="515304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1" descr=""/>
          <p:cNvPicPr/>
          <p:nvPr/>
        </p:nvPicPr>
        <p:blipFill>
          <a:blip r:embed="rId1"/>
          <a:stretch/>
        </p:blipFill>
        <p:spPr>
          <a:xfrm>
            <a:off x="1143000" y="11253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919080" y="1413000"/>
            <a:ext cx="7305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1" descr=""/>
          <p:cNvPicPr/>
          <p:nvPr/>
        </p:nvPicPr>
        <p:blipFill>
          <a:blip r:embed="rId1"/>
          <a:stretch/>
        </p:blipFill>
        <p:spPr>
          <a:xfrm>
            <a:off x="762120" y="1413000"/>
            <a:ext cx="7619760" cy="480348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8199"/>
          <p:cNvSpPr/>
          <p:nvPr/>
        </p:nvSpPr>
        <p:spPr>
          <a:xfrm>
            <a:off x="1606680" y="1077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下图片有哪些安全隐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1697040" y="1268280"/>
            <a:ext cx="5715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847880" y="2492280"/>
            <a:ext cx="5770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知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99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年，我国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万名中小学生非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常死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年，国家少年儿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安康计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布的数据显示，我国少年儿童因安全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故、食物中毒、溺水等死亡的，平均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天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多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2360" y="198900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我们常说：“家是避风港，全岛。总觉得在家是最安全的。其实，安全的家不是自然就有，也不会永恒不变，他需要家庭里的每一位成员用心去维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9640" y="206064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些活动的确存在安全隐患，但是如果因此而不参加或少参加活动，我们会失去增长见识、锻炼能力的机会。所以，掌握一些避免伤害的方法是非常必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:\品德\！今天，你安全吗（二）\游泳.jpg"/>
          <p:cNvPicPr/>
          <p:nvPr/>
        </p:nvPicPr>
        <p:blipFill>
          <a:blip r:embed="rId1"/>
          <a:stretch/>
        </p:blipFill>
        <p:spPr>
          <a:xfrm>
            <a:off x="684360" y="2205000"/>
            <a:ext cx="6421320" cy="42004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5402160" y="1143000"/>
            <a:ext cx="3276720" cy="1327320"/>
          </a:xfrm>
          <a:prstGeom prst="cloudCallout">
            <a:avLst>
              <a:gd name="adj1" fmla="val -24129"/>
              <a:gd name="adj2" fmla="val 9775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的时候应当注意什么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F:\品德\！今天，你安全吗（二）\削苹果.jpg"/>
          <p:cNvPicPr/>
          <p:nvPr/>
        </p:nvPicPr>
        <p:blipFill>
          <a:blip r:embed="rId1"/>
          <a:stretch/>
        </p:blipFill>
        <p:spPr>
          <a:xfrm>
            <a:off x="395280" y="1917720"/>
            <a:ext cx="6797520" cy="41958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3"/>
          <p:cNvSpPr/>
          <p:nvPr/>
        </p:nvSpPr>
        <p:spPr>
          <a:xfrm>
            <a:off x="5148360" y="1557360"/>
            <a:ext cx="3581280" cy="971640"/>
          </a:xfrm>
          <a:prstGeom prst="cloudCallout">
            <a:avLst>
              <a:gd name="adj1" fmla="val -36879"/>
              <a:gd name="adj2" fmla="val 9142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怎样防止划破手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:\品德\！今天，你安全吗（二）\玩底子.jpg"/>
          <p:cNvPicPr/>
          <p:nvPr/>
        </p:nvPicPr>
        <p:blipFill>
          <a:blip r:embed="rId1"/>
          <a:stretch/>
        </p:blipFill>
        <p:spPr>
          <a:xfrm>
            <a:off x="395280" y="2133720"/>
            <a:ext cx="6170760" cy="418464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3"/>
          <p:cNvSpPr/>
          <p:nvPr/>
        </p:nvSpPr>
        <p:spPr>
          <a:xfrm>
            <a:off x="5796000" y="1484280"/>
            <a:ext cx="3124080" cy="1141560"/>
          </a:xfrm>
          <a:prstGeom prst="cloudCallout">
            <a:avLst>
              <a:gd name="adj1" fmla="val -46037"/>
              <a:gd name="adj2" fmla="val 7463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怎样防止摔伤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F:\品德\！今天，你安全吗（二）\爬底子.jpg"/>
          <p:cNvPicPr/>
          <p:nvPr/>
        </p:nvPicPr>
        <p:blipFill>
          <a:blip r:embed="rId1"/>
          <a:stretch/>
        </p:blipFill>
        <p:spPr>
          <a:xfrm>
            <a:off x="684360" y="1989000"/>
            <a:ext cx="5654520" cy="418968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"/>
          <p:cNvSpPr/>
          <p:nvPr/>
        </p:nvSpPr>
        <p:spPr>
          <a:xfrm>
            <a:off x="5869080" y="1413000"/>
            <a:ext cx="3124080" cy="1141200"/>
          </a:xfrm>
          <a:prstGeom prst="cloudCallout">
            <a:avLst>
              <a:gd name="adj1" fmla="val -46037"/>
              <a:gd name="adj2" fmla="val 7463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使用体育器材该注意什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900000" y="1773360"/>
            <a:ext cx="7632360" cy="4066560"/>
            <a:chOff x="900000" y="1773360"/>
            <a:chExt cx="7632360" cy="4066560"/>
          </a:xfrm>
        </p:grpSpPr>
        <p:pic>
          <p:nvPicPr>
            <p:cNvPr id="171" name="Picture 3" descr="F:\品德\PPT背景\小孩.jpg"/>
            <p:cNvPicPr/>
            <p:nvPr/>
          </p:nvPicPr>
          <p:blipFill>
            <a:blip r:embed="rId1"/>
            <a:stretch/>
          </p:blipFill>
          <p:spPr>
            <a:xfrm>
              <a:off x="6127560" y="2754720"/>
              <a:ext cx="2404800" cy="308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AutoShape 4"/>
            <p:cNvSpPr/>
            <p:nvPr/>
          </p:nvSpPr>
          <p:spPr>
            <a:xfrm>
              <a:off x="900000" y="1773360"/>
              <a:ext cx="5227560" cy="2313720"/>
            </a:xfrm>
            <a:prstGeom prst="cloudCallout">
              <a:avLst>
                <a:gd name="adj1" fmla="val 53925"/>
                <a:gd name="adj2" fmla="val 628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在我们身边还有哪些活动容易造成伤害？你有避免的好办法吗？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1476360" y="1628640"/>
            <a:ext cx="6308280" cy="4273200"/>
            <a:chOff x="1476360" y="1628640"/>
            <a:chExt cx="6308280" cy="4273200"/>
          </a:xfrm>
        </p:grpSpPr>
        <p:pic>
          <p:nvPicPr>
            <p:cNvPr id="174" name="Picture 3" descr="F:\品德\！今天，你安全吗（二）\旅行.jpg"/>
            <p:cNvPicPr/>
            <p:nvPr/>
          </p:nvPicPr>
          <p:blipFill>
            <a:blip r:embed="rId1"/>
            <a:stretch/>
          </p:blipFill>
          <p:spPr>
            <a:xfrm>
              <a:off x="1476360" y="1628640"/>
              <a:ext cx="6308280" cy="37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4"/>
            <p:cNvSpPr/>
            <p:nvPr/>
          </p:nvSpPr>
          <p:spPr>
            <a:xfrm>
              <a:off x="3704400" y="53812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旅游时购买旅游保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1298880" y="1628640"/>
            <a:ext cx="6765480" cy="4253760"/>
            <a:chOff x="1298880" y="1628640"/>
            <a:chExt cx="6765480" cy="4253760"/>
          </a:xfrm>
        </p:grpSpPr>
        <p:pic>
          <p:nvPicPr>
            <p:cNvPr id="177" name="Picture 3" descr="F:\品德\！今天，你安全吗（二）\德育.jpg"/>
            <p:cNvPicPr/>
            <p:nvPr/>
          </p:nvPicPr>
          <p:blipFill>
            <a:blip r:embed="rId1"/>
            <a:stretch/>
          </p:blipFill>
          <p:spPr>
            <a:xfrm>
              <a:off x="1298880" y="1628640"/>
              <a:ext cx="6765480" cy="37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4"/>
            <p:cNvSpPr/>
            <p:nvPr/>
          </p:nvSpPr>
          <p:spPr>
            <a:xfrm>
              <a:off x="3239640" y="536184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学校为同学代买意外伤害保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8199"/>
          <p:cNvSpPr/>
          <p:nvPr/>
        </p:nvSpPr>
        <p:spPr>
          <a:xfrm>
            <a:off x="1298520" y="1096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F:\品德\！今天，你安全吗（二）\27-1.jpg"/>
          <p:cNvPicPr/>
          <p:nvPr/>
        </p:nvPicPr>
        <p:blipFill>
          <a:blip r:embed="rId1"/>
          <a:stretch/>
        </p:blipFill>
        <p:spPr>
          <a:xfrm>
            <a:off x="179280" y="2565360"/>
            <a:ext cx="5262840" cy="41943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3"/>
          <p:cNvSpPr/>
          <p:nvPr/>
        </p:nvSpPr>
        <p:spPr>
          <a:xfrm>
            <a:off x="252360" y="1052640"/>
            <a:ext cx="2286000" cy="1314360"/>
          </a:xfrm>
          <a:prstGeom prst="cloudCallout">
            <a:avLst>
              <a:gd name="adj1" fmla="val 25194"/>
              <a:gd name="adj2" fmla="val 7279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腿摔断了，需要住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3635280" y="1701720"/>
            <a:ext cx="2210040" cy="1201680"/>
          </a:xfrm>
          <a:prstGeom prst="cloudCallout">
            <a:avLst>
              <a:gd name="adj1" fmla="val -46523"/>
              <a:gd name="adj2" fmla="val 633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需要一笔住院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:\品德\！今天，你安全吗（二）\27-2.jpg"/>
          <p:cNvPicPr/>
          <p:nvPr/>
        </p:nvPicPr>
        <p:blipFill>
          <a:blip r:embed="rId2"/>
          <a:stretch/>
        </p:blipFill>
        <p:spPr>
          <a:xfrm>
            <a:off x="5796000" y="1413000"/>
            <a:ext cx="2932200" cy="19335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580000" y="5013360"/>
            <a:ext cx="3429000" cy="1440000"/>
          </a:xfrm>
          <a:prstGeom prst="cloudCallout">
            <a:avLst>
              <a:gd name="adj1" fmla="val 518"/>
              <a:gd name="adj2" fmla="val -14152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了这笔意外伤害保险金，我就不用另外掏钱交住院费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971640" y="1557360"/>
            <a:ext cx="7248600" cy="4168440"/>
            <a:chOff x="971640" y="1557360"/>
            <a:chExt cx="7248600" cy="4168440"/>
          </a:xfrm>
        </p:grpSpPr>
        <p:pic>
          <p:nvPicPr>
            <p:cNvPr id="186" name="Picture 3" descr="F:\品德\PPT背景\小孩.jpg"/>
            <p:cNvPicPr/>
            <p:nvPr/>
          </p:nvPicPr>
          <p:blipFill>
            <a:blip r:embed="rId1"/>
            <a:stretch/>
          </p:blipFill>
          <p:spPr>
            <a:xfrm>
              <a:off x="5940360" y="2421360"/>
              <a:ext cx="2279880" cy="330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AutoShape 4"/>
            <p:cNvSpPr/>
            <p:nvPr/>
          </p:nvSpPr>
          <p:spPr>
            <a:xfrm>
              <a:off x="971640" y="1557360"/>
              <a:ext cx="3899160" cy="2520360"/>
            </a:xfrm>
            <a:prstGeom prst="cloudCallout">
              <a:avLst>
                <a:gd name="adj1" fmla="val 72800"/>
                <a:gd name="adj2" fmla="val 318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买了保险是不是就可以不注意安全了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看看这个同学的家安全吗？</a:t>
            </a:r>
            <a:br>
              <a:rPr sz="800"/>
            </a:b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F:\品德\！今天，你安全吗（一）\大图.jpg"/>
          <p:cNvPicPr/>
          <p:nvPr/>
        </p:nvPicPr>
        <p:blipFill>
          <a:blip r:embed="rId1"/>
          <a:stretch/>
        </p:blipFill>
        <p:spPr>
          <a:xfrm>
            <a:off x="468360" y="1486080"/>
            <a:ext cx="6985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F07D-5D84-4A74-B1BE-B3BED67016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ShockwaveFlash1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27" descr="F:\品德\！今天，你安全吗（一）\高压锅.jpg"/>
          <p:cNvPicPr/>
          <p:nvPr/>
        </p:nvPicPr>
        <p:blipFill>
          <a:blip r:embed="rId1"/>
          <a:stretch/>
        </p:blipFill>
        <p:spPr>
          <a:xfrm>
            <a:off x="1044720" y="2421000"/>
            <a:ext cx="3095640" cy="3084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4500720" y="3429000"/>
            <a:ext cx="33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火灾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F:\品德\！今天，你安全吗（一）\老爸.jpg"/>
          <p:cNvPicPr/>
          <p:nvPr/>
        </p:nvPicPr>
        <p:blipFill>
          <a:blip r:embed="rId1"/>
          <a:stretch/>
        </p:blipFill>
        <p:spPr>
          <a:xfrm>
            <a:off x="828720" y="2492280"/>
            <a:ext cx="2698560" cy="3076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4500720" y="2997360"/>
            <a:ext cx="330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烫伤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中毒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F:\品德\！今天，你安全吗（一）\奶奶.jpg"/>
          <p:cNvPicPr/>
          <p:nvPr/>
        </p:nvPicPr>
        <p:blipFill>
          <a:blip r:embed="rId1"/>
          <a:stretch/>
        </p:blipFill>
        <p:spPr>
          <a:xfrm>
            <a:off x="684360" y="2349360"/>
            <a:ext cx="2930400" cy="3076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4500720" y="3429000"/>
            <a:ext cx="33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触电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F:\品德\！今天，你安全吗（一）\拖地.jpg"/>
          <p:cNvPicPr/>
          <p:nvPr/>
        </p:nvPicPr>
        <p:blipFill>
          <a:blip r:embed="rId1"/>
          <a:stretch/>
        </p:blipFill>
        <p:spPr>
          <a:xfrm>
            <a:off x="771480" y="2349360"/>
            <a:ext cx="2505240" cy="31449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4500720" y="3429000"/>
            <a:ext cx="33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滑倒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F:\品德\！今天，你安全吗（一）\猫.jpg"/>
          <p:cNvPicPr/>
          <p:nvPr/>
        </p:nvPicPr>
        <p:blipFill>
          <a:blip r:embed="rId1"/>
          <a:stretch/>
        </p:blipFill>
        <p:spPr>
          <a:xfrm>
            <a:off x="755640" y="2205000"/>
            <a:ext cx="4032360" cy="3054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4932360" y="3502080"/>
            <a:ext cx="330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心抓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4075920" y="19177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方正黑体简体"/>
              </a:rPr>
              <a:t>我们在一天天长大，自己活动的机会也一天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方正黑体简体"/>
              </a:rPr>
              <a:t>增多。在我们玩的开心的时候，可别忘了，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方正黑体简体"/>
              </a:rPr>
              <a:t>险就像一位不需要邀请的客人，常常会在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方正黑体简体"/>
              </a:rPr>
              <a:t>不留心的时候来敲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1692360" y="4508640"/>
            <a:ext cx="5904000" cy="1296720"/>
          </a:xfrm>
          <a:prstGeom prst="wedgeRect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我们活动中会有哪些不安全的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素？我们分成小组找找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00:54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48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