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BA9C-F98A-4EA8-B257-E60023F2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5F7C-3AA7-40E6-99DA-C9BCFA85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3CD7-3250-4CC0-B2E4-BE485EFD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3DE-0E06-4CF7-85F1-AD25D611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DB4A-0875-450C-BB3F-2E82556A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9655-9FCB-449F-9D7C-C3153A6A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1272-EE0D-423A-9616-197AE9B4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DEA9-A41F-4B22-A55D-EB046877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1126-AC98-4351-BE55-0BBA3D3E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D050-AD42-4234-9567-A42044DD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93F4-4DF2-43C8-8210-3CAEF55C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451B-1E47-47C0-BA14-23738F85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1DD4-1530-4EB5-8B3E-688F56D5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FFA3-A6F9-4EC6-97D2-2B4EB648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444D-71D3-4733-89D2-FC721F47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B346-FDEF-41A4-BADF-CA74FCC5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113A-AD66-43F9-9F88-F92FB982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8679-6CE7-4FF3-9126-1B750A70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F8C5-958C-463A-91B3-5ABE293C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A992-5031-448B-AE3C-2F56A3D8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C4CB-08C4-4D6D-B1B0-A30B6D73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F5E0-A181-496E-9EDC-FB59FBFF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1E76-2A17-4345-B462-9D2296E7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8AB9-430B-4378-9C89-105F790A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6D8D-0C46-41A4-BCDE-247AB966E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09FC-A124-4A46-8F34-03D63EC894D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20838.htm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宋体"/>
                <a:ea typeface="宋体"/>
              </a:rPr>
              <a:t>家庭小账本课件</a:t>
            </a:r>
            <a:r>
              <a:rPr b="1" lang="en-US" sz="4000" spc="-1" strike="noStrike">
                <a:solidFill>
                  <a:srgbClr val="8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800000"/>
                </a:solidFill>
                <a:latin typeface="宋体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02"/>
          <p:cNvPicPr/>
          <p:nvPr/>
        </p:nvPicPr>
        <p:blipFill>
          <a:blip r:embed="rId1"/>
          <a:stretch/>
        </p:blipFill>
        <p:spPr>
          <a:xfrm>
            <a:off x="382680" y="539640"/>
            <a:ext cx="2435040" cy="606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46-1"/>
          <p:cNvPicPr/>
          <p:nvPr/>
        </p:nvPicPr>
        <p:blipFill>
          <a:blip r:embed="rId2"/>
          <a:stretch/>
        </p:blipFill>
        <p:spPr>
          <a:xfrm>
            <a:off x="1447920" y="1866960"/>
            <a:ext cx="6172200" cy="4381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46-2"/>
          <p:cNvPicPr/>
          <p:nvPr/>
        </p:nvPicPr>
        <p:blipFill>
          <a:blip r:embed="rId3"/>
          <a:stretch/>
        </p:blipFill>
        <p:spPr>
          <a:xfrm>
            <a:off x="1386000" y="1757520"/>
            <a:ext cx="6172200" cy="438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46-3"/>
          <p:cNvPicPr/>
          <p:nvPr/>
        </p:nvPicPr>
        <p:blipFill>
          <a:blip r:embed="rId4"/>
          <a:stretch/>
        </p:blipFill>
        <p:spPr>
          <a:xfrm>
            <a:off x="1630440" y="1503360"/>
            <a:ext cx="5867280" cy="4435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46-4"/>
          <p:cNvPicPr/>
          <p:nvPr/>
        </p:nvPicPr>
        <p:blipFill>
          <a:blip r:embed="rId5"/>
          <a:stretch/>
        </p:blipFill>
        <p:spPr>
          <a:xfrm>
            <a:off x="1965240" y="1341360"/>
            <a:ext cx="5334120" cy="4761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1965240" y="2819520"/>
            <a:ext cx="51976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讨论：为什么同样是铜钱，铁匠的儿子对待它的态度会不一样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148120" y="6286680"/>
            <a:ext cx="384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这个故事贴近儿童的生活更能让学生感受父母挣钱的辛苦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从而懂得珍惜自己的劳动成果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也懂得珍惜他人的劳动成果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5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+mn-ea"/>
              </a:rPr>
              <a:t>钱用到哪里去了？</a:t>
            </a:r>
            <a:endParaRPr b="1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+mn-ea"/>
              <a:ea typeface="+mn-e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68000" y="2332080"/>
            <a:ext cx="611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家庭一周的开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蔬菜：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"/>
              </a:rPr>
              <a:t>8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水电费：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"/>
              </a:rPr>
              <a:t>5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牙膏：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热力费：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"/>
              </a:rPr>
              <a:t>6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零花钱：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"/>
              </a:rPr>
              <a:t>3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楷体"/>
              </a:rPr>
              <a:t>我们要学会体谅和感激父母。要学会尊重和珍惜他们的劳动果实。我们更要学会靠自己的努力来获得属于自己的财富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50920" y="1557360"/>
            <a:ext cx="86630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cc"/>
                </a:solidFill>
                <a:latin typeface="Arial"/>
                <a:ea typeface="楷体"/>
              </a:rPr>
              <a:t>小组合作，完成下面的调查表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3300"/>
                </a:solidFill>
                <a:latin typeface="Arial"/>
                <a:ea typeface="楷体_GB2312"/>
              </a:rPr>
              <a:t>本月家庭经济收入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322800"/>
                <a:gridCol w="2163600"/>
                <a:gridCol w="2743200"/>
              </a:tblGrid>
              <a:tr h="1131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cc00cc"/>
                          </a:solidFill>
                          <a:latin typeface="Arial"/>
                          <a:ea typeface="楷体_GB2312"/>
                        </a:rPr>
                        <a:t>经济收入来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 </a:t>
                      </a:r>
                      <a:r>
                        <a:rPr b="1" lang="zh-CN" sz="4000" spc="-1" strike="noStrike">
                          <a:solidFill>
                            <a:srgbClr val="cc00cc"/>
                          </a:solidFill>
                          <a:latin typeface="Arial"/>
                          <a:ea typeface="楷体_GB2312"/>
                        </a:rPr>
                        <a:t>金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1" lang="zh-CN" sz="4000" spc="-1" strike="noStrike">
                          <a:solidFill>
                            <a:srgbClr val="cc00cc"/>
                          </a:solidFill>
                          <a:latin typeface="楷体_GB2312"/>
                          <a:ea typeface="楷体_GB2312"/>
                        </a:rPr>
                        <a:t>合计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Arial"/>
                <a:ea typeface="楷体_GB2312"/>
              </a:rPr>
              <a:t>本月家庭经济支出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251160"/>
                <a:gridCol w="2235240"/>
                <a:gridCol w="2743200"/>
              </a:tblGrid>
              <a:tr h="1131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家庭开支项目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金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合计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3"/>
          <p:cNvGrpSpPr/>
          <p:nvPr/>
        </p:nvGrpSpPr>
        <p:grpSpPr>
          <a:xfrm>
            <a:off x="838080" y="1905120"/>
            <a:ext cx="7193160" cy="4343400"/>
            <a:chOff x="838080" y="1905120"/>
            <a:chExt cx="7193160" cy="4343400"/>
          </a:xfrm>
        </p:grpSpPr>
        <p:pic>
          <p:nvPicPr>
            <p:cNvPr id="118" name="Picture 4" descr="teacher00"/>
            <p:cNvPicPr/>
            <p:nvPr/>
          </p:nvPicPr>
          <p:blipFill>
            <a:blip r:embed="rId2"/>
            <a:stretch/>
          </p:blipFill>
          <p:spPr>
            <a:xfrm>
              <a:off x="4952880" y="3367080"/>
              <a:ext cx="307836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AutoShape 5"/>
            <p:cNvSpPr/>
            <p:nvPr/>
          </p:nvSpPr>
          <p:spPr>
            <a:xfrm>
              <a:off x="838080" y="1905120"/>
              <a:ext cx="4267440" cy="2844720"/>
            </a:xfrm>
            <a:prstGeom prst="cloudCallout">
              <a:avLst>
                <a:gd name="adj1" fmla="val 66925"/>
                <a:gd name="adj2" fmla="val 4146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以小组为单位，汇报自己调查的情况，然后谈一谈，通过调查自己发现了什么，还有那些不明白的地方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文本框 8199"/>
          <p:cNvSpPr/>
          <p:nvPr/>
        </p:nvSpPr>
        <p:spPr>
          <a:xfrm>
            <a:off x="1233360" y="777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50920" y="260280"/>
            <a:ext cx="86421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cc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我们应该把我们每天的消费情况都记录下来，并给他们分类。看看我们在哪方面消费的最多</a:t>
            </a:r>
            <a:r>
              <a:rPr b="1" lang="en-US" sz="66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02"/>
          <p:cNvPicPr/>
          <p:nvPr/>
        </p:nvPicPr>
        <p:blipFill>
          <a:blip r:embed="rId1"/>
          <a:stretch/>
        </p:blipFill>
        <p:spPr>
          <a:xfrm>
            <a:off x="685800" y="1146240"/>
            <a:ext cx="2435400" cy="6062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3"/>
          <p:cNvGrpSpPr/>
          <p:nvPr/>
        </p:nvGrpSpPr>
        <p:grpSpPr>
          <a:xfrm>
            <a:off x="1219320" y="2057400"/>
            <a:ext cx="6049800" cy="3809520"/>
            <a:chOff x="1219320" y="2057400"/>
            <a:chExt cx="6049800" cy="3809520"/>
          </a:xfrm>
        </p:grpSpPr>
        <p:pic>
          <p:nvPicPr>
            <p:cNvPr id="124" name="Picture 4" descr="teacher00"/>
            <p:cNvPicPr/>
            <p:nvPr/>
          </p:nvPicPr>
          <p:blipFill>
            <a:blip r:embed="rId2"/>
            <a:stretch/>
          </p:blipFill>
          <p:spPr>
            <a:xfrm>
              <a:off x="4191120" y="2985840"/>
              <a:ext cx="307800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AutoShape 5"/>
            <p:cNvSpPr/>
            <p:nvPr/>
          </p:nvSpPr>
          <p:spPr>
            <a:xfrm>
              <a:off x="1219320" y="2057400"/>
              <a:ext cx="3352680" cy="2234880"/>
            </a:xfrm>
            <a:prstGeom prst="cloudCallout">
              <a:avLst>
                <a:gd name="adj1" fmla="val 66194"/>
                <a:gd name="adj2" fmla="val 507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你有没有新的发现或新的感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324000" y="275148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</a:rPr>
              <a:t>账本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是具有一定格式与若干账页组成，以会计凭证为依据，对所有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楷体"/>
                <a:hlinkClick r:id="rId2"/>
              </a:rPr>
              <a:t>经济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业务进行序时分类记录的本籍，也就是通常我们所说的账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D040-A2BD-413D-B0DE-288FF51160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04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1914120" y="2081160"/>
            <a:ext cx="14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一查，问一问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838080" y="3048120"/>
            <a:ext cx="7619400" cy="2256840"/>
            <a:chOff x="838080" y="3048120"/>
            <a:chExt cx="7619400" cy="2256840"/>
          </a:xfrm>
        </p:grpSpPr>
        <p:sp>
          <p:nvSpPr>
            <p:cNvPr id="133" name="Rectangle 5"/>
            <p:cNvSpPr/>
            <p:nvPr/>
          </p:nvSpPr>
          <p:spPr>
            <a:xfrm>
              <a:off x="838080" y="3048120"/>
              <a:ext cx="3857040" cy="752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414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想要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4695120" y="3048120"/>
              <a:ext cx="3762360" cy="752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414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4695120" y="3800160"/>
              <a:ext cx="3762360" cy="752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414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8"/>
            <p:cNvSpPr/>
            <p:nvPr/>
          </p:nvSpPr>
          <p:spPr>
            <a:xfrm>
              <a:off x="838080" y="3800160"/>
              <a:ext cx="3857040" cy="752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414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爸爸妈妈想要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>
              <a:off x="4695120" y="4552560"/>
              <a:ext cx="3762360" cy="752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414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838080" y="4552560"/>
              <a:ext cx="3857040" cy="752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414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们全家想要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5"/>
          <p:cNvSpPr txBox="1"/>
          <p:nvPr/>
        </p:nvSpPr>
        <p:spPr>
          <a:xfrm>
            <a:off x="179280" y="907920"/>
            <a:ext cx="6985080" cy="23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钱从哪里来？</a:t>
            </a:r>
            <a:endParaRPr b="1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3"/>
          <p:cNvGrpSpPr/>
          <p:nvPr/>
        </p:nvGrpSpPr>
        <p:grpSpPr>
          <a:xfrm>
            <a:off x="685800" y="1752480"/>
            <a:ext cx="7391520" cy="4496040"/>
            <a:chOff x="685800" y="1752480"/>
            <a:chExt cx="7391520" cy="4496040"/>
          </a:xfrm>
        </p:grpSpPr>
        <p:pic>
          <p:nvPicPr>
            <p:cNvPr id="88" name="Picture 4" descr="teacher00"/>
            <p:cNvPicPr/>
            <p:nvPr/>
          </p:nvPicPr>
          <p:blipFill>
            <a:blip r:embed="rId2"/>
            <a:stretch/>
          </p:blipFill>
          <p:spPr>
            <a:xfrm>
              <a:off x="4998960" y="3367080"/>
              <a:ext cx="307836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AutoShape 5"/>
            <p:cNvSpPr/>
            <p:nvPr/>
          </p:nvSpPr>
          <p:spPr>
            <a:xfrm>
              <a:off x="685800" y="1752480"/>
              <a:ext cx="4876920" cy="2251080"/>
            </a:xfrm>
            <a:prstGeom prst="cloudCallout">
              <a:avLst>
                <a:gd name="adj1" fmla="val 49217"/>
                <a:gd name="adj2" fmla="val 665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调查：你的爸爸妈妈是怎样挣钱的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?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小组交流。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6"/>
          <p:cNvSpPr/>
          <p:nvPr/>
        </p:nvSpPr>
        <p:spPr>
          <a:xfrm>
            <a:off x="2174760" y="6296040"/>
            <a:ext cx="44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让学生充分调查了解家里的钱是怎么来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拓展他们的学习空间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帮助他们获得生活体验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学生可能会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621061267"/>
          <p:cNvPicPr/>
          <p:nvPr/>
        </p:nvPicPr>
        <p:blipFill>
          <a:blip r:embed="rId2"/>
          <a:stretch/>
        </p:blipFill>
        <p:spPr>
          <a:xfrm>
            <a:off x="0" y="0"/>
            <a:ext cx="4572000" cy="3240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7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284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yyys-018"/>
          <p:cNvPicPr/>
          <p:nvPr/>
        </p:nvPicPr>
        <p:blipFill>
          <a:blip r:embed="rId4"/>
          <a:stretch/>
        </p:blipFill>
        <p:spPr>
          <a:xfrm>
            <a:off x="0" y="3213000"/>
            <a:ext cx="4572000" cy="3645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3be76411676b556cca80c4c6"/>
          <p:cNvPicPr/>
          <p:nvPr/>
        </p:nvPicPr>
        <p:blipFill>
          <a:blip r:embed="rId5"/>
          <a:stretch/>
        </p:blipFill>
        <p:spPr>
          <a:xfrm>
            <a:off x="4572000" y="3213000"/>
            <a:ext cx="4572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050920" y="83664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我们父母挣钱容易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cc"/>
                </a:solidFill>
                <a:latin typeface="Arial"/>
                <a:ea typeface="楷体"/>
              </a:rPr>
              <a:t>悯农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8080"/>
                </a:solidFill>
                <a:latin typeface="Arial"/>
                <a:ea typeface="楷体"/>
              </a:rPr>
              <a:t>锄禾日当午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8080"/>
                </a:solidFill>
                <a:latin typeface="Arial"/>
                <a:ea typeface="楷体"/>
              </a:rPr>
              <a:t>汗滴禾下土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8080"/>
                </a:solidFill>
                <a:latin typeface="Arial"/>
                <a:ea typeface="楷体"/>
              </a:rPr>
              <a:t>谁知盘中餐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8080"/>
                </a:solidFill>
                <a:latin typeface="Arial"/>
                <a:ea typeface="楷体"/>
              </a:rPr>
              <a:t>粒粒皆辛苦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79280" y="404640"/>
            <a:ext cx="6840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cc"/>
                </a:solidFill>
                <a:latin typeface="Arial"/>
                <a:ea typeface="楷体"/>
              </a:rPr>
              <a:t>      </a:t>
            </a:r>
            <a:r>
              <a:rPr b="1" lang="zh-CN" sz="8000" spc="-1" strike="noStrike">
                <a:solidFill>
                  <a:srgbClr val="0000cc"/>
                </a:solidFill>
                <a:latin typeface="Arial"/>
                <a:ea typeface="楷体"/>
              </a:rPr>
              <a:t>这首古诗告诉我们什么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8"/>
          <p:cNvSpPr txBox="1"/>
          <p:nvPr/>
        </p:nvSpPr>
        <p:spPr>
          <a:xfrm>
            <a:off x="539640" y="2852640"/>
            <a:ext cx="8064720" cy="18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铁匠的儿子与铜钱的故事</a:t>
            </a:r>
            <a:endParaRPr b="1" lang="en-US" sz="8000" spc="-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04:25:3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39Z</dcterms:modified>
  <cp:revision>3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