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433-3050-4942-838B-0DBE16BF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266-FA90-4635-B6D4-03954249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FFD-7EA9-4DEF-8472-89582AB0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6E4-536E-46DB-A81F-1174FE41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FACF-609A-44C2-B6B8-062305E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D89A-3BD9-47CE-8438-E954068D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CBEA-BF4B-424A-8930-7BFAC751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47C7-51A0-4504-8E09-65E81A7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9AD5-7829-4824-9195-4130C33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137A-8A87-41C8-8DD3-88851435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85A5-9459-4938-A653-2CEBCAF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46C-CB86-430D-A249-180EEAA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3608-D1F1-4A2F-90C9-07F68E9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3434-6F9E-4F23-8AFA-E49734F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CD5-1220-4E26-B677-842C12BC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4E63-206B-4481-91D1-278303EE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8CBE-1FB1-464D-AC90-CAB7925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F9D2-79F7-494F-BEBE-301CD9C1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240F-28A8-47E0-BBED-2B9C3419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FC50-0D31-4DE4-AE68-A2C44DE1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CD19-218E-4619-B4B4-DD4F383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D77E-45FF-480D-833F-20BAD5D0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415-DAA5-4D5A-AB72-AB302494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EB4B-E6F8-4260-B3DA-B83C741F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72E1-9934-4219-A21F-6C15893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81A7-3E84-4096-82EB-A1CB119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F251-5618-4671-8763-19ABF68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EC89-3639-4867-A152-9F96E77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C802-AADA-4308-8E26-62B2B837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9C46-C838-404D-9D86-5E2ED5B8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18B-7C7D-4757-8B41-49AD4B3C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BE9-456B-4E70-9B6C-370BA21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410-2876-4F20-B969-F1A6E969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29B-24DB-4D83-9801-478000B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884-7644-4937-99DA-43A9C64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723-2EC3-4EF8-9A76-C2D230A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5645160"/>
            <a:ext cx="9134640" cy="121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EBC6-8808-47DE-8028-48109F53A9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7983-13E6-4BDF-B891-EFCCDDBE18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157-627F-4FEE-AECC-616B52AAAB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pps4_ygys.M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矩形 5" descr=""/>
          <p:cNvPicPr/>
          <p:nvPr/>
        </p:nvPicPr>
        <p:blipFill>
          <a:blip r:embed="rId1"/>
          <a:stretch/>
        </p:blipFill>
        <p:spPr>
          <a:xfrm>
            <a:off x="733320" y="1555920"/>
            <a:ext cx="7813800" cy="7016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85800" y="26352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649320" y="4941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人们出行有哪些不便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D:\pinde\03_2交通与我们的生活\群山环绕.jpg"/>
          <p:cNvPicPr/>
          <p:nvPr/>
        </p:nvPicPr>
        <p:blipFill>
          <a:blip r:embed="rId2"/>
          <a:stretch/>
        </p:blipFill>
        <p:spPr>
          <a:xfrm>
            <a:off x="2575080" y="15318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2775960" y="9032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85800" y="40644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D:\pinde\03_2交通与我们的生活\群山连绵起伏.bmp"/>
          <p:cNvPicPr/>
          <p:nvPr/>
        </p:nvPicPr>
        <p:blipFill>
          <a:blip r:embed="rId2"/>
          <a:stretch/>
        </p:blipFill>
        <p:spPr>
          <a:xfrm>
            <a:off x="2727360" y="17510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649320" y="5084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人们出行有哪些不便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775960" y="10461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81120" y="38880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4041360" y="5157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D:\pinde\03_2交通与我们的生活\山区的公路.jpg"/>
          <p:cNvPicPr/>
          <p:nvPr/>
        </p:nvPicPr>
        <p:blipFill>
          <a:blip r:embed="rId2"/>
          <a:stretch/>
        </p:blipFill>
        <p:spPr>
          <a:xfrm>
            <a:off x="1979640" y="1866960"/>
            <a:ext cx="5543640" cy="3244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771280" y="10288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31880" y="46044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2822040" y="11001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9212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D:\pinde\03_2交通与我们的生活\山区的公路2.jpg"/>
          <p:cNvPicPr/>
          <p:nvPr/>
        </p:nvPicPr>
        <p:blipFill>
          <a:blip r:embed="rId2"/>
          <a:stretch/>
        </p:blipFill>
        <p:spPr>
          <a:xfrm>
            <a:off x="2468520" y="17096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3160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2791800" y="955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062240" y="508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D:\pinde\03_2交通与我们的生活\山区的公路3.jpg"/>
          <p:cNvPicPr/>
          <p:nvPr/>
        </p:nvPicPr>
        <p:blipFill>
          <a:blip r:embed="rId2"/>
          <a:stretch/>
        </p:blipFill>
        <p:spPr>
          <a:xfrm>
            <a:off x="2209680" y="1565280"/>
            <a:ext cx="5143680" cy="339408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8199"/>
          <p:cNvSpPr/>
          <p:nvPr/>
        </p:nvSpPr>
        <p:spPr>
          <a:xfrm>
            <a:off x="3124080" y="468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46044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27"/>
          <p:cNvSpPr/>
          <p:nvPr/>
        </p:nvSpPr>
        <p:spPr>
          <a:xfrm>
            <a:off x="2791800" y="11001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406224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29" descr="D:\pinde\03_2交通与我们的生活\山区的公路4.jpg"/>
          <p:cNvPicPr/>
          <p:nvPr/>
        </p:nvPicPr>
        <p:blipFill>
          <a:blip r:embed="rId2"/>
          <a:stretch/>
        </p:blipFill>
        <p:spPr>
          <a:xfrm>
            <a:off x="2195640" y="178596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26" descr="D:\work\大全集\下学期送审\psd\品德与社会\02.gif"/>
          <p:cNvPicPr/>
          <p:nvPr/>
        </p:nvPicPr>
        <p:blipFill>
          <a:blip r:embed="rId1"/>
          <a:stretch/>
        </p:blipFill>
        <p:spPr>
          <a:xfrm>
            <a:off x="585720" y="760320"/>
            <a:ext cx="2435400" cy="606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27"/>
          <p:cNvSpPr/>
          <p:nvPr/>
        </p:nvSpPr>
        <p:spPr>
          <a:xfrm>
            <a:off x="1116000" y="220500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路修好后，山区人们生活发生了哪些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人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富，先修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句话有道理吗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28" descr="D:\小学数学\模版\a5.png"/>
          <p:cNvPicPr/>
          <p:nvPr/>
        </p:nvPicPr>
        <p:blipFill>
          <a:blip r:embed="rId2"/>
          <a:stretch/>
        </p:blipFill>
        <p:spPr>
          <a:xfrm>
            <a:off x="6526080" y="3500280"/>
            <a:ext cx="24019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35A-C07B-4C7B-8DD2-F7973A1976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D:\work\大全集\下学期送审\psd\品德与社会\04.gif"/>
          <p:cNvPicPr/>
          <p:nvPr/>
        </p:nvPicPr>
        <p:blipFill>
          <a:blip r:embed="rId1"/>
          <a:stretch/>
        </p:blipFill>
        <p:spPr>
          <a:xfrm>
            <a:off x="685800" y="35892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965160"/>
            <a:ext cx="57909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work\大全集\下学期送审\psd\品德与社会\01.gif"/>
          <p:cNvPicPr/>
          <p:nvPr/>
        </p:nvPicPr>
        <p:blipFill>
          <a:blip r:embed="rId1"/>
          <a:stretch/>
        </p:blipFill>
        <p:spPr>
          <a:xfrm>
            <a:off x="644400" y="7462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小学数学\模版\a10.png"/>
          <p:cNvPicPr/>
          <p:nvPr/>
        </p:nvPicPr>
        <p:blipFill>
          <a:blip r:embed="rId2"/>
          <a:stretch/>
        </p:blipFill>
        <p:spPr>
          <a:xfrm>
            <a:off x="5715000" y="2438280"/>
            <a:ext cx="1368360" cy="33530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1905120" y="1981080"/>
            <a:ext cx="3276360" cy="1524240"/>
          </a:xfrm>
          <a:prstGeom prst="wedgeRoundRectCallout">
            <a:avLst>
              <a:gd name="adj1" fmla="val 77324"/>
              <a:gd name="adj2" fmla="val 26773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想一想交通给我们带来了哪些方便和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0"/>
          <p:cNvSpPr/>
          <p:nvPr/>
        </p:nvSpPr>
        <p:spPr>
          <a:xfrm>
            <a:off x="1705320" y="1050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1" descr="D:\pinde\03_2交通与我们的生活\公共汽车.jpg"/>
          <p:cNvPicPr/>
          <p:nvPr/>
        </p:nvPicPr>
        <p:blipFill>
          <a:blip r:embed="rId1"/>
          <a:stretch/>
        </p:blipFill>
        <p:spPr>
          <a:xfrm>
            <a:off x="890640" y="2193840"/>
            <a:ext cx="4495680" cy="2247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3713040" y="5013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给我们生活和快捷工作带来了方便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5562720" y="1523880"/>
            <a:ext cx="2971800" cy="4496040"/>
            <a:chOff x="5562720" y="1523880"/>
            <a:chExt cx="2971800" cy="4496040"/>
          </a:xfrm>
        </p:grpSpPr>
        <p:sp>
          <p:nvSpPr>
            <p:cNvPr id="134" name="AutoShape 12"/>
            <p:cNvSpPr/>
            <p:nvPr/>
          </p:nvSpPr>
          <p:spPr>
            <a:xfrm>
              <a:off x="5562720" y="1523880"/>
              <a:ext cx="2971800" cy="2362320"/>
            </a:xfrm>
            <a:prstGeom prst="cloudCallout">
              <a:avLst>
                <a:gd name="adj1" fmla="val -12180"/>
                <a:gd name="adj2" fmla="val 55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　我爸爸妈妈上班、下班要乘坐公共汽车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14" descr="D:\小学数学\模版\a7.png"/>
            <p:cNvPicPr/>
            <p:nvPr/>
          </p:nvPicPr>
          <p:blipFill>
            <a:blip r:embed="rId2"/>
            <a:stretch/>
          </p:blipFill>
          <p:spPr>
            <a:xfrm>
              <a:off x="6781680" y="3794040"/>
              <a:ext cx="1190880" cy="22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5" descr="D:\work\大全集\下学期送审\psd\品德与社会\03.gif"/>
          <p:cNvPicPr/>
          <p:nvPr/>
        </p:nvPicPr>
        <p:blipFill>
          <a:blip r:embed="rId3"/>
          <a:stretch/>
        </p:blipFill>
        <p:spPr>
          <a:xfrm>
            <a:off x="297000" y="41112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D:\pinde\03_2交通与我们的生活\火车站.jpg"/>
          <p:cNvPicPr/>
          <p:nvPr/>
        </p:nvPicPr>
        <p:blipFill>
          <a:blip r:embed="rId1"/>
          <a:stretch/>
        </p:blipFill>
        <p:spPr>
          <a:xfrm>
            <a:off x="3895560" y="188136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work\大全集\下学期送审\psd\品德与社会\03.gif"/>
          <p:cNvPicPr/>
          <p:nvPr/>
        </p:nvPicPr>
        <p:blipFill>
          <a:blip r:embed="rId2"/>
          <a:stretch/>
        </p:blipFill>
        <p:spPr>
          <a:xfrm>
            <a:off x="787320" y="38412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2195640" y="1023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687840" y="47736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交通使我们生活的范围扩大了，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拥有了更多与外部联系的机会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9"/>
          <p:cNvGrpSpPr/>
          <p:nvPr/>
        </p:nvGrpSpPr>
        <p:grpSpPr>
          <a:xfrm>
            <a:off x="85680" y="1557360"/>
            <a:ext cx="4038480" cy="3962520"/>
            <a:chOff x="85680" y="1557360"/>
            <a:chExt cx="4038480" cy="3962520"/>
          </a:xfrm>
        </p:grpSpPr>
        <p:pic>
          <p:nvPicPr>
            <p:cNvPr id="142" name="Picture 16" descr="D:\小学数学\模版\a12.png"/>
            <p:cNvPicPr/>
            <p:nvPr/>
          </p:nvPicPr>
          <p:blipFill>
            <a:blip r:embed="rId3"/>
            <a:stretch/>
          </p:blipFill>
          <p:spPr>
            <a:xfrm>
              <a:off x="1500120" y="3391200"/>
              <a:ext cx="96048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12"/>
            <p:cNvSpPr/>
            <p:nvPr/>
          </p:nvSpPr>
          <p:spPr>
            <a:xfrm>
              <a:off x="85680" y="1557360"/>
              <a:ext cx="4038480" cy="1814760"/>
            </a:xfrm>
            <a:prstGeom prst="cloudCallout">
              <a:avLst>
                <a:gd name="adj1" fmla="val 2671"/>
                <a:gd name="adj2" fmla="val 683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　我们村有很多人到外地打工，可见世面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503280" y="341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911600" y="9810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31760" y="442584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交通拉近了人们的交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近了人与人之间的距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D:\pinde\03_2交通与我们的生活\p56.jpg"/>
          <p:cNvPicPr/>
          <p:nvPr/>
        </p:nvPicPr>
        <p:blipFill>
          <a:blip r:embed="rId2"/>
          <a:stretch/>
        </p:blipFill>
        <p:spPr>
          <a:xfrm>
            <a:off x="1554120" y="2048040"/>
            <a:ext cx="3124080" cy="1996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9"/>
          <p:cNvGrpSpPr/>
          <p:nvPr/>
        </p:nvGrpSpPr>
        <p:grpSpPr>
          <a:xfrm>
            <a:off x="5364000" y="981000"/>
            <a:ext cx="3047760" cy="4446720"/>
            <a:chOff x="5364000" y="981000"/>
            <a:chExt cx="3047760" cy="4446720"/>
          </a:xfrm>
        </p:grpSpPr>
        <p:sp>
          <p:nvSpPr>
            <p:cNvPr id="149" name="AutoShape 4"/>
            <p:cNvSpPr/>
            <p:nvPr/>
          </p:nvSpPr>
          <p:spPr>
            <a:xfrm>
              <a:off x="5364000" y="981000"/>
              <a:ext cx="3047760" cy="1219320"/>
            </a:xfrm>
            <a:prstGeom prst="cloudCallout">
              <a:avLst>
                <a:gd name="adj1" fmla="val -5921"/>
                <a:gd name="adj2" fmla="val 854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　欢迎远方的客人来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8" descr="D:\小学数学\模版\a6.png"/>
            <p:cNvPicPr/>
            <p:nvPr/>
          </p:nvPicPr>
          <p:blipFill>
            <a:blip r:embed="rId3"/>
            <a:stretch/>
          </p:blipFill>
          <p:spPr>
            <a:xfrm>
              <a:off x="5844960" y="2886120"/>
              <a:ext cx="1333440" cy="2541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49440" y="6555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057760" y="12952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36160" y="5049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使我们有可能品尝到其它地方的特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D:\pinde\03_2交通与我们的生活\海鲜大酒楼.jpg"/>
          <p:cNvPicPr/>
          <p:nvPr/>
        </p:nvPicPr>
        <p:blipFill>
          <a:blip r:embed="rId2"/>
          <a:stretch/>
        </p:blipFill>
        <p:spPr>
          <a:xfrm>
            <a:off x="1547640" y="1981080"/>
            <a:ext cx="3810240" cy="29210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5205240" y="838080"/>
            <a:ext cx="2679840" cy="4232520"/>
            <a:chOff x="5205240" y="838080"/>
            <a:chExt cx="2679840" cy="4232520"/>
          </a:xfrm>
        </p:grpSpPr>
        <p:pic>
          <p:nvPicPr>
            <p:cNvPr id="156" name="Picture 8" descr="D:\小学数学\模版\a9.png"/>
            <p:cNvPicPr/>
            <p:nvPr/>
          </p:nvPicPr>
          <p:blipFill>
            <a:blip r:embed="rId3"/>
            <a:stretch/>
          </p:blipFill>
          <p:spPr>
            <a:xfrm>
              <a:off x="6881760" y="2895480"/>
              <a:ext cx="100332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5"/>
            <p:cNvSpPr/>
            <p:nvPr/>
          </p:nvSpPr>
          <p:spPr>
            <a:xfrm>
              <a:off x="5205240" y="838080"/>
              <a:ext cx="2590920" cy="1828800"/>
            </a:xfrm>
            <a:prstGeom prst="cloudCallout">
              <a:avLst>
                <a:gd name="adj1" fmla="val 28675"/>
                <a:gd name="adj2" fmla="val 7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我们内地人也能吃上海鲜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360360" y="39672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768680" y="10368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188440" y="477036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交通不仅带来我们所需要的物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为我们提供了更多的选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6" descr="D:\pinde\03_2交通与我们的生活\家.jpg"/>
          <p:cNvPicPr/>
          <p:nvPr/>
        </p:nvPicPr>
        <p:blipFill>
          <a:blip r:embed="rId2"/>
          <a:stretch/>
        </p:blipFill>
        <p:spPr>
          <a:xfrm>
            <a:off x="1335240" y="1779480"/>
            <a:ext cx="3581280" cy="26863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8"/>
          <p:cNvGrpSpPr/>
          <p:nvPr/>
        </p:nvGrpSpPr>
        <p:grpSpPr>
          <a:xfrm>
            <a:off x="4992840" y="426960"/>
            <a:ext cx="3123720" cy="4587840"/>
            <a:chOff x="4992840" y="426960"/>
            <a:chExt cx="3123720" cy="4587840"/>
          </a:xfrm>
        </p:grpSpPr>
        <p:sp>
          <p:nvSpPr>
            <p:cNvPr id="163" name="AutoShape 4"/>
            <p:cNvSpPr/>
            <p:nvPr/>
          </p:nvSpPr>
          <p:spPr>
            <a:xfrm>
              <a:off x="4992840" y="426960"/>
              <a:ext cx="3123720" cy="2209680"/>
            </a:xfrm>
            <a:prstGeom prst="cloudCallout">
              <a:avLst>
                <a:gd name="adj1" fmla="val -4486"/>
                <a:gd name="adj2" fmla="val 663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我发现家中用的东西，很多都是外地产品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7" descr="D:\小学数学\模版\a7.png"/>
            <p:cNvPicPr/>
            <p:nvPr/>
          </p:nvPicPr>
          <p:blipFill>
            <a:blip r:embed="rId3"/>
            <a:stretch/>
          </p:blipFill>
          <p:spPr>
            <a:xfrm>
              <a:off x="6434640" y="2789280"/>
              <a:ext cx="1251360" cy="222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文本框 8199"/>
          <p:cNvSpPr/>
          <p:nvPr/>
        </p:nvSpPr>
        <p:spPr>
          <a:xfrm>
            <a:off x="3041640" y="5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25320" y="7351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034000" y="1374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D:\pinde\03_2交通与我们的生活\服饰.jpg"/>
          <p:cNvPicPr/>
          <p:nvPr/>
        </p:nvPicPr>
        <p:blipFill>
          <a:blip r:embed="rId2"/>
          <a:stretch/>
        </p:blipFill>
        <p:spPr>
          <a:xfrm>
            <a:off x="1295280" y="2136600"/>
            <a:ext cx="4191120" cy="27212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0"/>
          <p:cNvGrpSpPr/>
          <p:nvPr/>
        </p:nvGrpSpPr>
        <p:grpSpPr>
          <a:xfrm>
            <a:off x="5867280" y="765000"/>
            <a:ext cx="2361960" cy="4979880"/>
            <a:chOff x="5867280" y="765000"/>
            <a:chExt cx="2361960" cy="4979880"/>
          </a:xfrm>
        </p:grpSpPr>
        <p:sp>
          <p:nvSpPr>
            <p:cNvPr id="170" name="AutoShape 6"/>
            <p:cNvSpPr/>
            <p:nvPr/>
          </p:nvSpPr>
          <p:spPr>
            <a:xfrm>
              <a:off x="5867280" y="765000"/>
              <a:ext cx="2361960" cy="1980360"/>
            </a:xfrm>
            <a:prstGeom prst="cloudCallout">
              <a:avLst>
                <a:gd name="adj1" fmla="val -1875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我们穿的衣服很多是外地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Picture 9" descr="D:\小学数学\模版\a6.png"/>
            <p:cNvPicPr/>
            <p:nvPr/>
          </p:nvPicPr>
          <p:blipFill>
            <a:blip r:embed="rId3"/>
            <a:stretch/>
          </p:blipFill>
          <p:spPr>
            <a:xfrm>
              <a:off x="6626520" y="2992680"/>
              <a:ext cx="1402200" cy="2752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71400" y="579600"/>
            <a:ext cx="2422800" cy="639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:\小学数学\模版\a10.png"/>
          <p:cNvPicPr/>
          <p:nvPr/>
        </p:nvPicPr>
        <p:blipFill>
          <a:blip r:embed="rId2"/>
          <a:stretch/>
        </p:blipFill>
        <p:spPr>
          <a:xfrm>
            <a:off x="6218280" y="2133720"/>
            <a:ext cx="1368360" cy="3352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3"/>
          <p:cNvSpPr/>
          <p:nvPr/>
        </p:nvSpPr>
        <p:spPr>
          <a:xfrm>
            <a:off x="2560680" y="2209680"/>
            <a:ext cx="3048120" cy="1524240"/>
          </a:xfrm>
          <a:prstGeom prst="wedgeRoundRectCallout">
            <a:avLst>
              <a:gd name="adj1" fmla="val 60624"/>
              <a:gd name="adj2" fmla="val -1322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结合我们的体验，想想交通还能为我们做什么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5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