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4C6-A060-48B1-80F2-889F72E0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451-FACE-41CE-91DA-9676994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DD-B8EA-4653-B70B-86E89DC9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D60-B256-4B31-B452-AA3DF525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F7B-8A2B-49E6-A463-78FD985F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BC89-7BF0-43D0-AB30-D02CDB0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8FC9-A719-46D0-BDEF-B0FD6BB2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600-B088-4877-B60D-DEC040F0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6B83-F99A-4B05-B219-F89BC88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BFE-065A-4BE7-8FD3-D8938F4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0F5-BB1C-4517-93F2-BBF3307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2B-DC2F-48D2-83D5-CA1BB4B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5522-58FE-434B-A5F4-B932915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1C21-22C3-46BD-B1BE-6A7220C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EF25-1CCE-4325-82C4-B512873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2ACF-5CEB-4FA1-9264-0016E634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0A2-7E6E-4305-87E3-02ABCE1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C9B-BF73-421B-9219-6A9258A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233-0A49-4C66-A7DA-E0EB980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BE5-A95E-4959-9403-28956FD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3B0-12B1-435C-AB41-DCF937E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2F8-9BED-41D0-9091-ADA194B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A43-C6E0-4291-A836-EA26E89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413-E683-4037-A386-D10A1A8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421-D8C1-4FE4-B9F0-9D92D4CE3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ABE-08FD-49AD-9C5B-3DB51E9226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033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敬畏自然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语文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250920" y="6381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与自然究竟是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为什么要“敬畏自然”？为什么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敬畏自然”就是敬畏自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观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永远是自然机体上普通的一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而，人却不自量力的宣称要“征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 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科技航天的空间，相对宇宙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狭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类认识史是一部不断的纠错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矿坑可能成为人类自掘的陷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宇宙中存在着比人类更聪明的生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362520" y="3048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  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57200" y="2666880"/>
            <a:ext cx="457200" cy="2286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的智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621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自然的智慧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362320" y="205740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8077320" y="2133720"/>
            <a:ext cx="152280" cy="2361960"/>
          </a:xfrm>
          <a:custGeom>
            <a:avLst/>
            <a:gdLst>
              <a:gd name="textAreaLeft" fmla="*/ 0 w 152280"/>
              <a:gd name="textAreaRight" fmla="*/ 55080 w 152280"/>
              <a:gd name="textAreaTop" fmla="*/ 61200 h 2361960"/>
              <a:gd name="textAreaBottom" fmla="*/ 230076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867080" y="2209680"/>
            <a:ext cx="91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不值得自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743200" y="4648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与伦比，人类本身就是大自然智慧的杰作，大自然用美的规律创造宇宙的一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结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是自然的一部分，人与自然是一体。理所当然，人类应该爱护自然。“敬畏自然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u=2795448172,3226855030&amp;gp=1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99090701aa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唐山大地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8197"/>
          <p:cNvSpPr/>
          <p:nvPr/>
        </p:nvSpPr>
        <p:spPr>
          <a:xfrm>
            <a:off x="828720" y="314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69960" y="2819520"/>
            <a:ext cx="549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178920" y="289548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敬 畏 自 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90720" y="220968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3716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371600" y="2133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通过比喻和对比说明“征服自然”是错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33400" y="3124080"/>
            <a:ext cx="152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 敬 畏 自 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209680" y="31240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240 h 2210040"/>
              <a:gd name="textAreaBottom" fmla="*/ 215280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51460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比较人类的智慧与大自然的智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51460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进一步阐述人类的智慧与大自然        的智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438280" y="51055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251460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由智慧论述宇宙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7391520" y="3124080"/>
            <a:ext cx="228600" cy="2210040"/>
          </a:xfrm>
          <a:custGeom>
            <a:avLst/>
            <a:gdLst>
              <a:gd name="textAreaLeft" fmla="*/ 0 w 228600"/>
              <a:gd name="textAreaRight" fmla="*/ 82440 w 228600"/>
              <a:gd name="textAreaTop" fmla="*/ 57240 h 2210040"/>
              <a:gd name="textAreaBottom" fmla="*/ 2152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7409880" y="2971800"/>
            <a:ext cx="91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自然和谐相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219320" y="5867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得出结论：人类应该“敬畏自然”，热爱自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B45-0B1C-445C-BA67-B77427E60E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059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-848880" y="304920"/>
            <a:ext cx="310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022"/>
          <p:cNvPicPr/>
          <p:nvPr/>
        </p:nvPicPr>
        <p:blipFill>
          <a:blip r:embed="rId1"/>
          <a:stretch/>
        </p:blipFill>
        <p:spPr>
          <a:xfrm>
            <a:off x="228600" y="192240"/>
            <a:ext cx="8686800" cy="6456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沙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Img222690631[1]"/>
          <p:cNvPicPr/>
          <p:nvPr/>
        </p:nvPicPr>
        <p:blipFill>
          <a:blip r:embed="rId1"/>
          <a:stretch/>
        </p:blipFill>
        <p:spPr>
          <a:xfrm>
            <a:off x="228600" y="223920"/>
            <a:ext cx="8610480" cy="646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dizhen4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 狼藉（    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kun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ao1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hu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zhi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狼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ji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ao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不量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精巧绝伦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味佳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不量力：不衡量自己的能力。形容对自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估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太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形见绌：互相比较之下，就显出一方的不足之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巧绝伦：精细巧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美味佳肴：精美的菜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197"/>
          <p:cNvSpPr/>
          <p:nvPr/>
        </p:nvSpPr>
        <p:spPr>
          <a:xfrm>
            <a:off x="1187280" y="6165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5:32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3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