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084-BB9F-40F4-BB0E-D365F349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7BB-C2FF-4A8F-8C87-16D33A0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DDC-99D2-4CEC-899B-1ACBA313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C92-435A-4700-AABE-5B442D6C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148-0FC7-4690-AEFF-A0D9933F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46D9-00A2-4EC9-8E38-BF4A0F4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0E1D-1856-4D46-9CC3-D711EA7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857D-EFDA-47A5-8CD5-A6563405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B54-A7E0-466D-AB5D-1A3241FD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D4C7-D250-463F-A2CB-CB20AA82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37B5-1DB6-4D5F-BF69-781A116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7ED-8153-4235-816F-6D678BD4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9677-E320-407A-9692-963DF04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9498-F4E7-4FE9-9CE0-E4CFBDBD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F15E-1D1C-4E10-B6DC-62B8479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D1E-1E6C-42E6-9A91-915D2204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2C7-F2FD-42C7-B32C-EB140DD3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943-8F09-4825-8564-C980DF71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A05-18BD-4CD5-8403-86B3A5EF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6FF-E993-4954-A11B-4DC93A48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8E7-CB13-41B7-BDD7-D103713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563-9C86-428E-9F80-0030805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89F-46BC-4CA2-BF98-8A32D0B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51D-BE22-4C00-9A25-52BEBA0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0D91-8076-4893-87CD-F5477356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A75F-0EB0-4951-B9A1-5BA2398F6C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83fa0df26661a44cdbf1a5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931920" y="17582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单元 一方水土养一方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621520" y="103896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教新课标四年级品德与社会下册课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977760" y="2835360"/>
            <a:ext cx="73407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家乡的美景家乡的人语文</a:t>
            </a:r>
            <a:r>
              <a:rPr b="1" lang="en-US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08f43d42351c1d951da4b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歌颂家乡的美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20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不说俺家乡好　　　　　新疆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蒙古人　　　　　　　　　雪域之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奇的九寨　　　　　　　浏阳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爱五指山，我爱万泉河　太湖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198"/>
          <p:cNvSpPr/>
          <p:nvPr/>
        </p:nvSpPr>
        <p:spPr>
          <a:xfrm>
            <a:off x="1244520" y="4672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08f43d42351c1d951da4b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755640" y="54936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演一演∶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2627280" y="2276640"/>
            <a:ext cx="2691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我是小导游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42920" y="357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乡的风景名胜、文物古迹都有着许多美丽的传说和故事，我们来做次小导游，把这些故事介绍给大家看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08f43d42351c1d951da4b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395280" y="1413000"/>
            <a:ext cx="185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∶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395280" y="3357720"/>
            <a:ext cx="7921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找找我们的家乡有哪些名胜古迹和名人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B77-7E5A-4B68-A7A2-6CBF77CFA5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65560" y="23184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149040" y="750960"/>
            <a:ext cx="8871480" cy="5948640"/>
            <a:chOff x="149040" y="750960"/>
            <a:chExt cx="8871480" cy="5948640"/>
          </a:xfrm>
        </p:grpSpPr>
        <p:grpSp>
          <p:nvGrpSpPr>
            <p:cNvPr id="123" name="Group 19"/>
            <p:cNvGrpSpPr/>
            <p:nvPr/>
          </p:nvGrpSpPr>
          <p:grpSpPr>
            <a:xfrm>
              <a:off x="149040" y="1433520"/>
              <a:ext cx="8871480" cy="5266080"/>
              <a:chOff x="149040" y="1433520"/>
              <a:chExt cx="8871480" cy="5266080"/>
            </a:xfrm>
          </p:grpSpPr>
          <p:sp>
            <p:nvSpPr>
              <p:cNvPr id="124" name="Rectangle 7"/>
              <p:cNvSpPr/>
              <p:nvPr/>
            </p:nvSpPr>
            <p:spPr>
              <a:xfrm>
                <a:off x="149040" y="1433520"/>
                <a:ext cx="8871480" cy="5266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49040" y="2213280"/>
                <a:ext cx="8871480" cy="360"/>
                <a:chOff x="149040" y="2213280"/>
                <a:chExt cx="8871480" cy="360"/>
              </a:xfrm>
            </p:grpSpPr>
            <p:sp>
              <p:nvSpPr>
                <p:cNvPr id="126" name="Line 8"/>
                <p:cNvSpPr/>
                <p:nvPr/>
              </p:nvSpPr>
              <p:spPr>
                <a:xfrm>
                  <a:off x="149040" y="221328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 txBox="1"/>
                <p:nvPr/>
              </p:nvSpPr>
              <p:spPr>
                <a:xfrm>
                  <a:off x="149040" y="221328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49040" y="3481200"/>
                <a:ext cx="8871480" cy="360"/>
                <a:chOff x="149040" y="3481200"/>
                <a:chExt cx="8871480" cy="360"/>
              </a:xfrm>
            </p:grpSpPr>
            <p:sp>
              <p:nvSpPr>
                <p:cNvPr id="129" name="Line 9"/>
                <p:cNvSpPr/>
                <p:nvPr/>
              </p:nvSpPr>
              <p:spPr>
                <a:xfrm>
                  <a:off x="149040" y="348120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 txBox="1"/>
                <p:nvPr/>
              </p:nvSpPr>
              <p:spPr>
                <a:xfrm>
                  <a:off x="149040" y="348120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49040" y="4749480"/>
                <a:ext cx="8871480" cy="360"/>
                <a:chOff x="149040" y="4749480"/>
                <a:chExt cx="8871480" cy="360"/>
              </a:xfrm>
            </p:grpSpPr>
            <p:sp>
              <p:nvSpPr>
                <p:cNvPr id="132" name="Line 10"/>
                <p:cNvSpPr/>
                <p:nvPr/>
              </p:nvSpPr>
              <p:spPr>
                <a:xfrm>
                  <a:off x="149040" y="474948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>
                  <a:off x="149040" y="474948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49040" y="6016680"/>
                <a:ext cx="8871480" cy="360"/>
                <a:chOff x="149040" y="6016680"/>
                <a:chExt cx="8871480" cy="360"/>
              </a:xfrm>
            </p:grpSpPr>
            <p:sp>
              <p:nvSpPr>
                <p:cNvPr id="135" name="Line 11"/>
                <p:cNvSpPr/>
                <p:nvPr/>
              </p:nvSpPr>
              <p:spPr>
                <a:xfrm>
                  <a:off x="149040" y="601668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149040" y="601668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849040" y="2213280"/>
                <a:ext cx="360" cy="4485960"/>
                <a:chOff x="2849040" y="2213280"/>
                <a:chExt cx="360" cy="4485960"/>
              </a:xfrm>
            </p:grpSpPr>
            <p:sp>
              <p:nvSpPr>
                <p:cNvPr id="138" name="Line 13"/>
                <p:cNvSpPr/>
                <p:nvPr/>
              </p:nvSpPr>
              <p:spPr>
                <a:xfrm>
                  <a:off x="2849040" y="2213280"/>
                  <a:ext cx="0" cy="448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849040" y="2213280"/>
                  <a:ext cx="360" cy="44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691640" y="1433520"/>
                <a:ext cx="360" cy="779760"/>
                <a:chOff x="1691640" y="1433520"/>
                <a:chExt cx="360" cy="779760"/>
              </a:xfrm>
            </p:grpSpPr>
            <p:sp>
              <p:nvSpPr>
                <p:cNvPr id="141" name="Line 14"/>
                <p:cNvSpPr/>
                <p:nvPr/>
              </p:nvSpPr>
              <p:spPr>
                <a:xfrm>
                  <a:off x="169164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 txBox="1"/>
                <p:nvPr/>
              </p:nvSpPr>
              <p:spPr>
                <a:xfrm>
                  <a:off x="169164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849040" y="1433520"/>
                <a:ext cx="360" cy="779760"/>
                <a:chOff x="2849040" y="1433520"/>
                <a:chExt cx="360" cy="779760"/>
              </a:xfrm>
            </p:grpSpPr>
            <p:sp>
              <p:nvSpPr>
                <p:cNvPr id="144" name="Line 15"/>
                <p:cNvSpPr/>
                <p:nvPr/>
              </p:nvSpPr>
              <p:spPr>
                <a:xfrm>
                  <a:off x="284904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284904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134960" y="1433520"/>
                <a:ext cx="360" cy="779760"/>
                <a:chOff x="4134960" y="1433520"/>
                <a:chExt cx="360" cy="779760"/>
              </a:xfrm>
            </p:grpSpPr>
            <p:sp>
              <p:nvSpPr>
                <p:cNvPr id="147" name="Line 16"/>
                <p:cNvSpPr/>
                <p:nvPr/>
              </p:nvSpPr>
              <p:spPr>
                <a:xfrm>
                  <a:off x="413496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413496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420160" y="1433520"/>
                <a:ext cx="360" cy="779760"/>
                <a:chOff x="5420160" y="1433520"/>
                <a:chExt cx="360" cy="779760"/>
              </a:xfrm>
            </p:grpSpPr>
            <p:sp>
              <p:nvSpPr>
                <p:cNvPr id="150" name="Line 17"/>
                <p:cNvSpPr/>
                <p:nvPr/>
              </p:nvSpPr>
              <p:spPr>
                <a:xfrm>
                  <a:off x="542016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542016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06080" y="1433520"/>
                <a:ext cx="360" cy="779760"/>
                <a:chOff x="6706080" y="1433520"/>
                <a:chExt cx="360" cy="779760"/>
              </a:xfrm>
            </p:grpSpPr>
            <p:sp>
              <p:nvSpPr>
                <p:cNvPr id="153" name="Line 18"/>
                <p:cNvSpPr/>
                <p:nvPr/>
              </p:nvSpPr>
              <p:spPr>
                <a:xfrm>
                  <a:off x="670608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670608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Text Box 4"/>
            <p:cNvSpPr/>
            <p:nvPr/>
          </p:nvSpPr>
          <p:spPr>
            <a:xfrm>
              <a:off x="3099960" y="1433520"/>
              <a:ext cx="18266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调查　　　调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时间　　　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149040" y="2213640"/>
              <a:ext cx="27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找到的家乡民居照片（图片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207720" y="153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调查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149040" y="3481920"/>
              <a:ext cx="28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了解的家乡文化（艺术品、歌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534960" y="6094800"/>
              <a:ext cx="21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374040" y="5042520"/>
              <a:ext cx="22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喜欢吃的家乡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4"/>
            <p:cNvSpPr/>
            <p:nvPr/>
          </p:nvSpPr>
          <p:spPr>
            <a:xfrm>
              <a:off x="2862360" y="75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调查报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324000" y="115920"/>
            <a:ext cx="30859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家乡的风光美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877080" y="1341360"/>
            <a:ext cx="45864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get?name=T1gpWABQEC1RCvBVdK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get?name=T1fFdoBTYQ1RCvBVdK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539640" y="33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额尔古纳牧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get?name=T1iwh1B4Vg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get?name=T1e6qvByd7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get?name=T1FPVBBsxI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3b1fa5144020a401038c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WordArt 7" descr=""/>
          <p:cNvPicPr/>
          <p:nvPr/>
        </p:nvPicPr>
        <p:blipFill>
          <a:blip r:embed="rId2"/>
          <a:stretch/>
        </p:blipFill>
        <p:spPr>
          <a:xfrm>
            <a:off x="130320" y="1670040"/>
            <a:ext cx="82040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ef35608cb051f50eb31bba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484360" y="692280"/>
            <a:ext cx="5832720" cy="57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家乡有哪些风景名胜？让我们把他们写出来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123"/>
          <p:cNvPicPr/>
          <p:nvPr/>
        </p:nvPicPr>
        <p:blipFill>
          <a:blip r:embed="rId3"/>
          <a:stretch/>
        </p:blipFill>
        <p:spPr>
          <a:xfrm>
            <a:off x="1476360" y="1844640"/>
            <a:ext cx="727236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/>
          <p:cNvSpPr/>
          <p:nvPr/>
        </p:nvSpPr>
        <p:spPr>
          <a:xfrm>
            <a:off x="1908000" y="3213000"/>
            <a:ext cx="1657440" cy="936720"/>
          </a:xfrm>
          <a:prstGeom prst="cloudCallout">
            <a:avLst>
              <a:gd name="adj1" fmla="val -27490"/>
              <a:gd name="adj2" fmla="val 8220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家乡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0"/>
          <p:cNvPicPr/>
          <p:nvPr/>
        </p:nvPicPr>
        <p:blipFill>
          <a:blip r:embed="rId4"/>
          <a:stretch/>
        </p:blipFill>
        <p:spPr>
          <a:xfrm>
            <a:off x="1547640" y="189000"/>
            <a:ext cx="93852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W020080128484351603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1:09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3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