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28.png" ContentType="image/png"/>
  <Override PartName="/ppt/media/image9.png" ContentType="image/png"/>
  <Override PartName="/ppt/media/image8.wmf" ContentType="image/x-wmf"/>
  <Override PartName="/ppt/media/image12.jpeg" ContentType="image/jpe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7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61F-4F1F-4974-9661-3F278306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9EE-9459-40E6-ADA0-5378C9E6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A322-04A2-4AAB-B84E-5530635B7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B4C9-8A81-4ED1-9FC8-AB81883C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8FA5-D221-41E9-99D6-F6A49BFD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0760-6BE8-4B65-8FE8-DA597086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0364-F280-4DCD-A328-188651B0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DE22-FDE9-4578-B95C-9AA5FA0E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2B52-1FE0-4B7F-978B-A9545F0C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C49-ECCE-446D-9107-7417FA6C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F72-250C-4E6D-AC2D-251694F1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1FE-2868-441C-99A3-B08A70CE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3F218-84ED-4E44-B9DF-C72E0E3EE0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hyperlink" Target="../../../&#30446;&#24405;.ppt" TargetMode="External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灯片编号占位符 3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2FDF-224D-41CB-A18D-3B98110DD975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16" name="Picture 15" descr="框"/>
          <p:cNvPicPr/>
          <p:nvPr/>
        </p:nvPicPr>
        <p:blipFill>
          <a:blip r:embed="rId1"/>
          <a:stretch/>
        </p:blipFill>
        <p:spPr>
          <a:xfrm>
            <a:off x="831960" y="1352520"/>
            <a:ext cx="7711920" cy="1320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老师"/>
          <p:cNvPicPr/>
          <p:nvPr/>
        </p:nvPicPr>
        <p:blipFill>
          <a:blip r:embed="rId2"/>
          <a:stretch/>
        </p:blipFill>
        <p:spPr>
          <a:xfrm>
            <a:off x="84240" y="2941560"/>
            <a:ext cx="3476520" cy="3301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890640" y="1662120"/>
            <a:ext cx="759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第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3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节 机械效率课件</a:t>
            </a:r>
            <a:r>
              <a:rPr b="0" lang="en-US" sz="4000" spc="-1" strike="noStrike">
                <a:solidFill>
                  <a:srgbClr val="ff0000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免费下载</a:t>
            </a:r>
            <a:endParaRPr b="0" lang="en-US" sz="4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19" name="Picture 5" descr="搬沙子上楼漫画"/>
          <p:cNvPicPr/>
          <p:nvPr/>
        </p:nvPicPr>
        <p:blipFill>
          <a:blip r:embed="rId3"/>
          <a:stretch/>
        </p:blipFill>
        <p:spPr>
          <a:xfrm>
            <a:off x="3422520" y="2941560"/>
            <a:ext cx="3913200" cy="2989440"/>
          </a:xfrm>
          <a:prstGeom prst="rect">
            <a:avLst/>
          </a:prstGeom>
          <a:ln w="0">
            <a:noFill/>
          </a:ln>
        </p:spPr>
      </p:pic>
      <p:sp>
        <p:nvSpPr>
          <p:cNvPr id="120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e163e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8e163e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3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9FD0-653E-4A1A-845F-84C99122C797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89" name="Picture 2" descr="滑轮组"/>
          <p:cNvPicPr/>
          <p:nvPr/>
        </p:nvPicPr>
        <p:blipFill>
          <a:blip r:embed="rId1"/>
          <a:stretch/>
        </p:blipFill>
        <p:spPr>
          <a:xfrm>
            <a:off x="6095880" y="1265400"/>
            <a:ext cx="1324080" cy="36860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5457960" y="5060880"/>
            <a:ext cx="33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滑轮组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0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70%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689120" y="5060880"/>
            <a:ext cx="31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起重机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0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50%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92" name="Picture 6" descr="起重机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295280" y="202716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13"/>
          <p:cNvSpPr/>
          <p:nvPr/>
        </p:nvSpPr>
        <p:spPr>
          <a:xfrm>
            <a:off x="671400" y="1128600"/>
            <a:ext cx="47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一些机械的机械效率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灯片编号占位符 3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570D-900E-4469-83BF-CD9D0C945B9F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95" name="Picture 2" descr="image20"/>
          <p:cNvPicPr/>
          <p:nvPr/>
        </p:nvPicPr>
        <p:blipFill>
          <a:blip r:embed="rId1"/>
          <a:stretch/>
        </p:blipFill>
        <p:spPr>
          <a:xfrm>
            <a:off x="5137200" y="1797120"/>
            <a:ext cx="2663640" cy="2309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12t004[1]"/>
          <p:cNvPicPr/>
          <p:nvPr/>
        </p:nvPicPr>
        <p:blipFill>
          <a:blip r:embed="rId2"/>
          <a:stretch/>
        </p:blipFill>
        <p:spPr>
          <a:xfrm>
            <a:off x="1536840" y="1508040"/>
            <a:ext cx="2571480" cy="2503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1279440" y="4554360"/>
            <a:ext cx="317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抽水机：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60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80%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5095800" y="4554360"/>
            <a:ext cx="325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柴油机：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8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0%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6AE8-A537-4137-900E-DDA2F26D2946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0" name="AutoShape 18"/>
          <p:cNvSpPr/>
          <p:nvPr/>
        </p:nvSpPr>
        <p:spPr>
          <a:xfrm>
            <a:off x="749160" y="1978200"/>
            <a:ext cx="7586640" cy="4079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1" name="Text Box 19"/>
          <p:cNvSpPr/>
          <p:nvPr/>
        </p:nvSpPr>
        <p:spPr>
          <a:xfrm>
            <a:off x="755640" y="1936800"/>
            <a:ext cx="7416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台起重机将重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600 N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货物提高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4 m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如果额外功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9600 J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起重机做的有用功是多少？总功是多少？机械效率是多少？起重机在哪些方面消耗了额外功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02" name="Picture 20" descr="起重机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3168720" y="3728880"/>
            <a:ext cx="2806560" cy="2105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2" descr="002"/>
          <p:cNvPicPr/>
          <p:nvPr/>
        </p:nvPicPr>
        <p:blipFill>
          <a:blip r:embed="rId2"/>
          <a:stretch/>
        </p:blipFill>
        <p:spPr>
          <a:xfrm>
            <a:off x="750960" y="1157400"/>
            <a:ext cx="2209680" cy="533160"/>
          </a:xfrm>
          <a:prstGeom prst="rect">
            <a:avLst/>
          </a:prstGeom>
          <a:ln w="0">
            <a:noFill/>
          </a:ln>
        </p:spPr>
      </p:pic>
      <p:sp>
        <p:nvSpPr>
          <p:cNvPr id="204" name="文本框 8199"/>
          <p:cNvSpPr/>
          <p:nvPr/>
        </p:nvSpPr>
        <p:spPr>
          <a:xfrm>
            <a:off x="2960640" y="1255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3300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663300"/>
                </a:solidFill>
                <a:uFillTx/>
                <a:latin typeface="Arial"/>
                <a:ea typeface="宋体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A757-A3CD-4DC7-80B9-DE55FEE43F21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1314360" y="944640"/>
            <a:ext cx="6458040" cy="51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解</a:t>
            </a:r>
            <a:r>
              <a:rPr b="1" lang="en-US" sz="20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: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重机提高物体的力等于物体的重力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600 N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重机提升重物所做的有用功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Fh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Gh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3600 N×4 m=14400 J=1.44×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重机做的总功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总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+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额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4400 J+9600 J=2.4×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起重机的机械效率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η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W</a:t>
            </a:r>
            <a:r>
              <a:rPr b="1" lang="zh-CN" sz="2000" spc="-1" strike="noStrike" baseline="-25000">
                <a:solidFill>
                  <a:srgbClr val="ff0000"/>
                </a:solidFill>
                <a:latin typeface="楷体_GB2312"/>
                <a:ea typeface="楷体_GB2312"/>
              </a:rPr>
              <a:t>总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1.44×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/2.4×10</a:t>
            </a:r>
            <a:r>
              <a:rPr b="1" lang="en-US" sz="2000" spc="-1" strike="noStrike" baseline="30000">
                <a:solidFill>
                  <a:srgbClr val="ff0000"/>
                </a:solidFill>
                <a:latin typeface="楷体_GB2312"/>
                <a:ea typeface="楷体_GB2312"/>
              </a:rPr>
              <a:t>4 </a:t>
            </a: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=60%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4C23-C577-47F2-ABA3-AF3E56E77DA7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619280" y="1617840"/>
            <a:ext cx="5681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c00ff"/>
                </a:solidFill>
                <a:latin typeface="宋体"/>
              </a:rPr>
              <a:t>探究  斜面的机械效率</a:t>
            </a:r>
            <a:endParaRPr b="0" lang="en-US" sz="27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09" name="Text Box 37"/>
          <p:cNvSpPr/>
          <p:nvPr/>
        </p:nvSpPr>
        <p:spPr>
          <a:xfrm>
            <a:off x="833400" y="2392200"/>
            <a:ext cx="6840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猜一猜：斜面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机械效率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可能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哪些因素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有关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10" name="Text Box 38"/>
          <p:cNvSpPr/>
          <p:nvPr/>
        </p:nvSpPr>
        <p:spPr>
          <a:xfrm>
            <a:off x="907920" y="3168720"/>
            <a:ext cx="545148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斜面的光滑程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斜面的高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斜面的长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.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楷体_GB2312"/>
              </a:rPr>
              <a:t>…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16707-9A9A-4831-8C1C-BC672FCF7EDD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12" name="Text Box 15"/>
          <p:cNvSpPr/>
          <p:nvPr/>
        </p:nvSpPr>
        <p:spPr>
          <a:xfrm>
            <a:off x="647640" y="2809800"/>
            <a:ext cx="793908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利用下列器材：长木板、小木块、弹簧测力计、刻度尺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说一说你的设计思路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13" name="Picture 27" descr="11"/>
          <p:cNvPicPr/>
          <p:nvPr/>
        </p:nvPicPr>
        <p:blipFill>
          <a:blip r:embed="rId1"/>
          <a:stretch/>
        </p:blipFill>
        <p:spPr>
          <a:xfrm>
            <a:off x="585720" y="18874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72C5-C37C-42DD-A16C-C4AD395DD7A7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900000" y="915840"/>
            <a:ext cx="66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探究斜面机械效率与斜面坡度的关系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16" name="Rectangle 16"/>
          <p:cNvSpPr/>
          <p:nvPr/>
        </p:nvSpPr>
        <p:spPr>
          <a:xfrm>
            <a:off x="790560" y="2546280"/>
            <a:ext cx="7607160" cy="18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测量小木块的重量，记录数据；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小木块用弹簧测力计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沿斜面匀速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向上拉；分别记录拉力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木块沿斜面移动的距离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、木块上升的高度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改变斜面的倾斜程度，重复步骤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 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17" name="Picture 22" descr="55"/>
          <p:cNvPicPr/>
          <p:nvPr/>
        </p:nvPicPr>
        <p:blipFill>
          <a:blip r:embed="rId1"/>
          <a:stretch/>
        </p:blipFill>
        <p:spPr>
          <a:xfrm>
            <a:off x="792000" y="1838160"/>
            <a:ext cx="2286000" cy="54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A7EE-4F6B-4456-A2EB-C9DE33252E5E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00000" y="2193840"/>
          <a:ext cx="7470720" cy="3395520"/>
        </p:xfrm>
        <a:graphic>
          <a:graphicData uri="http://schemas.openxmlformats.org/drawingml/2006/table">
            <a:tbl>
              <a:tblPr/>
              <a:tblGrid>
                <a:gridCol w="793800"/>
                <a:gridCol w="990720"/>
                <a:gridCol w="992160"/>
                <a:gridCol w="728640"/>
                <a:gridCol w="852480"/>
                <a:gridCol w="1055520"/>
                <a:gridCol w="784440"/>
                <a:gridCol w="1272960"/>
              </a:tblGrid>
              <a:tr h="92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斜面倾斜程度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木块重量</a:t>
                      </a: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N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斜面高度</a:t>
                      </a: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m</a:t>
                      </a:r>
                      <a:endParaRPr b="0" lang="en-US" sz="20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拉力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N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斜面长</a:t>
                      </a: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m</a:t>
                      </a:r>
                      <a:endParaRPr b="0" lang="en-US" sz="20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有用功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</a:t>
                      </a:r>
                      <a:r>
                        <a:rPr b="1" lang="zh-CN" sz="18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有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J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总功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</a:t>
                      </a:r>
                      <a:r>
                        <a:rPr b="1" lang="zh-CN" sz="1800" spc="-1" strike="noStrike" baseline="-25000">
                          <a:solidFill>
                            <a:srgbClr val="0000ff"/>
                          </a:solidFill>
                          <a:latin typeface="宋体"/>
                        </a:rPr>
                        <a:t>总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/J</a:t>
                      </a: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机械效率</a:t>
                      </a:r>
                      <a:endParaRPr b="0" lang="en-US" sz="20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较缓</a:t>
                      </a:r>
                      <a:endParaRPr b="0" lang="en-US" sz="24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72f69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较陡</a:t>
                      </a:r>
                      <a:endParaRPr b="0" lang="en-US" sz="24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72f69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很陡</a:t>
                      </a:r>
                      <a:endParaRPr b="0" lang="en-US" sz="24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72f69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e163e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pic>
        <p:nvPicPr>
          <p:cNvPr id="220" name="Picture 155" descr="001"/>
          <p:cNvPicPr/>
          <p:nvPr/>
        </p:nvPicPr>
        <p:blipFill>
          <a:blip r:embed="rId1"/>
          <a:stretch/>
        </p:blipFill>
        <p:spPr>
          <a:xfrm>
            <a:off x="851040" y="1249200"/>
            <a:ext cx="220968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1970-2709-41AB-8AC0-8EA62C9EFAA0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695600" y="166536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斜面的机械效率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765000" y="2286000"/>
            <a:ext cx="7560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斜面的机械效率跟斜面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光滑程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斜面的坡度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有关，斜面越光滑、坡度越小，机械效率越高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24" name="Picture 7" descr="2004121511115859383"/>
          <p:cNvPicPr/>
          <p:nvPr/>
        </p:nvPicPr>
        <p:blipFill>
          <a:blip r:embed="rId1"/>
          <a:stretch/>
        </p:blipFill>
        <p:spPr>
          <a:xfrm>
            <a:off x="946080" y="4911840"/>
            <a:ext cx="7458120" cy="12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1C9B-4DBB-4224-8A76-AEFD8A698A9C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6" name="Text Box 12"/>
          <p:cNvSpPr/>
          <p:nvPr/>
        </p:nvSpPr>
        <p:spPr>
          <a:xfrm>
            <a:off x="900000" y="2019240"/>
            <a:ext cx="72439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关于机械效率，以下说法正确的是（     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机械效率总小于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单位时间里做功越多的机械，机械效率越高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做功越多的机械，机械效率越高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省力越多的机械，机械效率越高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27" name="Text Box 13"/>
          <p:cNvSpPr/>
          <p:nvPr/>
        </p:nvSpPr>
        <p:spPr>
          <a:xfrm>
            <a:off x="5721480" y="2158920"/>
            <a:ext cx="17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28" name="Picture 19" descr="4"/>
          <p:cNvPicPr/>
          <p:nvPr/>
        </p:nvPicPr>
        <p:blipFill>
          <a:blip r:embed="rId1"/>
          <a:stretch/>
        </p:blipFill>
        <p:spPr>
          <a:xfrm>
            <a:off x="2901960" y="873000"/>
            <a:ext cx="342900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C90A-B78E-44A2-A99C-578A9239276D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852480" y="253836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了解什么是有用功、额外功和总功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52480" y="344160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理解什么是机械效率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852480" y="4344840"/>
            <a:ext cx="7386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探究斜面机械效率跟哪些因素有关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25" name="Picture 13" descr="学习目标"/>
          <p:cNvPicPr/>
          <p:nvPr/>
        </p:nvPicPr>
        <p:blipFill>
          <a:blip r:embed="rId1"/>
          <a:stretch/>
        </p:blipFill>
        <p:spPr>
          <a:xfrm>
            <a:off x="2795760" y="1073160"/>
            <a:ext cx="3403440" cy="83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88B0-4681-4555-B52D-42CB62C0E02B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595440" y="1566720"/>
            <a:ext cx="799920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某机械的机械效率是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75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，这说明使用这一装置做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 algn="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总功是额外功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用功是额外功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总功是有用功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额外功占总功的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/4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倍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7744320" y="242100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633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6633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8e163e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28CD-14E6-4291-AD43-C4894319DBC7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595440" y="1511280"/>
            <a:ext cx="780732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为了提高滑轮组的机械效率，以下做法中正确的是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 algn="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（   ）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较快的速度匀速提升重物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以较慢的速度匀速提升重物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增加承担物重的绳子股数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滑轮做得更轻巧，减小滑轮在转动过程中的摩擦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7575480" y="240048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D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AD00-FA81-4846-9DC7-9D0B3EAB9746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7" name="Text Box 142"/>
          <p:cNvSpPr/>
          <p:nvPr/>
        </p:nvSpPr>
        <p:spPr>
          <a:xfrm>
            <a:off x="1092240" y="2651040"/>
            <a:ext cx="62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用功、额外功、总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8" name="Text Box 143"/>
          <p:cNvSpPr/>
          <p:nvPr/>
        </p:nvSpPr>
        <p:spPr>
          <a:xfrm>
            <a:off x="1146240" y="37288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机械效率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: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39" name="Text Box 144"/>
          <p:cNvSpPr/>
          <p:nvPr/>
        </p:nvSpPr>
        <p:spPr>
          <a:xfrm>
            <a:off x="1155600" y="4773600"/>
            <a:ext cx="71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斜面的机械效率跟坡度和光滑程度有关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40" name="Picture 145" descr=""/>
          <p:cNvPicPr/>
          <p:nvPr/>
        </p:nvPicPr>
        <p:blipFill>
          <a:blip r:embed="rId1"/>
          <a:stretch/>
        </p:blipFill>
        <p:spPr>
          <a:xfrm>
            <a:off x="3149640" y="3425760"/>
            <a:ext cx="1301760" cy="1135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52" descr="55"/>
          <p:cNvPicPr/>
          <p:nvPr/>
        </p:nvPicPr>
        <p:blipFill>
          <a:blip r:embed="rId2"/>
          <a:stretch/>
        </p:blipFill>
        <p:spPr>
          <a:xfrm>
            <a:off x="3182760" y="870120"/>
            <a:ext cx="3429000" cy="84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e163e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16F5-EFEA-4666-B7E8-FA11930C7B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2"/>
          <p:cNvSpPr/>
          <p:nvPr/>
        </p:nvSpPr>
        <p:spPr>
          <a:xfrm>
            <a:off x="749160" y="4533840"/>
            <a:ext cx="7659720" cy="352440"/>
          </a:xfrm>
          <a:custGeom>
            <a:avLst/>
            <a:gdLst/>
            <a:ahLst/>
            <a:rect l="l" t="t" r="r" b="b"/>
            <a:pathLst>
              <a:path w="4825" h="222">
                <a:moveTo>
                  <a:pt x="4825" y="222"/>
                </a:moveTo>
                <a:lnTo>
                  <a:pt x="4808" y="217"/>
                </a:lnTo>
                <a:lnTo>
                  <a:pt x="4739" y="207"/>
                </a:lnTo>
                <a:lnTo>
                  <a:pt x="4627" y="191"/>
                </a:lnTo>
                <a:lnTo>
                  <a:pt x="4472" y="170"/>
                </a:lnTo>
                <a:lnTo>
                  <a:pt x="4274" y="145"/>
                </a:lnTo>
                <a:lnTo>
                  <a:pt x="4042" y="119"/>
                </a:lnTo>
                <a:lnTo>
                  <a:pt x="3776" y="98"/>
                </a:lnTo>
                <a:lnTo>
                  <a:pt x="3475" y="78"/>
                </a:lnTo>
                <a:lnTo>
                  <a:pt x="3148" y="62"/>
                </a:lnTo>
                <a:lnTo>
                  <a:pt x="2786" y="47"/>
                </a:lnTo>
                <a:lnTo>
                  <a:pt x="2399" y="47"/>
                </a:lnTo>
                <a:lnTo>
                  <a:pt x="2012" y="47"/>
                </a:lnTo>
                <a:lnTo>
                  <a:pt x="1660" y="62"/>
                </a:lnTo>
                <a:lnTo>
                  <a:pt x="1333" y="78"/>
                </a:lnTo>
                <a:lnTo>
                  <a:pt x="1032" y="98"/>
                </a:lnTo>
                <a:lnTo>
                  <a:pt x="774" y="119"/>
                </a:lnTo>
                <a:lnTo>
                  <a:pt x="550" y="145"/>
                </a:lnTo>
                <a:lnTo>
                  <a:pt x="361" y="170"/>
                </a:lnTo>
                <a:lnTo>
                  <a:pt x="206" y="191"/>
                </a:lnTo>
                <a:lnTo>
                  <a:pt x="94" y="207"/>
                </a:lnTo>
                <a:lnTo>
                  <a:pt x="34" y="217"/>
                </a:lnTo>
                <a:lnTo>
                  <a:pt x="8" y="222"/>
                </a:lnTo>
                <a:lnTo>
                  <a:pt x="0" y="8"/>
                </a:lnTo>
                <a:lnTo>
                  <a:pt x="2400" y="8"/>
                </a:lnTo>
                <a:lnTo>
                  <a:pt x="4800" y="0"/>
                </a:lnTo>
                <a:lnTo>
                  <a:pt x="4825" y="222"/>
                </a:lnTo>
                <a:lnTo>
                  <a:pt x="4825" y="222"/>
                </a:lnTo>
                <a:close/>
              </a:path>
            </a:pathLst>
          </a:custGeom>
          <a:solidFill>
            <a:srgbClr val="00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561960" y="2492280"/>
            <a:ext cx="8058240" cy="2041560"/>
          </a:xfrm>
          <a:prstGeom prst="rect">
            <a:avLst/>
          </a:prstGeom>
          <a:solidFill>
            <a:srgbClr val="f9e807">
              <a:alpha val="84000"/>
            </a:srgbClr>
          </a:solidFill>
          <a:ln w="54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981000" y="2698920"/>
            <a:ext cx="738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抓住今天，你就会前进一步；丢弃今天，你就会停滞不动。 </a:t>
            </a:r>
            <a:endParaRPr b="0" lang="en-US" sz="30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249" name="Picture 5" descr="图片2"/>
          <p:cNvPicPr/>
          <p:nvPr/>
        </p:nvPicPr>
        <p:blipFill>
          <a:blip r:embed="rId1"/>
          <a:stretch/>
        </p:blipFill>
        <p:spPr>
          <a:xfrm>
            <a:off x="3149640" y="1041480"/>
            <a:ext cx="3041640" cy="963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图片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30880" y="5067360"/>
            <a:ext cx="1457640" cy="17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FB4B-558F-4221-986D-224FE22307C3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873080" y="968400"/>
            <a:ext cx="50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想一想：你会采用哪种方法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28" name="Picture 19" descr="6666"/>
          <p:cNvPicPr/>
          <p:nvPr/>
        </p:nvPicPr>
        <p:blipFill>
          <a:blip r:embed="rId1"/>
          <a:srcRect l="0" t="-12537" r="0" b="0"/>
          <a:stretch/>
        </p:blipFill>
        <p:spPr>
          <a:xfrm>
            <a:off x="3195720" y="5614920"/>
            <a:ext cx="2895480" cy="682560"/>
          </a:xfrm>
          <a:prstGeom prst="rect">
            <a:avLst/>
          </a:prstGeom>
          <a:ln w="0">
            <a:noFill/>
          </a:ln>
        </p:spPr>
      </p:pic>
      <p:pic>
        <p:nvPicPr>
          <p:cNvPr id="129" name="ShockwaveFlash1" descr=""/>
          <p:cNvPicPr/>
          <p:nvPr/>
        </p:nvPicPr>
        <p:blipFill>
          <a:blip r:embed="rId2"/>
          <a:stretch/>
        </p:blipFill>
        <p:spPr>
          <a:xfrm>
            <a:off x="1276200" y="1727280"/>
            <a:ext cx="6705720" cy="37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3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084C-D649-4766-B571-E4E016AFA63E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994840" y="4546440"/>
            <a:ext cx="454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②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095480" y="4200480"/>
            <a:ext cx="149040" cy="1752480"/>
          </a:xfrm>
          <a:custGeom>
            <a:avLst/>
            <a:gdLst>
              <a:gd name="textAreaLeft" fmla="*/ 95400 w 149040"/>
              <a:gd name="textAreaRight" fmla="*/ 149400 w 1490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79080" y="4249800"/>
            <a:ext cx="7290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  ①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09680" y="4113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沙子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1309680" y="49323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桶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1309680" y="56944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克服自重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5054400" y="4554360"/>
            <a:ext cx="729000" cy="10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③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人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5824440" y="44038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6118200" y="4194000"/>
            <a:ext cx="20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沙子做功 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	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116760" y="47149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桶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6116760" y="5192640"/>
            <a:ext cx="210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动滑轮做功 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1092240" y="4282920"/>
            <a:ext cx="6958080" cy="762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1019160" y="5246640"/>
            <a:ext cx="7105680" cy="801720"/>
          </a:xfrm>
          <a:prstGeom prst="rect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1128600" y="4383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必须做的，对我们有用的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1174680" y="53388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不需要的，但又不得不做的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46" name="Picture 18" descr="QQ截图未命名"/>
          <p:cNvPicPr/>
          <p:nvPr/>
        </p:nvPicPr>
        <p:blipFill>
          <a:blip r:embed="rId1"/>
          <a:stretch/>
        </p:blipFill>
        <p:spPr>
          <a:xfrm>
            <a:off x="1325520" y="846000"/>
            <a:ext cx="6323040" cy="2997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5784840" y="4416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有用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111720" y="5370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额外功</a:t>
            </a:r>
            <a:endParaRPr b="0" lang="en-US" sz="2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6116760" y="57150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4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克服摩擦做功 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0" name="AutoShape 22"/>
          <p:cNvSpPr/>
          <p:nvPr/>
        </p:nvSpPr>
        <p:spPr>
          <a:xfrm>
            <a:off x="3427560" y="424980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3934440" y="4118040"/>
            <a:ext cx="11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沙子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3710160" y="4900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对桶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3710160" y="568332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宋体"/>
              </a:rPr>
              <a:t>3.</a:t>
            </a: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克服摩擦做功</a:t>
            </a: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"/>
                            </p:stCondLst>
                            <p:childTnLst>
                              <p:par>
                                <p:cTn id="102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1"/>
                            </p:stCondLst>
                            <p:childTnLst>
                              <p:par>
                                <p:cTn id="10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灯片编号占位符 3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4DD22-58B7-485D-96AF-0DC37E8006D6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55" name="Picture 2" descr="QQ截图未命名1"/>
          <p:cNvPicPr/>
          <p:nvPr/>
        </p:nvPicPr>
        <p:blipFill>
          <a:blip r:embed="rId1"/>
          <a:stretch/>
        </p:blipFill>
        <p:spPr>
          <a:xfrm>
            <a:off x="4038480" y="1219320"/>
            <a:ext cx="1586160" cy="452916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4"/>
          <p:cNvSpPr/>
          <p:nvPr/>
        </p:nvSpPr>
        <p:spPr>
          <a:xfrm>
            <a:off x="485640" y="1351080"/>
            <a:ext cx="3419640" cy="3200400"/>
          </a:xfrm>
          <a:prstGeom prst="cloudCallout">
            <a:avLst>
              <a:gd name="adj1" fmla="val 64018"/>
              <a:gd name="adj2" fmla="val 65027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要提升沙，必须将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动滑轮</a:t>
            </a: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口袋</a:t>
            </a: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也提升，同时还要克服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摩擦</a:t>
            </a:r>
            <a:r>
              <a:rPr b="1" lang="zh-CN" sz="2000" spc="-1" strike="noStrike">
                <a:solidFill>
                  <a:srgbClr val="cc00ff"/>
                </a:solidFill>
                <a:latin typeface="Times New Roman"/>
              </a:rPr>
              <a:t>做功。这些功是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对人们无用但又不得不做的功：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额外功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7" name="AutoShape 5"/>
          <p:cNvSpPr/>
          <p:nvPr/>
        </p:nvSpPr>
        <p:spPr>
          <a:xfrm>
            <a:off x="5245200" y="3760920"/>
            <a:ext cx="3344760" cy="1828800"/>
          </a:xfrm>
          <a:prstGeom prst="cloudCallout">
            <a:avLst>
              <a:gd name="adj1" fmla="val -66231"/>
              <a:gd name="adj2" fmla="val 48699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提升沙是目的，有利用价值，对沙做的功是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对人们有用的功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有用功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5410080" y="736560"/>
            <a:ext cx="2743200" cy="1244520"/>
          </a:xfrm>
          <a:prstGeom prst="cloudCallout">
            <a:avLst>
              <a:gd name="adj1" fmla="val -66263"/>
              <a:gd name="adj2" fmla="val 82268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有用功和额外功之和等于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总功。</a:t>
            </a:r>
            <a:endParaRPr b="0" lang="en-US" sz="20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5638680" y="5638680"/>
            <a:ext cx="17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6172200" y="1981080"/>
            <a:ext cx="2438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总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=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有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+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宋体"/>
              </a:rPr>
              <a:t>额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5562720" y="2438280"/>
            <a:ext cx="1447560" cy="533520"/>
          </a:xfrm>
          <a:prstGeom prst="wedgeRoundRectCallout">
            <a:avLst>
              <a:gd name="adj1" fmla="val -105481"/>
              <a:gd name="adj2" fmla="val -76787"/>
              <a:gd name="adj3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W</a:t>
            </a:r>
            <a:r>
              <a:rPr b="1" lang="zh-CN" sz="2400" spc="-1" strike="noStrike" baseline="-25000">
                <a:solidFill>
                  <a:srgbClr val="ff3300"/>
                </a:solidFill>
                <a:latin typeface="Times New Roman"/>
              </a:rPr>
              <a:t>总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隶书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Fs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568440" y="701640"/>
            <a:ext cx="5638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用功、额外功、总功</a:t>
            </a:r>
            <a:endParaRPr b="0" lang="en-US" sz="27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EA2AB-4053-44F8-9A0A-42956EEA0F16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4" name="AutoShape 2"/>
          <p:cNvSpPr/>
          <p:nvPr/>
        </p:nvSpPr>
        <p:spPr>
          <a:xfrm>
            <a:off x="590400" y="2084400"/>
            <a:ext cx="7940880" cy="3387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5" name="Rectangle 45"/>
          <p:cNvSpPr/>
          <p:nvPr/>
        </p:nvSpPr>
        <p:spPr>
          <a:xfrm>
            <a:off x="900000" y="2591640"/>
            <a:ext cx="741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一个人用水桶从井里打水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用功是什么？额外功是什么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若桶掉在水中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把装满水的桶捞起来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则有用功又是什么？额外功又是什么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6" name="Text Box 46"/>
          <p:cNvSpPr/>
          <p:nvPr/>
        </p:nvSpPr>
        <p:spPr>
          <a:xfrm>
            <a:off x="1692360" y="328464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对水做的功为有用功，对桶做的功为额外功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67" name="Text Box 47"/>
          <p:cNvSpPr/>
          <p:nvPr/>
        </p:nvSpPr>
        <p:spPr>
          <a:xfrm>
            <a:off x="1692360" y="4944960"/>
            <a:ext cx="65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对桶做的功为有用功，对水做的功为额外功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68" name="Picture 58" descr="11"/>
          <p:cNvPicPr/>
          <p:nvPr/>
        </p:nvPicPr>
        <p:blipFill>
          <a:blip r:embed="rId1"/>
          <a:stretch/>
        </p:blipFill>
        <p:spPr>
          <a:xfrm>
            <a:off x="550800" y="1136520"/>
            <a:ext cx="2286000" cy="55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E93A-51D2-4CC8-A668-B1DD1E9F4B7E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70" name="Picture 18" descr="搬沙子上楼漫画"/>
          <p:cNvPicPr/>
          <p:nvPr/>
        </p:nvPicPr>
        <p:blipFill>
          <a:blip r:embed="rId1"/>
          <a:stretch/>
        </p:blipFill>
        <p:spPr>
          <a:xfrm>
            <a:off x="1182600" y="747720"/>
            <a:ext cx="6634080" cy="404820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9"/>
          <p:cNvSpPr/>
          <p:nvPr/>
        </p:nvSpPr>
        <p:spPr>
          <a:xfrm>
            <a:off x="660240" y="4718160"/>
            <a:ext cx="7896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分别计算出三种情况下有用功、额外功和总功分别是多少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请算出刚才的三种办法中有用功在总功中占的百分比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23E8-9A77-4055-ADBE-ACE29450CCF9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95320" y="15127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机械效率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816120" y="2170080"/>
            <a:ext cx="712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定义：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用功跟总功的比值叫机械效率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表达式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pic>
        <p:nvPicPr>
          <p:cNvPr id="175" name="Picture 21" descr=""/>
          <p:cNvPicPr/>
          <p:nvPr/>
        </p:nvPicPr>
        <p:blipFill>
          <a:blip r:embed="rId1"/>
          <a:stretch/>
        </p:blipFill>
        <p:spPr>
          <a:xfrm>
            <a:off x="2550960" y="2946240"/>
            <a:ext cx="1297080" cy="11527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2"/>
          <p:cNvSpPr/>
          <p:nvPr/>
        </p:nvSpPr>
        <p:spPr>
          <a:xfrm>
            <a:off x="816120" y="4348080"/>
            <a:ext cx="76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因为机械效率是两个功的比值，因此没有单位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7010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2BD0-A054-44E1-80E1-524F870E4B0D}" type="slidenum">
              <a:rPr b="0" lang="en-US" sz="1800" spc="-1" strike="noStrike">
                <a:solidFill>
                  <a:srgbClr val="8e163e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8" name="AutoShape 2"/>
          <p:cNvSpPr/>
          <p:nvPr/>
        </p:nvSpPr>
        <p:spPr>
          <a:xfrm>
            <a:off x="590400" y="1825560"/>
            <a:ext cx="7940880" cy="445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907920" y="2836800"/>
            <a:ext cx="780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！因为有用功总小于总功，所以机械效率总小于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1814040" y="2128680"/>
            <a:ext cx="438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有没有机械效率为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100%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的机械？为什么？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1767240" y="3688200"/>
            <a:ext cx="278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怎样才能提高机械的效率？ </a:t>
            </a:r>
            <a:endParaRPr b="0" lang="en-US" sz="2400" spc="-1" strike="noStrike">
              <a:solidFill>
                <a:srgbClr val="8e163e"/>
              </a:solidFill>
              <a:latin typeface="Arial"/>
            </a:endParaRPr>
          </a:p>
        </p:txBody>
      </p:sp>
      <p:grpSp>
        <p:nvGrpSpPr>
          <p:cNvPr id="182" name="Group 24"/>
          <p:cNvGrpSpPr/>
          <p:nvPr/>
        </p:nvGrpSpPr>
        <p:grpSpPr>
          <a:xfrm>
            <a:off x="1343520" y="4351680"/>
            <a:ext cx="4029840" cy="1159920"/>
            <a:chOff x="1343520" y="4351680"/>
            <a:chExt cx="4029840" cy="1159920"/>
          </a:xfrm>
        </p:grpSpPr>
        <p:sp>
          <p:nvSpPr>
            <p:cNvPr id="183" name="Rectangle 25"/>
            <p:cNvSpPr/>
            <p:nvPr/>
          </p:nvSpPr>
          <p:spPr>
            <a:xfrm>
              <a:off x="1343520" y="4640760"/>
              <a:ext cx="15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减少额外功 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84" name="Rectangle 26"/>
            <p:cNvSpPr/>
            <p:nvPr/>
          </p:nvSpPr>
          <p:spPr>
            <a:xfrm>
              <a:off x="4869720" y="435168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改进结构，使其合理、轻巧 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85" name="Rectangle 27"/>
            <p:cNvSpPr/>
            <p:nvPr/>
          </p:nvSpPr>
          <p:spPr>
            <a:xfrm>
              <a:off x="4410000" y="5051880"/>
              <a:ext cx="5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经常保养、定时润滑 </a:t>
              </a:r>
              <a:endParaRPr b="0" lang="en-US" sz="2400" spc="-1" strike="noStrike">
                <a:solidFill>
                  <a:srgbClr val="8e163e"/>
                </a:solidFill>
                <a:latin typeface="Arial"/>
              </a:endParaRPr>
            </a:p>
          </p:txBody>
        </p:sp>
        <p:sp>
          <p:nvSpPr>
            <p:cNvPr id="186" name="AutoShape 28"/>
            <p:cNvSpPr/>
            <p:nvPr/>
          </p:nvSpPr>
          <p:spPr>
            <a:xfrm>
              <a:off x="3041640" y="4519440"/>
              <a:ext cx="144000" cy="865080"/>
            </a:xfrm>
            <a:custGeom>
              <a:avLst/>
              <a:gdLst>
                <a:gd name="textAreaLeft" fmla="*/ 92160 w 144000"/>
                <a:gd name="textAreaRight" fmla="*/ 144360 w 144000"/>
                <a:gd name="textAreaTop" fmla="*/ 22320 h 865080"/>
                <a:gd name="textAreaBottom" fmla="*/ 842760 h 865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e163e"/>
                </a:solidFill>
                <a:latin typeface="Arial"/>
              </a:endParaRPr>
            </a:p>
          </p:txBody>
        </p:sp>
      </p:grpSp>
      <p:pic>
        <p:nvPicPr>
          <p:cNvPr id="187" name="Picture 39" descr="11"/>
          <p:cNvPicPr/>
          <p:nvPr/>
        </p:nvPicPr>
        <p:blipFill>
          <a:blip r:embed="rId1"/>
          <a:stretch/>
        </p:blipFill>
        <p:spPr>
          <a:xfrm>
            <a:off x="609480" y="1243080"/>
            <a:ext cx="2286000" cy="5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8T04:5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3:40Z</dcterms:modified>
  <cp:revision>68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