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642-E4D0-449A-9C9F-E5E1AFFC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FEDD-4132-4D3B-A4D7-F8F64EC2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03D-D961-4A47-B382-3D746226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6A6-4267-4141-90EE-295364CB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DC27-2A89-4B72-96EB-33565A34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05C0-65B5-4994-A407-913431EF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B53E-0166-4268-9211-0F226D9E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FD75-3AC9-401A-B763-5C889C7F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F8A1-1719-4EBB-8B30-6D89D26D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6DC7-8182-407D-B979-FDA6675F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3DCC-C16E-4905-B59B-670B9EA2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13B0-D01E-4D05-8DB4-C6CE7ED2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304D-9112-4FCA-B029-DAF0FD75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2E76-0817-4C0A-B36E-5E7511B4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73E1-8756-4CDB-8D66-AA53040E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C6B6-1999-43D5-AE1C-DD21BE18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0859-0E38-49A0-9020-8EEC3CF7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6FFFD-90D0-4CE3-9ABF-B7B49FE0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B184D-2708-4C02-8EAD-CC90128D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E41A0-D320-4336-BD3C-5A350190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BE2F6-61F6-441B-9315-B5D9960C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2C5EA-7265-4D67-8BBB-C7A74355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71E-3F6E-4F09-9FB4-F3B2364F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5F1E8-AAE6-470A-8BAC-F44B3427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4A355-59AD-43A1-BB8F-F47CFC3D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32142-DDFA-4ACA-BCBC-0DB503F6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61A44-D146-4CBE-A3C9-D9DDAB72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A1C93-8C89-472A-9BF3-A8E9099E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A396E-5F6A-47AF-8DEB-566E41C8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5C560-00D1-497D-86BF-F5C2F1E1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3E2793-F174-47A7-9AE4-AAE97AEC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961E6F-7F52-4549-B9DC-E639F7D1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67E8D7-0786-4EBF-9BE4-7F41AF86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71D-3A01-431A-BC3A-6442F202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151041-E801-4E7D-995E-C497B9A2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27C722-A928-48BD-B78D-0AD9709A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CEC3B1-D60A-4532-AD64-A517CBAD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4A2AD1-B544-4C51-BE4C-4D1F1D27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15CAD5-5A91-45CC-BCF8-E88EF932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177559-F256-4C7A-83B2-0405ED5E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9203D3-1EAE-4F65-9E31-130670A4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0D5A6-0D69-49C4-ABA6-7A15B6CE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3AD32B-D451-4063-AC20-F481E0A2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ED6A4-21A5-4464-B199-80711649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599-1EE0-45D1-907B-97B26872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C07E2-3161-4138-A08F-40B950A3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08451-8469-46CE-AFC4-0F9AE196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07B68-ADC4-46C4-A967-0303E920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DD56E-CBDC-429A-B90D-CC16D225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7D2A3-A2C4-44C1-871B-C78537E6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33871-CC7D-4CB6-BB09-FAEE0841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A3515-043C-41C0-9BC6-37E32576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5CBC3-11C5-4631-AE4D-6E9B4A4E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2FCE5-4AA1-4029-B5CF-9180F2BA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26100-5BAD-4A0A-8D5E-293F3A07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624-D46B-4F7B-85E3-26B638A7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D7180-AA6C-4410-AECD-79FD0015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1A42-88E7-42EF-B303-0F9A3465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DE6-A132-49E0-B3A9-006E8208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12D-DD54-450C-8469-FE1A5A01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andara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EB7F-2519-499D-B5C5-7A41CDEDACC1}" type="slidenum">
              <a:rPr b="0" lang="en-US" sz="1200" spc="-1" strike="noStrike">
                <a:solidFill>
                  <a:srgbClr val="fefefe"/>
                </a:solidFill>
                <a:latin typeface="Arial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DF58-1B7B-45D3-ABBC-88FA655D24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25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26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27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31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35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andara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Arial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126E-7183-4744-A8C9-9628EDE9E964}" type="slidenum">
              <a:rPr b="0" lang="en-US" sz="1200" spc="-1" strike="noStrike">
                <a:solidFill>
                  <a:srgbClr val="94c600"/>
                </a:solidFill>
                <a:latin typeface="Arial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09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11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15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19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andara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F71F-FE67-4175-8AF3-C81C132B1DC1}" type="slidenum">
              <a:rPr b="0" lang="en-US" sz="1200" spc="-1" strike="noStrike">
                <a:solidFill>
                  <a:srgbClr val="fefefe"/>
                </a:solidFill>
                <a:latin typeface="Arial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93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94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95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99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03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andara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FDA4-2D8B-4E71-977E-99E23933E160}" type="slidenum">
              <a:rPr b="0" lang="en-US" sz="1200" spc="-1" strike="noStrike">
                <a:solidFill>
                  <a:srgbClr val="fefefe"/>
                </a:solidFill>
                <a:latin typeface="Arial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标题 1"/>
          <p:cNvSpPr/>
          <p:nvPr/>
        </p:nvSpPr>
        <p:spPr>
          <a:xfrm>
            <a:off x="1208160" y="2209680"/>
            <a:ext cx="69339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6300"/>
                </a:solidFill>
                <a:latin typeface="宋体"/>
                <a:ea typeface="宋体"/>
              </a:rPr>
              <a:t>茎越长越高课件</a:t>
            </a:r>
            <a:r>
              <a:rPr b="1" lang="en-US" sz="4000" spc="-1" strike="noStrike">
                <a:solidFill>
                  <a:srgbClr val="4a63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4a63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D:\桌面\葡萄茎.jpg"/>
          <p:cNvPicPr/>
          <p:nvPr/>
        </p:nvPicPr>
        <p:blipFill>
          <a:blip r:embed="rId1"/>
          <a:stretch/>
        </p:blipFill>
        <p:spPr>
          <a:xfrm>
            <a:off x="533520" y="533520"/>
            <a:ext cx="8107200" cy="54007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94c600"/>
              </a:solidFill>
              <a:latin typeface="Candara"/>
              <a:ea typeface="华文新魏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pic>
        <p:nvPicPr>
          <p:cNvPr id="420" name="Picture 2" descr="D:\桌面\葡萄.jpg"/>
          <p:cNvPicPr/>
          <p:nvPr/>
        </p:nvPicPr>
        <p:blipFill>
          <a:blip r:embed="rId2"/>
          <a:stretch/>
        </p:blipFill>
        <p:spPr>
          <a:xfrm>
            <a:off x="1143000" y="542880"/>
            <a:ext cx="7199280" cy="5400720"/>
          </a:xfrm>
          <a:prstGeom prst="rect">
            <a:avLst/>
          </a:prstGeom>
          <a:ln w="0">
            <a:noFill/>
          </a:ln>
        </p:spPr>
      </p:pic>
      <p:sp>
        <p:nvSpPr>
          <p:cNvPr id="421" name="TextBox 3"/>
          <p:cNvSpPr/>
          <p:nvPr/>
        </p:nvSpPr>
        <p:spPr>
          <a:xfrm>
            <a:off x="3581280" y="5859360"/>
            <a:ext cx="40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a6300"/>
                </a:solidFill>
                <a:latin typeface="Arial"/>
                <a:ea typeface="华文楷体"/>
              </a:rPr>
              <a:t>攀缘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6986-964B-45D6-839B-97E5B9DAA5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94c600"/>
              </a:solidFill>
              <a:latin typeface="Candara"/>
              <a:ea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pic>
        <p:nvPicPr>
          <p:cNvPr id="428" name="Picture 2" descr="D:\桌面\牵牛花.jpg"/>
          <p:cNvPicPr/>
          <p:nvPr/>
        </p:nvPicPr>
        <p:blipFill>
          <a:blip r:embed="rId1"/>
          <a:stretch/>
        </p:blipFill>
        <p:spPr>
          <a:xfrm>
            <a:off x="541440" y="609480"/>
            <a:ext cx="8039160" cy="5400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D:\桌面\牵牛花缠绕茎.jpg"/>
          <p:cNvPicPr/>
          <p:nvPr/>
        </p:nvPicPr>
        <p:blipFill>
          <a:blip r:embed="rId2"/>
          <a:stretch/>
        </p:blipFill>
        <p:spPr>
          <a:xfrm>
            <a:off x="917640" y="619200"/>
            <a:ext cx="7284960" cy="5400720"/>
          </a:xfrm>
          <a:prstGeom prst="rect">
            <a:avLst/>
          </a:prstGeom>
          <a:ln w="0">
            <a:noFill/>
          </a:ln>
        </p:spPr>
      </p:pic>
      <p:sp>
        <p:nvSpPr>
          <p:cNvPr id="430" name="TextBox 3"/>
          <p:cNvSpPr/>
          <p:nvPr/>
        </p:nvSpPr>
        <p:spPr>
          <a:xfrm>
            <a:off x="6172200" y="182880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a6300"/>
                </a:solidFill>
                <a:latin typeface="Arial"/>
                <a:ea typeface="华文楷体"/>
              </a:rPr>
              <a:t>缠绕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6300"/>
                </a:solidFill>
                <a:latin typeface="Candara"/>
                <a:ea typeface="华文新魏"/>
              </a:rPr>
              <a:t>回顾：</a:t>
            </a: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42560" y="2324160"/>
            <a:ext cx="67770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3d2d"/>
                </a:solidFill>
                <a:latin typeface="Candara"/>
                <a:ea typeface="华文楷体"/>
              </a:rPr>
              <a:t>根的作用：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80" name="内容占位符 2"/>
          <p:cNvSpPr/>
          <p:nvPr/>
        </p:nvSpPr>
        <p:spPr>
          <a:xfrm>
            <a:off x="1071720" y="4000680"/>
            <a:ext cx="6777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3d2d"/>
                </a:solidFill>
                <a:latin typeface="Candara"/>
                <a:ea typeface="华文楷体"/>
              </a:rPr>
              <a:t>叶的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1295280" y="29322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 吸收土壤中的水、矿物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 固定植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1295280" y="46483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光合作用制造氧气和养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94c600"/>
              </a:solidFill>
              <a:latin typeface="Candara"/>
              <a:ea typeface="华文新魏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pic>
        <p:nvPicPr>
          <p:cNvPr id="385" name="Picture 2" descr="D:\桌面\u=3556793900,2617165325&amp;fm=21&amp;gp=0.jpg"/>
          <p:cNvPicPr/>
          <p:nvPr/>
        </p:nvPicPr>
        <p:blipFill>
          <a:blip r:embed="rId1"/>
          <a:stretch/>
        </p:blipFill>
        <p:spPr>
          <a:xfrm>
            <a:off x="2209680" y="1676520"/>
            <a:ext cx="4140360" cy="4070160"/>
          </a:xfrm>
          <a:prstGeom prst="rect">
            <a:avLst/>
          </a:prstGeom>
          <a:ln w="0">
            <a:noFill/>
          </a:ln>
        </p:spPr>
      </p:pic>
      <p:sp>
        <p:nvSpPr>
          <p:cNvPr id="386" name="文本框 8199"/>
          <p:cNvSpPr/>
          <p:nvPr/>
        </p:nvSpPr>
        <p:spPr>
          <a:xfrm>
            <a:off x="1560600" y="1027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682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94c600"/>
              </a:solidFill>
              <a:latin typeface="Candara"/>
              <a:ea typeface="华文新魏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pic>
        <p:nvPicPr>
          <p:cNvPr id="389" name="Picture 2" descr="D:\桌面\9345d688d43f87948229da3fd11b0ef41ad53ac8.jpg"/>
          <p:cNvPicPr/>
          <p:nvPr/>
        </p:nvPicPr>
        <p:blipFill>
          <a:blip r:embed="rId1"/>
          <a:stretch/>
        </p:blipFill>
        <p:spPr>
          <a:xfrm>
            <a:off x="1295280" y="1049400"/>
            <a:ext cx="6705720" cy="4356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D:\桌面\7acb0a46f21fbe09f089510568600c338644adc8.jpg"/>
          <p:cNvPicPr/>
          <p:nvPr/>
        </p:nvPicPr>
        <p:blipFill>
          <a:blip r:embed="rId2"/>
          <a:stretch/>
        </p:blipFill>
        <p:spPr>
          <a:xfrm>
            <a:off x="1295280" y="1123920"/>
            <a:ext cx="3397320" cy="4189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D:\桌面\t01bfc316fe2efc25a5.jpg"/>
          <p:cNvPicPr/>
          <p:nvPr/>
        </p:nvPicPr>
        <p:blipFill>
          <a:blip r:embed="rId3"/>
          <a:stretch/>
        </p:blipFill>
        <p:spPr>
          <a:xfrm>
            <a:off x="4645080" y="1141560"/>
            <a:ext cx="33559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125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6300"/>
                </a:solidFill>
                <a:latin typeface="Candara"/>
                <a:ea typeface="华文新魏"/>
              </a:rPr>
              <a:t>茎的作用：</a:t>
            </a: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09120" y="2324160"/>
            <a:ext cx="7643880" cy="7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3d2d"/>
                </a:solidFill>
                <a:latin typeface="Candara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3e3d2d"/>
                </a:solidFill>
                <a:latin typeface="Candara"/>
                <a:ea typeface="华文楷体"/>
              </a:rPr>
              <a:t>、向上运输水和矿物质，向下运输养料。 </a:t>
            </a:r>
            <a:endParaRPr b="0" lang="en-US" sz="3200" spc="-1" strike="noStrike">
              <a:solidFill>
                <a:srgbClr val="3e3d2d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94c600"/>
              </a:solidFill>
              <a:latin typeface="Candara"/>
              <a:ea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pic>
        <p:nvPicPr>
          <p:cNvPr id="396" name="Picture 2" descr="D:\桌面\2376-11041Z2012446.jpg"/>
          <p:cNvPicPr/>
          <p:nvPr/>
        </p:nvPicPr>
        <p:blipFill>
          <a:blip r:embed="rId1"/>
          <a:stretch/>
        </p:blipFill>
        <p:spPr>
          <a:xfrm>
            <a:off x="1905120" y="60948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397" name="TextBox 3"/>
          <p:cNvSpPr/>
          <p:nvPr/>
        </p:nvSpPr>
        <p:spPr>
          <a:xfrm>
            <a:off x="1023840" y="56167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为什么大树能够直立在地上、而不会倒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标题 1"/>
          <p:cNvSpPr/>
          <p:nvPr/>
        </p:nvSpPr>
        <p:spPr>
          <a:xfrm>
            <a:off x="1042920" y="1027080"/>
            <a:ext cx="70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6300"/>
                </a:solidFill>
                <a:latin typeface="Candara"/>
                <a:ea typeface="华文新魏"/>
              </a:rPr>
              <a:t>茎的作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内容占位符 2"/>
          <p:cNvSpPr/>
          <p:nvPr/>
        </p:nvSpPr>
        <p:spPr>
          <a:xfrm>
            <a:off x="609480" y="2324160"/>
            <a:ext cx="76438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3d2d"/>
                </a:solidFill>
                <a:latin typeface="Candara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3e3d2d"/>
                </a:solidFill>
                <a:latin typeface="Candara"/>
                <a:ea typeface="华文楷体"/>
              </a:rPr>
              <a:t>、向上运输水和矿物质，向下运输养料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内容占位符 2"/>
          <p:cNvSpPr/>
          <p:nvPr/>
        </p:nvSpPr>
        <p:spPr>
          <a:xfrm>
            <a:off x="585720" y="3009960"/>
            <a:ext cx="76438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3d2d"/>
                </a:solidFill>
                <a:latin typeface="Candara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3e3d2d"/>
                </a:solidFill>
                <a:latin typeface="Candara"/>
                <a:ea typeface="华文楷体"/>
              </a:rPr>
              <a:t>、支撑植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1209600" y="42670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所有的茎都像大树这样直立着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94c600"/>
              </a:solidFill>
              <a:latin typeface="Candara"/>
              <a:ea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pic>
        <p:nvPicPr>
          <p:cNvPr id="404" name="Picture 2" descr="D:\桌面\凤仙花.jpg"/>
          <p:cNvPicPr/>
          <p:nvPr/>
        </p:nvPicPr>
        <p:blipFill>
          <a:blip r:embed="rId1"/>
          <a:stretch/>
        </p:blipFill>
        <p:spPr>
          <a:xfrm>
            <a:off x="1828800" y="228600"/>
            <a:ext cx="4638600" cy="6191280"/>
          </a:xfrm>
          <a:prstGeom prst="rect">
            <a:avLst/>
          </a:prstGeom>
          <a:ln w="0">
            <a:noFill/>
          </a:ln>
        </p:spPr>
      </p:pic>
      <p:sp>
        <p:nvSpPr>
          <p:cNvPr id="405" name="TextBox 3"/>
          <p:cNvSpPr/>
          <p:nvPr/>
        </p:nvSpPr>
        <p:spPr>
          <a:xfrm>
            <a:off x="4952880" y="228600"/>
            <a:ext cx="15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凤仙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6934320" y="205740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a6300"/>
                </a:solidFill>
                <a:latin typeface="Arial"/>
                <a:ea typeface="华文楷体"/>
              </a:rPr>
              <a:t>直立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8199"/>
          <p:cNvSpPr/>
          <p:nvPr/>
        </p:nvSpPr>
        <p:spPr>
          <a:xfrm>
            <a:off x="1879560" y="547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682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94c600"/>
              </a:solidFill>
              <a:latin typeface="Candara"/>
              <a:ea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pic>
        <p:nvPicPr>
          <p:cNvPr id="410" name="Picture 2" descr="D:\桌面\红薯.jpg"/>
          <p:cNvPicPr/>
          <p:nvPr/>
        </p:nvPicPr>
        <p:blipFill>
          <a:blip r:embed="rId1"/>
          <a:stretch/>
        </p:blipFill>
        <p:spPr>
          <a:xfrm>
            <a:off x="304920" y="609480"/>
            <a:ext cx="6750000" cy="5400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D:\桌面\红薯茎.jpg"/>
          <p:cNvPicPr/>
          <p:nvPr/>
        </p:nvPicPr>
        <p:blipFill>
          <a:blip r:embed="rId2"/>
          <a:stretch/>
        </p:blipFill>
        <p:spPr>
          <a:xfrm>
            <a:off x="2666880" y="457200"/>
            <a:ext cx="6162840" cy="4419720"/>
          </a:xfrm>
          <a:prstGeom prst="rect">
            <a:avLst/>
          </a:prstGeom>
          <a:ln w="0">
            <a:noFill/>
          </a:ln>
        </p:spPr>
      </p:pic>
      <p:sp>
        <p:nvSpPr>
          <p:cNvPr id="412" name="TextBox 3"/>
          <p:cNvSpPr/>
          <p:nvPr/>
        </p:nvSpPr>
        <p:spPr>
          <a:xfrm>
            <a:off x="3679920" y="5181480"/>
            <a:ext cx="31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红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6553080" y="585936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a6300"/>
                </a:solidFill>
                <a:latin typeface="Arial"/>
                <a:ea typeface="华文楷体"/>
              </a:rPr>
              <a:t>匍匐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组合 6"/>
          <p:cNvGrpSpPr/>
          <p:nvPr/>
        </p:nvGrpSpPr>
        <p:grpSpPr>
          <a:xfrm>
            <a:off x="469800" y="1246320"/>
            <a:ext cx="8217000" cy="4620960"/>
            <a:chOff x="469800" y="1246320"/>
            <a:chExt cx="8217000" cy="4620960"/>
          </a:xfrm>
        </p:grpSpPr>
        <p:pic>
          <p:nvPicPr>
            <p:cNvPr id="415" name="Picture 4" descr="D:\桌面\南瓜.jpg"/>
            <p:cNvPicPr/>
            <p:nvPr/>
          </p:nvPicPr>
          <p:blipFill>
            <a:blip r:embed="rId3"/>
            <a:stretch/>
          </p:blipFill>
          <p:spPr>
            <a:xfrm>
              <a:off x="469800" y="1246320"/>
              <a:ext cx="8217000" cy="46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TextBox 5"/>
            <p:cNvSpPr/>
            <p:nvPr/>
          </p:nvSpPr>
          <p:spPr>
            <a:xfrm>
              <a:off x="6553080" y="2057760"/>
              <a:ext cx="1719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楷体"/>
                </a:rPr>
                <a:t>南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00:21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35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