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D01-A80A-4AF3-8901-92B85E1B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BFF-0494-4D1D-9250-99A65537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BE9-C390-4624-83F8-5271BB8D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441-5A6E-4238-B8C8-BCAE5ED8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9D07-5CD1-4BBF-8B81-6DE0227B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FF26-0E99-43EB-B073-0A286539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847-7BB1-4534-AC60-EF8D9199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B58E-30F1-482E-96B0-3A77A32E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364D-D717-46E6-B895-6E800E59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FF2-31F5-44A3-9830-7FD0AB93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319B-2E03-447D-A77D-69349599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79D-BE0F-4443-B017-6463A7D7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D0D7-778E-4DDE-A2BC-1900B23C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B913-761B-4FE4-96A1-4938FF2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EF25-FC11-4978-95CD-697D00E1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83AF-FB00-4414-9F38-4D0A8DEE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8FED-D7BA-46A8-BE46-B2E120BD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3F32-4E90-41AA-97D5-BB528EDB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DEAE-99B2-4829-A2CC-2823E60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05F7-E9F8-44EC-87BF-8366BAA7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6197-BEB9-4231-BB9E-EF2C512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BCE6-6A72-4700-A24B-FD45CCCE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F30-221E-48F0-889B-90AC277F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170F-7B1D-4D4D-9E6E-D27E258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FDB2-0C3D-4902-BC43-899F979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3263-CD37-445A-AC76-81CF9D1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B33C-19C5-43E5-A3B8-82A648DA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D13E-9586-4A97-83B7-B5E6817E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6146-9733-4B11-9722-E198EC18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D8D4-A6A2-482F-A499-1722B5B9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688-F08F-4242-B7FA-3545B04A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30A-BCD9-482B-95AB-60F34DF2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B8E-76E7-4259-8431-3754C922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7E4-196F-4A96-B8AF-CE97BCE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52B-8863-49F7-8E96-51343BAD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3BD-1E25-450A-87A4-4DFD8C2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00E3-42F2-47AA-A3DD-CCF0CBF08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49F6-E4E8-4974-A85D-94DF7397BA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3073-7E1C-4102-BFD4-EFD4BF0208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15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tbxt.educast.cn/GZ03-04-2/07/XK26_NJ11/ZY20040309132109546/TPJJ/SC20040309140253968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16000" y="1557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基因的显性和隐性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502000" y="2755800"/>
            <a:ext cx="4356000" cy="32083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277440" y="7650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章   生物的遗传和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174600" y="63594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pic_69990"/>
          <p:cNvPicPr/>
          <p:nvPr/>
        </p:nvPicPr>
        <p:blipFill>
          <a:blip r:embed="rId1"/>
          <a:stretch/>
        </p:blipFill>
        <p:spPr>
          <a:xfrm>
            <a:off x="179280" y="620640"/>
            <a:ext cx="8818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pic_69989"/>
          <p:cNvPicPr/>
          <p:nvPr/>
        </p:nvPicPr>
        <p:blipFill>
          <a:blip r:embed="rId1"/>
          <a:stretch/>
        </p:blipFill>
        <p:spPr>
          <a:xfrm>
            <a:off x="179280" y="620640"/>
            <a:ext cx="8828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图片1"/>
          <p:cNvPicPr/>
          <p:nvPr/>
        </p:nvPicPr>
        <p:blipFill>
          <a:blip r:embed="rId1"/>
          <a:srcRect l="0" t="0" r="65555" b="6273"/>
          <a:stretch/>
        </p:blipFill>
        <p:spPr>
          <a:xfrm>
            <a:off x="1763640" y="836640"/>
            <a:ext cx="863640" cy="1898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图片1"/>
          <p:cNvPicPr/>
          <p:nvPr/>
        </p:nvPicPr>
        <p:blipFill>
          <a:blip r:embed="rId2"/>
          <a:srcRect l="65145" t="0" r="0" b="7103"/>
          <a:stretch/>
        </p:blipFill>
        <p:spPr>
          <a:xfrm>
            <a:off x="3851280" y="1700280"/>
            <a:ext cx="720720" cy="1008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2987640" y="1773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24000" y="191628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亲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48000" y="2492280"/>
            <a:ext cx="360" cy="609840"/>
            <a:chOff x="3348000" y="2492280"/>
            <a:chExt cx="360" cy="609840"/>
          </a:xfrm>
        </p:grpSpPr>
        <p:sp>
          <p:nvSpPr>
            <p:cNvPr id="286" name="Line 6"/>
            <p:cNvSpPr/>
            <p:nvPr/>
          </p:nvSpPr>
          <p:spPr>
            <a:xfrm>
              <a:off x="3348000" y="24922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348000" y="24922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7"/>
          <p:cNvSpPr/>
          <p:nvPr/>
        </p:nvSpPr>
        <p:spPr>
          <a:xfrm>
            <a:off x="3059280" y="3284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87280" y="386064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一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348000" y="4797360"/>
            <a:ext cx="360" cy="381240"/>
            <a:chOff x="3348000" y="4797360"/>
            <a:chExt cx="360" cy="381240"/>
          </a:xfrm>
        </p:grpSpPr>
        <p:sp>
          <p:nvSpPr>
            <p:cNvPr id="291" name="Line 9"/>
            <p:cNvSpPr/>
            <p:nvPr/>
          </p:nvSpPr>
          <p:spPr>
            <a:xfrm>
              <a:off x="3348000" y="47973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3348000" y="47973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0"/>
          <p:cNvSpPr/>
          <p:nvPr/>
        </p:nvSpPr>
        <p:spPr>
          <a:xfrm>
            <a:off x="287280" y="566100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二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图片1"/>
          <p:cNvPicPr/>
          <p:nvPr/>
        </p:nvPicPr>
        <p:blipFill>
          <a:blip r:embed="rId3"/>
          <a:srcRect l="0" t="0" r="65555" b="6273"/>
          <a:stretch/>
        </p:blipFill>
        <p:spPr>
          <a:xfrm>
            <a:off x="3348000" y="5157720"/>
            <a:ext cx="719280" cy="1484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" descr="图片1"/>
          <p:cNvPicPr/>
          <p:nvPr/>
        </p:nvPicPr>
        <p:blipFill>
          <a:blip r:embed="rId4"/>
          <a:srcRect l="0" t="0" r="65555" b="6273"/>
          <a:stretch/>
        </p:blipFill>
        <p:spPr>
          <a:xfrm>
            <a:off x="2556000" y="5157720"/>
            <a:ext cx="718920" cy="1484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3" descr="图片1"/>
          <p:cNvPicPr/>
          <p:nvPr/>
        </p:nvPicPr>
        <p:blipFill>
          <a:blip r:embed="rId5"/>
          <a:srcRect l="0" t="0" r="65555" b="6273"/>
          <a:stretch/>
        </p:blipFill>
        <p:spPr>
          <a:xfrm>
            <a:off x="1619280" y="5157720"/>
            <a:ext cx="719280" cy="1484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图片1"/>
          <p:cNvPicPr/>
          <p:nvPr/>
        </p:nvPicPr>
        <p:blipFill>
          <a:blip r:embed="rId6"/>
          <a:srcRect l="65145" t="0" r="0" b="7075"/>
          <a:stretch/>
        </p:blipFill>
        <p:spPr>
          <a:xfrm>
            <a:off x="4211640" y="5516640"/>
            <a:ext cx="719280" cy="1054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5"/>
          <p:cNvSpPr/>
          <p:nvPr/>
        </p:nvSpPr>
        <p:spPr>
          <a:xfrm>
            <a:off x="3708360" y="4653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5435640" y="4292640"/>
            <a:ext cx="3530520" cy="703440"/>
          </a:xfrm>
          <a:prstGeom prst="rect">
            <a:avLst/>
          </a:prstGeom>
          <a:solidFill>
            <a:srgbClr val="ff7c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为显性性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矮为隐性性状。杂交后代只表现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5435640" y="2060640"/>
            <a:ext cx="3529080" cy="1312920"/>
          </a:xfrm>
          <a:prstGeom prst="rect">
            <a:avLst/>
          </a:prstGeom>
          <a:solidFill>
            <a:srgbClr val="ff7c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对性状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显性性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隐性性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8" descr="图片1"/>
          <p:cNvPicPr/>
          <p:nvPr/>
        </p:nvPicPr>
        <p:blipFill>
          <a:blip r:embed="rId7"/>
          <a:srcRect l="0" t="0" r="65555" b="6273"/>
          <a:stretch/>
        </p:blipFill>
        <p:spPr>
          <a:xfrm>
            <a:off x="2916360" y="3141720"/>
            <a:ext cx="8524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9"/>
          <p:cNvSpPr/>
          <p:nvPr/>
        </p:nvSpPr>
        <p:spPr>
          <a:xfrm>
            <a:off x="0" y="0"/>
            <a:ext cx="6335640" cy="5814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孟 德 尔 的 豌 豆 杂 交 实 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111280" y="98100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孟德尔的推论（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179280" y="2276640"/>
            <a:ext cx="1225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250920" y="429264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F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179280" y="6093000"/>
            <a:ext cx="14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F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图片1"/>
          <p:cNvPicPr/>
          <p:nvPr/>
        </p:nvPicPr>
        <p:blipFill>
          <a:blip r:embed="rId1"/>
          <a:srcRect l="65145" t="0" r="0" b="7091"/>
          <a:stretch/>
        </p:blipFill>
        <p:spPr>
          <a:xfrm>
            <a:off x="4140360" y="1197000"/>
            <a:ext cx="7207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图片1"/>
          <p:cNvPicPr/>
          <p:nvPr/>
        </p:nvPicPr>
        <p:blipFill>
          <a:blip r:embed="rId2"/>
          <a:srcRect l="0" t="0" r="65555" b="6273"/>
          <a:stretch/>
        </p:blipFill>
        <p:spPr>
          <a:xfrm>
            <a:off x="2124000" y="549360"/>
            <a:ext cx="790560" cy="1842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79280" y="263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亲代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276720" y="1484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0" y="378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生殖细胞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5013360"/>
            <a:ext cx="151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受精卵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能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61657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子一代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50920" y="2565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140360" y="2565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340000" y="3213000"/>
            <a:ext cx="360" cy="503280"/>
            <a:chOff x="2340000" y="3213000"/>
            <a:chExt cx="360" cy="503280"/>
          </a:xfrm>
        </p:grpSpPr>
        <p:sp>
          <p:nvSpPr>
            <p:cNvPr id="317" name="Line 11"/>
            <p:cNvSpPr/>
            <p:nvPr/>
          </p:nvSpPr>
          <p:spPr>
            <a:xfrm>
              <a:off x="2340000" y="321300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2340000" y="3213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500720" y="3213000"/>
            <a:ext cx="360" cy="503280"/>
            <a:chOff x="4500720" y="3213000"/>
            <a:chExt cx="360" cy="503280"/>
          </a:xfrm>
        </p:grpSpPr>
        <p:sp>
          <p:nvSpPr>
            <p:cNvPr id="320" name="Line 12"/>
            <p:cNvSpPr/>
            <p:nvPr/>
          </p:nvSpPr>
          <p:spPr>
            <a:xfrm>
              <a:off x="4500720" y="321300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4500720" y="3213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3"/>
          <p:cNvSpPr/>
          <p:nvPr/>
        </p:nvSpPr>
        <p:spPr>
          <a:xfrm>
            <a:off x="2124000" y="37162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284720" y="3716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40000" y="4365720"/>
            <a:ext cx="861840" cy="863640"/>
            <a:chOff x="2340000" y="4365720"/>
            <a:chExt cx="861840" cy="863640"/>
          </a:xfrm>
        </p:grpSpPr>
        <p:sp>
          <p:nvSpPr>
            <p:cNvPr id="325" name="Line 15"/>
            <p:cNvSpPr/>
            <p:nvPr/>
          </p:nvSpPr>
          <p:spPr>
            <a:xfrm>
              <a:off x="2340000" y="4365720"/>
              <a:ext cx="861840" cy="863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2340000" y="4365720"/>
              <a:ext cx="8618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419280" y="4365720"/>
            <a:ext cx="936720" cy="865080"/>
            <a:chOff x="3419280" y="4365720"/>
            <a:chExt cx="936720" cy="865080"/>
          </a:xfrm>
        </p:grpSpPr>
        <p:sp>
          <p:nvSpPr>
            <p:cNvPr id="328" name="Line 16"/>
            <p:cNvSpPr/>
            <p:nvPr/>
          </p:nvSpPr>
          <p:spPr>
            <a:xfrm flipH="1">
              <a:off x="3419280" y="4365720"/>
              <a:ext cx="936360" cy="865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419640" y="4365720"/>
              <a:ext cx="93636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7"/>
          <p:cNvSpPr/>
          <p:nvPr/>
        </p:nvSpPr>
        <p:spPr>
          <a:xfrm>
            <a:off x="2916360" y="530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843280" y="609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高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179280" y="155736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亲代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5292720" y="1628640"/>
            <a:ext cx="3672000" cy="1800360"/>
          </a:xfrm>
          <a:prstGeom prst="rect">
            <a:avLst/>
          </a:prstGeom>
          <a:solidFill>
            <a:srgbClr val="ff33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显性性状的基因为显性基因，用大写字母（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表示，控制隐性性状的基因为隐性基因，用小写字母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003640" y="4581360"/>
            <a:ext cx="4140360" cy="947160"/>
          </a:xfrm>
          <a:prstGeom prst="rect">
            <a:avLst/>
          </a:prstGeom>
          <a:solidFill>
            <a:srgbClr val="ff33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相对性状的遗传中，表现为隐性性状的基因组成只有一种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显性性状的基因组成有两种（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0" y="0"/>
            <a:ext cx="6048360" cy="52056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 用 遗 传 图 解     解 释 实 验 现 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67280" y="764640"/>
            <a:ext cx="417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孟德尔的推论（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250920" y="13413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子一代的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50920" y="22050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子一代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79280" y="270828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79280" y="342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生殖细胞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179280" y="4581360"/>
            <a:ext cx="22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受精卵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能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79280" y="5805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子二代的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2627280" y="134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780000" y="1413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4500720" y="134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277164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457200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843280" y="2637000"/>
            <a:ext cx="216000" cy="720720"/>
            <a:chOff x="2843280" y="2637000"/>
            <a:chExt cx="216000" cy="720720"/>
          </a:xfrm>
        </p:grpSpPr>
        <p:sp>
          <p:nvSpPr>
            <p:cNvPr id="349" name="Line 13"/>
            <p:cNvSpPr/>
            <p:nvPr/>
          </p:nvSpPr>
          <p:spPr>
            <a:xfrm flipH="1">
              <a:off x="2843280" y="2637000"/>
              <a:ext cx="216000" cy="72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2843280" y="2637000"/>
              <a:ext cx="21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572000" y="2637000"/>
            <a:ext cx="216000" cy="720720"/>
            <a:chOff x="4572000" y="2637000"/>
            <a:chExt cx="216000" cy="720720"/>
          </a:xfrm>
        </p:grpSpPr>
        <p:sp>
          <p:nvSpPr>
            <p:cNvPr id="352" name="Line 14"/>
            <p:cNvSpPr/>
            <p:nvPr/>
          </p:nvSpPr>
          <p:spPr>
            <a:xfrm flipH="1">
              <a:off x="4572000" y="2637000"/>
              <a:ext cx="216000" cy="72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4572000" y="2637000"/>
              <a:ext cx="21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203640" y="2708280"/>
            <a:ext cx="503280" cy="647640"/>
            <a:chOff x="3203640" y="2708280"/>
            <a:chExt cx="503280" cy="647640"/>
          </a:xfrm>
        </p:grpSpPr>
        <p:sp>
          <p:nvSpPr>
            <p:cNvPr id="355" name="Line 15"/>
            <p:cNvSpPr/>
            <p:nvPr/>
          </p:nvSpPr>
          <p:spPr>
            <a:xfrm>
              <a:off x="3203640" y="2708280"/>
              <a:ext cx="503280" cy="647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3203640" y="2708280"/>
              <a:ext cx="50328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932360" y="2637000"/>
            <a:ext cx="503280" cy="645840"/>
            <a:chOff x="4932360" y="2637000"/>
            <a:chExt cx="503280" cy="645840"/>
          </a:xfrm>
        </p:grpSpPr>
        <p:sp>
          <p:nvSpPr>
            <p:cNvPr id="358" name="Line 16"/>
            <p:cNvSpPr/>
            <p:nvPr/>
          </p:nvSpPr>
          <p:spPr>
            <a:xfrm>
              <a:off x="4932360" y="2637000"/>
              <a:ext cx="503280" cy="645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4932360" y="2637000"/>
              <a:ext cx="503280" cy="64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17"/>
          <p:cNvSpPr/>
          <p:nvPr/>
        </p:nvSpPr>
        <p:spPr>
          <a:xfrm>
            <a:off x="262728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56400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435600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5219640" y="3284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773440" y="3895560"/>
            <a:ext cx="360" cy="1081080"/>
            <a:chOff x="2773440" y="3895560"/>
            <a:chExt cx="360" cy="1081080"/>
          </a:xfrm>
        </p:grpSpPr>
        <p:sp>
          <p:nvSpPr>
            <p:cNvPr id="365" name="Line 21"/>
            <p:cNvSpPr/>
            <p:nvPr/>
          </p:nvSpPr>
          <p:spPr>
            <a:xfrm>
              <a:off x="2773440" y="3895560"/>
              <a:ext cx="0" cy="1081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2773440" y="3895560"/>
              <a:ext cx="36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42920" y="3789360"/>
            <a:ext cx="1584720" cy="1152360"/>
            <a:chOff x="2842920" y="3789360"/>
            <a:chExt cx="1584720" cy="1152360"/>
          </a:xfrm>
        </p:grpSpPr>
        <p:sp>
          <p:nvSpPr>
            <p:cNvPr id="368" name="Line 22"/>
            <p:cNvSpPr/>
            <p:nvPr/>
          </p:nvSpPr>
          <p:spPr>
            <a:xfrm flipH="1">
              <a:off x="2842920" y="3789360"/>
              <a:ext cx="1584360" cy="1152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2843280" y="3789360"/>
              <a:ext cx="1584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16360" y="3789360"/>
            <a:ext cx="718920" cy="1295280"/>
            <a:chOff x="2916360" y="3789360"/>
            <a:chExt cx="718920" cy="1295280"/>
          </a:xfrm>
        </p:grpSpPr>
        <p:sp>
          <p:nvSpPr>
            <p:cNvPr id="371" name="Line 23"/>
            <p:cNvSpPr/>
            <p:nvPr/>
          </p:nvSpPr>
          <p:spPr>
            <a:xfrm>
              <a:off x="2916360" y="3789360"/>
              <a:ext cx="718920" cy="1295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2916360" y="3789360"/>
              <a:ext cx="7189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708360" y="3751200"/>
            <a:ext cx="1657440" cy="1262160"/>
            <a:chOff x="3708360" y="3751200"/>
            <a:chExt cx="1657440" cy="1262160"/>
          </a:xfrm>
        </p:grpSpPr>
        <p:sp>
          <p:nvSpPr>
            <p:cNvPr id="374" name="Line 24"/>
            <p:cNvSpPr/>
            <p:nvPr/>
          </p:nvSpPr>
          <p:spPr>
            <a:xfrm flipH="1">
              <a:off x="3708360" y="3751200"/>
              <a:ext cx="1657440" cy="1262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3708360" y="3751200"/>
              <a:ext cx="1657440" cy="126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781440" y="3824280"/>
            <a:ext cx="574560" cy="1189080"/>
            <a:chOff x="3781440" y="3824280"/>
            <a:chExt cx="574560" cy="1189080"/>
          </a:xfrm>
        </p:grpSpPr>
        <p:sp>
          <p:nvSpPr>
            <p:cNvPr id="377" name="Line 25"/>
            <p:cNvSpPr/>
            <p:nvPr/>
          </p:nvSpPr>
          <p:spPr>
            <a:xfrm>
              <a:off x="3781440" y="3824280"/>
              <a:ext cx="574560" cy="118908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3781440" y="3824280"/>
              <a:ext cx="574560" cy="11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427280" y="3733920"/>
            <a:ext cx="144720" cy="1279440"/>
            <a:chOff x="4427280" y="3733920"/>
            <a:chExt cx="144720" cy="1279440"/>
          </a:xfrm>
        </p:grpSpPr>
        <p:sp>
          <p:nvSpPr>
            <p:cNvPr id="380" name="Line 26"/>
            <p:cNvSpPr/>
            <p:nvPr/>
          </p:nvSpPr>
          <p:spPr>
            <a:xfrm flipH="1">
              <a:off x="4427280" y="3733920"/>
              <a:ext cx="144360" cy="127944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427640" y="3733920"/>
              <a:ext cx="144360" cy="127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924360" y="3789360"/>
            <a:ext cx="1368360" cy="1295280"/>
            <a:chOff x="3924360" y="3789360"/>
            <a:chExt cx="1368360" cy="1295280"/>
          </a:xfrm>
        </p:grpSpPr>
        <p:sp>
          <p:nvSpPr>
            <p:cNvPr id="383" name="Line 27"/>
            <p:cNvSpPr/>
            <p:nvPr/>
          </p:nvSpPr>
          <p:spPr>
            <a:xfrm>
              <a:off x="3924360" y="3789360"/>
              <a:ext cx="1368360" cy="129528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3924360" y="3789360"/>
              <a:ext cx="1368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435280" y="3824280"/>
            <a:ext cx="3600" cy="1260360"/>
            <a:chOff x="5435280" y="3824280"/>
            <a:chExt cx="3600" cy="1260360"/>
          </a:xfrm>
        </p:grpSpPr>
        <p:sp>
          <p:nvSpPr>
            <p:cNvPr id="386" name="Line 28"/>
            <p:cNvSpPr/>
            <p:nvPr/>
          </p:nvSpPr>
          <p:spPr>
            <a:xfrm flipH="1">
              <a:off x="5435280" y="3824280"/>
              <a:ext cx="3240" cy="126036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5435640" y="3824280"/>
              <a:ext cx="324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29"/>
          <p:cNvSpPr/>
          <p:nvPr/>
        </p:nvSpPr>
        <p:spPr>
          <a:xfrm>
            <a:off x="2413080" y="5048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3276720" y="501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4067280" y="5013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5076720" y="501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2268360" y="58053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4"/>
          <p:cNvSpPr/>
          <p:nvPr/>
        </p:nvSpPr>
        <p:spPr>
          <a:xfrm>
            <a:off x="3132000" y="58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3995640" y="5805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5003640" y="580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6012000" y="1700280"/>
            <a:ext cx="2952720" cy="1800360"/>
          </a:xfrm>
          <a:prstGeom prst="rect">
            <a:avLst/>
          </a:prstGeom>
          <a:solidFill>
            <a:srgbClr val="ff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因组成是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个体只表现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的性状不表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的性状，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受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还会继续遗传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8"/>
          <p:cNvSpPr/>
          <p:nvPr/>
        </p:nvSpPr>
        <p:spPr>
          <a:xfrm rot="1260600">
            <a:off x="597600" y="283680"/>
            <a:ext cx="20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435280" y="692280"/>
            <a:ext cx="388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孟德尔的推论（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0" y="0"/>
            <a:ext cx="6048360" cy="52056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 用 遗 传 图 解     解 释 实 验 现 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0" y="259092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对性状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3048120" y="2438280"/>
            <a:ext cx="5181480" cy="703440"/>
            <a:chOff x="3048120" y="2438280"/>
            <a:chExt cx="5181480" cy="703440"/>
          </a:xfrm>
        </p:grpSpPr>
        <p:sp>
          <p:nvSpPr>
            <p:cNvPr id="402" name="Text Box 4"/>
            <p:cNvSpPr/>
            <p:nvPr/>
          </p:nvSpPr>
          <p:spPr>
            <a:xfrm>
              <a:off x="3048120" y="243828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显性性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"/>
            <p:cNvSpPr/>
            <p:nvPr/>
          </p:nvSpPr>
          <p:spPr>
            <a:xfrm>
              <a:off x="5715000" y="24382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隐性性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6"/>
          <p:cNvSpPr/>
          <p:nvPr/>
        </p:nvSpPr>
        <p:spPr>
          <a:xfrm>
            <a:off x="0" y="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知道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0" y="762120"/>
            <a:ext cx="8381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因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　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8"/>
          <p:cNvGrpSpPr/>
          <p:nvPr/>
        </p:nvGrpSpPr>
        <p:grpSpPr>
          <a:xfrm>
            <a:off x="2286000" y="533520"/>
            <a:ext cx="3276720" cy="779400"/>
            <a:chOff x="2286000" y="533520"/>
            <a:chExt cx="3276720" cy="779400"/>
          </a:xfrm>
        </p:grpSpPr>
        <p:sp>
          <p:nvSpPr>
            <p:cNvPr id="407" name="Text Box 9"/>
            <p:cNvSpPr/>
            <p:nvPr/>
          </p:nvSpPr>
          <p:spPr>
            <a:xfrm>
              <a:off x="2286000" y="6094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显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0"/>
            <p:cNvSpPr/>
            <p:nvPr/>
          </p:nvSpPr>
          <p:spPr>
            <a:xfrm>
              <a:off x="4267080" y="53352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隐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11"/>
          <p:cNvSpPr/>
          <p:nvPr/>
        </p:nvSpPr>
        <p:spPr>
          <a:xfrm>
            <a:off x="228600" y="1447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一英文字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显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隐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。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\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\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\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228600" y="342900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609480" y="4724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0" y="3276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基因组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76320" y="4343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基因组成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，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控制的性状不表现，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隐性基因）不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性基因）的影响，还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419720" y="4267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17524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5791320" y="480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060720" y="537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遗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0"/>
          <p:cNvSpPr/>
          <p:nvPr/>
        </p:nvSpPr>
        <p:spPr>
          <a:xfrm>
            <a:off x="5257800" y="3124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显性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106668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隐性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2771640" y="189000"/>
            <a:ext cx="5181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识的拓展与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46836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同学他的父母都是双眼皮，而他本人却是单眼皮，为此，他很困惑。你能帮他解释这一现象吗？（显性基因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，隐性基因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4211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单眼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4427640" y="5373720"/>
            <a:ext cx="9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788000" y="5157720"/>
            <a:ext cx="365040" cy="432000"/>
            <a:chOff x="4788000" y="5157720"/>
            <a:chExt cx="365040" cy="432000"/>
          </a:xfrm>
        </p:grpSpPr>
        <p:sp>
          <p:nvSpPr>
            <p:cNvPr id="425" name="Line 6"/>
            <p:cNvSpPr/>
            <p:nvPr/>
          </p:nvSpPr>
          <p:spPr>
            <a:xfrm flipH="1">
              <a:off x="4788000" y="5157720"/>
              <a:ext cx="365040" cy="432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788000" y="5157720"/>
              <a:ext cx="36504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284720" y="5084640"/>
            <a:ext cx="360360" cy="503280"/>
            <a:chOff x="4284720" y="5084640"/>
            <a:chExt cx="360360" cy="503280"/>
          </a:xfrm>
        </p:grpSpPr>
        <p:sp>
          <p:nvSpPr>
            <p:cNvPr id="428" name="Line 7"/>
            <p:cNvSpPr/>
            <p:nvPr/>
          </p:nvSpPr>
          <p:spPr>
            <a:xfrm>
              <a:off x="4284720" y="5084640"/>
              <a:ext cx="360360" cy="503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4284720" y="5084640"/>
              <a:ext cx="360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8"/>
          <p:cNvSpPr/>
          <p:nvPr/>
        </p:nvSpPr>
        <p:spPr>
          <a:xfrm>
            <a:off x="5219640" y="4292640"/>
            <a:ext cx="28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5148360" y="458136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067280" y="45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3492360" y="3933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364000" y="3933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3203640" y="30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父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5219640" y="30495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3780000" y="393372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5651640" y="393372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924360" y="4365720"/>
            <a:ext cx="216000" cy="431640"/>
            <a:chOff x="3924360" y="4365720"/>
            <a:chExt cx="216000" cy="431640"/>
          </a:xfrm>
        </p:grpSpPr>
        <p:sp>
          <p:nvSpPr>
            <p:cNvPr id="440" name="Line 17"/>
            <p:cNvSpPr/>
            <p:nvPr/>
          </p:nvSpPr>
          <p:spPr>
            <a:xfrm>
              <a:off x="3924360" y="4365720"/>
              <a:ext cx="216000" cy="431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3924360" y="4365720"/>
              <a:ext cx="21600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01800" y="4437000"/>
            <a:ext cx="322560" cy="360360"/>
            <a:chOff x="5401800" y="4437000"/>
            <a:chExt cx="322560" cy="360360"/>
          </a:xfrm>
        </p:grpSpPr>
        <p:sp>
          <p:nvSpPr>
            <p:cNvPr id="443" name="Line 18"/>
            <p:cNvSpPr/>
            <p:nvPr/>
          </p:nvSpPr>
          <p:spPr>
            <a:xfrm flipH="1">
              <a:off x="5401800" y="4437000"/>
              <a:ext cx="322200" cy="36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5402160" y="4437000"/>
              <a:ext cx="3222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19"/>
          <p:cNvSpPr/>
          <p:nvPr/>
        </p:nvSpPr>
        <p:spPr>
          <a:xfrm>
            <a:off x="53964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子代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0"/>
          <p:cNvSpPr/>
          <p:nvPr/>
        </p:nvSpPr>
        <p:spPr>
          <a:xfrm>
            <a:off x="25092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受精卵可能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1"/>
          <p:cNvSpPr/>
          <p:nvPr/>
        </p:nvSpPr>
        <p:spPr>
          <a:xfrm>
            <a:off x="395280" y="465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生殖细胞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539640" y="4005360"/>
            <a:ext cx="158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亲代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755640" y="3573360"/>
            <a:ext cx="20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4"/>
          <p:cNvSpPr/>
          <p:nvPr/>
        </p:nvSpPr>
        <p:spPr>
          <a:xfrm>
            <a:off x="539640" y="3357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亲代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3203640" y="3500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双眼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6"/>
          <p:cNvSpPr/>
          <p:nvPr/>
        </p:nvSpPr>
        <p:spPr>
          <a:xfrm>
            <a:off x="5076720" y="350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双眼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356000" y="6453360"/>
            <a:ext cx="865440" cy="360"/>
            <a:chOff x="4356000" y="6453360"/>
            <a:chExt cx="865440" cy="360"/>
          </a:xfrm>
        </p:grpSpPr>
        <p:sp>
          <p:nvSpPr>
            <p:cNvPr id="454" name="Line 27"/>
            <p:cNvSpPr/>
            <p:nvPr/>
          </p:nvSpPr>
          <p:spPr>
            <a:xfrm>
              <a:off x="4356000" y="6453360"/>
              <a:ext cx="865440" cy="0"/>
            </a:xfrm>
            <a:prstGeom prst="line">
              <a:avLst/>
            </a:prstGeom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4356000" y="645336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500720" y="5805360"/>
            <a:ext cx="431640" cy="360"/>
            <a:chOff x="4500720" y="5805360"/>
            <a:chExt cx="431640" cy="360"/>
          </a:xfrm>
        </p:grpSpPr>
        <p:sp>
          <p:nvSpPr>
            <p:cNvPr id="457" name="Line 28"/>
            <p:cNvSpPr/>
            <p:nvPr/>
          </p:nvSpPr>
          <p:spPr>
            <a:xfrm>
              <a:off x="4500720" y="5805360"/>
              <a:ext cx="431640" cy="0"/>
            </a:xfrm>
            <a:prstGeom prst="line">
              <a:avLst/>
            </a:prstGeom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4500720" y="580536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140360" y="5013360"/>
            <a:ext cx="287280" cy="360"/>
            <a:chOff x="4140360" y="5013360"/>
            <a:chExt cx="287280" cy="360"/>
          </a:xfrm>
        </p:grpSpPr>
        <p:sp>
          <p:nvSpPr>
            <p:cNvPr id="460" name="Line 29"/>
            <p:cNvSpPr/>
            <p:nvPr/>
          </p:nvSpPr>
          <p:spPr>
            <a:xfrm>
              <a:off x="4140360" y="5013360"/>
              <a:ext cx="287280" cy="0"/>
            </a:xfrm>
            <a:prstGeom prst="line">
              <a:avLst/>
            </a:prstGeom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4140360" y="501336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148360" y="5013360"/>
            <a:ext cx="287280" cy="360"/>
            <a:chOff x="5148360" y="5013360"/>
            <a:chExt cx="287280" cy="360"/>
          </a:xfrm>
        </p:grpSpPr>
        <p:sp>
          <p:nvSpPr>
            <p:cNvPr id="463" name="Line 30"/>
            <p:cNvSpPr/>
            <p:nvPr/>
          </p:nvSpPr>
          <p:spPr>
            <a:xfrm flipH="1">
              <a:off x="5148360" y="5013360"/>
              <a:ext cx="287280" cy="0"/>
            </a:xfrm>
            <a:prstGeom prst="line">
              <a:avLst/>
            </a:prstGeom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5148360" y="501336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635280" y="4365720"/>
            <a:ext cx="432000" cy="360"/>
            <a:chOff x="3635280" y="4365720"/>
            <a:chExt cx="432000" cy="360"/>
          </a:xfrm>
        </p:grpSpPr>
        <p:sp>
          <p:nvSpPr>
            <p:cNvPr id="466" name="Line 31"/>
            <p:cNvSpPr/>
            <p:nvPr/>
          </p:nvSpPr>
          <p:spPr>
            <a:xfrm>
              <a:off x="3635280" y="4365720"/>
              <a:ext cx="432000" cy="0"/>
            </a:xfrm>
            <a:prstGeom prst="line">
              <a:avLst/>
            </a:prstGeom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635280" y="436572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435640" y="4365720"/>
            <a:ext cx="504720" cy="360"/>
            <a:chOff x="5435640" y="4365720"/>
            <a:chExt cx="504720" cy="360"/>
          </a:xfrm>
        </p:grpSpPr>
        <p:sp>
          <p:nvSpPr>
            <p:cNvPr id="469" name="Line 32"/>
            <p:cNvSpPr/>
            <p:nvPr/>
          </p:nvSpPr>
          <p:spPr>
            <a:xfrm>
              <a:off x="5435640" y="43657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5435640" y="436572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00070634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00070633"/>
          <p:cNvPicPr/>
          <p:nvPr/>
        </p:nvPicPr>
        <p:blipFill>
          <a:blip r:embed="rId2"/>
          <a:stretch/>
        </p:blipFill>
        <p:spPr>
          <a:xfrm>
            <a:off x="0" y="0"/>
            <a:ext cx="4211640" cy="3213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SC200403091402539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57336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"/>
          <p:cNvPicPr/>
          <p:nvPr/>
        </p:nvPicPr>
        <p:blipFill>
          <a:blip r:embed="rId5"/>
          <a:srcRect l="18003" t="43057" r="51004" b="12502"/>
          <a:stretch/>
        </p:blipFill>
        <p:spPr>
          <a:xfrm>
            <a:off x="0" y="3645000"/>
            <a:ext cx="4211640" cy="3213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6"/>
          <p:cNvSpPr/>
          <p:nvPr/>
        </p:nvSpPr>
        <p:spPr>
          <a:xfrm>
            <a:off x="349236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人类的遗传病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8199"/>
          <p:cNvSpPr/>
          <p:nvPr/>
        </p:nvSpPr>
        <p:spPr>
          <a:xfrm>
            <a:off x="1700280" y="11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4140360" y="3357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本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4572000" y="2924280"/>
            <a:ext cx="71280" cy="287280"/>
          </a:xfrm>
          <a:prstGeom prst="upArrow">
            <a:avLst>
              <a:gd name="adj1" fmla="val 50000"/>
              <a:gd name="adj2" fmla="val 1007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4067280" y="220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4572000" y="1773360"/>
            <a:ext cx="71280" cy="360360"/>
          </a:xfrm>
          <a:prstGeom prst="upArrow">
            <a:avLst>
              <a:gd name="adj1" fmla="val 50000"/>
              <a:gd name="adj2" fmla="val 1263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916360" y="10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祖父母、外祖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4572000" y="4005360"/>
            <a:ext cx="71280" cy="360360"/>
          </a:xfrm>
          <a:prstGeom prst="downArrow">
            <a:avLst>
              <a:gd name="adj1" fmla="val 50000"/>
              <a:gd name="adj2" fmla="val 1263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4140360" y="450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9"/>
          <p:cNvSpPr/>
          <p:nvPr/>
        </p:nvSpPr>
        <p:spPr>
          <a:xfrm>
            <a:off x="4572000" y="5013360"/>
            <a:ext cx="71280" cy="360360"/>
          </a:xfrm>
          <a:prstGeom prst="downArrow">
            <a:avLst>
              <a:gd name="adj1" fmla="val 50000"/>
              <a:gd name="adj2" fmla="val 1263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995640" y="5445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孙子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058920" y="1700280"/>
            <a:ext cx="503280" cy="576360"/>
            <a:chOff x="3058920" y="1700280"/>
            <a:chExt cx="503280" cy="576360"/>
          </a:xfrm>
        </p:grpSpPr>
        <p:sp>
          <p:nvSpPr>
            <p:cNvPr id="487" name="Line 11"/>
            <p:cNvSpPr/>
            <p:nvPr/>
          </p:nvSpPr>
          <p:spPr>
            <a:xfrm flipH="1">
              <a:off x="3058920" y="1700280"/>
              <a:ext cx="50292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3059280" y="1700280"/>
              <a:ext cx="50292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12"/>
          <p:cNvSpPr/>
          <p:nvPr/>
        </p:nvSpPr>
        <p:spPr>
          <a:xfrm>
            <a:off x="2124000" y="227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叔伯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580000" y="1700280"/>
            <a:ext cx="504720" cy="504720"/>
            <a:chOff x="5580000" y="1700280"/>
            <a:chExt cx="504720" cy="504720"/>
          </a:xfrm>
        </p:grpSpPr>
        <p:sp>
          <p:nvSpPr>
            <p:cNvPr id="491" name="Line 13"/>
            <p:cNvSpPr/>
            <p:nvPr/>
          </p:nvSpPr>
          <p:spPr>
            <a:xfrm>
              <a:off x="5580000" y="170028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5580000" y="17002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14"/>
          <p:cNvSpPr/>
          <p:nvPr/>
        </p:nvSpPr>
        <p:spPr>
          <a:xfrm>
            <a:off x="6372360" y="2932200"/>
            <a:ext cx="165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6012000" y="2276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舅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050920" y="2852640"/>
            <a:ext cx="432000" cy="432000"/>
            <a:chOff x="2050920" y="2852640"/>
            <a:chExt cx="432000" cy="432000"/>
          </a:xfrm>
        </p:grpSpPr>
        <p:sp>
          <p:nvSpPr>
            <p:cNvPr id="496" name="Line 16"/>
            <p:cNvSpPr/>
            <p:nvPr/>
          </p:nvSpPr>
          <p:spPr>
            <a:xfrm flipH="1">
              <a:off x="2050920" y="2852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2050920" y="2852640"/>
              <a:ext cx="43200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17"/>
          <p:cNvSpPr/>
          <p:nvPr/>
        </p:nvSpPr>
        <p:spPr>
          <a:xfrm>
            <a:off x="755640" y="3357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堂表兄弟姊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659640" y="2781360"/>
            <a:ext cx="504720" cy="503280"/>
            <a:chOff x="6659640" y="2781360"/>
            <a:chExt cx="504720" cy="503280"/>
          </a:xfrm>
        </p:grpSpPr>
        <p:sp>
          <p:nvSpPr>
            <p:cNvPr id="500" name="Line 18"/>
            <p:cNvSpPr/>
            <p:nvPr/>
          </p:nvSpPr>
          <p:spPr>
            <a:xfrm>
              <a:off x="6659640" y="2781360"/>
              <a:ext cx="504720" cy="50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6659640" y="2781360"/>
              <a:ext cx="5047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Text Box 19"/>
          <p:cNvSpPr/>
          <p:nvPr/>
        </p:nvSpPr>
        <p:spPr>
          <a:xfrm>
            <a:off x="6372360" y="3357720"/>
            <a:ext cx="216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表兄弟姊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971640" y="6093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直系血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三代以内旁系血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634920" y="2852640"/>
            <a:ext cx="359280" cy="505080"/>
            <a:chOff x="3634920" y="2852640"/>
            <a:chExt cx="359280" cy="505080"/>
          </a:xfrm>
        </p:grpSpPr>
        <p:sp>
          <p:nvSpPr>
            <p:cNvPr id="505" name="Line 21"/>
            <p:cNvSpPr/>
            <p:nvPr/>
          </p:nvSpPr>
          <p:spPr>
            <a:xfrm flipH="1">
              <a:off x="3634920" y="2852640"/>
              <a:ext cx="358920" cy="505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3635280" y="2852640"/>
              <a:ext cx="3589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Text Box 22"/>
          <p:cNvSpPr/>
          <p:nvPr/>
        </p:nvSpPr>
        <p:spPr>
          <a:xfrm>
            <a:off x="3132000" y="3357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兄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76720" y="2781360"/>
            <a:ext cx="432000" cy="504720"/>
            <a:chOff x="5076720" y="2781360"/>
            <a:chExt cx="432000" cy="504720"/>
          </a:xfrm>
        </p:grpSpPr>
        <p:sp>
          <p:nvSpPr>
            <p:cNvPr id="509" name="Line 23"/>
            <p:cNvSpPr/>
            <p:nvPr/>
          </p:nvSpPr>
          <p:spPr>
            <a:xfrm>
              <a:off x="5076720" y="2781360"/>
              <a:ext cx="43200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076720" y="278136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4"/>
          <p:cNvSpPr/>
          <p:nvPr/>
        </p:nvSpPr>
        <p:spPr>
          <a:xfrm>
            <a:off x="5219640" y="3357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姊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2843280" y="260280"/>
            <a:ext cx="3492360" cy="5814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禁止近亲结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250" autoRev="1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5" dur="250" autoRev="1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6" dur="250" autoRev="1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9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3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4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25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25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25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250" autoRev="1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1" dur="250" autoRev="1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250" autoRev="1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50" autoRev="1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5" dur="250" autoRev="1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6" dur="250" autoRev="1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250" autoRev="1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3" dur="250" autoRev="1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4" dur="250" autoRev="1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要禁止近亲结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2031480" y="191772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国婚姻法规定：直系血亲和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代以内的旁系血亲之间禁止结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824840" y="3718080"/>
            <a:ext cx="554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一个家族携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同的隐性致病基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能性较大，如果结亲结婚后代的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性致病基因结合的几率就大，出现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传病的机会大大增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"/>
          <p:cNvSpPr/>
          <p:nvPr/>
        </p:nvSpPr>
        <p:spPr>
          <a:xfrm>
            <a:off x="7380360" y="3068640"/>
            <a:ext cx="1224000" cy="122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未命名"/>
          <p:cNvPicPr/>
          <p:nvPr/>
        </p:nvPicPr>
        <p:blipFill>
          <a:blip r:embed="rId1"/>
          <a:stretch/>
        </p:blipFill>
        <p:spPr>
          <a:xfrm>
            <a:off x="3995640" y="148428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129" name="Oval 4"/>
          <p:cNvSpPr/>
          <p:nvPr/>
        </p:nvSpPr>
        <p:spPr>
          <a:xfrm>
            <a:off x="4211640" y="4221000"/>
            <a:ext cx="1224000" cy="122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1403280" y="1989000"/>
            <a:ext cx="1224000" cy="122400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344600" y="4235400"/>
            <a:ext cx="1224000" cy="122400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716360" y="1052640"/>
            <a:ext cx="549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27720" y="4292640"/>
            <a:ext cx="54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7524720" y="3284640"/>
            <a:ext cx="936360" cy="792000"/>
            <a:chOff x="7524720" y="3284640"/>
            <a:chExt cx="936360" cy="792000"/>
          </a:xfrm>
        </p:grpSpPr>
        <p:sp>
          <p:nvSpPr>
            <p:cNvPr id="135" name="AutoShape 10"/>
            <p:cNvSpPr/>
            <p:nvPr/>
          </p:nvSpPr>
          <p:spPr>
            <a:xfrm>
              <a:off x="8029440" y="3284640"/>
              <a:ext cx="71640" cy="792000"/>
            </a:xfrm>
            <a:prstGeom prst="flowChartTerminator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8029440" y="3645000"/>
              <a:ext cx="71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7524720" y="3284640"/>
              <a:ext cx="936360" cy="792000"/>
              <a:chOff x="7524720" y="3284640"/>
              <a:chExt cx="936360" cy="792000"/>
            </a:xfrm>
          </p:grpSpPr>
          <p:sp>
            <p:nvSpPr>
              <p:cNvPr id="138" name="AutoShape 13"/>
              <p:cNvSpPr/>
              <p:nvPr/>
            </p:nvSpPr>
            <p:spPr>
              <a:xfrm>
                <a:off x="7836840" y="3284640"/>
                <a:ext cx="63000" cy="79200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4"/>
              <p:cNvSpPr/>
              <p:nvPr/>
            </p:nvSpPr>
            <p:spPr>
              <a:xfrm>
                <a:off x="7836840" y="3623760"/>
                <a:ext cx="61560" cy="5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5"/>
              <p:cNvSpPr/>
              <p:nvPr/>
            </p:nvSpPr>
            <p:spPr>
              <a:xfrm>
                <a:off x="7524720" y="3454200"/>
                <a:ext cx="20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16"/>
              <p:cNvSpPr/>
              <p:nvPr/>
            </p:nvSpPr>
            <p:spPr>
              <a:xfrm>
                <a:off x="8084520" y="3454200"/>
                <a:ext cx="3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7"/>
          <p:cNvGrpSpPr/>
          <p:nvPr/>
        </p:nvGrpSpPr>
        <p:grpSpPr>
          <a:xfrm>
            <a:off x="2124000" y="2205000"/>
            <a:ext cx="404640" cy="647640"/>
            <a:chOff x="2124000" y="2205000"/>
            <a:chExt cx="404640" cy="647640"/>
          </a:xfrm>
        </p:grpSpPr>
        <p:grpSp>
          <p:nvGrpSpPr>
            <p:cNvPr id="143" name="Group 18"/>
            <p:cNvGrpSpPr/>
            <p:nvPr/>
          </p:nvGrpSpPr>
          <p:grpSpPr>
            <a:xfrm>
              <a:off x="2124000" y="2205000"/>
              <a:ext cx="73080" cy="647640"/>
              <a:chOff x="2124000" y="2205000"/>
              <a:chExt cx="73080" cy="647640"/>
            </a:xfrm>
          </p:grpSpPr>
          <p:sp>
            <p:nvSpPr>
              <p:cNvPr id="144" name="AutoShape 19"/>
              <p:cNvSpPr/>
              <p:nvPr/>
            </p:nvSpPr>
            <p:spPr>
              <a:xfrm>
                <a:off x="2124000" y="2205000"/>
                <a:ext cx="71280" cy="64764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2124000" y="2528640"/>
                <a:ext cx="73080" cy="54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21"/>
            <p:cNvSpPr/>
            <p:nvPr/>
          </p:nvSpPr>
          <p:spPr>
            <a:xfrm>
              <a:off x="2209680" y="236376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1692360" y="4437000"/>
            <a:ext cx="73080" cy="792360"/>
            <a:chOff x="1692360" y="4437000"/>
            <a:chExt cx="73080" cy="792360"/>
          </a:xfrm>
        </p:grpSpPr>
        <p:sp>
          <p:nvSpPr>
            <p:cNvPr id="148" name="AutoShape 23"/>
            <p:cNvSpPr/>
            <p:nvPr/>
          </p:nvSpPr>
          <p:spPr>
            <a:xfrm>
              <a:off x="1692360" y="4437000"/>
              <a:ext cx="73080" cy="792360"/>
            </a:xfrm>
            <a:prstGeom prst="flowChartTerminator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4"/>
            <p:cNvSpPr/>
            <p:nvPr/>
          </p:nvSpPr>
          <p:spPr>
            <a:xfrm>
              <a:off x="1692360" y="4776120"/>
              <a:ext cx="7308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5"/>
          <p:cNvGrpSpPr/>
          <p:nvPr/>
        </p:nvGrpSpPr>
        <p:grpSpPr>
          <a:xfrm>
            <a:off x="2025720" y="4437000"/>
            <a:ext cx="433440" cy="792000"/>
            <a:chOff x="2025720" y="4437000"/>
            <a:chExt cx="433440" cy="792000"/>
          </a:xfrm>
        </p:grpSpPr>
        <p:grpSp>
          <p:nvGrpSpPr>
            <p:cNvPr id="151" name="Group 26"/>
            <p:cNvGrpSpPr/>
            <p:nvPr/>
          </p:nvGrpSpPr>
          <p:grpSpPr>
            <a:xfrm>
              <a:off x="2025720" y="4437000"/>
              <a:ext cx="73080" cy="792000"/>
              <a:chOff x="2025720" y="4437000"/>
              <a:chExt cx="73080" cy="792000"/>
            </a:xfrm>
          </p:grpSpPr>
          <p:sp>
            <p:nvSpPr>
              <p:cNvPr id="152" name="AutoShape 27"/>
              <p:cNvSpPr/>
              <p:nvPr/>
            </p:nvSpPr>
            <p:spPr>
              <a:xfrm>
                <a:off x="2025720" y="4437000"/>
                <a:ext cx="73080" cy="792000"/>
              </a:xfrm>
              <a:prstGeom prst="flowChartTerminator">
                <a:avLst/>
              </a:prstGeom>
              <a:solidFill>
                <a:srgbClr val="cc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8"/>
              <p:cNvSpPr/>
              <p:nvPr/>
            </p:nvSpPr>
            <p:spPr>
              <a:xfrm>
                <a:off x="2025720" y="4776120"/>
                <a:ext cx="73080" cy="5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29"/>
            <p:cNvSpPr/>
            <p:nvPr/>
          </p:nvSpPr>
          <p:spPr>
            <a:xfrm>
              <a:off x="2098800" y="4624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0"/>
          <p:cNvGrpSpPr/>
          <p:nvPr/>
        </p:nvGrpSpPr>
        <p:grpSpPr>
          <a:xfrm>
            <a:off x="1835280" y="2219400"/>
            <a:ext cx="72720" cy="647640"/>
            <a:chOff x="1835280" y="2219400"/>
            <a:chExt cx="72720" cy="647640"/>
          </a:xfrm>
        </p:grpSpPr>
        <p:sp>
          <p:nvSpPr>
            <p:cNvPr id="156" name="AutoShape 31"/>
            <p:cNvSpPr/>
            <p:nvPr/>
          </p:nvSpPr>
          <p:spPr>
            <a:xfrm>
              <a:off x="1835280" y="2219400"/>
              <a:ext cx="70920" cy="6476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2"/>
            <p:cNvSpPr/>
            <p:nvPr/>
          </p:nvSpPr>
          <p:spPr>
            <a:xfrm>
              <a:off x="1835280" y="2543040"/>
              <a:ext cx="72720" cy="5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33"/>
          <p:cNvSpPr/>
          <p:nvPr/>
        </p:nvSpPr>
        <p:spPr>
          <a:xfrm>
            <a:off x="1476360" y="237816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1360440" y="4638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00360" y="2565360"/>
            <a:ext cx="1440000" cy="360"/>
            <a:chOff x="2700360" y="2565360"/>
            <a:chExt cx="1440000" cy="360"/>
          </a:xfrm>
        </p:grpSpPr>
        <p:sp>
          <p:nvSpPr>
            <p:cNvPr id="161" name="Line 35"/>
            <p:cNvSpPr/>
            <p:nvPr/>
          </p:nvSpPr>
          <p:spPr>
            <a:xfrm>
              <a:off x="2700360" y="2565360"/>
              <a:ext cx="144000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00360" y="2565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627280" y="4869000"/>
            <a:ext cx="1440000" cy="360"/>
            <a:chOff x="2627280" y="4869000"/>
            <a:chExt cx="1440000" cy="360"/>
          </a:xfrm>
        </p:grpSpPr>
        <p:sp>
          <p:nvSpPr>
            <p:cNvPr id="164" name="Line 36"/>
            <p:cNvSpPr/>
            <p:nvPr/>
          </p:nvSpPr>
          <p:spPr>
            <a:xfrm>
              <a:off x="2627280" y="4869000"/>
              <a:ext cx="144000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627280" y="486900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508720" y="2565360"/>
            <a:ext cx="1799640" cy="2304000"/>
            <a:chOff x="5508720" y="2565360"/>
            <a:chExt cx="1799640" cy="2304000"/>
          </a:xfrm>
        </p:grpSpPr>
        <p:grpSp>
          <p:nvGrpSpPr>
            <p:cNvPr id="167" name=""/>
            <p:cNvGrpSpPr/>
            <p:nvPr/>
          </p:nvGrpSpPr>
          <p:grpSpPr>
            <a:xfrm>
              <a:off x="5508720" y="2608200"/>
              <a:ext cx="934560" cy="360"/>
              <a:chOff x="5508720" y="2608200"/>
              <a:chExt cx="934560" cy="360"/>
            </a:xfrm>
          </p:grpSpPr>
          <p:sp>
            <p:nvSpPr>
              <p:cNvPr id="168" name="Line 38"/>
              <p:cNvSpPr/>
              <p:nvPr/>
            </p:nvSpPr>
            <p:spPr>
              <a:xfrm>
                <a:off x="5508720" y="2608200"/>
                <a:ext cx="9345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5508720" y="2608200"/>
                <a:ext cx="93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508720" y="4869000"/>
              <a:ext cx="934560" cy="360"/>
              <a:chOff x="5508720" y="4869000"/>
              <a:chExt cx="934560" cy="360"/>
            </a:xfrm>
          </p:grpSpPr>
          <p:sp>
            <p:nvSpPr>
              <p:cNvPr id="171" name="Line 39"/>
              <p:cNvSpPr/>
              <p:nvPr/>
            </p:nvSpPr>
            <p:spPr>
              <a:xfrm>
                <a:off x="5508720" y="4869000"/>
                <a:ext cx="9345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5508720" y="4869000"/>
                <a:ext cx="93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443280" y="2565360"/>
              <a:ext cx="360" cy="2303640"/>
              <a:chOff x="6443280" y="2565360"/>
              <a:chExt cx="360" cy="2303640"/>
            </a:xfrm>
          </p:grpSpPr>
          <p:sp>
            <p:nvSpPr>
              <p:cNvPr id="174" name="Line 40"/>
              <p:cNvSpPr/>
              <p:nvPr/>
            </p:nvSpPr>
            <p:spPr>
              <a:xfrm>
                <a:off x="6443280" y="2565360"/>
                <a:ext cx="0" cy="230364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6443280" y="2565360"/>
                <a:ext cx="360" cy="230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443280" y="3645000"/>
              <a:ext cx="865080" cy="360"/>
              <a:chOff x="6443280" y="3645000"/>
              <a:chExt cx="865080" cy="360"/>
            </a:xfrm>
          </p:grpSpPr>
          <p:sp>
            <p:nvSpPr>
              <p:cNvPr id="177" name="Line 41"/>
              <p:cNvSpPr/>
              <p:nvPr/>
            </p:nvSpPr>
            <p:spPr>
              <a:xfrm>
                <a:off x="6443280" y="3645000"/>
                <a:ext cx="8650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6443280" y="3645000"/>
                <a:ext cx="86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 Box 42"/>
          <p:cNvSpPr/>
          <p:nvPr/>
        </p:nvSpPr>
        <p:spPr>
          <a:xfrm>
            <a:off x="250920" y="220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50920" y="450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755640" y="32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形成精子的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684360" y="551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形成卵细胞的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4284720" y="3284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4284720" y="551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卵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8"/>
          <p:cNvSpPr/>
          <p:nvPr/>
        </p:nvSpPr>
        <p:spPr>
          <a:xfrm>
            <a:off x="7380360" y="436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精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9"/>
          <p:cNvSpPr/>
          <p:nvPr/>
        </p:nvSpPr>
        <p:spPr>
          <a:xfrm>
            <a:off x="971640" y="692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殖过程中染色体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1041 C 0.02153 -0.03727 0.04462 -0.06273 0.06823 -0.07384 C 0.09236 -0.08148 0.11701 -0.07685 0.14271 -0.07384 C 0.16805 -0.0706 0.19878 -0.06435 0.22222 -0.05162 C 0.24531 -0.03912 0.26319 -0.01852 0.28194 0.00556 E">
                                      <p:cBhvr>
                                        <p:cTn id="2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C 0.01424 -0.03819 0.02847 -0.07616 0.05156 -0.09259 C 0.07465 -0.10903 0.11111 -0.10486 0.13871 -0.09907 C 0.16632 -0.09329 0.19271 -0.07268 0.21771 -0.0581 C 0.24271 -0.04352 0.27691 -0.01875 0.28871 -0.01088 E">
                                      <p:cBhvr>
                                        <p:cTn id="3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0" y="0"/>
            <a:ext cx="471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假设父母均为正常，但均携带致病的隐性基因（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，那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468360" y="4005360"/>
            <a:ext cx="205740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父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a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468360" y="5661000"/>
            <a:ext cx="1981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母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a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626920" y="3860280"/>
            <a:ext cx="792720" cy="312840"/>
            <a:chOff x="2626920" y="3860280"/>
            <a:chExt cx="792720" cy="312840"/>
          </a:xfrm>
        </p:grpSpPr>
        <p:sp>
          <p:nvSpPr>
            <p:cNvPr id="520" name="Line 5"/>
            <p:cNvSpPr/>
            <p:nvPr/>
          </p:nvSpPr>
          <p:spPr>
            <a:xfrm flipV="1">
              <a:off x="2627280" y="3860280"/>
              <a:ext cx="792360" cy="312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2626920" y="3860280"/>
              <a:ext cx="7923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627280" y="4365720"/>
            <a:ext cx="685800" cy="380880"/>
            <a:chOff x="2627280" y="4365720"/>
            <a:chExt cx="685800" cy="380880"/>
          </a:xfrm>
        </p:grpSpPr>
        <p:sp>
          <p:nvSpPr>
            <p:cNvPr id="523" name="Line 6"/>
            <p:cNvSpPr/>
            <p:nvPr/>
          </p:nvSpPr>
          <p:spPr>
            <a:xfrm>
              <a:off x="2627280" y="436572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2627280" y="436572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7"/>
          <p:cNvSpPr/>
          <p:nvPr/>
        </p:nvSpPr>
        <p:spPr>
          <a:xfrm>
            <a:off x="3348000" y="35733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3348000" y="4365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484000" y="5516640"/>
            <a:ext cx="762480" cy="457200"/>
            <a:chOff x="2484000" y="5516640"/>
            <a:chExt cx="762480" cy="457200"/>
          </a:xfrm>
        </p:grpSpPr>
        <p:sp>
          <p:nvSpPr>
            <p:cNvPr id="528" name="Line 9"/>
            <p:cNvSpPr/>
            <p:nvPr/>
          </p:nvSpPr>
          <p:spPr>
            <a:xfrm flipV="1">
              <a:off x="2484360" y="551664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 rot="10800000">
              <a:off x="2484000" y="55166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484360" y="6093000"/>
            <a:ext cx="792360" cy="288720"/>
            <a:chOff x="2484360" y="6093000"/>
            <a:chExt cx="792360" cy="288720"/>
          </a:xfrm>
        </p:grpSpPr>
        <p:sp>
          <p:nvSpPr>
            <p:cNvPr id="531" name="Line 10"/>
            <p:cNvSpPr/>
            <p:nvPr/>
          </p:nvSpPr>
          <p:spPr>
            <a:xfrm>
              <a:off x="2484360" y="6093000"/>
              <a:ext cx="792360" cy="288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2484360" y="6093000"/>
              <a:ext cx="79236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Rectangle 11"/>
          <p:cNvSpPr/>
          <p:nvPr/>
        </p:nvSpPr>
        <p:spPr>
          <a:xfrm>
            <a:off x="3276720" y="522936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3254760" y="595008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780000" y="3933720"/>
            <a:ext cx="3143160" cy="1812960"/>
            <a:chOff x="3780000" y="3933720"/>
            <a:chExt cx="3143160" cy="1812960"/>
          </a:xfrm>
        </p:grpSpPr>
        <p:sp>
          <p:nvSpPr>
            <p:cNvPr id="536" name="Line 13"/>
            <p:cNvSpPr/>
            <p:nvPr/>
          </p:nvSpPr>
          <p:spPr>
            <a:xfrm>
              <a:off x="3780000" y="3933720"/>
              <a:ext cx="3143160" cy="1812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3780000" y="3933720"/>
              <a:ext cx="3143160" cy="181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851280" y="4941720"/>
            <a:ext cx="3168720" cy="1440000"/>
            <a:chOff x="3851280" y="4941720"/>
            <a:chExt cx="3168720" cy="1440000"/>
          </a:xfrm>
        </p:grpSpPr>
        <p:sp>
          <p:nvSpPr>
            <p:cNvPr id="539" name="Line 14"/>
            <p:cNvSpPr/>
            <p:nvPr/>
          </p:nvSpPr>
          <p:spPr>
            <a:xfrm>
              <a:off x="3851280" y="4941720"/>
              <a:ext cx="3168720" cy="1440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3851280" y="4941720"/>
              <a:ext cx="316872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780000" y="6381720"/>
            <a:ext cx="3168360" cy="142920"/>
            <a:chOff x="3780000" y="6381720"/>
            <a:chExt cx="3168360" cy="142920"/>
          </a:xfrm>
        </p:grpSpPr>
        <p:sp>
          <p:nvSpPr>
            <p:cNvPr id="542" name="Line 15"/>
            <p:cNvSpPr/>
            <p:nvPr/>
          </p:nvSpPr>
          <p:spPr>
            <a:xfrm>
              <a:off x="3780000" y="6381720"/>
              <a:ext cx="3168360" cy="142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3780000" y="6381720"/>
              <a:ext cx="3168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851280" y="4797360"/>
            <a:ext cx="2952720" cy="136440"/>
            <a:chOff x="3851280" y="4797360"/>
            <a:chExt cx="2952720" cy="136440"/>
          </a:xfrm>
        </p:grpSpPr>
        <p:sp>
          <p:nvSpPr>
            <p:cNvPr id="545" name="Line 16"/>
            <p:cNvSpPr/>
            <p:nvPr/>
          </p:nvSpPr>
          <p:spPr>
            <a:xfrm>
              <a:off x="3851280" y="4797360"/>
              <a:ext cx="2952720" cy="136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3851280" y="4797360"/>
              <a:ext cx="29527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34920" y="5013000"/>
            <a:ext cx="3242160" cy="576360"/>
            <a:chOff x="3634920" y="5013000"/>
            <a:chExt cx="3242160" cy="576360"/>
          </a:xfrm>
        </p:grpSpPr>
        <p:sp>
          <p:nvSpPr>
            <p:cNvPr id="548" name="Line 17"/>
            <p:cNvSpPr/>
            <p:nvPr/>
          </p:nvSpPr>
          <p:spPr>
            <a:xfrm flipV="1">
              <a:off x="3635280" y="5013000"/>
              <a:ext cx="3241800" cy="576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 rot="10800000">
              <a:off x="3634920" y="5013000"/>
              <a:ext cx="32418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779640" y="5805360"/>
            <a:ext cx="3168720" cy="462240"/>
            <a:chOff x="3779640" y="5805360"/>
            <a:chExt cx="3168720" cy="462240"/>
          </a:xfrm>
        </p:grpSpPr>
        <p:sp>
          <p:nvSpPr>
            <p:cNvPr id="551" name="Line 18"/>
            <p:cNvSpPr/>
            <p:nvPr/>
          </p:nvSpPr>
          <p:spPr>
            <a:xfrm flipV="1">
              <a:off x="3780000" y="5805360"/>
              <a:ext cx="3168360" cy="462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 rot="10800000">
              <a:off x="3779640" y="5805360"/>
              <a:ext cx="3168360" cy="46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708360" y="3860640"/>
            <a:ext cx="3168720" cy="289080"/>
            <a:chOff x="3708360" y="3860640"/>
            <a:chExt cx="3168720" cy="289080"/>
          </a:xfrm>
        </p:grpSpPr>
        <p:sp>
          <p:nvSpPr>
            <p:cNvPr id="554" name="Line 19"/>
            <p:cNvSpPr/>
            <p:nvPr/>
          </p:nvSpPr>
          <p:spPr>
            <a:xfrm>
              <a:off x="3708360" y="3860640"/>
              <a:ext cx="3168720" cy="289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3708360" y="3860640"/>
              <a:ext cx="31687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634920" y="4220640"/>
            <a:ext cx="3242160" cy="1295640"/>
            <a:chOff x="3634920" y="4220640"/>
            <a:chExt cx="3242160" cy="1295640"/>
          </a:xfrm>
        </p:grpSpPr>
        <p:sp>
          <p:nvSpPr>
            <p:cNvPr id="557" name="Line 20"/>
            <p:cNvSpPr/>
            <p:nvPr/>
          </p:nvSpPr>
          <p:spPr>
            <a:xfrm flipV="1">
              <a:off x="3635280" y="4220640"/>
              <a:ext cx="3241800" cy="1295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 rot="10800000">
              <a:off x="3634920" y="4220640"/>
              <a:ext cx="324180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21"/>
          <p:cNvSpPr/>
          <p:nvPr/>
        </p:nvSpPr>
        <p:spPr>
          <a:xfrm>
            <a:off x="6948360" y="5445000"/>
            <a:ext cx="1079640" cy="642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6948360" y="3933720"/>
            <a:ext cx="1067040" cy="642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3"/>
          <p:cNvSpPr/>
          <p:nvPr/>
        </p:nvSpPr>
        <p:spPr>
          <a:xfrm>
            <a:off x="6948360" y="4724280"/>
            <a:ext cx="1079640" cy="642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6948360" y="6021360"/>
            <a:ext cx="114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7020000" y="6308640"/>
            <a:ext cx="73080" cy="73080"/>
            <a:chOff x="7020000" y="6308640"/>
            <a:chExt cx="73080" cy="73080"/>
          </a:xfrm>
        </p:grpSpPr>
        <p:sp>
          <p:nvSpPr>
            <p:cNvPr id="564" name="Line 25"/>
            <p:cNvSpPr/>
            <p:nvPr/>
          </p:nvSpPr>
          <p:spPr>
            <a:xfrm>
              <a:off x="7020000" y="6308640"/>
              <a:ext cx="73080" cy="7308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7020000" y="630864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26"/>
          <p:cNvSpPr/>
          <p:nvPr/>
        </p:nvSpPr>
        <p:spPr>
          <a:xfrm>
            <a:off x="7812000" y="6021360"/>
            <a:ext cx="183528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得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7" descr="P34"/>
          <p:cNvPicPr/>
          <p:nvPr/>
        </p:nvPicPr>
        <p:blipFill>
          <a:blip r:embed="rId1"/>
          <a:stretch/>
        </p:blipFill>
        <p:spPr>
          <a:xfrm>
            <a:off x="6227640" y="0"/>
            <a:ext cx="2737080" cy="3860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8" descr="01"/>
          <p:cNvPicPr/>
          <p:nvPr/>
        </p:nvPicPr>
        <p:blipFill>
          <a:blip r:embed="rId2"/>
          <a:stretch/>
        </p:blipFill>
        <p:spPr>
          <a:xfrm>
            <a:off x="0" y="1773360"/>
            <a:ext cx="1893960" cy="1904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9" descr="02"/>
          <p:cNvPicPr/>
          <p:nvPr/>
        </p:nvPicPr>
        <p:blipFill>
          <a:blip r:embed="rId3"/>
          <a:stretch/>
        </p:blipFill>
        <p:spPr>
          <a:xfrm>
            <a:off x="1979640" y="1700280"/>
            <a:ext cx="2003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20174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化病患者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中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3" descr="白化病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白化病患者"/>
          <p:cNvPicPr/>
          <p:nvPr/>
        </p:nvPicPr>
        <p:blipFill>
          <a:blip r:embed="rId1"/>
          <a:stretch/>
        </p:blipFill>
        <p:spPr>
          <a:xfrm>
            <a:off x="1260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4716360" y="836640"/>
            <a:ext cx="43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白化病是由于基因不正常而缺少酪氨酸酶，这样酪氨酸就不能转变成黑色素而表现出白化症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1三体综合症患儿"/>
          <p:cNvPicPr/>
          <p:nvPr/>
        </p:nvPicPr>
        <p:blipFill>
          <a:blip r:embed="rId1"/>
          <a:stretch/>
        </p:blipFill>
        <p:spPr>
          <a:xfrm>
            <a:off x="324000" y="692280"/>
            <a:ext cx="4619520" cy="57610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5785560" y="836640"/>
            <a:ext cx="261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三体综合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5076720" y="1917720"/>
            <a:ext cx="39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正常人多一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号染色体，智力低下，发育缓慢。眼间距宽；外眼角上斜；口常半张，舌常外伸。部分夭折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伴有先天性心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多指并指"/>
          <p:cNvPicPr/>
          <p:nvPr/>
        </p:nvPicPr>
        <p:blipFill>
          <a:blip r:embed="rId1"/>
          <a:stretch/>
        </p:blipFill>
        <p:spPr>
          <a:xfrm>
            <a:off x="34920" y="-23760"/>
            <a:ext cx="9055080" cy="57294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4074840" y="595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指并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抗维生素D佝偻病患儿"/>
          <p:cNvPicPr/>
          <p:nvPr/>
        </p:nvPicPr>
        <p:blipFill>
          <a:blip r:embed="rId1"/>
          <a:stretch/>
        </p:blipFill>
        <p:spPr>
          <a:xfrm>
            <a:off x="0" y="0"/>
            <a:ext cx="340524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4356000" y="117360"/>
            <a:ext cx="4391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病因：由于患者体内的维生素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不能正常发挥作用，导致小肠对钙、磷吸收不良而影响了骨的发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症状：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型（或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O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型）腿；骨骼发育畸形（如鸡胸）；生长缓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619360" y="1123920"/>
            <a:ext cx="15210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抗维生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佝偻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．单基因遗传病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5005440" y="398520"/>
            <a:ext cx="388764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病因：长骨端部软骨细胞的形成出现障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症状：四肢短小畸形；腰椎前凸；腹部隆起；臂部后凸。纯合子在胎儿期或新生儿期致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1042920" y="29973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软骨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84320" y="177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学们都读过《红楼梦》吧，林黛玉是贾母的外孙，贾宝玉是贾母的孙子，他们的爱情故事曾让许多人唏嘘不已。请从生物学的角度分析他们能否结婚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WordArt 3"/>
          <p:cNvSpPr txBox="1"/>
          <p:nvPr/>
        </p:nvSpPr>
        <p:spPr>
          <a:xfrm>
            <a:off x="755640" y="692280"/>
            <a:ext cx="20876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考考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2987640" y="765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16000" y="5084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们属于三代以内的旁系血亲不能结婚。如果结婚，后代患遗传病的可能性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52280" y="45720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豌豆的高茎为显性性状，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。则矮茎豌豆基因类型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高茎豌豆的基因类型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76320" y="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你会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228600" y="19051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如双眼皮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控制，单眼皮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控制，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体表现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228600" y="283536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男子卷舌，他的妻子为不卷舌，而他的儿子也不卷舌，请写出他们的基因类型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男子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×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子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儿子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228600" y="537372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我国婚姻法规定：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     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   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旁系血亲之间禁止结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2819520" y="838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2360" y="14130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2050920" y="1341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2362320" y="2209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双眼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3276720" y="3733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5867280" y="3701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419720" y="4692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4140360" y="53006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系血亲     三代 以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39280" y="167328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孟 德 尔 的 豌 豆 杂 交 实 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相对性状有显性性状和隐性性状之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在相对性状的遗传中，表现为隐性性状的基因组成只有一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d;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表现显性性状的基因组成有两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基因组成是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个体只表现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控制的性状不表现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控制的性状，但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不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影响还会继续遗传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禁止近亲结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近亲结婚后代患遗传病的可能性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WordArt 3"/>
          <p:cNvSpPr txBox="1"/>
          <p:nvPr/>
        </p:nvSpPr>
        <p:spPr>
          <a:xfrm>
            <a:off x="3132000" y="476280"/>
            <a:ext cx="17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4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4527720" y="4292640"/>
            <a:ext cx="54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093760" y="2349360"/>
            <a:ext cx="3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055960" y="45957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19200" y="234936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417680" y="4610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700360" y="2565360"/>
            <a:ext cx="1440000" cy="360"/>
            <a:chOff x="2700360" y="2565360"/>
            <a:chExt cx="1440000" cy="360"/>
          </a:xfrm>
        </p:grpSpPr>
        <p:sp>
          <p:nvSpPr>
            <p:cNvPr id="193" name="Line 7"/>
            <p:cNvSpPr/>
            <p:nvPr/>
          </p:nvSpPr>
          <p:spPr>
            <a:xfrm>
              <a:off x="2700360" y="2565360"/>
              <a:ext cx="144000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2700360" y="2565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627280" y="4869000"/>
            <a:ext cx="1440000" cy="360"/>
            <a:chOff x="2627280" y="4869000"/>
            <a:chExt cx="1440000" cy="360"/>
          </a:xfrm>
        </p:grpSpPr>
        <p:sp>
          <p:nvSpPr>
            <p:cNvPr id="196" name="Line 8"/>
            <p:cNvSpPr/>
            <p:nvPr/>
          </p:nvSpPr>
          <p:spPr>
            <a:xfrm>
              <a:off x="2627280" y="4869000"/>
              <a:ext cx="144000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627280" y="486900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"/>
          <p:cNvGrpSpPr/>
          <p:nvPr/>
        </p:nvGrpSpPr>
        <p:grpSpPr>
          <a:xfrm>
            <a:off x="5508720" y="2565360"/>
            <a:ext cx="1799640" cy="2304000"/>
            <a:chOff x="5508720" y="2565360"/>
            <a:chExt cx="1799640" cy="2304000"/>
          </a:xfrm>
        </p:grpSpPr>
        <p:grpSp>
          <p:nvGrpSpPr>
            <p:cNvPr id="199" name=""/>
            <p:cNvGrpSpPr/>
            <p:nvPr/>
          </p:nvGrpSpPr>
          <p:grpSpPr>
            <a:xfrm>
              <a:off x="5508720" y="2608200"/>
              <a:ext cx="934560" cy="360"/>
              <a:chOff x="5508720" y="2608200"/>
              <a:chExt cx="934560" cy="360"/>
            </a:xfrm>
          </p:grpSpPr>
          <p:sp>
            <p:nvSpPr>
              <p:cNvPr id="200" name="Line 10"/>
              <p:cNvSpPr/>
              <p:nvPr/>
            </p:nvSpPr>
            <p:spPr>
              <a:xfrm>
                <a:off x="5508720" y="2608200"/>
                <a:ext cx="9345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5508720" y="2608200"/>
                <a:ext cx="93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508720" y="4869000"/>
              <a:ext cx="934560" cy="360"/>
              <a:chOff x="5508720" y="4869000"/>
              <a:chExt cx="934560" cy="360"/>
            </a:xfrm>
          </p:grpSpPr>
          <p:sp>
            <p:nvSpPr>
              <p:cNvPr id="203" name="Line 11"/>
              <p:cNvSpPr/>
              <p:nvPr/>
            </p:nvSpPr>
            <p:spPr>
              <a:xfrm>
                <a:off x="5508720" y="4869000"/>
                <a:ext cx="9345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5508720" y="4869000"/>
                <a:ext cx="93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6443280" y="2565360"/>
              <a:ext cx="360" cy="2303640"/>
              <a:chOff x="6443280" y="2565360"/>
              <a:chExt cx="360" cy="2303640"/>
            </a:xfrm>
          </p:grpSpPr>
          <p:sp>
            <p:nvSpPr>
              <p:cNvPr id="206" name="Line 12"/>
              <p:cNvSpPr/>
              <p:nvPr/>
            </p:nvSpPr>
            <p:spPr>
              <a:xfrm>
                <a:off x="6443280" y="2565360"/>
                <a:ext cx="0" cy="230364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6443280" y="2565360"/>
                <a:ext cx="360" cy="230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443280" y="3645000"/>
              <a:ext cx="865080" cy="360"/>
              <a:chOff x="6443280" y="3645000"/>
              <a:chExt cx="865080" cy="360"/>
            </a:xfrm>
          </p:grpSpPr>
          <p:sp>
            <p:nvSpPr>
              <p:cNvPr id="209" name="Line 13"/>
              <p:cNvSpPr/>
              <p:nvPr/>
            </p:nvSpPr>
            <p:spPr>
              <a:xfrm>
                <a:off x="6443280" y="3645000"/>
                <a:ext cx="8650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6443280" y="3645000"/>
                <a:ext cx="86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Text Box 14"/>
          <p:cNvSpPr/>
          <p:nvPr/>
        </p:nvSpPr>
        <p:spPr>
          <a:xfrm>
            <a:off x="250920" y="2276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250920" y="45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755640" y="32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形成精子的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684360" y="551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形成卵细胞的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4572000" y="328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284720" y="551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卵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7407360" y="436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精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4716360" y="2276640"/>
            <a:ext cx="3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4716360" y="450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7524720" y="3284640"/>
            <a:ext cx="2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8101080" y="3284640"/>
            <a:ext cx="3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971640" y="1197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殖过程中基因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6877080" y="5589720"/>
            <a:ext cx="1295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人的鼻子本来比较平直，一场车祸后， 伤虽然好了，但是鼻子却撞歪了。他担心会遗传给下一代，因此很伤心，你能给他做做思想工作吗？怎么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WordArt 3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放飞课堂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2"/>
          <p:cNvSpPr txBox="1"/>
          <p:nvPr/>
        </p:nvSpPr>
        <p:spPr>
          <a:xfrm>
            <a:off x="304920" y="457200"/>
            <a:ext cx="2600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练习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608" name="WordArt 3"/>
          <p:cNvSpPr txBox="1"/>
          <p:nvPr/>
        </p:nvSpPr>
        <p:spPr>
          <a:xfrm>
            <a:off x="4114800" y="380880"/>
            <a:ext cx="1981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P35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762120" y="2362320"/>
            <a:ext cx="6721200" cy="703440"/>
          </a:xfrm>
          <a:prstGeom prst="rect">
            <a:avLst/>
          </a:prstGeom>
          <a:noFill/>
          <a:ln w="114480">
            <a:solidFill>
              <a:srgbClr val="bdd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、看哪一个性状是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1677240" y="3395520"/>
            <a:ext cx="5899320" cy="3141360"/>
          </a:xfrm>
          <a:prstGeom prst="rect">
            <a:avLst/>
          </a:prstGeom>
          <a:noFill/>
          <a:ln w="101520">
            <a:solidFill>
              <a:srgbClr val="bdd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、不能。决定无酒窝的基因是隐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基因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，所以无酒窝夫妇的基因型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是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dd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，父母只能将自己配子中的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给后代而没有显性基因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。后代也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是无酒窝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B1B8-5054-410A-B5AE-8130F02131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250920" y="2060640"/>
            <a:ext cx="8723160" cy="703440"/>
          </a:xfrm>
          <a:prstGeom prst="rect">
            <a:avLst/>
          </a:prstGeom>
          <a:noFill/>
          <a:ln w="104760">
            <a:solidFill>
              <a:srgbClr val="bdd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10000"/>
                </a:solidFill>
                <a:latin typeface="黑体"/>
                <a:ea typeface="黑体"/>
              </a:rPr>
              <a:t>、不能。因为他们是三代以内的旁系血亲，如果结婚，后代致病的基因纯合的机会比随机婚配的要高得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527720" y="4292640"/>
            <a:ext cx="54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093760" y="2349360"/>
            <a:ext cx="3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055960" y="45957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519200" y="234936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417680" y="4610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700360" y="2565360"/>
            <a:ext cx="1440000" cy="360"/>
            <a:chOff x="2700360" y="2565360"/>
            <a:chExt cx="1440000" cy="360"/>
          </a:xfrm>
        </p:grpSpPr>
        <p:sp>
          <p:nvSpPr>
            <p:cNvPr id="230" name="Line 7"/>
            <p:cNvSpPr/>
            <p:nvPr/>
          </p:nvSpPr>
          <p:spPr>
            <a:xfrm>
              <a:off x="2700360" y="2565360"/>
              <a:ext cx="144000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700360" y="2565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627280" y="4869000"/>
            <a:ext cx="1440000" cy="360"/>
            <a:chOff x="2627280" y="4869000"/>
            <a:chExt cx="1440000" cy="360"/>
          </a:xfrm>
        </p:grpSpPr>
        <p:sp>
          <p:nvSpPr>
            <p:cNvPr id="233" name="Line 8"/>
            <p:cNvSpPr/>
            <p:nvPr/>
          </p:nvSpPr>
          <p:spPr>
            <a:xfrm>
              <a:off x="2627280" y="4869000"/>
              <a:ext cx="144000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627280" y="486900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"/>
          <p:cNvGrpSpPr/>
          <p:nvPr/>
        </p:nvGrpSpPr>
        <p:grpSpPr>
          <a:xfrm>
            <a:off x="5508720" y="2565360"/>
            <a:ext cx="1799640" cy="2304000"/>
            <a:chOff x="5508720" y="2565360"/>
            <a:chExt cx="1799640" cy="2304000"/>
          </a:xfrm>
        </p:grpSpPr>
        <p:grpSp>
          <p:nvGrpSpPr>
            <p:cNvPr id="236" name=""/>
            <p:cNvGrpSpPr/>
            <p:nvPr/>
          </p:nvGrpSpPr>
          <p:grpSpPr>
            <a:xfrm>
              <a:off x="5508720" y="2608200"/>
              <a:ext cx="934560" cy="360"/>
              <a:chOff x="5508720" y="2608200"/>
              <a:chExt cx="934560" cy="360"/>
            </a:xfrm>
          </p:grpSpPr>
          <p:sp>
            <p:nvSpPr>
              <p:cNvPr id="237" name="Line 10"/>
              <p:cNvSpPr/>
              <p:nvPr/>
            </p:nvSpPr>
            <p:spPr>
              <a:xfrm>
                <a:off x="5508720" y="2608200"/>
                <a:ext cx="9345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5508720" y="2608200"/>
                <a:ext cx="93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508720" y="4869000"/>
              <a:ext cx="934560" cy="360"/>
              <a:chOff x="5508720" y="4869000"/>
              <a:chExt cx="934560" cy="360"/>
            </a:xfrm>
          </p:grpSpPr>
          <p:sp>
            <p:nvSpPr>
              <p:cNvPr id="240" name="Line 11"/>
              <p:cNvSpPr/>
              <p:nvPr/>
            </p:nvSpPr>
            <p:spPr>
              <a:xfrm>
                <a:off x="5508720" y="4869000"/>
                <a:ext cx="9345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5508720" y="4869000"/>
                <a:ext cx="93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443280" y="2565360"/>
              <a:ext cx="360" cy="2303640"/>
              <a:chOff x="6443280" y="2565360"/>
              <a:chExt cx="360" cy="2303640"/>
            </a:xfrm>
          </p:grpSpPr>
          <p:sp>
            <p:nvSpPr>
              <p:cNvPr id="243" name="Line 12"/>
              <p:cNvSpPr/>
              <p:nvPr/>
            </p:nvSpPr>
            <p:spPr>
              <a:xfrm>
                <a:off x="6443280" y="2565360"/>
                <a:ext cx="0" cy="230364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6443280" y="2565360"/>
                <a:ext cx="360" cy="230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443280" y="3645000"/>
              <a:ext cx="865080" cy="360"/>
              <a:chOff x="6443280" y="3645000"/>
              <a:chExt cx="865080" cy="360"/>
            </a:xfrm>
          </p:grpSpPr>
          <p:sp>
            <p:nvSpPr>
              <p:cNvPr id="246" name="Line 13"/>
              <p:cNvSpPr/>
              <p:nvPr/>
            </p:nvSpPr>
            <p:spPr>
              <a:xfrm>
                <a:off x="6443280" y="3645000"/>
                <a:ext cx="8650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6443280" y="3645000"/>
                <a:ext cx="86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Text Box 14"/>
          <p:cNvSpPr/>
          <p:nvPr/>
        </p:nvSpPr>
        <p:spPr>
          <a:xfrm>
            <a:off x="25092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250920" y="45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572000" y="328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4284720" y="551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卵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730872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精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4788000" y="227664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4788000" y="450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52472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8028000" y="3357720"/>
            <a:ext cx="3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1403280" y="2924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卷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1042920" y="5157720"/>
            <a:ext cx="18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不卷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7596360" y="486900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971640" y="692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殖过程中基因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24000" y="907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孟德尔为什么选豌豆做实验材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68360" y="2781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豌豆的相对性状明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图片1"/>
          <p:cNvPicPr/>
          <p:nvPr/>
        </p:nvPicPr>
        <p:blipFill>
          <a:blip r:embed="rId1"/>
          <a:srcRect l="0" t="0" r="65555" b="6273"/>
          <a:stretch/>
        </p:blipFill>
        <p:spPr>
          <a:xfrm>
            <a:off x="611280" y="3357720"/>
            <a:ext cx="718920" cy="2160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图片1"/>
          <p:cNvPicPr/>
          <p:nvPr/>
        </p:nvPicPr>
        <p:blipFill>
          <a:blip r:embed="rId2"/>
          <a:srcRect l="65131" t="0" r="0" b="7092"/>
          <a:stretch/>
        </p:blipFill>
        <p:spPr>
          <a:xfrm>
            <a:off x="1547640" y="4076640"/>
            <a:ext cx="1008360" cy="1438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pic_69977"/>
          <p:cNvPicPr/>
          <p:nvPr/>
        </p:nvPicPr>
        <p:blipFill>
          <a:blip r:embed="rId3"/>
          <a:stretch/>
        </p:blipFill>
        <p:spPr>
          <a:xfrm>
            <a:off x="2843280" y="3933720"/>
            <a:ext cx="2952720" cy="1727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u=1304609767,2328287064&amp;gp=40"/>
          <p:cNvPicPr/>
          <p:nvPr/>
        </p:nvPicPr>
        <p:blipFill>
          <a:blip r:embed="rId4"/>
          <a:srcRect l="22761" t="7622" r="20493" b="8119"/>
          <a:stretch/>
        </p:blipFill>
        <p:spPr>
          <a:xfrm>
            <a:off x="6227640" y="429264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u=3051320807,2464508539&amp;gp=14"/>
          <p:cNvPicPr/>
          <p:nvPr/>
        </p:nvPicPr>
        <p:blipFill>
          <a:blip r:embed="rId5"/>
          <a:srcRect l="27916" t="20304" r="17441" b="6547"/>
          <a:stretch/>
        </p:blipFill>
        <p:spPr>
          <a:xfrm>
            <a:off x="7380360" y="4292640"/>
            <a:ext cx="1152360" cy="1225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468360" y="5877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茎与矮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3276720" y="5877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粒与皱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372360" y="5877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粒与绿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468360" y="19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豌豆是严格自花传粉的植物，且是闭花传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5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豌豆是自花传粉植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" descr="豌豆是自花授粉植物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108000"/>
            <a:ext cx="78436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孟德尔研究过的豌豆七对相对性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孟德尔研究了豌豆植株的7种不同性状"/>
          <p:cNvPicPr/>
          <p:nvPr/>
        </p:nvPicPr>
        <p:blipFill>
          <a:blip r:embed="rId1"/>
          <a:stretch/>
        </p:blipFill>
        <p:spPr>
          <a:xfrm>
            <a:off x="108000" y="909720"/>
            <a:ext cx="89946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pic_69993"/>
          <p:cNvPicPr/>
          <p:nvPr/>
        </p:nvPicPr>
        <p:blipFill>
          <a:blip r:embed="rId1"/>
          <a:stretch/>
        </p:blipFill>
        <p:spPr>
          <a:xfrm>
            <a:off x="250920" y="620640"/>
            <a:ext cx="87580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pic_69988"/>
          <p:cNvPicPr/>
          <p:nvPr/>
        </p:nvPicPr>
        <p:blipFill>
          <a:blip r:embed="rId1"/>
          <a:stretch/>
        </p:blipFill>
        <p:spPr>
          <a:xfrm>
            <a:off x="250920" y="620640"/>
            <a:ext cx="8740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1:59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34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