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E2C-22A6-42E8-9FE6-5611DE2A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36F-2626-4944-A9A4-E78A26C5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99C-4697-4774-8475-7A6DE9D6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015-0F4A-4A04-92B7-C6FDDA66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AE24-AA24-4263-B856-E8930D4D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9745-BF9D-49A3-8675-0950D7E5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80F5-6FAC-4C7B-8DBD-3433B09D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5981-A566-426F-932D-88096F9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B497-379D-4E6E-8F63-1D21F9D4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2FE3-84DD-47DC-A076-30408388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C805-C64A-48DD-A806-5FA4960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169-0D75-4B2A-A449-DC3EDE76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03B2-486C-43DD-93D0-BF4A3442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6E92-6F24-4F65-8141-4B99DFC3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72FA-7406-44F1-B816-30D89678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B8EA-A344-4394-905A-3D7D711D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F927-74CF-4D45-B2B6-1B4FB0DE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854-354D-4767-950D-352CC3F6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B17-628A-4A0D-A7F5-C689AC49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2E3-BF3F-4646-B3AD-86C357BC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093-B9FF-484F-A453-0C7316F8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8FB-D490-47AB-B5D2-501505A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898-01AA-4DF2-BC47-5F0D03B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A98-3B1C-41EA-BB0D-3509278F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2879-3A8C-4BD8-BB4B-E697F245F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5770-450E-4A9B-A485-AC53C2487D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843280" y="422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景阳冈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br>
              <a:rPr sz="115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单元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默读要提高速度，一是要看得快、从一眼看一个字一个词，变为一眼看一句或者几句；二是要想得快，脑子跟着眼睛的扫视迅速思考，弄清楚看到的文字说的是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默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景阳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段，只看几秒钟就把书合起来，你能说说这一自然段告诉我们什么吗？我们可以试着用这样的方法提高默读的速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景阳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本文是根据我国著名古典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２３回改写的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描写北宋末年山东农民起义的长篇小说，作者施耐庵。这部小说写宋江等１０８条好汉，在封建统治者残酷压迫下，被迫在梁山泊聚义反抗的故事，武松是这部书中的英雄人物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景阳冈，在山东阳谷县城东１７公里处，传说这里古木参天，荒草无涯，是虎狼藏身，野兽出没的地方。清代末年在山冈修建了“山神庙”，庙内有武松大虎的塑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默读课文给课文列小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（晌午时候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路至阳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进店喝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店家劝阻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三碗不过冈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不听劝阻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酒后上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５（红日落下山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继续上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（红日坠下去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继续上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言自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冈上睡觉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跳出大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冈上打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梢棒打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１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奄奄一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打死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３（天色已黑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走下冈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8199"/>
          <p:cNvSpPr/>
          <p:nvPr/>
        </p:nvSpPr>
        <p:spPr>
          <a:xfrm>
            <a:off x="3276720" y="501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事情发展顺序将课文分四段，说说段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—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进店喝酒，不听店家劝告，执意要过景阳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—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上冈，见到庙门上有官司的榜文，才知有虎，但怕回去被店家耻笑，决定继续上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—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赤手空拳与虎搏斗，终于打死了猛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打死老虎以后，一步步挨下冈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574D-A674-4BCF-A933-AD7600E06E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686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文主要讲了一件什么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武松在酒店喝了几碗酒？我们可以看出武松怎样的性格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武松靠什么打死了老虎？这反映了武松的什么精神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4T03:34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24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