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37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explode.wav" ContentType="audio/x-wav"/>
  <Override PartName="/ppt/media/image49.jpeg" ContentType="image/jpeg"/>
  <Override PartName="/ppt/media/image20.jpeg" ContentType="image/jpeg"/>
  <Override PartName="/ppt/media/camera.wav" ContentType="audio/x-wav"/>
  <Override PartName="/ppt/media/image33.jpeg" ContentType="image/jpeg"/>
  <Override PartName="/ppt/media/image10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5EE7-9390-440D-912E-C5C72AC7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F334-B5FE-4679-80CA-B6906EA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8216-9E3F-4FC2-ADAF-ECE55F9C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B429-A8B9-4488-B0E8-76BED259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6E5A-A748-4284-A1B3-C664C51F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9ADF-6110-42C7-9EE3-4BC77F9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F4F0-6FAC-4422-B569-508E8571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DCEB-6693-47DA-8108-B18F1D94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76C1-39BA-48B7-A6CD-014AE423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D10B-83F8-436B-B5CA-C6D6ABA6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95F6-8F01-4EA4-965C-BF26155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C90B-C5A3-49AD-ADC3-803AC5A1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303-32A5-4F6B-A122-F54FCBE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42B3-24F1-4271-9CF1-C6B1A4F6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9CB3-A897-4736-BAB6-D66E7FE8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9826-A9A9-4C9B-859E-B55657B7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7DA2-9723-467E-9649-A4AD14FC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C57C-20A4-46F3-80B4-46224AD8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CFBE-1B2A-425B-84EA-6CDF7A5A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C5F9-C29E-4AB7-812E-2F8157E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E25C-11F0-4685-B445-F0308F25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4804-1B71-4761-9EA0-F3110412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15EE-73F3-4B03-AF98-B101849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3B4E-E852-46AD-939E-AC31665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6DA2-BB0E-4812-9F20-D70A00B8E9CD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6A82-09FD-4746-A2D6-422DC4464C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0120" y="476280"/>
            <a:ext cx="777708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b20"/>
                </a:solidFill>
                <a:latin typeface="宋体"/>
                <a:ea typeface="宋体"/>
              </a:rPr>
              <a:t>第一节</a:t>
            </a:r>
            <a:br>
              <a:rPr sz="4000"/>
            </a:br>
            <a:r>
              <a:rPr b="1" lang="zh-CN" sz="4000" spc="-1" strike="noStrike">
                <a:solidFill>
                  <a:srgbClr val="2f2b20"/>
                </a:solidFill>
                <a:latin typeface="宋体"/>
                <a:ea typeface="宋体"/>
              </a:rPr>
              <a:t>基因控制生物的性状</a:t>
            </a:r>
            <a:r>
              <a:rPr b="1" lang="en-US" sz="4000" spc="-1" strike="noStrike">
                <a:solidFill>
                  <a:srgbClr val="2f2b2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f2b2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rcRect l="0" t="0" r="0" b="5786"/>
          <a:stretch/>
        </p:blipFill>
        <p:spPr>
          <a:xfrm>
            <a:off x="1406520" y="2997360"/>
            <a:ext cx="6419880" cy="3024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f2b2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2f2b2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48428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性状是生物体的形态结构、生理和行为等特征的统称。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4005360"/>
            <a:ext cx="84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人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耳垂：无耳垂和有耳垂；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眼皮：单眼皮和双眼皮；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舌：卷舌和不能卷舌；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大拇指：能弯曲和不能弯曲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0" y="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讨论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26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试着概括什么是生物的性状？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0" y="2708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举例说出同种生物同一性状有哪些不同的表现形式。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250920" y="4292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能。肉眼仅能观察到某些形态结构特征、行为方式，而无法观察到生物的生理特性等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33280" y="198900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仅凭肉眼观察或简单的测量就能知道自己所有的性状吗？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7520" y="1413000"/>
            <a:ext cx="24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2f2b20"/>
                </a:solidFill>
                <a:latin typeface="楷体_GB2312"/>
                <a:ea typeface="楷体_GB2312"/>
              </a:rPr>
              <a:t>哪些与父母性状相同？这些说明什么。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3480" y="46530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耳垂、大拇指向背侧弯曲、惯用右手。可遗传。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532240" y="1292400"/>
            <a:ext cx="6611760" cy="55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24000" y="292428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生物的所有性状都能遗传吗？如不能，请举一例，并试着作出解释。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4000" y="422100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是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。比如，麦田中水肥充足的地方，麦苗比正常的要粗壮，这一性状差异是由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环境条件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的变化引起的变异，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涉及到遗传物质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的改变，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遗传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的。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0920" y="155736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在观察和讨论过程中，你还有哪些问题？请与同学交流，并试着作出解释。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8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2f2b2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692000" y="1483920"/>
            <a:ext cx="63370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1" lang="zh-CN" sz="5400" spc="-1" strike="noStrike">
                <a:solidFill>
                  <a:srgbClr val="2f2b20"/>
                </a:solidFill>
                <a:latin typeface="Calibri"/>
              </a:rPr>
              <a:t>同种生物同一性状的不同表现形式</a:t>
            </a:r>
            <a:endParaRPr b="0" lang="en-US" sz="5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0" name="Picture 3" descr="红色西红柿"/>
          <p:cNvPicPr/>
          <p:nvPr/>
        </p:nvPicPr>
        <p:blipFill>
          <a:blip r:embed="rId1"/>
          <a:srcRect l="50004" t="0" r="0" b="13066"/>
          <a:stretch/>
        </p:blipFill>
        <p:spPr>
          <a:xfrm>
            <a:off x="5076720" y="3500280"/>
            <a:ext cx="2808360" cy="291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红色西红柿"/>
          <p:cNvPicPr/>
          <p:nvPr/>
        </p:nvPicPr>
        <p:blipFill>
          <a:blip r:embed="rId2"/>
          <a:srcRect l="0" t="1846" r="50004" b="13066"/>
          <a:stretch/>
        </p:blipFill>
        <p:spPr>
          <a:xfrm>
            <a:off x="2124000" y="3573360"/>
            <a:ext cx="2808360" cy="2853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395280" y="333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相对性状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908000" y="1557360"/>
            <a:ext cx="935280" cy="792000"/>
          </a:xfrm>
          <a:prstGeom prst="ellipse">
            <a:avLst/>
          </a:prstGeom>
          <a:gradFill rotWithShape="0">
            <a:gsLst>
              <a:gs pos="0">
                <a:srgbClr val="a9a57c">
                  <a:alpha val="0"/>
                </a:srgbClr>
              </a:gs>
              <a:gs pos="100000">
                <a:srgbClr val="4e4c39">
                  <a:alpha val="0"/>
                </a:srgbClr>
              </a:gs>
            </a:gsLst>
            <a:lin ang="5400000"/>
          </a:gra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4788000" y="1484280"/>
            <a:ext cx="1368360" cy="1008000"/>
          </a:xfrm>
          <a:prstGeom prst="ellipse">
            <a:avLst/>
          </a:prstGeom>
          <a:gradFill rotWithShape="0">
            <a:gsLst>
              <a:gs pos="0">
                <a:srgbClr val="a9a57c">
                  <a:alpha val="0"/>
                </a:srgbClr>
              </a:gs>
              <a:gs pos="100000">
                <a:srgbClr val="4e4c39">
                  <a:alpha val="0"/>
                </a:srgbClr>
              </a:gs>
            </a:gsLst>
            <a:lin ang="5400000"/>
          </a:gra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2771640" y="2205000"/>
            <a:ext cx="1440000" cy="1224000"/>
          </a:xfrm>
          <a:prstGeom prst="ellipse">
            <a:avLst/>
          </a:prstGeom>
          <a:gradFill rotWithShape="0">
            <a:gsLst>
              <a:gs pos="0">
                <a:srgbClr val="a9a57c">
                  <a:alpha val="0"/>
                </a:srgbClr>
              </a:gs>
              <a:gs pos="100000">
                <a:srgbClr val="4e4c39">
                  <a:alpha val="0"/>
                </a:srgbClr>
              </a:gs>
            </a:gsLst>
            <a:lin ang="5400000"/>
          </a:gra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859280" y="1268280"/>
            <a:ext cx="4038480" cy="1878480"/>
            <a:chOff x="4859280" y="1268280"/>
            <a:chExt cx="4038480" cy="1878480"/>
          </a:xfrm>
        </p:grpSpPr>
        <p:pic>
          <p:nvPicPr>
            <p:cNvPr id="167" name="Picture 3" descr="pic_69975"/>
            <p:cNvPicPr/>
            <p:nvPr/>
          </p:nvPicPr>
          <p:blipFill>
            <a:blip r:embed="rId1"/>
            <a:stretch/>
          </p:blipFill>
          <p:spPr>
            <a:xfrm>
              <a:off x="4859280" y="1268280"/>
              <a:ext cx="403848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4"/>
            <p:cNvSpPr/>
            <p:nvPr/>
          </p:nvSpPr>
          <p:spPr>
            <a:xfrm>
              <a:off x="5877720" y="256536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番茄的红果与黄果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69" name="Group 5"/>
          <p:cNvGrpSpPr/>
          <p:nvPr/>
        </p:nvGrpSpPr>
        <p:grpSpPr>
          <a:xfrm>
            <a:off x="611280" y="3429000"/>
            <a:ext cx="3733560" cy="3030840"/>
            <a:chOff x="611280" y="3429000"/>
            <a:chExt cx="3733560" cy="3030840"/>
          </a:xfrm>
        </p:grpSpPr>
        <p:pic>
          <p:nvPicPr>
            <p:cNvPr id="170" name="Picture 6" descr="pic_69976"/>
            <p:cNvPicPr/>
            <p:nvPr/>
          </p:nvPicPr>
          <p:blipFill>
            <a:blip r:embed="rId2"/>
            <a:stretch/>
          </p:blipFill>
          <p:spPr>
            <a:xfrm>
              <a:off x="611280" y="3429000"/>
              <a:ext cx="3733560" cy="25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1547640" y="587844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兔的白毛与黑毛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2" name="Group 8"/>
          <p:cNvGrpSpPr/>
          <p:nvPr/>
        </p:nvGrpSpPr>
        <p:grpSpPr>
          <a:xfrm>
            <a:off x="4572000" y="3429000"/>
            <a:ext cx="4191120" cy="3102480"/>
            <a:chOff x="4572000" y="3429000"/>
            <a:chExt cx="4191120" cy="3102480"/>
          </a:xfrm>
        </p:grpSpPr>
        <p:pic>
          <p:nvPicPr>
            <p:cNvPr id="173" name="Picture 9" descr="pic_69974"/>
            <p:cNvPicPr/>
            <p:nvPr/>
          </p:nvPicPr>
          <p:blipFill>
            <a:blip r:embed="rId3"/>
            <a:stretch/>
          </p:blipFill>
          <p:spPr>
            <a:xfrm>
              <a:off x="4572000" y="3429000"/>
              <a:ext cx="419112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0"/>
            <p:cNvSpPr/>
            <p:nvPr/>
          </p:nvSpPr>
          <p:spPr>
            <a:xfrm>
              <a:off x="5519160" y="595008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鸡的玫瑰冠与单冠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mbria"/>
              </a:rPr>
              <a:t>相对性状</a:t>
            </a:r>
            <a:endParaRPr b="0" lang="en-US" sz="72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324000" y="1197000"/>
            <a:ext cx="3744720" cy="1692000"/>
            <a:chOff x="324000" y="1197000"/>
            <a:chExt cx="3744720" cy="1692000"/>
          </a:xfrm>
        </p:grpSpPr>
        <p:pic>
          <p:nvPicPr>
            <p:cNvPr id="177" name="Picture 13" descr="pic_69977"/>
            <p:cNvPicPr/>
            <p:nvPr/>
          </p:nvPicPr>
          <p:blipFill>
            <a:blip r:embed="rId4"/>
            <a:stretch/>
          </p:blipFill>
          <p:spPr>
            <a:xfrm>
              <a:off x="324000" y="1197000"/>
              <a:ext cx="37447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4"/>
            <p:cNvSpPr/>
            <p:nvPr/>
          </p:nvSpPr>
          <p:spPr>
            <a:xfrm>
              <a:off x="1334880" y="236844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f2b20"/>
                  </a:solidFill>
                  <a:latin typeface="Arial"/>
                </a:rPr>
                <a:t>豌豆的圆粒与皱粒 </a:t>
              </a:r>
              <a:endParaRPr b="1" lang="en-US" sz="2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24000" y="108576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下列现象不属于遗传的是（  ）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种瓜得瓜，种豆得豆 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一猪生九仔，连母十个样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龙生龙，凤生凤，老鼠生来会打洞     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羊生下的是羊，牛生下的是牛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下列不属于人的性状的是（  ）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皮肤的颜色       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血型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白化病              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蛀牙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下列人的几组性状中，不属于相对性状的是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(  )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双眼皮和单眼皮                   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金发和卷发     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有耳垂和无耳垂                   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白皮肤和黑皮肤 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68360" y="404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达标检测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】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86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   </a:t>
            </a:r>
            <a:r>
              <a:rPr b="0" lang="zh-CN" sz="4600" spc="-1" strike="noStrike">
                <a:solidFill>
                  <a:srgbClr val="675e47"/>
                </a:solidFill>
                <a:latin typeface="Cambria"/>
              </a:rPr>
              <a:t>下列说法对吗？为什么？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767960"/>
            <a:ext cx="7921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2f2b20"/>
                </a:solidFill>
                <a:latin typeface="Calibri"/>
              </a:rPr>
              <a:t>同样是生长成熟的鱼，鲤鱼的个体较大，鲫鱼的个体较小。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2f2b20"/>
                </a:solidFill>
                <a:latin typeface="Calibri"/>
              </a:rPr>
              <a:t>金鱼有体色透明和不透明的，这是相对性状。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1" lang="zh-CN" sz="4000" spc="-1" strike="noStrike">
                <a:solidFill>
                  <a:srgbClr val="2f2b20"/>
                </a:solidFill>
                <a:latin typeface="Calibri"/>
              </a:rPr>
              <a:t>狗的直毛和狗的白毛是相对性状。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1" lang="zh-CN" sz="4000" spc="-1" strike="noStrike">
                <a:solidFill>
                  <a:srgbClr val="2f2b20"/>
                </a:solidFill>
                <a:latin typeface="Calibri"/>
              </a:rPr>
              <a:t>、狐的长尾和蛙的无尾。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90520" y="1768320"/>
            <a:ext cx="6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95640" y="31892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88080" y="41972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338880" y="189576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_____ 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02160" y="247176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_____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378160" y="434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__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898880" y="434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__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514520" y="557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__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4106880" y="557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__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57840" y="54212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3"/>
          <p:cNvGrpSpPr/>
          <p:nvPr/>
        </p:nvGrpSpPr>
        <p:grpSpPr>
          <a:xfrm>
            <a:off x="378000" y="3683160"/>
            <a:ext cx="6120720" cy="1589400"/>
            <a:chOff x="378000" y="3683160"/>
            <a:chExt cx="6120720" cy="1589400"/>
          </a:xfrm>
        </p:grpSpPr>
        <p:sp>
          <p:nvSpPr>
            <p:cNvPr id="194" name="Text Box 4"/>
            <p:cNvSpPr/>
            <p:nvPr/>
          </p:nvSpPr>
          <p:spPr>
            <a:xfrm>
              <a:off x="3257280" y="4116240"/>
              <a:ext cx="15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受精卵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5310000" y="4114800"/>
              <a:ext cx="11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子女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4554360" y="3971880"/>
              <a:ext cx="9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b20"/>
                  </a:solidFill>
                  <a:latin typeface="Times New Roman"/>
                </a:rPr>
                <a:t>发育</a:t>
              </a:r>
              <a:endParaRPr b="1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378000" y="368316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父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378000" y="4691160"/>
              <a:ext cx="51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母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882360" y="4043160"/>
              <a:ext cx="415800" cy="1440"/>
              <a:chOff x="882360" y="4043160"/>
              <a:chExt cx="415800" cy="1440"/>
            </a:xfrm>
          </p:grpSpPr>
          <p:sp>
            <p:nvSpPr>
              <p:cNvPr id="200" name="Line 9"/>
              <p:cNvSpPr/>
              <p:nvPr/>
            </p:nvSpPr>
            <p:spPr>
              <a:xfrm>
                <a:off x="882360" y="4043160"/>
                <a:ext cx="415800" cy="1440"/>
              </a:xfrm>
              <a:prstGeom prst="line">
                <a:avLst/>
              </a:prstGeom>
              <a:ln w="19080">
                <a:solidFill>
                  <a:srgbClr val="2f2b2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882360" y="4043160"/>
                <a:ext cx="415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882360" y="4979880"/>
              <a:ext cx="379080" cy="360"/>
              <a:chOff x="882360" y="4979880"/>
              <a:chExt cx="379080" cy="360"/>
            </a:xfrm>
          </p:grpSpPr>
          <p:sp>
            <p:nvSpPr>
              <p:cNvPr id="203" name="Line 10"/>
              <p:cNvSpPr/>
              <p:nvPr/>
            </p:nvSpPr>
            <p:spPr>
              <a:xfrm>
                <a:off x="882360" y="4979880"/>
                <a:ext cx="379080" cy="0"/>
              </a:xfrm>
              <a:prstGeom prst="line">
                <a:avLst/>
              </a:prstGeom>
              <a:ln w="19080">
                <a:solidFill>
                  <a:srgbClr val="2f2b2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882360" y="4979880"/>
                <a:ext cx="37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205" name="Text Box 11"/>
            <p:cNvSpPr/>
            <p:nvPr/>
          </p:nvSpPr>
          <p:spPr>
            <a:xfrm>
              <a:off x="1204920" y="3683160"/>
              <a:ext cx="128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精  子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6" name="Text Box 12"/>
            <p:cNvSpPr/>
            <p:nvPr/>
          </p:nvSpPr>
          <p:spPr>
            <a:xfrm>
              <a:off x="1152360" y="4691160"/>
              <a:ext cx="161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f2b20"/>
                  </a:solidFill>
                  <a:latin typeface="Times New Roman"/>
                </a:rPr>
                <a:t>卵细胞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7" name="AutoShape 13"/>
            <p:cNvSpPr/>
            <p:nvPr/>
          </p:nvSpPr>
          <p:spPr>
            <a:xfrm>
              <a:off x="2465280" y="3827520"/>
              <a:ext cx="156960" cy="1223640"/>
            </a:xfrm>
            <a:custGeom>
              <a:avLst/>
              <a:gdLst>
                <a:gd name="textAreaLeft" fmla="*/ 0 w 156960"/>
                <a:gd name="textAreaRight" fmla="*/ 56520 w 1569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2538360" y="3971880"/>
              <a:ext cx="9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b20"/>
                  </a:solidFill>
                  <a:latin typeface="Times New Roman"/>
                </a:rPr>
                <a:t>受精</a:t>
              </a:r>
              <a:endParaRPr b="1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609640" y="4475160"/>
              <a:ext cx="757080" cy="360"/>
              <a:chOff x="2609640" y="4475160"/>
              <a:chExt cx="757080" cy="360"/>
            </a:xfrm>
          </p:grpSpPr>
          <p:sp>
            <p:nvSpPr>
              <p:cNvPr id="210" name="Line 15"/>
              <p:cNvSpPr/>
              <p:nvPr/>
            </p:nvSpPr>
            <p:spPr>
              <a:xfrm>
                <a:off x="2609640" y="4475160"/>
                <a:ext cx="757080" cy="0"/>
              </a:xfrm>
              <a:prstGeom prst="line">
                <a:avLst/>
              </a:prstGeom>
              <a:ln w="19080">
                <a:solidFill>
                  <a:srgbClr val="2f2b2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2609640" y="4475160"/>
                <a:ext cx="75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626000" y="4403520"/>
              <a:ext cx="701280" cy="360"/>
              <a:chOff x="4626000" y="4403520"/>
              <a:chExt cx="701280" cy="360"/>
            </a:xfrm>
          </p:grpSpPr>
          <p:sp>
            <p:nvSpPr>
              <p:cNvPr id="213" name="Line 16"/>
              <p:cNvSpPr/>
              <p:nvPr/>
            </p:nvSpPr>
            <p:spPr>
              <a:xfrm>
                <a:off x="4626000" y="4403520"/>
                <a:ext cx="701280" cy="0"/>
              </a:xfrm>
              <a:prstGeom prst="line">
                <a:avLst/>
              </a:prstGeom>
              <a:ln w="19080">
                <a:solidFill>
                  <a:srgbClr val="2f2b2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4626000" y="4403520"/>
                <a:ext cx="70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Text Box 17"/>
          <p:cNvSpPr/>
          <p:nvPr/>
        </p:nvSpPr>
        <p:spPr>
          <a:xfrm>
            <a:off x="378000" y="1484280"/>
            <a:ext cx="68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资料分析（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P27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转基因鼠的启示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78000" y="2998800"/>
            <a:ext cx="55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亲代的性状如何传递给子代的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2520000" y="12384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基因控制生物的性状   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图片3"/>
          <p:cNvPicPr/>
          <p:nvPr/>
        </p:nvPicPr>
        <p:blipFill>
          <a:blip r:embed="rId1"/>
          <a:srcRect l="1574" t="-158" r="35205" b="31414"/>
          <a:stretch/>
        </p:blipFill>
        <p:spPr>
          <a:xfrm>
            <a:off x="5076720" y="2708280"/>
            <a:ext cx="4067280" cy="266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图片4"/>
          <p:cNvPicPr/>
          <p:nvPr/>
        </p:nvPicPr>
        <p:blipFill>
          <a:blip r:embed="rId2"/>
          <a:srcRect l="1329" t="2346" r="15427" b="14424"/>
          <a:stretch/>
        </p:blipFill>
        <p:spPr>
          <a:xfrm>
            <a:off x="3851280" y="189000"/>
            <a:ext cx="4897440" cy="2592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pic_86723"/>
          <p:cNvPicPr/>
          <p:nvPr/>
        </p:nvPicPr>
        <p:blipFill>
          <a:blip r:embed="rId3"/>
          <a:srcRect l="28740" t="75459" r="58371" b="106"/>
          <a:stretch/>
        </p:blipFill>
        <p:spPr>
          <a:xfrm>
            <a:off x="6659640" y="5516640"/>
            <a:ext cx="2016000" cy="1081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ic_86723"/>
          <p:cNvPicPr/>
          <p:nvPr/>
        </p:nvPicPr>
        <p:blipFill>
          <a:blip r:embed="rId4"/>
          <a:srcRect l="1826" t="5017" r="58633" b="44410"/>
          <a:stretch/>
        </p:blipFill>
        <p:spPr>
          <a:xfrm>
            <a:off x="0" y="0"/>
            <a:ext cx="3313080" cy="230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c_69980"/>
          <p:cNvPicPr/>
          <p:nvPr/>
        </p:nvPicPr>
        <p:blipFill>
          <a:blip r:embed="rId5"/>
          <a:srcRect l="3336" t="4227" r="3336" b="0"/>
          <a:stretch/>
        </p:blipFill>
        <p:spPr>
          <a:xfrm>
            <a:off x="1476360" y="306864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ic_86723"/>
          <p:cNvPicPr/>
          <p:nvPr/>
        </p:nvPicPr>
        <p:blipFill>
          <a:blip r:embed="rId6"/>
          <a:srcRect l="66369" t="42123" r="22678" b="49547"/>
          <a:stretch/>
        </p:blipFill>
        <p:spPr>
          <a:xfrm>
            <a:off x="7596360" y="4508640"/>
            <a:ext cx="64764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ic_86723"/>
          <p:cNvPicPr/>
          <p:nvPr/>
        </p:nvPicPr>
        <p:blipFill>
          <a:blip r:embed="rId7"/>
          <a:srcRect l="49547" t="66369" r="42123" b="22678"/>
          <a:stretch/>
        </p:blipFill>
        <p:spPr>
          <a:xfrm rot="1143600">
            <a:off x="4788000" y="5516640"/>
            <a:ext cx="1368360" cy="647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ic_86723"/>
          <p:cNvPicPr/>
          <p:nvPr/>
        </p:nvPicPr>
        <p:blipFill>
          <a:blip r:embed="rId8"/>
          <a:srcRect l="42123" t="22678" r="49547" b="66369"/>
          <a:stretch/>
        </p:blipFill>
        <p:spPr>
          <a:xfrm>
            <a:off x="2556000" y="1628640"/>
            <a:ext cx="1224000" cy="64800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0"/>
          <p:cNvGrpSpPr/>
          <p:nvPr/>
        </p:nvGrpSpPr>
        <p:grpSpPr>
          <a:xfrm>
            <a:off x="0" y="3989160"/>
            <a:ext cx="5075280" cy="1743480"/>
            <a:chOff x="0" y="3989160"/>
            <a:chExt cx="5075280" cy="1743480"/>
          </a:xfrm>
        </p:grpSpPr>
        <p:sp>
          <p:nvSpPr>
            <p:cNvPr id="227" name="AutoShape 11"/>
            <p:cNvSpPr/>
            <p:nvPr/>
          </p:nvSpPr>
          <p:spPr>
            <a:xfrm rot="19724400">
              <a:off x="1547640" y="4581000"/>
              <a:ext cx="936720" cy="432000"/>
            </a:xfrm>
            <a:prstGeom prst="rightArrow">
              <a:avLst>
                <a:gd name="adj1" fmla="val 50000"/>
                <a:gd name="adj2" fmla="val 54178"/>
              </a:avLst>
            </a:prstGeom>
            <a:solidFill>
              <a:srgbClr val="ff3300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0" y="4437000"/>
              <a:ext cx="17272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3300"/>
                  </a:solidFill>
                  <a:latin typeface="Arial"/>
                </a:rPr>
                <a:t>转基因超级鼠</a:t>
              </a:r>
              <a:r>
                <a:rPr b="0" lang="zh-CN" sz="4400" spc="-1" strike="noStrike">
                  <a:solidFill>
                    <a:srgbClr val="675e47"/>
                  </a:solidFill>
                  <a:latin typeface="Arial"/>
                </a:rPr>
                <a:t> </a:t>
              </a:r>
              <a:endParaRPr b="1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29" name="AutoShape 13"/>
            <p:cNvSpPr/>
            <p:nvPr/>
          </p:nvSpPr>
          <p:spPr>
            <a:xfrm rot="13285200">
              <a:off x="3563280" y="4220640"/>
              <a:ext cx="863640" cy="43200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0000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3348000" y="4508640"/>
              <a:ext cx="17272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3300"/>
                  </a:solidFill>
                  <a:latin typeface="Arial"/>
                </a:rPr>
                <a:t>小鼠</a:t>
              </a:r>
              <a:r>
                <a:rPr b="0" lang="zh-CN" sz="4400" spc="-1" strike="noStrike">
                  <a:solidFill>
                    <a:srgbClr val="675e47"/>
                  </a:solidFill>
                  <a:latin typeface="Arial"/>
                </a:rPr>
                <a:t> </a:t>
              </a:r>
              <a:endParaRPr b="1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31" name="Text Box 15"/>
          <p:cNvSpPr/>
          <p:nvPr/>
        </p:nvSpPr>
        <p:spPr>
          <a:xfrm>
            <a:off x="468360" y="62784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胎所生的转基因超级鼠和小鼠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6836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核未融合的受精卵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676764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鼠生长激素基因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7091280" y="3573360"/>
            <a:ext cx="20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将受精卵注入输卵管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4337280" y="0"/>
            <a:ext cx="1826640" cy="45972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33"/>
                </a:solidFill>
                <a:latin typeface="Arial"/>
              </a:rPr>
              <a:t>转基因超级鼠的启示</a:t>
            </a:r>
            <a:endParaRPr b="1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Cambria"/>
              </a:rPr>
              <a:t>课外观察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8000" y="836640"/>
          <a:ext cx="8728200" cy="5754600"/>
        </p:xfrm>
        <a:graphic>
          <a:graphicData uri="http://schemas.openxmlformats.org/drawingml/2006/table">
            <a:tbl>
              <a:tblPr/>
              <a:tblGrid>
                <a:gridCol w="218880"/>
                <a:gridCol w="2612880"/>
                <a:gridCol w="1668240"/>
                <a:gridCol w="531360"/>
                <a:gridCol w="455400"/>
                <a:gridCol w="529920"/>
                <a:gridCol w="453600"/>
                <a:gridCol w="607320"/>
                <a:gridCol w="758160"/>
                <a:gridCol w="892440"/>
              </a:tblGrid>
              <a:tr h="719280">
                <a:tc rowSpan="1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自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己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父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亲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母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亲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祖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父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祖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母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外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祖父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外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祖母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耳垂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有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无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上眼睑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双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单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酒窝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有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无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舌由两侧向中央卷曲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能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否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大拇指向背侧弯曲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能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否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惯用手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右手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f2b20"/>
                          </a:solidFill>
                          <a:latin typeface="Arial"/>
                        </a:rPr>
                        <a:t>左手</a:t>
                      </a:r>
                      <a:endParaRPr b="1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图片3"/>
          <p:cNvPicPr/>
          <p:nvPr/>
        </p:nvPicPr>
        <p:blipFill>
          <a:blip r:embed="rId1"/>
          <a:srcRect l="1574" t="-158" r="35205" b="31414"/>
          <a:stretch/>
        </p:blipFill>
        <p:spPr>
          <a:xfrm>
            <a:off x="5076720" y="2708280"/>
            <a:ext cx="4067280" cy="2665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pic_86723"/>
          <p:cNvPicPr/>
          <p:nvPr/>
        </p:nvPicPr>
        <p:blipFill>
          <a:blip r:embed="rId2"/>
          <a:srcRect l="28740" t="75459" r="58371" b="106"/>
          <a:stretch/>
        </p:blipFill>
        <p:spPr>
          <a:xfrm>
            <a:off x="6659640" y="5516640"/>
            <a:ext cx="2016000" cy="108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ic_86723"/>
          <p:cNvPicPr/>
          <p:nvPr/>
        </p:nvPicPr>
        <p:blipFill>
          <a:blip r:embed="rId3"/>
          <a:srcRect l="1826" t="5017" r="58633" b="44410"/>
          <a:stretch/>
        </p:blipFill>
        <p:spPr>
          <a:xfrm>
            <a:off x="0" y="0"/>
            <a:ext cx="3313080" cy="2303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pic_69980"/>
          <p:cNvPicPr/>
          <p:nvPr/>
        </p:nvPicPr>
        <p:blipFill>
          <a:blip r:embed="rId4"/>
          <a:srcRect l="3336" t="4227" r="3336" b="0"/>
          <a:stretch/>
        </p:blipFill>
        <p:spPr>
          <a:xfrm>
            <a:off x="1476360" y="306864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pic_86723"/>
          <p:cNvPicPr/>
          <p:nvPr/>
        </p:nvPicPr>
        <p:blipFill>
          <a:blip r:embed="rId5"/>
          <a:srcRect l="66369" t="42123" r="22678" b="49547"/>
          <a:stretch/>
        </p:blipFill>
        <p:spPr>
          <a:xfrm>
            <a:off x="7596360" y="4508640"/>
            <a:ext cx="647640" cy="100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pic_86723"/>
          <p:cNvPicPr/>
          <p:nvPr/>
        </p:nvPicPr>
        <p:blipFill>
          <a:blip r:embed="rId6"/>
          <a:srcRect l="49547" t="66369" r="42123" b="22678"/>
          <a:stretch/>
        </p:blipFill>
        <p:spPr>
          <a:xfrm rot="1143600">
            <a:off x="4788000" y="5516640"/>
            <a:ext cx="1368360" cy="64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pic_86723"/>
          <p:cNvPicPr/>
          <p:nvPr/>
        </p:nvPicPr>
        <p:blipFill>
          <a:blip r:embed="rId7"/>
          <a:srcRect l="42123" t="22678" r="49547" b="66369"/>
          <a:stretch/>
        </p:blipFill>
        <p:spPr>
          <a:xfrm>
            <a:off x="2556000" y="1628640"/>
            <a:ext cx="1224000" cy="6480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0"/>
          <p:cNvGrpSpPr/>
          <p:nvPr/>
        </p:nvGrpSpPr>
        <p:grpSpPr>
          <a:xfrm>
            <a:off x="0" y="3989160"/>
            <a:ext cx="5075280" cy="1743480"/>
            <a:chOff x="0" y="3989160"/>
            <a:chExt cx="5075280" cy="1743480"/>
          </a:xfrm>
        </p:grpSpPr>
        <p:sp>
          <p:nvSpPr>
            <p:cNvPr id="244" name="AutoShape 11"/>
            <p:cNvSpPr/>
            <p:nvPr/>
          </p:nvSpPr>
          <p:spPr>
            <a:xfrm rot="19724400">
              <a:off x="1547640" y="4581000"/>
              <a:ext cx="936720" cy="432000"/>
            </a:xfrm>
            <a:prstGeom prst="rightArrow">
              <a:avLst>
                <a:gd name="adj1" fmla="val 50000"/>
                <a:gd name="adj2" fmla="val 54178"/>
              </a:avLst>
            </a:prstGeom>
            <a:solidFill>
              <a:srgbClr val="ff3300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0" y="4437000"/>
              <a:ext cx="17272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3300"/>
                  </a:solidFill>
                  <a:latin typeface="Arial"/>
                </a:rPr>
                <a:t>转基因超级鼠</a:t>
              </a:r>
              <a:r>
                <a:rPr b="0" lang="zh-CN" sz="4400" spc="-1" strike="noStrike">
                  <a:solidFill>
                    <a:srgbClr val="675e47"/>
                  </a:solidFill>
                  <a:latin typeface="Arial"/>
                </a:rPr>
                <a:t> </a:t>
              </a:r>
              <a:endParaRPr b="1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6" name="AutoShape 13"/>
            <p:cNvSpPr/>
            <p:nvPr/>
          </p:nvSpPr>
          <p:spPr>
            <a:xfrm rot="13285200">
              <a:off x="3563280" y="4220640"/>
              <a:ext cx="863640" cy="43200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0000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3348000" y="4508640"/>
              <a:ext cx="17272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3300"/>
                  </a:solidFill>
                  <a:latin typeface="Arial"/>
                </a:rPr>
                <a:t>小鼠</a:t>
              </a:r>
              <a:r>
                <a:rPr b="0" lang="zh-CN" sz="4400" spc="-1" strike="noStrike">
                  <a:solidFill>
                    <a:srgbClr val="675e47"/>
                  </a:solidFill>
                  <a:latin typeface="Arial"/>
                </a:rPr>
                <a:t> </a:t>
              </a:r>
              <a:endParaRPr b="1" lang="en-US" sz="4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48" name="Text Box 15"/>
          <p:cNvSpPr/>
          <p:nvPr/>
        </p:nvSpPr>
        <p:spPr>
          <a:xfrm>
            <a:off x="468360" y="62784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胎所生的转基因超级鼠和小鼠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46836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核未融合的受精卵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676764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鼠生长激素基因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7091280" y="3573360"/>
            <a:ext cx="20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将受精卵注入输卵管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4337280" y="0"/>
            <a:ext cx="1826640" cy="45972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33"/>
                </a:solidFill>
                <a:latin typeface="Arial"/>
              </a:rPr>
              <a:t>转基因超级鼠的启示</a:t>
            </a:r>
            <a:endParaRPr b="1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53" name="Picture 20" descr=""/>
          <p:cNvPicPr/>
          <p:nvPr/>
        </p:nvPicPr>
        <p:blipFill>
          <a:blip r:embed="rId8"/>
          <a:stretch/>
        </p:blipFill>
        <p:spPr>
          <a:xfrm>
            <a:off x="3851280" y="784080"/>
            <a:ext cx="2962440" cy="19242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24"/>
          <p:cNvGrpSpPr/>
          <p:nvPr/>
        </p:nvGrpSpPr>
        <p:grpSpPr>
          <a:xfrm>
            <a:off x="6012000" y="0"/>
            <a:ext cx="2863800" cy="1476360"/>
            <a:chOff x="6012000" y="0"/>
            <a:chExt cx="2863800" cy="1476360"/>
          </a:xfrm>
        </p:grpSpPr>
        <p:pic>
          <p:nvPicPr>
            <p:cNvPr id="255" name="Picture 21" descr=""/>
            <p:cNvPicPr/>
            <p:nvPr/>
          </p:nvPicPr>
          <p:blipFill>
            <a:blip r:embed="rId9"/>
            <a:stretch/>
          </p:blipFill>
          <p:spPr>
            <a:xfrm>
              <a:off x="6875640" y="0"/>
              <a:ext cx="2000160" cy="147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"/>
            <p:cNvGrpSpPr/>
            <p:nvPr/>
          </p:nvGrpSpPr>
          <p:grpSpPr>
            <a:xfrm>
              <a:off x="6012000" y="1125360"/>
              <a:ext cx="1224000" cy="142920"/>
              <a:chOff x="6012000" y="1125360"/>
              <a:chExt cx="1224000" cy="142920"/>
            </a:xfrm>
          </p:grpSpPr>
          <p:sp>
            <p:nvSpPr>
              <p:cNvPr id="257" name="Line 23"/>
              <p:cNvSpPr/>
              <p:nvPr/>
            </p:nvSpPr>
            <p:spPr>
              <a:xfrm flipH="1">
                <a:off x="6012000" y="1125360"/>
                <a:ext cx="1224000" cy="142920"/>
              </a:xfrm>
              <a:prstGeom prst="line">
                <a:avLst/>
              </a:prstGeom>
              <a:ln w="9360">
                <a:solidFill>
                  <a:srgbClr val="2f2b2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6012000" y="1125360"/>
                <a:ext cx="122400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Calibri"/>
              </a:rPr>
              <a:t>讨论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2f2b20"/>
                </a:solidFill>
                <a:latin typeface="Calibri"/>
              </a:rPr>
              <a:t>在这项研究中，人们研究的是鼠的哪一个性状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?</a:t>
            </a:r>
            <a:r>
              <a:rPr b="1" lang="zh-CN" sz="2800" spc="-1" strike="noStrike">
                <a:solidFill>
                  <a:srgbClr val="2f2b20"/>
                </a:solidFill>
                <a:latin typeface="Calibri"/>
              </a:rPr>
              <a:t>控制这个性状的基因是什么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鼠的个体大小     大鼠生长激素基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2f2b20"/>
                </a:solidFill>
                <a:latin typeface="Calibri"/>
              </a:rPr>
              <a:t>转基因超级鼠的获得，说明性状与基因之间是什么关系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基因控制生物的性状</a:t>
            </a:r>
            <a:r>
              <a:rPr b="1" lang="zh-CN" sz="2800" spc="-1" strike="noStrike">
                <a:solidFill>
                  <a:srgbClr val="2f2b2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2f2b20"/>
                </a:solidFill>
                <a:latin typeface="Calibri"/>
              </a:rPr>
              <a:t>在生物传种接代的过程中，传下去的是性状还是控制性状的基因？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华文中宋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2f2b20"/>
                </a:solidFill>
                <a:latin typeface="华文中宋"/>
                <a:ea typeface="华文中宋"/>
              </a:rPr>
              <a:t>生物体所有的性状都是能遗传的吗？ 试着做出解释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250920" y="54450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控制性状的基因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0" y="33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转基因生物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255600" y="1054080"/>
            <a:ext cx="8632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把一种生物的某个基因，用生物技术的方法转入到某种生物的基因组中，培育出的生物称为“转基因生物”。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796000" y="63752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332000" y="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b20"/>
                </a:solidFill>
                <a:latin typeface="华文中宋"/>
                <a:ea typeface="华文中宋"/>
              </a:rPr>
              <a:t>课外交流</a:t>
            </a:r>
            <a:r>
              <a:rPr b="1" lang="en-US" sz="4000" spc="-1" strike="noStrike">
                <a:solidFill>
                  <a:srgbClr val="2f2b20"/>
                </a:solidFill>
                <a:latin typeface="华文中宋"/>
                <a:ea typeface="华文中宋"/>
              </a:rPr>
              <a:t>:</a:t>
            </a:r>
            <a:r>
              <a:rPr b="1" lang="zh-CN" sz="4000" spc="-1" strike="noStrike">
                <a:solidFill>
                  <a:srgbClr val="2f2b20"/>
                </a:solidFill>
                <a:latin typeface="华文中宋"/>
                <a:ea typeface="华文中宋"/>
              </a:rPr>
              <a:t>上网查阅有关转基因生物的现状</a:t>
            </a:r>
            <a:r>
              <a:rPr b="1" lang="en-US" sz="4000" spc="-1" strike="noStrike">
                <a:solidFill>
                  <a:srgbClr val="2f2b20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华文中宋"/>
                <a:ea typeface="华文中宋"/>
              </a:rPr>
              <a:t>有什么潜在风险</a:t>
            </a:r>
            <a:r>
              <a:rPr b="1" lang="en-US" sz="4000" spc="-1" strike="noStrike">
                <a:solidFill>
                  <a:srgbClr val="2f2b20"/>
                </a:solidFill>
                <a:latin typeface="华文中宋"/>
                <a:ea typeface="华文中宋"/>
              </a:rPr>
              <a:t>.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80880" y="281952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b20"/>
                </a:solidFill>
                <a:latin typeface="Times New Roman"/>
                <a:ea typeface="方正姚体"/>
              </a:rPr>
              <a:t>转基因食品</a:t>
            </a:r>
            <a:endParaRPr b="1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67" name="Picture 3" descr="46_1"/>
          <p:cNvPicPr/>
          <p:nvPr/>
        </p:nvPicPr>
        <p:blipFill>
          <a:blip r:embed="rId1"/>
          <a:stretch/>
        </p:blipFill>
        <p:spPr>
          <a:xfrm>
            <a:off x="0" y="3809880"/>
            <a:ext cx="2236680" cy="3048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200307140019_11961"/>
          <p:cNvPicPr/>
          <p:nvPr/>
        </p:nvPicPr>
        <p:blipFill>
          <a:blip r:embed="rId2"/>
          <a:stretch/>
        </p:blipFill>
        <p:spPr>
          <a:xfrm>
            <a:off x="6630840" y="3733920"/>
            <a:ext cx="2513160" cy="3124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F2004071617562400000"/>
          <p:cNvPicPr/>
          <p:nvPr/>
        </p:nvPicPr>
        <p:blipFill>
          <a:blip r:embed="rId3"/>
          <a:stretch/>
        </p:blipFill>
        <p:spPr>
          <a:xfrm>
            <a:off x="2241720" y="3765600"/>
            <a:ext cx="4419360" cy="3106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F2003080517551400000"/>
          <p:cNvPicPr/>
          <p:nvPr/>
        </p:nvPicPr>
        <p:blipFill>
          <a:blip r:embed="rId4"/>
          <a:stretch/>
        </p:blipFill>
        <p:spPr>
          <a:xfrm>
            <a:off x="0" y="0"/>
            <a:ext cx="2286000" cy="254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41"/>
          <p:cNvPicPr/>
          <p:nvPr/>
        </p:nvPicPr>
        <p:blipFill>
          <a:blip r:embed="rId5"/>
          <a:stretch/>
        </p:blipFill>
        <p:spPr>
          <a:xfrm>
            <a:off x="2286000" y="0"/>
            <a:ext cx="4038480" cy="2533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01010"/>
          <p:cNvPicPr/>
          <p:nvPr/>
        </p:nvPicPr>
        <p:blipFill>
          <a:blip r:embed="rId6"/>
          <a:stretch/>
        </p:blipFill>
        <p:spPr>
          <a:xfrm>
            <a:off x="6324480" y="0"/>
            <a:ext cx="2819520" cy="2514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=3277903919,1780414904&amp;gp=0"/>
          <p:cNvPicPr/>
          <p:nvPr/>
        </p:nvPicPr>
        <p:blipFill>
          <a:blip r:embed="rId7"/>
          <a:stretch/>
        </p:blipFill>
        <p:spPr>
          <a:xfrm>
            <a:off x="3657600" y="2666880"/>
            <a:ext cx="136044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dur="indefinite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dur="indefinite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500"/>
                            </p:stCondLst>
                            <p:childTnLst>
                              <p:par>
                                <p:cTn id="438" dur="indefinite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dur="indefinite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dur="indefinite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286000" y="289548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f2b20"/>
                </a:solidFill>
                <a:latin typeface="Times New Roman"/>
                <a:ea typeface="华文行楷"/>
              </a:rPr>
              <a:t>转基因药品</a:t>
            </a:r>
            <a:endParaRPr b="1" lang="en-US" sz="6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75" name="Picture 3" descr="health00000109120040722043704390"/>
          <p:cNvPicPr/>
          <p:nvPr/>
        </p:nvPicPr>
        <p:blipFill>
          <a:blip r:embed="rId1"/>
          <a:stretch/>
        </p:blipFill>
        <p:spPr>
          <a:xfrm>
            <a:off x="0" y="411480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hiyao"/>
          <p:cNvPicPr/>
          <p:nvPr/>
        </p:nvPicPr>
        <p:blipFill>
          <a:blip r:embed="rId2"/>
          <a:stretch/>
        </p:blipFill>
        <p:spPr>
          <a:xfrm>
            <a:off x="0" y="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jiaonang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590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2416"/>
          <p:cNvPicPr/>
          <p:nvPr/>
        </p:nvPicPr>
        <p:blipFill>
          <a:blip r:embed="rId4"/>
          <a:stretch/>
        </p:blipFill>
        <p:spPr>
          <a:xfrm>
            <a:off x="3276720" y="0"/>
            <a:ext cx="2971800" cy="2560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made-in-china"/>
          <p:cNvPicPr/>
          <p:nvPr/>
        </p:nvPicPr>
        <p:blipFill>
          <a:blip r:embed="rId5"/>
          <a:stretch/>
        </p:blipFill>
        <p:spPr>
          <a:xfrm>
            <a:off x="2971800" y="41148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p3"/>
          <p:cNvPicPr/>
          <p:nvPr/>
        </p:nvPicPr>
        <p:blipFill>
          <a:blip r:embed="rId6"/>
          <a:stretch/>
        </p:blipFill>
        <p:spPr>
          <a:xfrm>
            <a:off x="6019920" y="411480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8199"/>
          <p:cNvSpPr/>
          <p:nvPr/>
        </p:nvSpPr>
        <p:spPr>
          <a:xfrm>
            <a:off x="1619280" y="272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1" lang="zh-CN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1" lang="en-US" sz="1600" spc="-1" strike="noStrike">
                <a:solidFill>
                  <a:srgbClr val="2f2b2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-328320" y="2638440"/>
            <a:ext cx="1155240" cy="28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生物的性状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8296920" y="2638440"/>
            <a:ext cx="667800" cy="28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相对性状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689120" y="2709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cc"/>
                </a:solidFill>
                <a:latin typeface="Arial"/>
                <a:ea typeface="黑体"/>
              </a:rPr>
              <a:t>形态结构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689120" y="37180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cc"/>
                </a:solidFill>
                <a:latin typeface="Arial"/>
                <a:ea typeface="黑体"/>
              </a:rPr>
              <a:t>生理特性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89120" y="47991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cc"/>
                </a:solidFill>
                <a:latin typeface="Arial"/>
                <a:ea typeface="黑体"/>
              </a:rPr>
              <a:t>行为方式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69840" y="4078440"/>
            <a:ext cx="865440" cy="360"/>
            <a:chOff x="969840" y="4078440"/>
            <a:chExt cx="865440" cy="360"/>
          </a:xfrm>
        </p:grpSpPr>
        <p:sp>
          <p:nvSpPr>
            <p:cNvPr id="288" name="Line 7"/>
            <p:cNvSpPr/>
            <p:nvPr/>
          </p:nvSpPr>
          <p:spPr>
            <a:xfrm>
              <a:off x="969840" y="4078440"/>
              <a:ext cx="865440" cy="0"/>
            </a:xfrm>
            <a:prstGeom prst="line">
              <a:avLst/>
            </a:prstGeom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969840" y="4078440"/>
              <a:ext cx="8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69480" y="3141720"/>
            <a:ext cx="792720" cy="792000"/>
            <a:chOff x="969480" y="3141720"/>
            <a:chExt cx="792720" cy="792000"/>
          </a:xfrm>
        </p:grpSpPr>
        <p:sp>
          <p:nvSpPr>
            <p:cNvPr id="291" name="Line 8"/>
            <p:cNvSpPr/>
            <p:nvPr/>
          </p:nvSpPr>
          <p:spPr>
            <a:xfrm flipV="1">
              <a:off x="969840" y="3141720"/>
              <a:ext cx="792360" cy="792000"/>
            </a:xfrm>
            <a:prstGeom prst="line">
              <a:avLst/>
            </a:prstGeom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 rot="10800000">
              <a:off x="969480" y="3141720"/>
              <a:ext cx="792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69840" y="4222800"/>
            <a:ext cx="792360" cy="792000"/>
            <a:chOff x="969840" y="4222800"/>
            <a:chExt cx="792360" cy="792000"/>
          </a:xfrm>
        </p:grpSpPr>
        <p:sp>
          <p:nvSpPr>
            <p:cNvPr id="294" name="Line 9"/>
            <p:cNvSpPr/>
            <p:nvPr/>
          </p:nvSpPr>
          <p:spPr>
            <a:xfrm>
              <a:off x="969840" y="4222800"/>
              <a:ext cx="792360" cy="792000"/>
            </a:xfrm>
            <a:prstGeom prst="line">
              <a:avLst/>
            </a:prstGeom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969840" y="4222800"/>
              <a:ext cx="792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96" name="Group 10"/>
          <p:cNvGrpSpPr/>
          <p:nvPr/>
        </p:nvGrpSpPr>
        <p:grpSpPr>
          <a:xfrm>
            <a:off x="5365800" y="4222800"/>
            <a:ext cx="2806560" cy="1046160"/>
            <a:chOff x="5365800" y="4222800"/>
            <a:chExt cx="2806560" cy="1046160"/>
          </a:xfrm>
        </p:grpSpPr>
        <p:sp>
          <p:nvSpPr>
            <p:cNvPr id="297" name="Text Box 11"/>
            <p:cNvSpPr/>
            <p:nvPr/>
          </p:nvSpPr>
          <p:spPr>
            <a:xfrm>
              <a:off x="5365800" y="4794120"/>
              <a:ext cx="2089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3366cc"/>
                  </a:solidFill>
                  <a:latin typeface="Arial"/>
                  <a:ea typeface="黑体"/>
                </a:rPr>
                <a:t>不同表现形式</a:t>
              </a:r>
              <a:endParaRPr b="1" lang="en-US" sz="25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380360" y="4222800"/>
              <a:ext cx="792000" cy="792000"/>
              <a:chOff x="7380360" y="4222800"/>
              <a:chExt cx="792000" cy="792000"/>
            </a:xfrm>
          </p:grpSpPr>
          <p:sp>
            <p:nvSpPr>
              <p:cNvPr id="299" name="Line 12"/>
              <p:cNvSpPr/>
              <p:nvPr/>
            </p:nvSpPr>
            <p:spPr>
              <a:xfrm flipV="1">
                <a:off x="7380360" y="4222800"/>
                <a:ext cx="792000" cy="792000"/>
              </a:xfrm>
              <a:prstGeom prst="line">
                <a:avLst/>
              </a:prstGeom>
              <a:ln w="93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 rot="10800000">
                <a:off x="7380360" y="4222800"/>
                <a:ext cx="79200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Group 13"/>
          <p:cNvGrpSpPr/>
          <p:nvPr/>
        </p:nvGrpSpPr>
        <p:grpSpPr>
          <a:xfrm>
            <a:off x="5292720" y="2778120"/>
            <a:ext cx="2879640" cy="1155600"/>
            <a:chOff x="5292720" y="2778120"/>
            <a:chExt cx="2879640" cy="1155600"/>
          </a:xfrm>
        </p:grpSpPr>
        <p:sp>
          <p:nvSpPr>
            <p:cNvPr id="302" name="Text Box 14"/>
            <p:cNvSpPr/>
            <p:nvPr/>
          </p:nvSpPr>
          <p:spPr>
            <a:xfrm>
              <a:off x="5292720" y="277812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66cc"/>
                  </a:solidFill>
                  <a:latin typeface="Arial"/>
                  <a:ea typeface="黑体"/>
                </a:rPr>
                <a:t>同种生物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380360" y="3141720"/>
              <a:ext cx="792000" cy="792000"/>
              <a:chOff x="7380360" y="3141720"/>
              <a:chExt cx="792000" cy="792000"/>
            </a:xfrm>
          </p:grpSpPr>
          <p:sp>
            <p:nvSpPr>
              <p:cNvPr id="304" name="Line 15"/>
              <p:cNvSpPr/>
              <p:nvPr/>
            </p:nvSpPr>
            <p:spPr>
              <a:xfrm>
                <a:off x="7380360" y="3141720"/>
                <a:ext cx="792000" cy="792000"/>
              </a:xfrm>
              <a:prstGeom prst="line">
                <a:avLst/>
              </a:prstGeom>
              <a:ln w="93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7380360" y="3141720"/>
                <a:ext cx="79200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16"/>
          <p:cNvGrpSpPr/>
          <p:nvPr/>
        </p:nvGrpSpPr>
        <p:grpSpPr>
          <a:xfrm>
            <a:off x="5292720" y="3786120"/>
            <a:ext cx="2881440" cy="581400"/>
            <a:chOff x="5292720" y="3786120"/>
            <a:chExt cx="2881440" cy="581400"/>
          </a:xfrm>
        </p:grpSpPr>
        <p:sp>
          <p:nvSpPr>
            <p:cNvPr id="307" name="Text Box 17"/>
            <p:cNvSpPr/>
            <p:nvPr/>
          </p:nvSpPr>
          <p:spPr>
            <a:xfrm>
              <a:off x="5292720" y="378612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66cc"/>
                  </a:solidFill>
                  <a:latin typeface="Arial"/>
                  <a:ea typeface="黑体"/>
                </a:rPr>
                <a:t>同一性状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7308720" y="4078440"/>
              <a:ext cx="865440" cy="360"/>
              <a:chOff x="7308720" y="4078440"/>
              <a:chExt cx="865440" cy="360"/>
            </a:xfrm>
          </p:grpSpPr>
          <p:sp>
            <p:nvSpPr>
              <p:cNvPr id="309" name="Line 18"/>
              <p:cNvSpPr/>
              <p:nvPr/>
            </p:nvSpPr>
            <p:spPr>
              <a:xfrm>
                <a:off x="7308720" y="4078440"/>
                <a:ext cx="86544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7308720" y="4078440"/>
                <a:ext cx="86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19"/>
          <p:cNvGrpSpPr/>
          <p:nvPr/>
        </p:nvGrpSpPr>
        <p:grpSpPr>
          <a:xfrm>
            <a:off x="3564000" y="1197000"/>
            <a:ext cx="1871640" cy="4396680"/>
            <a:chOff x="3564000" y="1197000"/>
            <a:chExt cx="1871640" cy="4396680"/>
          </a:xfrm>
        </p:grpSpPr>
        <p:sp>
          <p:nvSpPr>
            <p:cNvPr id="312" name="AutoShape 20"/>
            <p:cNvSpPr/>
            <p:nvPr/>
          </p:nvSpPr>
          <p:spPr>
            <a:xfrm>
              <a:off x="3564000" y="1197000"/>
              <a:ext cx="1871640" cy="1440000"/>
            </a:xfrm>
            <a:custGeom>
              <a:avLst/>
              <a:gdLst>
                <a:gd name="textAreaLeft" fmla="*/ 439560 w 1871640"/>
                <a:gd name="textAreaRight" fmla="*/ 1432080 w 1871640"/>
                <a:gd name="textAreaTop" fmla="*/ 338040 h 1440000"/>
                <a:gd name="textAreaBottom" fmla="*/ 11019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600cc"/>
                  </a:solidFill>
                  <a:latin typeface="Arial"/>
                  <a:ea typeface="黑体"/>
                </a:rPr>
                <a:t>基因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13" name="AutoShape 21"/>
            <p:cNvSpPr/>
            <p:nvPr/>
          </p:nvSpPr>
          <p:spPr>
            <a:xfrm>
              <a:off x="4067280" y="3277440"/>
              <a:ext cx="936720" cy="1221120"/>
            </a:xfrm>
            <a:prstGeom prst="downArrow">
              <a:avLst>
                <a:gd name="adj1" fmla="val 50000"/>
                <a:gd name="adj2" fmla="val 32572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600cc"/>
                  </a:solidFill>
                  <a:latin typeface="Arial"/>
                  <a:ea typeface="黑体"/>
                </a:rPr>
                <a:t>控制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14" name="AutoShape 22"/>
            <p:cNvSpPr/>
            <p:nvPr/>
          </p:nvSpPr>
          <p:spPr>
            <a:xfrm>
              <a:off x="3996000" y="5012280"/>
              <a:ext cx="1079280" cy="581400"/>
            </a:xfrm>
            <a:prstGeom prst="flowChartProcess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600cc"/>
                  </a:solidFill>
                  <a:latin typeface="Arial"/>
                  <a:ea typeface="黑体"/>
                </a:rPr>
                <a:t>性状</a:t>
              </a:r>
              <a:endParaRPr b="1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315" name="艺术字 11"/>
          <p:cNvSpPr txBox="1"/>
          <p:nvPr/>
        </p:nvSpPr>
        <p:spPr>
          <a:xfrm>
            <a:off x="250920" y="476280"/>
            <a:ext cx="180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总结升华</a:t>
            </a:r>
            <a:endParaRPr b="1" lang="en-US" sz="36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059280" y="1125360"/>
            <a:ext cx="27367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黑体"/>
                <a:ea typeface="黑体"/>
              </a:rPr>
              <a:t>遗传和变异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059280" y="2133720"/>
            <a:ext cx="2808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黑体"/>
                <a:ea typeface="黑体"/>
              </a:rPr>
              <a:t>生殖和发育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484360" y="1989000"/>
            <a:ext cx="3529080" cy="360"/>
            <a:chOff x="2484360" y="1989000"/>
            <a:chExt cx="3529080" cy="360"/>
          </a:xfrm>
        </p:grpSpPr>
        <p:sp>
          <p:nvSpPr>
            <p:cNvPr id="319" name="Line 4"/>
            <p:cNvSpPr/>
            <p:nvPr/>
          </p:nvSpPr>
          <p:spPr>
            <a:xfrm>
              <a:off x="2484360" y="1989000"/>
              <a:ext cx="352908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484360" y="1989000"/>
              <a:ext cx="35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321" name="Text Box 5"/>
          <p:cNvSpPr/>
          <p:nvPr/>
        </p:nvSpPr>
        <p:spPr>
          <a:xfrm>
            <a:off x="1116000" y="1625760"/>
            <a:ext cx="1224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黑体"/>
                <a:ea typeface="黑体"/>
              </a:rPr>
              <a:t>亲代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6227640" y="1557360"/>
            <a:ext cx="137016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黑体"/>
                <a:ea typeface="黑体"/>
              </a:rPr>
              <a:t>子代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23" name="Arc 7"/>
          <p:cNvSpPr/>
          <p:nvPr/>
        </p:nvSpPr>
        <p:spPr>
          <a:xfrm flipV="1">
            <a:off x="5364000" y="2278080"/>
            <a:ext cx="1368720" cy="1511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24" name="Arc 8"/>
          <p:cNvSpPr/>
          <p:nvPr/>
        </p:nvSpPr>
        <p:spPr>
          <a:xfrm flipH="1" flipV="1">
            <a:off x="1978920" y="2349360"/>
            <a:ext cx="1368360" cy="1511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780000" y="3448080"/>
            <a:ext cx="1223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黑体"/>
                <a:ea typeface="黑体"/>
              </a:rPr>
              <a:t>基因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356000" y="4149720"/>
            <a:ext cx="360" cy="720720"/>
            <a:chOff x="4356000" y="4149720"/>
            <a:chExt cx="360" cy="720720"/>
          </a:xfrm>
        </p:grpSpPr>
        <p:sp>
          <p:nvSpPr>
            <p:cNvPr id="327" name="Line 10"/>
            <p:cNvSpPr/>
            <p:nvPr/>
          </p:nvSpPr>
          <p:spPr>
            <a:xfrm>
              <a:off x="4356000" y="4149720"/>
              <a:ext cx="0" cy="720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4356000" y="414972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329" name="Text Box 11"/>
          <p:cNvSpPr/>
          <p:nvPr/>
        </p:nvSpPr>
        <p:spPr>
          <a:xfrm>
            <a:off x="3780000" y="4797360"/>
            <a:ext cx="1223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黑体"/>
                <a:ea typeface="黑体"/>
              </a:rPr>
              <a:t>性状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80000" y="5896080"/>
            <a:ext cx="1223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黑体"/>
                <a:ea typeface="黑体"/>
              </a:rPr>
              <a:t>环境</a:t>
            </a:r>
            <a:endParaRPr b="1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355640" y="5445000"/>
            <a:ext cx="360" cy="720720"/>
            <a:chOff x="4355640" y="5445000"/>
            <a:chExt cx="360" cy="720720"/>
          </a:xfrm>
        </p:grpSpPr>
        <p:sp>
          <p:nvSpPr>
            <p:cNvPr id="332" name="Line 13"/>
            <p:cNvSpPr/>
            <p:nvPr/>
          </p:nvSpPr>
          <p:spPr>
            <a:xfrm flipV="1">
              <a:off x="4356000" y="5445000"/>
              <a:ext cx="0" cy="720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 rot="10800000">
              <a:off x="4355640" y="544500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2b2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0258-6C9E-4FAD-B1B7-03A5B3C68FEC}" type="slidenum">
              <a:rPr b="0" lang="zh-CN" sz="1400" spc="-1" strike="noStrike">
                <a:solidFill>
                  <a:srgbClr val="2f2b2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0" y="8557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达标检测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控制生物性状的是 ）</a:t>
            </a:r>
            <a:br>
              <a:rPr sz="3200"/>
            </a:b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细胞核      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基因  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细胞质　　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细胞膜</a:t>
            </a:r>
            <a:br>
              <a:rPr sz="3200"/>
            </a:b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把生物的某个基因用生物技术的方法转入到另一种生物的基因组中，培育出的表现出转入基因所控制的性状的生物称为（  ）</a:t>
            </a:r>
            <a:br>
              <a:rPr sz="3200"/>
            </a:b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转基因生物    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传基因生物</a:t>
            </a:r>
            <a:br>
              <a:rPr sz="3200"/>
            </a:b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给基因生物    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导入基因生物</a:t>
            </a:r>
            <a:br>
              <a:rPr sz="3200"/>
            </a:b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基因的功能之一是传递遗传信息，下列与这一功能没有直接关系的是  （  ）</a:t>
            </a:r>
            <a:br>
              <a:rPr sz="3200"/>
            </a:b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A.DNA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的复制          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生殖  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细胞分裂              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蛋白质的合成 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自主学习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P24~26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、遗传和变异：遗传是指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亲子间的相似性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。变异是指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亲子间和子代个体之间的差异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。生物的遗传和变异是通过生殖和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发育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而实现的。人们对生物的遗传和变异的认识，最初从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形状 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开始的。以后深入到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基因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水平。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、生物的形状；任何生物都有许多性状，有的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结构特征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、有的是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生理特征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，有的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行为方式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等。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、生物的相对性状是指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同种生物同一形状的不同表现形式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88" name="Group 14"/>
          <p:cNvGrpSpPr/>
          <p:nvPr/>
        </p:nvGrpSpPr>
        <p:grpSpPr>
          <a:xfrm>
            <a:off x="0" y="620640"/>
            <a:ext cx="8748720" cy="4321080"/>
            <a:chOff x="0" y="620640"/>
            <a:chExt cx="8748720" cy="4321080"/>
          </a:xfrm>
        </p:grpSpPr>
        <p:sp>
          <p:nvSpPr>
            <p:cNvPr id="89" name="Rectangle 3"/>
            <p:cNvSpPr/>
            <p:nvPr/>
          </p:nvSpPr>
          <p:spPr>
            <a:xfrm>
              <a:off x="5003640" y="620640"/>
              <a:ext cx="28814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1476360" y="1052640"/>
              <a:ext cx="5291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3780000" y="3500280"/>
              <a:ext cx="1512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0" y="3500280"/>
              <a:ext cx="1655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7020000" y="3500280"/>
              <a:ext cx="1512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4788000" y="4005360"/>
              <a:ext cx="3960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6012000" y="2060640"/>
              <a:ext cx="936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2340000" y="2565360"/>
              <a:ext cx="934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0" y="4508640"/>
              <a:ext cx="234000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98" name="Text Box 13"/>
          <p:cNvSpPr/>
          <p:nvPr/>
        </p:nvSpPr>
        <p:spPr>
          <a:xfrm>
            <a:off x="0" y="5440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二、展示质疑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、什么是性状？什么是相对性状？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、性状与基因之间的关系是怎样的呢？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2000160" cy="15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7340760" y="1125360"/>
            <a:ext cx="1695240" cy="2162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78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2657520" y="0"/>
            <a:ext cx="191448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0" y="1844640"/>
            <a:ext cx="1933560" cy="130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2916360" y="1909800"/>
            <a:ext cx="20383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7"/>
          <a:stretch/>
        </p:blipFill>
        <p:spPr>
          <a:xfrm>
            <a:off x="2987640" y="3357720"/>
            <a:ext cx="1333440" cy="116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8"/>
          <a:stretch/>
        </p:blipFill>
        <p:spPr>
          <a:xfrm>
            <a:off x="0" y="3141720"/>
            <a:ext cx="133344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2809800" y="5410080"/>
            <a:ext cx="176220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10"/>
          <a:stretch/>
        </p:blipFill>
        <p:spPr>
          <a:xfrm>
            <a:off x="4572000" y="4941720"/>
            <a:ext cx="3038400" cy="164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11"/>
          <a:stretch/>
        </p:blipFill>
        <p:spPr>
          <a:xfrm>
            <a:off x="6877080" y="3076560"/>
            <a:ext cx="2266920" cy="2152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3"/>
          <p:cNvSpPr/>
          <p:nvPr/>
        </p:nvSpPr>
        <p:spPr>
          <a:xfrm>
            <a:off x="4572000" y="0"/>
            <a:ext cx="39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Arial"/>
              </a:rPr>
              <a:t>回忆克隆羊多莉的诞生</a:t>
            </a:r>
            <a:endParaRPr b="1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572000" y="1268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2f2b20"/>
                </a:solidFill>
                <a:latin typeface="Arial"/>
              </a:rPr>
              <a:t>羊提供细胞核，细胞核控制生物的发育和遗传。</a:t>
            </a:r>
            <a:endParaRPr b="1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3564000" y="981000"/>
            <a:ext cx="360360" cy="289080"/>
          </a:xfrm>
          <a:prstGeom prst="ellipse">
            <a:avLst/>
          </a:prstGeom>
          <a:blipFill rotWithShape="0">
            <a:blip r:embed="rId12">
              <a:alphaModFix amt="17000"/>
            </a:blip>
            <a:srcRect/>
            <a:stretch/>
          </a:blipFill>
          <a:ln w="9360">
            <a:solidFill>
              <a:srgbClr val="675e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06 0.02639 -0.00816 0.06412 -0.0158 0.09329 C -0.01719 0.11412 -0.01563 0.13194 -0.01285 0.15231 C -0.01459 0.18125 -0.01476 0.20324 -0.01719 0.23032 C -0.01459 0.24421 -0.01354 0.2581 -0.01146 0.27222 C -0.01042 0.29653 -0.00868 0.31343 -0.01007 0.33704 C -0.01094 0.37685 -0.00452 0.43148 -0.03299 0.45718 C -0.03351 0.45903 -0.03334 0.46134 -0.03438 0.46273 C -0.03542 0.46412 -0.03733 0.46389 -0.03854 0.46481 C -0.04115 0.4669 -0.04323 0.47014 -0.04584 0.47222 C -0.04722 0.47778 -0.05452 0.49097 -0.05868 0.49329 C -0.06094 0.49444 -0.06337 0.49444 -0.0658 0.49514 C -0.06771 0.49768 -0.06997 0.49977 -0.07153 0.50278 C -0.07275 0.50509 -0.07309 0.5081 -0.07431 0.51042 C -0.07813 0.5169 -0.08316 0.52292 -0.08716 0.5294 C -0.08976 0.5338 -0.09861 0.53704 -0.09861 0.53704 C -0.10313 0.54352 -0.10955 0.54444 -0.1158 0.54653 C -0.12344 0.55185 -0.13195 0.55463 -0.14011 0.5581 C -0.14254 0.56134 -0.14479 0.56435 -0.14722 0.56759 C -0.14931 0.57037 -0.15573 0.5713 -0.15573 0.5713 C -0.15677 0.57268 -0.16181 0.57893 -0.16146 0.58102 C -0.15972 0.59051 -0.15174 0.59421 -0.14584 0.59606 C -0.13802 0.60324 -0.1342 0.60393 -0.12431 0.60556 C -0.11459 0.61435 -0.1191 0.61157 -0.11146 0.61528 C -0.0974 0.63333 -0.07986 0.63657 -0.06146 0.6419 C -0.05347 0.64421 -0.04358 0.64583 -0.03577 0.64954 C -0.03316 0.65093 -0.02882 0.65463 -0.0257 0.65509 C -0.01528 0.65625 -0.00469 0.65648 0.00573 0.65718 C 0.01875 0.66296 0.01128 0.66042 0.02847 0.66273 C 0.04566 0.66204 0.06284 0.66204 0.08003 0.66088 C 0.08298 0.66065 0.08576 0.65949 0.08854 0.65903 C 0.09757 0.65764 0.11562 0.65509 0.11562 0.65509 C 0.16753 0.65764 0.15955 0.65833 0.21857 0.65509 C 0.22743 0.65463 0.23455 0.65069 0.24288 0.64768 C 0.24774 0.64583 0.25712 0.6419 0.25712 0.6419 C 0.26094 0.63657 0.26736 0.63264 0.27274 0.63032 C 0.27569 0.62893 0.28142 0.62662 0.28142 0.62662 C 0.28576 0.61759 0.29496 0.61389 0.30278 0.61134 C 0.30659 0.60648 0.31076 0.60579 0.31562 0.6037 C 0.31892 0.59954 0.32587 0.59421 0.33003 0.59236 C 0.33264 0.58866 0.3335 0.58681 0.33715 0.58472 C 0.33993 0.5831 0.34566 0.58102 0.34566 0.58102 C 0.35121 0.57361 0.36094 0.57199 0.36857 0.56944 C 0.37361 0.56505 0.3783 0.56366 0.3842 0.56181 C 0.3901 0.5544 0.39878 0.5544 0.40573 0.54861 C 0.41024 0.53912 0.41788 0.53843 0.4243 0.53148 C 0.43107 0.52431 0.43663 0.51458 0.44288 0.50671 C 0.44444 0.5 0.44774 0.49259 0.45139 0.4875 C 0.45191 0.48565 0.45208 0.48356 0.45278 0.48194 C 0.45347 0.48032 0.45503 0.47963 0.45573 0.47801 C 0.46111 0.46389 0.46284 0.4456 0.46562 0.43032 C 0.48455 0.43148 0.49618 0.42778 0.51146 0.43611 C 0.51389 0.4375 0.51614 0.43912 0.51857 0.44005 C 0.52239 0.44167 0.53003 0.44375 0.53003 0.44375 C 0.5309 0.44514 0.53159 0.44676 0.53281 0.44768 C 0.53507 0.44931 0.53837 0.44884 0.53993 0.45139 C 0.54253 0.45556 0.53472 0.46018 0.5342 0.46088 C 0.52864 0.4669 0.52656 0.4669 0.51857 0.46852 C 0.51528 0.46782 0.51128 0.46944 0.5085 0.46667 C 0.50712 0.46528 0.51128 0.46366 0.51284 0.46273 C 0.5151 0.46157 0.51753 0.46157 0.51996 0.46088 C 0.52673 0.45509 0.5342 0.4537 0.53993 0.4456 C 0.5434 0.43218 0.54045 0.43657 0.54705 0.43032 C 0.55087 0.41643 0.54965 0.40116 0.55139 0.38657 C 0.55087 0.36875 0.55087 0.35116 0.55 0.33333 C 0.54965 0.32454 0.54045 0.31412 0.53559 0.30856 C 0.52448 0.29583 0.51354 0.28194 0.50278 0.26852 C 0.5 0.26065 0.49739 0.25556 0.49288 0.24954 C 0.48837 0.23264 0.48559 0.21505 0.48142 0.19815 C 0.47743 0.16435 0.47569 0.13634 0.47569 0.10093 E">
                                      <p:cBhvr>
                                        <p:cTn id="8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9280" y="1197000"/>
            <a:ext cx="8460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父亲双眼皮，儿子双眼皮；父亲习惯用左手，儿子习惯用右手，分别说明了生物的什么现象？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遗传现象；变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异现象。</a:t>
            </a:r>
            <a:endParaRPr b="1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76120" y="4437000"/>
            <a:ext cx="266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什么是遗传？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什么是变异？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1960" y="476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遗传和变异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6" name="Picture 5" descr="u=3830822855,2374085878&amp;fm=23&amp;gp=0"/>
          <p:cNvPicPr/>
          <p:nvPr/>
        </p:nvPicPr>
        <p:blipFill>
          <a:blip r:embed="rId1"/>
          <a:stretch/>
        </p:blipFill>
        <p:spPr>
          <a:xfrm>
            <a:off x="3708360" y="2535120"/>
            <a:ext cx="5214960" cy="43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想一想、议一议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P24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0" y="7650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下图是用成年牛的体细胞克隆的牛，它们几乎一模一样。为什么它们长得如此相似呢？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9" name="Picture 13" descr="U_2685~1"/>
          <p:cNvPicPr/>
          <p:nvPr/>
        </p:nvPicPr>
        <p:blipFill>
          <a:blip r:embed="rId1"/>
          <a:stretch/>
        </p:blipFill>
        <p:spPr>
          <a:xfrm>
            <a:off x="809640" y="2276640"/>
            <a:ext cx="752472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162864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遗传是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亲子间的相似性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；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变异是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亲子间及子代个体间的差异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34894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人们对遗传和变异的认识，最初从性状开始的，后来随着科技的发展，才深入到基因水平。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66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20,88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2000" y="1484280"/>
            <a:ext cx="4319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2f2b20"/>
                </a:solidFill>
                <a:latin typeface="Calibri"/>
              </a:rPr>
              <a:t>豌豆的形态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3" name="Picture 3" descr="pic_69977"/>
          <p:cNvPicPr/>
          <p:nvPr/>
        </p:nvPicPr>
        <p:blipFill>
          <a:blip r:embed="rId1"/>
          <a:stretch/>
        </p:blipFill>
        <p:spPr>
          <a:xfrm>
            <a:off x="611280" y="1484280"/>
            <a:ext cx="3744720" cy="133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pic_69974"/>
          <p:cNvPicPr/>
          <p:nvPr/>
        </p:nvPicPr>
        <p:blipFill>
          <a:blip r:embed="rId2"/>
          <a:stretch/>
        </p:blipFill>
        <p:spPr>
          <a:xfrm>
            <a:off x="4643280" y="3500280"/>
            <a:ext cx="4191120" cy="2490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ic_69976"/>
          <p:cNvPicPr/>
          <p:nvPr/>
        </p:nvPicPr>
        <p:blipFill>
          <a:blip r:embed="rId3"/>
          <a:stretch/>
        </p:blipFill>
        <p:spPr>
          <a:xfrm>
            <a:off x="611280" y="3500280"/>
            <a:ext cx="3733560" cy="250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ic_69975"/>
          <p:cNvPicPr/>
          <p:nvPr/>
        </p:nvPicPr>
        <p:blipFill>
          <a:blip r:embed="rId4"/>
          <a:stretch/>
        </p:blipFill>
        <p:spPr>
          <a:xfrm>
            <a:off x="4859280" y="1268280"/>
            <a:ext cx="4038480" cy="1389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451480" y="2565360"/>
            <a:ext cx="28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番茄的颜色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71640" y="59500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兔毛的颜色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451480" y="5950080"/>
            <a:ext cx="31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鸡冠的形态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24000" y="836640"/>
            <a:ext cx="46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观察与思考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p25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79280" y="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生物的性状</a:t>
            </a:r>
            <a:endParaRPr b="1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3716280"/>
            <a:ext cx="4355640" cy="3096360"/>
            <a:chOff x="0" y="3716280"/>
            <a:chExt cx="4355640" cy="3096360"/>
          </a:xfrm>
        </p:grpSpPr>
        <p:pic>
          <p:nvPicPr>
            <p:cNvPr id="133" name="Picture 3" descr="book8-09s"/>
            <p:cNvPicPr/>
            <p:nvPr/>
          </p:nvPicPr>
          <p:blipFill>
            <a:blip r:embed="rId1"/>
            <a:stretch/>
          </p:blipFill>
          <p:spPr>
            <a:xfrm>
              <a:off x="0" y="3716280"/>
              <a:ext cx="435564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155880" y="6108840"/>
              <a:ext cx="40456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图</a:t>
              </a: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卷舌</a:t>
              </a:r>
              <a:endParaRPr b="1" lang="en-US" sz="2000" spc="-1" strike="noStrike">
                <a:solidFill>
                  <a:srgbClr val="2f2b2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、能卷舌  </a:t>
              </a: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、不能卷舌</a:t>
              </a:r>
              <a:endParaRPr b="1" lang="en-US" sz="2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35" name="Group 5"/>
          <p:cNvGrpSpPr/>
          <p:nvPr/>
        </p:nvGrpSpPr>
        <p:grpSpPr>
          <a:xfrm>
            <a:off x="4572000" y="3789360"/>
            <a:ext cx="4571640" cy="2755080"/>
            <a:chOff x="4572000" y="3789360"/>
            <a:chExt cx="4571640" cy="2755080"/>
          </a:xfrm>
        </p:grpSpPr>
        <p:pic>
          <p:nvPicPr>
            <p:cNvPr id="136" name="Picture 6" descr="book8-11s"/>
            <p:cNvPicPr/>
            <p:nvPr/>
          </p:nvPicPr>
          <p:blipFill>
            <a:blip r:embed="rId2"/>
            <a:stretch/>
          </p:blipFill>
          <p:spPr>
            <a:xfrm>
              <a:off x="4572000" y="3789360"/>
              <a:ext cx="4571640" cy="268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4755600" y="5840640"/>
              <a:ext cx="42058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图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  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拇指竖起时弯曲情形</a:t>
              </a:r>
              <a:endParaRPr b="1" lang="en-US" sz="2000" spc="-1" strike="noStrike">
                <a:solidFill>
                  <a:srgbClr val="2f2b2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、挺直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、拇指向背面弯曲</a:t>
              </a:r>
              <a:endParaRPr b="1" lang="en-US" sz="20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38" name="Group 8"/>
          <p:cNvGrpSpPr/>
          <p:nvPr/>
        </p:nvGrpSpPr>
        <p:grpSpPr>
          <a:xfrm>
            <a:off x="0" y="404640"/>
            <a:ext cx="4355640" cy="2899440"/>
            <a:chOff x="0" y="404640"/>
            <a:chExt cx="4355640" cy="2899440"/>
          </a:xfrm>
        </p:grpSpPr>
        <p:sp>
          <p:nvSpPr>
            <p:cNvPr id="139" name="Text Box 9"/>
            <p:cNvSpPr/>
            <p:nvPr/>
          </p:nvSpPr>
          <p:spPr>
            <a:xfrm>
              <a:off x="75960" y="2600280"/>
              <a:ext cx="42055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图</a:t>
              </a: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   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耳垂 </a:t>
              </a:r>
              <a:endParaRPr b="1" lang="en-US" sz="2000" spc="-1" strike="noStrike">
                <a:solidFill>
                  <a:srgbClr val="2f2b2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、无耳垂   </a:t>
              </a: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、有耳垂</a:t>
              </a:r>
              <a:endParaRPr b="1" lang="en-US" sz="2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pic>
          <p:nvPicPr>
            <p:cNvPr id="140" name="Picture 10" descr="sw8akbp105c"/>
            <p:cNvPicPr/>
            <p:nvPr/>
          </p:nvPicPr>
          <p:blipFill>
            <a:blip r:embed="rId3"/>
            <a:stretch/>
          </p:blipFill>
          <p:spPr>
            <a:xfrm>
              <a:off x="0" y="404640"/>
              <a:ext cx="4355640" cy="221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1"/>
          <p:cNvGrpSpPr/>
          <p:nvPr/>
        </p:nvGrpSpPr>
        <p:grpSpPr>
          <a:xfrm>
            <a:off x="4643280" y="333360"/>
            <a:ext cx="4500360" cy="2839680"/>
            <a:chOff x="4643280" y="333360"/>
            <a:chExt cx="4500360" cy="2839680"/>
          </a:xfrm>
        </p:grpSpPr>
        <p:sp>
          <p:nvSpPr>
            <p:cNvPr id="142" name="Text Box 12"/>
            <p:cNvSpPr/>
            <p:nvPr/>
          </p:nvSpPr>
          <p:spPr>
            <a:xfrm>
              <a:off x="4643280" y="2469240"/>
              <a:ext cx="45003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图 </a:t>
              </a: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 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双眼皮与单眼皮</a:t>
              </a:r>
              <a:endParaRPr b="1" lang="en-US" sz="2000" spc="-1" strike="noStrike">
                <a:solidFill>
                  <a:srgbClr val="2f2b2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、双眼皮  </a:t>
              </a: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、单眼皮</a:t>
              </a:r>
              <a:endParaRPr b="1" lang="en-US" sz="2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pic>
          <p:nvPicPr>
            <p:cNvPr id="143" name="Picture 13" descr="shuanyanpi"/>
            <p:cNvPicPr/>
            <p:nvPr/>
          </p:nvPicPr>
          <p:blipFill>
            <a:blip r:embed="rId4"/>
            <a:stretch/>
          </p:blipFill>
          <p:spPr>
            <a:xfrm>
              <a:off x="4643280" y="333360"/>
              <a:ext cx="2199600" cy="21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4" descr="danyanpi"/>
            <p:cNvPicPr/>
            <p:nvPr/>
          </p:nvPicPr>
          <p:blipFill>
            <a:blip r:embed="rId5"/>
            <a:stretch/>
          </p:blipFill>
          <p:spPr>
            <a:xfrm>
              <a:off x="6971400" y="333360"/>
              <a:ext cx="2172240" cy="213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1:27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31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