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17.wmf" ContentType="image/x-wmf"/>
  <Override PartName="/ppt/media/image31.gif" ContentType="image/gif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24.jpeg" ContentType="image/jpeg"/>
  <Override PartName="/ppt/media/image12.gif" ContentType="image/gif"/>
  <Override PartName="/ppt/media/image32.jpeg" ContentType="image/jpeg"/>
  <Override PartName="/ppt/media/image40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F90-64C7-4019-B504-1B08D98A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0FC-F444-48E8-A2F3-D651B6A9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296-7EDE-4019-9DC4-82BE2359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B2C-49F0-4D2F-A60C-B9B3BBCD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E17-4EE5-40C7-86ED-4EC4A34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B08-2980-41F9-B13B-EC0B6D3D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16B-2B58-4E92-93D7-C907EB22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836-C16C-4C8D-B4B4-0D2C0410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B1D-AEEA-4506-ACE4-65ABFAFF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184-F6E5-4126-86A2-8C14A49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CDC-4088-4EA9-8A28-54245406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457-8A84-4B1C-9784-077196F6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hyperlink" Target="../../&#30446;&#24405;.ppt" TargetMode="External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">
            <a:hlinkClick r:id="" action="ppaction://hlinkshowjump?jump=lastslide"/>
          </p:cNvPr>
          <p:cNvPicPr/>
          <p:nvPr/>
        </p:nvPicPr>
        <p:blipFill>
          <a:blip r:embed="rId3"/>
          <a:srcRect l="0" t="-7345" r="0" b="0"/>
          <a:stretch/>
        </p:blipFill>
        <p:spPr>
          <a:xfrm>
            <a:off x="8694720" y="6377040"/>
            <a:ext cx="428760" cy="366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3">
            <a:hlinkClick r:id="" action="ppaction://hlinkshowjump?jump=firstslide"/>
          </p:cNvPr>
          <p:cNvPicPr/>
          <p:nvPr/>
        </p:nvPicPr>
        <p:blipFill>
          <a:blip r:embed="rId4"/>
          <a:srcRect l="0" t="-7345" r="0" b="0"/>
          <a:stretch/>
        </p:blipFill>
        <p:spPr>
          <a:xfrm>
            <a:off x="8263080" y="6377040"/>
            <a:ext cx="428400" cy="36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图片12"/>
          <p:cNvPicPr/>
          <p:nvPr/>
        </p:nvPicPr>
        <p:blipFill>
          <a:blip r:embed="rId5"/>
          <a:stretch/>
        </p:blipFill>
        <p:spPr>
          <a:xfrm>
            <a:off x="812880" y="6134040"/>
            <a:ext cx="2266920" cy="26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图片13"/>
          <p:cNvPicPr/>
          <p:nvPr/>
        </p:nvPicPr>
        <p:blipFill>
          <a:blip r:embed="rId6"/>
          <a:stretch/>
        </p:blipFill>
        <p:spPr>
          <a:xfrm>
            <a:off x="3178080" y="6134040"/>
            <a:ext cx="2266920" cy="262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图片14"/>
          <p:cNvPicPr/>
          <p:nvPr/>
        </p:nvPicPr>
        <p:blipFill>
          <a:blip r:embed="rId7"/>
          <a:stretch/>
        </p:blipFill>
        <p:spPr>
          <a:xfrm>
            <a:off x="5545080" y="6134040"/>
            <a:ext cx="2266920" cy="26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图片15"/>
          <p:cNvPicPr/>
          <p:nvPr/>
        </p:nvPicPr>
        <p:blipFill>
          <a:blip r:embed="rId8"/>
          <a:stretch/>
        </p:blipFill>
        <p:spPr>
          <a:xfrm>
            <a:off x="812880" y="6473880"/>
            <a:ext cx="2266920" cy="26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图片2"/>
          <p:cNvPicPr/>
          <p:nvPr/>
        </p:nvPicPr>
        <p:blipFill>
          <a:blip r:embed="rId9"/>
          <a:stretch/>
        </p:blipFill>
        <p:spPr>
          <a:xfrm>
            <a:off x="3178080" y="6473880"/>
            <a:ext cx="2266920" cy="26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819920" y="6407280"/>
            <a:ext cx="441360" cy="33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图片5"/>
          <p:cNvPicPr/>
          <p:nvPr/>
        </p:nvPicPr>
        <p:blipFill>
          <a:blip r:embed="rId12"/>
          <a:stretch/>
        </p:blipFill>
        <p:spPr>
          <a:xfrm>
            <a:off x="5545080" y="6473880"/>
            <a:ext cx="2266920" cy="26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5770-D098-4F7F-BC22-96DB224769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框"/>
          <p:cNvPicPr/>
          <p:nvPr/>
        </p:nvPicPr>
        <p:blipFill>
          <a:blip r:embed="rId1"/>
          <a:stretch/>
        </p:blipFill>
        <p:spPr>
          <a:xfrm>
            <a:off x="728640" y="620640"/>
            <a:ext cx="7844040" cy="228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490680" y="844560"/>
            <a:ext cx="83199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第二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基因在亲子代间的传递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老师"/>
          <p:cNvPicPr/>
          <p:nvPr/>
        </p:nvPicPr>
        <p:blipFill>
          <a:blip r:embed="rId2"/>
          <a:stretch/>
        </p:blipFill>
        <p:spPr>
          <a:xfrm>
            <a:off x="0" y="3282840"/>
            <a:ext cx="3144960" cy="29876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" descr=""/>
          <p:cNvPicPr/>
          <p:nvPr/>
        </p:nvPicPr>
        <p:blipFill>
          <a:blip r:embed="rId3"/>
          <a:stretch/>
        </p:blipFill>
        <p:spPr>
          <a:xfrm>
            <a:off x="2622600" y="3095640"/>
            <a:ext cx="5621400" cy="3065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79280" y="3284640"/>
            <a:ext cx="86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476360" y="587700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染色体和DNA关系示意图"/>
          <p:cNvPicPr/>
          <p:nvPr/>
        </p:nvPicPr>
        <p:blipFill>
          <a:blip r:embed="rId1"/>
          <a:stretch/>
        </p:blipFill>
        <p:spPr>
          <a:xfrm>
            <a:off x="2135160" y="1143000"/>
            <a:ext cx="5421240" cy="3336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1434960" y="865080"/>
            <a:ext cx="50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简略概括染色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和基因三者之间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54120" y="4757760"/>
            <a:ext cx="784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基因是染色体上具有控制生物性状的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DNA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片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4960" y="289080"/>
            <a:ext cx="58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认真观察染色体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的关系示意图（如下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652320" y="2523960"/>
            <a:ext cx="360360" cy="17053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4280 h 1705320"/>
              <a:gd name="textAreaBottom" fmla="*/ 1661040 h 17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28520" y="2568600"/>
            <a:ext cx="83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染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896760" y="2406600"/>
            <a:ext cx="11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868320" y="367812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pic_38100"/>
          <p:cNvPicPr/>
          <p:nvPr/>
        </p:nvPicPr>
        <p:blipFill>
          <a:blip r:embed="rId2"/>
          <a:stretch/>
        </p:blipFill>
        <p:spPr>
          <a:xfrm>
            <a:off x="7607160" y="1241280"/>
            <a:ext cx="1386000" cy="3359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79280" y="3284640"/>
            <a:ext cx="86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476360" y="587700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0" y="0"/>
            <a:ext cx="2819520" cy="685800"/>
          </a:xfrm>
          <a:prstGeom prst="cloudCallout">
            <a:avLst>
              <a:gd name="adj1" fmla="val -31587"/>
              <a:gd name="adj2" fmla="val 163425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714600" y="2844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华文新魏"/>
              </a:rPr>
              <a:t>讨论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99880" y="785880"/>
            <a:ext cx="396252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用一根长绳来代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子，在长绳上用红、橙、黄、绿、蓝等颜色涂在不同的区段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些不同颜色的区段表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怎样才能把长绳处理成短棒状的染色体的样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427640" y="2565360"/>
            <a:ext cx="441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黑体"/>
              </a:rPr>
              <a:t>不同颜色的区段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黑体"/>
              </a:rPr>
              <a:t>表示控制不同性状的基因。</a:t>
            </a:r>
            <a:r>
              <a:rPr b="1" lang="zh-CN" sz="4000" spc="-1" strike="noStrike">
                <a:solidFill>
                  <a:srgbClr val="000099"/>
                </a:solidFill>
                <a:latin typeface="华文中宋"/>
                <a:ea typeface="黑体"/>
              </a:rPr>
              <a:t>不断把长绳螺旋缩短变粗，就能把长绳处理成短棒状的染色体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4314960" y="260280"/>
            <a:ext cx="4572000" cy="2209680"/>
            <a:chOff x="4314960" y="260280"/>
            <a:chExt cx="4572000" cy="2209680"/>
          </a:xfrm>
        </p:grpSpPr>
        <p:cxnSp>
          <p:nvCxnSpPr>
            <p:cNvPr id="230" name="AutoShape 9"/>
            <p:cNvCxnSpPr/>
            <p:nvPr/>
          </p:nvCxnSpPr>
          <p:spPr>
            <a:xfrm>
              <a:off x="4543560" y="488880"/>
              <a:ext cx="381600" cy="915120"/>
            </a:xfrm>
            <a:prstGeom prst="straightConnector1">
              <a:avLst/>
            </a:prstGeom>
            <a:ln cap="sq" w="76320">
              <a:solidFill>
                <a:srgbClr val="ff0000"/>
              </a:solidFill>
              <a:round/>
            </a:ln>
          </p:spPr>
        </p:cxnSp>
        <p:cxnSp>
          <p:nvCxnSpPr>
            <p:cNvPr id="231" name="AutoShape 10"/>
            <p:cNvCxnSpPr/>
            <p:nvPr/>
          </p:nvCxnSpPr>
          <p:spPr>
            <a:xfrm>
              <a:off x="4923360" y="1479600"/>
              <a:ext cx="686520" cy="838800"/>
            </a:xfrm>
            <a:prstGeom prst="straightConnector1">
              <a:avLst/>
            </a:prstGeom>
            <a:ln cap="sq" w="76320">
              <a:solidFill>
                <a:srgbClr val="bbe0e3"/>
              </a:solidFill>
              <a:round/>
            </a:ln>
          </p:spPr>
        </p:cxnSp>
        <p:cxnSp>
          <p:nvCxnSpPr>
            <p:cNvPr id="232" name="AutoShape 11"/>
            <p:cNvCxnSpPr/>
            <p:nvPr/>
          </p:nvCxnSpPr>
          <p:spPr>
            <a:xfrm flipV="1">
              <a:off x="5686560" y="1936440"/>
              <a:ext cx="915120" cy="381600"/>
            </a:xfrm>
            <a:prstGeom prst="straightConnector1">
              <a:avLst/>
            </a:prstGeom>
            <a:ln cap="sq" w="76320">
              <a:solidFill>
                <a:srgbClr val="ffff00"/>
              </a:solidFill>
              <a:round/>
            </a:ln>
          </p:spPr>
        </p:cxnSp>
        <p:cxnSp>
          <p:nvCxnSpPr>
            <p:cNvPr id="233" name="AutoShape 12"/>
            <p:cNvCxnSpPr/>
            <p:nvPr/>
          </p:nvCxnSpPr>
          <p:spPr>
            <a:xfrm flipV="1">
              <a:off x="6600600" y="1250280"/>
              <a:ext cx="1067400" cy="686520"/>
            </a:xfrm>
            <a:prstGeom prst="straightConnector1">
              <a:avLst/>
            </a:prstGeom>
            <a:ln cap="sq" w="76320">
              <a:solidFill>
                <a:srgbClr val="33cc33"/>
              </a:solidFill>
              <a:round/>
            </a:ln>
          </p:spPr>
        </p:cxnSp>
        <p:cxnSp>
          <p:nvCxnSpPr>
            <p:cNvPr id="234" name="AutoShape 13"/>
            <p:cNvCxnSpPr/>
            <p:nvPr/>
          </p:nvCxnSpPr>
          <p:spPr>
            <a:xfrm flipV="1">
              <a:off x="7743960" y="336240"/>
              <a:ext cx="991440" cy="915120"/>
            </a:xfrm>
            <a:prstGeom prst="straightConnector1">
              <a:avLst/>
            </a:prstGeom>
            <a:ln cap="sq" w="76320">
              <a:solidFill>
                <a:srgbClr val="0066ff"/>
              </a:solidFill>
              <a:round/>
            </a:ln>
          </p:spPr>
        </p:cxnSp>
        <p:sp>
          <p:nvSpPr>
            <p:cNvPr id="235" name="Rectangle 14"/>
            <p:cNvSpPr/>
            <p:nvPr/>
          </p:nvSpPr>
          <p:spPr>
            <a:xfrm>
              <a:off x="4314960" y="260280"/>
              <a:ext cx="4572000" cy="2209680"/>
            </a:xfrm>
            <a:prstGeom prst="rect">
              <a:avLst/>
            </a:prstGeom>
            <a:noFill/>
            <a:ln cap="sq"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Oval 2"/>
          <p:cNvSpPr/>
          <p:nvPr/>
        </p:nvSpPr>
        <p:spPr>
          <a:xfrm>
            <a:off x="4714920" y="2944800"/>
            <a:ext cx="3695760" cy="2057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4621320" y="3378240"/>
            <a:ext cx="2601720" cy="123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979640" y="2279520"/>
            <a:ext cx="360360" cy="2089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3419640" y="1487520"/>
            <a:ext cx="379080" cy="2143080"/>
          </a:xfrm>
          <a:custGeom>
            <a:avLst/>
            <a:gdLst>
              <a:gd name="textAreaLeft" fmla="*/ 242280 w 379080"/>
              <a:gd name="textAreaRight" fmla="*/ 379440 w 379080"/>
              <a:gd name="textAreaTop" fmla="*/ 55800 h 2143080"/>
              <a:gd name="textAreaBottom" fmla="*/ 208728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57280" y="30402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染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340000" y="2063880"/>
            <a:ext cx="11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2282760" y="387828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3809880" y="10396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809880" y="225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4603680" y="3686040"/>
            <a:ext cx="1524240" cy="59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4832280" y="372600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975640" y="36432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186680" y="3090960"/>
            <a:ext cx="39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染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1679400" y="5353200"/>
            <a:ext cx="62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染色体、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和基因三者关系图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3962520" y="30369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3774960" y="164952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8" descr="u=2916093224,691088321&amp;fm=0&amp;gp=0"/>
          <p:cNvPicPr/>
          <p:nvPr/>
        </p:nvPicPr>
        <p:blipFill>
          <a:blip r:embed="rId1"/>
          <a:stretch/>
        </p:blipFill>
        <p:spPr>
          <a:xfrm>
            <a:off x="7202520" y="820800"/>
            <a:ext cx="1195200" cy="1535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9" descr="图片1"/>
          <p:cNvPicPr/>
          <p:nvPr/>
        </p:nvPicPr>
        <p:blipFill>
          <a:blip r:embed="rId2"/>
          <a:stretch/>
        </p:blipFill>
        <p:spPr>
          <a:xfrm>
            <a:off x="388800" y="399960"/>
            <a:ext cx="334008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pic_38121"/>
          <p:cNvPicPr/>
          <p:nvPr/>
        </p:nvPicPr>
        <p:blipFill>
          <a:blip r:embed="rId1"/>
          <a:stretch/>
        </p:blipFill>
        <p:spPr>
          <a:xfrm>
            <a:off x="-150840" y="914400"/>
            <a:ext cx="4799160" cy="3925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pic_38108"/>
          <p:cNvPicPr/>
          <p:nvPr/>
        </p:nvPicPr>
        <p:blipFill>
          <a:blip r:embed="rId2"/>
          <a:stretch/>
        </p:blipFill>
        <p:spPr>
          <a:xfrm>
            <a:off x="4481640" y="1828800"/>
            <a:ext cx="4662360" cy="4876920"/>
          </a:xfrm>
          <a:prstGeom prst="rect">
            <a:avLst/>
          </a:prstGeom>
          <a:ln w="0">
            <a:noFill/>
          </a:ln>
        </p:spPr>
      </p:pic>
      <p:sp>
        <p:nvSpPr>
          <p:cNvPr id="256" name="Oval 5"/>
          <p:cNvSpPr/>
          <p:nvPr/>
        </p:nvSpPr>
        <p:spPr>
          <a:xfrm>
            <a:off x="3505320" y="2209680"/>
            <a:ext cx="1224000" cy="1008360"/>
          </a:xfrm>
          <a:prstGeom prst="ellips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001000" y="3809880"/>
            <a:ext cx="1006560" cy="719280"/>
          </a:xfrm>
          <a:prstGeom prst="ellips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468360" y="26028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染色体位于细胞核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2"/>
          <p:cNvSpPr/>
          <p:nvPr/>
        </p:nvSpPr>
        <p:spPr>
          <a:xfrm>
            <a:off x="673200" y="1566720"/>
            <a:ext cx="7850160" cy="453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"/>
          <p:cNvSpPr/>
          <p:nvPr/>
        </p:nvSpPr>
        <p:spPr>
          <a:xfrm>
            <a:off x="673200" y="2143080"/>
            <a:ext cx="6842160" cy="331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673200" y="2430360"/>
            <a:ext cx="5761080" cy="273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673200" y="2719440"/>
            <a:ext cx="4824360" cy="21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673200" y="2862360"/>
            <a:ext cx="360036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673200" y="3078000"/>
            <a:ext cx="2089080" cy="144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177920" y="322272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830680" y="338616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417920" y="307800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549760" y="3097080"/>
            <a:ext cx="59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细胞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6434280" y="322272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7658280" y="3078000"/>
            <a:ext cx="7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4848120" y="1974960"/>
            <a:ext cx="16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受精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7035840" y="1987560"/>
            <a:ext cx="12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子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099120" y="16430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641600" y="1343160"/>
            <a:ext cx="6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641600" y="258120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179800" y="1622520"/>
            <a:ext cx="442800" cy="1440"/>
            <a:chOff x="2179800" y="1622520"/>
            <a:chExt cx="442800" cy="1440"/>
          </a:xfrm>
        </p:grpSpPr>
        <p:sp>
          <p:nvSpPr>
            <p:cNvPr id="277" name="Line 7"/>
            <p:cNvSpPr/>
            <p:nvPr/>
          </p:nvSpPr>
          <p:spPr>
            <a:xfrm>
              <a:off x="2179800" y="1622520"/>
              <a:ext cx="442800" cy="144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179800" y="1622520"/>
              <a:ext cx="442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193840" y="2838600"/>
            <a:ext cx="403200" cy="360"/>
            <a:chOff x="2193840" y="2838600"/>
            <a:chExt cx="403200" cy="360"/>
          </a:xfrm>
        </p:grpSpPr>
        <p:sp>
          <p:nvSpPr>
            <p:cNvPr id="280" name="Line 8"/>
            <p:cNvSpPr/>
            <p:nvPr/>
          </p:nvSpPr>
          <p:spPr>
            <a:xfrm>
              <a:off x="2193840" y="2838600"/>
              <a:ext cx="403200" cy="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2193840" y="2838600"/>
              <a:ext cx="40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9"/>
          <p:cNvSpPr/>
          <p:nvPr/>
        </p:nvSpPr>
        <p:spPr>
          <a:xfrm>
            <a:off x="2701800" y="1352520"/>
            <a:ext cx="15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精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550960" y="25527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3878280" y="1563840"/>
            <a:ext cx="166680" cy="1503360"/>
          </a:xfrm>
          <a:custGeom>
            <a:avLst/>
            <a:gdLst>
              <a:gd name="textAreaLeft" fmla="*/ 0 w 166680"/>
              <a:gd name="textAreaRight" fmla="*/ 60120 w 166680"/>
              <a:gd name="textAreaTop" fmla="*/ 38880 h 1503360"/>
              <a:gd name="textAreaBottom" fmla="*/ 1464480 h 15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011480" y="172548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受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118040" y="2387520"/>
            <a:ext cx="804960" cy="360"/>
            <a:chOff x="4118040" y="2387520"/>
            <a:chExt cx="804960" cy="360"/>
          </a:xfrm>
        </p:grpSpPr>
        <p:sp>
          <p:nvSpPr>
            <p:cNvPr id="287" name="Line 13"/>
            <p:cNvSpPr/>
            <p:nvPr/>
          </p:nvSpPr>
          <p:spPr>
            <a:xfrm>
              <a:off x="4118040" y="2387520"/>
              <a:ext cx="804960" cy="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4118040" y="2387520"/>
              <a:ext cx="804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248520" y="2313000"/>
            <a:ext cx="745920" cy="360"/>
            <a:chOff x="6248520" y="2313000"/>
            <a:chExt cx="745920" cy="360"/>
          </a:xfrm>
        </p:grpSpPr>
        <p:sp>
          <p:nvSpPr>
            <p:cNvPr id="290" name="Line 14"/>
            <p:cNvSpPr/>
            <p:nvPr/>
          </p:nvSpPr>
          <p:spPr>
            <a:xfrm>
              <a:off x="6248520" y="2313000"/>
              <a:ext cx="745920" cy="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248520" y="2313000"/>
              <a:ext cx="745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27"/>
          <p:cNvSpPr/>
          <p:nvPr/>
        </p:nvSpPr>
        <p:spPr>
          <a:xfrm>
            <a:off x="385920" y="565200"/>
            <a:ext cx="83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基因经精子和卵细胞的传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653840" y="19033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1637640" y="3044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2839680" y="19303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2866680" y="3002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5266800" y="2544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7253640" y="2544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1538280" y="41292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46+46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3843360" y="3900600"/>
            <a:ext cx="117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9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438200" y="54720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92+92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3648240" y="515304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18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1643040" y="48718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2788560" y="4862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4193640" y="4791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9" descr="BD00028_"/>
          <p:cNvPicPr/>
          <p:nvPr/>
        </p:nvPicPr>
        <p:blipFill>
          <a:blip r:embed="rId1"/>
          <a:stretch/>
        </p:blipFill>
        <p:spPr>
          <a:xfrm>
            <a:off x="5977080" y="4448160"/>
            <a:ext cx="2124000" cy="2081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0"/>
          <p:cNvSpPr/>
          <p:nvPr/>
        </p:nvSpPr>
        <p:spPr>
          <a:xfrm>
            <a:off x="2071080" y="6100920"/>
            <a:ext cx="1399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670400" y="3548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2957760" y="3565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4266720" y="3576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4"/>
          <p:cNvSpPr/>
          <p:nvPr/>
        </p:nvSpPr>
        <p:spPr>
          <a:xfrm>
            <a:off x="4857840" y="3348000"/>
            <a:ext cx="4043160" cy="97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什么受精卵中的染色体不会成倍增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8199"/>
          <p:cNvSpPr/>
          <p:nvPr/>
        </p:nvSpPr>
        <p:spPr>
          <a:xfrm>
            <a:off x="887400" y="230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604800" y="1698480"/>
            <a:ext cx="795348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8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比利时的胚胎学家比耐登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体细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里只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染色体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马蛔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研究时发现，马蛔虫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精子和卵细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都只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染色体（由每一对里的一条组成），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受精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又恢复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染色体。那么，是不是所有进行有性生殖的生物都是这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403200" y="785880"/>
            <a:ext cx="1940040" cy="769680"/>
            <a:chOff x="403200" y="785880"/>
            <a:chExt cx="1940040" cy="769680"/>
          </a:xfrm>
        </p:grpSpPr>
        <p:sp>
          <p:nvSpPr>
            <p:cNvPr id="315" name="AutoShape 4"/>
            <p:cNvSpPr/>
            <p:nvPr/>
          </p:nvSpPr>
          <p:spPr>
            <a:xfrm>
              <a:off x="522000" y="785880"/>
              <a:ext cx="1665720" cy="769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2cc4e"/>
                </a:gs>
                <a:gs pos="100000">
                  <a:srgbClr val="508e36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585720" y="876600"/>
              <a:ext cx="1000800" cy="627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e6a9"/>
                </a:gs>
                <a:gs pos="50000">
                  <a:srgbClr val="72cc4e">
                    <a:alpha val="0"/>
                  </a:srgbClr>
                </a:gs>
                <a:gs pos="100000">
                  <a:srgbClr val="bae6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03200" y="834480"/>
              <a:ext cx="19400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资料分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Picture 7" descr="图片133"/>
          <p:cNvPicPr/>
          <p:nvPr/>
        </p:nvPicPr>
        <p:blipFill>
          <a:blip r:embed="rId1"/>
          <a:stretch/>
        </p:blipFill>
        <p:spPr>
          <a:xfrm>
            <a:off x="6853320" y="690480"/>
            <a:ext cx="17208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446040" y="728640"/>
            <a:ext cx="79977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德国细胞学家鲍维里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9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德国动物学家亨金，通过对多种生物的观察研究，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证实了在形成精子或卵细胞的细胞分裂过程中，染色体都要减少一半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而且不是任意的一半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，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每对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染色体中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各有一条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进入精子或卵细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20070723091918"/>
          <p:cNvPicPr/>
          <p:nvPr/>
        </p:nvPicPr>
        <p:blipFill>
          <a:blip r:embed="rId1"/>
          <a:stretch/>
        </p:blipFill>
        <p:spPr>
          <a:xfrm>
            <a:off x="5775480" y="3959280"/>
            <a:ext cx="2719080" cy="2149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182"/>
          <p:cNvPicPr/>
          <p:nvPr/>
        </p:nvPicPr>
        <p:blipFill>
          <a:blip r:embed="rId2"/>
          <a:stretch/>
        </p:blipFill>
        <p:spPr>
          <a:xfrm>
            <a:off x="122400" y="5572080"/>
            <a:ext cx="4865400" cy="993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P29-1"/>
          <p:cNvPicPr/>
          <p:nvPr/>
        </p:nvPicPr>
        <p:blipFill>
          <a:blip r:embed="rId3"/>
          <a:stretch/>
        </p:blipFill>
        <p:spPr>
          <a:xfrm>
            <a:off x="4002120" y="4162320"/>
            <a:ext cx="1662120" cy="162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73200" y="820800"/>
            <a:ext cx="7942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填写生殖过程中染色体数目的变化并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993240" y="2467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920160" y="4044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1447920" y="2652840"/>
            <a:ext cx="1307880" cy="145800"/>
          </a:xfrm>
          <a:prstGeom prst="rightArrow">
            <a:avLst>
              <a:gd name="adj1" fmla="val 50000"/>
              <a:gd name="adj2" fmla="val 224135"/>
            </a:avLst>
          </a:prstGeom>
          <a:solidFill>
            <a:srgbClr val="b7f2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1363680" y="4267080"/>
            <a:ext cx="1227240" cy="190800"/>
          </a:xfrm>
          <a:prstGeom prst="rightArrow">
            <a:avLst>
              <a:gd name="adj1" fmla="val 50000"/>
              <a:gd name="adj2" fmla="val 160712"/>
            </a:avLst>
          </a:prstGeom>
          <a:solidFill>
            <a:srgbClr val="b7f2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7"/>
          <p:cNvSpPr/>
          <p:nvPr/>
        </p:nvSpPr>
        <p:spPr>
          <a:xfrm>
            <a:off x="3054240" y="4557600"/>
            <a:ext cx="789120" cy="700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8"/>
          <p:cNvSpPr/>
          <p:nvPr/>
        </p:nvSpPr>
        <p:spPr>
          <a:xfrm>
            <a:off x="2986200" y="2828880"/>
            <a:ext cx="900000" cy="7146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962520" y="2590920"/>
            <a:ext cx="990360" cy="838080"/>
            <a:chOff x="3962520" y="2590920"/>
            <a:chExt cx="990360" cy="838080"/>
          </a:xfrm>
        </p:grpSpPr>
        <p:sp>
          <p:nvSpPr>
            <p:cNvPr id="331" name="Line 9"/>
            <p:cNvSpPr/>
            <p:nvPr/>
          </p:nvSpPr>
          <p:spPr>
            <a:xfrm>
              <a:off x="3962520" y="2590920"/>
              <a:ext cx="990360" cy="838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3962520" y="2590920"/>
              <a:ext cx="990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Oval 10"/>
          <p:cNvSpPr/>
          <p:nvPr/>
        </p:nvSpPr>
        <p:spPr>
          <a:xfrm>
            <a:off x="5029200" y="2895480"/>
            <a:ext cx="792000" cy="863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6019920" y="3276720"/>
            <a:ext cx="863640" cy="287280"/>
          </a:xfrm>
          <a:prstGeom prst="rightArrow">
            <a:avLst>
              <a:gd name="adj1" fmla="val 50000"/>
              <a:gd name="adj2" fmla="val 75115"/>
            </a:avLst>
          </a:prstGeom>
          <a:solidFill>
            <a:srgbClr val="b7f2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114800" y="3505320"/>
            <a:ext cx="838080" cy="715680"/>
            <a:chOff x="4114800" y="3505320"/>
            <a:chExt cx="838080" cy="715680"/>
          </a:xfrm>
        </p:grpSpPr>
        <p:sp>
          <p:nvSpPr>
            <p:cNvPr id="336" name="Line 12"/>
            <p:cNvSpPr/>
            <p:nvPr/>
          </p:nvSpPr>
          <p:spPr>
            <a:xfrm flipV="1">
              <a:off x="4114800" y="3505320"/>
              <a:ext cx="838080" cy="71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 rot="10800000">
              <a:off x="4114800" y="3505320"/>
              <a:ext cx="838080" cy="71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3"/>
          <p:cNvSpPr/>
          <p:nvPr/>
        </p:nvSpPr>
        <p:spPr>
          <a:xfrm>
            <a:off x="7197840" y="31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新个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3198600" y="2325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精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3063960" y="3981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6"/>
          <p:cNvSpPr/>
          <p:nvPr/>
        </p:nvSpPr>
        <p:spPr>
          <a:xfrm>
            <a:off x="5257800" y="3886200"/>
            <a:ext cx="438120" cy="1071720"/>
          </a:xfrm>
          <a:prstGeom prst="upArrow">
            <a:avLst>
              <a:gd name="adj1" fmla="val 50000"/>
              <a:gd name="adj2" fmla="val 6112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5021280" y="5181480"/>
            <a:ext cx="958680" cy="914400"/>
          </a:xfrm>
          <a:prstGeom prst="ellipse">
            <a:avLst/>
          </a:prstGeom>
          <a:solidFill>
            <a:srgbClr val="f5fa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4983480" y="5310360"/>
            <a:ext cx="9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200400" y="1319040"/>
            <a:ext cx="1903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生殖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676520" y="1447920"/>
            <a:ext cx="6553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773280" y="138240"/>
            <a:ext cx="79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写出染色体变化的规律（用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n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表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690560" y="752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父母的性状遗传是通过双亲的        把       传递给了子代个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5602320" y="1305000"/>
            <a:ext cx="1081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3171960" y="2738520"/>
            <a:ext cx="32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亲代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876920" y="4132440"/>
            <a:ext cx="360" cy="380880"/>
            <a:chOff x="4876920" y="4132440"/>
            <a:chExt cx="360" cy="380880"/>
          </a:xfrm>
        </p:grpSpPr>
        <p:sp>
          <p:nvSpPr>
            <p:cNvPr id="351" name="Line 8"/>
            <p:cNvSpPr/>
            <p:nvPr/>
          </p:nvSpPr>
          <p:spPr>
            <a:xfrm>
              <a:off x="4876920" y="4132440"/>
              <a:ext cx="0" cy="38088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876920" y="413244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05520" y="5504040"/>
            <a:ext cx="360" cy="457200"/>
            <a:chOff x="5105520" y="5504040"/>
            <a:chExt cx="360" cy="457200"/>
          </a:xfrm>
        </p:grpSpPr>
        <p:sp>
          <p:nvSpPr>
            <p:cNvPr id="354" name="Line 9"/>
            <p:cNvSpPr/>
            <p:nvPr/>
          </p:nvSpPr>
          <p:spPr>
            <a:xfrm>
              <a:off x="5105520" y="5504040"/>
              <a:ext cx="0" cy="45720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105520" y="55040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10"/>
          <p:cNvSpPr/>
          <p:nvPr/>
        </p:nvSpPr>
        <p:spPr>
          <a:xfrm>
            <a:off x="5442120" y="4179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4552920" y="5334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2800440" y="4183200"/>
            <a:ext cx="41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殖细胞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2873520" y="5322960"/>
            <a:ext cx="39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子代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4896000" y="27669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5"/>
          <p:cNvSpPr/>
          <p:nvPr/>
        </p:nvSpPr>
        <p:spPr>
          <a:xfrm>
            <a:off x="4186080" y="3571920"/>
            <a:ext cx="285840" cy="671400"/>
          </a:xfrm>
          <a:prstGeom prst="downArrow">
            <a:avLst>
              <a:gd name="adj1" fmla="val 50000"/>
              <a:gd name="adj2" fmla="val 58689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/>
          <p:cNvSpPr/>
          <p:nvPr/>
        </p:nvSpPr>
        <p:spPr>
          <a:xfrm>
            <a:off x="4227480" y="4915080"/>
            <a:ext cx="273240" cy="455400"/>
          </a:xfrm>
          <a:prstGeom prst="downArrow">
            <a:avLst>
              <a:gd name="adj1" fmla="val 50000"/>
              <a:gd name="adj2" fmla="val 41643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711360" y="636480"/>
            <a:ext cx="78278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一、遗传与变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遗传：亲子间的相似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变异：亲子间和子代个体间的差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39640" y="2417760"/>
            <a:ext cx="815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物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性状的类型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形态结构特征、生理特性  、行为方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  <a:ea typeface="黑体"/>
              </a:rPr>
              <a:t>相对性状：同种生物同一性状的不同表现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举例：番茄果实的红色与黄色；家兔毛的白色与黑色；人的双眼皮与单眼皮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958680" y="679320"/>
            <a:ext cx="72835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完成下面的填图，看谁填得正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图Ⅶ-11 生殖过程中染色体的变化"/>
          <p:cNvPicPr/>
          <p:nvPr/>
        </p:nvPicPr>
        <p:blipFill>
          <a:blip r:embed="rId1"/>
          <a:stretch/>
        </p:blipFill>
        <p:spPr>
          <a:xfrm>
            <a:off x="1117440" y="1392120"/>
            <a:ext cx="6907320" cy="40719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2146320" y="5400720"/>
            <a:ext cx="4851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殖过程中染色体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672080" y="2043000"/>
            <a:ext cx="500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4600440" y="197172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684680" y="401328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7029360" y="2970360"/>
            <a:ext cx="7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图片3"/>
          <p:cNvPicPr/>
          <p:nvPr/>
        </p:nvPicPr>
        <p:blipFill>
          <a:blip r:embed="rId1"/>
          <a:stretch/>
        </p:blipFill>
        <p:spPr>
          <a:xfrm>
            <a:off x="1959120" y="600120"/>
            <a:ext cx="4308480" cy="10461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"/>
          <p:cNvSpPr/>
          <p:nvPr/>
        </p:nvSpPr>
        <p:spPr>
          <a:xfrm>
            <a:off x="415800" y="1393920"/>
            <a:ext cx="8228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基因和染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细胞核内的染色体是成对存在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基因也是成对存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基因是染色体上控制生物性状的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NA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片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284640" y="481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受精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889280" y="5354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精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585800" y="4516560"/>
            <a:ext cx="15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2849400" y="462132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5321160" y="4941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新个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560840" y="5159520"/>
            <a:ext cx="689040" cy="360"/>
            <a:chOff x="4560840" y="5159520"/>
            <a:chExt cx="689040" cy="360"/>
          </a:xfrm>
        </p:grpSpPr>
        <p:sp>
          <p:nvSpPr>
            <p:cNvPr id="378" name="Line 9"/>
            <p:cNvSpPr/>
            <p:nvPr/>
          </p:nvSpPr>
          <p:spPr>
            <a:xfrm>
              <a:off x="4560840" y="51595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4560840" y="5159520"/>
              <a:ext cx="689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974880" y="3795840"/>
            <a:ext cx="7080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基因是通过生殖细胞传递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457200" y="1181160"/>
            <a:ext cx="835812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父母的性状是怎样遗传给子女的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过父母的言传身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过孩子的学习和模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过长期的共同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过生殖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天鹅的受精卵发育成天鹅，而不发育成丑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鸭，是因为其受精卵含有特有的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性状  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遗传物质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细胞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7106040" y="1206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862320" y="4476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军火库"/>
          <p:cNvPicPr/>
          <p:nvPr/>
        </p:nvPicPr>
        <p:blipFill>
          <a:blip r:embed="rId1"/>
          <a:stretch/>
        </p:blipFill>
        <p:spPr>
          <a:xfrm>
            <a:off x="2182680" y="550800"/>
            <a:ext cx="3413160" cy="784440"/>
          </a:xfrm>
          <a:prstGeom prst="rect">
            <a:avLst/>
          </a:prstGeom>
          <a:ln w="0">
            <a:noFill/>
          </a:ln>
        </p:spPr>
      </p:pic>
      <p:sp>
        <p:nvSpPr>
          <p:cNvPr id="385" name="文本框 8199"/>
          <p:cNvSpPr/>
          <p:nvPr/>
        </p:nvSpPr>
        <p:spPr>
          <a:xfrm>
            <a:off x="825480" y="127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907920" y="749160"/>
            <a:ext cx="72835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下列关于基因的叙述，正确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物和植物细胞内没有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只有受精卵中才有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只有生物的体细胞中才有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受精卵内含有父母双方的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已知水稻体细胞的染色体数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，它产生的精子和卵细胞的染色体数目分别是多少条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.2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.2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.1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.1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839280" y="912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1796760" y="469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758880" y="874800"/>
            <a:ext cx="79344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将各类生物生殖细胞中染色体数目填入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831960" y="1805040"/>
          <a:ext cx="7502400" cy="3668760"/>
        </p:xfrm>
        <a:graphic>
          <a:graphicData uri="http://schemas.openxmlformats.org/drawingml/2006/table">
            <a:tbl>
              <a:tblPr/>
              <a:tblGrid>
                <a:gridCol w="2328840"/>
                <a:gridCol w="2586240"/>
                <a:gridCol w="258732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染色体数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体细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生殖细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78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条（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39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38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条（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9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豌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条（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白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条（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1" name="Text Box 31"/>
          <p:cNvSpPr/>
          <p:nvPr/>
        </p:nvSpPr>
        <p:spPr>
          <a:xfrm>
            <a:off x="6254640" y="3060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6254640" y="3699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3"/>
          <p:cNvSpPr/>
          <p:nvPr/>
        </p:nvSpPr>
        <p:spPr>
          <a:xfrm>
            <a:off x="6254640" y="4336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6254640" y="4984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5" descr="taoshu"/>
          <p:cNvPicPr/>
          <p:nvPr/>
        </p:nvPicPr>
        <p:blipFill>
          <a:blip r:embed="rId1"/>
          <a:stretch/>
        </p:blipFill>
        <p:spPr>
          <a:xfrm>
            <a:off x="-127080" y="150840"/>
            <a:ext cx="3959280" cy="84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3B39-E995-4314-9143-69BAB82403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561960" y="2492280"/>
            <a:ext cx="8058240" cy="2132280"/>
          </a:xfrm>
          <a:prstGeom prst="rect">
            <a:avLst/>
          </a:prstGeom>
          <a:solidFill>
            <a:srgbClr val="f9e807">
              <a:alpha val="84000"/>
            </a:srgbClr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图片2"/>
          <p:cNvPicPr/>
          <p:nvPr/>
        </p:nvPicPr>
        <p:blipFill>
          <a:blip r:embed="rId1"/>
          <a:stretch/>
        </p:blipFill>
        <p:spPr>
          <a:xfrm>
            <a:off x="3127320" y="1109520"/>
            <a:ext cx="3041640" cy="963720"/>
          </a:xfrm>
          <a:prstGeom prst="rect">
            <a:avLst/>
          </a:prstGeom>
          <a:ln w="0">
            <a:noFill/>
          </a:ln>
        </p:spPr>
      </p:pic>
      <p:sp>
        <p:nvSpPr>
          <p:cNvPr id="402" name="未知"/>
          <p:cNvSpPr/>
          <p:nvPr/>
        </p:nvSpPr>
        <p:spPr>
          <a:xfrm>
            <a:off x="749160" y="4651200"/>
            <a:ext cx="7659720" cy="352440"/>
          </a:xfrm>
          <a:custGeom>
            <a:avLst/>
            <a:gdLst/>
            <a:ahLst/>
            <a:rect l="l" t="t" r="r" b="b"/>
            <a:pathLst>
              <a:path w="4825" h="222">
                <a:moveTo>
                  <a:pt x="4825" y="222"/>
                </a:moveTo>
                <a:lnTo>
                  <a:pt x="4808" y="217"/>
                </a:lnTo>
                <a:lnTo>
                  <a:pt x="4739" y="207"/>
                </a:lnTo>
                <a:lnTo>
                  <a:pt x="4627" y="191"/>
                </a:lnTo>
                <a:lnTo>
                  <a:pt x="4472" y="170"/>
                </a:lnTo>
                <a:lnTo>
                  <a:pt x="4274" y="145"/>
                </a:lnTo>
                <a:lnTo>
                  <a:pt x="4042" y="119"/>
                </a:lnTo>
                <a:lnTo>
                  <a:pt x="3776" y="98"/>
                </a:lnTo>
                <a:lnTo>
                  <a:pt x="3475" y="78"/>
                </a:lnTo>
                <a:lnTo>
                  <a:pt x="3148" y="62"/>
                </a:lnTo>
                <a:lnTo>
                  <a:pt x="2786" y="47"/>
                </a:lnTo>
                <a:lnTo>
                  <a:pt x="2399" y="47"/>
                </a:lnTo>
                <a:lnTo>
                  <a:pt x="2012" y="47"/>
                </a:lnTo>
                <a:lnTo>
                  <a:pt x="1660" y="62"/>
                </a:lnTo>
                <a:lnTo>
                  <a:pt x="1333" y="78"/>
                </a:lnTo>
                <a:lnTo>
                  <a:pt x="1032" y="98"/>
                </a:lnTo>
                <a:lnTo>
                  <a:pt x="774" y="119"/>
                </a:lnTo>
                <a:lnTo>
                  <a:pt x="550" y="145"/>
                </a:lnTo>
                <a:lnTo>
                  <a:pt x="361" y="170"/>
                </a:lnTo>
                <a:lnTo>
                  <a:pt x="206" y="191"/>
                </a:lnTo>
                <a:lnTo>
                  <a:pt x="94" y="207"/>
                </a:lnTo>
                <a:lnTo>
                  <a:pt x="34" y="217"/>
                </a:lnTo>
                <a:lnTo>
                  <a:pt x="8" y="222"/>
                </a:lnTo>
                <a:lnTo>
                  <a:pt x="0" y="8"/>
                </a:lnTo>
                <a:lnTo>
                  <a:pt x="2400" y="8"/>
                </a:lnTo>
                <a:lnTo>
                  <a:pt x="4800" y="0"/>
                </a:lnTo>
                <a:lnTo>
                  <a:pt x="4825" y="222"/>
                </a:lnTo>
                <a:close/>
              </a:path>
            </a:pathLst>
          </a:cu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1106640" y="253368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从来没有人读书，只有人在书中读自己，发现自己或检查自己。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罗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•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罗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图片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30880" y="5067360"/>
            <a:ext cx="14576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39720" y="587520"/>
            <a:ext cx="78278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基因控制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转基因超级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  <a:ea typeface="黑体"/>
              </a:rPr>
              <a:t>转基因超级鼠的获得，说明基因控制生物的性状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转基因生物：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一种生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某个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用生物技术的方法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转入到另一种生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基因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，培育出的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57200" y="4871880"/>
            <a:ext cx="5286600" cy="131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性状由基因控制，但同时是否受环境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25320"/>
            <a:ext cx="7848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瓜得瓜，种豆得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每种生物繁殖出的新个体都和父母双方非常相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性状的遗传实质上是亲代通过生殖过程把基因传递给了后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958680" y="5284800"/>
            <a:ext cx="3692520" cy="1119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4627440" y="5286240"/>
            <a:ext cx="3567240" cy="1119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0080" y="3181320"/>
            <a:ext cx="784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基因是怎样传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基因通过什么传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基因在传递过程中有没有变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父母传给孩子的基因是一样的多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09520" y="204840"/>
            <a:ext cx="70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我们知道，大多数生命是从一个受精卵开始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619440" y="24526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受精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71680" y="3843360"/>
            <a:ext cx="775800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在有性生殖过程中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精子和卵细胞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就是基因在亲子间传递的“桥梁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714680" y="2700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精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409760" y="1843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卵细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328920" y="2290680"/>
            <a:ext cx="371520" cy="1143000"/>
          </a:xfrm>
          <a:custGeom>
            <a:avLst/>
            <a:gdLst>
              <a:gd name="textAreaLeft" fmla="*/ 0 w 371520"/>
              <a:gd name="textAreaRight" fmla="*/ 134280 w 371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751480" y="52149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成千上万的基因是怎样传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>
            <a:off x="5780160" y="1328760"/>
            <a:ext cx="280656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708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基因和染色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42480" y="15429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基因有规律地集中在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细胞核的染色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而且每一种生物细胞体内染色体的形态和数目都是一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PE01832_"/>
          <p:cNvPicPr/>
          <p:nvPr/>
        </p:nvPicPr>
        <p:blipFill>
          <a:blip r:embed="rId1"/>
          <a:stretch/>
        </p:blipFill>
        <p:spPr>
          <a:xfrm>
            <a:off x="743040" y="3924360"/>
            <a:ext cx="3029040" cy="27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1314360" y="2664000"/>
            <a:ext cx="2146320" cy="1374480"/>
          </a:xfrm>
          <a:prstGeom prst="ellipse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28640" y="1905120"/>
            <a:ext cx="32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类有多少对染色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353960" y="310212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23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对（   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289240" y="30765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359240" y="483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染色体一般呈现什么形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578640" y="4970520"/>
            <a:ext cx="1523880" cy="961920"/>
          </a:xfrm>
          <a:prstGeom prst="ellipse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0400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P29-1"/>
          <p:cNvPicPr/>
          <p:nvPr/>
        </p:nvPicPr>
        <p:blipFill>
          <a:blip r:embed="rId1"/>
          <a:stretch/>
        </p:blipFill>
        <p:spPr>
          <a:xfrm>
            <a:off x="4487760" y="2604960"/>
            <a:ext cx="1662120" cy="162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92" name="Picture 10" descr="染色体"/>
          <p:cNvPicPr/>
          <p:nvPr/>
        </p:nvPicPr>
        <p:blipFill>
          <a:blip r:embed="rId2"/>
          <a:stretch/>
        </p:blipFill>
        <p:spPr>
          <a:xfrm>
            <a:off x="806400" y="4255920"/>
            <a:ext cx="2998800" cy="1822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6350040" y="1895400"/>
            <a:ext cx="2333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生物的每一个体细胞都像受精卵一样，在细胞核内存在数目相同的染色体，而且成对出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7"/>
          <p:cNvSpPr/>
          <p:nvPr/>
        </p:nvSpPr>
        <p:spPr>
          <a:xfrm>
            <a:off x="3827520" y="895320"/>
            <a:ext cx="34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基因和染色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图片4"/>
          <p:cNvPicPr/>
          <p:nvPr/>
        </p:nvPicPr>
        <p:blipFill>
          <a:blip r:embed="rId3"/>
          <a:stretch/>
        </p:blipFill>
        <p:spPr>
          <a:xfrm>
            <a:off x="830160" y="822240"/>
            <a:ext cx="286560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"/>
          <p:cNvSpPr/>
          <p:nvPr/>
        </p:nvSpPr>
        <p:spPr>
          <a:xfrm>
            <a:off x="152280" y="1828800"/>
            <a:ext cx="1828800" cy="1981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920" y="152280"/>
            <a:ext cx="1963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人类有多少对染色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-98280" y="2143080"/>
            <a:ext cx="2301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（     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09480" y="2819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253040" y="4467240"/>
            <a:ext cx="1904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染色体一般呈现什么形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6229440" y="4525920"/>
            <a:ext cx="1523880" cy="17524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6416640" y="50306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P29-1"/>
          <p:cNvPicPr/>
          <p:nvPr/>
        </p:nvPicPr>
        <p:blipFill>
          <a:blip r:embed="rId2"/>
          <a:stretch/>
        </p:blipFill>
        <p:spPr>
          <a:xfrm>
            <a:off x="2266920" y="109440"/>
            <a:ext cx="3962520" cy="3882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4" name="Picture 10" descr="染色体"/>
          <p:cNvPicPr/>
          <p:nvPr/>
        </p:nvPicPr>
        <p:blipFill>
          <a:blip r:embed="rId3"/>
          <a:stretch/>
        </p:blipFill>
        <p:spPr>
          <a:xfrm>
            <a:off x="152280" y="4164120"/>
            <a:ext cx="4089600" cy="2570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1"/>
          <p:cNvSpPr/>
          <p:nvPr/>
        </p:nvSpPr>
        <p:spPr>
          <a:xfrm>
            <a:off x="6257880" y="123840"/>
            <a:ext cx="2514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生物的每一个体细胞都像受精卵一样，在细胞核内存在数目相同的染色体，而且成对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2"/>
          <p:cNvSpPr/>
          <p:nvPr/>
        </p:nvSpPr>
        <p:spPr>
          <a:xfrm>
            <a:off x="-28440" y="-27000"/>
            <a:ext cx="2847960" cy="712800"/>
          </a:xfrm>
          <a:prstGeom prst="cloudCallout">
            <a:avLst>
              <a:gd name="adj1" fmla="val 73189"/>
              <a:gd name="adj2" fmla="val 3542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87880" y="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华文新魏"/>
              </a:rPr>
              <a:t>观察与思考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经过整理后绘制的人体（女）细胞内的染色体"/>
          <p:cNvPicPr/>
          <p:nvPr/>
        </p:nvPicPr>
        <p:blipFill>
          <a:blip r:embed="rId1"/>
          <a:stretch/>
        </p:blipFill>
        <p:spPr>
          <a:xfrm>
            <a:off x="3949560" y="314280"/>
            <a:ext cx="508032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485640" y="628560"/>
            <a:ext cx="3754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认真观察经过整理后绘制的人体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细胞内的染色体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如右图），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人体细胞内有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条染色体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什么将这些染色体画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对一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558720" y="4970520"/>
            <a:ext cx="82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46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条。因为在生物的体细胞中，染色体是成对存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559640" y="65833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Arial"/>
              </a:rPr>
              <a:t>www.jkzyw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5T13:16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30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