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3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944-16BE-4B01-AA83-D99C4B35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049-71CC-447E-AE00-94937139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354-BF72-4EFC-8B0F-1E0AC40E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EFD-6ADC-4C7C-8377-2A5BF59E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9EF7-E136-46D7-950A-88ABF82E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655B-C08E-42A1-9324-16E0AE45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694-3B43-42E4-B603-20279D12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B1DD-1FBA-4716-804B-92E417EC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D67F-60CF-487C-B74C-A757C93C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2259-3941-4095-B0B5-FE418E15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531D-A95A-493D-8B58-06CE3919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6DC-FBF7-48B3-9ECF-35E0AF43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D38F-4CFC-43CC-B661-7D5A697C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4EB0-C2BC-46A8-BC3E-EAD6D309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F8A5-92E9-462C-897F-7768BF24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2A3F-8BCD-4BD5-9BE9-DF2A2A9E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6FDF-6AFF-40A9-8228-79ECA1B4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E41-7659-40F0-ADD0-5B817A30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816-E8EB-4F57-A4C7-50E79AAF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04F-C393-461B-A08B-B936BBBE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219-473A-4820-9486-246290C6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809-BEBA-443B-86EF-DCC520C2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BF6-EB7D-499E-8D78-3B50A004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84A-8BF7-4022-B985-AF83893D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DABB-C8D5-437B-86E5-7764AE4D7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24F2-291E-495C-B903-ACFAE938D7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755640" y="1916280"/>
            <a:ext cx="77770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极昼和极夜的解释</a:t>
            </a:r>
            <a:r>
              <a:rPr b="1" lang="en-US" sz="4000" spc="1" strike="noStrike">
                <a:ln w="9360">
                  <a:solidFill>
                    <a:srgbClr val="ff00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9360">
                <a:solidFill>
                  <a:srgbClr val="ff0000"/>
                </a:solidFill>
                <a:round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826920" y="836640"/>
            <a:ext cx="41767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科版五年级科学下册</a:t>
            </a:r>
            <a:endParaRPr b="1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Kaamos_-_polar_night_-_twilight_-_when_the_sun_does_not_rise.mp4" descr=""/>
          <p:cNvPicPr/>
          <p:nvPr/>
        </p:nvPicPr>
        <p:blipFill>
          <a:blip r:embed="rId1"/>
          <a:stretch/>
        </p:blipFill>
        <p:spPr>
          <a:xfrm>
            <a:off x="857160" y="214200"/>
            <a:ext cx="6964560" cy="4643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755640" y="4941720"/>
            <a:ext cx="712944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北半球冬季时，几个月见不着太阳，北极点附近有半年时间都处在黑暗之中，人们把这样的现象称之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极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0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55659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c41b2d6d8c6"/>
          <p:cNvPicPr/>
          <p:nvPr/>
        </p:nvPicPr>
        <p:blipFill>
          <a:blip r:embed="rId1"/>
          <a:stretch/>
        </p:blipFill>
        <p:spPr>
          <a:xfrm>
            <a:off x="1116000" y="476280"/>
            <a:ext cx="6912000" cy="47577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4"/>
          <p:cNvSpPr txBox="1"/>
          <p:nvPr/>
        </p:nvSpPr>
        <p:spPr>
          <a:xfrm>
            <a:off x="2455920" y="5445000"/>
            <a:ext cx="439092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宋体"/>
              </a:rPr>
              <a:t>北极特有的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468360" y="404640"/>
            <a:ext cx="8137440" cy="1117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极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是出现在极圈范围内的一种“太阳终日不落”的现象，所以又称“永昼”。极昼只出现在地球南、北极圈以内地区。太阳直射于北半球时，极昼出现在北极地区；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极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出现在南极地区，太阳直射在南半球时则反之。在南极圈和北极圈以内，每年都会有极昼和极夜季节。在南极和北极，每年都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半年极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半年极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除了南极和北极以外，极昼期内，太阳在一日内仍然有高度和方位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997000"/>
            <a:ext cx="79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极极昼期间，虽然太阳整天都在照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着地面，但太阳高度角太低，斜射的阳光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力微弱，不会融化冰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65964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00000" y="1125360"/>
            <a:ext cx="7775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在两极，每年有半年时间太阳高高挂在天空，冰雪不是要融化完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500040" y="428760"/>
            <a:ext cx="828684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南极</a:t>
            </a:r>
            <a:r>
              <a:rPr b="1" lang="zh-CN" sz="5400" spc="-1" strike="noStrike">
                <a:solidFill>
                  <a:srgbClr val="0000cc"/>
                </a:solidFill>
                <a:latin typeface="华文隶书"/>
                <a:ea typeface="华文隶书"/>
              </a:rPr>
              <a:t>北极</a:t>
            </a:r>
            <a:r>
              <a:rPr b="0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年中</a:t>
            </a: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为什么会出现</a:t>
            </a:r>
            <a:r>
              <a:rPr b="0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长长的白天</a:t>
            </a:r>
            <a:r>
              <a:rPr b="0" lang="en-US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极昼</a:t>
            </a:r>
            <a:r>
              <a:rPr b="0" lang="en-US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)</a:t>
            </a:r>
            <a:r>
              <a:rPr b="0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或长长的黑夜</a:t>
            </a:r>
            <a:r>
              <a:rPr b="0" lang="en-US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极夜</a:t>
            </a:r>
            <a:r>
              <a:rPr b="0" lang="en-US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)</a:t>
            </a:r>
            <a:r>
              <a:rPr b="0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现象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65964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u=2337163199,3757230437&amp;fm=3&amp;gp=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280" y="1052640"/>
            <a:ext cx="7705800" cy="446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需要的器材：地球仪、手电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操作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用地球仪代表地球，手电筒代表太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地球围着太阳公转，同时自转，看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极、南极产生的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③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用画图的方式作解释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2916360" y="260280"/>
            <a:ext cx="309708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模拟实验：</a:t>
            </a:r>
            <a:endParaRPr b="1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826920" y="1484280"/>
            <a:ext cx="3095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0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1258920" y="4869000"/>
            <a:ext cx="710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想想：我们模拟实验时要注意什么？</a:t>
            </a:r>
            <a:endParaRPr b="1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491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88920" y="17640"/>
            <a:ext cx="8182080" cy="64864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4067280" y="692280"/>
            <a:ext cx="73080" cy="360"/>
            <a:chOff x="4067280" y="692280"/>
            <a:chExt cx="73080" cy="360"/>
          </a:xfrm>
        </p:grpSpPr>
        <p:sp>
          <p:nvSpPr>
            <p:cNvPr id="144" name="Line 7"/>
            <p:cNvSpPr/>
            <p:nvPr/>
          </p:nvSpPr>
          <p:spPr>
            <a:xfrm>
              <a:off x="4067280" y="69228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4067280" y="69228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6"/>
          <p:cNvSpPr/>
          <p:nvPr/>
        </p:nvSpPr>
        <p:spPr>
          <a:xfrm>
            <a:off x="7885080" y="0"/>
            <a:ext cx="86364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7"/>
          <p:cNvGrpSpPr/>
          <p:nvPr/>
        </p:nvGrpSpPr>
        <p:grpSpPr>
          <a:xfrm>
            <a:off x="468360" y="907920"/>
            <a:ext cx="4498920" cy="5185080"/>
            <a:chOff x="468360" y="907920"/>
            <a:chExt cx="4498920" cy="5185080"/>
          </a:xfrm>
        </p:grpSpPr>
        <p:pic>
          <p:nvPicPr>
            <p:cNvPr id="148" name="Picture 13" descr="200884133032303_2"/>
            <p:cNvPicPr/>
            <p:nvPr/>
          </p:nvPicPr>
          <p:blipFill>
            <a:blip r:embed="rId1"/>
            <a:stretch/>
          </p:blipFill>
          <p:spPr>
            <a:xfrm>
              <a:off x="468360" y="1268280"/>
              <a:ext cx="4498920" cy="424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"/>
            <p:cNvGrpSpPr/>
            <p:nvPr/>
          </p:nvGrpSpPr>
          <p:grpSpPr>
            <a:xfrm>
              <a:off x="2628360" y="907920"/>
              <a:ext cx="216000" cy="5185080"/>
              <a:chOff x="2628360" y="907920"/>
              <a:chExt cx="216000" cy="5185080"/>
            </a:xfrm>
          </p:grpSpPr>
          <p:sp>
            <p:nvSpPr>
              <p:cNvPr id="150" name="Line 15"/>
              <p:cNvSpPr/>
              <p:nvPr/>
            </p:nvSpPr>
            <p:spPr>
              <a:xfrm flipH="1">
                <a:off x="2628360" y="907920"/>
                <a:ext cx="215640" cy="5185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2628720" y="907920"/>
                <a:ext cx="215640" cy="518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539280" y="1268280"/>
            <a:ext cx="5040720" cy="4321440"/>
            <a:chOff x="539280" y="1268280"/>
            <a:chExt cx="5040720" cy="4321440"/>
          </a:xfrm>
        </p:grpSpPr>
        <p:sp>
          <p:nvSpPr>
            <p:cNvPr id="153" name="Line 14"/>
            <p:cNvSpPr/>
            <p:nvPr/>
          </p:nvSpPr>
          <p:spPr>
            <a:xfrm flipH="1">
              <a:off x="539280" y="1268280"/>
              <a:ext cx="5040360" cy="432144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39640" y="1268280"/>
              <a:ext cx="5040360" cy="432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0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3780000" y="9810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cc"/>
                    </a:gs>
                  </a:gsLst>
                  <a:lin ang="5400000"/>
                </a:gradFill>
                <a:latin typeface="宋体"/>
              </a:rPr>
              <a:t>思考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57" name="WordArt 12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41432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34920" y="28440"/>
            <a:ext cx="9072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知道极昼和极夜现象与地球公转、自转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地轴倾斜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知道地轴倾斜的角度大小和极昼极夜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范围大小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学习用模拟实验、模型、示意图等方法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释极昼和极夜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意识在小组合作探究过程中认真听取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同学的意见的重要性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7148520" y="4308480"/>
            <a:ext cx="2195640" cy="25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142920" y="200016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北极圈内大部分地区极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142920" y="392904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南极圈内大部分地区极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6500880" y="214308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北极圈内大部分地区极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6429240" y="392904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南极圈内大部分地区极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858000" y="6237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u=2337163199,3757230437&amp;fm=3&amp;gp=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47640" y="1483920"/>
            <a:ext cx="6048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极昼和极夜现象与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地球自转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地球公转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地轴倾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关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2195640" y="765000"/>
            <a:ext cx="46083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宋体"/>
              </a:rPr>
              <a:t>我们的解释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cc"/>
                  </a:gs>
                  <a:gs pos="100000">
                    <a:srgbClr val="ff00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2340000" y="692280"/>
            <a:ext cx="42480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cc"/>
                    </a:gs>
                  </a:gsLst>
                  <a:lin ang="5400000"/>
                </a:gradFill>
                <a:latin typeface="宋体"/>
              </a:rPr>
              <a:t>单元知识梳理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2" name="WordArt 11"/>
          <p:cNvSpPr txBox="1"/>
          <p:nvPr/>
        </p:nvSpPr>
        <p:spPr>
          <a:xfrm>
            <a:off x="1042920" y="1700280"/>
            <a:ext cx="700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在本单元的学习中，我们研究了：</a:t>
            </a:r>
            <a:endParaRPr b="1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3" name="WordArt 12"/>
          <p:cNvSpPr txBox="1"/>
          <p:nvPr/>
        </p:nvSpPr>
        <p:spPr>
          <a:xfrm>
            <a:off x="1116000" y="242100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地 球 的 运动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1042920" y="3645000"/>
            <a:ext cx="606744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地球的运动主要有两种形式：</a:t>
            </a:r>
            <a:endParaRPr b="1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5" name="WordArt 14"/>
          <p:cNvSpPr txBox="1"/>
          <p:nvPr/>
        </p:nvSpPr>
        <p:spPr>
          <a:xfrm>
            <a:off x="1116000" y="4581360"/>
            <a:ext cx="1409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自  转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WordArt 15"/>
          <p:cNvSpPr txBox="1"/>
          <p:nvPr/>
        </p:nvSpPr>
        <p:spPr>
          <a:xfrm>
            <a:off x="3203640" y="4581360"/>
            <a:ext cx="117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公 转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文本框 8200"/>
          <p:cNvSpPr/>
          <p:nvPr/>
        </p:nvSpPr>
        <p:spPr>
          <a:xfrm>
            <a:off x="1571760" y="12938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3564000" y="1557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方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195880" y="1628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绕地轴转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39760" y="2205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方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511488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自西向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911400" y="29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周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5047920" y="2997360"/>
            <a:ext cx="12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3805920" y="364500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5259240" y="371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地轴倾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5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2411280" cy="1683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8"/>
          <p:cNvSpPr/>
          <p:nvPr/>
        </p:nvSpPr>
        <p:spPr>
          <a:xfrm>
            <a:off x="3708360" y="5300640"/>
            <a:ext cx="504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傅科摆、天体东升西落、卫星观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16"/>
          <p:cNvSpPr txBox="1"/>
          <p:nvPr/>
        </p:nvSpPr>
        <p:spPr>
          <a:xfrm>
            <a:off x="826920" y="3213000"/>
            <a:ext cx="129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自  转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0" name="WordArt 17"/>
          <p:cNvSpPr txBox="1"/>
          <p:nvPr/>
        </p:nvSpPr>
        <p:spPr>
          <a:xfrm>
            <a:off x="611280" y="5300640"/>
            <a:ext cx="302400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判断地球自转的依据</a:t>
            </a:r>
            <a:r>
              <a:rPr b="1" lang="en-US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408720" cy="21924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7"/>
          <p:cNvSpPr/>
          <p:nvPr/>
        </p:nvSpPr>
        <p:spPr>
          <a:xfrm>
            <a:off x="911880" y="3213000"/>
            <a:ext cx="8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932040" y="400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932040" y="4724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932040" y="551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763640" y="3213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绕太阳转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1763640" y="400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自西向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1908000" y="4797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 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2914560" y="5516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地轴方向不变，角度大小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5076720" y="4149720"/>
            <a:ext cx="3382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恒星周年视差、星座四季交替、卫星观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0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6"/>
          <p:cNvSpPr txBox="1"/>
          <p:nvPr/>
        </p:nvSpPr>
        <p:spPr>
          <a:xfrm>
            <a:off x="3780000" y="2349360"/>
            <a:ext cx="1869840" cy="45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地球公转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3" name="WordArt 17"/>
          <p:cNvSpPr txBox="1"/>
          <p:nvPr/>
        </p:nvSpPr>
        <p:spPr>
          <a:xfrm>
            <a:off x="4716360" y="3357720"/>
            <a:ext cx="39481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判断地球公转的依据：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8055-1983-412B-8F96-E54FB830E0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826920" y="1268280"/>
          <a:ext cx="7777080" cy="5035680"/>
        </p:xfrm>
        <a:graphic>
          <a:graphicData uri="http://schemas.openxmlformats.org/drawingml/2006/table">
            <a:tbl>
              <a:tblPr/>
              <a:tblGrid>
                <a:gridCol w="1297080"/>
                <a:gridCol w="2952720"/>
                <a:gridCol w="35272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研究内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地球运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地球两种运动形式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绕地轴转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方向：自西向东（逆时针）地轴倾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绕太阳转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方向：自西向东（逆时针）地轴倾斜，方向不变、角度不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判断地球运动的依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傅科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天体东升西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卫星观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恒星周年视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星座季节交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卫星观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地球运动产生的自然现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昼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四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极昼极夜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0"/>
          <p:cNvSpPr txBox="1"/>
          <p:nvPr/>
        </p:nvSpPr>
        <p:spPr>
          <a:xfrm>
            <a:off x="2987640" y="54936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认识了地球运动</a:t>
            </a:r>
            <a:endParaRPr b="1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1" name="WordArt 35"/>
          <p:cNvSpPr txBox="1"/>
          <p:nvPr/>
        </p:nvSpPr>
        <p:spPr>
          <a:xfrm>
            <a:off x="3203640" y="1341360"/>
            <a:ext cx="3527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地球的运动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diqiuyi2"/>
          <p:cNvPicPr/>
          <p:nvPr/>
        </p:nvPicPr>
        <p:blipFill>
          <a:blip r:embed="rId1"/>
          <a:stretch/>
        </p:blipFill>
        <p:spPr>
          <a:xfrm>
            <a:off x="324000" y="620640"/>
            <a:ext cx="3357360" cy="4948200"/>
          </a:xfrm>
          <a:prstGeom prst="rect">
            <a:avLst/>
          </a:prstGeom>
          <a:ln w="0">
            <a:noFill/>
          </a:ln>
        </p:spPr>
      </p:pic>
      <p:pic>
        <p:nvPicPr>
          <p:cNvPr id="90" name="WordArt 8" descr=""/>
          <p:cNvPicPr/>
          <p:nvPr/>
        </p:nvPicPr>
        <p:blipFill>
          <a:blip r:embed="rId2"/>
          <a:stretch/>
        </p:blipFill>
        <p:spPr>
          <a:xfrm>
            <a:off x="3203640" y="1249200"/>
            <a:ext cx="5113440" cy="1459080"/>
          </a:xfrm>
          <a:prstGeom prst="rect">
            <a:avLst/>
          </a:prstGeom>
          <a:ln w="0">
            <a:noFill/>
          </a:ln>
        </p:spPr>
      </p:pic>
      <p:sp>
        <p:nvSpPr>
          <p:cNvPr id="91" name="WordArt 10"/>
          <p:cNvSpPr txBox="1"/>
          <p:nvPr/>
        </p:nvSpPr>
        <p:spPr>
          <a:xfrm>
            <a:off x="6877080" y="6308640"/>
            <a:ext cx="129528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cc"/>
                    </a:gs>
                  </a:gsLst>
                  <a:lin ang="5400000"/>
                </a:gradFill>
                <a:latin typeface="宋体"/>
              </a:rPr>
              <a:t>极昼 极夜 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8142120" y="6453360"/>
            <a:ext cx="1001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现象的解释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WordArt 12"/>
          <p:cNvSpPr txBox="1"/>
          <p:nvPr/>
        </p:nvSpPr>
        <p:spPr>
          <a:xfrm>
            <a:off x="826920" y="3357720"/>
            <a:ext cx="1043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南极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619280" y="620640"/>
            <a:ext cx="104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北极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冰山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611280" y="333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684360" y="476280"/>
            <a:ext cx="2009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极风光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北极熊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6659640" y="324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858000" y="6237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6516720" y="692280"/>
            <a:ext cx="2009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极风光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北极企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58960" y="527040"/>
            <a:ext cx="20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6237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539640" y="404640"/>
            <a:ext cx="2087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南极风光</a:t>
            </a:r>
            <a:endParaRPr b="1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1332000" y="53006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5800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1332000" y="53006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2006030814032655900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4535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611280" y="4941720"/>
            <a:ext cx="7777080" cy="94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北半球夏季时，太阳长挂在北极天空就是不会下落，北极中心的地区的白天甚至可以长达半年时间，我们把这样的现象称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极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ic5mc4r8c3"/>
          <p:cNvPicPr/>
          <p:nvPr/>
        </p:nvPicPr>
        <p:blipFill>
          <a:blip r:embed="rId1"/>
          <a:stretch/>
        </p:blipFill>
        <p:spPr>
          <a:xfrm>
            <a:off x="1187280" y="476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835280" y="5300640"/>
            <a:ext cx="5329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宋体"/>
              </a:rPr>
              <a:t>在漠河观赏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858000" y="639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极昼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琥珀"/>
              </a:rPr>
              <a:t>极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琥珀"/>
              </a:rPr>
              <a:t> </a:t>
            </a:r>
            <a:r>
              <a:rPr b="1" lang="zh-CN" sz="1100" spc="-1" strike="noStrike">
                <a:solidFill>
                  <a:srgbClr val="ff3300"/>
                </a:solidFill>
                <a:latin typeface="华文隶书"/>
                <a:ea typeface="华文隶书"/>
              </a:rPr>
              <a:t>现象的解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2:22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57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