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coin.wav" ContentType="audio/x-wav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applause.wav" ContentType="audio/x-wav"/>
  <Override PartName="/ppt/media/image34.gif" ContentType="image/gif"/>
  <Override PartName="/ppt/media/image37.png" ContentType="image/png"/>
  <Override PartName="/ppt/media/camera.wav" ContentType="audio/x-wav"/>
  <Override PartName="/ppt/media/image33.gif" ContentType="image/gif"/>
  <Override PartName="/ppt/media/image12.jpeg" ContentType="image/jpeg"/>
  <Override PartName="/ppt/media/image35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18.png" ContentType="image/png"/>
  <Override PartName="/ppt/media/type.wav" ContentType="audio/x-wav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DDD-607C-4D44-9932-8055BEDD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DD2-9AFC-45BF-8B87-096CA03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E4B-67BA-407B-99E1-A5BD7A01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D85-EADF-40DD-816B-252500FE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19AA-79BA-4FC2-8E79-995CA36D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2067-574A-4E07-869A-DDB68E99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2D97-CBD7-4A7C-8ED3-C8BAB88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ED23-F8D3-4B7A-9539-52FD694A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BED3-32A7-456F-B770-786F574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5AD4-127E-4683-B56E-4849138C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10F3-EA0D-4314-B0B3-04C793AD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4BD-0A55-412B-BE68-87A6225C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357A-BE12-4211-8080-5DEDED1A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9BA7-713E-462A-8B90-F03D431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10E6-DA13-4D6E-B9D5-F82822DB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F2B5-34C3-4DBB-8941-38CEB4D4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1AC7-A08A-454D-A109-6F16AA79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A19B-6854-4A4C-B083-790DC95F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9DAB-8E0B-4884-85AC-0BD09E8C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7D04-CBF4-4A61-A7D6-23AC77AF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33FD-CDD1-4E94-B8E3-55BBC004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649D-5DF6-4DD4-AD27-956A997F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329-478E-4640-8A07-904FB28E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7570-FBFE-410D-A343-83146715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1170-23AB-4733-867D-D5EFB5C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F6AF-F4F0-4CB5-B112-3D62166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081FD-9EBB-42BC-B05C-A0A4EE8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FEDC-1913-4AF7-B740-43438ABC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FF6A-5E3D-4171-8154-9195BD0C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FDD41-DC03-47AE-A240-C788260C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558-1984-4A9F-81E3-A527A33B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C14-36D0-42E7-87FB-C140BA0A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326-FBF1-4987-9AFF-B5C887EC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FBC-4F88-49F8-97EE-9DA89427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8E4-0C61-4CD3-8A7E-726E5C4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2AE-2DFC-4D34-9537-BC86A8F8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4225-D3F7-46F9-9E93-1332E6880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E645-7603-4C11-B3F1-611F2C1F69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A612-ECC9-402A-8D3E-184E1813674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camera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平湖秋月.MP3" descr=""/>
          <p:cNvPicPr/>
          <p:nvPr/>
        </p:nvPicPr>
        <p:blipFill>
          <a:blip r:embed="rId1"/>
          <a:stretch/>
        </p:blipFill>
        <p:spPr>
          <a:xfrm>
            <a:off x="1981080" y="5334120"/>
            <a:ext cx="7632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79440" y="765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第</a:t>
            </a:r>
            <a:r>
              <a:rPr b="0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17</a:t>
            </a:r>
            <a:r>
              <a:rPr b="0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课 君主集权的强化</a:t>
            </a:r>
            <a:r>
              <a:rPr b="0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5" name="Picture 5" descr="200672811272378554"/>
          <p:cNvPicPr/>
          <p:nvPr/>
        </p:nvPicPr>
        <p:blipFill>
          <a:blip r:embed="rId2"/>
          <a:stretch/>
        </p:blipFill>
        <p:spPr>
          <a:xfrm>
            <a:off x="971640" y="1843200"/>
            <a:ext cx="2946240" cy="4241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8-3-36074_09"/>
          <p:cNvPicPr/>
          <p:nvPr/>
        </p:nvPicPr>
        <p:blipFill>
          <a:blip r:embed="rId3"/>
          <a:stretch/>
        </p:blipFill>
        <p:spPr>
          <a:xfrm>
            <a:off x="5122800" y="1854360"/>
            <a:ext cx="3100320" cy="42303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219320" y="2971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镶黄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791320" y="2971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镶白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Picture 4" descr="镶黄旗 复制"/>
          <p:cNvPicPr/>
          <p:nvPr/>
        </p:nvPicPr>
        <p:blipFill>
          <a:blip r:embed="rId1"/>
          <a:stretch/>
        </p:blipFill>
        <p:spPr>
          <a:xfrm>
            <a:off x="380880" y="22860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镶白旗 复制"/>
          <p:cNvPicPr/>
          <p:nvPr/>
        </p:nvPicPr>
        <p:blipFill>
          <a:blip r:embed="rId2"/>
          <a:stretch/>
        </p:blipFill>
        <p:spPr>
          <a:xfrm>
            <a:off x="5029200" y="2286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镶蓝旗 复制"/>
          <p:cNvPicPr/>
          <p:nvPr/>
        </p:nvPicPr>
        <p:blipFill>
          <a:blip r:embed="rId3"/>
          <a:stretch/>
        </p:blipFill>
        <p:spPr>
          <a:xfrm>
            <a:off x="380880" y="3505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342900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镶蓝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9" name="Picture 8" descr="镶红旗 复制"/>
          <p:cNvPicPr/>
          <p:nvPr/>
        </p:nvPicPr>
        <p:blipFill>
          <a:blip r:embed="rId4"/>
          <a:stretch/>
        </p:blipFill>
        <p:spPr>
          <a:xfrm>
            <a:off x="5105520" y="3657600"/>
            <a:ext cx="388620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7943040" y="57150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镶红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清朝满八旗盔甲复员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2" name="Picture 3" descr="清朝满八旗盔甲复员图"/>
          <p:cNvPicPr/>
          <p:nvPr/>
        </p:nvPicPr>
        <p:blipFill>
          <a:blip r:embed="rId1"/>
          <a:stretch/>
        </p:blipFill>
        <p:spPr>
          <a:xfrm>
            <a:off x="611280" y="907920"/>
            <a:ext cx="7812000" cy="5486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4941360"/>
            <a:ext cx="8540640" cy="23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建立时间：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636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建立者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皇太极（清太宗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都城：沈阳（后称盛京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64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迁都北京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民族：女真族（满族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4" name="Picture 5" descr="皇太极"/>
          <p:cNvPicPr/>
          <p:nvPr/>
        </p:nvPicPr>
        <p:blipFill>
          <a:blip r:embed="rId1"/>
          <a:stretch/>
        </p:blipFill>
        <p:spPr>
          <a:xfrm>
            <a:off x="468360" y="404640"/>
            <a:ext cx="3744720" cy="4437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4572000" y="198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皇太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星期三早晨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3"/>
          <p:cNvSpPr/>
          <p:nvPr/>
        </p:nvSpPr>
        <p:spPr>
          <a:xfrm>
            <a:off x="2124000" y="836640"/>
            <a:ext cx="3241800" cy="1511280"/>
          </a:xfrm>
          <a:prstGeom prst="cloudCallout">
            <a:avLst>
              <a:gd name="adj1" fmla="val 53527"/>
              <a:gd name="adj2" fmla="val 57143"/>
            </a:avLst>
          </a:prstGeom>
          <a:solidFill>
            <a:srgbClr val="007a7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62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年，努尔哈赤迁都沈阳，后改称盛京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6005520" y="3573360"/>
            <a:ext cx="3138480" cy="1460520"/>
          </a:xfrm>
          <a:prstGeom prst="cloudCallout">
            <a:avLst>
              <a:gd name="adj1" fmla="val -26328"/>
              <a:gd name="adj2" fmla="val -98476"/>
            </a:avLst>
          </a:prstGeom>
          <a:solidFill>
            <a:srgbClr val="007a7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616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年，努尔哈赤在此建立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大金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政权，史称后金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0" y="4941720"/>
            <a:ext cx="2971800" cy="957600"/>
          </a:xfrm>
          <a:prstGeom prst="cloudCallout">
            <a:avLst>
              <a:gd name="adj1" fmla="val -11805"/>
              <a:gd name="adj2" fmla="val -128773"/>
            </a:avLst>
          </a:prstGeom>
          <a:solidFill>
            <a:srgbClr val="007a77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644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年，清军入关，迁都北京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6659640" y="2708280"/>
            <a:ext cx="144360" cy="216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5292720" y="2565360"/>
            <a:ext cx="358920" cy="1443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468360" y="3933720"/>
            <a:ext cx="865080" cy="4287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651640" y="2492280"/>
            <a:ext cx="893520" cy="505080"/>
          </a:xfrm>
          <a:prstGeom prst="leftArrow">
            <a:avLst>
              <a:gd name="adj1" fmla="val 50000"/>
              <a:gd name="adj2" fmla="val 4421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331640" y="2708280"/>
            <a:ext cx="4104000" cy="1368360"/>
            <a:chOff x="1331640" y="2708280"/>
            <a:chExt cx="4104000" cy="1368360"/>
          </a:xfrm>
        </p:grpSpPr>
        <p:sp>
          <p:nvSpPr>
            <p:cNvPr id="185" name="Line 10"/>
            <p:cNvSpPr/>
            <p:nvPr/>
          </p:nvSpPr>
          <p:spPr>
            <a:xfrm flipH="1">
              <a:off x="1331640" y="2708280"/>
              <a:ext cx="4103640" cy="1368360"/>
            </a:xfrm>
            <a:prstGeom prst="line">
              <a:avLst/>
            </a:prstGeom>
            <a:ln w="76320">
              <a:solidFill>
                <a:srgbClr val="fff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332000" y="2708280"/>
              <a:ext cx="410364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7" name="AutoShape 11"/>
          <p:cNvSpPr/>
          <p:nvPr/>
        </p:nvSpPr>
        <p:spPr>
          <a:xfrm>
            <a:off x="5724360" y="0"/>
            <a:ext cx="3419640" cy="2060640"/>
          </a:xfrm>
          <a:prstGeom prst="wedgeEllipseCallout">
            <a:avLst>
              <a:gd name="adj1" fmla="val -52787"/>
              <a:gd name="adj2" fmla="val 7457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636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，皇太极称帝，改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女真族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名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满洲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，改国号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清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249960" y="6156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清太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9" name="Picture 3" descr="李自成"/>
          <p:cNvPicPr/>
          <p:nvPr/>
        </p:nvPicPr>
        <p:blipFill>
          <a:blip r:embed="rId1"/>
          <a:stretch/>
        </p:blipFill>
        <p:spPr>
          <a:xfrm>
            <a:off x="611280" y="3500280"/>
            <a:ext cx="3657600" cy="3200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0" name="Text Box 4"/>
          <p:cNvSpPr/>
          <p:nvPr/>
        </p:nvSpPr>
        <p:spPr>
          <a:xfrm>
            <a:off x="2070000" y="228600"/>
            <a:ext cx="5203800" cy="916920"/>
          </a:xfrm>
          <a:prstGeom prst="rect">
            <a:avLst/>
          </a:prstGeom>
          <a:solidFill>
            <a:srgbClr val="000066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1644</a:t>
            </a:r>
            <a:r>
              <a:rPr b="0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年北京的三位皇帝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1" name="Picture 5" descr="顺治帝"/>
          <p:cNvPicPr/>
          <p:nvPr/>
        </p:nvPicPr>
        <p:blipFill>
          <a:blip r:embed="rId2"/>
          <a:stretch/>
        </p:blipFill>
        <p:spPr>
          <a:xfrm>
            <a:off x="4876920" y="228600"/>
            <a:ext cx="4114800" cy="58672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92" name="Picture 6" descr="明思宗朱由检"/>
          <p:cNvPicPr/>
          <p:nvPr/>
        </p:nvPicPr>
        <p:blipFill>
          <a:blip r:embed="rId3"/>
          <a:stretch/>
        </p:blipFill>
        <p:spPr>
          <a:xfrm>
            <a:off x="395280" y="189000"/>
            <a:ext cx="4267080" cy="3209760"/>
          </a:xfrm>
          <a:prstGeom prst="rect">
            <a:avLst/>
          </a:prstGeom>
          <a:ln cap="sq" w="76320">
            <a:solidFill>
              <a:srgbClr val="ff0000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395280" y="333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明崇祯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68360" y="1196640"/>
            <a:ext cx="62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，努尔哈赤同宋元时期的几位少数民族首领有哪些共同之处？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0" y="189000"/>
            <a:ext cx="3132000" cy="718920"/>
          </a:xfrm>
          <a:prstGeom prst="cloudCallout">
            <a:avLst>
              <a:gd name="adj1" fmla="val 54662"/>
              <a:gd name="adj2" fmla="val 77814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动脑筋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79280" y="2565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（宋元时期少数民族首领有耶律阿保机、完颜阿骨打、元昊和成吉思汗。努尔哈赤同他们共同之处有：统一本民族各部，建立本民族政权，推动本民族的发展，</a:t>
            </a:r>
            <a:r>
              <a:rPr b="1" i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影响了中国历史发展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的进程。他们都是中国历史上杰出的政治家、军事家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沈阳故宫大政殿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8" name="Picture 3" descr="沈阳故宫大政殿"/>
          <p:cNvPicPr/>
          <p:nvPr/>
        </p:nvPicPr>
        <p:blipFill>
          <a:blip r:embed="rId1"/>
          <a:stretch/>
        </p:blipFill>
        <p:spPr>
          <a:xfrm>
            <a:off x="1343160" y="1052640"/>
            <a:ext cx="6352920" cy="56530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1644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年，清军入关，迁都北京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00" name="Picture 3" descr="北京故宫3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427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201" name="AutoShap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文本框 8200"/>
          <p:cNvSpPr/>
          <p:nvPr/>
        </p:nvSpPr>
        <p:spPr>
          <a:xfrm>
            <a:off x="1047600" y="9604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0920" y="333360"/>
            <a:ext cx="5715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君主集权的强化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8606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雍正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476360" y="1700280"/>
            <a:ext cx="66294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大体采用明朝制度，设置内阁和六部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保留满洲贵族组成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议政王</a:t>
            </a:r>
            <a:r>
              <a:rPr b="1" lang="zh-CN" sz="2400" spc="-1" strike="noStrike">
                <a:solidFill>
                  <a:srgbClr val="dc5900"/>
                </a:solidFill>
                <a:latin typeface="Times New Roman"/>
                <a:ea typeface="黑体"/>
              </a:rPr>
              <a:t>大臣会议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403280" y="3500280"/>
            <a:ext cx="609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设军机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124000" y="3213000"/>
            <a:ext cx="457200" cy="2592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556000" y="2997360"/>
            <a:ext cx="1447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目的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职责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意义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564000" y="2924280"/>
            <a:ext cx="30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为加强君主专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564000" y="3645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雍正帝时设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635280" y="4365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军机大臣跪受笔录，传达皇帝的旨意。军国大事完全由皇帝裁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492360" y="56610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标志着我国封建君主集权的进一步强化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50920" y="2060640"/>
            <a:ext cx="93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0" y="1773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清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5" name="Picture 14" descr="FRAM01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5229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5"/>
          <p:cNvSpPr/>
          <p:nvPr/>
        </p:nvSpPr>
        <p:spPr>
          <a:xfrm>
            <a:off x="7866360" y="260280"/>
            <a:ext cx="1277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军机大臣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只供传述缮撰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而不能稍有赞画于其间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c0c0"/>
                </a:solidFill>
                <a:latin typeface="Arial"/>
              </a:rPr>
              <a:t>             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赵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539640" y="76500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图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635280" y="2133720"/>
            <a:ext cx="1944720" cy="792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皇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4360" y="3573360"/>
            <a:ext cx="2952720" cy="719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内阁和六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5076720" y="3429000"/>
            <a:ext cx="4067280" cy="1224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议政王大臣会议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563640" y="3068640"/>
            <a:ext cx="360720" cy="216000"/>
            <a:chOff x="3563640" y="3068640"/>
            <a:chExt cx="360720" cy="216000"/>
          </a:xfrm>
        </p:grpSpPr>
        <p:sp>
          <p:nvSpPr>
            <p:cNvPr id="222" name="Line 7"/>
            <p:cNvSpPr/>
            <p:nvPr/>
          </p:nvSpPr>
          <p:spPr>
            <a:xfrm flipH="1">
              <a:off x="3563640" y="306864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3564000" y="3068640"/>
              <a:ext cx="360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48360" y="3068640"/>
            <a:ext cx="288720" cy="289080"/>
            <a:chOff x="5148360" y="3068640"/>
            <a:chExt cx="288720" cy="289080"/>
          </a:xfrm>
        </p:grpSpPr>
        <p:sp>
          <p:nvSpPr>
            <p:cNvPr id="225" name="Line 8"/>
            <p:cNvSpPr/>
            <p:nvPr/>
          </p:nvSpPr>
          <p:spPr>
            <a:xfrm>
              <a:off x="5148360" y="3068640"/>
              <a:ext cx="288720" cy="2890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148360" y="3068640"/>
              <a:ext cx="28872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572000" y="2997360"/>
            <a:ext cx="360" cy="1944360"/>
            <a:chOff x="4572000" y="2997360"/>
            <a:chExt cx="360" cy="1944360"/>
          </a:xfrm>
        </p:grpSpPr>
        <p:sp>
          <p:nvSpPr>
            <p:cNvPr id="228" name="Line 9"/>
            <p:cNvSpPr/>
            <p:nvPr/>
          </p:nvSpPr>
          <p:spPr>
            <a:xfrm>
              <a:off x="4572000" y="2997360"/>
              <a:ext cx="0" cy="1944360"/>
            </a:xfrm>
            <a:prstGeom prst="line">
              <a:avLst/>
            </a:prstGeom>
            <a:ln w="63360">
              <a:solidFill>
                <a:srgbClr val="00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4572000" y="2997360"/>
              <a:ext cx="360" cy="19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0" name="Rectangle 10"/>
          <p:cNvSpPr/>
          <p:nvPr/>
        </p:nvSpPr>
        <p:spPr>
          <a:xfrm>
            <a:off x="3635280" y="5084640"/>
            <a:ext cx="1944720" cy="792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军机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1"/>
                            </p:stCondLst>
                            <p:childTnLst>
                              <p:par>
                                <p:cTn id="4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紫禁城"/>
          <p:cNvPicPr/>
          <p:nvPr/>
        </p:nvPicPr>
        <p:blipFill>
          <a:blip r:embed="rId1"/>
          <a:stretch/>
        </p:blipFill>
        <p:spPr>
          <a:xfrm>
            <a:off x="250920" y="189000"/>
            <a:ext cx="8748720" cy="5975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79280" y="61657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644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年李自成领导的农民起义军攻入北京，明朝灭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5335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乾清宫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2" name="Picture 3" descr="北京故宫乾清宫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2023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军机处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4" name="Picture 3" descr="军机处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0832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63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军机处值房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36" name="Picture 3" descr="军机处值房"/>
          <p:cNvPicPr/>
          <p:nvPr/>
        </p:nvPicPr>
        <p:blipFill>
          <a:blip r:embed="rId1"/>
          <a:stretch/>
        </p:blipFill>
        <p:spPr>
          <a:xfrm>
            <a:off x="1066680" y="1181160"/>
            <a:ext cx="6782040" cy="5554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0" y="0"/>
            <a:ext cx="9144000" cy="360"/>
            <a:chOff x="0" y="0"/>
            <a:chExt cx="9144000" cy="360"/>
          </a:xfrm>
        </p:grpSpPr>
        <p:sp>
          <p:nvSpPr>
            <p:cNvPr id="238" name="Line 2"/>
            <p:cNvSpPr/>
            <p:nvPr/>
          </p:nvSpPr>
          <p:spPr>
            <a:xfrm>
              <a:off x="0" y="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0" y="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0" y="639720"/>
            <a:ext cx="9144000" cy="360"/>
            <a:chOff x="0" y="639720"/>
            <a:chExt cx="9144000" cy="360"/>
          </a:xfrm>
        </p:grpSpPr>
        <p:sp>
          <p:nvSpPr>
            <p:cNvPr id="241" name="Line 3"/>
            <p:cNvSpPr/>
            <p:nvPr/>
          </p:nvSpPr>
          <p:spPr>
            <a:xfrm>
              <a:off x="0" y="63972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0" y="639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0" y="0"/>
            <a:ext cx="360" cy="639720"/>
            <a:chOff x="0" y="0"/>
            <a:chExt cx="360" cy="639720"/>
          </a:xfrm>
        </p:grpSpPr>
        <p:sp>
          <p:nvSpPr>
            <p:cNvPr id="244" name="Line 4"/>
            <p:cNvSpPr/>
            <p:nvPr/>
          </p:nvSpPr>
          <p:spPr>
            <a:xfrm>
              <a:off x="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0" y="0"/>
              <a:ext cx="36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9144000" y="0"/>
            <a:ext cx="360" cy="639720"/>
            <a:chOff x="9144000" y="0"/>
            <a:chExt cx="360" cy="639720"/>
          </a:xfrm>
        </p:grpSpPr>
        <p:sp>
          <p:nvSpPr>
            <p:cNvPr id="247" name="Line 5"/>
            <p:cNvSpPr/>
            <p:nvPr/>
          </p:nvSpPr>
          <p:spPr>
            <a:xfrm>
              <a:off x="9144000" y="0"/>
              <a:ext cx="0" cy="639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9144000" y="0"/>
              <a:ext cx="36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49" name="Text Box 6"/>
          <p:cNvSpPr/>
          <p:nvPr/>
        </p:nvSpPr>
        <p:spPr>
          <a:xfrm>
            <a:off x="6019920" y="1371600"/>
            <a:ext cx="2819160" cy="764280"/>
          </a:xfrm>
          <a:prstGeom prst="rect">
            <a:avLst/>
          </a:prstGeom>
          <a:solidFill>
            <a:srgbClr val="0000ff"/>
          </a:solidFill>
          <a:ln w="57240">
            <a:solidFill>
              <a:srgbClr val="7979a5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尊君卑臣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291480" y="2708280"/>
            <a:ext cx="264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明大臣四拜或五拜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清大臣始有三跪九叩之礼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明大臣可以侍坐，清大臣则奏对无不跪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清大臣对皇帝奏摺，皆自称“奴才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隶书"/>
                <a:ea typeface="华文隶书"/>
              </a:rPr>
              <a:t>  </a:t>
            </a: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君主集权的发展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252" name="AutoShape 9"/>
          <p:cNvCxnSpPr/>
          <p:nvPr/>
        </p:nvCxnSpPr>
        <p:spPr>
          <a:xfrm>
            <a:off x="304920" y="837720"/>
            <a:ext cx="6409440" cy="1080"/>
          </a:xfrm>
          <a:prstGeom prst="straightConnector1">
            <a:avLst/>
          </a:prstGeom>
          <a:ln w="31680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04920" y="1052640"/>
            <a:ext cx="883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、军机大臣“只供传述缮撰，而不能稍有赞画于其间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339933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9933"/>
                </a:solidFill>
                <a:latin typeface="宋体"/>
              </a:rPr>
              <a:t>）上文是什么意思？军机大臣有实权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339933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9933"/>
                </a:solidFill>
                <a:latin typeface="宋体"/>
              </a:rPr>
              <a:t>）军机处是谁设立的？有什么意义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826920" y="4076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雍正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时。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军机处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的设立</a:t>
            </a:r>
            <a:r>
              <a:rPr b="1" lang="zh-CN" sz="3600" spc="-1" strike="noStrike">
                <a:solidFill>
                  <a:srgbClr val="830e06"/>
                </a:solidFill>
                <a:latin typeface="Times New Roman"/>
                <a:ea typeface="华文新魏"/>
              </a:rPr>
              <a:t>取代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了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议政王大臣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会议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标志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着我国封建君主集权的进一步加强 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79280" y="115920"/>
            <a:ext cx="3097440" cy="792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史料阅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684360" y="3789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两种说法都有道理，又都不全面。第一种说法，强调了军机处起到君主集中大权、可以快速下达命令、避免大臣办事扯皮、拖拉的作风。第二种说法，强调了军机大臣什么都得听皇帝的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没有任何权力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i="1" lang="zh-CN" sz="2800" spc="-1" strike="noStrike">
                <a:solidFill>
                  <a:srgbClr val="dc5900"/>
                </a:solidFill>
                <a:latin typeface="Times New Roman"/>
                <a:ea typeface="黑体"/>
              </a:rPr>
              <a:t>丧失政治责任感和创造精神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。如果将两种看法结合起来，就更全面、客观了。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7" name="Picture 3" descr="1_15"/>
          <p:cNvPicPr/>
          <p:nvPr/>
        </p:nvPicPr>
        <p:blipFill>
          <a:blip r:embed="rId1"/>
          <a:stretch/>
        </p:blipFill>
        <p:spPr>
          <a:xfrm>
            <a:off x="0" y="2924280"/>
            <a:ext cx="974880" cy="165708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4"/>
          <p:cNvSpPr/>
          <p:nvPr/>
        </p:nvSpPr>
        <p:spPr>
          <a:xfrm>
            <a:off x="250920" y="907920"/>
            <a:ext cx="3352680" cy="2276640"/>
          </a:xfrm>
          <a:prstGeom prst="cloudCallout">
            <a:avLst>
              <a:gd name="adj1" fmla="val -32953"/>
              <a:gd name="adj2" fmla="val 63949"/>
            </a:avLst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军机处的设立，提高了办事效率，有好处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9" name="Picture 5" descr="8_3"/>
          <p:cNvPicPr/>
          <p:nvPr/>
        </p:nvPicPr>
        <p:blipFill>
          <a:blip r:embed="rId2"/>
          <a:stretch/>
        </p:blipFill>
        <p:spPr>
          <a:xfrm>
            <a:off x="8229600" y="3429000"/>
            <a:ext cx="914400" cy="16462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6"/>
          <p:cNvSpPr/>
          <p:nvPr/>
        </p:nvSpPr>
        <p:spPr>
          <a:xfrm>
            <a:off x="0" y="0"/>
            <a:ext cx="4211640" cy="620640"/>
          </a:xfrm>
          <a:prstGeom prst="cloudCallout">
            <a:avLst>
              <a:gd name="adj1" fmla="val 46004"/>
              <a:gd name="adj2" fmla="val 60740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动脑筋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140360" y="54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同意他们谁的说法，为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175280" y="1197000"/>
            <a:ext cx="4968720" cy="1944720"/>
          </a:xfrm>
          <a:prstGeom prst="wedgeRoundRectCallout">
            <a:avLst>
              <a:gd name="adj1" fmla="val 36486"/>
              <a:gd name="adj2" fmla="val 79958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设立军机处，官员们什么都得听皇帝的，他们的政治责任感和创造精神都没有了，一点好处也没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179280" y="115920"/>
            <a:ext cx="3024000" cy="1728720"/>
            <a:chOff x="179280" y="115920"/>
            <a:chExt cx="3024000" cy="1728720"/>
          </a:xfrm>
        </p:grpSpPr>
        <p:sp>
          <p:nvSpPr>
            <p:cNvPr id="264" name="AutoShape 3"/>
            <p:cNvSpPr/>
            <p:nvPr/>
          </p:nvSpPr>
          <p:spPr>
            <a:xfrm>
              <a:off x="179280" y="115920"/>
              <a:ext cx="3024000" cy="1728720"/>
            </a:xfrm>
            <a:prstGeom prst="irregularSeal2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Text Box 4"/>
            <p:cNvSpPr/>
            <p:nvPr/>
          </p:nvSpPr>
          <p:spPr>
            <a:xfrm rot="20635800">
              <a:off x="503280" y="551880"/>
              <a:ext cx="208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dc5900"/>
                  </a:solidFill>
                  <a:latin typeface="宋体"/>
                </a:rPr>
                <a:t>想一想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6" name="Text Box 5"/>
          <p:cNvSpPr/>
          <p:nvPr/>
        </p:nvSpPr>
        <p:spPr>
          <a:xfrm>
            <a:off x="2514600" y="765000"/>
            <a:ext cx="5715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明朝、清朝为加强皇权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政治上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采取了哪些措施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692360" y="2781360"/>
            <a:ext cx="540072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0b05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f0b05"/>
                </a:solidFill>
                <a:latin typeface="Arial"/>
                <a:ea typeface="华文新魏"/>
              </a:rPr>
              <a:t>、废行省  设三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b05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f0b05"/>
                </a:solidFill>
                <a:latin typeface="Arial"/>
                <a:ea typeface="华文新魏"/>
              </a:rPr>
              <a:t>、废丞相   设六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b05"/>
                </a:solidFill>
                <a:latin typeface="Arial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f0b05"/>
                </a:solidFill>
                <a:latin typeface="Arial"/>
                <a:ea typeface="华文新魏"/>
              </a:rPr>
              <a:t>、设立厂卫制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b05"/>
                </a:solidFill>
                <a:latin typeface="Arial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f0b05"/>
                </a:solidFill>
                <a:latin typeface="Arial"/>
                <a:ea typeface="华文新魏"/>
              </a:rPr>
              <a:t>、设立军机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5651640" y="3068640"/>
            <a:ext cx="649080" cy="1728720"/>
          </a:xfrm>
          <a:custGeom>
            <a:avLst/>
            <a:gdLst>
              <a:gd name="textAreaLeft" fmla="*/ 0 w 649080"/>
              <a:gd name="textAreaRight" fmla="*/ 234360 w 6490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6516720" y="3573360"/>
            <a:ext cx="1440000" cy="764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明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076720" y="5589720"/>
            <a:ext cx="863640" cy="360"/>
            <a:chOff x="5076720" y="5589720"/>
            <a:chExt cx="863640" cy="360"/>
          </a:xfrm>
        </p:grpSpPr>
        <p:sp>
          <p:nvSpPr>
            <p:cNvPr id="271" name="Line 9"/>
            <p:cNvSpPr/>
            <p:nvPr/>
          </p:nvSpPr>
          <p:spPr>
            <a:xfrm>
              <a:off x="5076720" y="5589720"/>
              <a:ext cx="863640" cy="0"/>
            </a:xfrm>
            <a:prstGeom prst="line">
              <a:avLst/>
            </a:prstGeom>
            <a:ln w="507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5076720" y="5589720"/>
              <a:ext cx="8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3" name="Text Box 10"/>
          <p:cNvSpPr/>
          <p:nvPr/>
        </p:nvSpPr>
        <p:spPr>
          <a:xfrm>
            <a:off x="6300720" y="5229360"/>
            <a:ext cx="1440000" cy="764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清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50920" y="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加强思想控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-181080" y="4508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文字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1258920" y="3789360"/>
            <a:ext cx="216000" cy="208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403280" y="3645000"/>
            <a:ext cx="108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目的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时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后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0" y="177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统治者从知识分子的诗词文章中摘取只言片语，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借题发挥，加以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歪曲解释，然后罗织罪名，制造了大批冤假错案。人们称这种做法为“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黑体"/>
              </a:rPr>
              <a:t>文字狱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484360" y="357336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加强君主专制，从</a:t>
            </a:r>
            <a:r>
              <a:rPr b="1" lang="zh-CN" sz="2400" spc="-1" strike="noStrike">
                <a:solidFill>
                  <a:srgbClr val="dc5900"/>
                </a:solidFill>
                <a:latin typeface="Times New Roman"/>
                <a:ea typeface="黑体"/>
              </a:rPr>
              <a:t>思想领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严密控制知识分子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484360" y="4292640"/>
            <a:ext cx="59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康熙、雍正、乾隆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三朝最为严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2411280" y="5300640"/>
            <a:ext cx="289080" cy="1020960"/>
          </a:xfrm>
          <a:custGeom>
            <a:avLst/>
            <a:gdLst>
              <a:gd name="textAreaLeft" fmla="*/ 184680 w 289080"/>
              <a:gd name="textAreaRight" fmla="*/ 289080 w 289080"/>
              <a:gd name="textAreaTop" fmla="*/ 26280 h 1020960"/>
              <a:gd name="textAreaBottom" fmla="*/ 994680 h 102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27280" y="6093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严重阻碍了中国社会的发展和进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2700360" y="5084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、造成了社会恐怖，摧残了人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2627280" y="566100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知识分子不敢过问政治，从而禁锢了思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132000" y="0"/>
            <a:ext cx="60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八股取士”和“”文字狱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250920" y="76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举只考四书五经内容，文章必须写成八个部分，这种选拔官员的方法，叫做“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  <a:ea typeface="黑体"/>
              </a:rPr>
              <a:t>八股取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AutoShape 15"/>
          <p:cNvSpPr/>
          <p:nvPr/>
        </p:nvSpPr>
        <p:spPr>
          <a:xfrm>
            <a:off x="5796000" y="2708280"/>
            <a:ext cx="615960" cy="341280"/>
          </a:xfrm>
          <a:custGeom>
            <a:avLst/>
            <a:gdLst>
              <a:gd name="textAreaLeft" fmla="*/ 0 w 615960"/>
              <a:gd name="textAreaRight" fmla="*/ 616320 w 615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lnTo>
                  <a:pt x="5398" y="108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AutoShape 16"/>
          <p:cNvSpPr/>
          <p:nvPr/>
        </p:nvSpPr>
        <p:spPr>
          <a:xfrm>
            <a:off x="1042920" y="6381720"/>
            <a:ext cx="615960" cy="341280"/>
          </a:xfrm>
          <a:custGeom>
            <a:avLst/>
            <a:gdLst>
              <a:gd name="textAreaLeft" fmla="*/ 0 w 615960"/>
              <a:gd name="textAreaRight" fmla="*/ 616320 w 615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lnTo>
                  <a:pt x="5398" y="108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965960" y="1197000"/>
            <a:ext cx="4813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清朝文字狱事例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一把心肠论浊清”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胡中藻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明月有情还顾我，清风无意不留人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清风不识字，何故乱翻书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1908000" y="476280"/>
            <a:ext cx="4187880" cy="9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2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胡中藻”案</a:t>
            </a:r>
            <a:endParaRPr b="0" lang="en-US" sz="2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95280" y="1628640"/>
            <a:ext cx="81010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臣乃乾隆六年的进士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官至内阁大学士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臣爱好诗词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常有感于心境而做诗句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如“一把心肠论浊清”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奈何乾隆帝看了竟说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“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加‘浊’字于国号‘清’前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是何肺腑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?”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结果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臣与族人被杀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祸及师友。无从申辩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谁能还我清白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李自成"/>
          <p:cNvPicPr/>
          <p:nvPr/>
        </p:nvPicPr>
        <p:blipFill>
          <a:blip r:embed="rId1"/>
          <a:stretch/>
        </p:blipFill>
        <p:spPr>
          <a:xfrm>
            <a:off x="468360" y="333360"/>
            <a:ext cx="5256000" cy="2709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1" name="Text Box 3"/>
          <p:cNvSpPr/>
          <p:nvPr/>
        </p:nvSpPr>
        <p:spPr>
          <a:xfrm>
            <a:off x="304920" y="3141720"/>
            <a:ext cx="84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李自成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1606-1645)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明末农民起义领袖。童年时给地主牧羊，曾为银川驿卒。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629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起义，勇猛有识略。后声望日高，称闯王。在河南提出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均田免赋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等口号，获得广大人民的欢迎，</a:t>
            </a:r>
            <a:r>
              <a:rPr b="1" lang="en-US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644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建立大顺政权，不久攻克北京，推翻明王朝。由于起义军领袖犯了胜利时骄傲的错误，迫害吴三桂的家属，逼反吴三桂，满清贵族入关，联合吴三桂进攻农民军。李自成迎战失利，退出北京，后神秘消失，李自成余部降清后，又反叛满清，继续抗清斗争。</a:t>
            </a:r>
            <a:br>
              <a:rPr sz="2400"/>
            </a:b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37280" y="482760"/>
            <a:ext cx="24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ingLiU"/>
                <a:ea typeface="MingLiU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MingLiU"/>
                <a:ea typeface="MingLiU"/>
              </a:rPr>
              <a:t>李自成失败了，假如你是他，你要取得政权，需要具备哪些素质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68280" y="62611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MingLiU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MingLiU"/>
              </a:rPr>
              <a:t>斗志、胆量、知识、民心、政策、斗争策略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oin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2"/>
          <p:cNvSpPr txBox="1"/>
          <p:nvPr/>
        </p:nvSpPr>
        <p:spPr>
          <a:xfrm>
            <a:off x="1763640" y="260280"/>
            <a:ext cx="4187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2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徐骏”案</a:t>
            </a:r>
            <a:endParaRPr b="0" lang="en-US" sz="2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539640" y="1413000"/>
            <a:ext cx="76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臣为雍正帝时的进士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雍正八年十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有人告发臣的两句诗“明月有情还顾我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清风无意不留人”有反叛的意思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认为臣是“思念明代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无意本朝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出语诋毁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大逆不道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.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结果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朝廷判臣斩立决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并烧毁了臣的所有文稿。冤啊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/>
          <p:cNvSpPr/>
          <p:nvPr/>
        </p:nvSpPr>
        <p:spPr>
          <a:xfrm>
            <a:off x="0" y="0"/>
            <a:ext cx="3203640" cy="981000"/>
          </a:xfrm>
          <a:prstGeom prst="cloudCallout">
            <a:avLst>
              <a:gd name="adj1" fmla="val 30722"/>
              <a:gd name="adj2" fmla="val 59384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动脑筋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79280" y="327672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（这两句诗是写景的，本身没有任何问题。清朝统治者疑神疑鬼，捕风捉影，硬是认为“明”暗指“明朝”，“清”影射“清朝”，暗喻明朝重视人才，清朝不重视人才，是怀念明朝，不满清朝，便把他处死了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050920" y="1216080"/>
            <a:ext cx="66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明月有情还顾我，清风无意不留人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面的两句诗是雍正帝时的一位进士写的，他被斩首。你认为诗里有什么问题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28600" y="304920"/>
            <a:ext cx="89154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Times New Roman"/>
                <a:ea typeface="华文新魏"/>
              </a:rPr>
              <a:t>《   </a:t>
            </a:r>
            <a:r>
              <a:rPr b="1" lang="zh-CN" sz="4000" spc="-1" strike="noStrike">
                <a:solidFill>
                  <a:srgbClr val="dc5900"/>
                </a:solidFill>
                <a:latin typeface="Times New Roman"/>
                <a:ea typeface="华文新魏"/>
              </a:rPr>
              <a:t>明  史   案</a:t>
            </a:r>
            <a:r>
              <a:rPr b="1" lang="en-US" sz="4000" spc="-1" strike="noStrike">
                <a:solidFill>
                  <a:srgbClr val="dc5900"/>
                </a:solidFill>
                <a:latin typeface="Times New Roman"/>
                <a:ea typeface="华文新魏"/>
              </a:rPr>
              <a:t>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浙江富户庄廷龙修订前人遗著，取名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明史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。书中叙述清朝入关前的史实，使用明朝年号，并且保留了一些明朝将领抗击后金的事迹，触怒了康熙帝。参加编写、刻印和销售这部书的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70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多人全部处死。此前，庄廷龙已死。清政府下令挖开他的坟墓，劈棺戮尸。李令晰为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明史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作过序，被处死。明史案受株连的江南名士达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200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多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143000" y="4464000"/>
            <a:ext cx="5410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维   止</a:t>
            </a:r>
            <a:endParaRPr b="0" lang="en-US" sz="10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1263240" y="3716280"/>
            <a:ext cx="1526400" cy="1785240"/>
            <a:chOff x="1263240" y="3716280"/>
            <a:chExt cx="1526400" cy="1785240"/>
          </a:xfrm>
        </p:grpSpPr>
        <p:sp>
          <p:nvSpPr>
            <p:cNvPr id="300" name="Text Box 4"/>
            <p:cNvSpPr/>
            <p:nvPr/>
          </p:nvSpPr>
          <p:spPr>
            <a:xfrm>
              <a:off x="1949400" y="3716280"/>
              <a:ext cx="564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7a77"/>
                  </a:solidFill>
                  <a:latin typeface="Times New Roman"/>
                </a:rPr>
                <a:t>、</a:t>
              </a:r>
              <a:endParaRPr b="0" lang="en-US" sz="6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263240" y="3792600"/>
              <a:ext cx="15264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一</a:t>
              </a:r>
              <a:endParaRPr b="0" lang="en-US" sz="10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02" name="Text Box 6"/>
          <p:cNvSpPr/>
          <p:nvPr/>
        </p:nvSpPr>
        <p:spPr>
          <a:xfrm>
            <a:off x="4870080" y="4091040"/>
            <a:ext cx="12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一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048120" y="4432320"/>
            <a:ext cx="22096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</a:t>
            </a:r>
            <a:endParaRPr b="0" lang="en-US" sz="10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6012000" y="4437000"/>
            <a:ext cx="19857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止</a:t>
            </a:r>
            <a:endParaRPr b="0" lang="en-US" sz="10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6324480" y="31240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826920" y="260280"/>
            <a:ext cx="716472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新魏"/>
              </a:rPr>
              <a:t>查嗣庭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隶书"/>
              </a:rPr>
              <a:t>查嗣庭是雍正时的礼部侍郎，他在江南主持科举考试时，出了一道考题“维民所止”。这本是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隶书"/>
              </a:rPr>
              <a:t>大学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隶书"/>
              </a:rPr>
              <a:t>中的一句话，却被清政府说是“维”“止”去了字头，是要砍雍正的头。查嗣庭飞来横祸，被押入狱，死在狱中。雍正命人把他戮尸示众，其家属也被流放边远地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24000" y="3860640"/>
            <a:ext cx="9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影响相同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钳制了思想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摧残了文化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250920" y="2565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目的相同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都是为了加强思想控制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强化专制皇权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5867280" y="620640"/>
            <a:ext cx="3168720" cy="1800360"/>
          </a:xfrm>
          <a:prstGeom prst="cloudCallout">
            <a:avLst>
              <a:gd name="adj1" fmla="val -104560"/>
              <a:gd name="adj2" fmla="val 5907"/>
            </a:avLst>
          </a:prstGeom>
          <a:solidFill>
            <a:srgbClr val="ff0066">
              <a:alpha val="50000"/>
            </a:srgbClr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宋体"/>
              </a:rPr>
              <a:t>畅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宋体"/>
              </a:rPr>
              <a:t>天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250920" y="62064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清朝文字狱和秦朝焚书坑儒有何异同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50920" y="508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手段不同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个是焚书坑儒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个是大兴文字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50920" y="404640"/>
            <a:ext cx="56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列表比较秦朝 西汉明朝清朝加强思想统治的措施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16000" y="2781360"/>
          <a:ext cx="7343640" cy="3240000"/>
        </p:xfrm>
        <a:graphic>
          <a:graphicData uri="http://schemas.openxmlformats.org/drawingml/2006/table">
            <a:tbl>
              <a:tblPr/>
              <a:tblGrid>
                <a:gridCol w="2111400"/>
                <a:gridCol w="5232240"/>
              </a:tblGrid>
              <a:tr h="819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20"/>
          <p:cNvSpPr/>
          <p:nvPr/>
        </p:nvSpPr>
        <p:spPr>
          <a:xfrm>
            <a:off x="4859280" y="198900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事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180360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秦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Rectangle 22"/>
          <p:cNvSpPr/>
          <p:nvPr/>
        </p:nvSpPr>
        <p:spPr>
          <a:xfrm>
            <a:off x="5015520" y="279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焚书坑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Rectangle 23"/>
          <p:cNvSpPr/>
          <p:nvPr/>
        </p:nvSpPr>
        <p:spPr>
          <a:xfrm>
            <a:off x="1876680" y="364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西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Rectangle 24"/>
          <p:cNvSpPr/>
          <p:nvPr/>
        </p:nvSpPr>
        <p:spPr>
          <a:xfrm>
            <a:off x="3733920" y="3657600"/>
            <a:ext cx="43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罢黜百家；独尊儒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Rectangle 25"/>
          <p:cNvSpPr/>
          <p:nvPr/>
        </p:nvSpPr>
        <p:spPr>
          <a:xfrm>
            <a:off x="1692360" y="443700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明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4939560" y="450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八股取士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Rectangle 27"/>
          <p:cNvSpPr/>
          <p:nvPr/>
        </p:nvSpPr>
        <p:spPr>
          <a:xfrm>
            <a:off x="1948320" y="530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清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Rectangle 28"/>
          <p:cNvSpPr/>
          <p:nvPr/>
        </p:nvSpPr>
        <p:spPr>
          <a:xfrm>
            <a:off x="5208480" y="5300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文字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Rectangle 29"/>
          <p:cNvSpPr/>
          <p:nvPr/>
        </p:nvSpPr>
        <p:spPr>
          <a:xfrm>
            <a:off x="1948320" y="198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朝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4" name="Picture 30" descr="1"/>
          <p:cNvPicPr/>
          <p:nvPr/>
        </p:nvPicPr>
        <p:blipFill>
          <a:blip r:embed="rId1"/>
          <a:stretch/>
        </p:blipFill>
        <p:spPr>
          <a:xfrm>
            <a:off x="5435640" y="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2"/>
          <p:cNvSpPr/>
          <p:nvPr/>
        </p:nvSpPr>
        <p:spPr>
          <a:xfrm>
            <a:off x="8459640" y="6093000"/>
            <a:ext cx="301680" cy="493560"/>
          </a:xfrm>
          <a:custGeom>
            <a:avLst/>
            <a:gdLst>
              <a:gd name="textAreaLeft" fmla="*/ 40320 w 301680"/>
              <a:gd name="textAreaRight" fmla="*/ 261360 w 301680"/>
              <a:gd name="textAreaTop" fmla="*/ 90000 h 493560"/>
              <a:gd name="textAreaBottom" fmla="*/ 3394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82" stAng="-5400000" swAng="5400000"/>
                <a:lnTo>
                  <a:pt x="21600" y="10916"/>
                </a:lnTo>
                <a:arcTo wR="21600" hR="7882" stAng="0" swAng="2754751"/>
                <a:lnTo>
                  <a:pt x="7198" y="21150"/>
                </a:lnTo>
                <a:lnTo>
                  <a:pt x="0" y="17280"/>
                </a:lnTo>
                <a:lnTo>
                  <a:pt x="7198" y="12510"/>
                </a:lnTo>
                <a:lnTo>
                  <a:pt x="7198" y="15313"/>
                </a:lnTo>
                <a:arcTo wR="21600" hR="7882" stAng="2754751" swAng="-2509131"/>
                <a:lnTo>
                  <a:pt x="21196" y="9399"/>
                </a:lnTo>
                <a:arcTo wR="21600" hR="7882" stAng="-245620" swAng="-5154380"/>
                <a:close/>
              </a:path>
              <a:path fill="darkenLess" w="21600" h="21600">
                <a:moveTo>
                  <a:pt x="0" y="0"/>
                </a:moveTo>
                <a:arcTo wR="21600" hR="7882" stAng="-5400000" swAng="5400000"/>
                <a:lnTo>
                  <a:pt x="21600" y="10916"/>
                </a:lnTo>
                <a:arcTo wR="21600" hR="7882" stAng="0" swAng="-245620"/>
                <a:lnTo>
                  <a:pt x="21196" y="9399"/>
                </a:lnTo>
                <a:arcTo wR="21600" hR="7882" stAng="-245620" swAng="-5154380"/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79280" y="189000"/>
            <a:ext cx="830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知识点回顾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7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课  君主集权的强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79280" y="1628640"/>
            <a:ext cx="87631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一、满洲的兴起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努尔哈赤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统一女真各部、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61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建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后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政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79280" y="3213000"/>
            <a:ext cx="868680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二、清朝的建立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皇太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改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女真族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名为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满洲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改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国号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为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清：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1636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79280" y="4797360"/>
            <a:ext cx="9144000" cy="23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三、君主集权的强化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军机处的设立    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大兴文字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609480" y="304920"/>
            <a:ext cx="716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巩固练习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一、选择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228600" y="1981080"/>
            <a:ext cx="89154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后金的建立者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（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努尔哈赤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皇太极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康熙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雍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5181480" y="20574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 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A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80880" y="3429000"/>
            <a:ext cx="853452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改国号为清的是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（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努尔哈赤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皇太极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康熙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雍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533412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04920" y="5029200"/>
            <a:ext cx="8839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军机处是谁在位时设立的？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（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努尔哈赤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皇太极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康熙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雍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7696080" y="50292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D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0" y="228600"/>
            <a:ext cx="9144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清朝文字狱以哪几位皇帝在位时最残酷                                  （    ）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顺治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康熙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雍正   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乾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11280" y="765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28600" y="3933720"/>
            <a:ext cx="89154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清朝初年，掌握实权的是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（  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内阁              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六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议政王大臣会议    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宦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24720" y="39337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0" y="260280"/>
            <a:ext cx="9540720" cy="33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二、材料解析题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军机大臣“只供传述缮撰，而不能稍有赞画于其间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上文是什么意思？军机大臣有实权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）军机处是谁设立的？有什么意义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4508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雍正时。  军机处的设立取代了议政王大臣会议，标志着我国封建君主集权的进一步加强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7600" y="764640"/>
            <a:ext cx="838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满洲的兴起与清朝的建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50920" y="1916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满洲的兴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280" y="2998800"/>
            <a:ext cx="81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女真族是居住在我国东北地区的古老民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明朝后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女真族的杰出首领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努尔哈赤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统一了女真各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-108000" y="189000"/>
            <a:ext cx="98647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“明月有情还顾我，清风无意不留人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写这句诗的进士被杀，你认为是什么原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这种做法叫什么？哪几位皇帝在位时最残酷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影响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0" y="3357720"/>
            <a:ext cx="93949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文字狱。康熙、雍正、乾隆三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、造成了社会恐怖，摧残了人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、许多知识分子不敢过问政治，从而禁锢了思想，严重阻碍了中国社会的发展和进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01600" y="476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Times New Roman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清朝初年，是如何加强君主集权统治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228600" y="144792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、雍正帝时设立军机处（军机大臣跪受笔录。军机处的设立，标志着我国封建君主集权的进一步强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、从思想上控制知识分子，大兴文字狱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禁锢了思想，严重阻碍了中国社会的发展和进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395280" y="393372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国是一个多民族的国家，强化君主专制中央集权，对巩固国家统一，起了一定的作用，但加强对人民的控制、镇压，扼杀思想的进步，阻碍科学文化的发展，这些表明封建制度已日益腐朽和渐趋衰落，中国也恰恰是从明清时期开始落后于西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395280" y="1886040"/>
            <a:ext cx="5329080" cy="1829880"/>
            <a:chOff x="395280" y="1886040"/>
            <a:chExt cx="5329080" cy="1829880"/>
          </a:xfrm>
        </p:grpSpPr>
        <p:sp>
          <p:nvSpPr>
            <p:cNvPr id="350" name="Text Box 4"/>
            <p:cNvSpPr/>
            <p:nvPr/>
          </p:nvSpPr>
          <p:spPr>
            <a:xfrm>
              <a:off x="1835280" y="2647800"/>
              <a:ext cx="37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强化君主专制的中央集权有利于维护我国的统一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351" name="Picture 5" descr="gif1071"/>
            <p:cNvPicPr/>
            <p:nvPr/>
          </p:nvPicPr>
          <p:blipFill>
            <a:blip r:embed="rId1"/>
            <a:stretch/>
          </p:blipFill>
          <p:spPr>
            <a:xfrm>
              <a:off x="395280" y="1886040"/>
              <a:ext cx="114300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AutoShape 6"/>
            <p:cNvSpPr/>
            <p:nvPr/>
          </p:nvSpPr>
          <p:spPr>
            <a:xfrm>
              <a:off x="1692360" y="2462040"/>
              <a:ext cx="4032000" cy="1253880"/>
            </a:xfrm>
            <a:prstGeom prst="wedgeRoundRectCallout">
              <a:avLst>
                <a:gd name="adj1" fmla="val -61810"/>
                <a:gd name="adj2" fmla="val -32023"/>
                <a:gd name="adj3" fmla="val 16667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3" name="Group 7"/>
          <p:cNvGrpSpPr/>
          <p:nvPr/>
        </p:nvGrpSpPr>
        <p:grpSpPr>
          <a:xfrm>
            <a:off x="3203640" y="620640"/>
            <a:ext cx="5751360" cy="1790280"/>
            <a:chOff x="3203640" y="620640"/>
            <a:chExt cx="5751360" cy="1790280"/>
          </a:xfrm>
        </p:grpSpPr>
        <p:pic>
          <p:nvPicPr>
            <p:cNvPr id="354" name="Picture 8" descr="gif1064"/>
            <p:cNvPicPr/>
            <p:nvPr/>
          </p:nvPicPr>
          <p:blipFill>
            <a:blip r:embed="rId2"/>
            <a:stretch/>
          </p:blipFill>
          <p:spPr>
            <a:xfrm>
              <a:off x="7812000" y="1268280"/>
              <a:ext cx="114300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AutoShape 9"/>
            <p:cNvSpPr/>
            <p:nvPr/>
          </p:nvSpPr>
          <p:spPr>
            <a:xfrm>
              <a:off x="3203640" y="620640"/>
              <a:ext cx="3889440" cy="1257120"/>
            </a:xfrm>
            <a:prstGeom prst="wedgeRoundRectCallout">
              <a:avLst>
                <a:gd name="adj1" fmla="val 71185"/>
                <a:gd name="adj2" fmla="val 42171"/>
                <a:gd name="adj3" fmla="val 16667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6" name="Text Box 10"/>
            <p:cNvSpPr/>
            <p:nvPr/>
          </p:nvSpPr>
          <p:spPr>
            <a:xfrm>
              <a:off x="3422520" y="806040"/>
              <a:ext cx="345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专制统治钳制人们的思想，阻碍社会进步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57" name="WordArt 11"/>
          <p:cNvSpPr txBox="1"/>
          <p:nvPr/>
        </p:nvSpPr>
        <p:spPr>
          <a:xfrm>
            <a:off x="539640" y="836640"/>
            <a:ext cx="2286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走上辩论台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304920" y="372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国历代朝代更替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11430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夏     商      西周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东周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春秋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战国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）    秦      西汉     东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西晋     东晋、十六国      南北朝      隋        唐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五代十国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           元       明       清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838080" y="1371600"/>
            <a:ext cx="381240" cy="360"/>
            <a:chOff x="838080" y="1371600"/>
            <a:chExt cx="381240" cy="360"/>
          </a:xfrm>
        </p:grpSpPr>
        <p:sp>
          <p:nvSpPr>
            <p:cNvPr id="361" name="Line 4"/>
            <p:cNvSpPr/>
            <p:nvPr/>
          </p:nvSpPr>
          <p:spPr>
            <a:xfrm>
              <a:off x="838080" y="1371600"/>
              <a:ext cx="38124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838080" y="137160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63" name="Text Box 5"/>
          <p:cNvSpPr/>
          <p:nvPr/>
        </p:nvSpPr>
        <p:spPr>
          <a:xfrm>
            <a:off x="399240" y="16002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魏蜀吴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580400" y="2362320"/>
            <a:ext cx="91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辽宋夏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600200" y="1371240"/>
            <a:ext cx="380880" cy="360"/>
            <a:chOff x="1600200" y="1371240"/>
            <a:chExt cx="380880" cy="360"/>
          </a:xfrm>
        </p:grpSpPr>
        <p:sp>
          <p:nvSpPr>
            <p:cNvPr id="366" name="Line 7"/>
            <p:cNvSpPr/>
            <p:nvPr/>
          </p:nvSpPr>
          <p:spPr>
            <a:xfrm>
              <a:off x="1600200" y="1371600"/>
              <a:ext cx="38088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 rot="10800000">
              <a:off x="1600200" y="137124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666880" y="1371600"/>
            <a:ext cx="533520" cy="360"/>
            <a:chOff x="2666880" y="1371600"/>
            <a:chExt cx="533520" cy="360"/>
          </a:xfrm>
        </p:grpSpPr>
        <p:sp>
          <p:nvSpPr>
            <p:cNvPr id="369" name="Line 8"/>
            <p:cNvSpPr/>
            <p:nvPr/>
          </p:nvSpPr>
          <p:spPr>
            <a:xfrm>
              <a:off x="2666880" y="13716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2666880" y="137160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791320" y="1295280"/>
            <a:ext cx="380880" cy="360"/>
            <a:chOff x="5791320" y="1295280"/>
            <a:chExt cx="380880" cy="360"/>
          </a:xfrm>
        </p:grpSpPr>
        <p:sp>
          <p:nvSpPr>
            <p:cNvPr id="372" name="Line 9"/>
            <p:cNvSpPr/>
            <p:nvPr/>
          </p:nvSpPr>
          <p:spPr>
            <a:xfrm>
              <a:off x="5791320" y="1295280"/>
              <a:ext cx="38088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5791320" y="12952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477120" y="1371600"/>
            <a:ext cx="457200" cy="360"/>
            <a:chOff x="6477120" y="1371600"/>
            <a:chExt cx="457200" cy="360"/>
          </a:xfrm>
        </p:grpSpPr>
        <p:sp>
          <p:nvSpPr>
            <p:cNvPr id="375" name="Line 10"/>
            <p:cNvSpPr/>
            <p:nvPr/>
          </p:nvSpPr>
          <p:spPr>
            <a:xfrm>
              <a:off x="6477120" y="13716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6477120" y="13716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543800" y="1371600"/>
            <a:ext cx="380880" cy="360"/>
            <a:chOff x="7543800" y="1371600"/>
            <a:chExt cx="380880" cy="360"/>
          </a:xfrm>
        </p:grpSpPr>
        <p:sp>
          <p:nvSpPr>
            <p:cNvPr id="378" name="Line 11"/>
            <p:cNvSpPr/>
            <p:nvPr/>
          </p:nvSpPr>
          <p:spPr>
            <a:xfrm>
              <a:off x="7543800" y="1371600"/>
              <a:ext cx="38088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7543800" y="13716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33520" y="1905120"/>
            <a:ext cx="304560" cy="360"/>
            <a:chOff x="533520" y="1905120"/>
            <a:chExt cx="304560" cy="360"/>
          </a:xfrm>
        </p:grpSpPr>
        <p:sp>
          <p:nvSpPr>
            <p:cNvPr id="381" name="Line 12"/>
            <p:cNvSpPr/>
            <p:nvPr/>
          </p:nvSpPr>
          <p:spPr>
            <a:xfrm>
              <a:off x="533520" y="1905120"/>
              <a:ext cx="30456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533520" y="190512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219320" y="1905120"/>
            <a:ext cx="304560" cy="360"/>
            <a:chOff x="1219320" y="1905120"/>
            <a:chExt cx="304560" cy="360"/>
          </a:xfrm>
        </p:grpSpPr>
        <p:sp>
          <p:nvSpPr>
            <p:cNvPr id="384" name="Line 13"/>
            <p:cNvSpPr/>
            <p:nvPr/>
          </p:nvSpPr>
          <p:spPr>
            <a:xfrm>
              <a:off x="1219320" y="1905120"/>
              <a:ext cx="30456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219320" y="190512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209680" y="1905120"/>
            <a:ext cx="381240" cy="360"/>
            <a:chOff x="2209680" y="1905120"/>
            <a:chExt cx="381240" cy="360"/>
          </a:xfrm>
        </p:grpSpPr>
        <p:sp>
          <p:nvSpPr>
            <p:cNvPr id="387" name="Line 14"/>
            <p:cNvSpPr/>
            <p:nvPr/>
          </p:nvSpPr>
          <p:spPr>
            <a:xfrm>
              <a:off x="2209680" y="1905120"/>
              <a:ext cx="38124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2209680" y="1905120"/>
              <a:ext cx="381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19720" y="1905120"/>
            <a:ext cx="380880" cy="360"/>
            <a:chOff x="4419720" y="1905120"/>
            <a:chExt cx="380880" cy="360"/>
          </a:xfrm>
        </p:grpSpPr>
        <p:sp>
          <p:nvSpPr>
            <p:cNvPr id="390" name="Line 15"/>
            <p:cNvSpPr/>
            <p:nvPr/>
          </p:nvSpPr>
          <p:spPr>
            <a:xfrm>
              <a:off x="4419720" y="1905120"/>
              <a:ext cx="38088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4419720" y="19051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638680" y="1905120"/>
            <a:ext cx="533520" cy="360"/>
            <a:chOff x="5638680" y="1905120"/>
            <a:chExt cx="533520" cy="360"/>
          </a:xfrm>
        </p:grpSpPr>
        <p:sp>
          <p:nvSpPr>
            <p:cNvPr id="393" name="Line 16"/>
            <p:cNvSpPr/>
            <p:nvPr/>
          </p:nvSpPr>
          <p:spPr>
            <a:xfrm>
              <a:off x="5638680" y="190512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5638680" y="19051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553080" y="1905120"/>
            <a:ext cx="533520" cy="360"/>
            <a:chOff x="6553080" y="1905120"/>
            <a:chExt cx="533520" cy="360"/>
          </a:xfrm>
        </p:grpSpPr>
        <p:sp>
          <p:nvSpPr>
            <p:cNvPr id="396" name="Line 17"/>
            <p:cNvSpPr/>
            <p:nvPr/>
          </p:nvSpPr>
          <p:spPr>
            <a:xfrm>
              <a:off x="6553080" y="190512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6553080" y="19051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28600" y="2971800"/>
            <a:ext cx="380880" cy="360"/>
            <a:chOff x="228600" y="2971800"/>
            <a:chExt cx="380880" cy="360"/>
          </a:xfrm>
        </p:grpSpPr>
        <p:sp>
          <p:nvSpPr>
            <p:cNvPr id="399" name="Line 18"/>
            <p:cNvSpPr/>
            <p:nvPr/>
          </p:nvSpPr>
          <p:spPr>
            <a:xfrm>
              <a:off x="228600" y="2971800"/>
              <a:ext cx="38088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228600" y="29718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752480" y="2971800"/>
            <a:ext cx="304920" cy="360"/>
            <a:chOff x="1752480" y="2971800"/>
            <a:chExt cx="304920" cy="360"/>
          </a:xfrm>
        </p:grpSpPr>
        <p:sp>
          <p:nvSpPr>
            <p:cNvPr id="402" name="Line 19"/>
            <p:cNvSpPr/>
            <p:nvPr/>
          </p:nvSpPr>
          <p:spPr>
            <a:xfrm>
              <a:off x="1752480" y="2971800"/>
              <a:ext cx="30492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1752480" y="29718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438280" y="2971800"/>
            <a:ext cx="685800" cy="360"/>
            <a:chOff x="2438280" y="2971800"/>
            <a:chExt cx="685800" cy="360"/>
          </a:xfrm>
        </p:grpSpPr>
        <p:sp>
          <p:nvSpPr>
            <p:cNvPr id="405" name="Line 20"/>
            <p:cNvSpPr/>
            <p:nvPr/>
          </p:nvSpPr>
          <p:spPr>
            <a:xfrm>
              <a:off x="2438280" y="2971800"/>
              <a:ext cx="68580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2438280" y="29718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505320" y="2971800"/>
            <a:ext cx="457200" cy="360"/>
            <a:chOff x="3505320" y="2971800"/>
            <a:chExt cx="457200" cy="360"/>
          </a:xfrm>
        </p:grpSpPr>
        <p:sp>
          <p:nvSpPr>
            <p:cNvPr id="408" name="Line 21"/>
            <p:cNvSpPr/>
            <p:nvPr/>
          </p:nvSpPr>
          <p:spPr>
            <a:xfrm>
              <a:off x="3505320" y="29718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3505320" y="29718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267080" y="2971440"/>
            <a:ext cx="533520" cy="360"/>
            <a:chOff x="4267080" y="2971440"/>
            <a:chExt cx="533520" cy="360"/>
          </a:xfrm>
        </p:grpSpPr>
        <p:sp>
          <p:nvSpPr>
            <p:cNvPr id="411" name="Line 22"/>
            <p:cNvSpPr/>
            <p:nvPr/>
          </p:nvSpPr>
          <p:spPr>
            <a:xfrm>
              <a:off x="4267080" y="2971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 rot="10800000">
              <a:off x="4267080" y="297144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FABA-D7E8-4458-B789-9F8993372FD6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207648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nvzhenren"/>
          <p:cNvPicPr/>
          <p:nvPr/>
        </p:nvPicPr>
        <p:blipFill>
          <a:blip r:embed="rId1"/>
          <a:stretch/>
        </p:blipFill>
        <p:spPr>
          <a:xfrm>
            <a:off x="179280" y="333360"/>
            <a:ext cx="2952720" cy="579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草原猎狼"/>
          <p:cNvPicPr/>
          <p:nvPr/>
        </p:nvPicPr>
        <p:blipFill>
          <a:blip r:embed="rId2"/>
          <a:stretch/>
        </p:blipFill>
        <p:spPr>
          <a:xfrm>
            <a:off x="3298680" y="1628640"/>
            <a:ext cx="5845320" cy="43340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9" name="Rectangle 5"/>
          <p:cNvSpPr/>
          <p:nvPr/>
        </p:nvSpPr>
        <p:spPr>
          <a:xfrm>
            <a:off x="1835280" y="474480"/>
            <a:ext cx="86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方正粗圆简体"/>
              </a:rPr>
              <a:t>草原猎狼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871200" y="630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bf7ff"/>
                </a:solidFill>
                <a:latin typeface="Arial"/>
              </a:rPr>
              <a:t>女真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女真溯源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2139480"/>
            <a:ext cx="854064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黑水靺鞨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女真——满洲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225080" y="3290760"/>
            <a:ext cx="51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5900"/>
                </a:solidFill>
                <a:latin typeface="Times New Roman"/>
              </a:rPr>
              <a:t>（隋唐——北宋</a:t>
            </a:r>
            <a:r>
              <a:rPr b="1" lang="en-US" sz="4400" spc="-1" strike="noStrike">
                <a:solidFill>
                  <a:srgbClr val="dc59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dc5900"/>
                </a:solidFill>
                <a:latin typeface="Times New Roman"/>
              </a:rPr>
              <a:t>明清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50"/>
                            </p:stCondLst>
                            <p:childTnLst>
                              <p:par>
                                <p:cTn id="7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努尔哈赤即位"/>
          <p:cNvPicPr/>
          <p:nvPr/>
        </p:nvPicPr>
        <p:blipFill>
          <a:blip r:embed="rId1"/>
          <a:stretch/>
        </p:blipFill>
        <p:spPr>
          <a:xfrm>
            <a:off x="4800600" y="404640"/>
            <a:ext cx="4343400" cy="5940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0" y="378936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爱新觉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努尔哈赤统一了女真族，创建八旗制度；完成建国和迁都等大事。对满族初期的历史发展起着重要的作用，为清朝入关并统一全国奠定基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24000" y="765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1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努尔哈赤自立为汗，国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史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后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50920" y="2205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2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努尔哈赤迁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沈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后改称</a:t>
            </a:r>
            <a:r>
              <a:rPr b="1" lang="zh-CN" sz="2800" spc="-1" strike="noStrike">
                <a:solidFill>
                  <a:srgbClr val="dc5900"/>
                </a:solidFill>
                <a:latin typeface="黑体"/>
                <a:ea typeface="黑体"/>
              </a:rPr>
              <a:t>盛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722160" y="522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努尔哈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4319640" y="692280"/>
            <a:ext cx="4824360" cy="2377800"/>
          </a:xfrm>
          <a:prstGeom prst="cloudCallout">
            <a:avLst>
              <a:gd name="adj1" fmla="val -65171"/>
              <a:gd name="adj2" fmla="val 89652"/>
            </a:avLst>
          </a:prstGeom>
          <a:solidFill>
            <a:srgbClr val="ff0066">
              <a:alpha val="50000"/>
            </a:srgbClr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思考：努尔哈赤的功绩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203640" y="4365720"/>
            <a:ext cx="388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1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、</a:t>
            </a:r>
            <a:r>
              <a:rPr b="0" lang="en-US" sz="3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1616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年，建</a:t>
            </a:r>
            <a:r>
              <a:rPr b="0" lang="zh-CN" sz="3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后金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348000" y="4941720"/>
            <a:ext cx="54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2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、反明，夺取辽东</a:t>
            </a:r>
            <a:r>
              <a:rPr b="0" lang="en-US" sz="3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70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多城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684400" y="5589720"/>
            <a:ext cx="90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3</a:t>
            </a:r>
            <a:r>
              <a:rPr b="0" lang="zh-CN" sz="34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、迁都沈阳，后改称盛京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Picture 7" descr="努尔哈赤"/>
          <p:cNvPicPr/>
          <p:nvPr/>
        </p:nvPicPr>
        <p:blipFill>
          <a:blip r:embed="rId1"/>
          <a:stretch/>
        </p:blipFill>
        <p:spPr>
          <a:xfrm>
            <a:off x="0" y="836640"/>
            <a:ext cx="3097080" cy="4365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54" name="Rectangle 8"/>
          <p:cNvSpPr/>
          <p:nvPr/>
        </p:nvSpPr>
        <p:spPr>
          <a:xfrm>
            <a:off x="0" y="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清朝的建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正黄旗"/>
          <p:cNvPicPr/>
          <p:nvPr/>
        </p:nvPicPr>
        <p:blipFill>
          <a:blip r:embed="rId1"/>
          <a:stretch/>
        </p:blipFill>
        <p:spPr>
          <a:xfrm>
            <a:off x="685800" y="380880"/>
            <a:ext cx="3352680" cy="2475000"/>
          </a:xfrm>
          <a:prstGeom prst="rect">
            <a:avLst/>
          </a:prstGeom>
          <a:ln w="19080">
            <a:solidFill>
              <a:srgbClr val="007a77"/>
            </a:solidFill>
            <a:miter/>
          </a:ln>
        </p:spPr>
      </p:pic>
      <p:sp>
        <p:nvSpPr>
          <p:cNvPr id="156" name="Text Box 3"/>
          <p:cNvSpPr/>
          <p:nvPr/>
        </p:nvSpPr>
        <p:spPr>
          <a:xfrm>
            <a:off x="18288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正黄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Picture 4" descr="正白旗"/>
          <p:cNvPicPr/>
          <p:nvPr/>
        </p:nvPicPr>
        <p:blipFill>
          <a:blip r:embed="rId2"/>
          <a:stretch/>
        </p:blipFill>
        <p:spPr>
          <a:xfrm>
            <a:off x="5181480" y="380880"/>
            <a:ext cx="3276720" cy="2514600"/>
          </a:xfrm>
          <a:prstGeom prst="rect">
            <a:avLst/>
          </a:prstGeom>
          <a:ln w="19080">
            <a:solidFill>
              <a:srgbClr val="007a77"/>
            </a:solidFill>
            <a:miter/>
          </a:ln>
        </p:spPr>
      </p:pic>
      <p:sp>
        <p:nvSpPr>
          <p:cNvPr id="158" name="Text Box 5"/>
          <p:cNvSpPr/>
          <p:nvPr/>
        </p:nvSpPr>
        <p:spPr>
          <a:xfrm>
            <a:off x="6095880" y="2971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正白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Picture 6" descr="正蓝旗"/>
          <p:cNvPicPr/>
          <p:nvPr/>
        </p:nvPicPr>
        <p:blipFill>
          <a:blip r:embed="rId3"/>
          <a:stretch/>
        </p:blipFill>
        <p:spPr>
          <a:xfrm>
            <a:off x="755640" y="3573360"/>
            <a:ext cx="3352680" cy="2468520"/>
          </a:xfrm>
          <a:prstGeom prst="rect">
            <a:avLst/>
          </a:prstGeom>
          <a:ln w="19080">
            <a:solidFill>
              <a:srgbClr val="007a77"/>
            </a:solidFill>
            <a:miter/>
          </a:ln>
        </p:spPr>
      </p:pic>
      <p:sp>
        <p:nvSpPr>
          <p:cNvPr id="160" name="Text Box 7"/>
          <p:cNvSpPr/>
          <p:nvPr/>
        </p:nvSpPr>
        <p:spPr>
          <a:xfrm>
            <a:off x="1905120" y="6095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正蓝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1" name="Picture 8" descr="正红旗"/>
          <p:cNvPicPr/>
          <p:nvPr/>
        </p:nvPicPr>
        <p:blipFill>
          <a:blip r:embed="rId4"/>
          <a:stretch/>
        </p:blipFill>
        <p:spPr>
          <a:xfrm>
            <a:off x="5257800" y="3581280"/>
            <a:ext cx="3200400" cy="2421000"/>
          </a:xfrm>
          <a:prstGeom prst="rect">
            <a:avLst/>
          </a:prstGeom>
          <a:ln w="19080">
            <a:solidFill>
              <a:srgbClr val="007a77"/>
            </a:solidFill>
            <a:miter/>
          </a:ln>
        </p:spPr>
      </p:pic>
      <p:sp>
        <p:nvSpPr>
          <p:cNvPr id="162" name="Text Box 9"/>
          <p:cNvSpPr/>
          <p:nvPr/>
        </p:nvSpPr>
        <p:spPr>
          <a:xfrm>
            <a:off x="624852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正红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8:35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52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