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D8D-5600-45AA-B7C5-7370FB61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FEC-DDE3-4940-B789-F1D531C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E7607-A891-4FF9-BCCD-FCFF2FB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B7C6B-8DD5-496A-94C9-CA31ADC5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644B6-B125-42B0-B362-0937DE3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A38D-CAF1-4574-B543-FFDD50A2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500B-D9A4-4373-8A9B-BE456CB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4E067-E219-4614-ADE2-9B1BB55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B4020-DDAC-411B-96C2-046558F9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CA8D8-54C1-4975-B9C5-4137F13B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06C06-52C0-4528-AA77-17BB7056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FC53B-3870-40D8-9B5E-987FCB4B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B98-EABF-4058-86DA-ACC35BF6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0CE2B-9479-46F2-8F83-B6275E2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36A33-6524-47D8-B589-63ABC2D4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D2583-DF7C-49D0-86FB-79BEB06E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18BCE-0BA5-4652-A283-F251B19B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B93D-6DAC-4ABB-9734-274366CD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E3F67-700F-4273-85B6-3CE35DE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03159-EA1E-4278-BAF9-4FBBBD7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3D217-8E57-42EC-9A29-B13E492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9D982-F6E6-400C-A4F3-D37213D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2FF48-8B44-4854-A273-014FD30B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015-8ABB-48BD-8AC3-7ADF98FC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56C05-113B-4C95-93E4-70C3FD4D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2F327-AE38-43F7-8E57-925A968A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F633-A12D-43FB-B9D5-FFE1308B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759A2-1166-4644-8066-FF270F8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CD15-ABDB-4EFE-B57E-4D8EBE58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AE4CD-AF67-46C2-8BAE-845F7083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03EA2-F463-4F31-AE27-D7793157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34B98-9FAA-4348-B6C6-5A81250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A1118-79DF-40A5-AFFD-ED6551A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F896-F5DC-42A9-96C9-548D0670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E00-6720-46CB-BD50-6F93A55D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426F-CC0C-40FC-A2B3-2330F652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50BBB-6759-4A9E-B2E6-16DCA2D7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4E5C1-26A0-4D98-9F30-02F62CAD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E7101-16A3-49C6-B2CB-680F6E90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80317-60BD-44ED-82A9-AAF8EAAF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E68BA-C2A9-4D6F-9A5F-AC97B46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77711-7F15-4436-891A-2FB49A3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FC04F-EDC8-4866-ACAC-786BB532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599D1-73F9-4128-80CD-702FE087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D03D8-5A9F-4A9B-9AFD-2F16012C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434-371A-4B9A-9CBF-36527A12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9B52-0FD1-4BB0-9A4A-8C5B3CE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B9903-2CE8-437C-BA54-79D8686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B517F-5832-4180-9E05-9A5D5246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E0639-5110-4617-9992-3B1F58AA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E8C2A-23CA-4ABC-97E3-875F9BC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C3512-AC93-48DC-A1BE-5BA933F7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1B4BD-B1AA-4981-92E6-BB91F16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3DABC-7553-414A-8B11-83CEF923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F7B31-48D8-42E0-B20A-650FA92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90638-0744-4BEA-9FFE-2DCBCC2B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096-81A5-4CBB-BB20-86D8A5E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B83B5-0319-48C3-9A7E-D4D5C3A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2CCA6-6B42-476C-A3B5-A204E8D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10E88-2052-43EF-AF1C-B2922124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EA7FA-781F-428B-A9EE-8B59678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55B3F-93FE-4AA1-BFD7-89ECF07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398E0-1E82-438E-B4F5-7444E336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B0C99-D6A5-4D07-BE57-EE91D6FF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8AF8C-7083-4E82-BDC3-2AEBCCB8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893C5-7B71-4A9C-9237-EC9A401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0D4DD-0C4B-47A5-801B-87DD6680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1FB2-DF32-4345-BA76-1A62F02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B6EB2-A691-4CBC-89EE-F3B80351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590D1-1C20-4726-B17A-25E327D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A685C-8D74-4B3D-9437-CD4AAD74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D3061-33B9-4C86-8F03-99F2A66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C9BEF-0412-4F0D-866B-FE44FB1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BF0B7-2606-4FD8-AA45-B662CED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AA5F0-C0BD-4EE1-B5AA-4C9D3E6D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B354A-00C3-4049-BDDF-946A97F0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EC26B-26A3-4962-A675-5FBA39AD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8215A-18B6-4469-B1FE-F0B71986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F9B9-FA8D-4F15-945F-E223D0EB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C404A-B38F-4131-B8A8-661058DC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51A73-4BE0-4FC2-9D7A-52C594E2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1BF9E-B8F6-491C-8995-0E2A832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15FD4-6E26-44A5-A3BF-99AC10D5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3BE67-F984-4854-A93D-CA3924E4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93B6B-9BAD-4682-8D32-432B14F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56CFB-03AD-44F0-BDE3-7D177AB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A5B3A-3A18-4795-AFE2-404A888F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49348-4A47-40D6-9FC4-30144CB5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AF38A-172A-41CE-9F9C-5FB1F81E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284-5714-4BB9-83D3-A708A137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8F847-2DBF-43CB-8D0C-6AC80D99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2D8F0-B920-4464-85A5-9E8BFA3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3B2A3-4ABC-441E-9E8D-071BA150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026CA-34B4-45EF-A4E1-25684AD3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0D10A-B9F0-4DCD-8726-E7FF25BA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0CDA1-913C-430B-AADB-00651D35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4656A-2F85-4D64-AD2F-B9BD92BC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F60E5-A02F-4821-87EE-624F207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1173C-9A1C-417C-A03D-FFDB4AC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6D2CA-A2C3-4128-ACC5-E8E2F9B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3532-E5DF-4C9C-BB81-07DAF9A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136D1-D5C0-4226-A22E-145BA5C5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EC410-16A5-4DCA-9934-CEB0D5F2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38984-CE09-4DEA-BB16-EFC3E700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EE6FB-6C7D-4B39-986B-56301698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0BFC7-7DAF-4A04-8636-D57C3E20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4F7D9-01C4-428D-8482-0408AD2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3F940-1F2A-419B-B9D2-6EB2969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6280F-3539-4BC9-9A85-6012980E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67F6F-CDDD-442F-918F-0CEE8B2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49EF0-21E8-49F4-B5D3-F0DB4A46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1A7-7322-449D-84FB-C1E1F524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2428-33D9-4748-927E-561CE40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CE11B9-28BD-4389-9BDE-B952A01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AE55D-FD00-442F-BE32-8D83A55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E9576-99BD-49FB-B5A2-13BBF65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8E626-E4C9-465F-BD63-BFA74D39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9B095-4F2B-4788-8BE0-3023B7FC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257FA-A5C7-4A6C-B18E-B845DC65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A28AE-6D8F-4020-A1F0-060285E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61A3E-7C5D-4D74-AC20-6B49AB3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9CA03-6EC5-4EB9-8BBE-617C6D34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2D3AC-9608-47F0-A2E4-FDFA69C5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CEA-62D8-41A6-B8F4-317C869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36150-D469-49F3-9892-B7784FB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7B70B-D987-4B59-A6F0-999590D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A9FC0-5A75-42BD-B160-1616676E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0432B-8547-4124-AEF4-AA2D7CF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9C3E6-2635-4A53-9A26-7115629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3358C-DF75-493E-9056-E0EA1AEB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E52D0-087C-4D3E-9171-A6933C43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E3E01-8584-443F-BF73-2179DAD3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9D5C0-CC51-4EBC-A3E3-4C9A308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D3BEC-1B50-4066-918A-115967C1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4F6-A961-4CD4-B985-501E1AB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3A6FF-3A81-4B20-B65B-189436B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553A4-5D39-4C0E-92C2-603B158A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7EE71-1C0C-4404-BCDC-194D4ED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D2F0B-2A33-4DA2-BD11-CFCD8D6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051D6-0B18-4CFA-8586-A215043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2A563-3674-4804-90E1-2216030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59EFB-7B52-41A2-9C4C-CE0C547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F3B68-C59F-4ACB-9BC2-A5C9E580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045D2-427A-4026-A277-68DFD606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49F69-D806-4DFE-95FD-DB25C6D6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1D4E-9479-40B9-98C9-34D7FE5C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9353B-B1DF-4EC4-9B25-DF24987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09DEA-8932-4AD5-8818-51472A91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FC748-427C-4709-BEFC-36E5679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345BD7-674F-4F0D-B451-68C3798C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61272-D9F6-4714-AACA-7C1F18B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F669F-B6D4-49E0-9FF6-8634C37D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631BB-5FC5-445B-B1FB-D1DB9DD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9CA2C-8354-4A8D-8F1B-D7BDB90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EEF3B-B38C-4172-A1B1-7AC5EBA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4EF0C-EF57-47CA-B16E-3BA69198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0A32-17F9-47BF-8E38-5449566F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4204F-3401-4639-A670-E4679D4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4A9BD-10F1-4103-A6C6-F5B9DF80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C23EFB-300F-4863-BD88-AF059F9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BDA5D-3B86-4959-91E2-D45965A5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F1D39-AA6F-4ADB-A2E6-F0200D28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1D402-54BF-431C-A662-D4E3DB7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2A814-B7C5-425E-BE5C-F402ABD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1E3A8-2065-4AF1-BF9C-0059DD1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3B78E-1FBA-454F-9009-1852DD8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B4BDB-2E4A-4C13-8915-E9D9F2B1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B6C3-E4FE-4647-8214-D24B489C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3AE19-3221-4665-A9B6-F673A05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E6670-012F-4EA8-98E6-F427331D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6BDA8-9876-4079-8EB1-FC17C8CD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BC2FA4-ADA8-42CB-B15A-BBA3D3E5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3D8E1B-E8DC-407E-B2B3-C4BC6E5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39554-FF05-4570-A7C7-D3AF7029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7E243-ADCB-4C9A-86DC-CC472F6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88ED2-F47C-43CD-8C08-F44DE762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B6701-7AB3-4B1A-BF62-55C22C64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22D69-F334-4B4D-A10D-5F667BC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432D-E06C-4FCE-BD3A-2CEE73A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CFEE2-7F80-4DC9-9879-0D81FE6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F162F-2A75-4ADD-AED9-0AB366E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4FAE0-8819-435B-AC94-2FA59386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5419A-3991-4747-A680-7A5D5DDA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902F8A-4EF0-4B5D-B0F0-9D12015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9BCF3-DAF6-4DB9-B30D-BBDFFF17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7DE317-033C-4567-9EE8-FA781E2D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D22870-F89D-4773-B1C4-24B3E86E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9A9BE2-EF1C-422D-8A76-E310B90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6B6A3-FC9E-4925-A537-CB84FD03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78FF-E100-455E-A8B0-573F1C0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655C4-1067-4CF8-8C74-2DC6FE91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32728-91C3-44EC-AFF3-492A42F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635AD-D4FF-44BA-94EB-A97335D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029CF-802C-4A4F-BF1E-4B67FB9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05FAE-D103-4661-A2BD-1E9B6DF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FB5BE9-ECDE-4A31-8CCF-99E6D539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F10FEA-BE21-48C8-B548-39382FD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5BE5AF-E372-407C-A456-A8F40A8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D8B5E2-58F5-4183-A23C-0C817C1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DAEAC-08AE-454A-A5B4-96F16D6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A89F-80CC-4CAB-9D1F-29D00D08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235399-09C8-4F1C-94A5-B0778B4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86724D-FCD8-4531-9DA8-C604338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5AEC3-ECBD-4032-A462-F1911446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180722-95F1-4926-B28E-F912A09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B649F6-BA54-44EB-8DD6-578999DE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BFB338-012D-4B95-9A43-3209EF8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B45818-2BC3-462B-A3D6-75E2248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784B85-CA14-4814-B54F-1A07DE7B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209E6-8926-415D-B886-306D1645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C25AE7-4853-4AF2-8F29-82C3909A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4421-970D-424B-8622-B0C344B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7978F-3825-4AD1-9167-389CC11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65AD56-9317-457A-BA5A-46AC3F2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02999D-B58B-4642-8D08-A9713074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57B736-7C4B-4187-B52D-48B19DE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331B2E-619B-4FD1-984E-A3FC3BD8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3A1C36-1CC0-4ABB-A38D-011F300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DEA74-765C-4A01-93D8-829B922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7437D-A00E-4803-9206-EE798E9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8CCB2-EE19-4079-BAFC-1D0B3A5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99B221-C2C5-4559-8D93-FA7A7977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073-4D66-4CA9-9944-ED1A826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7EDB-3590-4A65-9837-A330919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5028A-738E-4604-B894-C194C821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F4F6-21C8-43C4-B60B-42A0A2F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AD30-3741-4A0E-8843-68B43CBD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E42F-A06A-4618-9F3D-A57B654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8B92-1F74-4E22-AD8C-C3849B3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15E0-B6B7-413F-8CE2-264CCEC3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D3DF-B2F9-45DF-872D-5E38E091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5135-D618-4CD1-8F9A-128E8215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51B2-8CD4-4624-9EF0-DE387DF2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2C99-71F9-4DC7-B8CA-F071CD5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5B5-3C74-4AE2-B9B4-01BEFA7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0D25-9B14-4989-BF72-4BEFA1E7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E1AF-8420-4D1B-ACB9-EEA3032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1E34-A036-48A0-BD20-C3892E2B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50D5-DC3A-4BE6-967D-E05D8EA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CE5D-169D-449A-87B5-057280EC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4074-D267-4A35-BC6C-21E984B7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BAC5-D48A-4D5B-82EB-3A2CCED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EBC6-44DE-49C4-8147-91A55894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B9CC-C804-41A6-A477-DC69F1A1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F18A9-A3FF-43D3-880B-99B7B9A2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F39-2BF0-46A5-9DD0-860FB27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8E9D-95FD-4D6C-999E-E424F35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0BBC-A6EF-43BB-9B35-8A10017E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E651-DE7A-4943-B79E-721D967D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4543-979B-4887-ADF6-DF147B8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03FB6-86B3-4525-9818-46BF9F76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06A2-55BF-4D4D-9BD7-C4ECA1B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06F19-0EC6-4CB4-9EAF-094F740E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29A5-45B8-48A6-AFD7-63556BA6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586C-614B-46C3-B974-88C900B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2A71-A1B7-4355-9984-7690FFB6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74E-2554-4FF5-8D9C-61ABC283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67E7-68B6-4704-906A-41D221AF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9DCE-A1EC-437A-8C00-EA1D3E00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7DDF-33E3-4862-BE79-DA8D91C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577C-6757-4187-9059-E3F2E38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AEE1-349B-438D-AA85-2C461BA6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A128-E56D-4A72-8D11-A9FD9E8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16C5-D227-45BF-BDCC-50C97DD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91A3-F95F-4E76-B399-84BCAD33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9D212-59EE-4669-BD80-D060BED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7538-4BE1-45C1-956A-34DC9FF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DA6-2D2E-447B-831C-79A17F1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94E8-D0A8-4DB0-B0C3-4DC4E8E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646ED-BA54-405B-927D-BC8E85F9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D4A8-398F-45B8-BFA5-7006D11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ADE7-5188-4E98-BE32-67D1A32F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93634-A725-4902-8BF0-00ED6A1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B18C-D54A-4BF6-9548-AC6EE805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38F2-5CCF-4E8D-B166-EE4EC752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84742-1475-4C77-AFDC-8481A8B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46EC-679B-483E-BA1C-56D1D98E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4A41-7945-4B4F-A912-F534295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5F6-BE0C-4933-8E1C-632B28B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32A1-0A2A-4074-940B-726A998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840E-DA65-45E5-9E54-F41CA9D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FAB1-A5D8-4E4E-8379-3491CBA0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E7705-C646-4083-8B57-4557C653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D662-AF19-4A8A-AE63-85915678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8EA94-36B7-443E-A898-F6D32E4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D8B4-E3EB-452C-A2E2-4048CCB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AE07-EF46-4807-B226-EB2D7A0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67D0-5C7D-41A4-8FF6-95B9D1B8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8366-6CC3-4C5E-BCDD-CE965CD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2CF-EB02-4A16-A6E1-931E670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54A5-6BD4-4C7F-8287-C215E005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6F62-EB5F-462F-A879-E9D3B67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7A149-D53C-415E-9355-AB21D53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5F4EE-DC92-4AE0-9FBF-87817038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A1A39-9F93-4CEB-A560-58D6BA75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79B4A-8BB1-4486-A0CE-E61FCEBD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1E44-FEDE-484D-BEB9-752C7B33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CF658-4435-4722-A942-44229D6C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20584-E79B-41CB-8307-0862A530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E9F4B-3873-41B7-9F3F-9A57F871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1381-F677-4451-B2CA-06430676D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3156-EB70-4A1F-B8B4-181A591C1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B09-8011-4441-B4F3-250DCFDC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2AA-3AEB-4F50-A5E8-AB232A5C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38B-8F5D-4C72-B15C-71E848221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E32-22F5-451B-9CB2-6B14F824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3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3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658" name="Line 28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661" name="Line 29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664" name="Line 30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1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668" name="Line 32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671" name="Line 33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674" name="Line 34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677" name="Line 35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680" name="Line 36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683" name="Line 37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686" name="Line 38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BC5-259B-42D9-B550-D66B50A87C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BEE3-AA47-4FF9-8C88-AE06526B3C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1861-4D07-4C0D-950A-9887F27C99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D33E-6665-438F-863B-BAD5C77C93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9BFF-590F-4127-A150-830BCCEA37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0" y="4363920"/>
              <a:ext cx="9141120" cy="360"/>
              <a:chOff x="1440" y="4363920"/>
              <a:chExt cx="9141120" cy="360"/>
            </a:xfrm>
          </p:grpSpPr>
          <p:sp>
            <p:nvSpPr>
              <p:cNvPr id="68" name="Line 28"/>
              <p:cNvSpPr/>
              <p:nvPr/>
            </p:nvSpPr>
            <p:spPr>
              <a:xfrm>
                <a:off x="1440" y="43639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1440" y="436392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40" y="3740040"/>
              <a:ext cx="9141120" cy="360"/>
              <a:chOff x="1440" y="3740040"/>
              <a:chExt cx="9141120" cy="360"/>
            </a:xfrm>
          </p:grpSpPr>
          <p:sp>
            <p:nvSpPr>
              <p:cNvPr id="71" name="Line 29"/>
              <p:cNvSpPr/>
              <p:nvPr/>
            </p:nvSpPr>
            <p:spPr>
              <a:xfrm>
                <a:off x="1440" y="37400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1440" y="374004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440" y="4987800"/>
              <a:ext cx="9141120" cy="360"/>
              <a:chOff x="1440" y="4987800"/>
              <a:chExt cx="9141120" cy="360"/>
            </a:xfrm>
          </p:grpSpPr>
          <p:sp>
            <p:nvSpPr>
              <p:cNvPr id="74" name="Line 30"/>
              <p:cNvSpPr/>
              <p:nvPr/>
            </p:nvSpPr>
            <p:spPr>
              <a:xfrm>
                <a:off x="1440" y="49878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1440" y="498780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1440" y="622440"/>
              <a:ext cx="9141120" cy="2494080"/>
              <a:chOff x="1440" y="622440"/>
              <a:chExt cx="9141120" cy="2494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440" y="1244520"/>
                <a:ext cx="9141120" cy="360"/>
                <a:chOff x="1440" y="1244520"/>
                <a:chExt cx="9141120" cy="360"/>
              </a:xfrm>
            </p:grpSpPr>
            <p:sp>
              <p:nvSpPr>
                <p:cNvPr id="78" name="Line 32"/>
                <p:cNvSpPr/>
                <p:nvPr/>
              </p:nvSpPr>
              <p:spPr>
                <a:xfrm>
                  <a:off x="1440" y="124452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1440" y="124452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40" y="3116160"/>
                <a:ext cx="9141120" cy="360"/>
                <a:chOff x="1440" y="3116160"/>
                <a:chExt cx="9141120" cy="360"/>
              </a:xfrm>
            </p:grpSpPr>
            <p:sp>
              <p:nvSpPr>
                <p:cNvPr id="81" name="Line 33"/>
                <p:cNvSpPr/>
                <p:nvPr/>
              </p:nvSpPr>
              <p:spPr>
                <a:xfrm>
                  <a:off x="1440" y="311616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1440" y="311616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440" y="2492280"/>
                <a:ext cx="9141120" cy="360"/>
                <a:chOff x="1440" y="2492280"/>
                <a:chExt cx="9141120" cy="360"/>
              </a:xfrm>
            </p:grpSpPr>
            <p:sp>
              <p:nvSpPr>
                <p:cNvPr id="84" name="Line 34"/>
                <p:cNvSpPr/>
                <p:nvPr/>
              </p:nvSpPr>
              <p:spPr>
                <a:xfrm>
                  <a:off x="1440" y="249228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1440" y="249228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440" y="1868400"/>
                <a:ext cx="9141120" cy="360"/>
                <a:chOff x="1440" y="1868400"/>
                <a:chExt cx="9141120" cy="360"/>
              </a:xfrm>
            </p:grpSpPr>
            <p:sp>
              <p:nvSpPr>
                <p:cNvPr id="87" name="Line 35"/>
                <p:cNvSpPr/>
                <p:nvPr/>
              </p:nvSpPr>
              <p:spPr>
                <a:xfrm>
                  <a:off x="1440" y="186840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1440" y="186840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40" y="622440"/>
                <a:ext cx="9141120" cy="360"/>
                <a:chOff x="1440" y="622440"/>
                <a:chExt cx="9141120" cy="360"/>
              </a:xfrm>
            </p:grpSpPr>
            <p:sp>
              <p:nvSpPr>
                <p:cNvPr id="90" name="Line 36"/>
                <p:cNvSpPr/>
                <p:nvPr/>
              </p:nvSpPr>
              <p:spPr>
                <a:xfrm>
                  <a:off x="1440" y="62244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1440" y="62244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1440" y="6235560"/>
              <a:ext cx="9141120" cy="360"/>
              <a:chOff x="1440" y="6235560"/>
              <a:chExt cx="9141120" cy="360"/>
            </a:xfrm>
          </p:grpSpPr>
          <p:sp>
            <p:nvSpPr>
              <p:cNvPr id="93" name="Line 37"/>
              <p:cNvSpPr/>
              <p:nvPr/>
            </p:nvSpPr>
            <p:spPr>
              <a:xfrm>
                <a:off x="1440" y="62355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440" y="623556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440" y="5611680"/>
              <a:ext cx="9141120" cy="360"/>
              <a:chOff x="1440" y="5611680"/>
              <a:chExt cx="9141120" cy="360"/>
            </a:xfrm>
          </p:grpSpPr>
          <p:sp>
            <p:nvSpPr>
              <p:cNvPr id="96" name="Line 38"/>
              <p:cNvSpPr/>
              <p:nvPr/>
            </p:nvSpPr>
            <p:spPr>
              <a:xfrm>
                <a:off x="1440" y="56116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440" y="561168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3DA-42BB-4304-B18B-28824E0A01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45D-5BCE-4EDB-9A52-302D134CF9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B016-6E47-4157-8734-67F16FD500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4C30-7ABD-4A15-8F4B-DEF9D7BB26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F17-CC0F-46BD-ACC6-4F6461B476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31A-8A73-4ECA-B2C5-02B04488FA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AF34-2A48-4206-94C4-C9FC2F150C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A0C8-A5F8-4234-A1E5-C6DD5EA1E6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3B9-F658-46F9-B4BA-519CD96E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16C-0F55-45B7-867A-4AC54B1C8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1D2-6E14-4A3A-9D63-E3487E9A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D261-FE29-4587-BBBA-3624ED1F6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F209-51AC-4721-80F7-69A7AE768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61B-0474-46BB-874A-C1F05512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pic_12069"/>
          <p:cNvPicPr/>
          <p:nvPr/>
        </p:nvPicPr>
        <p:blipFill>
          <a:blip r:embed="rId1"/>
          <a:srcRect l="6458" t="0" r="9167" b="4995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7"/>
          <p:cNvSpPr/>
          <p:nvPr/>
        </p:nvSpPr>
        <p:spPr>
          <a:xfrm>
            <a:off x="7399800" y="3933720"/>
            <a:ext cx="127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 嗣 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口技.mp3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1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文本框 1" descr=""/>
          <p:cNvPicPr/>
          <p:nvPr/>
        </p:nvPicPr>
        <p:blipFill>
          <a:blip r:embed="rId3"/>
          <a:stretch/>
        </p:blipFill>
        <p:spPr>
          <a:xfrm>
            <a:off x="755640" y="1123920"/>
            <a:ext cx="71010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239" fill="hold"/>
                                        <p:tgtEl>
                                          <p:spTgt spid="1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8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一时齐发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  <a:ea typeface="宋体"/>
              </a:rPr>
              <a:t>咳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以响衬静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  <a:ea typeface="宋体"/>
              </a:rPr>
              <a:t>无所不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2"/>
          <p:cNvSpPr/>
          <p:nvPr/>
        </p:nvSpPr>
        <p:spPr>
          <a:xfrm>
            <a:off x="2484360" y="0"/>
            <a:ext cx="3384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课后练习二</a:t>
            </a: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3"/>
          <p:cNvSpPr/>
          <p:nvPr/>
        </p:nvSpPr>
        <p:spPr>
          <a:xfrm>
            <a:off x="179280" y="76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对听众反应的描述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4026240" y="1484280"/>
            <a:ext cx="3546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从侧面突出表演的效果，烘托出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5"/>
          <p:cNvSpPr/>
          <p:nvPr/>
        </p:nvSpPr>
        <p:spPr>
          <a:xfrm>
            <a:off x="179280" y="20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文中前后两次清楚地交代了极简单的道具，这对文章的结构和表现口技表演者的技艺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6"/>
          <p:cNvSpPr/>
          <p:nvPr/>
        </p:nvSpPr>
        <p:spPr>
          <a:xfrm>
            <a:off x="179280" y="3573360"/>
            <a:ext cx="24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结构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表现效果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7"/>
          <p:cNvSpPr/>
          <p:nvPr/>
        </p:nvSpPr>
        <p:spPr>
          <a:xfrm>
            <a:off x="1979640" y="3573360"/>
            <a:ext cx="5183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首尾呼应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8"/>
          <p:cNvSpPr/>
          <p:nvPr/>
        </p:nvSpPr>
        <p:spPr>
          <a:xfrm>
            <a:off x="2268360" y="422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开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为后文表演复杂的声响做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205092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结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证明、强调刚才的一切声响都是从一张嘴中发出的，从而更突出表演技艺的高超，也有烘托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0"/>
          <p:cNvSpPr/>
          <p:nvPr/>
        </p:nvSpPr>
        <p:spPr>
          <a:xfrm>
            <a:off x="8099280" y="2421000"/>
            <a:ext cx="57636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数字用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11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8200"/>
          <p:cNvSpPr/>
          <p:nvPr/>
        </p:nvSpPr>
        <p:spPr>
          <a:xfrm>
            <a:off x="1908000" y="299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3"/>
          <p:cNvSpPr/>
          <p:nvPr/>
        </p:nvSpPr>
        <p:spPr>
          <a:xfrm>
            <a:off x="1619280" y="1557360"/>
            <a:ext cx="6408720" cy="136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最精彩的口技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4283640" y="3092040"/>
            <a:ext cx="1094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  <a:ea typeface="宋体"/>
              </a:rPr>
              <a:t>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"/>
          <p:cNvSpPr/>
          <p:nvPr/>
        </p:nvSpPr>
        <p:spPr>
          <a:xfrm>
            <a:off x="-36360" y="4005360"/>
            <a:ext cx="252072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少的道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2638800" y="4043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7"/>
          <p:cNvSpPr/>
          <p:nvPr/>
        </p:nvSpPr>
        <p:spPr>
          <a:xfrm>
            <a:off x="3203640" y="4005360"/>
            <a:ext cx="266364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复杂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8"/>
          <p:cNvSpPr/>
          <p:nvPr/>
        </p:nvSpPr>
        <p:spPr>
          <a:xfrm>
            <a:off x="6443640" y="4005360"/>
            <a:ext cx="2700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最热烈的观众反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587880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FBD4-83D5-44DA-990F-78808B8695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"/>
          <p:cNvSpPr/>
          <p:nvPr/>
        </p:nvSpPr>
        <p:spPr>
          <a:xfrm>
            <a:off x="684360" y="251280"/>
            <a:ext cx="7775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新魏"/>
              </a:rPr>
              <a:t>表时间性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掌握它们的不同用法（ 练习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同时 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突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两事相继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在特定的某个时间内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、在很短时间内发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3708360" y="1773360"/>
            <a:ext cx="89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一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3924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忽，忽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4395240" y="3706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"/>
          <p:cNvSpPr/>
          <p:nvPr/>
        </p:nvSpPr>
        <p:spPr>
          <a:xfrm>
            <a:off x="641124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是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7"/>
          <p:cNvSpPr/>
          <p:nvPr/>
        </p:nvSpPr>
        <p:spPr>
          <a:xfrm>
            <a:off x="5364000" y="566100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少顷、俄而、未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"/>
          <p:cNvSpPr/>
          <p:nvPr/>
        </p:nvSpPr>
        <p:spPr>
          <a:xfrm>
            <a:off x="324000" y="48492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标上注音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顷（           ）           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呓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语（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）            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叱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大儿声（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齁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声起（         ）     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舒 （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  ）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 ）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（      ）声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  <a:ea typeface="宋体"/>
              </a:rPr>
              <a:t>欲先走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1904760" y="148104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5899680" y="1484280"/>
            <a:ext cx="7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è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2186640" y="2421000"/>
            <a:ext cx="5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7134480" y="24890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7"/>
          <p:cNvSpPr/>
          <p:nvPr/>
        </p:nvSpPr>
        <p:spPr>
          <a:xfrm>
            <a:off x="2703600" y="342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8"/>
          <p:cNvSpPr/>
          <p:nvPr/>
        </p:nvSpPr>
        <p:spPr>
          <a:xfrm>
            <a:off x="6176520" y="34290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9"/>
          <p:cNvSpPr/>
          <p:nvPr/>
        </p:nvSpPr>
        <p:spPr>
          <a:xfrm>
            <a:off x="5383080" y="436248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1852920" y="5370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1"/>
          <p:cNvSpPr/>
          <p:nvPr/>
        </p:nvSpPr>
        <p:spPr>
          <a:xfrm>
            <a:off x="1916280" y="436572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i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à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6892560" y="53704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"/>
          <p:cNvSpPr/>
          <p:nvPr/>
        </p:nvSpPr>
        <p:spPr>
          <a:xfrm>
            <a:off x="273600" y="177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"/>
          <p:cNvSpPr/>
          <p:nvPr/>
        </p:nvSpPr>
        <p:spPr>
          <a:xfrm>
            <a:off x="826920" y="1785960"/>
            <a:ext cx="49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同</a:t>
            </a:r>
            <a:r>
              <a:rPr b="1" lang="zh-CN" sz="3200" spc="-1" strike="noStrike">
                <a:solidFill>
                  <a:srgbClr val="ffffcc"/>
                </a:solidFill>
                <a:latin typeface="Verdana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座</a:t>
            </a:r>
            <a:r>
              <a:rPr b="1" lang="zh-CN" sz="3200" spc="-1" strike="noStrike">
                <a:solidFill>
                  <a:srgbClr val="ffffcc"/>
                </a:solidFill>
                <a:latin typeface="Verdana"/>
                <a:ea typeface="宋体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，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386280" y="77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478440" y="247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6"/>
          <p:cNvSpPr/>
          <p:nvPr/>
        </p:nvSpPr>
        <p:spPr>
          <a:xfrm>
            <a:off x="447120" y="325116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宾客大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7"/>
          <p:cNvSpPr/>
          <p:nvPr/>
        </p:nvSpPr>
        <p:spPr>
          <a:xfrm>
            <a:off x="5262840" y="327816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  <a:ea typeface="宋体"/>
              </a:rPr>
              <a:t>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：古，适逢，正赶上； 今，合拢，聚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8"/>
          <p:cNvSpPr/>
          <p:nvPr/>
        </p:nvSpPr>
        <p:spPr>
          <a:xfrm>
            <a:off x="421920" y="38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闻有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4077720" y="38592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微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隐隐约约；        今，小，细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"/>
          <p:cNvSpPr/>
          <p:nvPr/>
        </p:nvSpPr>
        <p:spPr>
          <a:xfrm>
            <a:off x="437760" y="433224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中间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力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1"/>
          <p:cNvSpPr/>
          <p:nvPr/>
        </p:nvSpPr>
        <p:spPr>
          <a:xfrm>
            <a:off x="3959280" y="43624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中间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中间夹杂；     今，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2"/>
          <p:cNvSpPr/>
          <p:nvPr/>
        </p:nvSpPr>
        <p:spPr>
          <a:xfrm>
            <a:off x="438120" y="483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股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战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3"/>
          <p:cNvSpPr/>
          <p:nvPr/>
        </p:nvSpPr>
        <p:spPr>
          <a:xfrm>
            <a:off x="4806360" y="48290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股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大腿             今，量词或一种组织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4"/>
          <p:cNvSpPr/>
          <p:nvPr/>
        </p:nvSpPr>
        <p:spPr>
          <a:xfrm>
            <a:off x="438120" y="5370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几欲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5"/>
          <p:cNvSpPr/>
          <p:nvPr/>
        </p:nvSpPr>
        <p:spPr>
          <a:xfrm>
            <a:off x="3558960" y="54309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走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古，跑；                    今，行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6"/>
          <p:cNvSpPr/>
          <p:nvPr/>
        </p:nvSpPr>
        <p:spPr>
          <a:xfrm>
            <a:off x="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宾客意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7"/>
          <p:cNvSpPr/>
          <p:nvPr/>
        </p:nvSpPr>
        <p:spPr>
          <a:xfrm>
            <a:off x="262728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ahoma"/>
                <a:ea typeface="宋体"/>
              </a:rPr>
              <a:t>舒：古，放松。        今，舒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2"/>
          <p:cNvSpPr/>
          <p:nvPr/>
        </p:nvSpPr>
        <p:spPr>
          <a:xfrm>
            <a:off x="478440" y="771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3"/>
          <p:cNvSpPr/>
          <p:nvPr/>
        </p:nvSpPr>
        <p:spPr>
          <a:xfrm>
            <a:off x="539640" y="1589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妇抚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4"/>
          <p:cNvSpPr/>
          <p:nvPr/>
        </p:nvSpPr>
        <p:spPr>
          <a:xfrm>
            <a:off x="4119840" y="1628640"/>
            <a:ext cx="25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乳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名词作动词，喂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4195080" y="23493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善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形容词作动词，擅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973440" y="229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京中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口技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7"/>
          <p:cNvSpPr/>
          <p:nvPr/>
        </p:nvSpPr>
        <p:spPr>
          <a:xfrm>
            <a:off x="4069080" y="29973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1222560" y="2997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一处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9"/>
          <p:cNvSpPr/>
          <p:nvPr/>
        </p:nvSpPr>
        <p:spPr>
          <a:xfrm>
            <a:off x="4069080" y="3730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指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1044000" y="36640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其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1"/>
          <p:cNvSpPr/>
          <p:nvPr/>
        </p:nvSpPr>
        <p:spPr>
          <a:xfrm>
            <a:off x="900000" y="429264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抚尺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2"/>
          <p:cNvSpPr/>
          <p:nvPr/>
        </p:nvSpPr>
        <p:spPr>
          <a:xfrm>
            <a:off x="5386320" y="43498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方位名词作动词，落、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5"/>
          <p:cNvSpPr/>
          <p:nvPr/>
        </p:nvSpPr>
        <p:spPr>
          <a:xfrm>
            <a:off x="829440" y="5157720"/>
            <a:ext cx="12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会宾客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6"/>
          <p:cNvSpPr/>
          <p:nvPr/>
        </p:nvSpPr>
        <p:spPr>
          <a:xfrm>
            <a:off x="4182480" y="50846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宴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名词作动词，举行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"/>
          <p:cNvSpPr/>
          <p:nvPr/>
        </p:nvSpPr>
        <p:spPr>
          <a:xfrm>
            <a:off x="798480" y="77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576360" y="17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妇抚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（动词，喂奶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儿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乳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啼  （名词，乳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611280" y="191628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>
            <a:off x="5076720" y="1989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539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539640" y="364500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539640" y="4653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>
            <a:off x="539640" y="551664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0"/>
          <p:cNvSpPr/>
          <p:nvPr/>
        </p:nvSpPr>
        <p:spPr>
          <a:xfrm>
            <a:off x="34920" y="1916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1"/>
          <p:cNvSpPr/>
          <p:nvPr/>
        </p:nvSpPr>
        <p:spPr>
          <a:xfrm>
            <a:off x="5076720" y="18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手有百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名词，手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一端（动词，指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2"/>
          <p:cNvSpPr/>
          <p:nvPr/>
        </p:nvSpPr>
        <p:spPr>
          <a:xfrm>
            <a:off x="4427640" y="1989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3"/>
          <p:cNvSpPr/>
          <p:nvPr/>
        </p:nvSpPr>
        <p:spPr>
          <a:xfrm>
            <a:off x="1251720" y="263700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众宾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（坐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宾客   （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，座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4"/>
          <p:cNvSpPr/>
          <p:nvPr/>
        </p:nvSpPr>
        <p:spPr>
          <a:xfrm>
            <a:off x="72720" y="276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5"/>
          <p:cNvSpPr/>
          <p:nvPr/>
        </p:nvSpPr>
        <p:spPr>
          <a:xfrm>
            <a:off x="1064160" y="35002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以为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（极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群响 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（消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6"/>
          <p:cNvSpPr/>
          <p:nvPr/>
        </p:nvSpPr>
        <p:spPr>
          <a:xfrm>
            <a:off x="36360" y="36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1340280" y="447840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于厅事之东北角     （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妇拍而呜之            （他，指小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8"/>
          <p:cNvSpPr/>
          <p:nvPr/>
        </p:nvSpPr>
        <p:spPr>
          <a:xfrm>
            <a:off x="3708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9"/>
          <p:cNvSpPr/>
          <p:nvPr/>
        </p:nvSpPr>
        <p:spPr>
          <a:xfrm>
            <a:off x="36360" y="55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0"/>
          <p:cNvSpPr/>
          <p:nvPr/>
        </p:nvSpPr>
        <p:spPr>
          <a:xfrm>
            <a:off x="1281600" y="541512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其夫呓语      （她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不能指其一端    （其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108000" y="411480"/>
            <a:ext cx="8078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宾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意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力拉崩倒之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有百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一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袖出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战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欲先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4"/>
          <p:cNvSpPr/>
          <p:nvPr/>
        </p:nvSpPr>
        <p:spPr>
          <a:xfrm>
            <a:off x="520164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心情；稍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5"/>
          <p:cNvSpPr/>
          <p:nvPr/>
        </p:nvSpPr>
        <p:spPr>
          <a:xfrm>
            <a:off x="5077800" y="1403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夹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6"/>
          <p:cNvSpPr/>
          <p:nvPr/>
        </p:nvSpPr>
        <p:spPr>
          <a:xfrm>
            <a:off x="5077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7"/>
          <p:cNvSpPr/>
          <p:nvPr/>
        </p:nvSpPr>
        <p:spPr>
          <a:xfrm>
            <a:off x="5004720" y="321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8"/>
          <p:cNvSpPr/>
          <p:nvPr/>
        </p:nvSpPr>
        <p:spPr>
          <a:xfrm>
            <a:off x="50047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卷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9"/>
          <p:cNvSpPr/>
          <p:nvPr/>
        </p:nvSpPr>
        <p:spPr>
          <a:xfrm>
            <a:off x="50047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0"/>
          <p:cNvSpPr/>
          <p:nvPr/>
        </p:nvSpPr>
        <p:spPr>
          <a:xfrm>
            <a:off x="5563800" y="6338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  <a:ea typeface="宋体"/>
              </a:rPr>
              <a:t>几乎、差点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课文第一句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京中有善口技者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彩云"/>
              </a:rPr>
              <a:t>在全文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900000" y="3068640"/>
            <a:ext cx="7404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字统领全篇，全文的内容情节都是围绕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来展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Picture 4" descr="j0281904"/>
          <p:cNvPicPr/>
          <p:nvPr/>
        </p:nvPicPr>
        <p:blipFill>
          <a:blip r:embed="rId1"/>
          <a:stretch/>
        </p:blipFill>
        <p:spPr>
          <a:xfrm>
            <a:off x="5219640" y="4508640"/>
            <a:ext cx="3625920" cy="2076480"/>
          </a:xfrm>
          <a:prstGeom prst="rect">
            <a:avLst/>
          </a:prstGeom>
          <a:ln w="0">
            <a:noFill/>
          </a:ln>
        </p:spPr>
      </p:pic>
      <p:sp>
        <p:nvSpPr>
          <p:cNvPr id="1221" name="文本框 8200"/>
          <p:cNvSpPr/>
          <p:nvPr/>
        </p:nvSpPr>
        <p:spPr>
          <a:xfrm>
            <a:off x="1260360" y="242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2"/>
          <p:cNvGrpSpPr/>
          <p:nvPr/>
        </p:nvGrpSpPr>
        <p:grpSpPr>
          <a:xfrm>
            <a:off x="179280" y="981000"/>
            <a:ext cx="1439640" cy="5040360"/>
            <a:chOff x="179280" y="981000"/>
            <a:chExt cx="1439640" cy="5040360"/>
          </a:xfrm>
        </p:grpSpPr>
        <p:sp>
          <p:nvSpPr>
            <p:cNvPr id="1224" name="Oval 3"/>
            <p:cNvSpPr/>
            <p:nvPr/>
          </p:nvSpPr>
          <p:spPr>
            <a:xfrm>
              <a:off x="179280" y="981000"/>
              <a:ext cx="1439640" cy="504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4"/>
            <p:cNvSpPr/>
            <p:nvPr/>
          </p:nvSpPr>
          <p:spPr>
            <a:xfrm>
              <a:off x="399240" y="1485720"/>
              <a:ext cx="10854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怎样写出</a:t>
              </a:r>
              <a:r>
                <a:rPr b="1" lang="zh-CN" sz="4000" spc="-1" strike="noStrike">
                  <a:solidFill>
                    <a:srgbClr val="cc0066"/>
                  </a:solidFill>
                  <a:latin typeface="Garamond"/>
                  <a:ea typeface="宋体"/>
                </a:rPr>
                <a:t>善</a:t>
              </a: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AutoShape 5"/>
          <p:cNvSpPr/>
          <p:nvPr/>
        </p:nvSpPr>
        <p:spPr>
          <a:xfrm>
            <a:off x="1692360" y="1557360"/>
            <a:ext cx="360360" cy="38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6"/>
          <p:cNvSpPr/>
          <p:nvPr/>
        </p:nvSpPr>
        <p:spPr>
          <a:xfrm>
            <a:off x="2195640" y="1052640"/>
            <a:ext cx="2232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宋体"/>
              </a:rPr>
              <a:t>正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2268360" y="4941720"/>
            <a:ext cx="2160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宋体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5223240" y="1052640"/>
            <a:ext cx="2130120" cy="57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华文彩云"/>
              </a:rPr>
              <a:t>景场个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9"/>
          <p:cNvSpPr/>
          <p:nvPr/>
        </p:nvSpPr>
        <p:spPr>
          <a:xfrm>
            <a:off x="4572000" y="407664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200 h 2016360"/>
              <a:gd name="textAreaBottom" fmla="*/ 19641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"/>
          <p:cNvSpPr/>
          <p:nvPr/>
        </p:nvSpPr>
        <p:spPr>
          <a:xfrm>
            <a:off x="485928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在表演过程中观众的神情举止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1"/>
          <p:cNvSpPr/>
          <p:nvPr/>
        </p:nvSpPr>
        <p:spPr>
          <a:xfrm>
            <a:off x="8172360" y="907920"/>
            <a:ext cx="719280" cy="79236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2"/>
          <p:cNvSpPr/>
          <p:nvPr/>
        </p:nvSpPr>
        <p:spPr>
          <a:xfrm>
            <a:off x="5003640" y="5445000"/>
            <a:ext cx="33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、开头和结尾部分对表演道具的交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3"/>
          <p:cNvSpPr/>
          <p:nvPr/>
        </p:nvSpPr>
        <p:spPr>
          <a:xfrm>
            <a:off x="2916360" y="566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4"/>
          <p:cNvSpPr/>
          <p:nvPr/>
        </p:nvSpPr>
        <p:spPr>
          <a:xfrm>
            <a:off x="8459640" y="5445000"/>
            <a:ext cx="684360" cy="792360"/>
          </a:xfrm>
          <a:custGeom>
            <a:avLst/>
            <a:gdLst/>
            <a:ahLst/>
            <a:rect l="l" t="t" r="r" b="b"/>
            <a:pathLst>
              <a:path w="684212" h="792162">
                <a:moveTo>
                  <a:pt x="0" y="302578"/>
                </a:moveTo>
                <a:lnTo>
                  <a:pt x="261347" y="302580"/>
                </a:lnTo>
                <a:lnTo>
                  <a:pt x="342106" y="0"/>
                </a:lnTo>
                <a:lnTo>
                  <a:pt x="422865" y="302580"/>
                </a:lnTo>
                <a:lnTo>
                  <a:pt x="684211" y="302578"/>
                </a:lnTo>
                <a:lnTo>
                  <a:pt x="472776" y="489581"/>
                </a:lnTo>
                <a:lnTo>
                  <a:pt x="553539" y="792160"/>
                </a:lnTo>
                <a:lnTo>
                  <a:pt x="342106" y="605154"/>
                </a:lnTo>
                <a:lnTo>
                  <a:pt x="130673" y="792160"/>
                </a:lnTo>
                <a:lnTo>
                  <a:pt x="211435" y="48958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5"/>
          <p:cNvSpPr/>
          <p:nvPr/>
        </p:nvSpPr>
        <p:spPr>
          <a:xfrm>
            <a:off x="8244000" y="3716280"/>
            <a:ext cx="900000" cy="865080"/>
          </a:xfrm>
          <a:prstGeom prst="su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  <a:ea typeface="宋体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0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  <a:ea typeface="宋体"/>
              </a:rPr>
              <a:t>一时齐发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  <a:ea typeface="宋体"/>
              </a:rPr>
              <a:t>咳嗽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  <a:ea typeface="宋体"/>
              </a:rPr>
              <a:t>以响衬静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  <a:ea typeface="宋体"/>
              </a:rPr>
              <a:t>无所不有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1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4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