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44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BE0-F752-4EEB-885F-4C6E5408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921-F099-4081-B9A5-8E712264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299-816E-4C40-9E32-52B12271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9BC-FDA9-451F-AA7B-7A53CEA4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4DBE-F04E-4C86-B3C4-7141E6ED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A101-CF96-47B0-A2CC-5B2C9946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99B5-0DAB-43B0-A2C5-A5708CDB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12E6-19D3-4C42-BEBC-D6FACEFA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107F-5980-46CD-A39E-5A9A2436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7330-6588-4334-B28F-C3D99D63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AEEE-6967-4FD9-BEB9-3F607A61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075-95D4-452E-BA5C-E33D4AF0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8F6D-6185-4AA1-AC38-A6A3D33A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579E-9C10-497E-A339-7415428C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4BF9-CBE9-4405-93DD-7CDA43DA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F6A9-A738-4DD5-BEDE-693FA53F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8D96-350B-4845-9EA4-772A37D6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52C1-DE67-4142-9C37-2206C4A7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A153-3409-4B48-A701-F5BBBDC7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C6E7D-BD07-43AD-A3C6-F66E913C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B66D-5238-4E95-8A47-41CF89D3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E929-E936-4B45-A1F9-AEAC7C44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43D-71DA-4F99-96DE-59D8CE1F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BF6D-C43A-4BAA-A730-8ABA1156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0301-6FFE-4713-9919-F778B25E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2C6F-70F6-40F9-AB55-4FA4F4BB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5AFB-88A8-4C8A-9D11-C23435FB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D58A-B3FD-468D-8C1B-7568D5AF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9340-B03C-4C38-89E8-9D46F96B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353C2-98D5-411E-8F01-4EB48F3F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B36-E140-4B4E-BCC1-009E3CF3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965-72AE-47B0-B89B-557435A8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C4A-5F8F-49FB-AB70-58538ABC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A99-B0B0-42DD-9091-E3D6C489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7D4-B089-4224-B8DF-08A99B8F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78F-C31B-4E4F-87FB-E11155BF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3D8F-1926-4370-866A-A0A3AC358E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4B17-0E20-4BE4-AD06-6B4C07BE52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AA8B-56BA-475F-BE21-9F2FA83793A6}" type="slidenum">
              <a:rPr b="0" lang="zh-CN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1ppt.com/hangye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843280" y="90792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课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26920" y="2876400"/>
            <a:ext cx="725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科技带给我们什么课件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下载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8"/>
          <p:cNvSpPr/>
          <p:nvPr/>
        </p:nvSpPr>
        <p:spPr>
          <a:xfrm>
            <a:off x="154764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321080" cy="2846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0" y="1341360"/>
            <a:ext cx="4356000" cy="3475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968040" y="5157720"/>
            <a:ext cx="20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机器生产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935320" y="5084640"/>
            <a:ext cx="20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手工劳动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276360" y="5589360"/>
            <a:ext cx="2448000" cy="360"/>
            <a:chOff x="3276360" y="5589360"/>
            <a:chExt cx="2448000" cy="360"/>
          </a:xfrm>
        </p:grpSpPr>
        <p:sp>
          <p:nvSpPr>
            <p:cNvPr id="180" name="Line 11"/>
            <p:cNvSpPr/>
            <p:nvPr/>
          </p:nvSpPr>
          <p:spPr>
            <a:xfrm>
              <a:off x="3276720" y="558972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10800000">
              <a:off x="3276360" y="5589360"/>
              <a:ext cx="24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82" name="Text Box 12"/>
          <p:cNvSpPr/>
          <p:nvPr/>
        </p:nvSpPr>
        <p:spPr>
          <a:xfrm>
            <a:off x="3995640" y="4869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取代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030"/>
          <p:cNvSpPr/>
          <p:nvPr/>
        </p:nvSpPr>
        <p:spPr>
          <a:xfrm>
            <a:off x="1841040" y="306864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电话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4" name="Text Box 1033"/>
          <p:cNvSpPr/>
          <p:nvPr/>
        </p:nvSpPr>
        <p:spPr>
          <a:xfrm>
            <a:off x="1258920" y="1773360"/>
            <a:ext cx="626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5" name="Picture 1034" descr="电话"/>
          <p:cNvPicPr/>
          <p:nvPr/>
        </p:nvPicPr>
        <p:blipFill>
          <a:blip r:embed="rId1"/>
          <a:stretch/>
        </p:blipFill>
        <p:spPr>
          <a:xfrm>
            <a:off x="-93600" y="-458640"/>
            <a:ext cx="4233960" cy="5400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6"/>
          <p:cNvSpPr/>
          <p:nvPr/>
        </p:nvSpPr>
        <p:spPr>
          <a:xfrm>
            <a:off x="5824440" y="2589120"/>
            <a:ext cx="137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电视机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7" name="Picture 27" descr="电视"/>
          <p:cNvPicPr/>
          <p:nvPr/>
        </p:nvPicPr>
        <p:blipFill>
          <a:blip r:embed="rId2"/>
          <a:stretch/>
        </p:blipFill>
        <p:spPr>
          <a:xfrm>
            <a:off x="3924360" y="189000"/>
            <a:ext cx="2305080" cy="3031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974960" y="5981760"/>
            <a:ext cx="173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洗衣机 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9" name="Picture 6" descr="洗衣机"/>
          <p:cNvPicPr/>
          <p:nvPr/>
        </p:nvPicPr>
        <p:blipFill>
          <a:blip r:embed="rId3"/>
          <a:stretch/>
        </p:blipFill>
        <p:spPr>
          <a:xfrm>
            <a:off x="1541520" y="35575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4716360" y="6161040"/>
            <a:ext cx="302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全数字胃肠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X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光机 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91" name="Picture 6" descr="全数字胃肠X光机"/>
          <p:cNvPicPr/>
          <p:nvPr/>
        </p:nvPicPr>
        <p:blipFill>
          <a:blip r:embed="rId4"/>
          <a:stretch/>
        </p:blipFill>
        <p:spPr>
          <a:xfrm>
            <a:off x="4422600" y="3394080"/>
            <a:ext cx="3462480" cy="27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6000" y="148392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科技给我们生活带来的变化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讨论：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假如我们的生活没有电灯、电话、电视、汽车、轮船、飞机等，我们的生活会是什么样？我们的社会是什么样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电灯、电话、电视、汽车、火车、轮船、飞机 照相机、医疗设备、农田灌溉等科学产品或成果给我们的生活带来了什么样的变化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3" name="文本框 8199"/>
          <p:cNvSpPr/>
          <p:nvPr/>
        </p:nvSpPr>
        <p:spPr>
          <a:xfrm>
            <a:off x="1327320" y="839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9"/>
          <p:cNvSpPr/>
          <p:nvPr/>
        </p:nvSpPr>
        <p:spPr>
          <a:xfrm>
            <a:off x="1187280" y="1844640"/>
            <a:ext cx="698508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提问：通过刚才的学习，大家有什么体会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结果：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些现在看来普通不过的东西，都是百年来人们不断努力研究的成果，它们提高了人们的生活质量，让生活发生了巨大的变化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科学技术 与生产、生活密切相关，给我们带来了很多好处，造福人类、推动社会进步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042920" y="9079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、科技给我们生活带来的变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1692360" y="2852640"/>
            <a:ext cx="55450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科学技术的发展，给我们的生活带来了日新月异的变化。但是，人们在享受科学技术成果的同时，发现它们也会给我们的生活带来许多新问题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258920" y="177336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二、科技是把双刃剑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1187280" y="1268280"/>
            <a:ext cx="6912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讨论：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电脑给我们的生活带来哪些方便？它又给我们带来哪些危害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农药给农业生产带来什么好处？它又给人带来哪些危害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克隆、转基因给人们带来哪些惊喜？如果滥用这一技术，会造成什么后果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kl"/>
          <p:cNvPicPr/>
          <p:nvPr/>
        </p:nvPicPr>
        <p:blipFill>
          <a:blip r:embed="rId1"/>
          <a:stretch/>
        </p:blipFill>
        <p:spPr>
          <a:xfrm>
            <a:off x="755640" y="2133720"/>
            <a:ext cx="339084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kli"/>
          <p:cNvPicPr/>
          <p:nvPr/>
        </p:nvPicPr>
        <p:blipFill>
          <a:blip r:embed="rId2"/>
          <a:stretch/>
        </p:blipFill>
        <p:spPr>
          <a:xfrm>
            <a:off x="4427640" y="2133720"/>
            <a:ext cx="4427280" cy="33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:\六年级品社\r科技带给我们什么\d45eba01db4a48d4964282b39d5ed43a.jpg"/>
          <p:cNvPicPr/>
          <p:nvPr/>
        </p:nvPicPr>
        <p:blipFill>
          <a:blip r:embed="rId1"/>
          <a:stretch/>
        </p:blipFill>
        <p:spPr>
          <a:xfrm>
            <a:off x="250920" y="549360"/>
            <a:ext cx="5133960" cy="3457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H:\六年级品社\r科技带给我们什么\33_130409130944_2.jpg"/>
          <p:cNvPicPr/>
          <p:nvPr/>
        </p:nvPicPr>
        <p:blipFill>
          <a:blip r:embed="rId2"/>
          <a:stretch/>
        </p:blipFill>
        <p:spPr>
          <a:xfrm>
            <a:off x="4932360" y="2852640"/>
            <a:ext cx="355284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"/>
          <p:cNvSpPr/>
          <p:nvPr/>
        </p:nvSpPr>
        <p:spPr>
          <a:xfrm>
            <a:off x="3682800" y="162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全球变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755640" y="2421000"/>
            <a:ext cx="72374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臭氧层受损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3804480" y="3133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核威胁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1116000" y="2708280"/>
            <a:ext cx="6912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你们还记得在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00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年我国流行非典型肺炎吗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在农村出现了这样一种现象，他们受巫婆神汉唆使，求神拜佛、烧香磕头去请求神灵的保佑。还有地方谣传“每天晚上烧三柱香、磕三个响头、放三个炮”就可以驱除“非典”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258920" y="1773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崇尚科学，反对迷信和邪教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1"/>
          <p:cNvSpPr/>
          <p:nvPr/>
        </p:nvSpPr>
        <p:spPr>
          <a:xfrm>
            <a:off x="1042920" y="12016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、科技给我们生活带来的变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1403280" y="2276640"/>
            <a:ext cx="62643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科技推动着社会的进步和发展，不断地改变着我们的生活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科学技术深刻地影响着我们生活的方方面面。可以说我们每时每刻都在享用着科学技术给我们带来的好处和方便。我们就从生活中的科技成果说起吧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1258920" y="2565360"/>
            <a:ext cx="64087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你认为他们这样做能战胜病魔吗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为什么有人会谣言惑众，而一些人会相信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这样做的后果是什么？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258920" y="1413000"/>
            <a:ext cx="100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讨论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迷信害人的小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6360" y="1557000"/>
            <a:ext cx="8785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河南省沈丘县纸店镇的张霞非常迷信，她属兔，丈夫属蛇，张霞听算命先生说，他们夫妇相克，需要重新拜堂才能过得好。丈夫认为这很荒谬，可经不起张霞闹腾，不得已便在岳母的主持下，又一次勉强放了花炮、拜了堂。但张霞一直对丈夫在拜堂期间表现得不够积极而耿耿于怀，有一次，张霞生病后，认为是吴杰二次拜堂时心不诚，才克得她得了病。于是经常和丈夫闹，以此作为惩罚 。丈夫被逼无奈提出离婚，她便用硫酸为丈夫毁了容。 她也因此受到应有的惩罚。</a:t>
            </a:r>
            <a:r>
              <a:rPr b="1" lang="en-US" sz="24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50920" y="764640"/>
            <a:ext cx="8540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            </a:t>
            </a:r>
            <a:r>
              <a:rPr b="1" lang="zh-CN" sz="16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  </a:t>
            </a:r>
            <a:r>
              <a:rPr b="1" lang="zh-CN" sz="1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（二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ts val="43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甘肃省灵台县西屯乡仇斌选患痢疾开始拉肚子，但其母</a:t>
            </a:r>
            <a:r>
              <a:rPr b="0" lang="zh-CN" sz="3200" spc="-1" strike="noStrike" u="sng">
                <a:solidFill>
                  <a:srgbClr val="dc3400"/>
                </a:solidFill>
                <a:uFillTx/>
                <a:latin typeface="楷体_GB2312"/>
                <a:ea typeface="楷体_GB2312"/>
                <a:hlinkClick r:id="rId1"/>
              </a:rPr>
              <a:t>姚秀娥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没有采取任何治疗措施，而是按照异端邪教的荒诞理论进行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恒切祷告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以祈求神灵来给孩子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福音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“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病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。由于这样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禁食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祷告，耽误了治疗时间，仇斌选终因急性坏死性出血性肠炎、菌血症死亡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ts val="43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隶书"/>
              </a:rPr>
              <a:t>议一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834920" y="1701360"/>
            <a:ext cx="5492520" cy="3886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面对这些封建迷信你怎样看待？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259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我知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3640" y="1773360"/>
            <a:ext cx="82803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现象一：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夏天的晚上，人们有时会看到坟地里有蓝绿色的火焰，若隐若现，飘忽不定，更奇怪的是：它会跟着人走，你停它也停下，你跑它也跟着你跑。迷信者就说这是“鬼”在夜间出门照路的“鬼火”，你知道这是怎么回事吗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755640" y="4005360"/>
            <a:ext cx="74916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因为人骨中含有大量的磷质，死后会溢出，遇空气会自燃，而且磷较轻，人跑时会带动空气，造成磷火跟随气流，所以称为“鬼火”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900000" y="5013360"/>
            <a:ext cx="726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344600" y="1494000"/>
            <a:ext cx="603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55640" y="1341360"/>
            <a:ext cx="76690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现象二：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在扫墓烧纸钱时有时也会刮起一阵旋风 ，迷信的人说是“鬼”来抢钱了，你知道是怎么回事吗？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6920" y="3286080"/>
            <a:ext cx="77043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其实，这是空气流动的现象。由于火堆上方的空气急剧升温，气流上升很快，四周的冷空气补充也快 ，因此，产生了旋风。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1619280" y="2205000"/>
            <a:ext cx="640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查资料，了解“法轮功”制造出一件件触目惊心、残害生命的滔天罪行，对人类欠下了一笔笔血债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258920" y="1413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崇尚科学，反对迷信和邪教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5" name="Picture 9" descr="非法集会"/>
          <p:cNvPicPr/>
          <p:nvPr/>
        </p:nvPicPr>
        <p:blipFill>
          <a:blip r:embed="rId1"/>
          <a:stretch/>
        </p:blipFill>
        <p:spPr>
          <a:xfrm>
            <a:off x="2908440" y="3987720"/>
            <a:ext cx="3679560" cy="25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04560" y="1980720"/>
            <a:ext cx="419076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0" y="259920"/>
            <a:ext cx="419112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这个青春靓丽的女孩名叫陈果，曾经是音乐学院大二的学生，由于受其练邪教法轮功母亲的影响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跟随妈妈到天安门广场自焚。虽然抢救及时保住了性命，但她俏丽的容颜却一去不返了。留下的是这样一张惨不忍睹的脸 。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8" name="Picture 4" descr="自焚前的陈果是中央音乐学院学生，青春靓丽。 （图片来源：凯风网）"/>
          <p:cNvPicPr/>
          <p:nvPr/>
        </p:nvPicPr>
        <p:blipFill>
          <a:blip r:embed="rId1"/>
          <a:stretch/>
        </p:blipFill>
        <p:spPr>
          <a:xfrm>
            <a:off x="34920" y="1440"/>
            <a:ext cx="4537080" cy="3140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u=1834964760,4271461681&amp;fm=15&amp;gp=0"/>
          <p:cNvPicPr/>
          <p:nvPr/>
        </p:nvPicPr>
        <p:blipFill>
          <a:blip r:embed="rId2"/>
          <a:stretch/>
        </p:blipFill>
        <p:spPr>
          <a:xfrm>
            <a:off x="0" y="3139920"/>
            <a:ext cx="4535640" cy="37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852360" y="43920"/>
            <a:ext cx="525636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0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cc"/>
                </a:solidFill>
                <a:latin typeface="隶书"/>
                <a:ea typeface="隶书"/>
              </a:rPr>
              <a:t>  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2001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年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11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月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25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日，北京西城区德胜门西大街一幢居民楼里，发生了一起罕见的惨案。一名受“法轮功”邪教毒害的痴迷者，亲手杀害了深爱着他的父亲和妻子，将母亲砍成重伤。使这个原本幸福的五口之家，转瞬间家破人亡。而中毒太深的杀人凶手傅怡彬却说：“我想人太执著。当离开肉身的时候简直是不得了，有什么关系，我实际上是救你的性，而且是永远还你一个真命嘛！从我这里修出来以后，就是你的真命。你怕什么？”他还说：“他杀害自己的亲人是“为了修‘元婴’，是在救他们……我把他们杀了以后，他们３个人的‘元神’、‘本体’直接入我的小腹，然后形成太阳地球、月亮这种宇宙结构，在我的小腹、丹田处不停地转……”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31" name="Picture 3" descr="u=189557758,536703837&amp;fm=0&amp;gp=0"/>
          <p:cNvPicPr/>
          <p:nvPr/>
        </p:nvPicPr>
        <p:blipFill>
          <a:blip r:embed="rId1"/>
          <a:stretch/>
        </p:blipFill>
        <p:spPr>
          <a:xfrm>
            <a:off x="-33480" y="44280"/>
            <a:ext cx="4245120" cy="388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u=610480803,2580926832&amp;fm=0&amp;gp=0"/>
          <p:cNvPicPr/>
          <p:nvPr/>
        </p:nvPicPr>
        <p:blipFill>
          <a:blip r:embed="rId2"/>
          <a:stretch/>
        </p:blipFill>
        <p:spPr>
          <a:xfrm>
            <a:off x="-33480" y="3935520"/>
            <a:ext cx="4245120" cy="29350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-4749120" y="313740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……”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5"/>
          <p:cNvSpPr/>
          <p:nvPr/>
        </p:nvSpPr>
        <p:spPr>
          <a:xfrm>
            <a:off x="1258920" y="1773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崇尚科学，反对迷信和邪教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35" name="Picture 6" descr="自焚前的刘思颖"/>
          <p:cNvPicPr/>
          <p:nvPr/>
        </p:nvPicPr>
        <p:blipFill>
          <a:blip r:embed="rId1"/>
          <a:stretch/>
        </p:blipFill>
        <p:spPr>
          <a:xfrm>
            <a:off x="1684440" y="2565360"/>
            <a:ext cx="2160360" cy="3382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自焚后的刘思颖"/>
          <p:cNvPicPr/>
          <p:nvPr/>
        </p:nvPicPr>
        <p:blipFill>
          <a:blip r:embed="rId2"/>
          <a:stretch/>
        </p:blipFill>
        <p:spPr>
          <a:xfrm>
            <a:off x="4140360" y="2854440"/>
            <a:ext cx="4032000" cy="29509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4788000" y="5877000"/>
            <a:ext cx="25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焚后的刘思颖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1547640" y="5950080"/>
            <a:ext cx="27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焚前的刘思颖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:\六年级品社\r科技带给我们什么\1240111548.jpg"/>
          <p:cNvPicPr/>
          <p:nvPr/>
        </p:nvPicPr>
        <p:blipFill>
          <a:blip r:embed="rId1"/>
          <a:stretch/>
        </p:blipFill>
        <p:spPr>
          <a:xfrm>
            <a:off x="4427640" y="687240"/>
            <a:ext cx="356544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:\六年级品社\r科技带给我们什么\132753_171.jpg"/>
          <p:cNvPicPr/>
          <p:nvPr/>
        </p:nvPicPr>
        <p:blipFill>
          <a:blip r:embed="rId2"/>
          <a:stretch/>
        </p:blipFill>
        <p:spPr>
          <a:xfrm>
            <a:off x="395280" y="404640"/>
            <a:ext cx="3456000" cy="2765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H:\六年级品社\r科技带给我们什么\20091231131955778.jpg"/>
          <p:cNvPicPr/>
          <p:nvPr/>
        </p:nvPicPr>
        <p:blipFill>
          <a:blip r:embed="rId3"/>
          <a:stretch/>
        </p:blipFill>
        <p:spPr>
          <a:xfrm>
            <a:off x="395280" y="3357720"/>
            <a:ext cx="3672000" cy="244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:\六年级品社\r科技带给我们什么\20096181037380.jpg"/>
          <p:cNvPicPr/>
          <p:nvPr/>
        </p:nvPicPr>
        <p:blipFill>
          <a:blip r:embed="rId4"/>
          <a:stretch/>
        </p:blipFill>
        <p:spPr>
          <a:xfrm>
            <a:off x="4037040" y="3068640"/>
            <a:ext cx="2173320" cy="333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:\六年级品社\r科技带给我们什么\2007511102835449.jpg"/>
          <p:cNvPicPr/>
          <p:nvPr/>
        </p:nvPicPr>
        <p:blipFill>
          <a:blip r:embed="rId5"/>
          <a:stretch/>
        </p:blipFill>
        <p:spPr>
          <a:xfrm>
            <a:off x="6210360" y="3170160"/>
            <a:ext cx="2805120" cy="32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1258920" y="1773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崇尚科学，反对迷信和邪教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187280" y="2708280"/>
            <a:ext cx="6840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科学的进步，推动了人类社会的发展。但是现代社会中仍然存在着一些迷信和伪科学现象。这就使人们认识到，对大千世界的万事万物，我们应当学会用科学知识武装自己的头脑，用科学的眼光去判断、分析和认识，这样才不会因愚昧无知，走入精神误区。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842B-AB58-411A-B689-DF30B529D41A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195280" y="909720"/>
            <a:ext cx="532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Times New Roman"/>
                <a:ea typeface="隶书"/>
              </a:rPr>
              <a:t>同学们，要记住，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Times New Roman"/>
                <a:ea typeface="隶书"/>
              </a:rPr>
              <a:t>人世间，鬼神无。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Times New Roman"/>
                <a:ea typeface="隶书"/>
              </a:rPr>
              <a:t>信邪教，更可恶，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Times New Roman"/>
                <a:ea typeface="隶书"/>
              </a:rPr>
              <a:t>害自己，害亲属。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Times New Roman"/>
                <a:ea typeface="隶书"/>
              </a:rPr>
              <a:t>破迷信，反邪教，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Times New Roman"/>
                <a:ea typeface="隶书"/>
              </a:rPr>
              <a:t>用科学，最有效。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4816881276449601035"/>
          <p:cNvPicPr/>
          <p:nvPr/>
        </p:nvPicPr>
        <p:blipFill>
          <a:blip r:embed="rId1"/>
          <a:stretch/>
        </p:blipFill>
        <p:spPr>
          <a:xfrm>
            <a:off x="1143000" y="1103400"/>
            <a:ext cx="2519280" cy="177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未知"/>
          <p:cNvSpPr/>
          <p:nvPr/>
        </p:nvSpPr>
        <p:spPr>
          <a:xfrm>
            <a:off x="3735360" y="1319040"/>
            <a:ext cx="1440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6778" y="1290"/>
                </a:lnTo>
                <a:lnTo>
                  <a:pt x="13605" y="7171"/>
                </a:lnTo>
                <a:lnTo>
                  <a:pt x="13451" y="9583"/>
                </a:lnTo>
                <a:lnTo>
                  <a:pt x="17876" y="13074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ff99cc"/>
            </a:solidFill>
            <a:prstDash val="dashDot"/>
            <a:round/>
            <a:tailEnd len="med" type="triangle" w="med"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5" name="Picture 15" descr="2007061809001763946200"/>
          <p:cNvPicPr/>
          <p:nvPr/>
        </p:nvPicPr>
        <p:blipFill>
          <a:blip r:embed="rId2"/>
          <a:stretch/>
        </p:blipFill>
        <p:spPr>
          <a:xfrm>
            <a:off x="5607000" y="1103400"/>
            <a:ext cx="2519280" cy="1716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20090410142325"/>
          <p:cNvPicPr/>
          <p:nvPr/>
        </p:nvPicPr>
        <p:blipFill>
          <a:blip r:embed="rId3"/>
          <a:stretch/>
        </p:blipFill>
        <p:spPr>
          <a:xfrm>
            <a:off x="5535720" y="4495680"/>
            <a:ext cx="2189160" cy="1692360"/>
          </a:xfrm>
          <a:prstGeom prst="rect">
            <a:avLst/>
          </a:prstGeom>
          <a:ln w="0">
            <a:noFill/>
          </a:ln>
        </p:spPr>
      </p:pic>
      <p:sp>
        <p:nvSpPr>
          <p:cNvPr id="137" name="未知"/>
          <p:cNvSpPr/>
          <p:nvPr/>
        </p:nvSpPr>
        <p:spPr>
          <a:xfrm rot="10980000">
            <a:off x="3742920" y="4668480"/>
            <a:ext cx="1440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6778" y="1290"/>
                </a:lnTo>
                <a:lnTo>
                  <a:pt x="13605" y="7171"/>
                </a:lnTo>
                <a:lnTo>
                  <a:pt x="13451" y="9583"/>
                </a:lnTo>
                <a:lnTo>
                  <a:pt x="17876" y="13074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ff99cc"/>
            </a:solidFill>
            <a:prstDash val="dashDot"/>
            <a:round/>
            <a:tailEnd len="med" type="triangle" w="med"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8" name="Picture 24" descr="01300000190639121840520871943"/>
          <p:cNvPicPr/>
          <p:nvPr/>
        </p:nvPicPr>
        <p:blipFill>
          <a:blip r:embed="rId4"/>
          <a:stretch/>
        </p:blipFill>
        <p:spPr>
          <a:xfrm>
            <a:off x="782640" y="4272120"/>
            <a:ext cx="2259000" cy="1692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9"/>
          <p:cNvSpPr/>
          <p:nvPr/>
        </p:nvSpPr>
        <p:spPr>
          <a:xfrm>
            <a:off x="5123160" y="1103400"/>
            <a:ext cx="11552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幼圆"/>
              </a:rPr>
              <a:t>人造皮革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2513520" y="3408480"/>
            <a:ext cx="1155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幼圆"/>
              </a:rPr>
              <a:t>合成纤维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4956480" y="4159080"/>
            <a:ext cx="115524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幼圆"/>
              </a:rPr>
              <a:t>丝 棉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3807000" y="1174680"/>
            <a:ext cx="14396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6778" y="1290"/>
                </a:lnTo>
                <a:lnTo>
                  <a:pt x="13605" y="7171"/>
                </a:lnTo>
                <a:lnTo>
                  <a:pt x="13451" y="9583"/>
                </a:lnTo>
                <a:lnTo>
                  <a:pt x="17876" y="13074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ff99cc"/>
            </a:solidFill>
            <a:prstDash val="dashDot"/>
            <a:round/>
            <a:tailEnd len="med" type="triangle" w="med"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未知"/>
          <p:cNvSpPr/>
          <p:nvPr/>
        </p:nvSpPr>
        <p:spPr>
          <a:xfrm rot="10980000">
            <a:off x="3600000" y="4955760"/>
            <a:ext cx="1440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6778" y="1290"/>
                </a:lnTo>
                <a:lnTo>
                  <a:pt x="13605" y="7171"/>
                </a:lnTo>
                <a:lnTo>
                  <a:pt x="13451" y="9583"/>
                </a:lnTo>
                <a:lnTo>
                  <a:pt x="17876" y="13074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ff99cc"/>
            </a:solidFill>
            <a:prstDash val="dashDot"/>
            <a:round/>
            <a:tailEnd len="med" type="triangle" w="med"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WordArt 34"/>
          <p:cNvSpPr txBox="1"/>
          <p:nvPr/>
        </p:nvSpPr>
        <p:spPr>
          <a:xfrm>
            <a:off x="4311720" y="2038320"/>
            <a:ext cx="558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演</a:t>
            </a:r>
            <a:endParaRPr b="1" lang="en-US" sz="4400" spc="-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45" name="WordArt 35"/>
          <p:cNvSpPr txBox="1"/>
          <p:nvPr/>
        </p:nvSpPr>
        <p:spPr>
          <a:xfrm>
            <a:off x="4311720" y="4054320"/>
            <a:ext cx="558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宋体"/>
              </a:rPr>
              <a:t>变</a:t>
            </a:r>
            <a:endParaRPr b="1" lang="en-US" sz="4400" spc="-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2437200" y="1082520"/>
            <a:ext cx="11552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幼圆"/>
              </a:rPr>
              <a:t>兽皮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:\六年级品社\r科技带给我们什么\1189866_00_main.jpg"/>
          <p:cNvPicPr/>
          <p:nvPr/>
        </p:nvPicPr>
        <p:blipFill>
          <a:blip r:embed="rId1"/>
          <a:stretch/>
        </p:blipFill>
        <p:spPr>
          <a:xfrm>
            <a:off x="919080" y="336384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H:\六年级品社\r科技带给我们什么\132066902263859400.jpg"/>
          <p:cNvPicPr/>
          <p:nvPr/>
        </p:nvPicPr>
        <p:blipFill>
          <a:blip r:embed="rId2"/>
          <a:stretch/>
        </p:blipFill>
        <p:spPr>
          <a:xfrm>
            <a:off x="4344840" y="69228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:\六年级品社\r科技带给我们什么\134563950.jpg"/>
          <p:cNvPicPr/>
          <p:nvPr/>
        </p:nvPicPr>
        <p:blipFill>
          <a:blip r:embed="rId3"/>
          <a:stretch/>
        </p:blipFill>
        <p:spPr>
          <a:xfrm>
            <a:off x="611280" y="33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H:\六年级品社\r科技带给我们什么\b2b_20110221041824176332.jpg"/>
          <p:cNvPicPr/>
          <p:nvPr/>
        </p:nvPicPr>
        <p:blipFill>
          <a:blip r:embed="rId4"/>
          <a:stretch/>
        </p:blipFill>
        <p:spPr>
          <a:xfrm>
            <a:off x="5076720" y="351648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1"/>
          <p:cNvSpPr/>
          <p:nvPr/>
        </p:nvSpPr>
        <p:spPr>
          <a:xfrm>
            <a:off x="1533600" y="44830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2" name="Picture 10" descr="xin_57302062510543432140430"/>
          <p:cNvPicPr/>
          <p:nvPr/>
        </p:nvPicPr>
        <p:blipFill>
          <a:blip r:embed="rId1"/>
          <a:stretch/>
        </p:blipFill>
        <p:spPr>
          <a:xfrm>
            <a:off x="900000" y="598320"/>
            <a:ext cx="1890720" cy="1570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71836"/>
          <p:cNvPicPr/>
          <p:nvPr/>
        </p:nvPicPr>
        <p:blipFill>
          <a:blip r:embed="rId2"/>
          <a:stretch/>
        </p:blipFill>
        <p:spPr>
          <a:xfrm>
            <a:off x="2771640" y="598320"/>
            <a:ext cx="2162160" cy="1584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835200" y="2282760"/>
            <a:ext cx="41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幼圆"/>
              </a:rPr>
              <a:t>各式各样的方便食品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5" name="Picture 14" descr="MY_682_20080803013307_1"/>
          <p:cNvPicPr/>
          <p:nvPr/>
        </p:nvPicPr>
        <p:blipFill>
          <a:blip r:embed="rId3"/>
          <a:stretch/>
        </p:blipFill>
        <p:spPr>
          <a:xfrm>
            <a:off x="6445080" y="2687760"/>
            <a:ext cx="1920960" cy="143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212_5594"/>
          <p:cNvPicPr/>
          <p:nvPr/>
        </p:nvPicPr>
        <p:blipFill>
          <a:blip r:embed="rId4"/>
          <a:stretch/>
        </p:blipFill>
        <p:spPr>
          <a:xfrm>
            <a:off x="4572000" y="2687760"/>
            <a:ext cx="1920960" cy="143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6"/>
          <p:cNvSpPr/>
          <p:nvPr/>
        </p:nvSpPr>
        <p:spPr>
          <a:xfrm>
            <a:off x="2268360" y="311940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幼圆"/>
              </a:rPr>
              <a:t>食物已不分季节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8" name="Picture 18" descr="U124P4T8D1658783F107DT20090422163716"/>
          <p:cNvPicPr/>
          <p:nvPr/>
        </p:nvPicPr>
        <p:blipFill>
          <a:blip r:embed="rId5"/>
          <a:stretch/>
        </p:blipFill>
        <p:spPr>
          <a:xfrm>
            <a:off x="900000" y="4270320"/>
            <a:ext cx="1828800" cy="1592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9" descr="200812210714258"/>
          <p:cNvPicPr/>
          <p:nvPr/>
        </p:nvPicPr>
        <p:blipFill>
          <a:blip r:embed="rId6"/>
          <a:stretch/>
        </p:blipFill>
        <p:spPr>
          <a:xfrm>
            <a:off x="2700360" y="4272120"/>
            <a:ext cx="1728720" cy="1584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0"/>
          <p:cNvSpPr/>
          <p:nvPr/>
        </p:nvSpPr>
        <p:spPr>
          <a:xfrm>
            <a:off x="4638600" y="472140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幼圆"/>
              </a:rPr>
              <a:t>食物已不分地域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041"/>
          <p:cNvSpPr/>
          <p:nvPr/>
        </p:nvSpPr>
        <p:spPr>
          <a:xfrm>
            <a:off x="5796000" y="5877000"/>
            <a:ext cx="13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收割机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62" name="Picture 1048" descr="收割机"/>
          <p:cNvPicPr/>
          <p:nvPr/>
        </p:nvPicPr>
        <p:blipFill>
          <a:blip r:embed="rId1"/>
          <a:stretch/>
        </p:blipFill>
        <p:spPr>
          <a:xfrm>
            <a:off x="4711680" y="3568680"/>
            <a:ext cx="3294000" cy="2452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插秧机"/>
          <p:cNvPicPr/>
          <p:nvPr/>
        </p:nvPicPr>
        <p:blipFill>
          <a:blip r:embed="rId2"/>
          <a:stretch/>
        </p:blipFill>
        <p:spPr>
          <a:xfrm>
            <a:off x="5033880" y="662040"/>
            <a:ext cx="3211560" cy="2214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8244000" y="1584360"/>
            <a:ext cx="704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插秧机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65" name="Picture 3" descr="H:\六年级品社\r科技带给我们什么\1080_20121123211137361354_1.jpg"/>
          <p:cNvPicPr/>
          <p:nvPr/>
        </p:nvPicPr>
        <p:blipFill>
          <a:blip r:embed="rId3"/>
          <a:stretch/>
        </p:blipFill>
        <p:spPr>
          <a:xfrm>
            <a:off x="684360" y="585720"/>
            <a:ext cx="4027320" cy="2819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:\六年级品社\r科技带给我们什么\2381_110914113330_1.jpg"/>
          <p:cNvPicPr/>
          <p:nvPr/>
        </p:nvPicPr>
        <p:blipFill>
          <a:blip r:embed="rId4"/>
          <a:stretch/>
        </p:blipFill>
        <p:spPr>
          <a:xfrm>
            <a:off x="684360" y="3586320"/>
            <a:ext cx="4071960" cy="24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pic_20071016220140_119b32c3-79ad-4d8f-b426-0f00805c08c6"/>
          <p:cNvPicPr/>
          <p:nvPr/>
        </p:nvPicPr>
        <p:blipFill>
          <a:blip r:embed="rId1"/>
          <a:stretch/>
        </p:blipFill>
        <p:spPr>
          <a:xfrm>
            <a:off x="250920" y="1158840"/>
            <a:ext cx="4076640" cy="3059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12718457584bced37e6b854"/>
          <p:cNvPicPr/>
          <p:nvPr/>
        </p:nvPicPr>
        <p:blipFill>
          <a:blip r:embed="rId2"/>
          <a:stretch/>
        </p:blipFill>
        <p:spPr>
          <a:xfrm>
            <a:off x="4500720" y="2087640"/>
            <a:ext cx="3917880" cy="29383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8"/>
          <p:cNvSpPr/>
          <p:nvPr/>
        </p:nvSpPr>
        <p:spPr>
          <a:xfrm>
            <a:off x="3059280" y="5373720"/>
            <a:ext cx="22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楼层从低到高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第一次工业革命的火车"/>
          <p:cNvPicPr/>
          <p:nvPr/>
        </p:nvPicPr>
        <p:blipFill>
          <a:blip r:embed="rId1"/>
          <a:srcRect l="0" t="0" r="-68" b="-26"/>
          <a:stretch/>
        </p:blipFill>
        <p:spPr>
          <a:xfrm>
            <a:off x="826920" y="836640"/>
            <a:ext cx="3168720" cy="273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日本新干线"/>
          <p:cNvPicPr/>
          <p:nvPr/>
        </p:nvPicPr>
        <p:blipFill>
          <a:blip r:embed="rId2"/>
          <a:srcRect l="0" t="0" r="-55" b="0"/>
          <a:stretch/>
        </p:blipFill>
        <p:spPr>
          <a:xfrm>
            <a:off x="4500720" y="765000"/>
            <a:ext cx="3671640" cy="2808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3095640" cy="2248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3486240" cy="27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5:48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06Z</dcterms:modified>
  <cp:revision>1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