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type.wav" ContentType="audio/x-wav"/>
  <Override PartName="/ppt/media/chimes.wav" ContentType="audio/x-wav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2032-B919-410D-9D1A-1AA3D3EB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940F-C6B8-4504-9CDC-40959D55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3E15-1E11-4A71-8E39-47D08D8B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715F-2D21-4758-91CA-0390872F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6F6D-D997-493C-94DA-901F9081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520C-9CBF-4EFB-A794-ABBC740C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5CE4-87BC-4799-9899-B970C74D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2BF6-2938-4EB2-9621-B35414D2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3E13-BDB1-4088-8F54-E71387B8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E772-0D8B-450B-95C8-469234E9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459B-DA34-46AE-9500-6A34BCD7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0699-A4AC-4DB8-8528-D1F9E79C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78CA-C82B-4F42-9060-6A7CB067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0F6E-736C-4DED-8234-BB8A1FD2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3953-869A-4125-AF94-4F3F0FAB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D6B9-2A54-4455-8967-2051FEA9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DCD0-B15A-44F8-A77E-DC8E9ED1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5F8D-A1D6-4BA2-886D-CAD6CC15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0511-3D73-4D68-B86E-87EF406F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959E-43F4-4951-B023-854CE4E6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FC3C-0072-4C73-B166-E8A21595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AFFA-F3AB-43BD-94B9-4A2DC520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A2D9-B87B-4C9D-9247-23895697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E0FD-4DF6-4A73-92E8-EC86A328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2F84-2FE3-495F-9A33-77B3284E2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16D1-EE30-4A82-9912-8F2AC7B143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611280" y="1773360"/>
            <a:ext cx="7993080" cy="12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行楷"/>
              </a:rPr>
              <a:t>跨越百年的美丽小学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行楷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行楷"/>
              </a:rPr>
              <a:t>模板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116000" y="83664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人教版六年级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8"/>
          <p:cNvSpPr/>
          <p:nvPr/>
        </p:nvSpPr>
        <p:spPr>
          <a:xfrm>
            <a:off x="1476360" y="2781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居里夫人1"/>
          <p:cNvPicPr/>
          <p:nvPr/>
        </p:nvPicPr>
        <p:blipFill>
          <a:blip r:embed="rId2"/>
          <a:stretch/>
        </p:blipFill>
        <p:spPr>
          <a:xfrm>
            <a:off x="636480" y="2238480"/>
            <a:ext cx="2590920" cy="3657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居里夫人3"/>
          <p:cNvPicPr/>
          <p:nvPr/>
        </p:nvPicPr>
        <p:blipFill>
          <a:blip r:embed="rId3"/>
          <a:stretch/>
        </p:blipFill>
        <p:spPr>
          <a:xfrm>
            <a:off x="3246480" y="333360"/>
            <a:ext cx="2663640" cy="377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居里夫人4"/>
          <p:cNvPicPr/>
          <p:nvPr/>
        </p:nvPicPr>
        <p:blipFill>
          <a:blip r:embed="rId4"/>
          <a:stretch/>
        </p:blipFill>
        <p:spPr>
          <a:xfrm>
            <a:off x="5908680" y="2162160"/>
            <a:ext cx="2565360" cy="3581280"/>
          </a:xfrm>
          <a:prstGeom prst="rect">
            <a:avLst/>
          </a:prstGeom>
          <a:ln w="0">
            <a:noFill/>
          </a:ln>
        </p:spPr>
      </p:pic>
      <p:sp>
        <p:nvSpPr>
          <p:cNvPr id="90" name="WordArt 5"/>
          <p:cNvSpPr txBox="1"/>
          <p:nvPr/>
        </p:nvSpPr>
        <p:spPr>
          <a:xfrm>
            <a:off x="2857680" y="5948280"/>
            <a:ext cx="3958920" cy="5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跨越百年的美丽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539640" y="83664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居里夫人生平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04920" y="1676520"/>
            <a:ext cx="81532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居里夫人即玛丽居里（</a:t>
            </a:r>
            <a:r>
              <a:rPr b="0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Marie Curie</a:t>
            </a:r>
            <a:r>
              <a:rPr b="0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），是一位原籍为波兰的法国科学家。她与她的丈夫皮埃尔居里</a:t>
            </a:r>
            <a:r>
              <a:rPr b="0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(Pierre Curie)</a:t>
            </a:r>
            <a:r>
              <a:rPr b="0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都是放射性的早期研究者，他们发现了放射性元素钋</a:t>
            </a:r>
            <a:r>
              <a:rPr b="0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(Po)</a:t>
            </a:r>
            <a:r>
              <a:rPr b="0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和镭</a:t>
            </a:r>
            <a:r>
              <a:rPr b="0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(Ra)</a:t>
            </a:r>
            <a:r>
              <a:rPr b="0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，并因此与法国物理学家亨利贝克勒尔</a:t>
            </a:r>
            <a:r>
              <a:rPr b="0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(Henry Becquerel)</a:t>
            </a:r>
            <a:r>
              <a:rPr b="0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分享了</a:t>
            </a:r>
            <a:r>
              <a:rPr b="0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1903</a:t>
            </a:r>
            <a:r>
              <a:rPr b="0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年诺贝尔物理学奖。之后，居里夫人继续研究了镭在化学和医学上的应用，并且因分离出纯的金属镭而又获得</a:t>
            </a:r>
            <a:r>
              <a:rPr b="0" lang="en-US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1911</a:t>
            </a:r>
            <a:r>
              <a:rPr b="0" lang="zh-CN" sz="2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年诺贝尔化学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8199"/>
          <p:cNvSpPr/>
          <p:nvPr/>
        </p:nvSpPr>
        <p:spPr>
          <a:xfrm>
            <a:off x="2340000" y="692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611280" y="1989000"/>
            <a:ext cx="78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你认为居里夫人的“美丽”表现在哪些方面？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黑体"/>
              </a:rPr>
              <a:t>（找出文章当中的句子，并用自己的话概括）</a:t>
            </a:r>
            <a:r>
              <a:rPr b="0" lang="zh-CN" sz="3600" spc="-1" strike="noStrike">
                <a:solidFill>
                  <a:srgbClr val="ff66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250920" y="260280"/>
            <a:ext cx="3959280" cy="5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跨越百年的美丽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755640" y="220500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她的报告使全场震惊，物理学进入了一个新的时代，而她那美丽、庄重的形象也就从此定格在历史上，定格在每个人的心中。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3"/>
          <p:cNvSpPr txBox="1"/>
          <p:nvPr/>
        </p:nvSpPr>
        <p:spPr>
          <a:xfrm>
            <a:off x="250920" y="260280"/>
            <a:ext cx="3959280" cy="5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跨越百年的美丽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990720" y="18288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点美丽的淡蓝色的荧光，融入了一个女子美丽的生命和不屈的信念。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250920" y="260280"/>
            <a:ext cx="3959280" cy="5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跨越百年的美丽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470E-FB11-4B85-923E-F4180D7AB6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250920" y="260280"/>
            <a:ext cx="3959280" cy="5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跨越百年的美丽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625320" y="1496880"/>
            <a:ext cx="7921800" cy="2943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讨论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人说，居里夫人以自己的美貌和青春乃至生命为代价，追求她的事业，固然令人敬佩，但她不懂得享受人生，品味生活，这样做并不值得；也有人说，居里夫人放弃申请镭的专利，把那么多的奖金捐赠出去，这种做法并不明智，因为如果她能有这些本属于她的财产，既能改善贫困的生活，又能添置实验设备等等，说不定能为科学做出更大的贡献呢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认为呢？四人为一小组讨论</a:t>
            </a:r>
            <a:r>
              <a:rPr b="1" lang="en-US" sz="2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然后发言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3:13:3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48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