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E89-AA30-4FFD-BBF4-D7DF8B52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608-4DD9-48B0-8A4A-5B7734CC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E76-2BFE-4715-94CF-6AF5267B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0A6-9397-44F5-AE8C-F32A0E58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2E34-672E-4E7E-AD10-6D56C8BE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3D50-C726-483C-9FEB-0C227749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BB0-B71F-483F-9EB9-2A2E52EF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5E67-7DBD-497E-A038-2BC39287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678-DBAB-4695-AA6A-1945AD23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10FA-766D-4DC1-8640-B650D4B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F619-7227-44A2-9FE3-4C3CD7F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B30-C65C-4534-A80D-4CC058F1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7DC3-4CEB-406C-BC16-E624CBCE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327B-3BFE-4E2A-8F98-D3215AE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3115-E292-4CC9-AE45-9C4B191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F34C-7E8C-43D7-82C8-52AD357B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5DFD-BD27-4993-9EC4-02D0A0E9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DB1-726F-49E5-9001-41B5C26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A8B-E74C-4435-BCE4-B7E7898F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7DA-10FA-4066-816F-7838FC8D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791-180A-465B-822A-4BBDAEB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D20-B150-4428-B787-E3B7387C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80A-8941-4B39-8200-C117C346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137-31F9-4C76-8E18-8D07105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0D22-24DD-46E1-BF64-67D2A4C5E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A306-6210-4D3F-A9DA-2B2A44AAC9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219320" y="62064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孔乙己语文</a:t>
            </a:r>
            <a:r>
              <a:rPr b="1" lang="en-US" sz="4000" spc="-1" strike="noStrike">
                <a:solidFill>
                  <a:srgbClr val="ffff6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19640" y="328464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鲁迅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WordArt 4" descr=""/>
          <p:cNvPicPr/>
          <p:nvPr/>
        </p:nvPicPr>
        <p:blipFill>
          <a:blip r:embed="rId2"/>
          <a:stretch/>
        </p:blipFill>
        <p:spPr>
          <a:xfrm>
            <a:off x="1290600" y="1295280"/>
            <a:ext cx="66009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19320" y="533520"/>
            <a:ext cx="7238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故事发生在什么时间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人们喝酒的方式和衣着，可以看出当时怎样的阶级状况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酒客、掌柜、伙计等人对孔乙己的态度，可以看出当时怎样的世态人情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孔乙己读书的经历和丁举人对孔乙己的所为，可以看出什么问题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孔乙己最后一次到酒店喝酒的情况来看，孔乙己有哪些自身原因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562720" y="106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清朝末年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038480" y="22096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贫富对立、阶级对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019920" y="3352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世态炎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25780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两种不同命运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797360" y="58672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热衷科举、鄙视体力劳动、至死不悟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WordArt 5" descr=""/>
          <p:cNvPicPr/>
          <p:nvPr/>
        </p:nvPicPr>
        <p:blipFill>
          <a:blip r:embed="rId1"/>
          <a:stretch/>
        </p:blipFill>
        <p:spPr>
          <a:xfrm>
            <a:off x="907920" y="527040"/>
            <a:ext cx="2565360" cy="31622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45720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社会原因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4832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自身原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990720" y="5105520"/>
            <a:ext cx="2666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封建社会和封建教育制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724280" y="5029200"/>
            <a:ext cx="3886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身受封建教育制度的毒害：热衷科举、自命不凡、好吃懒做、鄙视体力劳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孔乙己2"/>
          <p:cNvPicPr/>
          <p:nvPr/>
        </p:nvPicPr>
        <p:blipFill>
          <a:blip r:embed="rId2"/>
          <a:stretch/>
        </p:blipFill>
        <p:spPr>
          <a:xfrm>
            <a:off x="4648320" y="0"/>
            <a:ext cx="42368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209680" y="9144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小说的主题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133720" y="1905120"/>
            <a:ext cx="5105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说通过对孔乙己的悲惨遭遇的描写，反映了封建文化和封建科举制度对读书人的毒害，有力地控诉了科举制度的罪恶。小说也揭露和批判了封建社会的世态炎凉，人们精神的麻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28600" y="304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小说写“我”一这个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岁的小伙计有什么作用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3520" y="15238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‘我”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的酒店小伙计是孔乙己命运的见证人。小说都是通过“我”的所见所闻所感来写，用第一人称可以使故事显得真实亲切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57200" y="3048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使故事情节集中，内容简要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3520" y="3809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表现周围人对孔乙己的态度，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的小伙计都鄙视孔乙己，更能说明这个社会对不幸者的冷漠，使作品更增加了悲凉的意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858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作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981080" y="228600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研究孔乙己这个人物形象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以及其所蕴含的社会意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3520" y="7621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教学目标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8194"/>
          <p:cNvSpPr/>
          <p:nvPr/>
        </p:nvSpPr>
        <p:spPr>
          <a:xfrm>
            <a:off x="1260360" y="2925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WordArt 2" descr=""/>
          <p:cNvPicPr/>
          <p:nvPr/>
        </p:nvPicPr>
        <p:blipFill>
          <a:blip r:embed="rId1"/>
          <a:stretch/>
        </p:blipFill>
        <p:spPr>
          <a:xfrm>
            <a:off x="907920" y="1365120"/>
            <a:ext cx="2565360" cy="3162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孔乙己2"/>
          <p:cNvPicPr/>
          <p:nvPr/>
        </p:nvPicPr>
        <p:blipFill>
          <a:blip r:embed="rId2"/>
          <a:stretch/>
        </p:blipFill>
        <p:spPr>
          <a:xfrm>
            <a:off x="4191120" y="914400"/>
            <a:ext cx="4667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2F70-4E5A-4A02-AFC3-BD07016A3A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706320" y="64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是长衫”却“又脏又破”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211640" y="94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四体不勤，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77720" y="1635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是满口之乎者也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983040" y="1558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以读书人自居，卖弄学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858960" y="27781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睁大眼睛说，你怎么凭空污人清白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059360" y="28544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死要面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30360" y="4149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涨红了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”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额上青筋条条绽出”“窃书不能算偷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059360" y="42260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自欺欺人、迂腐可笑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5720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封建科举制度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封建科举制度是隋朝以后封建王朝用考试选拔官吏的制度。科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分科举人的意思。它分院试、乡试、会试、殿试四级考试。院试由县、府、省主持，及格者称秀才。乡试每三年在省城举行，主考由朝廷委派，参加者须是秀才。乡试及格者称举人。会试在乡试的第二年二月举行，由礼部主持，及格者称贡生。殿试由皇帝在皇宫大殿亲自主持，中者称进土，第一名为状元。科举实际上是由下而上的层层考试。科举考试的内容，明朝以后主要考八股文，以（四书＊（五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某个文句为题作文，文章有固定的格式，内容是阐释孔孟之道，从内容到形式都不允许越矩半步，严重禁铜了知识分子的思想。从科举取士人员的情况来看，康有为曾经指出，戊戌变法前，全国每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万读书人，参加考选“秀才”，只有百分之一入选；三年一考的“举人”，人选者只有于分之一；三年一考的“进士”，入选者只有万分之一。许多读书人老死科场，利欲熏心，精神畸型，成了科举的奴隶，成了科举制度的受害者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33520" y="91440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查字典，读准下面加点字的音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颓唐（       ）     附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)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屑置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咸亨酒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荤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)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羼水（         ）    拭（        ）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惋惜（       ）    阔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舀水（         ）   涨红（           ）绽（         ）  哄笑（         ）    间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着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)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折（       ）      门槛（         ）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52480" y="19051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u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4956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16292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36232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i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4120" y="2362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ē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238880" y="2438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67652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ū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2388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57200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ǎ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7162920" y="3352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u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752480" y="3809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ǎ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572000" y="3809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à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69343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75248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ō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4572000" y="4343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ià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7162920" y="4343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á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1752480" y="48769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472428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ǎ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26"/>
          <p:cNvSpPr/>
          <p:nvPr/>
        </p:nvSpPr>
        <p:spPr>
          <a:xfrm>
            <a:off x="685800" y="360360"/>
            <a:ext cx="5942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查工具书，解释下面词语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屑置辩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颓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辩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格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缠夹不清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乎者也：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抵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君子固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附和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营生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7"/>
          <p:cNvSpPr/>
          <p:nvPr/>
        </p:nvSpPr>
        <p:spPr>
          <a:xfrm>
            <a:off x="2438280" y="7621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为不值得辩论或申辩。屑，值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8"/>
          <p:cNvSpPr/>
          <p:nvPr/>
        </p:nvSpPr>
        <p:spPr>
          <a:xfrm>
            <a:off x="1752480" y="1219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精神萎靡不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情绪低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29"/>
          <p:cNvSpPr/>
          <p:nvPr/>
        </p:nvSpPr>
        <p:spPr>
          <a:xfrm>
            <a:off x="1676520" y="1676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辩白，辩解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0"/>
          <p:cNvSpPr/>
          <p:nvPr/>
        </p:nvSpPr>
        <p:spPr>
          <a:xfrm>
            <a:off x="1676520" y="2057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布置的格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1"/>
          <p:cNvSpPr/>
          <p:nvPr/>
        </p:nvSpPr>
        <p:spPr>
          <a:xfrm>
            <a:off x="236232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搅扰、夹杂不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2362320" y="30481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、乎、者、也”是文言文里常用的语助词，常用来形容丰文不白的话或文章。含讽刺意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3"/>
          <p:cNvSpPr/>
          <p:nvPr/>
        </p:nvSpPr>
        <p:spPr>
          <a:xfrm>
            <a:off x="190512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概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4"/>
          <p:cNvSpPr/>
          <p:nvPr/>
        </p:nvSpPr>
        <p:spPr>
          <a:xfrm>
            <a:off x="2362320" y="47242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语出（论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意思是“君子能够安于穷困，不因穷困而丧失其道德意志。固，固守，安守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6"/>
          <p:cNvSpPr/>
          <p:nvPr/>
        </p:nvSpPr>
        <p:spPr>
          <a:xfrm>
            <a:off x="1523880" y="5943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言语、行动）追随别人（多含贬义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37"/>
          <p:cNvSpPr/>
          <p:nvPr/>
        </p:nvSpPr>
        <p:spPr>
          <a:xfrm>
            <a:off x="1828800" y="63388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谋生，筹划如何生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WordArt 6" descr=""/>
          <p:cNvPicPr/>
          <p:nvPr/>
        </p:nvPicPr>
        <p:blipFill>
          <a:blip r:embed="rId2"/>
          <a:stretch/>
        </p:blipFill>
        <p:spPr>
          <a:xfrm>
            <a:off x="2133720" y="522360"/>
            <a:ext cx="620532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2120" y="1295280"/>
            <a:ext cx="2514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开端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发展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高潮和结局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5238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开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29000" y="13716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鲁镇咸亨酒店的大概情况，做为孔乙己出场的背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666880" y="4267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76720" y="2895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孔乙己第一次出场，表现孔乙己是大伙的笑料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7242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孔乙己第二次出场，表现孔乙己被打折腿后的遭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905120" y="4572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说的故事情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856880" y="2895480"/>
            <a:ext cx="15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—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18680" y="2379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环境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998440" y="1521000"/>
            <a:ext cx="43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故事发生的具体地点有 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041560" y="3425760"/>
            <a:ext cx="67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小说中人物所处的时代有何特点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7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WordArt 4" descr=""/>
          <p:cNvPicPr/>
          <p:nvPr/>
        </p:nvPicPr>
        <p:blipFill>
          <a:blip r:embed="rId1"/>
          <a:stretch/>
        </p:blipFill>
        <p:spPr>
          <a:xfrm>
            <a:off x="4489560" y="374760"/>
            <a:ext cx="3555720" cy="30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孔乙己1"/>
          <p:cNvPicPr/>
          <p:nvPr/>
        </p:nvPicPr>
        <p:blipFill>
          <a:blip r:embed="rId2"/>
          <a:stretch/>
        </p:blipFill>
        <p:spPr>
          <a:xfrm>
            <a:off x="685800" y="609480"/>
            <a:ext cx="3156120" cy="5029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4038480" y="4800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站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781680" y="3886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长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33412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唯一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4038480" y="3809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858000" y="4876920"/>
            <a:ext cx="838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0" y="4419720"/>
            <a:ext cx="360" cy="380880"/>
            <a:chOff x="4572000" y="4419720"/>
            <a:chExt cx="360" cy="380880"/>
          </a:xfrm>
        </p:grpSpPr>
        <p:sp>
          <p:nvSpPr>
            <p:cNvPr id="145" name="Line 14"/>
            <p:cNvSpPr/>
            <p:nvPr/>
          </p:nvSpPr>
          <p:spPr>
            <a:xfrm>
              <a:off x="4572000" y="4419720"/>
              <a:ext cx="0" cy="38088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572000" y="4419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315200" y="4419720"/>
            <a:ext cx="360" cy="457200"/>
            <a:chOff x="7315200" y="4419720"/>
            <a:chExt cx="360" cy="457200"/>
          </a:xfrm>
        </p:grpSpPr>
        <p:sp>
          <p:nvSpPr>
            <p:cNvPr id="148" name="Line 15"/>
            <p:cNvSpPr/>
            <p:nvPr/>
          </p:nvSpPr>
          <p:spPr>
            <a:xfrm>
              <a:off x="7315200" y="44197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7315200" y="44197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5334120" y="3581280"/>
            <a:ext cx="129528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029200" y="4800600"/>
            <a:ext cx="380880" cy="228600"/>
            <a:chOff x="5029200" y="4800600"/>
            <a:chExt cx="380880" cy="228600"/>
          </a:xfrm>
        </p:grpSpPr>
        <p:sp>
          <p:nvSpPr>
            <p:cNvPr id="152" name="Line 17"/>
            <p:cNvSpPr/>
            <p:nvPr/>
          </p:nvSpPr>
          <p:spPr>
            <a:xfrm flipH="1">
              <a:off x="5029200" y="4800600"/>
              <a:ext cx="380880" cy="22860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029200" y="48006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629040" y="4267080"/>
            <a:ext cx="305280" cy="152640"/>
            <a:chOff x="6629040" y="4267080"/>
            <a:chExt cx="305280" cy="152640"/>
          </a:xfrm>
        </p:grpSpPr>
        <p:sp>
          <p:nvSpPr>
            <p:cNvPr id="155" name="Line 18"/>
            <p:cNvSpPr/>
            <p:nvPr/>
          </p:nvSpPr>
          <p:spPr>
            <a:xfrm flipH="1">
              <a:off x="6629040" y="4267080"/>
              <a:ext cx="304920" cy="15264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629400" y="4267080"/>
              <a:ext cx="30492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1143000" y="32004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特殊身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8194"/>
          <p:cNvSpPr/>
          <p:nvPr/>
        </p:nvSpPr>
        <p:spPr>
          <a:xfrm>
            <a:off x="2195640" y="587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2050"/>
          <p:cNvSpPr txBox="1"/>
          <p:nvPr/>
        </p:nvSpPr>
        <p:spPr>
          <a:xfrm>
            <a:off x="3581280" y="60948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孔乙己有着怎样的性格？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1" name="Text Box 2051"/>
          <p:cNvSpPr/>
          <p:nvPr/>
        </p:nvSpPr>
        <p:spPr>
          <a:xfrm>
            <a:off x="304920" y="5105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体不勤，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052"/>
          <p:cNvSpPr/>
          <p:nvPr/>
        </p:nvSpPr>
        <p:spPr>
          <a:xfrm>
            <a:off x="6019920" y="4038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读书人自居，卖弄学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053"/>
          <p:cNvSpPr/>
          <p:nvPr/>
        </p:nvSpPr>
        <p:spPr>
          <a:xfrm>
            <a:off x="3886200" y="6019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要面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54"/>
          <p:cNvSpPr/>
          <p:nvPr/>
        </p:nvSpPr>
        <p:spPr>
          <a:xfrm>
            <a:off x="3886200" y="51814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欺欺人、迂腐可笑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56"/>
          <p:cNvSpPr/>
          <p:nvPr/>
        </p:nvSpPr>
        <p:spPr>
          <a:xfrm>
            <a:off x="3733920" y="2438280"/>
            <a:ext cx="403848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从外貌、语言、动作、神态等描写角度分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057" descr="kongyiji4"/>
          <p:cNvPicPr/>
          <p:nvPr/>
        </p:nvPicPr>
        <p:blipFill>
          <a:blip r:embed="rId2"/>
          <a:stretch/>
        </p:blipFill>
        <p:spPr>
          <a:xfrm>
            <a:off x="228600" y="838080"/>
            <a:ext cx="3270240" cy="4191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58"/>
          <p:cNvSpPr/>
          <p:nvPr/>
        </p:nvSpPr>
        <p:spPr>
          <a:xfrm>
            <a:off x="609480" y="5791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穷困潦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59"/>
          <p:cNvSpPr/>
          <p:nvPr/>
        </p:nvSpPr>
        <p:spPr>
          <a:xfrm>
            <a:off x="3733920" y="4114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命清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060"/>
          <p:cNvSpPr/>
          <p:nvPr/>
        </p:nvSpPr>
        <p:spPr>
          <a:xfrm>
            <a:off x="609588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死不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61"/>
          <p:cNvSpPr/>
          <p:nvPr/>
        </p:nvSpPr>
        <p:spPr>
          <a:xfrm>
            <a:off x="7441200" y="4648320"/>
            <a:ext cx="1155240" cy="19047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热心善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5:01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58Z</dcterms:modified>
  <cp:revision>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