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EBB-36FC-4694-8E68-FF1A433C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DA0-FDC5-4BF3-B78E-2C4641C5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0167-BE49-4109-B142-8C772371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A26E-A2B0-4A20-8935-CE27CCB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CF50-BA37-4B88-BC88-0595AAA9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5CDB-9273-4606-B24F-63251B0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A5A8-A464-46C4-A97F-1AE8F6A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5F40-5937-42C6-865A-09F4F16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B20CB-AD4D-45FC-A2CA-4C5DF33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DB340-B649-4D82-B619-8EDA8EF5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E029-246F-4E94-B94E-F334E645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C682F-912D-46DA-8918-6638BB48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AD3-61B6-4985-917D-D1A6D9A9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DF48-75E0-4C86-A2DB-000C97A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79AA-3E35-41F4-A360-A3ED6BB7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84D25-51E0-4CB3-B24B-8C9720A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472B2-176D-4E41-8B78-ECDD2CCA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EBD8-A978-4EF7-A724-B6A36FFD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FBEC-B186-42DA-8444-383BA56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DB8B0-6594-4A22-B26C-C3409F2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10A99-2433-406D-8F93-0CBCB44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93877-3E82-471A-AF17-9CCE50D3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D549-DF0C-4F7C-80C1-8C69977F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F41-F008-4FB0-ABE4-B632D630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DE593-3359-4885-A184-F010811C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F1B9E-1D50-4CC4-963B-700939EB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36FF6-D260-4E0A-83E5-7BE61F57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3CA4-4935-4CA5-8DD9-78B6671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17C26-50DD-417F-AEFC-8356AC2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7610-5EB4-4983-806B-F4EC0006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76BC6-8C97-4325-B1F5-C61A5911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C2B97-0125-4851-A53B-37692FA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01A33-928A-4E26-B704-4A34B81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F926-2C47-48B2-B95F-5E3B71F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74DC-F11A-4DA1-ADE9-83000AAB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140D5-0830-493E-B67D-AF52C5C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42CE0-09FB-42D3-8049-25EE957B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FE3FD-BF77-44F7-A03B-63D759A5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662E0-5941-4562-A79C-896275D7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A2A8-1CDE-4332-B075-4B81327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AD3F6-C238-41E0-B032-CC361D4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E35B3-F869-4399-9D17-E426742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DB4D5-B8EF-440E-8CBA-F1EBF985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1A0FD-EB4D-4016-A1DD-E178E0A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68026-F738-4CBD-B47B-8418D42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A45-CB39-415A-96EC-42FE5E2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9D9F-90B4-445F-85CA-3B533F6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062B-974A-4E08-B0B4-F3581C1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ACB9C-D7E6-42DE-BD38-05B49DC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4CC3-0A04-4777-9923-E4F26BC6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F51C-53AC-44FA-93D8-6514CF64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0C30-69FB-465B-B05E-8289E56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260-B60A-4BF9-A67B-9CCE72C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13CB-5DFA-4245-BF36-C03E5F0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39D3-DFC5-445A-8420-B39261F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1BAB-CD82-403F-A2EF-AF39600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24F-07A6-4416-A561-56FB63D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251-F4B3-4748-BAAA-EDF628B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E9A-AE39-49C3-9027-A41D8DC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A414-D038-47F3-B052-17B721CD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B978-8793-4879-B41A-61084F75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DE9-7245-4FC0-BE45-99E152BB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AB66-E72E-457A-9CC1-D680D494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D2CF-93CC-4B39-92D2-89E2839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4749-E55F-4101-BEA1-D1BB79E5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1152-4A9A-4DE7-9BB8-4D855194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D738-EB2F-439E-8A9D-0DBEBC1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BC3-A93F-4211-B988-FBBAA4F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7B88-8FBD-4D81-979A-4613212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D71F-C4E8-48F8-A932-522FEA9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FB8B-1EA4-4868-9786-1F18952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B8C0-08ED-419D-A254-2C496CE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5AA5-0B4E-4D16-B18B-930214C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6741-6CAE-4347-8F80-6F44C141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C2B9-3B56-4AC3-819E-CB1D0EAC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E60-1292-45CF-96E8-4FFD9B0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3592-1890-499F-8488-6FA5D7A0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3F7-1E76-44C8-8CF8-5ADF0D5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64B6-B8FE-48C7-BBD6-C309792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1507-3645-4648-9A31-D2604055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E1A7-DCBC-4BEB-8A1A-E684B06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6614-0BDD-4D0F-B6F2-4DC5DA76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A762-3538-40AA-AADC-F65506E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1F0F-06B6-4615-87D9-A1083EA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E0E6-895C-4E48-AE8F-29AD2E9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7364-4001-49C2-ADF6-ED8C748F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9175-E1EC-40BB-820D-E47CEA1E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249E-49BB-41DE-89E6-DB9DC22E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8A-660F-4B08-A935-83B51737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A2A3-2A07-47C6-B0F0-350F4F0B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29A8-877E-4722-B9BA-907A55B9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8A95B-1A3A-49FB-BD32-2A1D2A84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6C0B-F20C-4B60-978B-4F51B68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1291-FB81-4BF8-BCDE-4D2A8BDC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F905-11E5-44C4-BC70-DF17166C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EEE24-0DE7-4B03-832C-112AD14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A1B6B-19AF-413D-BE5F-F3DD356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0F17-E1AE-4A89-BC20-0F72D5A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2D2D-744E-444E-BBEA-EEF443F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72D-C16C-4A5C-BE1A-606F8C2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13DE-0C77-4028-886E-9D75E5AB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742D7-8DC6-4748-AD32-36AF2CF1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4DC5-30ED-4552-9D82-15DC9B0D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221E-679E-457D-8D98-366C68F8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2626-8668-484B-926A-8AE529A5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363D1-B25E-46CD-8979-D0D26B4C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EE5BF-56A8-4B24-8884-4E3D32A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1F462-2906-4052-AD01-3B87632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D08D-1746-4267-A210-9ABFDD4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52601-70F1-4CBA-AB19-1190BF7E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40F-C59C-4B09-A89C-8AE44B6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EC39-3D5B-4A9E-A452-13C5514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C5A8-1AC7-4332-812D-18F1286C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F5CD-4742-4C3D-8241-0A59F08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2A808-DAC7-4806-9728-6C0A656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A0A9-3C51-4BD2-8DE6-BD55C9BB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B6CF-FC16-4399-AFA9-276A55E1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A5D6-B9F4-4443-88E7-DC5A79D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97DA-D657-4455-98CB-A4100A4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6FCC-C75F-4906-B2FC-791D974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5561B-EE51-4F6A-819E-1801105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0DB-7E15-4E25-80C4-FE91346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1892B-EAC1-48A7-A598-C5722DD2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ADFC-C513-442A-AC15-9F7EA02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6271-D3A4-43A8-82D6-37E4E00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FBD6-D4A4-4520-8ADC-3C9CDCE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C16A-B72B-4F9A-8044-1FA1C1A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C1FE-78DC-49F2-B725-8EE1447A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A7886-48EE-4864-8B89-9A063367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7B87-D013-4D30-B88B-F3453030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3D0B-6F74-4A3C-86E3-78C0B71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BCAD-5F09-48CE-A6D0-DF11A85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E1B5-DE16-4C71-A7B5-F4771DCE2BCB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CEA-6CAB-4052-92AC-1E2A330DF52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6E9-6D87-4C5D-8946-A90D535C6A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A1C-0CA6-45FD-97C7-EA68C62910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-1440"/>
            <a:ext cx="9188280" cy="66776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0F7-0A63-4178-BDC1-5049925BC1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b"/>
          <p:cNvPicPr/>
          <p:nvPr/>
        </p:nvPicPr>
        <p:blipFill>
          <a:blip r:embed="rId3"/>
          <a:stretch/>
        </p:blipFill>
        <p:spPr>
          <a:xfrm>
            <a:off x="66600" y="333360"/>
            <a:ext cx="9077400" cy="65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6304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CF2-29C2-4221-B5CF-C8CCB57412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6EC7-F910-407F-ABBA-AC973B43DA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0AFF-98F2-464C-B3D4-E8F93C32BA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036B-E1EA-405A-9874-966F373B9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F76-D275-478E-8D55-7387BB5BA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937-2E4C-4FB0-94BF-EC82254B0B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&#38450;&#38152;&#26041;&#27861;.asf" TargetMode="External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2"/>
          <p:cNvSpPr/>
          <p:nvPr/>
        </p:nvSpPr>
        <p:spPr>
          <a:xfrm>
            <a:off x="1332000" y="2060640"/>
            <a:ext cx="345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"/>
          <p:cNvSpPr/>
          <p:nvPr/>
        </p:nvSpPr>
        <p:spPr>
          <a:xfrm>
            <a:off x="1763640" y="2852640"/>
            <a:ext cx="619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4"/>
          <p:cNvSpPr txBox="1"/>
          <p:nvPr/>
        </p:nvSpPr>
        <p:spPr>
          <a:xfrm>
            <a:off x="960480" y="1484280"/>
            <a:ext cx="727236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控制铁生锈的速度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PT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课件下载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3168000" y="6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版六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2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319640" cy="2670120"/>
          </a:xfrm>
          <a:prstGeom prst="rect">
            <a:avLst/>
          </a:prstGeom>
          <a:ln w="0">
            <a:noFill/>
          </a:ln>
        </p:spPr>
      </p:pic>
      <p:sp>
        <p:nvSpPr>
          <p:cNvPr id="4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68360" y="189000"/>
            <a:ext cx="4824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铁生锈观察记录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68360" y="1125360"/>
          <a:ext cx="8280360" cy="374328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2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放置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空气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潮湿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水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盐水里和空气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生锈速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我们的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6" name="Rectangle 43"/>
          <p:cNvSpPr/>
          <p:nvPr/>
        </p:nvSpPr>
        <p:spPr>
          <a:xfrm>
            <a:off x="25585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较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4"/>
          <p:cNvSpPr/>
          <p:nvPr/>
        </p:nvSpPr>
        <p:spPr>
          <a:xfrm>
            <a:off x="435708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较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5"/>
          <p:cNvSpPr/>
          <p:nvPr/>
        </p:nvSpPr>
        <p:spPr>
          <a:xfrm>
            <a:off x="579708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较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6"/>
          <p:cNvSpPr/>
          <p:nvPr/>
        </p:nvSpPr>
        <p:spPr>
          <a:xfrm>
            <a:off x="759708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很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7"/>
          <p:cNvSpPr/>
          <p:nvPr/>
        </p:nvSpPr>
        <p:spPr>
          <a:xfrm>
            <a:off x="2124000" y="378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空气中水分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8"/>
          <p:cNvSpPr/>
          <p:nvPr/>
        </p:nvSpPr>
        <p:spPr>
          <a:xfrm>
            <a:off x="3780000" y="378936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空气中有较多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9"/>
          <p:cNvSpPr/>
          <p:nvPr/>
        </p:nvSpPr>
        <p:spPr>
          <a:xfrm>
            <a:off x="5435640" y="37893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水中的空气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1"/>
          <p:cNvSpPr/>
          <p:nvPr/>
        </p:nvSpPr>
        <p:spPr>
          <a:xfrm>
            <a:off x="7020000" y="3789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盐会加快铁的生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395280" y="5013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结论：铁钉在盐水和空气中生锈的速度最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2"/>
          <p:cNvSpPr/>
          <p:nvPr/>
        </p:nvSpPr>
        <p:spPr>
          <a:xfrm>
            <a:off x="1187280" y="1603440"/>
            <a:ext cx="363600" cy="482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539640" y="1100160"/>
            <a:ext cx="2952720" cy="48240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55640" y="692280"/>
            <a:ext cx="230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隶书"/>
              </a:rPr>
              <a:t>问题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395280" y="2565360"/>
            <a:ext cx="813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生活中，人们怎样防止铁生锈、减缓铁生锈的速度？思考其中的科学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233760" y="17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铁生锈的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防止铁生锈的措施－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破坏铁生锈的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铁制品的防锈措施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395280" y="1916280"/>
            <a:ext cx="806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防止铁制品生锈的常见方法：（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"/>
              </a:rPr>
              <a:t>防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468360" y="2565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持铁制品表面干燥和洁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隔绝水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68360" y="486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成不锈钢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改变内部的结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68360" y="3141720"/>
            <a:ext cx="76327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铁制品表面涂一层油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隔绝水分和空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铁制品表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刷油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铁制品表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镀上一层耐磨、耐腐蚀的金属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CF0-BAA1-4B04-A417-081694253A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4"/>
          <p:cNvSpPr txBox="1"/>
          <p:nvPr/>
        </p:nvSpPr>
        <p:spPr>
          <a:xfrm>
            <a:off x="2268360" y="2060640"/>
            <a:ext cx="46339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advTm="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科学讨论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我们研究了铁生锈的原因，进行了对比实验，让我们分享研究成果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 flipV="1">
            <a:off x="469800" y="-720"/>
            <a:ext cx="820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QQ截图未命名"/>
          <p:cNvPicPr/>
          <p:nvPr/>
        </p:nvPicPr>
        <p:blipFill>
          <a:blip r:embed="rId1"/>
          <a:stretch/>
        </p:blipFill>
        <p:spPr>
          <a:xfrm>
            <a:off x="0" y="20520"/>
            <a:ext cx="91472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4920" y="-96840"/>
            <a:ext cx="8229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33"/>
                </a:solidFill>
                <a:uFillTx/>
                <a:latin typeface="微软雅黑"/>
                <a:ea typeface="黑体"/>
              </a:rPr>
              <a:t>铁生锈与空气和水有关，铁生锈是水和空气共同作用的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验结果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24000" y="2781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 Black"/>
                <a:ea typeface="宋体"/>
              </a:rPr>
              <a:t>原因分析</a:t>
            </a:r>
            <a:r>
              <a:rPr b="0" lang="zh-CN" sz="3600" spc="-1" strike="noStrike">
                <a:solidFill>
                  <a:srgbClr val="333333"/>
                </a:solidFill>
                <a:latin typeface="Arial Black"/>
                <a:ea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9528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33"/>
                </a:solidFill>
                <a:uFillTx/>
                <a:latin typeface="Arial"/>
                <a:ea typeface="楷体_GB2312"/>
              </a:rPr>
              <a:t>铁生锈需要水和空气的共同作用，在不同的环境里铁生锈的速度有快慢，铁在盐水里的生锈速度快，铁生锈的时候会发生颜色变化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5" name="文本框 8200"/>
          <p:cNvSpPr/>
          <p:nvPr/>
        </p:nvSpPr>
        <p:spPr>
          <a:xfrm>
            <a:off x="2484360" y="4888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00"/>
                </a:solidFill>
                <a:uFillTx/>
                <a:latin typeface="微软雅黑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看了上面的实验记录单，我们能得出什么结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交流大家的实验结果，我们能找到铁生锈的原因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生锈的快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小苏打与白醋的实验相比，铁生锈化学变化的很慢，但是每年由于生锈造成的损失却十分巨大，所以我们有必要通过了解铁生锈的条件和快慢来控制生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2401D"/>
          <p:cNvPicPr/>
          <p:nvPr/>
        </p:nvPicPr>
        <p:blipFill>
          <a:blip r:embed="rId1"/>
          <a:stretch/>
        </p:blipFill>
        <p:spPr>
          <a:xfrm>
            <a:off x="755640" y="3068640"/>
            <a:ext cx="2819520" cy="37893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1" descr=""/>
          <p:cNvPicPr/>
          <p:nvPr/>
        </p:nvPicPr>
        <p:blipFill>
          <a:blip r:embed="rId2"/>
          <a:stretch/>
        </p:blipFill>
        <p:spPr>
          <a:xfrm>
            <a:off x="3940200" y="3233880"/>
            <a:ext cx="47559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23640" y="1484280"/>
            <a:ext cx="86518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么在什么情况下铁容易生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怎样防止、减缓铁生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来设计对比实验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5" descr="1-101229203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4932360" y="12542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放置在空气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4859280" y="3995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放置在潮湿的餐巾纸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1" descr=""/>
          <p:cNvPicPr/>
          <p:nvPr/>
        </p:nvPicPr>
        <p:blipFill>
          <a:blip r:embed="rId2"/>
          <a:stretch/>
        </p:blipFill>
        <p:spPr>
          <a:xfrm>
            <a:off x="549360" y="3406680"/>
            <a:ext cx="4240080" cy="27036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" descr=""/>
          <p:cNvPicPr/>
          <p:nvPr/>
        </p:nvPicPr>
        <p:blipFill>
          <a:blip r:embed="rId3"/>
          <a:stretch/>
        </p:blipFill>
        <p:spPr>
          <a:xfrm>
            <a:off x="542880" y="347760"/>
            <a:ext cx="4240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5" descr="1-101229203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4"/>
          <p:cNvSpPr/>
          <p:nvPr/>
        </p:nvSpPr>
        <p:spPr>
          <a:xfrm>
            <a:off x="1180440" y="5375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完全浸没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中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978440" y="529128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一半浸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里，一半暴露在空气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1" descr=""/>
          <p:cNvPicPr/>
          <p:nvPr/>
        </p:nvPicPr>
        <p:blipFill>
          <a:blip r:embed="rId2"/>
          <a:stretch/>
        </p:blipFill>
        <p:spPr>
          <a:xfrm>
            <a:off x="4932360" y="431640"/>
            <a:ext cx="3389400" cy="47307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2" descr=""/>
          <p:cNvPicPr/>
          <p:nvPr/>
        </p:nvPicPr>
        <p:blipFill>
          <a:blip r:embed="rId3"/>
          <a:stretch/>
        </p:blipFill>
        <p:spPr>
          <a:xfrm>
            <a:off x="539640" y="431640"/>
            <a:ext cx="3402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15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