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747-A7F3-4C09-B2FE-AE7AD216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882-ECAD-4AB0-88EC-141E16C0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44E-FF26-4C2B-8B91-5ABBAE35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CAC-4859-4D73-9B2E-8B1E3EA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FED5-0868-4D9F-85FE-104F7630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1B6-6BB2-4FC4-9E6B-E440A61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232A-9D9A-4ECA-BE3B-629EE94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02B7-E3A2-42DD-9CF8-6FAE6BD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158D-69A3-4A83-98C1-B51CC3E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86D-C490-4C4F-AF6A-89FE9209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C4B9-FCF6-4E06-B829-2D52CB90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ABB-D5C8-4678-92EB-55F29C7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C2BF-1D82-4BDE-985B-F1778F2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4D20-A778-4247-9A7B-FF98B72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3D57-ADFA-4E65-81AA-5A742978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6378-FFE4-45BB-A5D9-A0503A58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6010-1F69-4F50-844F-4AFA1920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3C5-8CE9-4FEE-8236-CBA080D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A47-7B4B-4D4A-8E41-7BA555AA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962-0BEB-439B-A7C7-19D6011E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9BD-BCC7-4992-AEEF-E134EB1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318-CF99-49D1-A811-868B4803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FF4-4982-4E05-8362-E737A657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3A3-29D2-44EA-A234-289D5A3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4D81-063C-4276-B56F-D6CAAE8DA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346-33F8-4DF8-AF64-8E00F4929C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5600951&amp;tn=baiduimagedetail&amp;word=&#32599;&#24067;&#27850;&amp;in=1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91723701&amp;tn=baiduimagedetail&amp;word=&#32599;&#24067;&#27850;&amp;in=1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6487752&amp;tn=baiduimagedetail&amp;word=&#32599;&#24067;&#27850;&amp;in=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63191350&amp;tn=baiduimagedetail&amp;word=&#32599;&#24067;&#27850;&amp;in=4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826920" y="1773360"/>
            <a:ext cx="727560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罗布泊消逝的仙湖课件</a:t>
            </a:r>
            <a:r>
              <a:rPr b="1" lang="en-US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模板打包下载</a:t>
            </a:r>
            <a:endParaRPr b="1" lang="en-US" sz="40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6"/>
          <p:cNvGrpSpPr/>
          <p:nvPr/>
        </p:nvGrpSpPr>
        <p:grpSpPr>
          <a:xfrm>
            <a:off x="212760" y="533520"/>
            <a:ext cx="8778960" cy="380880"/>
            <a:chOff x="212760" y="533520"/>
            <a:chExt cx="8778960" cy="380880"/>
          </a:xfrm>
        </p:grpSpPr>
        <p:sp>
          <p:nvSpPr>
            <p:cNvPr id="120" name="Rectangle 4"/>
            <p:cNvSpPr/>
            <p:nvPr/>
          </p:nvSpPr>
          <p:spPr>
            <a:xfrm>
              <a:off x="212760" y="533520"/>
              <a:ext cx="580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212760" y="533520"/>
              <a:ext cx="8778960" cy="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9900"/>
                  </a:solidFill>
                  <a:latin typeface="宋体"/>
                </a:rPr>
                <a:t>一、罗布泊过去是什么样子，现在又变成了什么样子？试用简洁的语言加以概括，并归纳一下变化的原因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1"/>
          <p:cNvSpPr/>
          <p:nvPr/>
        </p:nvSpPr>
        <p:spPr>
          <a:xfrm>
            <a:off x="0" y="1752480"/>
            <a:ext cx="58039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04920" y="1295280"/>
            <a:ext cx="5105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罗布泊过去是广阔、美丽、充满生机的湖泊，罗布泊周边是牛马成群、绿林环绕、河流清澈的生命绿洲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现在变成了一片死寂的荒漠，胡杨林成片死亡，寸草不生，不见飞鸟，令人恐怖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变化的原因，一是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代塔里木河曾经人为改道，导致下游干旱缺水；二是盲目滥用塔里木河水资源，致使下游河道干涸、罗布泊断水，生态环境彻底破坏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9" descr="u=1325261879,3122365166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2286000"/>
            <a:ext cx="2590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AB18-ACAE-477F-80AE-5E0DCB412B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304920" y="380880"/>
            <a:ext cx="8838720" cy="1295640"/>
            <a:chOff x="304920" y="380880"/>
            <a:chExt cx="8838720" cy="1295640"/>
          </a:xfrm>
        </p:grpSpPr>
        <p:sp>
          <p:nvSpPr>
            <p:cNvPr id="130" name="Rectangle 4"/>
            <p:cNvSpPr/>
            <p:nvPr/>
          </p:nvSpPr>
          <p:spPr>
            <a:xfrm>
              <a:off x="304920" y="380880"/>
              <a:ext cx="5843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304920" y="380880"/>
              <a:ext cx="88387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9933"/>
                  </a:solidFill>
                  <a:latin typeface="宋体"/>
                </a:rPr>
                <a:t>二、文章的字里行间充满了强烈的忧患意识，有的是直抒胸臆，有的引用数据，找出几个这样的句子，体会一下它们各自的作用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3"/>
          <p:cNvGrpSpPr/>
          <p:nvPr/>
        </p:nvGrpSpPr>
        <p:grpSpPr>
          <a:xfrm>
            <a:off x="60480" y="1523880"/>
            <a:ext cx="8778600" cy="685800"/>
            <a:chOff x="60480" y="1523880"/>
            <a:chExt cx="8778600" cy="685800"/>
          </a:xfrm>
        </p:grpSpPr>
        <p:sp>
          <p:nvSpPr>
            <p:cNvPr id="133" name="Rectangle 11"/>
            <p:cNvSpPr/>
            <p:nvPr/>
          </p:nvSpPr>
          <p:spPr>
            <a:xfrm>
              <a:off x="60480" y="1523880"/>
              <a:ext cx="5803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60480" y="1523880"/>
              <a:ext cx="877860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此时此刻，我们停止了说笑。那一片巨大的黄色沙地深深地刺痛着我们的心，使我们个个心情沉重。</a:t>
              </a:r>
              <a:r>
                <a:rPr b="0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直抒内心痛苦而沉重的感情，有力地烘托了罗布泊的惨状，强化了生态被破坏的悲剧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0" y="2895480"/>
            <a:ext cx="8778960" cy="914400"/>
            <a:chOff x="0" y="2895480"/>
            <a:chExt cx="8778960" cy="914400"/>
          </a:xfrm>
        </p:grpSpPr>
        <p:sp>
          <p:nvSpPr>
            <p:cNvPr id="136" name="Rectangle 18"/>
            <p:cNvSpPr/>
            <p:nvPr/>
          </p:nvSpPr>
          <p:spPr>
            <a:xfrm>
              <a:off x="0" y="2895480"/>
              <a:ext cx="580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0" y="2895480"/>
              <a:ext cx="8778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这出悲剧的制造者又是人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!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一针见血地指出罗布泊的消失是人为地破坏生态的恶果，具有强烈的谴责意味，指责悲剧制造者的盲目和愚昧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27"/>
          <p:cNvGrpSpPr/>
          <p:nvPr/>
        </p:nvGrpSpPr>
        <p:grpSpPr>
          <a:xfrm>
            <a:off x="136440" y="4267080"/>
            <a:ext cx="8778960" cy="774720"/>
            <a:chOff x="136440" y="4267080"/>
            <a:chExt cx="8778960" cy="774720"/>
          </a:xfrm>
        </p:grpSpPr>
        <p:sp>
          <p:nvSpPr>
            <p:cNvPr id="139" name="Rectangle 25"/>
            <p:cNvSpPr/>
            <p:nvPr/>
          </p:nvSpPr>
          <p:spPr>
            <a:xfrm>
              <a:off x="136440" y="4267080"/>
              <a:ext cx="5803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26"/>
            <p:cNvSpPr/>
            <p:nvPr/>
          </p:nvSpPr>
          <p:spPr>
            <a:xfrm>
              <a:off x="136440" y="4267080"/>
              <a:ext cx="87789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救救青海湖，救救月牙泉，救救所有因人的介入而即将成为荒漠的地方</a:t>
              </a:r>
              <a:r>
                <a:rPr b="0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发出了拯救生态环境的强烈呼声，表达了强烈的环保意识、忧患意识，振聋发聩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34"/>
          <p:cNvGrpSpPr/>
          <p:nvPr/>
        </p:nvGrpSpPr>
        <p:grpSpPr>
          <a:xfrm>
            <a:off x="60480" y="5638680"/>
            <a:ext cx="8778600" cy="990720"/>
            <a:chOff x="60480" y="5638680"/>
            <a:chExt cx="8778600" cy="990720"/>
          </a:xfrm>
        </p:grpSpPr>
        <p:sp>
          <p:nvSpPr>
            <p:cNvPr id="142" name="Rectangle 32"/>
            <p:cNvSpPr/>
            <p:nvPr/>
          </p:nvSpPr>
          <p:spPr>
            <a:xfrm>
              <a:off x="60480" y="5638680"/>
              <a:ext cx="580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3"/>
            <p:cNvSpPr/>
            <p:nvPr/>
          </p:nvSpPr>
          <p:spPr>
            <a:xfrm>
              <a:off x="60480" y="5638680"/>
              <a:ext cx="877860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几十年间塔里木河流域修筑水库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130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多座，任意掘堤修引水口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138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处，建抽水泵站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400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多处，有的泵站一天就要抽水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万多立方米</a:t>
              </a:r>
              <a:r>
                <a:rPr b="0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一系列数据具体、确凿，充分说明人们是怎样盲目地拼命地滥用塔里木河水资源的，正是这种盲目行为，造成了罗布泊的荒漠化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118728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Img222064321"/>
          <p:cNvPicPr/>
          <p:nvPr/>
        </p:nvPicPr>
        <p:blipFill>
          <a:blip r:embed="rId1"/>
          <a:stretch/>
        </p:blipFill>
        <p:spPr>
          <a:xfrm>
            <a:off x="138240" y="189000"/>
            <a:ext cx="8839080" cy="487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228600" y="5151600"/>
            <a:ext cx="877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700" spc="-1" strike="noStrike">
                <a:solidFill>
                  <a:srgbClr val="3366ff"/>
                </a:solidFill>
                <a:latin typeface="宋体"/>
              </a:rPr>
              <a:t>泊者，湖也，湖泊湖泊，泊就是湖。</a:t>
            </a:r>
            <a:r>
              <a:rPr b="0" lang="zh-CN" sz="27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0" lang="zh-CN" sz="2700" spc="-1" strike="noStrike">
                <a:solidFill>
                  <a:srgbClr val="3366ff"/>
                </a:solidFill>
                <a:latin typeface="宋体"/>
              </a:rPr>
              <a:t>罗布泊，消逝的仙湖</a:t>
            </a:r>
            <a:r>
              <a:rPr b="0" lang="zh-CN" sz="2700" spc="-1" strike="noStrike">
                <a:solidFill>
                  <a:srgbClr val="3366ff"/>
                </a:solidFill>
                <a:latin typeface="Times New Roman"/>
              </a:rPr>
              <a:t>”</a:t>
            </a:r>
            <a:r>
              <a:rPr b="0" lang="zh-CN" sz="2700" spc="-1" strike="noStrike">
                <a:solidFill>
                  <a:srgbClr val="3366ff"/>
                </a:solidFill>
                <a:latin typeface="宋体"/>
              </a:rPr>
              <a:t>，就是说，罗布泊曾经是一个湖，而且是一个非常美丽的仙湖，如今消失了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1295280" y="2349360"/>
            <a:ext cx="6934320" cy="2679480"/>
            <a:chOff x="1295280" y="2349360"/>
            <a:chExt cx="6934320" cy="2679480"/>
          </a:xfrm>
        </p:grpSpPr>
        <p:sp>
          <p:nvSpPr>
            <p:cNvPr id="88" name="Rectangle 4"/>
            <p:cNvSpPr/>
            <p:nvPr/>
          </p:nvSpPr>
          <p:spPr>
            <a:xfrm>
              <a:off x="1295280" y="2349360"/>
              <a:ext cx="458424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1295280" y="2349360"/>
              <a:ext cx="6934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700" spc="-1" strike="noStrike">
                  <a:solidFill>
                    <a:srgbClr val="3366ff"/>
                  </a:solidFill>
                  <a:latin typeface="宋体"/>
                </a:rPr>
                <a:t>本文是一篇报告文学。报告文学兼有文学和新闻两种特点。新闻的特点要求真实，文学的特点则要求艺术加工，讲究形象性、抒情性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1066680" y="160020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关于罗布泊，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辞海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上是这样说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蒙古语称罗布诺尔，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汇入多水之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。古称蒲海、盐泽、洛普池、泽。在新疆维吾尔自治区塔里木盆地东部、若羌县东北部。孔雀河从北面注入。呈葫芦形，面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3 00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平方公里，湖面海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7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米。由于河流改道及上游灌溉引水，湖水逐渐枯浅和干涸。沿岸盐泽广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u=883517726,611803693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685800"/>
            <a:ext cx="15890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3"/>
          <p:cNvGrpSpPr/>
          <p:nvPr/>
        </p:nvGrpSpPr>
        <p:grpSpPr>
          <a:xfrm>
            <a:off x="533520" y="685800"/>
            <a:ext cx="7467480" cy="2679480"/>
            <a:chOff x="533520" y="685800"/>
            <a:chExt cx="7467480" cy="2679480"/>
          </a:xfrm>
        </p:grpSpPr>
        <p:sp>
          <p:nvSpPr>
            <p:cNvPr id="93" name="Rectangle 11"/>
            <p:cNvSpPr/>
            <p:nvPr/>
          </p:nvSpPr>
          <p:spPr>
            <a:xfrm>
              <a:off x="533520" y="685800"/>
              <a:ext cx="493668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533520" y="685800"/>
              <a:ext cx="7467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700" spc="-1" strike="noStrike">
                  <a:solidFill>
                    <a:srgbClr val="99cc00"/>
                  </a:solidFill>
                  <a:latin typeface="宋体"/>
                </a:rPr>
                <a:t>标题是</a:t>
              </a:r>
              <a:r>
                <a:rPr b="1" lang="zh-CN" sz="27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99cc00"/>
                  </a:solidFill>
                  <a:latin typeface="宋体"/>
                </a:rPr>
                <a:t>罗布泊，消逝的仙湖</a:t>
              </a:r>
              <a:r>
                <a:rPr b="1" lang="zh-CN" sz="2700" spc="-1" strike="noStrike">
                  <a:solidFill>
                    <a:srgbClr val="99cc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99cc00"/>
                  </a:solidFill>
                  <a:latin typeface="宋体"/>
                </a:rPr>
                <a:t>，就是说，罗布泊本是非常美丽的湖泊，如今消逝了，成了荒漠。这是生态环境遭受人为破坏的悲剧。这篇报告文学以强烈的呼声，警醒世人，要树立全民环保意识，搞好生态保护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0"/>
          <p:cNvGrpSpPr/>
          <p:nvPr/>
        </p:nvGrpSpPr>
        <p:grpSpPr>
          <a:xfrm>
            <a:off x="228600" y="3492360"/>
            <a:ext cx="8778960" cy="2679480"/>
            <a:chOff x="228600" y="3492360"/>
            <a:chExt cx="8778960" cy="2679480"/>
          </a:xfrm>
        </p:grpSpPr>
        <p:sp>
          <p:nvSpPr>
            <p:cNvPr id="96" name="Rectangle 18"/>
            <p:cNvSpPr/>
            <p:nvPr/>
          </p:nvSpPr>
          <p:spPr>
            <a:xfrm>
              <a:off x="228600" y="349236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228600" y="3492360"/>
              <a:ext cx="8778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9933"/>
                  </a:solidFill>
                  <a:latin typeface="宋体"/>
                </a:rPr>
                <a:t>  </a:t>
              </a:r>
              <a:r>
                <a:rPr b="1" lang="zh-CN" sz="2700" spc="-1" strike="noStrike">
                  <a:solidFill>
                    <a:srgbClr val="ff9933"/>
                  </a:solidFill>
                  <a:latin typeface="宋体"/>
                </a:rPr>
                <a:t>罗布泊今昔对比，令人痛惜，罗布泊消亡的原因，令人遗憾。全文的思路大体是这样的。开头是今日罗布泊的荒漠景象，接着上溯历史上的美丽景象。然后着重说明罗布泊消亡的缘故，又具体展现今日罗布泊的荒漠景象。最后推而广之，说到青海湖、月牙泉的颓势，篇末发出拯救生态环境的强烈呼吁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文本框 8197"/>
          <p:cNvSpPr/>
          <p:nvPr/>
        </p:nvSpPr>
        <p:spPr>
          <a:xfrm>
            <a:off x="684360" y="630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3"/>
          <p:cNvSpPr/>
          <p:nvPr/>
        </p:nvSpPr>
        <p:spPr>
          <a:xfrm>
            <a:off x="3429000" y="1143000"/>
            <a:ext cx="525780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罗布泊消失的原因是什么？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年代塔里木河曾经人为改道导致下游干旱缺水，盲目滥用塔里木河水资源导致下游河道干涸，罗布泊断水。总之，由于人为的原因，生态环境被破坏，而致使美丽神秘的仙湖消失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5" descr="u=3635431069,3163199416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19320"/>
            <a:ext cx="2590560" cy="17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u=3720130245,3987255134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86200"/>
            <a:ext cx="28195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6"/>
          <p:cNvGrpSpPr/>
          <p:nvPr/>
        </p:nvGrpSpPr>
        <p:grpSpPr>
          <a:xfrm>
            <a:off x="365040" y="914400"/>
            <a:ext cx="8778960" cy="2679480"/>
            <a:chOff x="365040" y="914400"/>
            <a:chExt cx="8778960" cy="2679480"/>
          </a:xfrm>
        </p:grpSpPr>
        <p:sp>
          <p:nvSpPr>
            <p:cNvPr id="103" name="Rectangle 4"/>
            <p:cNvSpPr/>
            <p:nvPr/>
          </p:nvSpPr>
          <p:spPr>
            <a:xfrm>
              <a:off x="365040" y="91440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65040" y="914400"/>
              <a:ext cx="87789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今日罗布泊是怎样一个地方？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沙漠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神秘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过去罗布泊是怎样一个地方？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绿洲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仙湖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罗布泊为什么消亡？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改道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同样的悲剧还有哪些？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青海湖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月牙泉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6699"/>
                  </a:solidFill>
                  <a:latin typeface="宋体"/>
                </a:rPr>
                <a:t>全文充满痛惜之情，为罗布泊生态环境的破坏而痛惜，为人们的盲目性造成的悲剧而痛惜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380880" y="304920"/>
            <a:ext cx="2457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问题研究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182520" y="1219320"/>
            <a:ext cx="8778960" cy="501480"/>
            <a:chOff x="182520" y="1219320"/>
            <a:chExt cx="8778960" cy="501480"/>
          </a:xfrm>
        </p:grpSpPr>
        <p:sp>
          <p:nvSpPr>
            <p:cNvPr id="107" name="Rectangle 5"/>
            <p:cNvSpPr/>
            <p:nvPr/>
          </p:nvSpPr>
          <p:spPr>
            <a:xfrm>
              <a:off x="182520" y="1219320"/>
              <a:ext cx="5803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82520" y="1219320"/>
              <a:ext cx="87789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6699"/>
                  </a:solidFill>
                  <a:latin typeface="宋体"/>
                </a:rPr>
                <a:t>1</a:t>
              </a:r>
              <a:r>
                <a:rPr b="1" lang="zh-CN" sz="1700" spc="-1" strike="noStrike">
                  <a:solidFill>
                    <a:srgbClr val="ff6699"/>
                  </a:solidFill>
                  <a:latin typeface="宋体"/>
                </a:rPr>
                <a:t>．造成生态环境破坏的深层原因是什么？为什么人们会制造悲剧，自讨苦吃？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152280" y="1981080"/>
            <a:ext cx="8778960" cy="2679480"/>
            <a:chOff x="152280" y="1981080"/>
            <a:chExt cx="8778960" cy="2679480"/>
          </a:xfrm>
        </p:grpSpPr>
        <p:sp>
          <p:nvSpPr>
            <p:cNvPr id="110" name="Rectangle 12"/>
            <p:cNvSpPr/>
            <p:nvPr/>
          </p:nvSpPr>
          <p:spPr>
            <a:xfrm>
              <a:off x="152280" y="198108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152280" y="1981080"/>
              <a:ext cx="87789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最值得注意的是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二字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增加耕地用水、盲目修建水库截水、盲目掘堤引水、盲目建泵站排水，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像个巨大的吸水鬼，终于将塔里木河抽干了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……”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，就是目光短浅，急功近利，只图眼前利益，不顾长远利益，头脑里根本没有可持续发展的观念。盲目，就是目光狭小，只图本地区利益，不顾整体利益。盲目，就是不懂自然规律，不懂生态平衡，不懂上游将水抽干了，下游的河道就会干涸，罗布泊就会干涸，周边生态环境就会严重恶化，乃至荒漠化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当年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塔里木河两岸人口激增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，扩大耕地，开采矿藏，也是开发，问题是当年的开发没有考虑水资源，简单的以为塔里木河有的是水，顾了上游不顾下游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从罗布泊消失的深层原因中应该吸取的教训是：</a:t>
              </a:r>
              <a:r>
                <a:rPr b="1" lang="zh-CN" sz="1700" spc="-1" strike="noStrike">
                  <a:solidFill>
                    <a:srgbClr val="ff9900"/>
                  </a:solidFill>
                  <a:latin typeface="宋体"/>
                </a:rPr>
                <a:t>开发要克服盲目性，认识自然规律，认识生态平衡，谋求发展必须抓好生态环境的保护和建设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"/>
          <p:cNvGrpSpPr/>
          <p:nvPr/>
        </p:nvGrpSpPr>
        <p:grpSpPr>
          <a:xfrm>
            <a:off x="365040" y="380880"/>
            <a:ext cx="8778960" cy="381240"/>
            <a:chOff x="365040" y="380880"/>
            <a:chExt cx="8778960" cy="381240"/>
          </a:xfrm>
        </p:grpSpPr>
        <p:sp>
          <p:nvSpPr>
            <p:cNvPr id="113" name="Rectangle 5"/>
            <p:cNvSpPr/>
            <p:nvPr/>
          </p:nvSpPr>
          <p:spPr>
            <a:xfrm>
              <a:off x="365040" y="380880"/>
              <a:ext cx="5803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65040" y="380880"/>
              <a:ext cx="8778960" cy="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6699"/>
                  </a:solidFill>
                  <a:latin typeface="宋体"/>
                </a:rPr>
                <a:t>2</a:t>
              </a:r>
              <a:r>
                <a:rPr b="1" lang="zh-CN" sz="1700" spc="-1" strike="noStrike">
                  <a:solidFill>
                    <a:srgbClr val="ff6699"/>
                  </a:solidFill>
                  <a:latin typeface="宋体"/>
                </a:rPr>
                <a:t>．课文为什么具有震撼人心、振聋发聩的力量？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0" y="1143000"/>
            <a:ext cx="8778960" cy="2679480"/>
            <a:chOff x="0" y="1143000"/>
            <a:chExt cx="8778960" cy="2679480"/>
          </a:xfrm>
        </p:grpSpPr>
        <p:sp>
          <p:nvSpPr>
            <p:cNvPr id="116" name="Rectangle 12"/>
            <p:cNvSpPr/>
            <p:nvPr/>
          </p:nvSpPr>
          <p:spPr>
            <a:xfrm>
              <a:off x="0" y="114300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0" y="1143000"/>
              <a:ext cx="877896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从根本上说，罗布泊从美丽的仙湖变成令人恐怖的荒漠，是令人震惊的。从写法上探究，</a:t>
              </a:r>
              <a:r>
                <a:rPr b="1" lang="zh-CN" sz="1700" spc="-1" strike="noStrike">
                  <a:solidFill>
                    <a:srgbClr val="9933ff"/>
                  </a:solidFill>
                  <a:latin typeface="宋体"/>
                </a:rPr>
                <a:t>对比、拟人、排比等手法大大强化了感情色彩，直接抒情也有撼人心灵的力量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对比手法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作者对比罗布泊的今昔，让人知道罗布泊并非从来如此，原来昔日这里曾是美丽的仙湖和繁华的绿洲。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作者将两种截然不同的景象都作了鲜明而具体的描写，显示了巨大的落差，造成了文势的跌宕，产生震撼人心的力量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拟人手法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作者将胡杨林拟人化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那奇形怪状的枯枝、那死后不愿倒下的身躯，似在表明胡杨在生命最后时刻的挣扎与痛苦，又像在向谁伸出求救之手</a:t>
              </a: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!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赋予胡杨以人的感情，怎能不令人感情激荡，为自己盲目破坏生态环境而痛惜不已。作者又将罗布泊拟人化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站在罗布泊边缘，你能看清那一道道肋骨的排列走向，看到沧海桑田的痕迹，你会感到这胸膛里面深藏的痛苦与无奈。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这里同样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赋予罗布泊以人的感情，怎能不令人痛心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排比手法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例如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增加耕地用水、盲目修建水库截水、盲目掘堤引水、盲目建泵站抽水，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像个巨大的吸水鬼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……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连用四个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盲目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，遗憾之情、谴责之情大大强化。又如篇末三个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救救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，呼吁之声，振聋发聩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直接抒情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例如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此时此刻，我们停止了说笑，那一片巨大的黄色沙地深深地刺痛着我们的心，使我们个个心情沉重。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这样的抒情让人共鸣，让读者也深深地痛心，深切地意识到破坏生态环境的严重后果，觉悟到只有保护环境才能保护人类自己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文本框 8197"/>
          <p:cNvSpPr/>
          <p:nvPr/>
        </p:nvSpPr>
        <p:spPr>
          <a:xfrm>
            <a:off x="1187280" y="645336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4:36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5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