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869-A381-43D8-ACDF-587A8C93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ED6-238B-4465-B315-DF939742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65A-64AA-4B77-B792-E48656AA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1A9-D4EA-44ED-A8DC-F26C5FB8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D98B-D941-4DA5-8783-DE67B7E2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C42F-643B-4170-9471-F62AFC5A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35B5-8BCA-401C-A181-0FC7B955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1961-A11E-41E6-BF50-1E390D37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BC53-1EBF-4EF8-97A2-3F1FAB9B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1F98-14EB-4C60-B729-7AD6EE16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243C-1F94-4FE2-A620-9CA32E31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33E-4891-4B1C-BA60-49295D54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EE9D-7D3C-43E2-808F-F322090E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24EC-F149-453B-A9B6-8DE11080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B990-AE2D-49CA-AC22-2B389646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616F-6903-46B1-B4DD-56D0B186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2F17-613D-400F-BC2E-AFB6F1BB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548D6-BF7A-4049-83A9-5FEBAB6A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A918-78D4-4F06-8DCD-CE80EAA1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64DE-625C-46FB-AE18-B3698C92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9A3D2-2563-441E-A7C9-EFDBDDF8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2C86-47EA-4D7F-B027-A7EE4F3D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B49-1151-4423-A227-9D3BB69A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42514-B417-4196-8FA7-D3D9AF79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B0530-B471-4464-998C-C1A5EDB9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29420-DBC5-47E7-8087-0E8A1496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3687-2843-464F-A681-02795C76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517A-DB80-4046-9D5F-DDA7CE03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F879B-D7EC-4920-9EC4-61F887E3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C4615-6F49-476B-B804-C550C701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9DB-E588-4F98-B553-4EFF0E52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1E2-EDB1-426D-8E8F-E3B805CC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ED1-6340-4E3D-B607-466BCF3D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668-97F2-4682-9FD6-A165C6DF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6B1-3242-4BD6-9C33-A5E29A24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5E0-E6C0-4CA8-B488-D443139D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8848-2FC0-4840-BD29-6747AC343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小学语文低年级内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DA9D-0F33-4492-80EA-4E633921ED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小学语文高年级封面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586F-A13D-4D2D-9122-8B49022313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ext Box 4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554960" cy="70164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14400" y="990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自读课文，思考：课文讲了一件什么事？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14400" y="2743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本文写的是一位叫鲁滨孙的英国人，在一次航海中船翻漂流到一座荒无人烟的小岛上，战胜种种困难，历尽磨难，生活了二十多年之久，最后终于获救回到英国的一件事。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《鲁滨孙漂流记》朗读.MP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8199"/>
          <p:cNvSpPr/>
          <p:nvPr/>
        </p:nvSpPr>
        <p:spPr>
          <a:xfrm>
            <a:off x="2195640" y="220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67387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4920" y="6858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默读课文，思考：鲁滨孙漂流到荒岛，遇到了什么困难？他是怎么解决的？从中你体会到什么？</a:t>
            </a:r>
            <a:r>
              <a:rPr b="1" lang="zh-CN" sz="3600" spc="-1" strike="noStrike">
                <a:solidFill>
                  <a:srgbClr val="00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971640" y="2781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冷饿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85800" y="3535200"/>
            <a:ext cx="24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野人威胁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743200" y="28494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搭起帐篷  打猎捕鱼  养羊种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2590920" y="3535200"/>
            <a:ext cx="3886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插树桩   分养羊群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救下“星期五”为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2666880" y="531828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华文行楷"/>
                <a:ea typeface="华文行楷"/>
              </a:rPr>
              <a:t>有智慧  勇敢无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3EEF-B6A1-41ED-A8E2-C4E4BE2C1C9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6"/>
          <p:cNvSpPr/>
          <p:nvPr/>
        </p:nvSpPr>
        <p:spPr>
          <a:xfrm>
            <a:off x="3276720" y="1341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715000" y="663480"/>
            <a:ext cx="30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鲁滨孙的经历给了我们什么启发？在学习和生活当中遇到困难时，你是怎样做的？应该怎样做？联系实际谈一谈。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插图"/>
          <p:cNvPicPr/>
          <p:nvPr/>
        </p:nvPicPr>
        <p:blipFill>
          <a:blip r:embed="rId1"/>
          <a:stretch/>
        </p:blipFill>
        <p:spPr>
          <a:xfrm>
            <a:off x="344520" y="380880"/>
            <a:ext cx="4913280" cy="6096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2:03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38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