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22.wmf" ContentType="image/x-wmf"/>
  <Override PartName="/ppt/media/image8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10.jpeg" ContentType="image/jpeg"/>
  <Override PartName="/ppt/media/image13.wmf" ContentType="image/x-wmf"/>
  <Override PartName="/ppt/media/image25.gif" ContentType="image/gif"/>
  <Override PartName="/ppt/media/image6.gif" ContentType="image/gif"/>
  <Override PartName="/ppt/media/image26.jpeg" ContentType="image/jpeg"/>
  <Override PartName="/ppt/media/image24.png" ContentType="image/png"/>
  <Override PartName="/ppt/media/image21.jpeg" ContentType="image/jpeg"/>
  <Override PartName="/ppt/media/image18.png" ContentType="image/png"/>
  <Override PartName="/ppt/media/image17.png" ContentType="image/png"/>
  <Override PartName="/ppt/media/image19.png" ContentType="image/png"/>
  <Override PartName="/ppt/media/image16.gif" ContentType="image/gif"/>
  <Override PartName="/ppt/media/image5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2EC4-AE2F-40E2-A65B-3AF30F12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1EA-2FAA-4999-81E1-E87EC3B4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0848-1F2A-4985-B63E-D62DA8ED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9A74-3012-431D-B672-96E512D6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E1C1-87AE-4FCE-AC4F-1149191B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DB6F-D59E-4886-BDEE-07C965D7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36DE-ABDA-4928-A546-0C5B9CC1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762A-91C6-4914-8C9F-12437DD6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8F38-8702-4482-A9D0-B59F988A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C493-5F4B-48C7-9DEF-728E9B68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7EB6-9E93-4368-91BC-E7A063D9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FB9-A938-479C-969C-1D5CD96B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7AEC-31C0-4DDE-9121-0CD075EA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A84F-8316-4C5D-8977-26D72336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4338-6743-4BED-9E75-87A5F68F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534C-FF25-4608-870B-A27960D7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4AF6-5DF4-4479-B2B5-C88217F3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7BED-2F45-4105-AA64-A9D21AE3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54F-639B-463C-9FB6-64BD982C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DB74-DA0C-4A7E-8EE0-0E956909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696-0A6E-4118-B128-6E93C414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1755-CD8F-47B8-A0DA-F2071926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000-52B4-436A-A2C7-7E8A4B15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CB1-48F2-468F-9F16-7ACB0A24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6F7F-AB9B-4C34-B0D6-FB943E2D1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7544-4780-4C6D-9423-7B9147C91F6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7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图片1fyu"/>
          <p:cNvPicPr/>
          <p:nvPr/>
        </p:nvPicPr>
        <p:blipFill>
          <a:blip r:embed="rId2"/>
          <a:stretch/>
        </p:blipFill>
        <p:spPr>
          <a:xfrm>
            <a:off x="4572000" y="4495680"/>
            <a:ext cx="1512720" cy="1414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图片1fyu"/>
          <p:cNvPicPr/>
          <p:nvPr/>
        </p:nvPicPr>
        <p:blipFill>
          <a:blip r:embed="rId3"/>
          <a:stretch/>
        </p:blipFill>
        <p:spPr>
          <a:xfrm>
            <a:off x="2627280" y="3789360"/>
            <a:ext cx="1513080" cy="1414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0" y="260280"/>
            <a:ext cx="88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2462400" y="6112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教版初中思想品德八年级上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"/>
          <p:cNvSpPr/>
          <p:nvPr/>
        </p:nvSpPr>
        <p:spPr>
          <a:xfrm>
            <a:off x="2388600" y="1235160"/>
            <a:ext cx="436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两代人的对话课件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"/>
          <p:cNvSpPr/>
          <p:nvPr/>
        </p:nvSpPr>
        <p:spPr>
          <a:xfrm>
            <a:off x="990720" y="9144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828800" y="9810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cc33"/>
                </a:solidFill>
                <a:latin typeface="Times New Roman"/>
                <a:ea typeface="华文行楷"/>
              </a:rPr>
              <a:t>交往讲艺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914560" y="2060640"/>
            <a:ext cx="33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赞赏父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00680" y="2263680"/>
            <a:ext cx="1471680" cy="228600"/>
          </a:xfrm>
          <a:prstGeom prst="rightArrow">
            <a:avLst>
              <a:gd name="adj1" fmla="val 50000"/>
              <a:gd name="adj2" fmla="val 1608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648480" y="2060640"/>
            <a:ext cx="32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增进亲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914560" y="2975040"/>
            <a:ext cx="35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真聆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4853160" y="3139920"/>
            <a:ext cx="1590480" cy="217800"/>
          </a:xfrm>
          <a:prstGeom prst="rightArrow">
            <a:avLst>
              <a:gd name="adj1" fmla="val 50000"/>
              <a:gd name="adj2" fmla="val 1824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6653160" y="2994120"/>
            <a:ext cx="25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获得教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2908440" y="388944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帮助父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4"/>
          <p:cNvSpPr/>
          <p:nvPr/>
        </p:nvSpPr>
        <p:spPr>
          <a:xfrm>
            <a:off x="4853160" y="4041720"/>
            <a:ext cx="1590480" cy="250920"/>
          </a:xfrm>
          <a:prstGeom prst="rightArrow">
            <a:avLst>
              <a:gd name="adj1" fmla="val 50000"/>
              <a:gd name="adj2" fmla="val 158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6653160" y="3857760"/>
            <a:ext cx="28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感动亲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2908440" y="4879800"/>
            <a:ext cx="33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会宽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7"/>
          <p:cNvSpPr/>
          <p:nvPr/>
        </p:nvSpPr>
        <p:spPr>
          <a:xfrm>
            <a:off x="4824360" y="5086440"/>
            <a:ext cx="1548000" cy="287280"/>
          </a:xfrm>
          <a:prstGeom prst="rightArrow">
            <a:avLst>
              <a:gd name="adj1" fmla="val 50000"/>
              <a:gd name="adj2" fmla="val 134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6637320" y="494172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得到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9" descr="u=3079831661,533163323&amp;gp=46"/>
          <p:cNvPicPr/>
          <p:nvPr/>
        </p:nvPicPr>
        <p:blipFill>
          <a:blip r:embed="rId2"/>
          <a:stretch/>
        </p:blipFill>
        <p:spPr>
          <a:xfrm>
            <a:off x="684360" y="3068640"/>
            <a:ext cx="17269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WordArt 3"/>
          <p:cNvSpPr txBox="1"/>
          <p:nvPr/>
        </p:nvSpPr>
        <p:spPr>
          <a:xfrm>
            <a:off x="380880" y="0"/>
            <a:ext cx="1600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9900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实践卡</a:t>
            </a:r>
            <a:endParaRPr b="1" lang="en-US" sz="4000" spc="1" strike="noStrike">
              <a:ln w="9360">
                <a:solidFill>
                  <a:srgbClr val="ff9900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952720" y="18144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2895480" y="1143000"/>
            <a:ext cx="3238560" cy="32288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0" y="1371600"/>
            <a:ext cx="363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观察父母日常的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注意他们的身体健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6248520" y="1676520"/>
            <a:ext cx="28954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聆听父母的需要、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要求、忧虑及压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5791320" y="3352680"/>
            <a:ext cx="33526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00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早晨主动问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出外时向父母说再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及回来的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用语言表达你的开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做错事时要认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主动说在校的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914400" y="3276720"/>
            <a:ext cx="3429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9900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协助做家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努力地读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父母生日时送上祝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228600" y="5181480"/>
            <a:ext cx="55627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上法则你做到了吗？如还没有，那赶紧尝试吧！请把你的尝试心得写下来，大家一起分享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3809880" y="1447920"/>
            <a:ext cx="5335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257800" y="2133720"/>
            <a:ext cx="457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4648320" y="3505320"/>
            <a:ext cx="571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3200400" y="2895480"/>
            <a:ext cx="5716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15"/>
          <p:cNvSpPr txBox="1"/>
          <p:nvPr/>
        </p:nvSpPr>
        <p:spPr>
          <a:xfrm>
            <a:off x="2362320" y="228600"/>
            <a:ext cx="5143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99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促进两代沟通的四大法则</a:t>
            </a:r>
            <a:endParaRPr b="1" lang="en-US" sz="4000" spc="1" strike="noStrike">
              <a:ln w="9360">
                <a:solidFill>
                  <a:srgbClr val="ff99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99" name="Picture 16" descr="u=3826644711,2921956863&amp;gp=30"/>
          <p:cNvPicPr/>
          <p:nvPr/>
        </p:nvPicPr>
        <p:blipFill>
          <a:blip r:embed="rId3"/>
          <a:stretch/>
        </p:blipFill>
        <p:spPr>
          <a:xfrm>
            <a:off x="7451640" y="5649840"/>
            <a:ext cx="1692360" cy="1208160"/>
          </a:xfrm>
          <a:prstGeom prst="rect">
            <a:avLst/>
          </a:prstGeom>
          <a:ln w="0">
            <a:noFill/>
          </a:ln>
        </p:spPr>
      </p:pic>
      <p:sp>
        <p:nvSpPr>
          <p:cNvPr id="200" name="文本框 8199"/>
          <p:cNvSpPr/>
          <p:nvPr/>
        </p:nvSpPr>
        <p:spPr>
          <a:xfrm>
            <a:off x="2246400" y="914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90520" y="981000"/>
            <a:ext cx="84582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把坚实的大锁挂在大门上，一根铁杆费了九牛二虎之力，还是无法将它撬开。钥匙来了，他瘦小的身子钻进锁孔，只轻轻一转，大锁就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啪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一声打开了。铁杆奇怪地问：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我费了那么大力气也打不开，而你却轻而易举就把它打开了？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钥匙说：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因为我最了解他的心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问：寓言给了我们什么启示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父母一直深深爱着我们，我们应学会用心和父母沟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5181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5"/>
          <p:cNvSpPr txBox="1"/>
          <p:nvPr/>
        </p:nvSpPr>
        <p:spPr>
          <a:xfrm>
            <a:off x="684360" y="549360"/>
            <a:ext cx="2735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阅读 感悟</a:t>
            </a:r>
            <a:endParaRPr b="0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85080" cy="43210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1187280" y="69228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cc33"/>
                </a:solidFill>
                <a:latin typeface="Arial"/>
              </a:rPr>
              <a:t>懂你</a:t>
            </a: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懂你.mp3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2004dx012001"/>
          <p:cNvPicPr/>
          <p:nvPr/>
        </p:nvPicPr>
        <p:blipFill>
          <a:blip r:embed="rId3"/>
          <a:stretch/>
        </p:blipFill>
        <p:spPr>
          <a:xfrm>
            <a:off x="7434360" y="-533520"/>
            <a:ext cx="1709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321829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5300-2622-45A1-B939-5E4BC6F7D4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2268360" y="404640"/>
            <a:ext cx="55436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被误解，不冲动，敬父母，多沟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还口，心气平，劝父母，讲文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打不该，莫效仿，思父母，好心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听唠叨，莫心烦，细思量，藏箴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提要求，莫过高，没满足，不计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要外出，打招呼，让父母，免担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疼子女，思绪牵，在外时，报平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对父母，无隐瞒，说见闻，听意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对批评，不反感，有则改，无则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受表扬，莫骄傲，常思过，胜良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有错误，敢承认，听批评，得教训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2004dx012001"/>
          <p:cNvPicPr/>
          <p:nvPr/>
        </p:nvPicPr>
        <p:blipFill>
          <a:blip r:embed="rId1"/>
          <a:stretch/>
        </p:blipFill>
        <p:spPr>
          <a:xfrm>
            <a:off x="250920" y="-387360"/>
            <a:ext cx="2286000" cy="3429000"/>
          </a:xfrm>
          <a:prstGeom prst="rect">
            <a:avLst/>
          </a:prstGeom>
          <a:ln w="0">
            <a:noFill/>
          </a:ln>
        </p:spPr>
      </p:pic>
      <p:sp>
        <p:nvSpPr>
          <p:cNvPr id="215" name="WordArt 4"/>
          <p:cNvSpPr txBox="1"/>
          <p:nvPr/>
        </p:nvSpPr>
        <p:spPr>
          <a:xfrm rot="5400000">
            <a:off x="-2009880" y="3060720"/>
            <a:ext cx="554652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与父母交往三字经</a:t>
            </a:r>
            <a:endParaRPr b="0" lang="en-US" sz="40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yy"/>
          <p:cNvPicPr/>
          <p:nvPr/>
        </p:nvPicPr>
        <p:blipFill>
          <a:blip r:embed="rId1"/>
          <a:stretch/>
        </p:blipFill>
        <p:spPr>
          <a:xfrm>
            <a:off x="0" y="3105000"/>
            <a:ext cx="5003640" cy="3753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5"/>
          <p:cNvSpPr txBox="1"/>
          <p:nvPr/>
        </p:nvSpPr>
        <p:spPr>
          <a:xfrm>
            <a:off x="2124000" y="1628640"/>
            <a:ext cx="324000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latin typeface="隶书"/>
              </a:rPr>
              <a:t>《家庭纠纷》</a:t>
            </a:r>
            <a:endParaRPr b="1" lang="en-US" sz="4000" spc="1" strike="noStrike">
              <a:ln w="9360">
                <a:solidFill>
                  <a:srgbClr val="ffff00"/>
                </a:solidFill>
                <a:round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11280" y="9079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33"/>
                </a:solidFill>
                <a:latin typeface="Arial"/>
                <a:ea typeface="黑体"/>
              </a:rPr>
              <a:t>短剧欣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图片1io"/>
          <p:cNvPicPr/>
          <p:nvPr/>
        </p:nvPicPr>
        <p:blipFill>
          <a:blip r:embed="rId2"/>
          <a:stretch/>
        </p:blipFill>
        <p:spPr>
          <a:xfrm>
            <a:off x="2771640" y="2924280"/>
            <a:ext cx="952560" cy="1049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3419640" y="3429000"/>
            <a:ext cx="572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、阿贵和妈妈因何起了冲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、你觉得这场家庭纠纷会平息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、阿贵今后该如何与妈妈相处？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06"/>
          <p:cNvPicPr/>
          <p:nvPr/>
        </p:nvPicPr>
        <p:blipFill>
          <a:blip r:embed="rId1"/>
          <a:stretch/>
        </p:blipFill>
        <p:spPr>
          <a:xfrm>
            <a:off x="755640" y="692280"/>
            <a:ext cx="762120" cy="57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06"/>
          <p:cNvPicPr/>
          <p:nvPr/>
        </p:nvPicPr>
        <p:blipFill>
          <a:blip r:embed="rId2"/>
          <a:stretch/>
        </p:blipFill>
        <p:spPr>
          <a:xfrm>
            <a:off x="5580000" y="5589720"/>
            <a:ext cx="1152720" cy="865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06"/>
          <p:cNvPicPr/>
          <p:nvPr/>
        </p:nvPicPr>
        <p:blipFill>
          <a:blip r:embed="rId3"/>
          <a:stretch/>
        </p:blipFill>
        <p:spPr>
          <a:xfrm>
            <a:off x="7020000" y="333360"/>
            <a:ext cx="1388880" cy="1041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05"/>
          <p:cNvPicPr/>
          <p:nvPr/>
        </p:nvPicPr>
        <p:blipFill>
          <a:blip r:embed="rId4"/>
          <a:stretch/>
        </p:blipFill>
        <p:spPr>
          <a:xfrm>
            <a:off x="6300720" y="2060640"/>
            <a:ext cx="762120" cy="57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05"/>
          <p:cNvPicPr/>
          <p:nvPr/>
        </p:nvPicPr>
        <p:blipFill>
          <a:blip r:embed="rId5"/>
          <a:stretch/>
        </p:blipFill>
        <p:spPr>
          <a:xfrm>
            <a:off x="7451640" y="2421000"/>
            <a:ext cx="762120" cy="571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05"/>
          <p:cNvPicPr/>
          <p:nvPr/>
        </p:nvPicPr>
        <p:blipFill>
          <a:blip r:embed="rId6"/>
          <a:stretch/>
        </p:blipFill>
        <p:spPr>
          <a:xfrm>
            <a:off x="324000" y="2421000"/>
            <a:ext cx="761760" cy="571320"/>
          </a:xfrm>
          <a:prstGeom prst="rect">
            <a:avLst/>
          </a:prstGeom>
          <a:ln w="0">
            <a:noFill/>
          </a:ln>
        </p:spPr>
      </p:pic>
      <p:pic>
        <p:nvPicPr>
          <p:cNvPr id="100" name="母爱配音.mid" descr=""/>
          <p:cNvPicPr/>
          <p:nvPr/>
        </p:nvPicPr>
        <p:blipFill>
          <a:blip r:embed="rId7"/>
          <a:stretch/>
        </p:blipFill>
        <p:spPr>
          <a:xfrm>
            <a:off x="169236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play1"/>
          <p:cNvPicPr/>
          <p:nvPr/>
        </p:nvPicPr>
        <p:blipFill>
          <a:blip r:embed="rId8"/>
          <a:stretch/>
        </p:blipFill>
        <p:spPr>
          <a:xfrm>
            <a:off x="0" y="4365720"/>
            <a:ext cx="2392200" cy="2492280"/>
          </a:xfrm>
          <a:prstGeom prst="rect">
            <a:avLst/>
          </a:prstGeom>
          <a:ln w="0">
            <a:noFill/>
          </a:ln>
        </p:spPr>
      </p:pic>
      <p:sp>
        <p:nvSpPr>
          <p:cNvPr id="102" name="WordArt 12"/>
          <p:cNvSpPr txBox="1"/>
          <p:nvPr/>
        </p:nvSpPr>
        <p:spPr>
          <a:xfrm>
            <a:off x="1403280" y="1916280"/>
            <a:ext cx="604836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沟通从心开始</a:t>
            </a:r>
            <a:endParaRPr b="0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3" name="Picture 13" descr="图片1fyu"/>
          <p:cNvPicPr/>
          <p:nvPr/>
        </p:nvPicPr>
        <p:blipFill>
          <a:blip r:embed="rId9"/>
          <a:stretch/>
        </p:blipFill>
        <p:spPr>
          <a:xfrm>
            <a:off x="7380360" y="4197240"/>
            <a:ext cx="1512720" cy="1414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图片1fyu"/>
          <p:cNvPicPr/>
          <p:nvPr/>
        </p:nvPicPr>
        <p:blipFill>
          <a:blip r:embed="rId10"/>
          <a:stretch/>
        </p:blipFill>
        <p:spPr>
          <a:xfrm>
            <a:off x="2916360" y="1052640"/>
            <a:ext cx="1512720" cy="14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5045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20054182057823650"/>
          <p:cNvPicPr/>
          <p:nvPr/>
        </p:nvPicPr>
        <p:blipFill>
          <a:blip r:embed="rId1"/>
          <a:stretch/>
        </p:blipFill>
        <p:spPr>
          <a:xfrm>
            <a:off x="0" y="671400"/>
            <a:ext cx="4105440" cy="920880"/>
          </a:xfrm>
          <a:prstGeom prst="rect">
            <a:avLst/>
          </a:prstGeom>
          <a:ln w="0">
            <a:noFill/>
          </a:ln>
        </p:spPr>
      </p:pic>
      <p:sp>
        <p:nvSpPr>
          <p:cNvPr id="106" name="WordArt 2"/>
          <p:cNvSpPr txBox="1"/>
          <p:nvPr/>
        </p:nvSpPr>
        <p:spPr>
          <a:xfrm>
            <a:off x="461880" y="457200"/>
            <a:ext cx="15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心灵导航：</a:t>
            </a:r>
            <a:endParaRPr b="1" lang="en-US" sz="40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514600" y="4572000"/>
            <a:ext cx="51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亲近父母</a:t>
            </a:r>
            <a:r>
              <a:rPr b="1" lang="en-US" sz="3600" spc="-1" strike="noStrike">
                <a:solidFill>
                  <a:srgbClr val="0000cc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化解矛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495680" y="530064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遇事多与父母商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84360" y="1600200"/>
            <a:ext cx="83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面对父母与我们之间的矛盾和冲突，我们既不能否认，也不能漠视，更不能夸大，我们唯一所能做的就是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用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去和父母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84000" y="3284640"/>
            <a:ext cx="547236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610e6"/>
                </a:solidFill>
                <a:latin typeface="Arial"/>
              </a:rPr>
              <a:t>架起理解的桥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500_V5u1SHex"/>
          <p:cNvPicPr/>
          <p:nvPr/>
        </p:nvPicPr>
        <p:blipFill>
          <a:blip r:embed="rId2"/>
          <a:stretch/>
        </p:blipFill>
        <p:spPr>
          <a:xfrm>
            <a:off x="0" y="5367240"/>
            <a:ext cx="320364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030907005acn_2"/>
          <p:cNvPicPr/>
          <p:nvPr/>
        </p:nvPicPr>
        <p:blipFill>
          <a:blip r:embed="rId1"/>
          <a:stretch/>
        </p:blipFill>
        <p:spPr>
          <a:xfrm>
            <a:off x="250920" y="2349360"/>
            <a:ext cx="4392360" cy="4508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90400" y="83664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碰到这样的情况，你会如何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3654"/>
          <p:cNvPicPr/>
          <p:nvPr/>
        </p:nvPicPr>
        <p:blipFill>
          <a:blip r:embed="rId2"/>
          <a:stretch/>
        </p:blipFill>
        <p:spPr>
          <a:xfrm>
            <a:off x="0" y="0"/>
            <a:ext cx="3132000" cy="7826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4867200" y="2479680"/>
            <a:ext cx="406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天，妈妈收拾你的房间时，发现你的日记放在床头未带到学校去。犹豫中妈妈打开了它。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时你正好推门进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11280" y="141300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为何同样偷看日记，会有两种不同的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BD05219_"/>
          <p:cNvPicPr/>
          <p:nvPr/>
        </p:nvPicPr>
        <p:blipFill>
          <a:blip r:embed="rId1"/>
          <a:stretch/>
        </p:blipFill>
        <p:spPr>
          <a:xfrm>
            <a:off x="0" y="0"/>
            <a:ext cx="2438280" cy="22845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369720" y="2554200"/>
            <a:ext cx="80773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明确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冲突是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进一步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分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产生分歧的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找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出解决这一问题可能涉及的各种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判断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哪些解决方式是冲突一方不能接受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确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种双方都能够接受的最佳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检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最终选择的解决问题的方法是否有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772400" y="2438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看日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7620120" y="3048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意见不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6934320" y="37339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争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沟通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7924680" y="4419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争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7772400" y="5105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沟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7620120" y="5715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母子和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7922160" y="1744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2"/>
          <p:cNvSpPr txBox="1"/>
          <p:nvPr/>
        </p:nvSpPr>
        <p:spPr>
          <a:xfrm>
            <a:off x="2916360" y="765000"/>
            <a:ext cx="3887640" cy="14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心灵导航</a:t>
            </a:r>
            <a:endParaRPr b="1" lang="en-US" sz="40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图片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561960" y="1484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2120" y="1676520"/>
            <a:ext cx="76960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9900cc"/>
                </a:solidFill>
                <a:latin typeface="华文中宋"/>
                <a:ea typeface="华文中宋"/>
              </a:rPr>
              <a:t>假如在你</a:t>
            </a:r>
            <a:r>
              <a:rPr b="1" lang="en-US" sz="3600" spc="-1" strike="noStrike">
                <a:solidFill>
                  <a:srgbClr val="9900cc"/>
                </a:solidFill>
                <a:latin typeface="华文中宋"/>
                <a:ea typeface="华文中宋"/>
              </a:rPr>
              <a:t>14</a:t>
            </a:r>
            <a:r>
              <a:rPr b="1" lang="zh-CN" sz="3600" spc="-1" strike="noStrike">
                <a:solidFill>
                  <a:srgbClr val="9900cc"/>
                </a:solidFill>
                <a:latin typeface="华文中宋"/>
                <a:ea typeface="华文中宋"/>
              </a:rPr>
              <a:t>岁生日前，本班几个要好的同学和几个小学同学都说要参加你的生日聚会，你也想利用这个机会与同学聊聊天，放松放松。可你的家境并不富裕，父母上班又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华文中宋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3399"/>
                </a:solidFill>
                <a:latin typeface="华文中宋"/>
                <a:ea typeface="黑体"/>
              </a:rPr>
              <a:t>你该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怎样争取和父母达成共识呢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黑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685800" y="612720"/>
            <a:ext cx="35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隶书"/>
              </a:rPr>
              <a:t>模拟沟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26088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14400" y="4495680"/>
            <a:ext cx="5943600" cy="360"/>
            <a:chOff x="914400" y="4495680"/>
            <a:chExt cx="5943600" cy="360"/>
          </a:xfrm>
        </p:grpSpPr>
        <p:sp>
          <p:nvSpPr>
            <p:cNvPr id="133" name="Line 7"/>
            <p:cNvSpPr/>
            <p:nvPr/>
          </p:nvSpPr>
          <p:spPr>
            <a:xfrm>
              <a:off x="914400" y="4495680"/>
              <a:ext cx="5943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914400" y="4495680"/>
              <a:ext cx="5943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914400" y="4572000"/>
            <a:ext cx="6095880" cy="360"/>
            <a:chOff x="914400" y="4572000"/>
            <a:chExt cx="6095880" cy="360"/>
          </a:xfrm>
        </p:grpSpPr>
        <p:sp>
          <p:nvSpPr>
            <p:cNvPr id="136" name="Line 8"/>
            <p:cNvSpPr/>
            <p:nvPr/>
          </p:nvSpPr>
          <p:spPr>
            <a:xfrm>
              <a:off x="914400" y="457200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914400" y="457200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文本框 8199"/>
          <p:cNvSpPr/>
          <p:nvPr/>
        </p:nvSpPr>
        <p:spPr>
          <a:xfrm>
            <a:off x="4149720" y="995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-224640" y="1905120"/>
            <a:ext cx="1399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沟通的基本要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1219320" y="1828800"/>
            <a:ext cx="380880" cy="3809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99000 h 3809880"/>
              <a:gd name="textAreaBottom" fmla="*/ 37108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752480" y="1523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沟通的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前提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148360" y="155736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彼此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752480" y="2590920"/>
            <a:ext cx="26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沟通的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关键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076720" y="25653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尊重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752480" y="3809880"/>
            <a:ext cx="368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沟通的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有效方法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502920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换位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1828800" y="50292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沟通的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结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4932360" y="501336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求同存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20053163339"/>
          <p:cNvPicPr/>
          <p:nvPr/>
        </p:nvPicPr>
        <p:blipFill>
          <a:blip r:embed="rId1"/>
          <a:stretch/>
        </p:blipFill>
        <p:spPr>
          <a:xfrm>
            <a:off x="-228600" y="0"/>
            <a:ext cx="1371600" cy="184464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13" descr=""/>
          <p:cNvPicPr/>
          <p:nvPr/>
        </p:nvPicPr>
        <p:blipFill>
          <a:blip r:embed="rId2"/>
          <a:stretch/>
        </p:blipFill>
        <p:spPr>
          <a:xfrm>
            <a:off x="6934320" y="4900680"/>
            <a:ext cx="22096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68000" y="1267920"/>
            <a:ext cx="8675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毛毛是个冒失鬼常常弄坏东西、染脏衣服、摔坏花盆，惹得父母批评。可他家的亲子关系并没有因为毛毛的过失、父母的批评而疏远，毛毛觉得与父母在一起很开心。当问及毛毛有什么诀窍时，他说：</a:t>
            </a:r>
            <a:r>
              <a:rPr b="1" lang="zh-CN" sz="2800" spc="-1" strike="noStrike">
                <a:solidFill>
                  <a:srgbClr val="f610e6"/>
                </a:solidFill>
                <a:latin typeface="Arial"/>
              </a:rPr>
              <a:t>“我有错会认，挨批评会听，帮父母做事，还会夸赞父母，老爹老妈能不喜欢我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00cc"/>
                </a:solidFill>
                <a:latin typeface="Arial"/>
              </a:rPr>
              <a:t>、毛毛有哪些窍门 ？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996633"/>
                </a:solidFill>
                <a:latin typeface="Arial"/>
              </a:rPr>
              <a:t>你有过毛毛的体验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你与父母交往还有哪些窍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f610e6"/>
                </a:solidFill>
                <a:latin typeface="Arial"/>
              </a:rPr>
              <a:t>让我们一起分享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3"/>
          <p:cNvSpPr txBox="1"/>
          <p:nvPr/>
        </p:nvSpPr>
        <p:spPr>
          <a:xfrm>
            <a:off x="304920" y="189000"/>
            <a:ext cx="434340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你说我说</a:t>
            </a:r>
            <a:endParaRPr b="0" lang="en-US" sz="4000" spc="1" strike="noStrike">
              <a:ln w="12600">
                <a:solidFill>
                  <a:srgbClr val="ff0000"/>
                </a:solidFill>
                <a:round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6095880" y="4362480"/>
            <a:ext cx="3048120" cy="249552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1523880" y="4038480"/>
            <a:ext cx="1371600" cy="360"/>
            <a:chOff x="1523880" y="4038480"/>
            <a:chExt cx="1371600" cy="360"/>
          </a:xfrm>
        </p:grpSpPr>
        <p:sp>
          <p:nvSpPr>
            <p:cNvPr id="155" name="Line 5"/>
            <p:cNvSpPr/>
            <p:nvPr/>
          </p:nvSpPr>
          <p:spPr>
            <a:xfrm>
              <a:off x="1523880" y="40384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1523880" y="403848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486400" y="4038480"/>
            <a:ext cx="1676520" cy="360"/>
            <a:chOff x="5486400" y="4038480"/>
            <a:chExt cx="1676520" cy="360"/>
          </a:xfrm>
        </p:grpSpPr>
        <p:sp>
          <p:nvSpPr>
            <p:cNvPr id="158" name="Line 6"/>
            <p:cNvSpPr/>
            <p:nvPr/>
          </p:nvSpPr>
          <p:spPr>
            <a:xfrm>
              <a:off x="5486400" y="40384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5486400" y="4038480"/>
              <a:ext cx="167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153280" y="4038480"/>
            <a:ext cx="838440" cy="360"/>
            <a:chOff x="8153280" y="4038480"/>
            <a:chExt cx="838440" cy="360"/>
          </a:xfrm>
        </p:grpSpPr>
        <p:sp>
          <p:nvSpPr>
            <p:cNvPr id="161" name="Line 7"/>
            <p:cNvSpPr/>
            <p:nvPr/>
          </p:nvSpPr>
          <p:spPr>
            <a:xfrm>
              <a:off x="8153280" y="40384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8153280" y="4038480"/>
              <a:ext cx="838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914400" y="4419720"/>
            <a:ext cx="762120" cy="360"/>
            <a:chOff x="914400" y="4419720"/>
            <a:chExt cx="762120" cy="360"/>
          </a:xfrm>
        </p:grpSpPr>
        <p:sp>
          <p:nvSpPr>
            <p:cNvPr id="164" name="Line 8"/>
            <p:cNvSpPr/>
            <p:nvPr/>
          </p:nvSpPr>
          <p:spPr>
            <a:xfrm>
              <a:off x="914400" y="44197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914400" y="441972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276720" y="4038480"/>
            <a:ext cx="1752480" cy="360"/>
            <a:chOff x="3276720" y="4038480"/>
            <a:chExt cx="1752480" cy="360"/>
          </a:xfrm>
        </p:grpSpPr>
        <p:sp>
          <p:nvSpPr>
            <p:cNvPr id="167" name="Line 9"/>
            <p:cNvSpPr/>
            <p:nvPr/>
          </p:nvSpPr>
          <p:spPr>
            <a:xfrm>
              <a:off x="3276720" y="40384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3276720" y="4038480"/>
              <a:ext cx="1752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03:39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09Z</dcterms:modified>
  <cp:revision>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