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6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35.png" ContentType="image/png"/>
  <Override PartName="/ppt/media/image5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83E-1AC7-4F10-A280-6829CF40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703-021E-4564-AE7C-5F162A39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2A86E-6BAC-4219-BBC8-094B2E3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6D44D-2CF5-4A89-9931-01935CCE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C833F-59C3-4A9F-A2AC-EFDCBBC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DCEF7-0477-40CC-B91D-6F71C22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A425-A021-45E4-A11B-A39E84F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ED777-B081-4E11-88BD-311FB48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71773-7428-41DA-A0E5-AE4DC3DB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0518E-B440-491C-9AA8-ED015877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E4F6E-3949-4BC8-A2CA-4CF719E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0537-6562-42D7-BF6C-8411CC11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551-14AC-4BA7-B6A8-B6B6B432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525CC-D63D-4FD6-8948-4C4E0E3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F70AD-D6B2-45C6-B161-257616E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F3048-41B9-4F38-A68D-85EA316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5441-8067-4905-85EE-FC7E1AB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6EC5B-391C-4757-90EA-1CEFC05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CA3B4-7BAF-4575-8FCC-BAD59B8E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B745-43D1-4E2A-89F6-EC628A4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AE09E-3901-4D11-A019-0CA2901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42C96-AB89-4C1E-9BCB-3B992D40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665FC-1C05-4960-9CAB-E58B5E0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8B2-BA62-45BE-A795-7E7E5B1C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6666-44B7-419A-B65B-6DC2B5BB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BA7B3-BCF4-4C63-ADC0-861A2056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533D-73AD-44E0-B651-177F27A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C120-44BC-4BD5-A223-78EAD3A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2F608-6C38-4B33-B1B8-46DC034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F676F-7178-4E35-B28B-E8FEC83D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8A4C9-7B7B-4E5D-AAD8-A3446EC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87908-33EE-42A6-B19C-1574AB2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B5E4-3B69-4B28-9BB1-8C34191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36A5-21F7-4442-9BC9-C0B8FA7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FB0-3F31-4F4A-ABD5-A71F4934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44BDC-9C71-421A-9FD5-2E962EC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7096-8E58-4B92-9FB0-7EFCD357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729E1-612C-40E2-8130-F117BDE2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55DD59-0158-44D1-8755-4BF543F7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4BD201-997C-4153-84AD-6548D63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6F700-97D7-4A55-81D5-CFB484D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2D4BC3-91CE-47EC-A2DB-9DF77E3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2ABF4D-BD91-4057-ABF1-E231B948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068624-F5A8-44F8-A79C-BABD83CA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33C4A5-785F-4BFC-B313-8200276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BA4-68F7-4DAA-B95D-C62F215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5E2F6D-56F2-45A3-98E0-1628585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5E9BA4-A904-4DB0-8143-7ADD861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60F038-8563-4B66-AA10-F3679A90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0B1220-0CF0-4F4A-94F7-1B952097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4709C6-EE7A-4736-B5F3-716869CD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62BF3-8318-44F3-A390-CEC3764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FB2A5F-BA80-4B05-8989-760BA1F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DE8D51-06C9-4ECF-B6E8-F0EB9CD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0F3712-8A12-4C8E-A783-487A216B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F2F161-FFCA-4A79-B58A-0FF7691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F47-FC39-42E0-9671-CEC5121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CAA959-8A4B-4435-8CF3-78A9C62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7DECA-B7A1-4EF2-85BA-E9C3FD1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59469-616E-4C01-B8FD-8C76E58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2AA93E-C083-4B4E-AAAD-7F558CC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FDFA8F-D7EB-44CA-878E-03835D0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63621-5EBB-4ECD-A72B-EDABA4E0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B2B29D-7578-46CB-B1AC-D920ECB5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68B37-3BBE-47AD-8F86-3C89F17E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DF7AF-BCE5-4DE4-A98E-13482A88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8CA7D-E408-46F9-AE06-6BAC301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9C55-AB85-4E36-949A-3084A33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12998-88E1-4539-B672-258FFCF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FEF81-9E77-4EFA-A6FC-6C875FE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F2CD3-9A59-4AF4-9E18-8F08A97A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A7D36-7BED-4F4A-BF87-D719360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37A58-CCBA-4BEC-8C77-0689BD2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A681F-4B5C-4AA1-9959-7C1C701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6E816-7BEF-4037-AD20-00DA929D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995C6-454B-4699-905E-EBD8C807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D5481-109F-4FBB-83C8-04AEA524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347484-5885-47FE-B8B3-1BDEF526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B17-8F44-4DA5-BA13-9D51E591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216849-9059-4160-88FD-F0103D1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967AB7-91B2-415B-98B0-6EEAB5F3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FD5A5B-1E4B-4A25-B196-A1FA986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9E00E9-6865-45BE-B1E4-09A2175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0FA498-1325-4B86-BE0B-1040D0AF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6A8FCF-702F-4148-97B1-B787B3A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61B615-B99C-45AF-B895-3F0B35C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95C512-4707-4300-A05F-B9826C0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D71BE1-2E32-4792-9F76-C6FAB193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B242AE-7A13-4226-808B-85BC7C28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7024-97B8-42A0-AFAB-8EFF253C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797DE1-A4D0-430E-934C-BCEE51F1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F5C942-36D6-4188-8634-507AEEE2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173BE2-D625-4C44-AE3A-931DDC2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D20C24-8985-4BBC-8040-D482CB4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67B6E4-F79E-42E6-A70A-193A5D6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916D9E-C22D-4239-BD65-769B22F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5D8115-B97E-48D4-BACF-74D79705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62B5EA-9170-40F9-BB34-9C957D29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E86699-6DDF-46A8-8E0E-2AAB444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5A17D4-98C7-4FF6-9233-0DC2908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83B8-266B-4B92-8371-9AA8849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FBB4FE-DA0D-4E00-A6F5-68F335C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99A259-E49F-4D00-AA9B-3DE1BDFF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5D9382-6E50-483B-8347-2223EF0C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434728-8D28-4285-9C90-0D302BC7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E51ADE-BD1F-42FE-BA57-6D23826E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E47A84-8823-485E-BA60-6CC7D19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7FDAFA-76FC-4E8A-9C20-ECF232F0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6754B3-3101-4F1E-B368-5495D997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25971-28DC-4460-A570-9D64840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30A92E-5FAE-42CE-8938-0A7DF7C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B64-73BC-418F-A282-9A0C74C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1145-D06D-47A8-B2A3-21157FF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708EC7-49F4-4493-92EB-B24EF70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35702F-15A9-4147-B5EB-D1E1F9B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723C44-7C85-436D-86AC-A4288DB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ED9BC9-600F-4F5B-993C-F4A27994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D8500F-AF48-45A7-8948-73958739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8AB4F-FD29-4BFB-B3BE-D1AE2427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744A7-0CF6-4D81-8479-3885FA0D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AE61F-DB1A-4703-9AD2-3F68D005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054BC-9C89-4298-B262-ABD0844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BB2DB-427B-416F-BE68-5C70D6DE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3774-C46B-4E49-86C6-961BA32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28D48-7276-4565-983F-9B28B703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59CCC-98C1-456B-9696-6478F85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825D1-72BE-4BDA-A76D-A896368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0B1E5-3D05-48BF-AB87-2455583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D8B73-A130-40AD-972E-59A41BD5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A129C-A9F8-4D3A-8255-76F8787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7906E-F3F5-43C9-82E0-8D7A49C1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B31F84-1F38-4A83-9C6E-FD7091AA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C30197-9C53-4371-BCD2-70F6B0A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7FED9A-23A6-46C4-9216-C721F97E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1A5-073C-49E3-8DAA-866782FC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BF2B3B-E154-474E-996B-8E58C7E1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4E239D-FD13-4B20-83A1-04794AE5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168A21-B8E3-4E7F-BCC7-D11D6C03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9347B4-4C86-426B-91C4-FD1B6EA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EBF8A0-A38E-43F1-8732-8DBCB5A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64B523-91BA-4C94-B228-975713E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5B83E0-0AE8-49D2-9CC9-C1204645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533E06-1685-4FA4-B254-0E7C6672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FB19F4-1B72-452C-B2EE-48A7156D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63142-8092-4E7C-95A0-F5F8156C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590-964B-4219-9EE3-3AAB834A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F9FEC-B369-4E86-B675-BAF7E234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418E9-7623-45F6-9234-A24A542E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F4EA1-B314-4150-9AF8-E5B70784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22935-D1A6-4931-8F4F-57E7AC4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E4727-B9A9-48F5-A8FB-28FFD6FC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C500D-9190-4B91-BFCE-86C9FF6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CCF0C-8F3B-4738-AB8B-6E033F00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C3C9A-DF9F-4BEB-A306-3644D15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12906-698F-478A-A2C1-A2B2A27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2C76A-D9B9-484E-BBC0-FA58DB9A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CE0F-AD84-49D2-A162-E81AC8CE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091EB-D4A8-4F05-9B46-7D475E1E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F484C-FDF1-467B-96A3-9E768DED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0C29E-53C4-4974-B0E3-E939B9E7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138DD-32DC-4BE1-90C1-BE5A699B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46B75-50A4-4EA4-B841-223D10C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8DCE9-E9DA-470F-B73C-385F0CB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AF085-D012-47B6-AC1E-E7D885B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00649-8777-4E4E-96D3-45637A5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A3E7D-1777-4E4E-BCB3-55313EF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11B5B-97D1-43CC-AFAC-795868C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1A83-C868-4293-82A1-B8E733F0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E14BB-0D1C-429D-A346-491B51D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D17EA-3CB9-4A10-A29E-BFD891E3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F80CC-C2E0-43A8-BF49-04743C0D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8E345-4C7F-4B84-AAFA-AF9725A9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2B4D5-A7B0-4070-A9B5-581007BA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C0D760-8A46-4516-9F76-529D06FC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783E1-C041-46E1-9E43-444BA332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E889A-1D31-4920-B146-D094792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836415-03A0-4D7D-A6FE-758BCB5E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95250-0087-4A92-B7B8-7FC3F46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B8D3-4B81-4B3A-8B83-D6E5B1F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B453DC-30CD-4DC4-8388-9D29D81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84F5E-7A3F-4FF4-ADDF-2FC13F5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D54C00-DCFA-4609-BEE0-76CBE42C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FD7BF9-6018-4475-BB24-9572DABB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4E156-2A57-4802-9E72-D3A7527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5CAA2-4811-4389-A3DC-C4A91C5C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29D623-9C7C-406E-B76E-5DF4D42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CD008-9C0F-4A2A-A0D8-B4FA99A5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CC6A1B-5CAF-4FC5-8A85-1A1B0F5A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AE07E-35E6-4A56-9D1A-EEC470C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E2E0-114F-4B52-9AEE-54F85C17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7829DB-912D-4166-92BA-09EC1ACE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5595B-730E-41A0-BC44-E106052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A6752-C665-43BB-9506-2551B62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33B06-74C6-47EB-8169-0B243A7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9BF958-ABA8-4578-BB17-223B92C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316DBF-45B5-4957-8AA7-65083A58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07CF2-6E72-4C3E-87E1-F030B86A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9FE6F0-1CD8-429B-8F3A-3328AB3C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6A6AAD-FA99-425D-B745-CFDC1BB3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B84AF-377D-435D-976E-17902D3D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E9E0-23F4-47A0-8D86-D0D2F1F6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6B516-1F5E-4CA6-B0A7-3B7D908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1B8EF-0B53-4A5D-911B-EF61927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CD218-0B17-4FF4-AB67-97A2C6C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F0817D-4B7E-4CE7-B894-1FB908E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1F8AB-A131-4EBC-83B3-C6F653B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F583DD-FF0C-4D81-8885-79763CD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7B3B83-52E8-4DD9-806B-C640BF4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A68AB9-B528-42B1-9C2C-8BF15069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0E122E-FDEB-4395-A3AC-81028034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9A7266-9B4D-436C-BC01-CAF8498F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53C0-AFD3-417C-B965-4F4BB008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D6684D-91B5-439E-B095-8D6456F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DD2AF2-81CE-49E5-BD02-2648246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AC44E3-948C-4CBB-A2DF-065E0E0E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10FA30-6D11-42DD-8BF5-D383448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7FA12-3F76-4F49-ADEC-7274DD6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BD2001-4291-4C15-83AA-B7B7694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FAA4D-CFBA-4CBD-B10F-EF967A0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2B9CCF-2152-491D-8E65-1B03290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4218A3-83F8-4033-9A00-6266E7AC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561107-FE63-4E63-955B-DB23B61E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7EB-ABD1-4617-9578-C006995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0F4B-3C11-4DDE-8565-90901A2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9ADCA2-FA22-45F7-9270-D12301D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63F832-2E2D-42F7-BDA5-86F8412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A90CF9-938C-4CE5-A396-AB4609B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8C2423-56C3-4FCE-9207-69B0E83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B73B7-2776-40C3-84C0-3F3D6143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B202F-059C-48F9-8A6D-A04D17C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85554B-76A7-4664-A0D0-F3ED82C9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DB5B8-DA8A-47A1-91B2-361F363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DD1656-9333-4940-9EAE-B969B39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FBC3C-9F60-4F93-80CC-77604FB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B473-77AB-42E6-B7B1-5B3D9A71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489CF7-E89E-410B-AB15-C7E73F8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2C83C0-C003-4A22-89A9-B564E0DC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972C9C-5C27-4438-8CEA-C8233F8B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5701-805D-43CE-BD75-85BDBB6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851F-1F8C-4334-B682-C7067BC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7E07-1AE6-4435-884E-9D2FE6E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91E0-D77B-4E83-8579-59CFEFB6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1707-4F33-4FCB-AD7E-73AAE0A9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599D-29FC-44DA-8DB3-FFF457F1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130B-BFBC-4BE2-9BD7-E5BAE56A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8DC7-E2D3-45BB-B9C2-76BCA51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F3B-BBB2-49D4-B982-484E9BB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40AE-D510-4B73-B897-40301E3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23A7-8103-4335-A4CB-ADA30BA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3990-79E2-4A12-96CF-AA2EDA7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4FD6-3E4A-4A44-9184-1F86B1E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3076-E6CC-44DC-B4F2-8D7D2B3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94B7-4A11-4EA8-9AE1-982F3C9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E27F-F187-489E-BFBE-8743CB6C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69E7-5809-447A-B1C2-2500E4F2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1001-9DC1-454A-8343-542523B8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FB75-1E63-4844-8702-E44A5DD4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695-D767-43EE-9567-D33E16C4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03FE-022E-4D61-A6FC-73CC0C1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FA66-8F24-4F25-BCBF-4280831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6CC2-3709-4CF9-A020-1AEDA64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B389-3254-4B85-8DAF-4BD737F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44AA-399E-4D41-A04D-F42F2145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F807-CE2E-4296-A88C-196AAF7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3FEC-8EEA-40DE-890D-CB33A8D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830B-9EDC-467F-85FA-7D11096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F650-0E31-49A0-A462-6B9FF0DC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0B20-B5AB-49A3-924C-7B4A21E6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59D-88C0-4401-885C-B449F48E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34EF-035A-4E9A-984A-4BDB7C3C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50711-E129-4823-9AB3-8F9E701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24216-06BC-4CDA-B4E2-7342B93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777BE-06C6-42CA-AB8C-645C7F01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D4B41-71F7-47D6-BE2A-A03A70C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B7346-A3AB-46D6-80D4-EE28320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93D76-5F93-4ED3-BF46-2DED38B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8E353-3C43-458D-AC4C-0BA81B2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10433-4BE1-484B-A2D2-1907642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1A370-49D6-4D63-8359-61754EB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DC2-ED8D-464E-91A7-B2DD613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82AB3-9D43-4ED2-AE94-E17B6869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E39E7-E075-436A-86B2-A6121534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68C6A-7A11-46AA-A87C-777AB2CF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1F96-1CDE-496C-B6B0-6112667D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1414-BD39-4866-AA70-BE106025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0A554-05D6-4549-87AB-9957EEF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6308-5B90-4305-9FA1-00724B5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D823-D738-4BE1-8746-765FA3F7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45C7D-8CF1-44F5-8DC0-821A94F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5C4B-7EB8-41C3-B324-E942C58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EAC-150C-4520-8335-C0E7A4F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1879-2AEC-4535-A153-86B9257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45F8-0803-4582-AFD1-F84239F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D997-2309-44C4-A733-AC961BA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D3BB-F60A-4429-A71D-3F1C5E6A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EE41-F6CF-4A73-9A87-FC798D8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CFE90-B71B-4177-8A21-6665421B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DBAAF-C377-4D74-8E97-7CE5367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E75ED-E5FC-4A0D-ACA4-662A08C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EC08C-B07C-4AE6-A3B2-AA50080D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D2C1A-07B1-4D91-A77F-AA84919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B44-67B1-414C-8DCD-90E19E3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BFB39-F87B-4632-B0D4-36D2B476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9DA72-A3C4-45C1-A1BF-F3D809F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1F77F-1626-47DA-9BD6-2E240BB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F7F13-47AB-47EA-8162-5B95B67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1C33E-2200-4352-9534-0F54C2BD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7ADB8-29FE-4810-B2D6-4EABFADC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09EF6-0D70-4C8E-BAB3-F562986E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0EE1D-A394-4BE6-BBAC-DB898B5A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CB493-72B3-4487-B734-8F455478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8E192-8840-4E61-8BE4-8E16B9A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696-2EE9-4358-A93D-1C3FB26EA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对角圆角矩形 6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8821800" cy="6577200"/>
          </a:xfrm>
          <a:prstGeom prst="rect">
            <a:avLst/>
          </a:prstGeom>
          <a:ln w="0">
            <a:noFill/>
          </a:ln>
        </p:spPr>
      </p:pic>
      <p:sp>
        <p:nvSpPr>
          <p:cNvPr id="389" name="矩形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矩形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9F50-00CB-48A0-B0F5-00233DD90A4A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对角圆角矩形 6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8821800" cy="6577200"/>
          </a:xfrm>
          <a:prstGeom prst="rect">
            <a:avLst/>
          </a:prstGeom>
          <a:ln w="0">
            <a:noFill/>
          </a:ln>
        </p:spPr>
      </p:pic>
      <p:sp>
        <p:nvSpPr>
          <p:cNvPr id="433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A42-A4F6-4442-864C-A024401C673F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7CB-FAC1-4B0E-883A-0BE27927DCD3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A2F-1492-4C15-9189-BE92EBBD36B7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矩形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矩形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e3ded1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9F2-EA31-4F8C-8B48-44039994B24F}" type="slidenum">
              <a:rPr b="1" lang="zh-CN" sz="1400" spc="-1" strike="noStrike">
                <a:solidFill>
                  <a:srgbClr val="e3ded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矩形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矩形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4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056-5D3E-4F48-BB7D-AF00398379FE}" type="slidenum"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E26-9BA8-4BE6-91F1-07351420247C}" type="slidenum"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5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4D1-6A43-4F6C-87C7-1FD15B74DC54}" type="slidenum"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5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32323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034-F0F7-4B8D-B15E-E9C3F432D049}" type="slidenum">
              <a:rPr b="1" lang="zh-CN" sz="1400" spc="-1" strike="noStrike">
                <a:solidFill>
                  <a:srgbClr val="32323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矩形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矩形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矩形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矩形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5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5B02-D7C1-4522-843B-C7DC5B788A10}" type="slidenum"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5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角圆角矩形 6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8821800" cy="657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77E-5254-4DAF-81F1-77DDACDE8C66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矩形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8CC6-B17B-49D6-AE6E-D5DE63347D3A}" type="slidenum"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矩形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矩形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矩形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矩形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矩形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矩形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矩形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FD9-B3D9-456A-9DAB-BB2B660A8760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任意多边形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/>
            <a:ahLst/>
            <a:rect l="l" t="t" r="r" b="b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任意多边形 18"/>
          <p:cNvSpPr/>
          <p:nvPr/>
        </p:nvSpPr>
        <p:spPr>
          <a:xfrm>
            <a:off x="374760" y="0"/>
            <a:ext cx="5513400" cy="6615000"/>
          </a:xfrm>
          <a:custGeom>
            <a:avLst/>
            <a:gdLst/>
            <a:ahLst/>
            <a:rect l="l" t="t" r="r" b="b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任意多边形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任意多边形 20"/>
          <p:cNvSpPr/>
          <p:nvPr/>
        </p:nvSpPr>
        <p:spPr>
          <a:xfrm>
            <a:off x="5943600" y="0"/>
            <a:ext cx="2743200" cy="4267080"/>
          </a:xfrm>
          <a:custGeom>
            <a:avLst/>
            <a:gdLst/>
            <a:ahLst/>
            <a:rect l="l" t="t" r="r" b="b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任意多边形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/>
            <a:ahLst/>
            <a:rect l="l" t="t" r="r" b="b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任意多边形 24"/>
          <p:cNvSpPr/>
          <p:nvPr/>
        </p:nvSpPr>
        <p:spPr>
          <a:xfrm>
            <a:off x="5943600" y="0"/>
            <a:ext cx="1371600" cy="4267080"/>
          </a:xfrm>
          <a:custGeom>
            <a:avLst/>
            <a:gdLst/>
            <a:ahLst/>
            <a:rect l="l" t="t" r="r" b="b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任意多边形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/>
            <a:ahLst/>
            <a:rect l="l" t="t" r="r" b="b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任意多边形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任意多边形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/>
            <a:ahLst/>
            <a:rect l="l" t="t" r="r" b="b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任意多边形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/>
            <a:ahLst/>
            <a:rect l="l" t="t" r="r" b="b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任意多边形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任意多边形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/>
            <a:ahLst/>
            <a:rect l="l" t="t" r="r" b="b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任意多边形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/>
            <a:ahLst/>
            <a:rect l="l" t="t" r="r" b="b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任意多边形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任意多边形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/>
            <a:ahLst/>
            <a:rect l="l" t="t" r="r" b="b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矩形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矩形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矩形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矩形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矩形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DFBB-5903-4321-B5E3-55A990EDC7E9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17AB-ECB0-4B2C-B37C-8CE155625FCA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矩形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矩形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矩形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矩形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矩形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矩形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矩形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矩形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矩形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185-2F90-4AE5-8936-D4DC8FBCA523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599-380F-4605-B0B4-357FF3A62A31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矩形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直接连接符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组合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1130" name="直接连接符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直接连接符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直接连接符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组合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1134" name="直接连接符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直接连接符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直接连接符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组合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1138" name="直接连接符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直接连接符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直接连接符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7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7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7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A37-DF89-4839-8B63-614E1FCB60D8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04A3-E67E-4CC8-A47A-8DAC8D6DBA84}" type="slidenum"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8A6-B7D0-4169-BF79-B09411B9AB11}" type="slidenum">
              <a:rPr b="0" lang="zh-CN" sz="1200" spc="-1" strike="noStrike">
                <a:solidFill>
                  <a:srgbClr val="d6ec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C49-E73A-4298-B828-A68688A615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对角圆角矩形 7" descr=""/>
          <p:cNvPicPr/>
          <p:nvPr/>
        </p:nvPicPr>
        <p:blipFill>
          <a:blip r:embed="rId3"/>
          <a:stretch/>
        </p:blipFill>
        <p:spPr>
          <a:xfrm>
            <a:off x="158760" y="139680"/>
            <a:ext cx="8826480" cy="2517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D7D-6606-465E-BFDB-47A4A4F9FC2F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对角圆角矩形 6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8821800" cy="6577200"/>
          </a:xfrm>
          <a:prstGeom prst="rect">
            <a:avLst/>
          </a:prstGeom>
          <a:ln w="0">
            <a:noFill/>
          </a:ln>
        </p:spPr>
      </p:pic>
      <p:sp>
        <p:nvSpPr>
          <p:cNvPr id="261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F17-4D75-49FC-96D2-EE76EB74EC9E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F7A-C203-4A05-A8C5-6CB4B1CCD6BA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对角圆角矩形 6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8821800" cy="6577200"/>
          </a:xfrm>
          <a:prstGeom prst="rect">
            <a:avLst/>
          </a:prstGeom>
          <a:ln w="0">
            <a:noFill/>
          </a:ln>
        </p:spPr>
      </p:pic>
      <p:sp>
        <p:nvSpPr>
          <p:cNvPr id="346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63E-C670-40AD-B2A3-40861B107DEC}" type="slidenum">
              <a:rPr b="0" lang="zh-CN" sz="1600" spc="-1" strike="noStrike">
                <a:solidFill>
                  <a:srgbClr val="d1eaee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1"/>
          <p:cNvSpPr/>
          <p:nvPr/>
        </p:nvSpPr>
        <p:spPr>
          <a:xfrm>
            <a:off x="2189160" y="1273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宋体"/>
              </a:rPr>
              <a:t>第七章    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Box 2"/>
          <p:cNvSpPr/>
          <p:nvPr/>
        </p:nvSpPr>
        <p:spPr>
          <a:xfrm>
            <a:off x="2202480" y="2614680"/>
            <a:ext cx="47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一节 力物理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8" descr="0241"/>
          <p:cNvPicPr/>
          <p:nvPr/>
        </p:nvPicPr>
        <p:blipFill>
          <a:blip r:embed="rId1"/>
          <a:stretch/>
        </p:blipFill>
        <p:spPr>
          <a:xfrm>
            <a:off x="5286240" y="128520"/>
            <a:ext cx="1752840" cy="1484280"/>
          </a:xfrm>
          <a:prstGeom prst="rect">
            <a:avLst/>
          </a:prstGeom>
          <a:ln w="0">
            <a:noFill/>
          </a:ln>
        </p:spPr>
      </p:pic>
      <p:sp>
        <p:nvSpPr>
          <p:cNvPr id="1223" name="矩形标注 1"/>
          <p:cNvSpPr/>
          <p:nvPr/>
        </p:nvSpPr>
        <p:spPr>
          <a:xfrm>
            <a:off x="1500120" y="2000160"/>
            <a:ext cx="6000840" cy="3643560"/>
          </a:xfrm>
          <a:prstGeom prst="wedgeRectCallout">
            <a:avLst>
              <a:gd name="adj1" fmla="val 22087"/>
              <a:gd name="adj2" fmla="val -7595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8800" spc="-1" strike="noStrike">
                <a:solidFill>
                  <a:srgbClr val="ffc000"/>
                </a:solidFill>
                <a:latin typeface="黑体"/>
                <a:ea typeface="黑体"/>
              </a:rPr>
              <a:t>力的作用是</a:t>
            </a:r>
            <a:r>
              <a:rPr b="1" lang="zh-CN" sz="8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相互</a:t>
            </a:r>
            <a:r>
              <a:rPr b="1" lang="zh-CN" sz="8800" spc="-1" strike="noStrike">
                <a:solidFill>
                  <a:srgbClr val="ffc000"/>
                </a:solidFill>
                <a:latin typeface="黑体"/>
                <a:ea typeface="黑体"/>
              </a:rPr>
              <a:t>的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TextBox 1"/>
          <p:cNvSpPr/>
          <p:nvPr/>
        </p:nvSpPr>
        <p:spPr>
          <a:xfrm>
            <a:off x="0" y="785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zh-CN" sz="4000" spc="-1" strike="noStrike">
                <a:solidFill>
                  <a:srgbClr val="ffc000"/>
                </a:solidFill>
                <a:latin typeface="Times New Roman"/>
                <a:ea typeface="宋体"/>
              </a:rPr>
              <a:t>在物理学中，力用符号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F</a:t>
            </a:r>
            <a:r>
              <a:rPr b="1" lang="zh-CN" sz="4000" spc="-1" strike="noStrike">
                <a:solidFill>
                  <a:srgbClr val="ffc000"/>
                </a:solidFill>
                <a:latin typeface="Times New Roman"/>
                <a:ea typeface="宋体"/>
              </a:rPr>
              <a:t>表示，单位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牛顿</a:t>
            </a:r>
            <a:r>
              <a:rPr b="1" lang="zh-CN" sz="4000" spc="-1" strike="noStrike">
                <a:solidFill>
                  <a:srgbClr val="ffc000"/>
                </a:solidFill>
                <a:latin typeface="Times New Roman"/>
                <a:ea typeface="宋体"/>
              </a:rPr>
              <a:t>，简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牛</a:t>
            </a:r>
            <a:r>
              <a:rPr b="1" lang="zh-CN" sz="4000" spc="-1" strike="noStrike">
                <a:solidFill>
                  <a:srgbClr val="ffc000"/>
                </a:solidFill>
                <a:latin typeface="Times New Roman"/>
                <a:ea typeface="宋体"/>
              </a:rPr>
              <a:t>，符号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c000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矩形 2"/>
          <p:cNvSpPr/>
          <p:nvPr/>
        </p:nvSpPr>
        <p:spPr>
          <a:xfrm>
            <a:off x="1262880" y="2416320"/>
            <a:ext cx="23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体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的大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1"/>
          <p:cNvSpPr/>
          <p:nvPr/>
        </p:nvSpPr>
        <p:spPr>
          <a:xfrm>
            <a:off x="1818000" y="2999880"/>
            <a:ext cx="566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让学生用手托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个苹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，手对苹果施加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力大约是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N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托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两个鸡蛋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所用的力大约为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N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成年男子右手的握力大约是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700N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；一个质量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40kg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的同学对地面的压力大约是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400N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4" descr=""/>
          <p:cNvPicPr/>
          <p:nvPr/>
        </p:nvPicPr>
        <p:blipFill>
          <a:blip r:embed="rId1"/>
          <a:stretch/>
        </p:blipFill>
        <p:spPr>
          <a:xfrm>
            <a:off x="1857240" y="887400"/>
            <a:ext cx="2286000" cy="247032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2"/>
          <p:cNvSpPr/>
          <p:nvPr/>
        </p:nvSpPr>
        <p:spPr>
          <a:xfrm>
            <a:off x="1923120" y="4874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把下列现象进行合理分类，并说明你的分类依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Box 3"/>
          <p:cNvSpPr/>
          <p:nvPr/>
        </p:nvSpPr>
        <p:spPr>
          <a:xfrm>
            <a:off x="2395080" y="328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拉弓射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0" name="Picture 6" descr="WLB8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1214280"/>
            <a:ext cx="1928880" cy="2143440"/>
          </a:xfrm>
          <a:prstGeom prst="rect">
            <a:avLst/>
          </a:prstGeom>
          <a:ln w="0">
            <a:noFill/>
          </a:ln>
        </p:spPr>
      </p:pic>
      <p:sp>
        <p:nvSpPr>
          <p:cNvPr id="1231" name="TextBox 5"/>
          <p:cNvSpPr/>
          <p:nvPr/>
        </p:nvSpPr>
        <p:spPr>
          <a:xfrm>
            <a:off x="5572080" y="32860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撑杆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2" name="Picture 20" descr="12 4 83"/>
          <p:cNvPicPr/>
          <p:nvPr/>
        </p:nvPicPr>
        <p:blipFill>
          <a:blip r:embed="rId3"/>
          <a:stretch/>
        </p:blipFill>
        <p:spPr>
          <a:xfrm>
            <a:off x="5938920" y="385776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21" descr=""/>
          <p:cNvPicPr/>
          <p:nvPr/>
        </p:nvPicPr>
        <p:blipFill>
          <a:blip r:embed="rId4"/>
          <a:stretch/>
        </p:blipFill>
        <p:spPr>
          <a:xfrm>
            <a:off x="714240" y="3786120"/>
            <a:ext cx="2333880" cy="23241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22" descr="12 4 82"/>
          <p:cNvPicPr/>
          <p:nvPr/>
        </p:nvPicPr>
        <p:blipFill>
          <a:blip r:embed="rId5"/>
          <a:stretch/>
        </p:blipFill>
        <p:spPr>
          <a:xfrm>
            <a:off x="3147840" y="3643200"/>
            <a:ext cx="2210040" cy="223992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7"/>
          <p:cNvSpPr/>
          <p:nvPr/>
        </p:nvSpPr>
        <p:spPr>
          <a:xfrm>
            <a:off x="285840" y="59562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投球手把静止的棒球投掷出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3718080" y="5956200"/>
            <a:ext cx="22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棒球被接球手接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9"/>
          <p:cNvSpPr/>
          <p:nvPr/>
        </p:nvSpPr>
        <p:spPr>
          <a:xfrm>
            <a:off x="6350040" y="5956200"/>
            <a:ext cx="22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接球手将棒球击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9"/>
          <p:cNvSpPr/>
          <p:nvPr/>
        </p:nvSpPr>
        <p:spPr>
          <a:xfrm>
            <a:off x="1711440" y="220428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改变运动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0"/>
          <p:cNvSpPr/>
          <p:nvPr/>
        </p:nvSpPr>
        <p:spPr>
          <a:xfrm>
            <a:off x="1581120" y="426636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改变物体形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76320" y="2895480"/>
            <a:ext cx="1523880" cy="1068840"/>
          </a:xfrm>
          <a:prstGeom prst="rect">
            <a:avLst/>
          </a:prstGeom>
          <a:solidFill>
            <a:srgbClr val="ffff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力的作用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AutoShape 12"/>
          <p:cNvSpPr/>
          <p:nvPr/>
        </p:nvSpPr>
        <p:spPr>
          <a:xfrm>
            <a:off x="1393920" y="2548080"/>
            <a:ext cx="1296720" cy="2016000"/>
          </a:xfrm>
          <a:custGeom>
            <a:avLst/>
            <a:gdLst>
              <a:gd name="textAreaLeft" fmla="*/ 828360 w 1296720"/>
              <a:gd name="textAreaRight" fmla="*/ 1297080 w 1296720"/>
              <a:gd name="textAreaTop" fmla="*/ 157680 h 2016000"/>
              <a:gd name="textAreaBottom" fmla="*/ 18583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99"/>
                  <a:pt x="10800" y="5398"/>
                </a:cubicBezTo>
                <a:lnTo>
                  <a:pt x="10800" y="5402"/>
                </a:lnTo>
                <a:cubicBezTo>
                  <a:pt x="10800" y="8101"/>
                  <a:pt x="5400" y="10800"/>
                  <a:pt x="0" y="10800"/>
                </a:cubicBezTo>
                <a:cubicBezTo>
                  <a:pt x="5400" y="10800"/>
                  <a:pt x="10800" y="13499"/>
                  <a:pt x="10800" y="16198"/>
                </a:cubicBezTo>
                <a:lnTo>
                  <a:pt x="10800" y="16202"/>
                </a:lnTo>
                <a:cubicBezTo>
                  <a:pt x="10800" y="189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AutoShape 19"/>
          <p:cNvSpPr/>
          <p:nvPr/>
        </p:nvSpPr>
        <p:spPr>
          <a:xfrm>
            <a:off x="4800600" y="1523880"/>
            <a:ext cx="457200" cy="1981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1981440"/>
              <a:gd name="textAreaBottom" fmla="*/ 191808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7"/>
                  <a:pt x="10800" y="2213"/>
                </a:cubicBezTo>
                <a:lnTo>
                  <a:pt x="10800" y="8587"/>
                </a:lnTo>
                <a:cubicBezTo>
                  <a:pt x="10800" y="9694"/>
                  <a:pt x="5400" y="10800"/>
                  <a:pt x="0" y="10800"/>
                </a:cubicBezTo>
                <a:cubicBezTo>
                  <a:pt x="5400" y="10800"/>
                  <a:pt x="10800" y="11907"/>
                  <a:pt x="10800" y="13013"/>
                </a:cubicBezTo>
                <a:lnTo>
                  <a:pt x="10800" y="19387"/>
                </a:lnTo>
                <a:cubicBezTo>
                  <a:pt x="10800" y="2049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4"/>
          <p:cNvSpPr/>
          <p:nvPr/>
        </p:nvSpPr>
        <p:spPr>
          <a:xfrm>
            <a:off x="5334120" y="1371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速度大小发生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5"/>
          <p:cNvSpPr/>
          <p:nvPr/>
        </p:nvSpPr>
        <p:spPr>
          <a:xfrm>
            <a:off x="5391000" y="205740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运动方向发生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6"/>
          <p:cNvSpPr/>
          <p:nvPr/>
        </p:nvSpPr>
        <p:spPr>
          <a:xfrm>
            <a:off x="541008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速度大小和运动方向同时发生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icture 28" descr="200719103325703"/>
          <p:cNvPicPr/>
          <p:nvPr/>
        </p:nvPicPr>
        <p:blipFill>
          <a:blip r:embed="rId1"/>
          <a:stretch/>
        </p:blipFill>
        <p:spPr>
          <a:xfrm>
            <a:off x="1828800" y="498600"/>
            <a:ext cx="2286000" cy="1746000"/>
          </a:xfrm>
          <a:prstGeom prst="rect">
            <a:avLst/>
          </a:prstGeom>
          <a:ln w="0">
            <a:noFill/>
          </a:ln>
        </p:spPr>
      </p:pic>
      <p:sp>
        <p:nvSpPr>
          <p:cNvPr id="1247" name="AutoShape 19"/>
          <p:cNvSpPr/>
          <p:nvPr/>
        </p:nvSpPr>
        <p:spPr>
          <a:xfrm>
            <a:off x="1676520" y="259092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1981080"/>
              <a:gd name="textAreaBottom" fmla="*/ 191772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7"/>
                  <a:pt x="10800" y="2213"/>
                </a:cubicBezTo>
                <a:lnTo>
                  <a:pt x="10800" y="8587"/>
                </a:lnTo>
                <a:cubicBezTo>
                  <a:pt x="10800" y="9694"/>
                  <a:pt x="5400" y="10800"/>
                  <a:pt x="0" y="10800"/>
                </a:cubicBezTo>
                <a:cubicBezTo>
                  <a:pt x="5400" y="10800"/>
                  <a:pt x="10800" y="11907"/>
                  <a:pt x="10800" y="13013"/>
                </a:cubicBezTo>
                <a:lnTo>
                  <a:pt x="10800" y="19387"/>
                </a:lnTo>
                <a:cubicBezTo>
                  <a:pt x="10800" y="2049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Box 14"/>
          <p:cNvSpPr/>
          <p:nvPr/>
        </p:nvSpPr>
        <p:spPr>
          <a:xfrm>
            <a:off x="2300400" y="1429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力的作用效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云形标注 17"/>
          <p:cNvSpPr/>
          <p:nvPr/>
        </p:nvSpPr>
        <p:spPr>
          <a:xfrm>
            <a:off x="4572000" y="4000680"/>
            <a:ext cx="4286160" cy="2571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力的作用效果和那些因素有关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Picture 5" descr="200922615432560"/>
          <p:cNvPicPr/>
          <p:nvPr/>
        </p:nvPicPr>
        <p:blipFill>
          <a:blip r:embed="rId1"/>
          <a:stretch/>
        </p:blipFill>
        <p:spPr>
          <a:xfrm>
            <a:off x="4152960" y="76320"/>
            <a:ext cx="4762440" cy="304776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7" descr="200922615432369"/>
          <p:cNvPicPr/>
          <p:nvPr/>
        </p:nvPicPr>
        <p:blipFill>
          <a:blip r:embed="rId2"/>
          <a:stretch/>
        </p:blipFill>
        <p:spPr>
          <a:xfrm>
            <a:off x="2819520" y="3429000"/>
            <a:ext cx="4762440" cy="289548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8"/>
          <p:cNvSpPr/>
          <p:nvPr/>
        </p:nvSpPr>
        <p:spPr>
          <a:xfrm>
            <a:off x="457200" y="609480"/>
            <a:ext cx="32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打台球时，力的大小、方向、作用点都很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Rectangle 2" descr=""/>
          <p:cNvPicPr/>
          <p:nvPr/>
        </p:nvPicPr>
        <p:blipFill>
          <a:blip r:embed="rId1"/>
          <a:stretch/>
        </p:blipFill>
        <p:spPr>
          <a:xfrm>
            <a:off x="3857760" y="928800"/>
            <a:ext cx="4857480" cy="581040"/>
          </a:xfrm>
          <a:prstGeom prst="rect">
            <a:avLst/>
          </a:prstGeom>
          <a:ln w="0">
            <a:noFill/>
          </a:ln>
        </p:spPr>
      </p:pic>
      <p:sp>
        <p:nvSpPr>
          <p:cNvPr id="1254" name="Text Box 3"/>
          <p:cNvSpPr/>
          <p:nvPr/>
        </p:nvSpPr>
        <p:spPr>
          <a:xfrm>
            <a:off x="4952880" y="2209680"/>
            <a:ext cx="3043440" cy="581400"/>
          </a:xfrm>
          <a:prstGeom prst="rect">
            <a:avLst/>
          </a:prstGeom>
          <a:solidFill>
            <a:srgbClr val="ffff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力的大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"/>
          <p:cNvSpPr/>
          <p:nvPr/>
        </p:nvSpPr>
        <p:spPr>
          <a:xfrm>
            <a:off x="4952880" y="3276720"/>
            <a:ext cx="3278160" cy="581400"/>
          </a:xfrm>
          <a:prstGeom prst="rect">
            <a:avLst/>
          </a:prstGeom>
          <a:solidFill>
            <a:srgbClr val="ffff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力的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"/>
          <p:cNvSpPr/>
          <p:nvPr/>
        </p:nvSpPr>
        <p:spPr>
          <a:xfrm>
            <a:off x="4876920" y="4800600"/>
            <a:ext cx="3230280" cy="581400"/>
          </a:xfrm>
          <a:prstGeom prst="rect">
            <a:avLst/>
          </a:prstGeom>
          <a:solidFill>
            <a:srgbClr val="ffff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力的作用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1752480" y="1676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踢足球时，用力越大，球就飞得越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"/>
          <p:cNvSpPr/>
          <p:nvPr/>
        </p:nvSpPr>
        <p:spPr>
          <a:xfrm>
            <a:off x="1689120" y="274320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踢足球时，球总是沿着所受的力的方向飞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9"/>
          <p:cNvSpPr/>
          <p:nvPr/>
        </p:nvSpPr>
        <p:spPr>
          <a:xfrm>
            <a:off x="1676520" y="38862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同样大小的力推门时，每次手的位置离门轴远近不同，力的效果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13"/>
          <p:cNvSpPr/>
          <p:nvPr/>
        </p:nvSpPr>
        <p:spPr>
          <a:xfrm>
            <a:off x="214200" y="142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力的三要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Picture 15" descr="b0a5cd2b048f5637d52af12a"/>
          <p:cNvPicPr/>
          <p:nvPr/>
        </p:nvPicPr>
        <p:blipFill>
          <a:blip r:embed="rId2"/>
          <a:stretch/>
        </p:blipFill>
        <p:spPr>
          <a:xfrm>
            <a:off x="152280" y="1905120"/>
            <a:ext cx="1524240" cy="108900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9" descr="tn_TYZC-89466533_20005230046"/>
          <p:cNvPicPr/>
          <p:nvPr/>
        </p:nvPicPr>
        <p:blipFill>
          <a:blip r:embed="rId3"/>
          <a:stretch/>
        </p:blipFill>
        <p:spPr>
          <a:xfrm>
            <a:off x="2743200" y="4896000"/>
            <a:ext cx="2057400" cy="158112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20" descr="12 4 10"/>
          <p:cNvPicPr/>
          <p:nvPr/>
        </p:nvPicPr>
        <p:blipFill>
          <a:blip r:embed="rId4"/>
          <a:stretch/>
        </p:blipFill>
        <p:spPr>
          <a:xfrm>
            <a:off x="228600" y="3581280"/>
            <a:ext cx="1562040" cy="1600200"/>
          </a:xfrm>
          <a:prstGeom prst="rect">
            <a:avLst/>
          </a:prstGeom>
          <a:ln w="0">
            <a:noFill/>
          </a:ln>
        </p:spPr>
      </p:pic>
      <p:sp>
        <p:nvSpPr>
          <p:cNvPr id="1264" name="文本框 8200"/>
          <p:cNvSpPr/>
          <p:nvPr/>
        </p:nvSpPr>
        <p:spPr>
          <a:xfrm>
            <a:off x="2355840" y="60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 txBox="1"/>
          <p:nvPr/>
        </p:nvSpPr>
        <p:spPr>
          <a:xfrm>
            <a:off x="1117440" y="3868560"/>
            <a:ext cx="6764400" cy="17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75000"/>
          </a:bodyPr>
          <a:p>
            <a:pPr marL="273600" indent="-191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表示力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191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箭头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表示力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方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191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起点或终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表示力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用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Rectangle 2" descr=""/>
          <p:cNvPicPr/>
          <p:nvPr/>
        </p:nvPicPr>
        <p:blipFill>
          <a:blip r:embed="rId1"/>
          <a:stretch/>
        </p:blipFill>
        <p:spPr>
          <a:xfrm>
            <a:off x="1066680" y="1643040"/>
            <a:ext cx="3733920" cy="5796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6" descr="ni_png_0246"/>
          <p:cNvPicPr/>
          <p:nvPr/>
        </p:nvPicPr>
        <p:blipFill>
          <a:blip r:embed="rId2"/>
          <a:stretch/>
        </p:blipFill>
        <p:spPr>
          <a:xfrm>
            <a:off x="4952880" y="175896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11"/>
          <p:cNvSpPr/>
          <p:nvPr/>
        </p:nvSpPr>
        <p:spPr>
          <a:xfrm>
            <a:off x="762120" y="25718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受力物体上沿力的方向画个箭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表示物体在这个方向上受到了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13"/>
          <p:cNvSpPr/>
          <p:nvPr/>
        </p:nvSpPr>
        <p:spPr>
          <a:xfrm>
            <a:off x="-285840" y="214200"/>
            <a:ext cx="53197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力的示意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0" name="Picture 19" descr="ni_png_0246"/>
          <p:cNvPicPr/>
          <p:nvPr/>
        </p:nvPicPr>
        <p:blipFill>
          <a:blip r:embed="rId3"/>
          <a:stretch/>
        </p:blipFill>
        <p:spPr>
          <a:xfrm>
            <a:off x="304920" y="31431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20" descr="12 4 22"/>
          <p:cNvPicPr/>
          <p:nvPr/>
        </p:nvPicPr>
        <p:blipFill>
          <a:blip r:embed="rId4"/>
          <a:stretch/>
        </p:blipFill>
        <p:spPr>
          <a:xfrm>
            <a:off x="6172200" y="533520"/>
            <a:ext cx="2171880" cy="1628640"/>
          </a:xfrm>
          <a:prstGeom prst="rect">
            <a:avLst/>
          </a:prstGeom>
          <a:ln w="0">
            <a:noFill/>
          </a:ln>
        </p:spPr>
      </p:pic>
      <p:sp>
        <p:nvSpPr>
          <p:cNvPr id="1272" name="TextBox 9"/>
          <p:cNvSpPr/>
          <p:nvPr/>
        </p:nvSpPr>
        <p:spPr>
          <a:xfrm>
            <a:off x="4139280" y="58579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：在同一个示意图中，线段越长表示力越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Picture 6" descr="Sports_Fanban_0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028880"/>
            <a:ext cx="7620120" cy="4991040"/>
          </a:xfrm>
          <a:prstGeom prst="rect">
            <a:avLst/>
          </a:prstGeom>
          <a:ln w="0">
            <a:noFill/>
          </a:ln>
        </p:spPr>
      </p:pic>
      <p:sp>
        <p:nvSpPr>
          <p:cNvPr id="1274" name="Line 3"/>
          <p:cNvSpPr/>
          <p:nvPr/>
        </p:nvSpPr>
        <p:spPr>
          <a:xfrm>
            <a:off x="3276720" y="3570120"/>
            <a:ext cx="1600200" cy="3240"/>
          </a:xfrm>
          <a:custGeom>
            <a:avLst/>
            <a:gdLst/>
            <a:ahLst/>
            <a:rect l="l" t="t" r="r" b="b"/>
            <a:pathLst>
              <a:path w="1008" h="2">
                <a:moveTo>
                  <a:pt x="1008" y="2"/>
                </a:moveTo>
                <a:lnTo>
                  <a:pt x="1005" y="0"/>
                </a:lnTo>
                <a:lnTo>
                  <a:pt x="0" y="2"/>
                </a:lnTo>
              </a:path>
            </a:pathLst>
          </a:custGeom>
          <a:noFill/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2916360" y="342900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1447920" y="3049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画出帆船受到风力的力的示意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Picture 8" descr="ni_png_0377"/>
          <p:cNvPicPr/>
          <p:nvPr/>
        </p:nvPicPr>
        <p:blipFill>
          <a:blip r:embed="rId2"/>
          <a:stretch/>
        </p:blipFill>
        <p:spPr>
          <a:xfrm>
            <a:off x="990720" y="304920"/>
            <a:ext cx="533160" cy="52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4"/>
          <p:cNvSpPr/>
          <p:nvPr/>
        </p:nvSpPr>
        <p:spPr>
          <a:xfrm>
            <a:off x="1042920" y="1197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画出放在地面上的物体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所受支持力的示意图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124000" y="3716280"/>
            <a:ext cx="2952720" cy="360"/>
            <a:chOff x="2124000" y="3716280"/>
            <a:chExt cx="2952720" cy="360"/>
          </a:xfrm>
        </p:grpSpPr>
        <p:sp>
          <p:nvSpPr>
            <p:cNvPr id="1280" name="Line 5"/>
            <p:cNvSpPr/>
            <p:nvPr/>
          </p:nvSpPr>
          <p:spPr>
            <a:xfrm>
              <a:off x="2124000" y="371628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2124000" y="371628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Rectangle 6"/>
          <p:cNvSpPr/>
          <p:nvPr/>
        </p:nvSpPr>
        <p:spPr>
          <a:xfrm>
            <a:off x="2556000" y="2924280"/>
            <a:ext cx="172872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8"/>
          <p:cNvSpPr/>
          <p:nvPr/>
        </p:nvSpPr>
        <p:spPr>
          <a:xfrm>
            <a:off x="2050920" y="5445000"/>
            <a:ext cx="158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9"/>
          <p:cNvSpPr/>
          <p:nvPr/>
        </p:nvSpPr>
        <p:spPr>
          <a:xfrm>
            <a:off x="2268360" y="5950080"/>
            <a:ext cx="287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10"/>
          <p:cNvSpPr/>
          <p:nvPr/>
        </p:nvSpPr>
        <p:spPr>
          <a:xfrm>
            <a:off x="3059280" y="5950080"/>
            <a:ext cx="287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3347640" y="2205000"/>
            <a:ext cx="360" cy="1152720"/>
            <a:chOff x="3347640" y="2205000"/>
            <a:chExt cx="360" cy="1152720"/>
          </a:xfrm>
        </p:grpSpPr>
        <p:sp>
          <p:nvSpPr>
            <p:cNvPr id="1287" name="Line 11"/>
            <p:cNvSpPr/>
            <p:nvPr/>
          </p:nvSpPr>
          <p:spPr>
            <a:xfrm flipV="1">
              <a:off x="3348000" y="2205000"/>
              <a:ext cx="0" cy="115272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 txBox="1"/>
            <p:nvPr/>
          </p:nvSpPr>
          <p:spPr>
            <a:xfrm rot="10800000">
              <a:off x="3347640" y="2205000"/>
              <a:ext cx="3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3635280" y="5734080"/>
            <a:ext cx="1081080" cy="360"/>
            <a:chOff x="3635280" y="5734080"/>
            <a:chExt cx="1081080" cy="360"/>
          </a:xfrm>
        </p:grpSpPr>
        <p:sp>
          <p:nvSpPr>
            <p:cNvPr id="1290" name="Line 12"/>
            <p:cNvSpPr/>
            <p:nvPr/>
          </p:nvSpPr>
          <p:spPr>
            <a:xfrm>
              <a:off x="3635280" y="573408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 txBox="1"/>
            <p:nvPr/>
          </p:nvSpPr>
          <p:spPr>
            <a:xfrm>
              <a:off x="3635280" y="573408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3635280" y="5084640"/>
            <a:ext cx="1224000" cy="649440"/>
            <a:chOff x="3635280" y="5084640"/>
            <a:chExt cx="1224000" cy="649440"/>
          </a:xfrm>
        </p:grpSpPr>
        <p:sp>
          <p:nvSpPr>
            <p:cNvPr id="1293" name="Line 13"/>
            <p:cNvSpPr/>
            <p:nvPr/>
          </p:nvSpPr>
          <p:spPr>
            <a:xfrm flipV="1">
              <a:off x="3635280" y="5084640"/>
              <a:ext cx="1224000" cy="6494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 txBox="1"/>
            <p:nvPr/>
          </p:nvSpPr>
          <p:spPr>
            <a:xfrm rot="10800000">
              <a:off x="3635280" y="5084640"/>
              <a:ext cx="1224000" cy="6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WordArt 14"/>
          <p:cNvSpPr txBox="1"/>
          <p:nvPr/>
        </p:nvSpPr>
        <p:spPr>
          <a:xfrm>
            <a:off x="539640" y="404640"/>
            <a:ext cx="201636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练一练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296" name="Group 16"/>
          <p:cNvGrpSpPr/>
          <p:nvPr/>
        </p:nvGrpSpPr>
        <p:grpSpPr>
          <a:xfrm>
            <a:off x="1187280" y="3933720"/>
            <a:ext cx="6912000" cy="1068840"/>
            <a:chOff x="1187280" y="3933720"/>
            <a:chExt cx="6912000" cy="1068840"/>
          </a:xfrm>
        </p:grpSpPr>
        <p:sp>
          <p:nvSpPr>
            <p:cNvPr id="1297" name="Text Box 7"/>
            <p:cNvSpPr/>
            <p:nvPr/>
          </p:nvSpPr>
          <p:spPr>
            <a:xfrm>
              <a:off x="1187280" y="3933720"/>
              <a:ext cx="691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2.</a:t>
              </a: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画出用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10N</a:t>
              </a: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的拉力沿着与水平地面成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30  </a:t>
              </a: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</a:rPr>
                <a:t>角拉小车的示意图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Text Box 15"/>
            <p:cNvSpPr/>
            <p:nvPr/>
          </p:nvSpPr>
          <p:spPr>
            <a:xfrm>
              <a:off x="2411280" y="4292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Box 3"/>
          <p:cNvSpPr/>
          <p:nvPr/>
        </p:nvSpPr>
        <p:spPr>
          <a:xfrm>
            <a:off x="1635840" y="388800"/>
            <a:ext cx="559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关于力的概念，下列说法中错误的是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力是物体对物体的作用，离开了物体就没有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可以没有施力物体，但一定要有受力物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我们通常说的物体受到了力的作用，一定还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另外的物体对它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彼此接触的物体间一定能发生力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Box 4"/>
          <p:cNvSpPr/>
          <p:nvPr/>
        </p:nvSpPr>
        <p:spPr>
          <a:xfrm>
            <a:off x="644760" y="3946680"/>
            <a:ext cx="795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用力揉面团，面团形状发生变化；②篮球撞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在篮板上被弹回；③用力握小皮球，球变瘪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阵风把地面上的灰尘吹得漫天飞舞。在这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现象中，物体因受力而改变运动状态的是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①②             B②③            C③④            D②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Box 5"/>
          <p:cNvSpPr/>
          <p:nvPr/>
        </p:nvSpPr>
        <p:spPr>
          <a:xfrm>
            <a:off x="7434360" y="4665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Box 6"/>
          <p:cNvSpPr/>
          <p:nvPr/>
        </p:nvSpPr>
        <p:spPr>
          <a:xfrm>
            <a:off x="8096760" y="546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1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2" descr=" 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TextBox 2"/>
          <p:cNvSpPr/>
          <p:nvPr/>
        </p:nvSpPr>
        <p:spPr>
          <a:xfrm>
            <a:off x="5204160" y="1285920"/>
            <a:ext cx="312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神舟号为什么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离开地球，升上天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实现我国的飞天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24" descr="图片3"/>
          <p:cNvPicPr/>
          <p:nvPr/>
        </p:nvPicPr>
        <p:blipFill>
          <a:blip r:embed="rId1"/>
          <a:stretch/>
        </p:blipFill>
        <p:spPr>
          <a:xfrm>
            <a:off x="4267080" y="1844640"/>
            <a:ext cx="4267440" cy="2803680"/>
          </a:xfrm>
          <a:prstGeom prst="rect">
            <a:avLst/>
          </a:prstGeom>
          <a:ln w="0">
            <a:noFill/>
          </a:ln>
        </p:spPr>
      </p:pic>
      <p:grpSp>
        <p:nvGrpSpPr>
          <p:cNvPr id="1304" name="Group 18"/>
          <p:cNvGrpSpPr/>
          <p:nvPr/>
        </p:nvGrpSpPr>
        <p:grpSpPr>
          <a:xfrm>
            <a:off x="1143000" y="1371600"/>
            <a:ext cx="2971800" cy="3276720"/>
            <a:chOff x="1143000" y="1371600"/>
            <a:chExt cx="2971800" cy="3276720"/>
          </a:xfrm>
        </p:grpSpPr>
        <p:pic>
          <p:nvPicPr>
            <p:cNvPr id="1305" name="Picture 15" descr="图片2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281952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AutoShape 16"/>
            <p:cNvSpPr/>
            <p:nvPr/>
          </p:nvSpPr>
          <p:spPr>
            <a:xfrm>
              <a:off x="1143000" y="4419720"/>
              <a:ext cx="2895480" cy="2286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AutoShape 17"/>
            <p:cNvSpPr/>
            <p:nvPr/>
          </p:nvSpPr>
          <p:spPr>
            <a:xfrm rot="5400000">
              <a:off x="2399760" y="2933640"/>
              <a:ext cx="3276720" cy="15228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8" name="Rectangle 11"/>
          <p:cNvSpPr/>
          <p:nvPr/>
        </p:nvSpPr>
        <p:spPr>
          <a:xfrm>
            <a:off x="457200" y="48196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这两图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一个物体对另一个物体施力时，也同时受到另一个物体对它的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Group 19"/>
          <p:cNvGrpSpPr/>
          <p:nvPr/>
        </p:nvGrpSpPr>
        <p:grpSpPr>
          <a:xfrm>
            <a:off x="380880" y="1066680"/>
            <a:ext cx="2210040" cy="914400"/>
            <a:chOff x="380880" y="1066680"/>
            <a:chExt cx="2210040" cy="914400"/>
          </a:xfrm>
        </p:grpSpPr>
        <p:sp>
          <p:nvSpPr>
            <p:cNvPr id="1310" name="AutoShape 10"/>
            <p:cNvSpPr/>
            <p:nvPr/>
          </p:nvSpPr>
          <p:spPr>
            <a:xfrm>
              <a:off x="380880" y="1066680"/>
              <a:ext cx="2210040" cy="914400"/>
            </a:xfrm>
            <a:prstGeom prst="cloudCallout">
              <a:avLst>
                <a:gd name="adj1" fmla="val 34412"/>
                <a:gd name="adj2" fmla="val 88370"/>
              </a:avLst>
            </a:prstGeom>
            <a:solidFill>
              <a:srgbClr val="ccffcc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Rectangle 13"/>
            <p:cNvSpPr/>
            <p:nvPr/>
          </p:nvSpPr>
          <p:spPr>
            <a:xfrm>
              <a:off x="891000" y="1295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为什么后退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AutoShape 20"/>
          <p:cNvSpPr/>
          <p:nvPr/>
        </p:nvSpPr>
        <p:spPr>
          <a:xfrm>
            <a:off x="6572160" y="1000080"/>
            <a:ext cx="2138400" cy="762120"/>
          </a:xfrm>
          <a:prstGeom prst="cloudCallout">
            <a:avLst>
              <a:gd name="adj1" fmla="val -80638"/>
              <a:gd name="adj2" fmla="val 194111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脚好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3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3" descr="物体间力的作用是相互的"/>
          <p:cNvPicPr/>
          <p:nvPr/>
        </p:nvPicPr>
        <p:blipFill>
          <a:blip r:embed="rId2"/>
          <a:stretch/>
        </p:blipFill>
        <p:spPr>
          <a:xfrm>
            <a:off x="1763640" y="1628640"/>
            <a:ext cx="4537080" cy="266400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4"/>
          <p:cNvSpPr/>
          <p:nvPr/>
        </p:nvSpPr>
        <p:spPr>
          <a:xfrm>
            <a:off x="826920" y="46530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因为力的作用是相互的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划船时，人用力推岸，对岸施加力作用的同时也受到岸施加的力的作用，船离岸而去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5"/>
          <p:cNvSpPr/>
          <p:nvPr/>
        </p:nvSpPr>
        <p:spPr>
          <a:xfrm>
            <a:off x="1332000" y="54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划船时，船到岸边，人用力推岸，船就离而去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为什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D568-C74F-4EE2-A5BC-9908EDF614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Text Box 7"/>
          <p:cNvSpPr/>
          <p:nvPr/>
        </p:nvSpPr>
        <p:spPr>
          <a:xfrm>
            <a:off x="685800" y="4357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9"/>
          <p:cNvSpPr/>
          <p:nvPr/>
        </p:nvSpPr>
        <p:spPr>
          <a:xfrm>
            <a:off x="609480" y="1995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力的两个作用效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8"/>
          <p:cNvSpPr/>
          <p:nvPr/>
        </p:nvSpPr>
        <p:spPr>
          <a:xfrm>
            <a:off x="2971800" y="243000"/>
            <a:ext cx="26035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小 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19" descr="ni_png_0377"/>
          <p:cNvPicPr/>
          <p:nvPr/>
        </p:nvPicPr>
        <p:blipFill>
          <a:blip r:embed="rId1"/>
          <a:stretch/>
        </p:blipFill>
        <p:spPr>
          <a:xfrm>
            <a:off x="2679840" y="239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20"/>
          <p:cNvSpPr/>
          <p:nvPr/>
        </p:nvSpPr>
        <p:spPr>
          <a:xfrm>
            <a:off x="4724280" y="14288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改变物体的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1"/>
          <p:cNvSpPr/>
          <p:nvPr/>
        </p:nvSpPr>
        <p:spPr>
          <a:xfrm>
            <a:off x="4648320" y="250020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改变物体的运动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AutoShape 22"/>
          <p:cNvSpPr/>
          <p:nvPr/>
        </p:nvSpPr>
        <p:spPr>
          <a:xfrm>
            <a:off x="4419720" y="1538280"/>
            <a:ext cx="276120" cy="1363680"/>
          </a:xfrm>
          <a:custGeom>
            <a:avLst/>
            <a:gdLst>
              <a:gd name="textAreaLeft" fmla="*/ 176400 w 276120"/>
              <a:gd name="textAreaRight" fmla="*/ 276480 w 276120"/>
              <a:gd name="textAreaTop" fmla="*/ 35280 h 1363680"/>
              <a:gd name="textAreaBottom" fmla="*/ 1328400 h 136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2133720" y="5729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仿宋_GB2312"/>
              </a:rPr>
              <a:t>物体间力的作用是相互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AutoShape 25"/>
          <p:cNvSpPr/>
          <p:nvPr/>
        </p:nvSpPr>
        <p:spPr>
          <a:xfrm>
            <a:off x="1828800" y="344340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4191120" y="32907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大小、方向、 作用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7"/>
          <p:cNvSpPr/>
          <p:nvPr/>
        </p:nvSpPr>
        <p:spPr>
          <a:xfrm>
            <a:off x="3200400" y="4052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顿，简称牛，符号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29"/>
          <p:cNvSpPr/>
          <p:nvPr/>
        </p:nvSpPr>
        <p:spPr>
          <a:xfrm>
            <a:off x="2057400" y="32907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仿宋_GB2312"/>
              </a:rPr>
              <a:t>力的三要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30"/>
          <p:cNvSpPr/>
          <p:nvPr/>
        </p:nvSpPr>
        <p:spPr>
          <a:xfrm>
            <a:off x="2057400" y="4052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仿宋_GB2312"/>
              </a:rPr>
              <a:t>单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32"/>
          <p:cNvSpPr/>
          <p:nvPr/>
        </p:nvSpPr>
        <p:spPr>
          <a:xfrm>
            <a:off x="3200400" y="48909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力是物体对物体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33"/>
          <p:cNvSpPr/>
          <p:nvPr/>
        </p:nvSpPr>
        <p:spPr>
          <a:xfrm>
            <a:off x="2133720" y="48909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仿宋_GB2312"/>
              </a:rPr>
              <a:t>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8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785880"/>
            <a:ext cx="3192480" cy="32148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" descr="12 4 262副本"/>
          <p:cNvPicPr/>
          <p:nvPr/>
        </p:nvPicPr>
        <p:blipFill>
          <a:blip r:embed="rId3"/>
          <a:stretch/>
        </p:blipFill>
        <p:spPr>
          <a:xfrm>
            <a:off x="3186000" y="1571760"/>
            <a:ext cx="3100680" cy="3286080"/>
          </a:xfrm>
          <a:prstGeom prst="rect">
            <a:avLst/>
          </a:prstGeom>
          <a:ln w="0">
            <a:noFill/>
          </a:ln>
        </p:spPr>
      </p:pic>
      <p:pic>
        <p:nvPicPr>
          <p:cNvPr id="1189" name="物理_用力推车108.avi" descr=""/>
          <p:cNvPicPr/>
          <p:nvPr/>
        </p:nvPicPr>
        <p:blipFill>
          <a:blip r:embed="rId4"/>
          <a:stretch/>
        </p:blipFill>
        <p:spPr>
          <a:xfrm>
            <a:off x="6286680" y="26431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1190" name="TextBox 4"/>
          <p:cNvSpPr/>
          <p:nvPr/>
        </p:nvSpPr>
        <p:spPr>
          <a:xfrm>
            <a:off x="500040" y="401472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拍桌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Box 5"/>
          <p:cNvSpPr/>
          <p:nvPr/>
        </p:nvSpPr>
        <p:spPr>
          <a:xfrm>
            <a:off x="7112160" y="578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推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Box 6"/>
          <p:cNvSpPr/>
          <p:nvPr/>
        </p:nvSpPr>
        <p:spPr>
          <a:xfrm>
            <a:off x="4065480" y="485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手拍右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Picture 8" descr="举重运动员"/>
          <p:cNvPicPr/>
          <p:nvPr/>
        </p:nvPicPr>
        <p:blipFill>
          <a:blip r:embed="rId1"/>
          <a:stretch/>
        </p:blipFill>
        <p:spPr>
          <a:xfrm>
            <a:off x="0" y="0"/>
            <a:ext cx="2600280" cy="3562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4" descr="1234001560_ryT5nw"/>
          <p:cNvPicPr/>
          <p:nvPr/>
        </p:nvPicPr>
        <p:blipFill>
          <a:blip r:embed="rId2"/>
          <a:stretch/>
        </p:blipFill>
        <p:spPr>
          <a:xfrm>
            <a:off x="3071880" y="1233360"/>
            <a:ext cx="3162240" cy="44103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9" descr="足球运动员踢球，球由静止变为运动2"/>
          <p:cNvPicPr/>
          <p:nvPr/>
        </p:nvPicPr>
        <p:blipFill>
          <a:blip r:embed="rId3"/>
          <a:stretch/>
        </p:blipFill>
        <p:spPr>
          <a:xfrm>
            <a:off x="6643800" y="3517920"/>
            <a:ext cx="25002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云形标注 1"/>
          <p:cNvSpPr/>
          <p:nvPr/>
        </p:nvSpPr>
        <p:spPr>
          <a:xfrm>
            <a:off x="912960" y="1357200"/>
            <a:ext cx="721512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这是人对力最早的认识，从肌肉的紧张感觉中得到的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2" descr="23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198" name="Text Box 8"/>
          <p:cNvSpPr/>
          <p:nvPr/>
        </p:nvSpPr>
        <p:spPr>
          <a:xfrm>
            <a:off x="1428840" y="192888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f2936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9f2936"/>
                </a:solidFill>
                <a:latin typeface="楷体"/>
                <a:ea typeface="楷体"/>
              </a:rPr>
              <a:t>如果没有人，是不是就没有力的作用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Picture 9" descr="BTN_037"/>
          <p:cNvPicPr/>
          <p:nvPr/>
        </p:nvPicPr>
        <p:blipFill>
          <a:blip r:embed="rId2"/>
          <a:stretch/>
        </p:blipFill>
        <p:spPr>
          <a:xfrm>
            <a:off x="0" y="2286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00" name="文本框 8200"/>
          <p:cNvSpPr/>
          <p:nvPr/>
        </p:nvSpPr>
        <p:spPr>
          <a:xfrm>
            <a:off x="2355840" y="60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9f25"/>
                </a:solidFill>
                <a:uFillTx/>
                <a:latin typeface="Tw Cen MT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w Cen MT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w Cen MT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3" descr="耕犁"/>
          <p:cNvPicPr/>
          <p:nvPr/>
        </p:nvPicPr>
        <p:blipFill>
          <a:blip r:embed="rId2"/>
          <a:stretch/>
        </p:blipFill>
        <p:spPr>
          <a:xfrm>
            <a:off x="3100320" y="2000160"/>
            <a:ext cx="3048120" cy="204948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4"/>
          <p:cNvSpPr/>
          <p:nvPr/>
        </p:nvSpPr>
        <p:spPr>
          <a:xfrm>
            <a:off x="3747960" y="4257720"/>
            <a:ext cx="18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犁推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Picture 7" descr="推土机推土"/>
          <p:cNvPicPr/>
          <p:nvPr/>
        </p:nvPicPr>
        <p:blipFill>
          <a:blip r:embed="rId3"/>
          <a:stretch/>
        </p:blipFill>
        <p:spPr>
          <a:xfrm>
            <a:off x="4680" y="3284640"/>
            <a:ext cx="2995560" cy="205884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8"/>
          <p:cNvSpPr/>
          <p:nvPr/>
        </p:nvSpPr>
        <p:spPr>
          <a:xfrm>
            <a:off x="142920" y="53578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推土机推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Picture 9" descr="弹簧的形变2 "/>
          <p:cNvPicPr/>
          <p:nvPr/>
        </p:nvPicPr>
        <p:blipFill>
          <a:blip r:embed="rId4"/>
          <a:stretch/>
        </p:blipFill>
        <p:spPr>
          <a:xfrm>
            <a:off x="6286680" y="357120"/>
            <a:ext cx="2857320" cy="2306880"/>
          </a:xfrm>
          <a:prstGeom prst="rect">
            <a:avLst/>
          </a:prstGeom>
          <a:ln w="0">
            <a:noFill/>
          </a:ln>
        </p:spPr>
      </p:pic>
      <p:sp>
        <p:nvSpPr>
          <p:cNvPr id="1206" name="Text Box 10"/>
          <p:cNvSpPr/>
          <p:nvPr/>
        </p:nvSpPr>
        <p:spPr>
          <a:xfrm>
            <a:off x="6172200" y="2662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木块将弹簧拉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Text Box 8"/>
          <p:cNvSpPr/>
          <p:nvPr/>
        </p:nvSpPr>
        <p:spPr>
          <a:xfrm>
            <a:off x="357120" y="405288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地球对苹果的万有引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Picture 10" descr="苹果会落到地面上"/>
          <p:cNvPicPr/>
          <p:nvPr/>
        </p:nvPicPr>
        <p:blipFill>
          <a:blip r:embed="rId1"/>
          <a:stretch/>
        </p:blipFill>
        <p:spPr>
          <a:xfrm>
            <a:off x="685800" y="876240"/>
            <a:ext cx="3086280" cy="29815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2962440" cy="2887920"/>
          </a:xfrm>
          <a:prstGeom prst="rect">
            <a:avLst/>
          </a:prstGeom>
          <a:ln w="0">
            <a:noFill/>
          </a:ln>
        </p:spPr>
      </p:pic>
      <p:sp>
        <p:nvSpPr>
          <p:cNvPr id="1210" name="Text Box 9"/>
          <p:cNvSpPr/>
          <p:nvPr/>
        </p:nvSpPr>
        <p:spPr>
          <a:xfrm>
            <a:off x="5491080" y="528624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磁铁对小球的磁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1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 Box 16"/>
          <p:cNvSpPr/>
          <p:nvPr/>
        </p:nvSpPr>
        <p:spPr>
          <a:xfrm>
            <a:off x="3828960" y="4743360"/>
            <a:ext cx="1300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作 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24"/>
          <p:cNvSpPr/>
          <p:nvPr/>
        </p:nvSpPr>
        <p:spPr>
          <a:xfrm>
            <a:off x="1500120" y="1576440"/>
            <a:ext cx="1676520" cy="3462120"/>
          </a:xfrm>
          <a:prstGeom prst="ellipse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9"/>
          <p:cNvSpPr/>
          <p:nvPr/>
        </p:nvSpPr>
        <p:spPr>
          <a:xfrm>
            <a:off x="1851120" y="306396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1"/>
          <p:cNvSpPr/>
          <p:nvPr/>
        </p:nvSpPr>
        <p:spPr>
          <a:xfrm>
            <a:off x="1785960" y="2278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左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右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13"/>
          <p:cNvSpPr/>
          <p:nvPr/>
        </p:nvSpPr>
        <p:spPr>
          <a:xfrm>
            <a:off x="1627200" y="3857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运动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杠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1309680" y="5259240"/>
            <a:ext cx="1976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施力物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9"/>
          <p:cNvSpPr/>
          <p:nvPr/>
        </p:nvSpPr>
        <p:spPr>
          <a:xfrm>
            <a:off x="5500800" y="5254560"/>
            <a:ext cx="1928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受力物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24"/>
          <p:cNvSpPr/>
          <p:nvPr/>
        </p:nvSpPr>
        <p:spPr>
          <a:xfrm>
            <a:off x="5681520" y="1571760"/>
            <a:ext cx="1676520" cy="3462120"/>
          </a:xfrm>
          <a:prstGeom prst="ellipse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Box 11"/>
          <p:cNvSpPr/>
          <p:nvPr/>
        </p:nvSpPr>
        <p:spPr>
          <a:xfrm>
            <a:off x="1759320" y="5065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力是物体对物体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6"/>
          <p:cNvSpPr/>
          <p:nvPr/>
        </p:nvSpPr>
        <p:spPr>
          <a:xfrm>
            <a:off x="3827520" y="5748480"/>
            <a:ext cx="12999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相 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左右箭头 12"/>
          <p:cNvSpPr/>
          <p:nvPr/>
        </p:nvSpPr>
        <p:spPr>
          <a:xfrm>
            <a:off x="3429000" y="5143680"/>
            <a:ext cx="2071800" cy="78552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8:19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25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