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gif" ContentType="image/gif"/>
  <Override PartName="/ppt/media/image18.jpeg" ContentType="image/jpeg"/>
  <Override PartName="/ppt/media/image12.jpeg" ContentType="image/jpeg"/>
  <Override PartName="/ppt/media/camera.wav" ContentType="audio/x-wav"/>
  <Override PartName="/ppt/media/image7.jpeg" ContentType="image/jpeg"/>
  <Override PartName="/ppt/media/image17.jpeg" ContentType="image/jpeg"/>
  <Override PartName="/ppt/media/image15.jpeg" ContentType="image/jpeg"/>
  <Override PartName="/ppt/media/image16.jpeg" ContentType="image/jpeg"/>
  <Override PartName="/ppt/media/image13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1.gif" ContentType="image/gif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4C98-3F3C-473F-B45F-74A0473D8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7585-C665-43EF-8694-A10668B4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3E9-F893-4461-90E8-AB958DD3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E03-17E5-46BE-82AA-B13DCFF2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91C3-B3B4-4640-8C10-6A365ABB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B670-2717-4240-84C2-5218EB6E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276F-803D-4008-843B-4103687E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0649-0857-4FD4-8D24-A79C52B1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F848-A1E7-43E7-9261-97ADCCC0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6B85-059D-4298-90EB-33739F3E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9B23-4B97-498A-B6FA-480CE57C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F06-50E5-4B2E-8DFD-9669AE8B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D678-80A8-4070-85A9-9C00E843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0367-B63B-463D-9F73-A25E0E1B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101E-4A58-491F-AE63-7C83A55B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E4A2-F9ED-440C-A103-63CFE7A6D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5888-0B2F-4BE7-8B44-D4017920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B534-C654-4145-944C-BC422474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B08-F0E8-4B66-9A10-3C4CC01D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C685-6B3B-4791-B3E1-B78CDB67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415-C0C7-403E-98BA-CCCC80FA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7FCC-AE82-4D44-B799-4C689932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C0B-00D2-4F53-98F5-413E1257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00F3-9C3E-49FD-A0BC-D8281FE2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3909-CF07-4682-8925-91CF1EF4A6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4F76-6CBE-4C82-B732-C5807C7E84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xinsong/pwp/xst32/kejian.ht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0" y="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0" y="2852640"/>
            <a:ext cx="9144000" cy="91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两小儿辩日语文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6031800" y="2421000"/>
            <a:ext cx="2572920" cy="5814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列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汤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ject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2124000" y="620640"/>
            <a:ext cx="93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744640" y="260280"/>
            <a:ext cx="45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484360" y="0"/>
            <a:ext cx="459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116000" y="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1332000" y="260280"/>
            <a:ext cx="3095640" cy="2160720"/>
          </a:xfrm>
          <a:prstGeom prst="wedgeEllipseCallout">
            <a:avLst>
              <a:gd name="adj1" fmla="val -44921"/>
              <a:gd name="adj2" fmla="val 53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知之为知之，不知为不知，是知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作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6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解释下列划横线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西蜀之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南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去  大约大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之期不远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我以日始出时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人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孰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汝多知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为  温故而知新，可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师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此不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远者小而近者大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838080" y="182880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791320" y="15238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距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867280" y="2133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离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5867280" y="2819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距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5486400" y="3733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以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0"/>
          <p:cNvSpPr/>
          <p:nvPr/>
        </p:nvSpPr>
        <p:spPr>
          <a:xfrm>
            <a:off x="838080" y="411480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6172200" y="43434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6172200" y="502920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8197"/>
          <p:cNvSpPr/>
          <p:nvPr/>
        </p:nvSpPr>
        <p:spPr>
          <a:xfrm>
            <a:off x="1187280" y="5950080"/>
            <a:ext cx="582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38088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孰为汝多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之为知之，不知为不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问其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并驱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温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  <a:ea typeface="隶书"/>
              </a:rPr>
              <a:t>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而知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990720" y="1219320"/>
            <a:ext cx="152280" cy="99036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914400" y="327672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019920" y="1143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7010280" y="10666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智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7086600" y="16765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知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4191120" y="3048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缘故、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4267080" y="43434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旧的、老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4267080" y="3733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原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8CBB-320E-40C7-BA77-49FAD4CCDC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组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辩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请把这一比喻句划出本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喻体，喻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日初出大如车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6">
            <a:hlinkClick r:id="rId2"/>
          </p:cNvPr>
          <p:cNvSpPr/>
          <p:nvPr/>
        </p:nvSpPr>
        <p:spPr>
          <a:xfrm>
            <a:off x="7391520" y="5937120"/>
            <a:ext cx="1752480" cy="91440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  <a:ea typeface="宋体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辩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057040"/>
            <a:ext cx="822960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、辩是形声字，结构是内形外声。形旁：言部。 舌上加一指事，由舌头发出的声音。说，说话，言语，言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、意义：申辩和辩论的意思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29"/>
          <p:cNvSpPr/>
          <p:nvPr/>
        </p:nvSpPr>
        <p:spPr>
          <a:xfrm>
            <a:off x="1143000" y="13716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音： 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biàn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70716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作者与作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72388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这篇传说故事选自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隶书"/>
              </a:rPr>
              <a:t>《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隶书"/>
              </a:rPr>
              <a:t>列子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隶书"/>
              </a:rPr>
              <a:t>·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隶书"/>
              </a:rPr>
              <a:t>汤问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列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一书相传是战国时郑国人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隶书"/>
              </a:rPr>
              <a:t>列御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的作品。列子属于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隶书"/>
              </a:rPr>
              <a:t>道家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学派，孔子属于儒家学派，而两家是对立的学派，常常互相讥讽。列子写这故事，是讥笑孔子的无知。其实两小儿的疑问，也是列子提出的问题，这个疑问，列子也不能解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列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中多记民间故事、寓言和神话传说。如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愚公移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歧路亡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杞人忧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纪昌学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等，形象鲜明，含义深刻，具有较高的文学价值和思想价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11" descr=""/>
          <p:cNvPicPr/>
          <p:nvPr/>
        </p:nvPicPr>
        <p:blipFill>
          <a:blip r:embed="rId2"/>
          <a:stretch/>
        </p:blipFill>
        <p:spPr>
          <a:xfrm>
            <a:off x="7086600" y="1219320"/>
            <a:ext cx="2057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5"/>
          <p:cNvSpPr/>
          <p:nvPr/>
        </p:nvSpPr>
        <p:spPr>
          <a:xfrm>
            <a:off x="1116000" y="7794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两小儿辩日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0" y="0"/>
            <a:ext cx="89154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孔子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东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见两小儿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辩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问其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儿曰：“我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出时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近，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日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儿以日初远，而日中时近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儿曰：“日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出大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车盖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中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盘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而近者大乎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985160" y="6016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97960" y="45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辩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191200" y="457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争胜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6788880" y="45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缘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674080" y="1547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认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040360" y="1547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离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7474680" y="16239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正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871960" y="3757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1447920" y="685800"/>
            <a:ext cx="129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838080" y="4572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向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1828800" y="457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游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505320" y="16002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开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0" y="2209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助词，无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3962520" y="380988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6"/>
          <p:cNvSpPr/>
          <p:nvPr/>
        </p:nvSpPr>
        <p:spPr>
          <a:xfrm>
            <a:off x="7162920" y="37339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7"/>
          <p:cNvSpPr/>
          <p:nvPr/>
        </p:nvSpPr>
        <p:spPr>
          <a:xfrm>
            <a:off x="2362320" y="38098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刚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8"/>
          <p:cNvSpPr/>
          <p:nvPr/>
        </p:nvSpPr>
        <p:spPr>
          <a:xfrm>
            <a:off x="990720" y="4038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9"/>
          <p:cNvSpPr/>
          <p:nvPr/>
        </p:nvSpPr>
        <p:spPr>
          <a:xfrm>
            <a:off x="533520" y="4876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圆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0"/>
          <p:cNvSpPr/>
          <p:nvPr/>
        </p:nvSpPr>
        <p:spPr>
          <a:xfrm>
            <a:off x="1828800" y="48769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2743200" y="48769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2"/>
          <p:cNvSpPr/>
          <p:nvPr/>
        </p:nvSpPr>
        <p:spPr>
          <a:xfrm>
            <a:off x="3733920" y="4876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0" y="3049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儿曰：“日初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沧沧凉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及日中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探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此不为近者热而远者凉乎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孔子不能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两小儿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曰：“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多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乎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597760" y="29955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判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926520" y="7858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形容清凉的感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7322400" y="785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伸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8316000" y="762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热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6666480" y="414324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通“智”，智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430520" y="4114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以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3657600" y="4114800"/>
            <a:ext cx="8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414760" y="4114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3429000" y="0"/>
            <a:ext cx="114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c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1905120" y="4114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嘲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3657600" y="3276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sh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495680" y="32767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é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7011720" y="335268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6" descr="sun9.gif (7291 bytes)"/>
          <p:cNvPicPr/>
          <p:nvPr/>
        </p:nvPicPr>
        <p:blipFill>
          <a:blip r:embed="rId2"/>
          <a:stretch/>
        </p:blipFill>
        <p:spPr>
          <a:xfrm>
            <a:off x="7010280" y="16002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197"/>
          <p:cNvSpPr/>
          <p:nvPr/>
        </p:nvSpPr>
        <p:spPr>
          <a:xfrm>
            <a:off x="1116000" y="2133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032120" y="304920"/>
            <a:ext cx="30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孔子路遇两小儿辩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48240" y="762120"/>
            <a:ext cx="242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小儿各抒已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3840" y="1295280"/>
            <a:ext cx="291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孔子不能定谁是谁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49280" y="289548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两小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辩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1676520" y="266688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661840" y="18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初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2348280" y="2438280"/>
            <a:ext cx="148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如车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大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近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2496600" y="3809880"/>
            <a:ext cx="148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沧沧凉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凉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远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405040" y="18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日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5169600" y="2362320"/>
            <a:ext cx="138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如盘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小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5165640" y="3733920"/>
            <a:ext cx="138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如探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热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3"/>
          <p:cNvSpPr/>
          <p:nvPr/>
        </p:nvSpPr>
        <p:spPr>
          <a:xfrm>
            <a:off x="6781680" y="2666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7459560" y="2819520"/>
            <a:ext cx="9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不能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sun6.gif (9443 bytes)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4860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2907720" y="304920"/>
            <a:ext cx="426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太阳是远是近，两小儿各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同的结论，其根据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016000" y="137160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是根据视觉判断，距离近则物体形状大，远则物体形状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一是根据感觉推论，靠近热源就感觉热，远离热源就感觉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676320" y="32767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小儿为什么会有不同的看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514600" y="38098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因为两小儿认识事物的角度不同，标准不同，结果也就会不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495520" y="4800600"/>
            <a:ext cx="664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孔子 答不出来，他的态度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3893760" y="533412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他能实事求是，不怕露丑，我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应该向他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2052000" y="1268280"/>
            <a:ext cx="539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</a:rPr>
              <a:t>1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宇宙无限，知识无穷，学无止境，即使是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学多闻的孔子也会有所不知，我们要不断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914840" y="228600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认识自然，探求客观事理，要敢于独立思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胆质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811520" y="3200400"/>
            <a:ext cx="535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之为知之，不知为不知，不要“强不知以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知”，要诚实谦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"/>
          <p:cNvSpPr/>
          <p:nvPr/>
        </p:nvSpPr>
        <p:spPr>
          <a:xfrm>
            <a:off x="6172200" y="609480"/>
            <a:ext cx="347760" cy="542880"/>
          </a:xfrm>
          <a:custGeom>
            <a:avLst/>
            <a:gdLst/>
            <a:ahLst/>
            <a:rect l="l" t="t" r="r" b="b"/>
            <a:pathLst>
              <a:path w="439" h="683">
                <a:moveTo>
                  <a:pt x="150" y="185"/>
                </a:moveTo>
                <a:lnTo>
                  <a:pt x="194" y="138"/>
                </a:lnTo>
                <a:lnTo>
                  <a:pt x="272" y="167"/>
                </a:lnTo>
                <a:lnTo>
                  <a:pt x="265" y="244"/>
                </a:lnTo>
                <a:lnTo>
                  <a:pt x="171" y="304"/>
                </a:lnTo>
                <a:lnTo>
                  <a:pt x="153" y="474"/>
                </a:lnTo>
                <a:lnTo>
                  <a:pt x="171" y="527"/>
                </a:lnTo>
                <a:lnTo>
                  <a:pt x="140" y="585"/>
                </a:lnTo>
                <a:lnTo>
                  <a:pt x="147" y="645"/>
                </a:lnTo>
                <a:lnTo>
                  <a:pt x="213" y="683"/>
                </a:lnTo>
                <a:lnTo>
                  <a:pt x="300" y="656"/>
                </a:lnTo>
                <a:lnTo>
                  <a:pt x="328" y="585"/>
                </a:lnTo>
                <a:lnTo>
                  <a:pt x="293" y="518"/>
                </a:lnTo>
                <a:lnTo>
                  <a:pt x="331" y="480"/>
                </a:lnTo>
                <a:lnTo>
                  <a:pt x="331" y="387"/>
                </a:lnTo>
                <a:lnTo>
                  <a:pt x="429" y="308"/>
                </a:lnTo>
                <a:lnTo>
                  <a:pt x="439" y="188"/>
                </a:lnTo>
                <a:lnTo>
                  <a:pt x="376" y="59"/>
                </a:lnTo>
                <a:lnTo>
                  <a:pt x="251" y="0"/>
                </a:lnTo>
                <a:lnTo>
                  <a:pt x="112" y="38"/>
                </a:lnTo>
                <a:lnTo>
                  <a:pt x="31" y="115"/>
                </a:lnTo>
                <a:lnTo>
                  <a:pt x="0" y="234"/>
                </a:lnTo>
                <a:lnTo>
                  <a:pt x="4" y="304"/>
                </a:lnTo>
                <a:lnTo>
                  <a:pt x="147" y="296"/>
                </a:lnTo>
                <a:lnTo>
                  <a:pt x="150" y="1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6"/>
          <p:cNvSpPr/>
          <p:nvPr/>
        </p:nvSpPr>
        <p:spPr>
          <a:xfrm>
            <a:off x="6553080" y="685800"/>
            <a:ext cx="309600" cy="378000"/>
          </a:xfrm>
          <a:custGeom>
            <a:avLst/>
            <a:gdLst/>
            <a:ahLst/>
            <a:rect l="l" t="t" r="r" b="b"/>
            <a:pathLst>
              <a:path w="390" h="477">
                <a:moveTo>
                  <a:pt x="0" y="241"/>
                </a:moveTo>
                <a:lnTo>
                  <a:pt x="57" y="230"/>
                </a:lnTo>
                <a:lnTo>
                  <a:pt x="89" y="241"/>
                </a:lnTo>
                <a:lnTo>
                  <a:pt x="87" y="175"/>
                </a:lnTo>
                <a:lnTo>
                  <a:pt x="111" y="101"/>
                </a:lnTo>
                <a:lnTo>
                  <a:pt x="206" y="74"/>
                </a:lnTo>
                <a:lnTo>
                  <a:pt x="251" y="105"/>
                </a:lnTo>
                <a:lnTo>
                  <a:pt x="299" y="153"/>
                </a:lnTo>
                <a:lnTo>
                  <a:pt x="285" y="237"/>
                </a:lnTo>
                <a:lnTo>
                  <a:pt x="195" y="276"/>
                </a:lnTo>
                <a:lnTo>
                  <a:pt x="171" y="335"/>
                </a:lnTo>
                <a:lnTo>
                  <a:pt x="178" y="395"/>
                </a:lnTo>
                <a:lnTo>
                  <a:pt x="166" y="477"/>
                </a:lnTo>
                <a:lnTo>
                  <a:pt x="256" y="477"/>
                </a:lnTo>
                <a:lnTo>
                  <a:pt x="268" y="416"/>
                </a:lnTo>
                <a:lnTo>
                  <a:pt x="261" y="345"/>
                </a:lnTo>
                <a:lnTo>
                  <a:pt x="316" y="307"/>
                </a:lnTo>
                <a:lnTo>
                  <a:pt x="358" y="287"/>
                </a:lnTo>
                <a:lnTo>
                  <a:pt x="390" y="196"/>
                </a:lnTo>
                <a:lnTo>
                  <a:pt x="361" y="98"/>
                </a:lnTo>
                <a:lnTo>
                  <a:pt x="264" y="0"/>
                </a:lnTo>
                <a:lnTo>
                  <a:pt x="146" y="8"/>
                </a:lnTo>
                <a:lnTo>
                  <a:pt x="51" y="67"/>
                </a:lnTo>
                <a:lnTo>
                  <a:pt x="10" y="140"/>
                </a:lnTo>
                <a:lnTo>
                  <a:pt x="0" y="241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7"/>
          <p:cNvSpPr/>
          <p:nvPr/>
        </p:nvSpPr>
        <p:spPr>
          <a:xfrm>
            <a:off x="6705720" y="1066680"/>
            <a:ext cx="99720" cy="85680"/>
          </a:xfrm>
          <a:custGeom>
            <a:avLst/>
            <a:gdLst/>
            <a:ahLst/>
            <a:rect l="l" t="t" r="r" b="b"/>
            <a:pathLst>
              <a:path w="126" h="109">
                <a:moveTo>
                  <a:pt x="45" y="0"/>
                </a:moveTo>
                <a:lnTo>
                  <a:pt x="9" y="20"/>
                </a:lnTo>
                <a:lnTo>
                  <a:pt x="0" y="73"/>
                </a:lnTo>
                <a:lnTo>
                  <a:pt x="28" y="109"/>
                </a:lnTo>
                <a:lnTo>
                  <a:pt x="98" y="109"/>
                </a:lnTo>
                <a:lnTo>
                  <a:pt x="126" y="66"/>
                </a:lnTo>
                <a:lnTo>
                  <a:pt x="102" y="14"/>
                </a:lnTo>
                <a:lnTo>
                  <a:pt x="45" y="0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8"/>
          <p:cNvSpPr/>
          <p:nvPr/>
        </p:nvSpPr>
        <p:spPr>
          <a:xfrm>
            <a:off x="5943600" y="457200"/>
            <a:ext cx="1344600" cy="844560"/>
          </a:xfrm>
          <a:custGeom>
            <a:avLst/>
            <a:gdLst/>
            <a:ahLst/>
            <a:rect l="l" t="t" r="r" b="b"/>
            <a:pathLst>
              <a:path w="1086" h="1064">
                <a:moveTo>
                  <a:pt x="677" y="0"/>
                </a:moveTo>
                <a:lnTo>
                  <a:pt x="461" y="3"/>
                </a:lnTo>
                <a:lnTo>
                  <a:pt x="297" y="56"/>
                </a:lnTo>
                <a:lnTo>
                  <a:pt x="129" y="165"/>
                </a:lnTo>
                <a:lnTo>
                  <a:pt x="52" y="321"/>
                </a:lnTo>
                <a:lnTo>
                  <a:pt x="17" y="481"/>
                </a:lnTo>
                <a:lnTo>
                  <a:pt x="0" y="643"/>
                </a:lnTo>
                <a:lnTo>
                  <a:pt x="77" y="760"/>
                </a:lnTo>
                <a:lnTo>
                  <a:pt x="172" y="917"/>
                </a:lnTo>
                <a:lnTo>
                  <a:pt x="392" y="1042"/>
                </a:lnTo>
                <a:lnTo>
                  <a:pt x="603" y="1064"/>
                </a:lnTo>
                <a:lnTo>
                  <a:pt x="751" y="1021"/>
                </a:lnTo>
                <a:lnTo>
                  <a:pt x="842" y="970"/>
                </a:lnTo>
                <a:lnTo>
                  <a:pt x="938" y="934"/>
                </a:lnTo>
                <a:lnTo>
                  <a:pt x="974" y="848"/>
                </a:lnTo>
                <a:lnTo>
                  <a:pt x="1058" y="710"/>
                </a:lnTo>
                <a:lnTo>
                  <a:pt x="1086" y="548"/>
                </a:lnTo>
                <a:lnTo>
                  <a:pt x="1062" y="363"/>
                </a:lnTo>
                <a:lnTo>
                  <a:pt x="995" y="178"/>
                </a:lnTo>
                <a:lnTo>
                  <a:pt x="904" y="108"/>
                </a:lnTo>
                <a:lnTo>
                  <a:pt x="792" y="17"/>
                </a:lnTo>
                <a:lnTo>
                  <a:pt x="733" y="165"/>
                </a:lnTo>
                <a:lnTo>
                  <a:pt x="875" y="268"/>
                </a:lnTo>
                <a:lnTo>
                  <a:pt x="930" y="356"/>
                </a:lnTo>
                <a:lnTo>
                  <a:pt x="964" y="477"/>
                </a:lnTo>
                <a:lnTo>
                  <a:pt x="925" y="672"/>
                </a:lnTo>
                <a:lnTo>
                  <a:pt x="842" y="815"/>
                </a:lnTo>
                <a:lnTo>
                  <a:pt x="757" y="861"/>
                </a:lnTo>
                <a:lnTo>
                  <a:pt x="663" y="906"/>
                </a:lnTo>
                <a:lnTo>
                  <a:pt x="511" y="924"/>
                </a:lnTo>
                <a:lnTo>
                  <a:pt x="342" y="889"/>
                </a:lnTo>
                <a:lnTo>
                  <a:pt x="210" y="743"/>
                </a:lnTo>
                <a:lnTo>
                  <a:pt x="150" y="645"/>
                </a:lnTo>
                <a:lnTo>
                  <a:pt x="146" y="492"/>
                </a:lnTo>
                <a:lnTo>
                  <a:pt x="179" y="363"/>
                </a:lnTo>
                <a:lnTo>
                  <a:pt x="265" y="254"/>
                </a:lnTo>
                <a:lnTo>
                  <a:pt x="314" y="185"/>
                </a:lnTo>
                <a:lnTo>
                  <a:pt x="430" y="157"/>
                </a:lnTo>
                <a:lnTo>
                  <a:pt x="555" y="112"/>
                </a:lnTo>
                <a:lnTo>
                  <a:pt x="733" y="165"/>
                </a:lnTo>
                <a:lnTo>
                  <a:pt x="792" y="17"/>
                </a:lnTo>
                <a:lnTo>
                  <a:pt x="6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9"/>
          <p:cNvSpPr/>
          <p:nvPr/>
        </p:nvSpPr>
        <p:spPr>
          <a:xfrm>
            <a:off x="5943600" y="457200"/>
            <a:ext cx="1371600" cy="914400"/>
          </a:xfrm>
          <a:custGeom>
            <a:avLst/>
            <a:gdLst/>
            <a:ahLst/>
            <a:rect l="l" t="t" r="r" b="b"/>
            <a:pathLst>
              <a:path w="1028" h="1022">
                <a:moveTo>
                  <a:pt x="556" y="74"/>
                </a:moveTo>
                <a:lnTo>
                  <a:pt x="437" y="74"/>
                </a:lnTo>
                <a:lnTo>
                  <a:pt x="263" y="143"/>
                </a:lnTo>
                <a:lnTo>
                  <a:pt x="155" y="263"/>
                </a:lnTo>
                <a:lnTo>
                  <a:pt x="102" y="416"/>
                </a:lnTo>
                <a:lnTo>
                  <a:pt x="70" y="541"/>
                </a:lnTo>
                <a:lnTo>
                  <a:pt x="141" y="736"/>
                </a:lnTo>
                <a:lnTo>
                  <a:pt x="224" y="805"/>
                </a:lnTo>
                <a:lnTo>
                  <a:pt x="280" y="879"/>
                </a:lnTo>
                <a:lnTo>
                  <a:pt x="409" y="921"/>
                </a:lnTo>
                <a:lnTo>
                  <a:pt x="532" y="949"/>
                </a:lnTo>
                <a:lnTo>
                  <a:pt x="768" y="869"/>
                </a:lnTo>
                <a:lnTo>
                  <a:pt x="907" y="729"/>
                </a:lnTo>
                <a:lnTo>
                  <a:pt x="960" y="538"/>
                </a:lnTo>
                <a:lnTo>
                  <a:pt x="960" y="378"/>
                </a:lnTo>
                <a:lnTo>
                  <a:pt x="894" y="270"/>
                </a:lnTo>
                <a:lnTo>
                  <a:pt x="800" y="151"/>
                </a:lnTo>
                <a:lnTo>
                  <a:pt x="556" y="74"/>
                </a:lnTo>
                <a:lnTo>
                  <a:pt x="544" y="0"/>
                </a:lnTo>
                <a:lnTo>
                  <a:pt x="655" y="18"/>
                </a:lnTo>
                <a:lnTo>
                  <a:pt x="804" y="60"/>
                </a:lnTo>
                <a:lnTo>
                  <a:pt x="880" y="149"/>
                </a:lnTo>
                <a:lnTo>
                  <a:pt x="978" y="248"/>
                </a:lnTo>
                <a:lnTo>
                  <a:pt x="1028" y="464"/>
                </a:lnTo>
                <a:lnTo>
                  <a:pt x="1019" y="621"/>
                </a:lnTo>
                <a:lnTo>
                  <a:pt x="954" y="760"/>
                </a:lnTo>
                <a:lnTo>
                  <a:pt x="859" y="882"/>
                </a:lnTo>
                <a:lnTo>
                  <a:pt x="653" y="991"/>
                </a:lnTo>
                <a:lnTo>
                  <a:pt x="489" y="1022"/>
                </a:lnTo>
                <a:lnTo>
                  <a:pt x="311" y="979"/>
                </a:lnTo>
                <a:lnTo>
                  <a:pt x="119" y="817"/>
                </a:lnTo>
                <a:lnTo>
                  <a:pt x="0" y="545"/>
                </a:lnTo>
                <a:lnTo>
                  <a:pt x="46" y="375"/>
                </a:lnTo>
                <a:lnTo>
                  <a:pt x="77" y="220"/>
                </a:lnTo>
                <a:lnTo>
                  <a:pt x="198" y="112"/>
                </a:lnTo>
                <a:lnTo>
                  <a:pt x="333" y="35"/>
                </a:lnTo>
                <a:lnTo>
                  <a:pt x="544" y="0"/>
                </a:lnTo>
                <a:lnTo>
                  <a:pt x="556" y="74"/>
                </a:lnTo>
                <a:close/>
              </a:path>
            </a:pathLst>
          </a:custGeom>
          <a:solidFill>
            <a:srgbClr val="00b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10"/>
          <p:cNvSpPr txBox="1"/>
          <p:nvPr/>
        </p:nvSpPr>
        <p:spPr>
          <a:xfrm>
            <a:off x="2438280" y="380880"/>
            <a:ext cx="32767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辩日启示</a:t>
            </a:r>
            <a:endParaRPr b="0" lang="en-US" sz="66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228600" y="41148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认识事物从不同角度出发考虑，会有不同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论，要注意客观科学地分析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3" descr="sun4.gif (7854 bytes)"/>
          <p:cNvPicPr/>
          <p:nvPr/>
        </p:nvPicPr>
        <p:blipFill>
          <a:blip r:embed="rId2"/>
          <a:stretch/>
        </p:blipFill>
        <p:spPr>
          <a:xfrm>
            <a:off x="7467480" y="349200"/>
            <a:ext cx="9907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3T02:55:3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11Z</dcterms:modified>
  <cp:revision>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