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6.wmf" ContentType="image/x-wmf"/>
  <Override PartName="/ppt/media/image55.jpeg" ContentType="image/jpe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9.png" ContentType="image/png"/>
  <Override PartName="/ppt/media/image23.jpeg" ContentType="image/jpeg"/>
  <Override PartName="/ppt/media/image2.jpeg" ContentType="image/jpeg"/>
  <Override PartName="/ppt/media/image57.png" ContentType="image/png"/>
  <Override PartName="/ppt/media/image5.png" ContentType="image/png"/>
  <Override PartName="/ppt/media/applause.wav" ContentType="audio/x-wav"/>
  <Override PartName="/ppt/media/image43.jpeg" ContentType="image/jpeg"/>
  <Override PartName="/ppt/media/image35.jpeg" ContentType="image/jpeg"/>
  <Override PartName="/ppt/media/image1.jpeg" ContentType="image/jpeg"/>
  <Override PartName="/ppt/media/image21.png" ContentType="image/png"/>
  <Override PartName="/ppt/media/image39.gif" ContentType="image/gif"/>
  <Override PartName="/ppt/media/image9.gif" ContentType="image/gif"/>
  <Override PartName="/ppt/media/image16.jpeg" ContentType="image/jpeg"/>
  <Override PartName="/ppt/media/image15.jpeg" ContentType="image/jpeg"/>
  <Override PartName="/ppt/media/image17.wmf" ContentType="image/x-wmf"/>
  <Override PartName="/ppt/media/image28.jpeg" ContentType="image/jpeg"/>
  <Override PartName="/ppt/media/image62.jpeg" ContentType="image/jpeg"/>
  <Override PartName="/ppt/media/image41.jpeg" ContentType="image/jpeg"/>
  <Override PartName="/ppt/media/image54.png" ContentType="image/png"/>
  <Override PartName="/ppt/media/image20.jpeg" ContentType="image/jpeg"/>
  <Override PartName="/ppt/media/image61.gif" ContentType="image/gif"/>
  <Override PartName="/ppt/media/image60.jpeg" ContentType="image/jpeg"/>
  <Override PartName="/ppt/media/image3.jpeg" ContentType="image/jpeg"/>
  <Override PartName="/ppt/media/image37.jpeg" ContentType="image/jpeg"/>
  <Override PartName="/ppt/media/chimes.wav" ContentType="audio/x-wav"/>
  <Override PartName="/ppt/media/image25.png" ContentType="image/png"/>
  <Override PartName="/ppt/media/image19.jpeg" ContentType="image/jpeg"/>
  <Override PartName="/ppt/media/image32.gif" ContentType="image/gif"/>
  <Override PartName="/ppt/media/image59.png" ContentType="image/png"/>
  <Override PartName="/ppt/media/projctor.wav" ContentType="audio/x-wav"/>
  <Override PartName="/ppt/media/image22.png" ContentType="image/png"/>
  <Override PartName="/ppt/media/image26.png" ContentType="image/png"/>
  <Override PartName="/ppt/media/image27.png" ContentType="image/png"/>
  <Override PartName="/ppt/media/image24.gif" ContentType="image/gif"/>
  <Override PartName="/ppt/media/image13.gif" ContentType="image/gif"/>
  <Override PartName="/ppt/media/image4.png" ContentType="image/png"/>
  <Override PartName="/ppt/media/image34.png" ContentType="image/png"/>
  <Override PartName="/ppt/media/image36.png" ContentType="image/png"/>
  <Override PartName="/ppt/media/image7.gif" ContentType="image/gif"/>
  <Override PartName="/ppt/media/image29.jpeg" ContentType="image/jpeg"/>
  <Override PartName="/ppt/media/image12.gif" ContentType="image/gif"/>
  <Override PartName="/ppt/media/image8.gif" ContentType="image/gif"/>
  <Override PartName="/ppt/media/image10.gif" ContentType="image/gif"/>
  <Override PartName="/ppt/media/image14.png" ContentType="image/png"/>
  <Override PartName="/ppt/media/image11.gif" ContentType="image/gif"/>
  <Override PartName="/ppt/media/image58.gif" ContentType="image/gif"/>
  <Override PartName="/ppt/media/image30.jpeg" ContentType="image/jpeg"/>
  <Override PartName="/ppt/media/image31.jpeg" ContentType="image/jpeg"/>
  <Override PartName="/ppt/media/image33.png" ContentType="image/png"/>
  <Override PartName="/ppt/media/image42.jpeg" ContentType="image/jpeg"/>
  <Override PartName="/ppt/media/image6.png" ContentType="image/png"/>
  <Override PartName="/ppt/media/image18.png" ContentType="image/png"/>
  <Override PartName="/ppt/media/image40.wmf" ContentType="image/x-wmf"/>
  <Override PartName="/ppt/media/image38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47.jpeg" ContentType="image/jpeg"/>
  <Override PartName="/ppt/media/image4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2DABD-92BB-4B2D-A1A5-27F5B6F55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7B87F-6D03-46A7-97F9-35B57AD7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9C2B2-C9EC-44EA-80B5-33FC59173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5E362-10EA-43E6-9AEA-BC93F3C83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CF41-2410-46A9-87AD-61B2D022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F055-265D-44BC-B34F-4B210465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57A8-588F-4EB7-B654-1DEEC1E2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F6F0-A567-43AA-B6F4-C6F41FC1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8238-BE79-4307-89C3-36030FBA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F387-24B6-4672-B583-EF64BD35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563E-EEB3-4849-AC29-5339B986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94056-A789-4DD3-B4BC-DCEBF3C3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A9ED-AD4F-488F-B661-FAEB1647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8A7F-7C85-41CA-87B8-06A25675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D5E6-0417-42EA-BC1E-9457389D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F2D4-E161-4927-9AEB-7106503A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A896-6354-4CBE-8BEC-9BFA0AE1F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7902B-FDC0-45D8-A963-02416FC1C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24A5D-376C-44AE-9EF0-BAA00BFB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B692D-0F4A-47A6-9002-B37424F0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7E744-CE9E-4CB1-85E2-A8A516B9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998C1-194B-41F2-B8C8-CE105441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A7E95-DAF4-47DF-9DCB-CE551598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6F69C-D93F-4241-B4A8-039F041B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EDE75-32DC-4386-8A88-C59BF421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E9C01-BB9A-4256-AD49-81D88BB7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2A4E3-0A8D-4FBA-882B-C8D1E05F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BB423-67E3-4571-B31B-70ACF6F3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FC1B2-CF2D-481F-B400-6C260038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EEF11-7061-4E05-AFB9-D46F1361A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3291F-ADE3-4745-88C7-A555D310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7CF11-0801-4706-9CE5-D4EAD686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BD104-5C8A-4401-BEE5-090536CC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DCB42-39C7-4A56-A5DB-2B908604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D78DC-E372-4CED-A703-140E8148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D0ECC-CDE1-46B6-9867-EC9BA9C6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849E-AD39-451C-9EDE-68FECB649B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DEE7-94D1-4658-AB39-331C398A55B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3FD1-E65E-41CE-BAFB-3FD947721E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18.png"/><Relationship Id="rId4" Type="http://schemas.openxmlformats.org/officeDocument/2006/relationships/image" Target="../media/image20.jpe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18.png"/><Relationship Id="rId8" Type="http://schemas.openxmlformats.org/officeDocument/2006/relationships/image" Target="../media/image20.jpeg"/><Relationship Id="rId9" Type="http://schemas.openxmlformats.org/officeDocument/2006/relationships/image" Target="../media/image18.png"/><Relationship Id="rId10" Type="http://schemas.openxmlformats.org/officeDocument/2006/relationships/image" Target="../media/image19.jpe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20.jpeg"/><Relationship Id="rId14" Type="http://schemas.openxmlformats.org/officeDocument/2006/relationships/image" Target="../media/image20.jpeg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&#20030;&#27490;.rmvb" TargetMode="Externa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qi-luo.com/spe/qishi/qishi.htm" TargetMode="External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hyperlink" Target="http://img.china.alibaba.com/club/upload/2005/6/6/650x400_07ee451a0.jpg" TargetMode="External"/><Relationship Id="rId3" Type="http://schemas.openxmlformats.org/officeDocument/2006/relationships/image" Target="../media/image41.jpeg"/><Relationship Id="rId4" Type="http://schemas.openxmlformats.org/officeDocument/2006/relationships/hyperlink" Target="http://www.3lian.com/img2009/03/15/00002570.jpg" TargetMode="External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hyperlink" Target="http://www.3lian.com/gif/DetailView.htm?Detail=img2008/16/03/xmas053.jpg" TargetMode="External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8.gif"/><Relationship Id="rId3" Type="http://schemas.openxmlformats.org/officeDocument/2006/relationships/image" Target="../media/image59.png"/><Relationship Id="rId4" Type="http://schemas.openxmlformats.org/officeDocument/2006/relationships/audio" Target="../media/chimes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gif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gi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gi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1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2254680" y="692280"/>
            <a:ext cx="45392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七课  友好交往礼为先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999080" y="1963800"/>
            <a:ext cx="514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二框 礼仪展风采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286000" y="25588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468360" y="31417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(3)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自觉做到讲礼仪，不仅关系我们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自身的形象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，而且直接关系到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周围的人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，关系到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我们的集体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，甚至关系到我们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民族和国家的形象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539640" y="1268280"/>
            <a:ext cx="81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礼仪不仅仅是一种形式，而且是一个人、一个集体、乃至一个国家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精神文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象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395280" y="45086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(4)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按礼仪要求去做，有助于我们进一步提升道德水平和精神境界，会使我们变的优雅可亲，更容易被人接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20035323204796769"/>
          <p:cNvPicPr/>
          <p:nvPr/>
        </p:nvPicPr>
        <p:blipFill>
          <a:blip r:embed="rId1"/>
          <a:stretch/>
        </p:blipFill>
        <p:spPr>
          <a:xfrm>
            <a:off x="7791480" y="4768920"/>
            <a:ext cx="1352520" cy="20890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0" y="476280"/>
            <a:ext cx="57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为什么要讲礼仪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586880" y="2133720"/>
            <a:ext cx="448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如果我们不讲礼仪，就可能伤害别人，也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自己难堪，甚至无法适应现代社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1931040" y="5445000"/>
            <a:ext cx="493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遵守健康、文明的社交礼仪，是展示我们优雅风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高尚品德的具体要求，也是我们与他人顺利交往的前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3"/>
          <p:cNvSpPr/>
          <p:nvPr/>
        </p:nvSpPr>
        <p:spPr>
          <a:xfrm>
            <a:off x="8084520" y="0"/>
            <a:ext cx="6069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些同学经常扮“酷”，左边几个同学就是典型的例子，他们认为这纯属个人私事，与他人、学校无关。那么这几个同学的打扮与礼仪有关吗？请指出他们不合礼仪的地方。对我们来说，有哪些基本的礼仪要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1100653858_6JaymJ"/>
          <p:cNvPicPr/>
          <p:nvPr/>
        </p:nvPicPr>
        <p:blipFill>
          <a:blip r:embed="rId1"/>
          <a:stretch/>
        </p:blipFill>
        <p:spPr>
          <a:xfrm>
            <a:off x="179280" y="0"/>
            <a:ext cx="5040360" cy="3284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10800849_m_10800851_5869"/>
          <p:cNvPicPr/>
          <p:nvPr/>
        </p:nvPicPr>
        <p:blipFill>
          <a:blip r:embed="rId2"/>
          <a:stretch/>
        </p:blipFill>
        <p:spPr>
          <a:xfrm>
            <a:off x="179280" y="3284640"/>
            <a:ext cx="5040360" cy="35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图片302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1187280" y="2747880"/>
            <a:ext cx="60487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有个性的小茅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4788000" y="62064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礼仪与个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395280" y="3068640"/>
            <a:ext cx="8042400" cy="25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0"/>
              </a:spcBef>
              <a:buClr>
                <a:srgbClr val="6666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a50021"/>
                </a:solidFill>
                <a:latin typeface="Arial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小茅的行为与礼仪有关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指出其中不合礼仪的地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对我们来说，有那些基本的礼仪要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2268360" y="1557360"/>
            <a:ext cx="3983040" cy="865080"/>
          </a:xfrm>
          <a:custGeom>
            <a:avLst/>
            <a:gdLst>
              <a:gd name="textAreaLeft" fmla="*/ 995760 w 3983040"/>
              <a:gd name="textAreaRight" fmla="*/ 2987280 w 3983040"/>
              <a:gd name="textAreaTop" fmla="*/ 0 h 865080"/>
              <a:gd name="textAreaBottom" fmla="*/ 757080 h 8650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8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讨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8198"/>
          <p:cNvSpPr/>
          <p:nvPr/>
        </p:nvSpPr>
        <p:spPr>
          <a:xfrm>
            <a:off x="2050920" y="241308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666699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2"/>
          <p:cNvSpPr/>
          <p:nvPr/>
        </p:nvSpPr>
        <p:spPr>
          <a:xfrm>
            <a:off x="250920" y="115920"/>
            <a:ext cx="2305080" cy="647640"/>
          </a:xfrm>
          <a:custGeom>
            <a:avLst/>
            <a:gdLst>
              <a:gd name="textAreaLeft" fmla="*/ 0 w 2305080"/>
              <a:gd name="textAreaRight" fmla="*/ 2305080 w 23050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2" y="0"/>
                </a:lnTo>
                <a:lnTo>
                  <a:pt x="21600" y="10800"/>
                </a:lnTo>
                <a:lnTo>
                  <a:pt x="1620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校园礼仪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3"/>
          <p:cNvSpPr/>
          <p:nvPr/>
        </p:nvSpPr>
        <p:spPr>
          <a:xfrm>
            <a:off x="3059280" y="2492280"/>
            <a:ext cx="2808000" cy="115272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Y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N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4"/>
          <p:cNvSpPr/>
          <p:nvPr/>
        </p:nvSpPr>
        <p:spPr>
          <a:xfrm>
            <a:off x="468360" y="765000"/>
            <a:ext cx="2808360" cy="122580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骑单车冲进校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5"/>
          <p:cNvSpPr/>
          <p:nvPr/>
        </p:nvSpPr>
        <p:spPr>
          <a:xfrm>
            <a:off x="179280" y="1844640"/>
            <a:ext cx="3025800" cy="136836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见到老师主动问好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帮老师做自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力所能及的事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6"/>
          <p:cNvSpPr/>
          <p:nvPr/>
        </p:nvSpPr>
        <p:spPr>
          <a:xfrm>
            <a:off x="0" y="3141720"/>
            <a:ext cx="3348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吊儿郎当地穿着校服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胸口衣裳大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7"/>
          <p:cNvSpPr/>
          <p:nvPr/>
        </p:nvSpPr>
        <p:spPr>
          <a:xfrm>
            <a:off x="2916360" y="0"/>
            <a:ext cx="3240000" cy="136836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听到国歌声立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止步，面向国旗所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方向行注目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8"/>
          <p:cNvSpPr/>
          <p:nvPr/>
        </p:nvSpPr>
        <p:spPr>
          <a:xfrm>
            <a:off x="250920" y="4292640"/>
            <a:ext cx="2952720" cy="10796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进办公室喊“报告”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声音洪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9"/>
          <p:cNvSpPr/>
          <p:nvPr/>
        </p:nvSpPr>
        <p:spPr>
          <a:xfrm>
            <a:off x="250920" y="5373720"/>
            <a:ext cx="3348000" cy="141300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课间时间购买零食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教学区内、校道上吃零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6156360" y="115920"/>
            <a:ext cx="2627280" cy="144000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时制止转书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转笔的同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5580000" y="1557360"/>
            <a:ext cx="2952720" cy="12970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课堂上插嘴说话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坐姿懒散、吃零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2"/>
          <p:cNvSpPr/>
          <p:nvPr/>
        </p:nvSpPr>
        <p:spPr>
          <a:xfrm>
            <a:off x="5724360" y="2852640"/>
            <a:ext cx="3097440" cy="12956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课室内讲粗言滥语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闹嬉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3"/>
          <p:cNvSpPr/>
          <p:nvPr/>
        </p:nvSpPr>
        <p:spPr>
          <a:xfrm>
            <a:off x="3059280" y="3645000"/>
            <a:ext cx="3313080" cy="122400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饭堂排队打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遵守秩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4"/>
          <p:cNvSpPr/>
          <p:nvPr/>
        </p:nvSpPr>
        <p:spPr>
          <a:xfrm>
            <a:off x="3276720" y="4941720"/>
            <a:ext cx="3095640" cy="17002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不是自己年级活动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参与体育活动，与其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级争场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5"/>
          <p:cNvSpPr/>
          <p:nvPr/>
        </p:nvSpPr>
        <p:spPr>
          <a:xfrm>
            <a:off x="5940360" y="4221000"/>
            <a:ext cx="3097440" cy="136872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见到走廊或楼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纸屑、垃圾，顺手捡起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扔进垃圾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6"/>
          <p:cNvSpPr/>
          <p:nvPr/>
        </p:nvSpPr>
        <p:spPr>
          <a:xfrm>
            <a:off x="2987640" y="1413000"/>
            <a:ext cx="2592360" cy="115236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洗完手不关水龙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7" descr="3F828F276B4EC78FAA489EAF1AEEE5C4"/>
          <p:cNvPicPr/>
          <p:nvPr/>
        </p:nvPicPr>
        <p:blipFill>
          <a:blip r:embed="rId1"/>
          <a:stretch/>
        </p:blipFill>
        <p:spPr>
          <a:xfrm>
            <a:off x="1332000" y="90792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8" descr="{3A9C0B1D-8535-4537-83D3-1D717387199C}0"/>
          <p:cNvPicPr/>
          <p:nvPr/>
        </p:nvPicPr>
        <p:blipFill>
          <a:blip r:embed="rId2"/>
          <a:stretch/>
        </p:blipFill>
        <p:spPr>
          <a:xfrm>
            <a:off x="1187280" y="1989000"/>
            <a:ext cx="1165320" cy="1117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9" descr="3F828F276B4EC78FAA489EAF1AEEE5C4"/>
          <p:cNvPicPr/>
          <p:nvPr/>
        </p:nvPicPr>
        <p:blipFill>
          <a:blip r:embed="rId3"/>
          <a:stretch/>
        </p:blipFill>
        <p:spPr>
          <a:xfrm>
            <a:off x="1187280" y="321300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0" descr="{3A9C0B1D-8535-4537-83D3-1D717387199C}0"/>
          <p:cNvPicPr/>
          <p:nvPr/>
        </p:nvPicPr>
        <p:blipFill>
          <a:blip r:embed="rId4"/>
          <a:stretch/>
        </p:blipFill>
        <p:spPr>
          <a:xfrm>
            <a:off x="1116000" y="4292640"/>
            <a:ext cx="1092240" cy="10476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1" descr="3F828F276B4EC78FAA489EAF1AEEE5C4"/>
          <p:cNvPicPr/>
          <p:nvPr/>
        </p:nvPicPr>
        <p:blipFill>
          <a:blip r:embed="rId5"/>
          <a:stretch/>
        </p:blipFill>
        <p:spPr>
          <a:xfrm>
            <a:off x="1332000" y="551664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2" descr="{3A9C0B1D-8535-4537-83D3-1D717387199C}0"/>
          <p:cNvPicPr/>
          <p:nvPr/>
        </p:nvPicPr>
        <p:blipFill>
          <a:blip r:embed="rId6"/>
          <a:stretch/>
        </p:blipFill>
        <p:spPr>
          <a:xfrm>
            <a:off x="3780000" y="189000"/>
            <a:ext cx="1164960" cy="1117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3" descr="3F828F276B4EC78FAA489EAF1AEEE5C4"/>
          <p:cNvPicPr/>
          <p:nvPr/>
        </p:nvPicPr>
        <p:blipFill>
          <a:blip r:embed="rId7"/>
          <a:stretch/>
        </p:blipFill>
        <p:spPr>
          <a:xfrm>
            <a:off x="3851280" y="1484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4" descr="{3A9C0B1D-8535-4537-83D3-1D717387199C}0"/>
          <p:cNvPicPr/>
          <p:nvPr/>
        </p:nvPicPr>
        <p:blipFill>
          <a:blip r:embed="rId8"/>
          <a:stretch/>
        </p:blipFill>
        <p:spPr>
          <a:xfrm>
            <a:off x="4067280" y="3716280"/>
            <a:ext cx="1092240" cy="10479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5" descr="3F828F276B4EC78FAA489EAF1AEEE5C4"/>
          <p:cNvPicPr/>
          <p:nvPr/>
        </p:nvPicPr>
        <p:blipFill>
          <a:blip r:embed="rId9"/>
          <a:stretch/>
        </p:blipFill>
        <p:spPr>
          <a:xfrm>
            <a:off x="4427640" y="537372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6" descr="{3A9C0B1D-8535-4537-83D3-1D717387199C}0"/>
          <p:cNvPicPr/>
          <p:nvPr/>
        </p:nvPicPr>
        <p:blipFill>
          <a:blip r:embed="rId10"/>
          <a:stretch/>
        </p:blipFill>
        <p:spPr>
          <a:xfrm>
            <a:off x="6877080" y="333360"/>
            <a:ext cx="1165320" cy="1117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7" descr="3F828F276B4EC78FAA489EAF1AEEE5C4"/>
          <p:cNvPicPr/>
          <p:nvPr/>
        </p:nvPicPr>
        <p:blipFill>
          <a:blip r:embed="rId11"/>
          <a:stretch/>
        </p:blipFill>
        <p:spPr>
          <a:xfrm>
            <a:off x="6588000" y="170028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8" descr="3F828F276B4EC78FAA489EAF1AEEE5C4"/>
          <p:cNvPicPr/>
          <p:nvPr/>
        </p:nvPicPr>
        <p:blipFill>
          <a:blip r:embed="rId12"/>
          <a:stretch/>
        </p:blipFill>
        <p:spPr>
          <a:xfrm>
            <a:off x="6659640" y="299736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231" name="Oval 29"/>
          <p:cNvSpPr/>
          <p:nvPr/>
        </p:nvSpPr>
        <p:spPr>
          <a:xfrm>
            <a:off x="6300720" y="5516640"/>
            <a:ext cx="2843280" cy="134136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给同学起“绰号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开恶意玩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0" descr="{3A9C0B1D-8535-4537-83D3-1D717387199C}0"/>
          <p:cNvPicPr/>
          <p:nvPr/>
        </p:nvPicPr>
        <p:blipFill>
          <a:blip r:embed="rId13"/>
          <a:stretch/>
        </p:blipFill>
        <p:spPr>
          <a:xfrm>
            <a:off x="7093080" y="5589720"/>
            <a:ext cx="1092240" cy="10476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1" descr="{3A9C0B1D-8535-4537-83D3-1D717387199C}0"/>
          <p:cNvPicPr/>
          <p:nvPr/>
        </p:nvPicPr>
        <p:blipFill>
          <a:blip r:embed="rId14"/>
          <a:stretch/>
        </p:blipFill>
        <p:spPr>
          <a:xfrm>
            <a:off x="6877080" y="4437000"/>
            <a:ext cx="1092240" cy="10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684360" y="836640"/>
            <a:ext cx="845964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礼仪有特定的要求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P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2413"/>
                </a:solidFill>
                <a:latin typeface="黑体"/>
                <a:ea typeface="黑体"/>
              </a:rPr>
              <a:t>个人礼仪</a:t>
            </a:r>
            <a:r>
              <a:rPr b="1" lang="zh-CN" sz="3200" spc="-1" strike="noStrike">
                <a:solidFill>
                  <a:srgbClr val="333300"/>
                </a:solidFill>
                <a:latin typeface="黑体"/>
                <a:ea typeface="黑体"/>
              </a:rPr>
              <a:t>表现在：举止文明、动作优雅、姿态潇洒、手势得当、表情自然、行为检点、仪表端庄、</a:t>
            </a:r>
            <a:r>
              <a:rPr b="0" lang="zh-CN" sz="3200" spc="-1" strike="noStrike">
                <a:solidFill>
                  <a:srgbClr val="333300"/>
                </a:solidFill>
                <a:latin typeface="黑体"/>
                <a:ea typeface="黑体"/>
              </a:rPr>
              <a:t>着装</a:t>
            </a:r>
            <a:r>
              <a:rPr b="1" lang="zh-CN" sz="3200" spc="-1" strike="noStrike">
                <a:solidFill>
                  <a:srgbClr val="333300"/>
                </a:solidFill>
                <a:latin typeface="黑体"/>
                <a:ea typeface="黑体"/>
              </a:rPr>
              <a:t>得体、讲究卫生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黑体"/>
                <a:ea typeface="黑体"/>
              </a:rPr>
              <a:t>在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家庭日常生活</a:t>
            </a:r>
            <a:r>
              <a:rPr b="1" lang="zh-CN" sz="3200" spc="-1" strike="noStrike">
                <a:solidFill>
                  <a:srgbClr val="333300"/>
                </a:solidFill>
                <a:latin typeface="黑体"/>
                <a:ea typeface="黑体"/>
              </a:rPr>
              <a:t>中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学校集体活动</a:t>
            </a:r>
            <a:r>
              <a:rPr b="1" lang="zh-CN" sz="3200" spc="-1" strike="noStrike">
                <a:solidFill>
                  <a:srgbClr val="333300"/>
                </a:solidFill>
                <a:latin typeface="黑体"/>
                <a:ea typeface="黑体"/>
              </a:rPr>
              <a:t>中、社会交往活动中，都有相应的礼仪要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图片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39080" y="4941720"/>
            <a:ext cx="1204920" cy="19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slide0016_image0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3"/>
          <p:cNvSpPr/>
          <p:nvPr/>
        </p:nvSpPr>
        <p:spPr>
          <a:xfrm>
            <a:off x="1547640" y="620640"/>
            <a:ext cx="81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幼圆"/>
              </a:rPr>
              <a:t>在与人交往的过程中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幼圆"/>
              </a:rPr>
              <a:t>须避免的粗鲁行为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幼圆"/>
              </a:rPr>
              <a:t>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116000" y="155736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公共场合要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避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谈论某些话题：如大小便、谈话双方的隐私（年龄、家庭状况、收入、婚姻）、不健康不文明的笑话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258920" y="3429000"/>
            <a:ext cx="698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公共场合做下列动作会被视为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粗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挖鼻孔，大声打呵欠，大声打嗝，大声喧哗嬉闹，衣冠不整，不作任何保护措施地咳嗽、打喷嚏，讲粗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6" descr="A020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WordArt 2"/>
          <p:cNvSpPr txBox="1"/>
          <p:nvPr/>
        </p:nvSpPr>
        <p:spPr>
          <a:xfrm>
            <a:off x="1835280" y="1557360"/>
            <a:ext cx="324000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真我面面观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4618440" y="3573360"/>
            <a:ext cx="68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、互相观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生活中我们的坐站行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771640" y="4869000"/>
            <a:ext cx="568800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、学一学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符合礼仪要求的坐站行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0048"/>
          <p:cNvPicPr/>
          <p:nvPr/>
        </p:nvPicPr>
        <p:blipFill>
          <a:blip r:embed="rId2"/>
          <a:stretch/>
        </p:blipFill>
        <p:spPr>
          <a:xfrm>
            <a:off x="5364000" y="2060640"/>
            <a:ext cx="2521080" cy="14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Object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403720" cy="63356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3"/>
          <p:cNvSpPr/>
          <p:nvPr/>
        </p:nvSpPr>
        <p:spPr>
          <a:xfrm>
            <a:off x="2916360" y="1052640"/>
            <a:ext cx="5473440" cy="54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要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“站如松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像松柏一样端正挺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要领：上身正直，头正目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面带微笑，微收下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肩平挺胸，直腰收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两臂自然下垂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两腿相靠直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肌肉略有收缩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3809160" y="26028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</a:rPr>
              <a:t>礼貌的站姿</a:t>
            </a:r>
            <a:r>
              <a:rPr b="1" lang="zh-CN" sz="4400" spc="-1" strike="noStrike">
                <a:solidFill>
                  <a:srgbClr val="cc00cc"/>
                </a:solidFill>
                <a:latin typeface="Verdana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Object 2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2806560" cy="496872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3"/>
          <p:cNvSpPr/>
          <p:nvPr/>
        </p:nvSpPr>
        <p:spPr>
          <a:xfrm>
            <a:off x="2405160" y="301680"/>
            <a:ext cx="5549760" cy="60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优雅的坐姿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要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“坐如钟”像钟一样端正、稳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要领：上身正直，头正目平，嘴巴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            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闭，脸带微笑，两手交放在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            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腿上两腿自然弯曲，小腿基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            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与地面垂直，两脚平落地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            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两膝间距离：男子以松开一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            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为宜，女子不分为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Object 2" descr=""/>
          <p:cNvPicPr/>
          <p:nvPr/>
        </p:nvPicPr>
        <p:blipFill>
          <a:blip r:embed="rId1"/>
          <a:stretch/>
        </p:blipFill>
        <p:spPr>
          <a:xfrm>
            <a:off x="141120" y="1125360"/>
            <a:ext cx="2267280" cy="57326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3"/>
          <p:cNvSpPr/>
          <p:nvPr/>
        </p:nvSpPr>
        <p:spPr>
          <a:xfrm>
            <a:off x="2147400" y="372960"/>
            <a:ext cx="5484240" cy="59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正确的行姿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要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“行如风”像风一样轻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要领：上身正直不动，两肩相平不摇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         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两臂摆动自然，两腿直而不僵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         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脚印正对前方，步幅适中均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         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男子行走，两脚跟前进在一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         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上，两脚尖稍外展；女子两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         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要在一条直线上，称“一字步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               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以显优美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250920" y="765000"/>
            <a:ext cx="8424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一、教学目标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、 知识目标：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懂得什么是礼仪，礼仪有什么作用，了解生活中基本的社交礼仪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、 能力目标：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掌握基本的社交礼仪，并能够在交往中加以运用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、 情感态度和价值观目标：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体验举止优雅带给自己的乐趣，并在交往中积极展示自己的优雅礼仪。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二、重点难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教学重点：懂得待人接物的一般礼仪，并且能够在交往中积极展示自己的优雅礼仪。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教学难点：讲礼仪的意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三、教学方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创设情境，让学生在情境中体验、活动，学生自主学习、合作学习、探究学习有机统一。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3"/>
          <p:cNvSpPr txBox="1"/>
          <p:nvPr/>
        </p:nvSpPr>
        <p:spPr>
          <a:xfrm>
            <a:off x="2411280" y="189000"/>
            <a:ext cx="3456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教学目标与教法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2"/>
          <p:cNvSpPr txBox="1"/>
          <p:nvPr/>
        </p:nvSpPr>
        <p:spPr>
          <a:xfrm>
            <a:off x="179280" y="0"/>
            <a:ext cx="374508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（二）社交礼仪</a:t>
            </a:r>
            <a:r>
              <a:rPr b="1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ABC</a:t>
            </a:r>
            <a:endParaRPr b="1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4140360" y="0"/>
            <a:ext cx="50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古人见面，有作揖的、跪拜的；西方人见面，有接吻的、拥抱的。现代人见面，用得最多的是握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U215P60T4D135616F49DT20050704175451"/>
          <p:cNvPicPr/>
          <p:nvPr/>
        </p:nvPicPr>
        <p:blipFill>
          <a:blip r:embed="rId1"/>
          <a:stretch/>
        </p:blipFill>
        <p:spPr>
          <a:xfrm>
            <a:off x="0" y="1700280"/>
            <a:ext cx="2916360" cy="5157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Img225553023"/>
          <p:cNvPicPr/>
          <p:nvPr/>
        </p:nvPicPr>
        <p:blipFill>
          <a:blip r:embed="rId2"/>
          <a:stretch/>
        </p:blipFill>
        <p:spPr>
          <a:xfrm>
            <a:off x="5400720" y="2565360"/>
            <a:ext cx="3743280" cy="40323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002"/>
          <p:cNvPicPr/>
          <p:nvPr/>
        </p:nvPicPr>
        <p:blipFill>
          <a:blip r:embed="rId3"/>
          <a:stretch/>
        </p:blipFill>
        <p:spPr>
          <a:xfrm>
            <a:off x="2987640" y="1916280"/>
            <a:ext cx="2735280" cy="49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7" descr="图片2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32360" y="-360"/>
            <a:ext cx="247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幼圆"/>
              </a:rPr>
              <a:t>的礼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879560"/>
            <a:ext cx="8229600" cy="38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握手是初次见面或长久不见的好友之间表达友谊的一种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握手的力度：异性之间松松地握一下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同性之间较用力地握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如果对方伸出了手而拒绝握手，会被视为不礼貌、没教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异性之间握手由女性先伸出双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握手时，男士戴着手套，要先取下手套再握手，女士则不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feelin4"/>
          <p:cNvPicPr/>
          <p:nvPr/>
        </p:nvPicPr>
        <p:blipFill>
          <a:blip r:embed="rId2"/>
          <a:stretch/>
        </p:blipFill>
        <p:spPr>
          <a:xfrm>
            <a:off x="900000" y="260280"/>
            <a:ext cx="952560" cy="1224000"/>
          </a:xfrm>
          <a:prstGeom prst="rect">
            <a:avLst/>
          </a:prstGeom>
          <a:ln w="0">
            <a:noFill/>
          </a:ln>
        </p:spPr>
      </p:pic>
      <p:sp>
        <p:nvSpPr>
          <p:cNvPr id="261" name="WordArt 6"/>
          <p:cNvSpPr txBox="1"/>
          <p:nvPr/>
        </p:nvSpPr>
        <p:spPr>
          <a:xfrm>
            <a:off x="2771640" y="0"/>
            <a:ext cx="2233800" cy="11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“</a:t>
            </a:r>
            <a:r>
              <a:rPr b="0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握手”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WordArt 2"/>
          <p:cNvSpPr txBox="1"/>
          <p:nvPr/>
        </p:nvSpPr>
        <p:spPr>
          <a:xfrm>
            <a:off x="900000" y="692280"/>
            <a:ext cx="4969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latin typeface="楷体_GB2312"/>
              </a:rPr>
              <a:t>社交礼仪</a:t>
            </a:r>
            <a:r>
              <a:rPr b="1" lang="en-US" sz="1800" spc="-1" strike="noStrike">
                <a:ln w="0">
                  <a:noFill/>
                </a:ln>
                <a:solidFill>
                  <a:srgbClr val="ff0000"/>
                </a:solidFill>
                <a:latin typeface="楷体_GB2312"/>
              </a:rPr>
              <a:t>ABC—</a:t>
            </a: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latin typeface="楷体_GB2312"/>
              </a:rPr>
              <a:t>握手礼仪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249120" y="1555920"/>
            <a:ext cx="259236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与同学见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与长辈见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与异性朋友见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419640" y="1484280"/>
            <a:ext cx="55083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男性应该等女性先伸手后再握手，男性只握女性手指即可，女性如果无握手之意，男性不应伸手，而以点头示意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自己应该主动伸手，如果是较好的朋友，握手可以力度大一些，时间长，并可双手加握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应该等对方主动伸手，力度可以轻一些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050920" y="1771560"/>
            <a:ext cx="1366920" cy="1152720"/>
            <a:chOff x="2050920" y="1771560"/>
            <a:chExt cx="1366920" cy="1152720"/>
          </a:xfrm>
        </p:grpSpPr>
        <p:sp>
          <p:nvSpPr>
            <p:cNvPr id="266" name="Line 5"/>
            <p:cNvSpPr/>
            <p:nvPr/>
          </p:nvSpPr>
          <p:spPr>
            <a:xfrm>
              <a:off x="2050920" y="1771560"/>
              <a:ext cx="1366920" cy="1152720"/>
            </a:xfrm>
            <a:prstGeom prst="line">
              <a:avLst/>
            </a:prstGeom>
            <a:ln w="255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2050920" y="1771560"/>
              <a:ext cx="1366920" cy="11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2050920" y="2779560"/>
            <a:ext cx="1366920" cy="1224000"/>
            <a:chOff x="2050920" y="2779560"/>
            <a:chExt cx="1366920" cy="1224000"/>
          </a:xfrm>
        </p:grpSpPr>
        <p:sp>
          <p:nvSpPr>
            <p:cNvPr id="269" name="Line 6"/>
            <p:cNvSpPr/>
            <p:nvPr/>
          </p:nvSpPr>
          <p:spPr>
            <a:xfrm>
              <a:off x="2050920" y="2779560"/>
              <a:ext cx="1366920" cy="1224000"/>
            </a:xfrm>
            <a:prstGeom prst="line">
              <a:avLst/>
            </a:prstGeom>
            <a:ln w="255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2050920" y="2779560"/>
              <a:ext cx="136692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2553840" y="1626840"/>
            <a:ext cx="792720" cy="2305080"/>
            <a:chOff x="2553840" y="1626840"/>
            <a:chExt cx="792720" cy="2305080"/>
          </a:xfrm>
        </p:grpSpPr>
        <p:sp>
          <p:nvSpPr>
            <p:cNvPr id="272" name="Line 7"/>
            <p:cNvSpPr/>
            <p:nvPr/>
          </p:nvSpPr>
          <p:spPr>
            <a:xfrm flipV="1">
              <a:off x="2554200" y="1626840"/>
              <a:ext cx="792360" cy="2305080"/>
            </a:xfrm>
            <a:prstGeom prst="line">
              <a:avLst/>
            </a:prstGeom>
            <a:ln w="255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 rot="10800000">
              <a:off x="2553840" y="1626840"/>
              <a:ext cx="792360" cy="230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文本框 8198"/>
          <p:cNvSpPr/>
          <p:nvPr/>
        </p:nvSpPr>
        <p:spPr>
          <a:xfrm>
            <a:off x="755640" y="114948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666699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WordArt 2"/>
          <p:cNvSpPr txBox="1"/>
          <p:nvPr/>
        </p:nvSpPr>
        <p:spPr>
          <a:xfrm>
            <a:off x="2050920" y="189000"/>
            <a:ext cx="244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待客礼仪：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914560" y="5602320"/>
            <a:ext cx="605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用敬语问好，礼貌地询问来意，真诚对待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……   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1820880" y="9079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来了一个好朋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108000" y="162864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让他随便一些，像在自己家里一样，太多的客套反而让好朋友不自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2916360" y="3860640"/>
            <a:ext cx="60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用敬语问好，请坐、请喝茶、陪聊天、体现出尊重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…… 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4658760" y="4941720"/>
            <a:ext cx="10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来了一位陌生人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8" descr="card7"/>
          <p:cNvPicPr/>
          <p:nvPr/>
        </p:nvPicPr>
        <p:blipFill>
          <a:blip r:embed="rId1"/>
          <a:srcRect l="6268" t="19995" r="12464" b="6614"/>
          <a:stretch/>
        </p:blipFill>
        <p:spPr>
          <a:xfrm>
            <a:off x="755640" y="7920"/>
            <a:ext cx="1150920" cy="9730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035bi"/>
          <p:cNvPicPr/>
          <p:nvPr/>
        </p:nvPicPr>
        <p:blipFill>
          <a:blip r:embed="rId2"/>
          <a:stretch/>
        </p:blipFill>
        <p:spPr>
          <a:xfrm>
            <a:off x="0" y="3568680"/>
            <a:ext cx="3203640" cy="28846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少男少女"/>
          <p:cNvPicPr/>
          <p:nvPr/>
        </p:nvPicPr>
        <p:blipFill>
          <a:blip r:embed="rId3"/>
          <a:stretch/>
        </p:blipFill>
        <p:spPr>
          <a:xfrm>
            <a:off x="6141960" y="981000"/>
            <a:ext cx="2822760" cy="194796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11"/>
          <p:cNvSpPr/>
          <p:nvPr/>
        </p:nvSpPr>
        <p:spPr>
          <a:xfrm>
            <a:off x="4500000" y="31478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来了一位长者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WordArt 2"/>
          <p:cNvSpPr txBox="1"/>
          <p:nvPr/>
        </p:nvSpPr>
        <p:spPr>
          <a:xfrm>
            <a:off x="468360" y="417600"/>
            <a:ext cx="4968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latin typeface="楷体_GB2312"/>
              </a:rPr>
              <a:t>社交礼仪</a:t>
            </a:r>
            <a:r>
              <a:rPr b="1" lang="en-US" sz="1800" spc="-1" strike="noStrike">
                <a:ln w="0">
                  <a:noFill/>
                </a:ln>
                <a:solidFill>
                  <a:srgbClr val="ff0000"/>
                </a:solidFill>
                <a:latin typeface="楷体_GB2312"/>
              </a:rPr>
              <a:t>ABC—</a:t>
            </a: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latin typeface="楷体_GB2312"/>
              </a:rPr>
              <a:t>待客礼仪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24000" y="112536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得知客人要来访时，应将室内打扫干净，收拾整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客人来时，要及时开门表示欢迎；然后请客人就座，送上茶水。对熟悉的客人可以随便些，对初次登门的客人则尽可能消除其陌生感，使之愉快、自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客人离开时，应有礼貌地送到室外，并打招呼“欢迎再来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家中长辈不在家时，我们应该负起小主人的责任，把熟悉的客人迎进门，倒茶招待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陌生的客人，可隔着门缝告知家长外出，请改日来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假如父母一时回不来而客人有急事要走时，可以问客人有什么事需要转告，或请他们留下字条，如方便也可电话询问父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电话礼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07640" y="1711440"/>
            <a:ext cx="921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拨打电话的一方要主动报上姓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接电话的一方要运用礼貌用语，仔细聆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打电话时的音量不宜过大，时间不宜过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通话内容结束后要互道再见，礼貌地结束通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在公共场所应避免大声讲电话或长时间通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在会议上、图书馆、课室、自习室、电影院等场所响起手机或使用手机是极不文明的行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feelin4"/>
          <p:cNvPicPr/>
          <p:nvPr/>
        </p:nvPicPr>
        <p:blipFill>
          <a:blip r:embed="rId2"/>
          <a:stretch/>
        </p:blipFill>
        <p:spPr>
          <a:xfrm>
            <a:off x="2050920" y="260280"/>
            <a:ext cx="9525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slide0016_image0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幼圆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骑士”礼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60120" y="199872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女士优先原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人行通道、建筑物入口、餐桌旁、灾难发生时的逃生过程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男士该先行的几种情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下火车或公共汽车时、前面可能遇到困难或危险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" descr="bg1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19280" y="0"/>
            <a:ext cx="1190520" cy="15336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help_03"/>
          <p:cNvPicPr/>
          <p:nvPr/>
        </p:nvPicPr>
        <p:blipFill>
          <a:blip r:embed="rId4"/>
          <a:stretch/>
        </p:blipFill>
        <p:spPr>
          <a:xfrm>
            <a:off x="7740720" y="5737320"/>
            <a:ext cx="718920" cy="60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8" descr="Q_003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7265880" y="620640"/>
            <a:ext cx="1878120" cy="5761080"/>
          </a:xfrm>
          <a:prstGeom prst="rect">
            <a:avLst/>
          </a:prstGeom>
          <a:ln w="0">
            <a:noFill/>
          </a:ln>
        </p:spPr>
      </p:pic>
      <p:pic>
        <p:nvPicPr>
          <p:cNvPr id="297" name="Object 2" descr=""/>
          <p:cNvPicPr/>
          <p:nvPr/>
        </p:nvPicPr>
        <p:blipFill>
          <a:blip r:embed="rId2"/>
          <a:stretch/>
        </p:blipFill>
        <p:spPr>
          <a:xfrm>
            <a:off x="3564000" y="1773360"/>
            <a:ext cx="3960720" cy="319392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3"/>
          <p:cNvSpPr/>
          <p:nvPr/>
        </p:nvSpPr>
        <p:spPr>
          <a:xfrm>
            <a:off x="1611360" y="1986120"/>
            <a:ext cx="85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、春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4788000" y="53737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清明时节雨纷纷，路上行人欲断魂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2034000" y="5373720"/>
            <a:ext cx="85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、清明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468360" y="98100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这是什么节日？有哪些礼仪习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250920" y="2602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、了解传统习俗中的礼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8" descr="Q_003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7265880" y="0"/>
            <a:ext cx="1878120" cy="5761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Click to full view 812416_1087292094250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95640" y="0"/>
            <a:ext cx="3240360" cy="260028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3"/>
          <p:cNvSpPr/>
          <p:nvPr/>
        </p:nvSpPr>
        <p:spPr>
          <a:xfrm>
            <a:off x="1891440" y="617400"/>
            <a:ext cx="85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、端午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4" descr="0000257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24360" y="2637000"/>
            <a:ext cx="3529080" cy="23842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5"/>
          <p:cNvSpPr/>
          <p:nvPr/>
        </p:nvSpPr>
        <p:spPr>
          <a:xfrm>
            <a:off x="684360" y="2924280"/>
            <a:ext cx="33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、中秋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3276720" y="5084640"/>
            <a:ext cx="58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九月九日忆山东兄弟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王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独在异乡为异客，每逢佳节倍思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遥知兄弟登高处，遍插茱荑少一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826920" y="515772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、重阳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6" descr="Q_003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7265880" y="0"/>
            <a:ext cx="1878120" cy="576108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2"/>
          <p:cNvSpPr/>
          <p:nvPr/>
        </p:nvSpPr>
        <p:spPr>
          <a:xfrm>
            <a:off x="539640" y="4005360"/>
            <a:ext cx="36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、圣诞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3" descr="文件:xmas053.jpg  &lt;br&gt;  尺寸:800 × 648  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92360" y="3284640"/>
            <a:ext cx="4176720" cy="343512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4"/>
          <p:cNvSpPr/>
          <p:nvPr/>
        </p:nvSpPr>
        <p:spPr>
          <a:xfrm>
            <a:off x="1675440" y="642960"/>
            <a:ext cx="85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、泼水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5" descr="bnpsj-1"/>
          <p:cNvPicPr/>
          <p:nvPr/>
        </p:nvPicPr>
        <p:blipFill>
          <a:blip r:embed="rId4"/>
          <a:stretch/>
        </p:blipFill>
        <p:spPr>
          <a:xfrm>
            <a:off x="3492360" y="0"/>
            <a:ext cx="3743640" cy="318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U608P1T1D7104112F23DT20050701152542"/>
          <p:cNvPicPr/>
          <p:nvPr/>
        </p:nvPicPr>
        <p:blipFill>
          <a:blip r:embed="rId1"/>
          <a:stretch/>
        </p:blipFill>
        <p:spPr>
          <a:xfrm>
            <a:off x="2987640" y="0"/>
            <a:ext cx="2987640" cy="2789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W020050101474057282464"/>
          <p:cNvPicPr/>
          <p:nvPr/>
        </p:nvPicPr>
        <p:blipFill>
          <a:blip r:embed="rId2"/>
          <a:stretch/>
        </p:blipFill>
        <p:spPr>
          <a:xfrm>
            <a:off x="0" y="0"/>
            <a:ext cx="2916360" cy="28526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216000" y="557856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你看过天安门广场升旗仪式吗？你能讲一讲天安门广场升旗仪式的整个过程吗？你印象最深的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22222"/>
          <p:cNvPicPr/>
          <p:nvPr/>
        </p:nvPicPr>
        <p:blipFill>
          <a:blip r:embed="rId3"/>
          <a:stretch/>
        </p:blipFill>
        <p:spPr>
          <a:xfrm>
            <a:off x="0" y="2997360"/>
            <a:ext cx="3816360" cy="2495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无标题"/>
          <p:cNvPicPr/>
          <p:nvPr/>
        </p:nvPicPr>
        <p:blipFill>
          <a:blip r:embed="rId4"/>
          <a:stretch/>
        </p:blipFill>
        <p:spPr>
          <a:xfrm>
            <a:off x="3995640" y="2924280"/>
            <a:ext cx="3996000" cy="2519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1160049698_500"/>
          <p:cNvPicPr/>
          <p:nvPr/>
        </p:nvPicPr>
        <p:blipFill>
          <a:blip r:embed="rId5"/>
          <a:stretch/>
        </p:blipFill>
        <p:spPr>
          <a:xfrm>
            <a:off x="6012000" y="0"/>
            <a:ext cx="3132000" cy="2666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5"/>
          <p:cNvPicPr/>
          <p:nvPr/>
        </p:nvPicPr>
        <p:blipFill>
          <a:blip r:embed="rId6"/>
          <a:stretch/>
        </p:blipFill>
        <p:spPr>
          <a:xfrm>
            <a:off x="8317080" y="4005360"/>
            <a:ext cx="50472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8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2"/>
          <p:cNvSpPr/>
          <p:nvPr/>
        </p:nvSpPr>
        <p:spPr>
          <a:xfrm>
            <a:off x="1147320" y="0"/>
            <a:ext cx="247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节日中的礼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611280" y="692280"/>
            <a:ext cx="8064360" cy="23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春节的传统习俗：拜年、放鞭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端午节的传统习俗：划龙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秋节的传统习俗：吃月饼、赏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2413"/>
                </a:solidFill>
                <a:latin typeface="Verdana"/>
              </a:rPr>
              <a:t>     </a:t>
            </a:r>
            <a:r>
              <a:rPr b="1" lang="en-US" sz="3600" spc="-1" strike="noStrike">
                <a:solidFill>
                  <a:srgbClr val="fd2413"/>
                </a:solidFill>
                <a:latin typeface="Verdana"/>
              </a:rPr>
              <a:t>3.</a:t>
            </a:r>
            <a:r>
              <a:rPr b="1" lang="zh-CN" sz="3600" spc="-1" strike="noStrike">
                <a:solidFill>
                  <a:srgbClr val="fd2413"/>
                </a:solidFill>
                <a:latin typeface="Verdana"/>
              </a:rPr>
              <a:t>怎样对待传统礼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971640" y="3213000"/>
            <a:ext cx="489564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拘泥于传统的繁琐礼仪，而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以科学的态度对待传统礼仪习俗，继承其精华，剔除其糟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把传统与现代社会的要求结合起来，做到与时俱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WordArt 5"/>
          <p:cNvSpPr txBox="1"/>
          <p:nvPr/>
        </p:nvSpPr>
        <p:spPr>
          <a:xfrm rot="5400000">
            <a:off x="-1184400" y="3927600"/>
            <a:ext cx="3446640" cy="57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传统礼仪习俗之我见</a:t>
            </a:r>
            <a:endParaRPr b="0" i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0" name="WordArt 6" descr=""/>
          <p:cNvPicPr/>
          <p:nvPr/>
        </p:nvPicPr>
        <p:blipFill>
          <a:blip r:embed="rId2"/>
          <a:stretch/>
        </p:blipFill>
        <p:spPr>
          <a:xfrm>
            <a:off x="5940360" y="3224160"/>
            <a:ext cx="302436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2004491710128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2" name="Object 3" descr=""/>
          <p:cNvPicPr/>
          <p:nvPr/>
        </p:nvPicPr>
        <p:blipFill>
          <a:blip r:embed="rId2"/>
          <a:stretch/>
        </p:blipFill>
        <p:spPr>
          <a:xfrm>
            <a:off x="990720" y="838080"/>
            <a:ext cx="1571400" cy="2590920"/>
          </a:xfrm>
          <a:prstGeom prst="rect">
            <a:avLst/>
          </a:prstGeom>
          <a:ln w="0">
            <a:noFill/>
          </a:ln>
        </p:spPr>
      </p:pic>
      <p:pic>
        <p:nvPicPr>
          <p:cNvPr id="323" name="Object 4" descr=""/>
          <p:cNvPicPr/>
          <p:nvPr/>
        </p:nvPicPr>
        <p:blipFill>
          <a:blip r:embed="rId3"/>
          <a:stretch/>
        </p:blipFill>
        <p:spPr>
          <a:xfrm>
            <a:off x="3733920" y="914400"/>
            <a:ext cx="1752480" cy="2514600"/>
          </a:xfrm>
          <a:prstGeom prst="rect">
            <a:avLst/>
          </a:prstGeom>
          <a:ln w="0">
            <a:noFill/>
          </a:ln>
        </p:spPr>
      </p:pic>
      <p:pic>
        <p:nvPicPr>
          <p:cNvPr id="324" name="Object 5" descr=""/>
          <p:cNvPicPr/>
          <p:nvPr/>
        </p:nvPicPr>
        <p:blipFill>
          <a:blip r:embed="rId4"/>
          <a:stretch/>
        </p:blipFill>
        <p:spPr>
          <a:xfrm>
            <a:off x="6477120" y="914400"/>
            <a:ext cx="1676160" cy="2514600"/>
          </a:xfrm>
          <a:prstGeom prst="rect">
            <a:avLst/>
          </a:prstGeom>
          <a:ln w="0">
            <a:noFill/>
          </a:ln>
        </p:spPr>
      </p:pic>
      <p:pic>
        <p:nvPicPr>
          <p:cNvPr id="325" name="Object 6" descr=""/>
          <p:cNvPicPr/>
          <p:nvPr/>
        </p:nvPicPr>
        <p:blipFill>
          <a:blip r:embed="rId5"/>
          <a:stretch/>
        </p:blipFill>
        <p:spPr>
          <a:xfrm>
            <a:off x="990720" y="3733920"/>
            <a:ext cx="1676160" cy="2590560"/>
          </a:xfrm>
          <a:prstGeom prst="rect">
            <a:avLst/>
          </a:prstGeom>
          <a:ln w="0">
            <a:noFill/>
          </a:ln>
        </p:spPr>
      </p:pic>
      <p:pic>
        <p:nvPicPr>
          <p:cNvPr id="326" name="Object 7" descr=""/>
          <p:cNvPicPr/>
          <p:nvPr/>
        </p:nvPicPr>
        <p:blipFill>
          <a:blip r:embed="rId6"/>
          <a:stretch/>
        </p:blipFill>
        <p:spPr>
          <a:xfrm>
            <a:off x="3657600" y="3733920"/>
            <a:ext cx="1752480" cy="2590560"/>
          </a:xfrm>
          <a:prstGeom prst="rect">
            <a:avLst/>
          </a:prstGeom>
          <a:ln w="0">
            <a:noFill/>
          </a:ln>
        </p:spPr>
      </p:pic>
      <p:pic>
        <p:nvPicPr>
          <p:cNvPr id="327" name="Object 8" descr=""/>
          <p:cNvPicPr/>
          <p:nvPr/>
        </p:nvPicPr>
        <p:blipFill>
          <a:blip r:embed="rId7"/>
          <a:stretch/>
        </p:blipFill>
        <p:spPr>
          <a:xfrm>
            <a:off x="6477120" y="3733920"/>
            <a:ext cx="1676160" cy="25146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9"/>
          <p:cNvSpPr/>
          <p:nvPr/>
        </p:nvSpPr>
        <p:spPr>
          <a:xfrm>
            <a:off x="838080" y="228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少数民族的礼仪习俗知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csj.mp3" descr=""/>
          <p:cNvPicPr/>
          <p:nvPr/>
        </p:nvPicPr>
        <p:blipFill>
          <a:blip r:embed="rId8"/>
          <a:stretch/>
        </p:blipFill>
        <p:spPr>
          <a:xfrm>
            <a:off x="82296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9" dur="1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7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2"/>
          <p:cNvSpPr/>
          <p:nvPr/>
        </p:nvSpPr>
        <p:spPr>
          <a:xfrm>
            <a:off x="539640" y="692280"/>
            <a:ext cx="835344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蒙古族可以带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忌讳骑快马到门口下马，因为快马意味着报送不吉利的消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傣族人：外人不得进入主人的卧室，上竹楼要脱鞋子，不能坐门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250920" y="3141720"/>
            <a:ext cx="8893080" cy="1871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如何与少数民族交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要尊重少数民族的礼仪习俗，要“入乡随俗”。尤其不能违反民族禁忌，因为这会伤害民族感情，妨碍交往，影响团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250920" y="4005360"/>
            <a:ext cx="8893080" cy="2519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WordArt 5"/>
          <p:cNvSpPr txBox="1"/>
          <p:nvPr/>
        </p:nvSpPr>
        <p:spPr>
          <a:xfrm>
            <a:off x="826920" y="4221000"/>
            <a:ext cx="770580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“</a:t>
            </a:r>
            <a:r>
              <a:rPr b="0" lang="zh-CN" sz="1800" spc="1" strike="noStrike">
                <a:ln w="12600">
                  <a:solidFill>
                    <a:srgbClr val="b2b2b2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入乡随俗”，不能违反民族禁忌</a:t>
            </a:r>
            <a:endParaRPr b="0" lang="en-US" sz="1800" spc="1" strike="noStrike">
              <a:ln w="12600">
                <a:solidFill>
                  <a:srgbClr val="b2b2b2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468360" y="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少数民族的礼仪习俗知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图片257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337" name="AutoShape 6"/>
          <p:cNvSpPr/>
          <p:nvPr/>
        </p:nvSpPr>
        <p:spPr>
          <a:xfrm>
            <a:off x="684360" y="1484280"/>
            <a:ext cx="215640" cy="3600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539640" y="1557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  <a:ea typeface="黑体"/>
              </a:rPr>
              <a:t>（一）因礼仪而优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8"/>
          <p:cNvSpPr/>
          <p:nvPr/>
        </p:nvSpPr>
        <p:spPr>
          <a:xfrm>
            <a:off x="4356000" y="836640"/>
            <a:ext cx="289080" cy="2163600"/>
          </a:xfrm>
          <a:custGeom>
            <a:avLst/>
            <a:gdLst>
              <a:gd name="textAreaLeft" fmla="*/ 184680 w 289080"/>
              <a:gd name="textAreaRight" fmla="*/ 289080 w 289080"/>
              <a:gd name="textAreaTop" fmla="*/ 56160 h 2163600"/>
              <a:gd name="textAreaBottom" fmla="*/ 2107440 h 2163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4716360" y="213372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礼仪的特定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0"/>
          <p:cNvSpPr/>
          <p:nvPr/>
        </p:nvSpPr>
        <p:spPr>
          <a:xfrm>
            <a:off x="468360" y="42210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  <a:ea typeface="黑体"/>
              </a:rPr>
              <a:t>（二）社交礼仪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黑体"/>
              </a:rPr>
              <a:t>A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1"/>
          <p:cNvSpPr/>
          <p:nvPr/>
        </p:nvSpPr>
        <p:spPr>
          <a:xfrm>
            <a:off x="4356000" y="3716280"/>
            <a:ext cx="142920" cy="1800360"/>
          </a:xfrm>
          <a:custGeom>
            <a:avLst/>
            <a:gdLst>
              <a:gd name="textAreaLeft" fmla="*/ 91440 w 142920"/>
              <a:gd name="textAreaRight" fmla="*/ 143280 w 14292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2"/>
          <p:cNvSpPr/>
          <p:nvPr/>
        </p:nvSpPr>
        <p:spPr>
          <a:xfrm>
            <a:off x="4500720" y="357336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、掌握基本的交往礼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3"/>
          <p:cNvSpPr/>
          <p:nvPr/>
        </p:nvSpPr>
        <p:spPr>
          <a:xfrm>
            <a:off x="4427640" y="4869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、了解传统习俗中的礼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5"/>
          <p:cNvSpPr/>
          <p:nvPr/>
        </p:nvSpPr>
        <p:spPr>
          <a:xfrm>
            <a:off x="4788000" y="1052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讲究礼仪的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WordArt 16"/>
          <p:cNvSpPr txBox="1"/>
          <p:nvPr/>
        </p:nvSpPr>
        <p:spPr>
          <a:xfrm>
            <a:off x="250920" y="260280"/>
            <a:ext cx="17287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小结：</a:t>
            </a:r>
            <a:endParaRPr b="1" i="1" lang="en-US" sz="5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47" name="WordArt 17"/>
          <p:cNvSpPr txBox="1"/>
          <p:nvPr/>
        </p:nvSpPr>
        <p:spPr>
          <a:xfrm>
            <a:off x="684360" y="260280"/>
            <a:ext cx="691344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0000ff"/>
                </a:solidFill>
                <a:latin typeface="华文行楷"/>
              </a:rPr>
              <a:t>二、礼 仪 展 风 采</a:t>
            </a:r>
            <a:endParaRPr b="1" lang="en-US" sz="6000" spc="1" strike="noStrike">
              <a:ln w="9360">
                <a:solidFill>
                  <a:srgbClr val="ffff00"/>
                </a:solidFill>
                <a:round/>
              </a:ln>
              <a:solidFill>
                <a:srgbClr val="0000ff"/>
              </a:solidFill>
              <a:latin typeface="华文行楷"/>
              <a:ea typeface="华文行楷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1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动感钢琴"/>
          <p:cNvPicPr/>
          <p:nvPr/>
        </p:nvPicPr>
        <p:blipFill>
          <a:blip r:embed="rId2"/>
          <a:stretch/>
        </p:blipFill>
        <p:spPr>
          <a:xfrm>
            <a:off x="2743200" y="2419200"/>
            <a:ext cx="6400800" cy="44388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{4058AE5A-725C-4727-81CD-6436F03DDAE8}0"/>
          <p:cNvPicPr/>
          <p:nvPr/>
        </p:nvPicPr>
        <p:blipFill>
          <a:blip r:embed="rId3"/>
          <a:stretch/>
        </p:blipFill>
        <p:spPr>
          <a:xfrm>
            <a:off x="0" y="0"/>
            <a:ext cx="2411280" cy="187164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4"/>
          <p:cNvSpPr/>
          <p:nvPr/>
        </p:nvSpPr>
        <p:spPr>
          <a:xfrm>
            <a:off x="539640" y="2492280"/>
            <a:ext cx="86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反思自己在日常生活中的言行举止，如语言、态度、动作等有什么需要改进的地方，把它写在纸上。掌握常规礼仪的基本要求，并在交往中加以运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539640" y="400536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遵守健康文明的社交礼仪，把传统礼仪与现代社会的要求巧妙结合，与时拘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395280" y="5157720"/>
            <a:ext cx="784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做个有心人，要在社会生活中不断地学习、观察和思考。把自己的不文明言行投进垃圾箱，争做文明学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WordArt 7"/>
          <p:cNvSpPr txBox="1"/>
          <p:nvPr/>
        </p:nvSpPr>
        <p:spPr>
          <a:xfrm>
            <a:off x="3492360" y="189000"/>
            <a:ext cx="3743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cap="sq"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明礼践行</a:t>
            </a:r>
            <a:endParaRPr b="1" lang="en-US" sz="4400" spc="1" strike="noStrike">
              <a:ln cap="sq"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355" name="WordArt 10"/>
          <p:cNvSpPr txBox="1"/>
          <p:nvPr/>
        </p:nvSpPr>
        <p:spPr>
          <a:xfrm>
            <a:off x="2195640" y="1557360"/>
            <a:ext cx="651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做一个彬彬有礼的中学生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755640" y="476280"/>
            <a:ext cx="626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堂上练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学习辅导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》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P45-4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二、判断题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三、选择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作业布置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、背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礼仪的重要性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学习辅导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》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P46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四、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18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小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3419640" y="1989000"/>
            <a:ext cx="50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× √ × × 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3348000" y="2708280"/>
            <a:ext cx="53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    C    A    B    B    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3"/>
          <p:cNvSpPr/>
          <p:nvPr/>
        </p:nvSpPr>
        <p:spPr>
          <a:xfrm>
            <a:off x="900000" y="47628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在课堂和办公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395280" y="1268280"/>
            <a:ext cx="8209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穿款式、颜色、图案奇异的服装，讲究服装整洁、大方、朴素美。不穿拖鞋、背心、裤头进入课堂和办公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值日生主动擦黑板，白天注意关电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上课不迟到，若迟到，应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报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经老师允许方可进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上课坐姿端正，发言应先举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进老师办公室前应先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报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进入后不得随意翻老师的书籍等物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5" descr="f062"/>
          <p:cNvPicPr/>
          <p:nvPr/>
        </p:nvPicPr>
        <p:blipFill>
          <a:blip r:embed="rId2"/>
          <a:stretch/>
        </p:blipFill>
        <p:spPr>
          <a:xfrm>
            <a:off x="6732720" y="5877000"/>
            <a:ext cx="1511280" cy="817560"/>
          </a:xfrm>
          <a:prstGeom prst="rect">
            <a:avLst/>
          </a:prstGeom>
          <a:ln w="0">
            <a:noFill/>
          </a:ln>
        </p:spPr>
      </p:pic>
      <p:sp>
        <p:nvSpPr>
          <p:cNvPr id="363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666699"/>
                </a:solidFill>
                <a:uFillTx/>
                <a:latin typeface="Arial"/>
                <a:ea typeface="宋体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3"/>
          <p:cNvSpPr/>
          <p:nvPr/>
        </p:nvSpPr>
        <p:spPr>
          <a:xfrm>
            <a:off x="539640" y="76500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在图书馆和阅览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395280" y="1844640"/>
            <a:ext cx="828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室内必须保持安静，不要高谈阔论或东跑西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要爱护书刊，不得偷撕插页资料，不做记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5" descr="f062"/>
          <p:cNvPicPr/>
          <p:nvPr/>
        </p:nvPicPr>
        <p:blipFill>
          <a:blip r:embed="rId2"/>
          <a:stretch/>
        </p:blipFill>
        <p:spPr>
          <a:xfrm>
            <a:off x="5759280" y="5130720"/>
            <a:ext cx="1665360" cy="7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3"/>
          <p:cNvSpPr/>
          <p:nvPr/>
        </p:nvSpPr>
        <p:spPr>
          <a:xfrm>
            <a:off x="900000" y="692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在会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684360" y="177336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参加会议，要提前到达，按指定的地方就坐，会中不早退，不随便进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报告中，要认真倾听，不的看书、谈话、吃东西、扔杂物、打瞌睡、开小会，报告结束要鼓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5" descr="f062"/>
          <p:cNvPicPr/>
          <p:nvPr/>
        </p:nvPicPr>
        <p:blipFill>
          <a:blip r:embed="rId2"/>
          <a:stretch/>
        </p:blipFill>
        <p:spPr>
          <a:xfrm>
            <a:off x="5827680" y="5094360"/>
            <a:ext cx="1665360" cy="69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1117-F6AE-4A93-9158-7611DF03129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57200" y="24382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参加升国旗仪式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衣着整洁，脱帽肃立，行队礼或注目礼，唱国歌严肃，准确，声音洪亮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1295280" y="887400"/>
            <a:ext cx="65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参加升国旗仪式应注意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"/>
          <p:cNvSpPr/>
          <p:nvPr/>
        </p:nvSpPr>
        <p:spPr>
          <a:xfrm>
            <a:off x="684360" y="836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在餐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324000" y="198900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自觉排队、不要插队，不敲击碗筷，不要把饭菜撒在地面上，吃不完的事物要倒在指定的容器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要尊重食堂工作人员的人格和劳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f062"/>
          <p:cNvPicPr/>
          <p:nvPr/>
        </p:nvPicPr>
        <p:blipFill>
          <a:blip r:embed="rId2"/>
          <a:stretch/>
        </p:blipFill>
        <p:spPr>
          <a:xfrm>
            <a:off x="5961240" y="5041800"/>
            <a:ext cx="1531800" cy="6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8"/>
          <p:cNvSpPr/>
          <p:nvPr/>
        </p:nvSpPr>
        <p:spPr>
          <a:xfrm>
            <a:off x="5867280" y="534816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WordArt 2"/>
          <p:cNvSpPr txBox="1"/>
          <p:nvPr/>
        </p:nvSpPr>
        <p:spPr>
          <a:xfrm rot="600000">
            <a:off x="250560" y="-171360"/>
            <a:ext cx="3092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2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8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礼仪是……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8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39640" y="450864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　　包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家庭日常生活中、学校集体活动中、社会交往活动中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自然形成的各种文明举止行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slide0004_image019"/>
          <p:cNvPicPr/>
          <p:nvPr/>
        </p:nvPicPr>
        <p:blipFill>
          <a:blip r:embed="rId1"/>
          <a:stretch/>
        </p:blipFill>
        <p:spPr>
          <a:xfrm>
            <a:off x="8137440" y="5807160"/>
            <a:ext cx="1006560" cy="10508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539640" y="1052640"/>
            <a:ext cx="842508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礼仪</a:t>
            </a:r>
            <a:r>
              <a:rPr b="1" lang="zh-CN" sz="2800" spc="-1" strike="noStrike">
                <a:solidFill>
                  <a:srgbClr val="333300"/>
                </a:solidFill>
                <a:latin typeface="宋体"/>
              </a:rPr>
              <a:t>属于道德范畴，是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礼节与仪式</a:t>
            </a:r>
            <a:r>
              <a:rPr b="1" lang="zh-CN" sz="2800" spc="-1" strike="noStrike">
                <a:solidFill>
                  <a:srgbClr val="333300"/>
                </a:solidFill>
                <a:latin typeface="宋体"/>
              </a:rPr>
              <a:t>的总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7d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00"/>
                </a:solidFill>
                <a:latin typeface="宋体"/>
              </a:rPr>
              <a:t>从广义上讲，是指一个时代的典章制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7d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00"/>
                </a:solidFill>
                <a:latin typeface="宋体"/>
              </a:rPr>
              <a:t>从狭义上讲，是指人们在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社会交往</a:t>
            </a:r>
            <a:r>
              <a:rPr b="1" lang="zh-CN" sz="2800" spc="-1" strike="noStrike">
                <a:solidFill>
                  <a:srgbClr val="333300"/>
                </a:solidFill>
                <a:latin typeface="宋体"/>
              </a:rPr>
              <a:t>中由于受历史传统、民族文化、宗教信仰、风俗习惯、时代潮流等因素影响而形成的，为人们所认同并遵守，由思想所支配的外在表现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行为准则、规范和形式的总和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24000" y="321300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礼仪不仅仅是一种形式，而且是一个人、一个集体、乃至一个国家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精神文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象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WordArt 3"/>
          <p:cNvSpPr txBox="1"/>
          <p:nvPr/>
        </p:nvSpPr>
        <p:spPr>
          <a:xfrm>
            <a:off x="1042920" y="836640"/>
            <a:ext cx="49690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（一）因礼仪而优雅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611280" y="189000"/>
            <a:ext cx="813600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女大学生求职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有个女大学生去求职。因她的条件不错，公司的人事主管表示可以录用。这个女大学生一时高兴，吃了一块口香糖，顺手把纸皮扔到了桌上，结果            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5292720" y="155736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Verdana"/>
                <a:ea typeface="黑体"/>
              </a:rPr>
              <a:t>她没被录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539640" y="184464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个女大学生哭了，顺手又将擦泪的纸巾扔到了地板上，主管将其拾起放回纸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763280" y="3068640"/>
            <a:ext cx="423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Verdana"/>
              </a:rPr>
              <a:t>大学生的行为和择业经历给我们什么启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Verdana"/>
              </a:rPr>
              <a:t>决定应聘成败的关键因素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468360" y="4005360"/>
            <a:ext cx="8893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834228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如果我们不讲礼仪，就可能伤害别人，也使自己难堪，甚至无法适应现代社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755640" y="515772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现代社会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=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礼仪社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01680" y="404640"/>
            <a:ext cx="85406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种说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礼仪是一面镜子，照出你的修养，帮助你与他人和睦相处。人际交往，离不开礼仪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种说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礼仪是客套，我们只要好心好意待人就行了，不用讲什么礼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自觉做到讲礼仪，不仅关系我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自身的形象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而且直接关系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周围的人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关系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们的集体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甚至关系到我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民族和国家的形象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755640" y="333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讨论：中学生在校基本礼仪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826920" y="148428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在课堂和办公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826920" y="234468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在图书馆和阅览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826920" y="306540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在会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826920" y="3786120"/>
            <a:ext cx="25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在餐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18books052"/>
          <p:cNvPicPr/>
          <p:nvPr/>
        </p:nvPicPr>
        <p:blipFill>
          <a:blip r:embed="rId1"/>
          <a:stretch/>
        </p:blipFill>
        <p:spPr>
          <a:xfrm>
            <a:off x="4932360" y="1557360"/>
            <a:ext cx="431640" cy="361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18books053"/>
          <p:cNvPicPr/>
          <p:nvPr/>
        </p:nvPicPr>
        <p:blipFill>
          <a:blip r:embed="rId2"/>
          <a:stretch/>
        </p:blipFill>
        <p:spPr>
          <a:xfrm>
            <a:off x="5076720" y="2492280"/>
            <a:ext cx="432000" cy="362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18books041"/>
          <p:cNvPicPr/>
          <p:nvPr/>
        </p:nvPicPr>
        <p:blipFill>
          <a:blip r:embed="rId3"/>
          <a:stretch/>
        </p:blipFill>
        <p:spPr>
          <a:xfrm>
            <a:off x="3492360" y="314172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18books037"/>
          <p:cNvPicPr/>
          <p:nvPr/>
        </p:nvPicPr>
        <p:blipFill>
          <a:blip r:embed="rId4"/>
          <a:stretch/>
        </p:blipFill>
        <p:spPr>
          <a:xfrm>
            <a:off x="3564000" y="3933720"/>
            <a:ext cx="376200" cy="304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f070"/>
          <p:cNvPicPr/>
          <p:nvPr/>
        </p:nvPicPr>
        <p:blipFill>
          <a:blip r:embed="rId5"/>
          <a:stretch/>
        </p:blipFill>
        <p:spPr>
          <a:xfrm>
            <a:off x="6694560" y="5915160"/>
            <a:ext cx="2449440" cy="9428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3"/>
          <p:cNvSpPr/>
          <p:nvPr/>
        </p:nvSpPr>
        <p:spPr>
          <a:xfrm>
            <a:off x="395280" y="4437000"/>
            <a:ext cx="8459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按礼仪要求去做，有助于我们进一步提升道德水平和精神境界，会使得我们变得优雅可亲，更容易被人接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01:39:3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8:23Z</dcterms:modified>
  <cp:revision>2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