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7.jpeg" ContentType="image/jpeg"/>
  <Override PartName="/ppt/media/image6.png" ContentType="image/png"/>
  <Override PartName="/ppt/media/image5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Windows%20XP%20%E6%89%93%E5%8D%B0%E7%BB%93%E6%9D%9F.wav" ContentType="audio/x-wav"/>
  <Override PartName="/ppt/media/image19.jpeg" ContentType="image/jpe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4.gif" ContentType="image/gif"/>
  <Override PartName="/ppt/media/image18.gif" ContentType="image/gif"/>
  <Override PartName="/ppt/media/image13.jpeg" ContentType="image/jpeg"/>
  <Override PartName="/ppt/media/image12.jpeg" ContentType="image/jpeg"/>
  <Override PartName="/ppt/media/image15.png" ContentType="image/png"/>
  <Override PartName="/ppt/media/image3.jpeg" ContentType="image/jpeg"/>
  <Override PartName="/ppt/media/ir_end.wav" ContentType="audio/x-wav"/>
  <Override PartName="/ppt/media/image4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60D-A9AB-47E9-AF9A-D85EA931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BD0-7F0B-4562-B21F-C2CFCA28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FE7-18B7-4D43-9AD7-D9BE992F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232-5309-474B-976F-9AA0BACA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40B9-C6F3-497F-9A0B-F5599D0B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17AF-D458-4ABA-9825-8E077EAD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1429-48FC-47BD-A874-92363C0D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9890-5B94-4ABE-8E1C-B86BCA1C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7EBC-C0C4-444E-AFFF-71FCAEFD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BCB1-A80D-4578-8B9D-94357818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DF50-9B48-418A-9116-11352855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25F-71B9-428E-B6D5-3AF1551B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E49B-D65B-4CF3-9B8A-FD347512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B48A-194C-4D69-AA2F-725308E9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157B-AA8B-4074-A0EC-F9632C68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69C6-4F86-41D9-8435-1D049B5B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5AE3-C4AC-4496-A112-5FFEF7BE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DA02A-A811-4BF4-964B-A3EF7D2E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F8ACA-B99E-447D-A818-3A17D7B8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8F1EF-D043-419E-B6F6-D26EF620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F67E2-8940-49F0-B7C9-D8A03EC2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E0DA1-36F9-49B9-8272-38B0B83D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FD2-D71A-4BEC-8E73-C2A68452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24DF2-5D38-4115-A05F-6EBA554A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69AAB-41FB-4198-9CA5-D4696C03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45F9D-DAF8-4C63-9F6C-840CBC7A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8C05-5872-458C-99AF-F0769D52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6A31-8DF0-4F8D-9A36-B2EA5222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41027-EA65-4ABA-B083-56D2B95D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11B6-D1A7-4FC1-B6F6-0A81CB44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EA5-F936-4109-B13C-6C082FFA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EA4-BDA8-4CF2-9FCD-F1382068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AE7-6EC5-4B0C-AA1B-D71F0E41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FDA-C63E-43E5-A1F1-847B9B23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640-A961-4F64-B4E1-75B59EA3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F27-148D-479A-A8D5-EA697FDF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5254-3805-47CF-B6DF-77F042D0581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2D44-3393-4F5B-AB8F-2E7367B48C6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0CCB-DFF5-453F-9679-61655B9035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ir_end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indows%20XP%20&#25171;&#21360;&#32467;&#26463;.wav"/><Relationship Id="rId4" Type="http://schemas.openxmlformats.org/officeDocument/2006/relationships/audio" Target="../media/Windows%20XP%20&#25171;&#21360;&#32467;&#26463;.wav"/><Relationship Id="rId5" Type="http://schemas.openxmlformats.org/officeDocument/2006/relationships/audio" Target="../media/Windows%20XP%20&#25171;&#21360;&#32467;&#26463;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ir_end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中宋"/>
                <a:ea typeface="华文中宋"/>
              </a:rPr>
              <a:t>第十课　选择希望人生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4" name="WordArt 8" descr=""/>
          <p:cNvPicPr/>
          <p:nvPr/>
        </p:nvPicPr>
        <p:blipFill>
          <a:blip r:embed="rId1"/>
          <a:stretch/>
        </p:blipFill>
        <p:spPr>
          <a:xfrm>
            <a:off x="925560" y="2500200"/>
            <a:ext cx="7215120" cy="78912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6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6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学习压力的影响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0" y="846360"/>
            <a:ext cx="3505320" cy="82188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隶书"/>
              </a:rPr>
              <a:t>积极影响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" name="Oval 8"/>
          <p:cNvSpPr/>
          <p:nvPr/>
        </p:nvSpPr>
        <p:spPr>
          <a:xfrm>
            <a:off x="5334120" y="770760"/>
            <a:ext cx="3504960" cy="82188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隶书"/>
              </a:rPr>
              <a:t>消极影响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04960" y="762120"/>
            <a:ext cx="609840" cy="533160"/>
            <a:chOff x="3504960" y="762120"/>
            <a:chExt cx="609840" cy="533160"/>
          </a:xfrm>
        </p:grpSpPr>
        <p:sp>
          <p:nvSpPr>
            <p:cNvPr id="218" name="Line 11"/>
            <p:cNvSpPr/>
            <p:nvPr/>
          </p:nvSpPr>
          <p:spPr>
            <a:xfrm flipH="1">
              <a:off x="3504960" y="762120"/>
              <a:ext cx="609480" cy="533160"/>
            </a:xfrm>
            <a:prstGeom prst="line">
              <a:avLst/>
            </a:prstGeom>
            <a:ln w="101520">
              <a:solidFill>
                <a:srgbClr val="ff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3505320" y="76212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648320" y="762120"/>
            <a:ext cx="685800" cy="457200"/>
            <a:chOff x="4648320" y="762120"/>
            <a:chExt cx="685800" cy="457200"/>
          </a:xfrm>
        </p:grpSpPr>
        <p:sp>
          <p:nvSpPr>
            <p:cNvPr id="221" name="Line 12"/>
            <p:cNvSpPr/>
            <p:nvPr/>
          </p:nvSpPr>
          <p:spPr>
            <a:xfrm>
              <a:off x="4648320" y="762120"/>
              <a:ext cx="685800" cy="457200"/>
            </a:xfrm>
            <a:prstGeom prst="line">
              <a:avLst/>
            </a:prstGeom>
            <a:ln w="101520">
              <a:solidFill>
                <a:srgbClr val="ff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4648320" y="76212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23" name="AutoShape 13"/>
          <p:cNvSpPr/>
          <p:nvPr/>
        </p:nvSpPr>
        <p:spPr>
          <a:xfrm>
            <a:off x="-6480" y="4247280"/>
            <a:ext cx="3062520" cy="118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隶书"/>
              </a:rPr>
              <a:t>激发干劲和潜能，表现更积极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0" y="2242800"/>
            <a:ext cx="3051000" cy="1041120"/>
          </a:xfrm>
          <a:prstGeom prst="flowChartDecision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适度压力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3352680" y="2166480"/>
            <a:ext cx="3051360" cy="1041120"/>
          </a:xfrm>
          <a:prstGeom prst="flowChartDecision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没有压力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6" name="AutoShape 16"/>
          <p:cNvSpPr/>
          <p:nvPr/>
        </p:nvSpPr>
        <p:spPr>
          <a:xfrm>
            <a:off x="6324480" y="2166480"/>
            <a:ext cx="3051360" cy="1041120"/>
          </a:xfrm>
          <a:prstGeom prst="flowChartDecision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过度压力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3289320" y="4094280"/>
            <a:ext cx="2643120" cy="118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隶书"/>
              </a:rPr>
              <a:t>失去动力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隶书"/>
              </a:rPr>
              <a:t>止步不前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8" name="AutoShape 18"/>
          <p:cNvSpPr/>
          <p:nvPr/>
        </p:nvSpPr>
        <p:spPr>
          <a:xfrm>
            <a:off x="6191280" y="4170240"/>
            <a:ext cx="2933640" cy="118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隶书"/>
              </a:rPr>
              <a:t>焦虑不断增加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隶书"/>
              </a:rPr>
              <a:t>影响学习效率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1752480"/>
            <a:ext cx="360" cy="457200"/>
            <a:chOff x="1523880" y="1752480"/>
            <a:chExt cx="360" cy="457200"/>
          </a:xfrm>
        </p:grpSpPr>
        <p:sp>
          <p:nvSpPr>
            <p:cNvPr id="230" name="Line 19"/>
            <p:cNvSpPr/>
            <p:nvPr/>
          </p:nvSpPr>
          <p:spPr>
            <a:xfrm>
              <a:off x="1523880" y="1752480"/>
              <a:ext cx="0" cy="457200"/>
            </a:xfrm>
            <a:prstGeom prst="line">
              <a:avLst/>
            </a:prstGeom>
            <a:ln w="101520">
              <a:solidFill>
                <a:srgbClr val="ff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523880" y="17524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447920" y="3352680"/>
            <a:ext cx="360" cy="609840"/>
            <a:chOff x="1447920" y="3352680"/>
            <a:chExt cx="360" cy="609840"/>
          </a:xfrm>
        </p:grpSpPr>
        <p:sp>
          <p:nvSpPr>
            <p:cNvPr id="233" name="Line 20"/>
            <p:cNvSpPr/>
            <p:nvPr/>
          </p:nvSpPr>
          <p:spPr>
            <a:xfrm>
              <a:off x="1447920" y="3352680"/>
              <a:ext cx="0" cy="609840"/>
            </a:xfrm>
            <a:prstGeom prst="line">
              <a:avLst/>
            </a:prstGeom>
            <a:ln w="101520">
              <a:solidFill>
                <a:srgbClr val="ff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1447920" y="33526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848720" y="3276720"/>
            <a:ext cx="360" cy="609480"/>
            <a:chOff x="7848720" y="3276720"/>
            <a:chExt cx="360" cy="609480"/>
          </a:xfrm>
        </p:grpSpPr>
        <p:sp>
          <p:nvSpPr>
            <p:cNvPr id="236" name="Line 21"/>
            <p:cNvSpPr/>
            <p:nvPr/>
          </p:nvSpPr>
          <p:spPr>
            <a:xfrm>
              <a:off x="7848720" y="3276720"/>
              <a:ext cx="0" cy="609480"/>
            </a:xfrm>
            <a:prstGeom prst="line">
              <a:avLst/>
            </a:prstGeom>
            <a:ln w="101520">
              <a:solidFill>
                <a:srgbClr val="ff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7848720" y="327672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6920" y="3276720"/>
            <a:ext cx="360" cy="609480"/>
            <a:chOff x="4876920" y="3276720"/>
            <a:chExt cx="360" cy="609480"/>
          </a:xfrm>
        </p:grpSpPr>
        <p:sp>
          <p:nvSpPr>
            <p:cNvPr id="239" name="Line 22"/>
            <p:cNvSpPr/>
            <p:nvPr/>
          </p:nvSpPr>
          <p:spPr>
            <a:xfrm>
              <a:off x="4876920" y="3276720"/>
              <a:ext cx="0" cy="609480"/>
            </a:xfrm>
            <a:prstGeom prst="line">
              <a:avLst/>
            </a:prstGeom>
            <a:ln w="101520">
              <a:solidFill>
                <a:srgbClr val="ff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4876920" y="327672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467480" y="1676520"/>
            <a:ext cx="228600" cy="457200"/>
            <a:chOff x="7467480" y="1676520"/>
            <a:chExt cx="228600" cy="457200"/>
          </a:xfrm>
        </p:grpSpPr>
        <p:sp>
          <p:nvSpPr>
            <p:cNvPr id="242" name="Line 23"/>
            <p:cNvSpPr/>
            <p:nvPr/>
          </p:nvSpPr>
          <p:spPr>
            <a:xfrm>
              <a:off x="7467480" y="1676520"/>
              <a:ext cx="228600" cy="457200"/>
            </a:xfrm>
            <a:prstGeom prst="line">
              <a:avLst/>
            </a:prstGeom>
            <a:ln w="101520">
              <a:solidFill>
                <a:srgbClr val="ff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7467480" y="1676520"/>
              <a:ext cx="228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562720" y="1523880"/>
            <a:ext cx="457200" cy="685800"/>
            <a:chOff x="5562720" y="1523880"/>
            <a:chExt cx="457200" cy="685800"/>
          </a:xfrm>
        </p:grpSpPr>
        <p:sp>
          <p:nvSpPr>
            <p:cNvPr id="245" name="Line 24"/>
            <p:cNvSpPr/>
            <p:nvPr/>
          </p:nvSpPr>
          <p:spPr>
            <a:xfrm flipH="1">
              <a:off x="5562720" y="1523880"/>
              <a:ext cx="457200" cy="685800"/>
            </a:xfrm>
            <a:prstGeom prst="line">
              <a:avLst/>
            </a:prstGeom>
            <a:ln w="101520">
              <a:solidFill>
                <a:srgbClr val="ff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5562720" y="1523880"/>
              <a:ext cx="4572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47" name="AutoShape 25"/>
          <p:cNvSpPr/>
          <p:nvPr/>
        </p:nvSpPr>
        <p:spPr>
          <a:xfrm>
            <a:off x="2587680" y="5712480"/>
            <a:ext cx="6562800" cy="1018800"/>
          </a:xfrm>
          <a:prstGeom prst="horizontalScroll">
            <a:avLst>
              <a:gd name="adj" fmla="val 12500"/>
            </a:avLst>
          </a:prstGeom>
          <a:solidFill>
            <a:srgbClr val="66ff66">
              <a:alpha val="55000"/>
            </a:srgbClr>
          </a:solidFill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结论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需要适度的压力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学习压力的影响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P131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761760"/>
            <a:ext cx="88423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、适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：激发干劲和潜能，表现得更积极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、过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：焦虑增加、影响学习效率和已有水平的正常发挥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没有压力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：失去动力、止步不前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学习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需要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适度压力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00"/>
                </a:solidFill>
                <a:latin typeface="Arial"/>
                <a:ea typeface="隶书"/>
              </a:rPr>
              <a:t>谈一谈</a:t>
            </a:r>
            <a:r>
              <a:rPr b="1" lang="en-US" sz="8000" spc="-1" strike="noStrike">
                <a:solidFill>
                  <a:srgbClr val="00ff00"/>
                </a:solidFill>
                <a:latin typeface="Arial"/>
                <a:ea typeface="隶书"/>
              </a:rPr>
              <a:t>P131</a:t>
            </a: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2057040"/>
            <a:ext cx="8540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生活中，你有哪些面对压力反而表现得更好的事例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Arial"/>
                <a:ea typeface="隶书"/>
              </a:rPr>
              <a:t>议一议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隶书"/>
              </a:rPr>
              <a:t>p132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学习生活中，同样的课程，同样的老师教，有的同学越学</a:t>
            </a:r>
            <a:r>
              <a:rPr b="0" lang="zh-CN" sz="4000" spc="-1" strike="noStrike">
                <a:solidFill>
                  <a:srgbClr val="c00000"/>
                </a:solidFill>
                <a:latin typeface="华文新魏"/>
                <a:ea typeface="华文新魏"/>
              </a:rPr>
              <a:t>越有趣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越学</a:t>
            </a:r>
            <a:r>
              <a:rPr b="0" lang="zh-CN" sz="4000" spc="-1" strike="noStrike">
                <a:solidFill>
                  <a:srgbClr val="c00000"/>
                </a:solidFill>
                <a:latin typeface="华文新魏"/>
                <a:ea typeface="华文新魏"/>
              </a:rPr>
              <a:t>越轻松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；有的同学则越学越觉得是一种</a:t>
            </a:r>
            <a:r>
              <a:rPr b="0" lang="zh-CN" sz="4000" spc="-1" strike="noStrike">
                <a:solidFill>
                  <a:srgbClr val="c00000"/>
                </a:solidFill>
                <a:latin typeface="华文新魏"/>
                <a:ea typeface="华文新魏"/>
              </a:rPr>
              <a:t>负担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；有的同学可以连续几个小时看电视或玩游戏仍然</a:t>
            </a:r>
            <a:r>
              <a:rPr b="0" lang="zh-CN" sz="4000" spc="-1" strike="noStrike">
                <a:solidFill>
                  <a:srgbClr val="c00000"/>
                </a:solidFill>
                <a:latin typeface="华文新魏"/>
                <a:ea typeface="华文新魏"/>
              </a:rPr>
              <a:t>余兴未尽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而上课却觉得</a:t>
            </a:r>
            <a:r>
              <a:rPr b="0" lang="zh-CN" sz="4000" spc="-1" strike="noStrike">
                <a:solidFill>
                  <a:srgbClr val="c00000"/>
                </a:solidFill>
                <a:latin typeface="华文新魏"/>
                <a:ea typeface="华文新魏"/>
              </a:rPr>
              <a:t>又累又困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304920" y="556272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P132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</a:rPr>
              <a:t>请问：这是为什么？</a:t>
            </a:r>
            <a:endParaRPr b="0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缓解学习压力的有效方法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P132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、明确学习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</a:rPr>
              <a:t>意义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、培养学习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</a:rPr>
              <a:t>兴趣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、学会正确对待压力，将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</a:rPr>
              <a:t>压力化为动力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0" y="1828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隶书"/>
                <a:ea typeface="隶书"/>
              </a:rPr>
              <a:t>（二）从容面对考试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r_e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如何从容面对考试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\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如何克服过度焦虑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P133-134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599840"/>
            <a:ext cx="95248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要树立正确的考试观念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要实事求是地调整自我期望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要增强自身实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381880" cy="99036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13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清的故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304920" y="457200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c00000"/>
                </a:solidFill>
                <a:latin typeface="黑体"/>
                <a:ea typeface="黑体"/>
              </a:rPr>
              <a:t>、</a:t>
            </a:r>
            <a:r>
              <a:rPr b="1" lang="zh-CN" sz="6000" spc="-1" strike="noStrike">
                <a:solidFill>
                  <a:srgbClr val="00ff00"/>
                </a:solidFill>
                <a:latin typeface="黑体"/>
                <a:ea typeface="黑体"/>
              </a:rPr>
              <a:t>小清是否面临过大的压力？压力来自哪里？</a:t>
            </a:r>
            <a:endParaRPr b="0" lang="en-US" sz="6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63" name="Picture 5" descr="0067"/>
          <p:cNvPicPr/>
          <p:nvPr/>
        </p:nvPicPr>
        <p:blipFill>
          <a:blip r:embed="rId1"/>
          <a:stretch/>
        </p:blipFill>
        <p:spPr>
          <a:xfrm>
            <a:off x="228600" y="1371600"/>
            <a:ext cx="6477120" cy="3124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dur="indefinite" nodeType="afterEffect" fill="hold" presetClass="entr" presetID="27">
                                  <p:stCondLst>
                                    <p:cond delay="100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隶书"/>
              </a:rPr>
              <a:t>形成考试焦虑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304920" y="1980360"/>
            <a:ext cx="1376280" cy="82188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隶书"/>
              </a:rPr>
              <a:t>外因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304920" y="4341960"/>
            <a:ext cx="1376280" cy="82188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隶书"/>
              </a:rPr>
              <a:t>内因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7" name="AutoShape 8"/>
          <p:cNvSpPr/>
          <p:nvPr/>
        </p:nvSpPr>
        <p:spPr>
          <a:xfrm>
            <a:off x="2514600" y="1143000"/>
            <a:ext cx="3200400" cy="274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隶书"/>
              </a:rPr>
              <a:t>来自于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Arial"/>
                <a:ea typeface="隶书"/>
              </a:rPr>
              <a:t>学校、家庭和社会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8" name="AutoShape 9"/>
          <p:cNvSpPr/>
          <p:nvPr/>
        </p:nvSpPr>
        <p:spPr>
          <a:xfrm>
            <a:off x="2514600" y="5120640"/>
            <a:ext cx="316872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隶书"/>
              </a:rPr>
              <a:t>与个体的</a:t>
            </a:r>
            <a:r>
              <a:rPr b="1" lang="zh-CN" sz="3200" spc="-1" strike="noStrike" u="sng">
                <a:solidFill>
                  <a:srgbClr val="c00000"/>
                </a:solidFill>
                <a:uFillTx/>
                <a:latin typeface="Arial"/>
                <a:ea typeface="隶书"/>
              </a:rPr>
              <a:t>个性、抱负、早年经历、认知水平和心理承受能力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隶书"/>
              </a:rPr>
              <a:t>等有关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9" name="AutoShape 12"/>
          <p:cNvSpPr/>
          <p:nvPr/>
        </p:nvSpPr>
        <p:spPr>
          <a:xfrm>
            <a:off x="6629400" y="2379960"/>
            <a:ext cx="1090440" cy="2044080"/>
          </a:xfrm>
          <a:prstGeom prst="rightArrowCallout">
            <a:avLst>
              <a:gd name="adj1" fmla="val 38640"/>
              <a:gd name="adj2" fmla="val 38636"/>
              <a:gd name="adj3" fmla="val 18625"/>
              <a:gd name="adj4" fmla="val 6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02e4"/>
                </a:solidFill>
                <a:latin typeface="Arial"/>
                <a:ea typeface="宋体"/>
              </a:rPr>
              <a:t>相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02e4"/>
                </a:solidFill>
                <a:latin typeface="Arial"/>
                <a:ea typeface="宋体"/>
              </a:rPr>
              <a:t>互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02e4"/>
                </a:solidFill>
                <a:latin typeface="Arial"/>
                <a:ea typeface="宋体"/>
              </a:rPr>
              <a:t>作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02e4"/>
                </a:solidFill>
                <a:latin typeface="Arial"/>
                <a:ea typeface="宋体"/>
              </a:rPr>
              <a:t>用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0" name="Oval 13"/>
          <p:cNvSpPr/>
          <p:nvPr/>
        </p:nvSpPr>
        <p:spPr>
          <a:xfrm>
            <a:off x="7444800" y="1981080"/>
            <a:ext cx="1806120" cy="3044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考试焦虑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676520" y="2362320"/>
            <a:ext cx="838080" cy="360"/>
            <a:chOff x="1676520" y="2362320"/>
            <a:chExt cx="838080" cy="360"/>
          </a:xfrm>
        </p:grpSpPr>
        <p:sp>
          <p:nvSpPr>
            <p:cNvPr id="272" name="Line 14"/>
            <p:cNvSpPr/>
            <p:nvPr/>
          </p:nvSpPr>
          <p:spPr>
            <a:xfrm>
              <a:off x="1676520" y="2362320"/>
              <a:ext cx="838080" cy="0"/>
            </a:xfrm>
            <a:prstGeom prst="line">
              <a:avLst/>
            </a:prstGeom>
            <a:ln w="101520">
              <a:solidFill>
                <a:srgbClr val="ff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1676520" y="236232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676520" y="4800600"/>
            <a:ext cx="838080" cy="360"/>
            <a:chOff x="1676520" y="4800600"/>
            <a:chExt cx="838080" cy="360"/>
          </a:xfrm>
        </p:grpSpPr>
        <p:sp>
          <p:nvSpPr>
            <p:cNvPr id="275" name="Line 15"/>
            <p:cNvSpPr/>
            <p:nvPr/>
          </p:nvSpPr>
          <p:spPr>
            <a:xfrm>
              <a:off x="1676520" y="4800600"/>
              <a:ext cx="838080" cy="0"/>
            </a:xfrm>
            <a:prstGeom prst="line">
              <a:avLst/>
            </a:prstGeom>
            <a:ln w="101520">
              <a:solidFill>
                <a:srgbClr val="ff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1676520" y="480060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791320" y="1905120"/>
            <a:ext cx="761760" cy="990360"/>
            <a:chOff x="5791320" y="1905120"/>
            <a:chExt cx="761760" cy="990360"/>
          </a:xfrm>
        </p:grpSpPr>
        <p:sp>
          <p:nvSpPr>
            <p:cNvPr id="278" name="Line 16"/>
            <p:cNvSpPr/>
            <p:nvPr/>
          </p:nvSpPr>
          <p:spPr>
            <a:xfrm>
              <a:off x="5791320" y="1905120"/>
              <a:ext cx="761760" cy="990360"/>
            </a:xfrm>
            <a:prstGeom prst="line">
              <a:avLst/>
            </a:prstGeom>
            <a:ln w="101520">
              <a:solidFill>
                <a:srgbClr val="ff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5791320" y="1905120"/>
              <a:ext cx="76176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715000" y="4038480"/>
            <a:ext cx="838080" cy="1067040"/>
            <a:chOff x="5715000" y="4038480"/>
            <a:chExt cx="838080" cy="1067040"/>
          </a:xfrm>
        </p:grpSpPr>
        <p:sp>
          <p:nvSpPr>
            <p:cNvPr id="281" name="Line 17"/>
            <p:cNvSpPr/>
            <p:nvPr/>
          </p:nvSpPr>
          <p:spPr>
            <a:xfrm flipV="1">
              <a:off x="5715000" y="4038480"/>
              <a:ext cx="838080" cy="1067040"/>
            </a:xfrm>
            <a:prstGeom prst="line">
              <a:avLst/>
            </a:prstGeom>
            <a:ln w="101520">
              <a:solidFill>
                <a:srgbClr val="ff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 rot="10800000">
              <a:off x="5715000" y="4038480"/>
              <a:ext cx="83808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形成考试焦虑的原因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132</a:t>
            </a:r>
            <a:br>
              <a:rPr sz="4400"/>
            </a:b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8600" y="1371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面临的考试很重要、考试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</a:rPr>
              <a:t>难度过大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他人、自己的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</a:rPr>
              <a:t>过高要求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超过实际能力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</a:rPr>
              <a:t>仅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以考试成绩来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</a:rPr>
              <a:t>判断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个人价值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Img212064307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3978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0" y="4191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2006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日在第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届多哈亚运会上，中国国家乒乓球队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18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岁小将郭跃顶住压力，苦战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7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局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，夺取女单冠军。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楷体_GB2312"/>
              </a:rPr>
              <a:t> 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比赛结束后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郭跃在接受记者采访时说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这块金牌得来不易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压力很大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但赢就赢在心态调整得好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,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没有让压力束缚住。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8" name="Picture 9" descr="gy"/>
          <p:cNvPicPr/>
          <p:nvPr/>
        </p:nvPicPr>
        <p:blipFill>
          <a:blip r:embed="rId2"/>
          <a:stretch/>
        </p:blipFill>
        <p:spPr>
          <a:xfrm>
            <a:off x="228600" y="0"/>
            <a:ext cx="2862360" cy="4038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ows%20XP%20%E6%89%93%E5%8D%B0%E7%BB%93%E6%9D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%E6%89%93%E5%8D%B0%E7%BB%93%E6%9D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ows%20XP%20%E6%89%93%E5%8D%B0%E7%BB%93%E6%9D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如何客观评价考试焦虑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P133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、适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：体现对考试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积极认真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的态度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、过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干扰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学习、对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身心健康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造成不利影响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要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克服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过度焦虑，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从容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面对考试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1023840" y="45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0" y="99072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ffff66"/>
                </a:solidFill>
                <a:latin typeface="华文新魏"/>
              </a:rPr>
              <a:t>2005</a:t>
            </a: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年</a:t>
            </a:r>
            <a:r>
              <a:rPr b="0" lang="en-US" sz="3200" spc="-1" strike="noStrike">
                <a:solidFill>
                  <a:srgbClr val="ffff6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月，七年级女生刘丽只因一次考试成绩不好，被家人数落几句，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竟跳河自杀了</a:t>
            </a: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ffff66"/>
                </a:solidFill>
                <a:latin typeface="华文新魏"/>
              </a:rPr>
              <a:t>2005</a:t>
            </a: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年</a:t>
            </a:r>
            <a:r>
              <a:rPr b="0" lang="en-US" sz="3200" spc="-1" strike="noStrike">
                <a:solidFill>
                  <a:srgbClr val="ffff66"/>
                </a:solidFill>
                <a:latin typeface="华文新魏"/>
              </a:rPr>
              <a:t>11</a:t>
            </a: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月</a:t>
            </a:r>
            <a:r>
              <a:rPr b="0" lang="en-US" sz="3200" spc="-1" strike="noStrike">
                <a:solidFill>
                  <a:srgbClr val="ffff66"/>
                </a:solidFill>
                <a:latin typeface="华文新魏"/>
              </a:rPr>
              <a:t>9</a:t>
            </a: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日，广东外语艺术职业学院的一名</a:t>
            </a:r>
            <a:r>
              <a:rPr b="0" lang="en-US" sz="3200" spc="-1" strike="noStrike">
                <a:solidFill>
                  <a:srgbClr val="ffff66"/>
                </a:solidFill>
                <a:latin typeface="华文新魏"/>
              </a:rPr>
              <a:t>18</a:t>
            </a: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岁女生从宿舍</a:t>
            </a:r>
            <a:r>
              <a:rPr b="0" lang="en-US" sz="3200" spc="-1" strike="noStrike">
                <a:solidFill>
                  <a:srgbClr val="ffff6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楼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跳楼自杀</a:t>
            </a: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，留有遗书称怕考试不过关，不能毕业，愧对父母。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、贵州一对</a:t>
            </a:r>
            <a:r>
              <a:rPr b="0" lang="en-US" sz="3200" spc="-1" strike="noStrike">
                <a:solidFill>
                  <a:srgbClr val="ffff66"/>
                </a:solidFill>
                <a:latin typeface="华文新魏"/>
              </a:rPr>
              <a:t>16</a:t>
            </a: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岁的孪生姐妹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用老鼠药毒死了父母</a:t>
            </a: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，原因是中考成绩不理想怕被父母责骂。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362320" y="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  <a:ea typeface="隶书"/>
              </a:rPr>
              <a:t>造成悲剧的原因是什么？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4191120" y="5410080"/>
            <a:ext cx="4952880" cy="703440"/>
          </a:xfrm>
          <a:prstGeom prst="rect">
            <a:avLst/>
          </a:prstGeom>
          <a:solidFill>
            <a:srgbClr val="ffffcc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宋体"/>
                <a:ea typeface="宋体"/>
              </a:rPr>
              <a:t>珍惜青春  珍爱生命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91" name="Picture 9" descr="Ar_021"/>
          <p:cNvPicPr/>
          <p:nvPr/>
        </p:nvPicPr>
        <p:blipFill>
          <a:blip r:embed="rId1"/>
          <a:stretch/>
        </p:blipFill>
        <p:spPr>
          <a:xfrm>
            <a:off x="1066680" y="5486400"/>
            <a:ext cx="2438640" cy="5698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1"/>
          <p:cNvSpPr/>
          <p:nvPr/>
        </p:nvSpPr>
        <p:spPr>
          <a:xfrm>
            <a:off x="0" y="-22716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讨论：</a:t>
            </a:r>
            <a:endParaRPr b="0" lang="en-US" sz="6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9280" y="2895480"/>
            <a:ext cx="89647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黑体"/>
              </a:rPr>
              <a:t>考试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是对学习效果的一种必不可少的检测手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黑体"/>
              </a:rPr>
              <a:t>对学生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：通过考试，可以检查学习的效果以及存在的障碍或困难；同时，也应看到考试具有偶然性和局限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黑体"/>
              </a:rPr>
              <a:t>对教师：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通过考试，可以反馈教学存在的不足或问题，检查教学目标达成的程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rw10-1"/>
          <p:cNvPicPr/>
          <p:nvPr/>
        </p:nvPicPr>
        <p:blipFill>
          <a:blip r:embed="rId1"/>
          <a:stretch/>
        </p:blipFill>
        <p:spPr>
          <a:xfrm>
            <a:off x="468360" y="0"/>
            <a:ext cx="4255920" cy="2664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rw1-1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5923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7"/>
          <p:cNvSpPr/>
          <p:nvPr/>
        </p:nvSpPr>
        <p:spPr>
          <a:xfrm>
            <a:off x="3505320" y="6095880"/>
            <a:ext cx="495936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幼圆"/>
                <a:ea typeface="幼圆"/>
              </a:rPr>
              <a:t>要以平常心对待考试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98" name="Picture 8" descr="Ar_021"/>
          <p:cNvPicPr/>
          <p:nvPr/>
        </p:nvPicPr>
        <p:blipFill>
          <a:blip r:embed="rId3"/>
          <a:stretch/>
        </p:blipFill>
        <p:spPr>
          <a:xfrm>
            <a:off x="990720" y="6288120"/>
            <a:ext cx="1904760" cy="569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dur="indefinite" nodeType="afterEffect" fill="hold" presetClass="entr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你认为那些观点有助于积极面对考试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\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正确考试观念有哪些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P133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1680" y="1599840"/>
            <a:ext cx="8842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是学习过程的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重要环节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是督促总结学习收获的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手段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是检查已有学习效果的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尺子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是选拔公平的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标准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具有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偶然性、局限性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不能得出完整评价、不应决定命运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3"/>
          <p:cNvSpPr txBox="1"/>
          <p:nvPr/>
        </p:nvSpPr>
        <p:spPr>
          <a:xfrm>
            <a:off x="2819520" y="304920"/>
            <a:ext cx="4114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829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ffff99"/>
                  </a:solidFill>
                  <a:round/>
                </a:ln>
                <a:gradFill rotWithShape="0">
                  <a:gsLst>
                    <a:gs pos="0">
                      <a:srgbClr val="520402">
                        <a:alpha val="80000"/>
                      </a:srgbClr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自我评价</a:t>
            </a:r>
            <a:endParaRPr b="1" lang="en-US" sz="3600" spc="1" strike="noStrike">
              <a:ln w="12600">
                <a:solidFill>
                  <a:srgbClr val="ffff99"/>
                </a:solidFill>
                <a:round/>
              </a:ln>
              <a:gradFill rotWithShape="0">
                <a:gsLst>
                  <a:gs pos="0">
                    <a:srgbClr val="520402">
                      <a:alpha val="80000"/>
                    </a:srgbClr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181480" y="2362320"/>
            <a:ext cx="2971800" cy="1191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我的学习目标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__________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1447920" y="2362320"/>
            <a:ext cx="2971800" cy="1739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我的现实水平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_________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304" name="Picture 6" descr="t21"/>
          <p:cNvPicPr/>
          <p:nvPr/>
        </p:nvPicPr>
        <p:blipFill>
          <a:blip r:embed="rId1"/>
          <a:stretch/>
        </p:blipFill>
        <p:spPr>
          <a:xfrm>
            <a:off x="769608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t21"/>
          <p:cNvPicPr/>
          <p:nvPr/>
        </p:nvPicPr>
        <p:blipFill>
          <a:blip r:embed="rId2"/>
          <a:stretch/>
        </p:blipFill>
        <p:spPr>
          <a:xfrm>
            <a:off x="304920" y="541008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8"/>
          <p:cNvSpPr/>
          <p:nvPr/>
        </p:nvSpPr>
        <p:spPr>
          <a:xfrm>
            <a:off x="1523880" y="4267080"/>
            <a:ext cx="6400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c00000"/>
                </a:solidFill>
                <a:latin typeface="Arial"/>
              </a:rPr>
              <a:t>家人对我的期望是 </a:t>
            </a:r>
            <a:r>
              <a:rPr b="0" lang="en-US" sz="4200" spc="-1" strike="noStrike">
                <a:solidFill>
                  <a:srgbClr val="c00000"/>
                </a:solidFill>
                <a:latin typeface="华文新魏"/>
              </a:rPr>
              <a:t>______</a:t>
            </a:r>
            <a:endParaRPr b="0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7" name="文本框 8199"/>
          <p:cNvSpPr/>
          <p:nvPr/>
        </p:nvSpPr>
        <p:spPr>
          <a:xfrm>
            <a:off x="965160" y="2027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</a:rPr>
              <a:t>如何增强自身实力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P134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294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拟定具体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复习计划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不轻言放弃任何一科、也不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专攻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某一科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养成有规律的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作息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习惯，保持良好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体力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和充沛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精力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掌握放松情绪的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方法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如何理智面对学习压力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599840"/>
            <a:ext cx="8842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130—13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学习压力新思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133--134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如何从容面对考试压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6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AA2B-17B7-4D44-B10C-C3498FC710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、如何理解学习压力新思维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P130-1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学习压力的影响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1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、缓解学习压力的有效方法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P1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考试焦虑的原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1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如何客观评价考试焦虑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13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正确考试观念有哪些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13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、如何从容面对考试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\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如何克服过度焦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P133—1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如何增强自身实力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13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、如何理智面对学习压力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P130-1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447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理 智 面 对 学 习 压 力</a:t>
            </a:r>
            <a:endParaRPr b="0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0" y="2895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（一）学习压力新思维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r_e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如何理解学习压力新思维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130-132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1523520"/>
            <a:ext cx="8839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、学习生活中总会有压力，感受到压力是</a:t>
            </a:r>
            <a:r>
              <a:rPr b="1" lang="zh-CN" sz="4400" spc="-1" strike="noStrike" u="sng">
                <a:solidFill>
                  <a:srgbClr val="c00000"/>
                </a:solidFill>
                <a:uFillTx/>
                <a:latin typeface="Arial"/>
                <a:ea typeface="楷体_GB2312"/>
              </a:rPr>
              <a:t>正常的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、学习压力给我们带来的影响，既有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楷体_GB2312"/>
              </a:rPr>
              <a:t>积极性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，也有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楷体_GB2312"/>
              </a:rPr>
              <a:t>消极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的一面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、学习压力常常与我们的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楷体_GB2312"/>
              </a:rPr>
              <a:t>内心感受和体验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有关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6"/>
          <p:cNvSpPr/>
          <p:nvPr/>
        </p:nvSpPr>
        <p:spPr>
          <a:xfrm>
            <a:off x="3078000" y="54864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34" name="Picture 3" descr="3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124080" y="2590920"/>
            <a:ext cx="2006640" cy="2263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6"/>
          <p:cNvPicPr/>
          <p:nvPr/>
        </p:nvPicPr>
        <p:blipFill>
          <a:blip r:embed="rId2"/>
          <a:stretch/>
        </p:blipFill>
        <p:spPr>
          <a:xfrm>
            <a:off x="6705720" y="2286000"/>
            <a:ext cx="1908000" cy="223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5"/>
          <p:cNvPicPr/>
          <p:nvPr/>
        </p:nvPicPr>
        <p:blipFill>
          <a:blip r:embed="rId3"/>
          <a:stretch/>
        </p:blipFill>
        <p:spPr>
          <a:xfrm>
            <a:off x="0" y="0"/>
            <a:ext cx="2230560" cy="223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7"/>
          <p:cNvPicPr/>
          <p:nvPr/>
        </p:nvPicPr>
        <p:blipFill>
          <a:blip r:embed="rId4"/>
          <a:stretch/>
        </p:blipFill>
        <p:spPr>
          <a:xfrm>
            <a:off x="3048120" y="0"/>
            <a:ext cx="2305080" cy="2168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11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6629400" y="0"/>
            <a:ext cx="2036880" cy="2232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1"/>
          <p:cNvSpPr/>
          <p:nvPr/>
        </p:nvSpPr>
        <p:spPr>
          <a:xfrm>
            <a:off x="0" y="1523880"/>
            <a:ext cx="1066680" cy="6858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紧张发抖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2514600" y="1752480"/>
            <a:ext cx="2006640" cy="3762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担心、恐惧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7391520" y="4191120"/>
            <a:ext cx="1752480" cy="703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反应迟钝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失去信心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6705720" y="1828800"/>
            <a:ext cx="1066680" cy="3049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兴奋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4343400" y="4114800"/>
            <a:ext cx="1600200" cy="6858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烦躁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坐立不安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4" name="Picture 19" descr="RM_0799"/>
          <p:cNvPicPr/>
          <p:nvPr/>
        </p:nvPicPr>
        <p:blipFill>
          <a:blip r:embed="rId6"/>
          <a:stretch/>
        </p:blipFill>
        <p:spPr>
          <a:xfrm>
            <a:off x="0" y="25909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6"/>
          <p:cNvSpPr/>
          <p:nvPr/>
        </p:nvSpPr>
        <p:spPr>
          <a:xfrm>
            <a:off x="0" y="4419720"/>
            <a:ext cx="1828800" cy="6919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头脑空白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难以思考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AutoShape 25"/>
          <p:cNvSpPr/>
          <p:nvPr/>
        </p:nvSpPr>
        <p:spPr>
          <a:xfrm>
            <a:off x="533520" y="5410080"/>
            <a:ext cx="1676160" cy="1067040"/>
          </a:xfrm>
          <a:prstGeom prst="rightArrow">
            <a:avLst>
              <a:gd name="adj1" fmla="val 47324"/>
              <a:gd name="adj2" fmla="val 6172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AutoShape 27"/>
          <p:cNvSpPr/>
          <p:nvPr/>
        </p:nvSpPr>
        <p:spPr>
          <a:xfrm>
            <a:off x="2209680" y="4952880"/>
            <a:ext cx="6705720" cy="1905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P130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学习生活中总会有压力，感受到压力是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Arial"/>
                <a:ea typeface="楷体_GB2312"/>
              </a:rPr>
              <a:t>正常的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，出现生理、心理反应也是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Arial"/>
                <a:ea typeface="楷体_GB2312"/>
              </a:rPr>
              <a:t>正常的。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pic_222030"/>
          <p:cNvPicPr/>
          <p:nvPr/>
        </p:nvPicPr>
        <p:blipFill>
          <a:blip r:embed="rId1"/>
          <a:stretch/>
        </p:blipFill>
        <p:spPr>
          <a:xfrm>
            <a:off x="304920" y="228600"/>
            <a:ext cx="2438280" cy="2003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pic_222031"/>
          <p:cNvPicPr/>
          <p:nvPr/>
        </p:nvPicPr>
        <p:blipFill>
          <a:blip r:embed="rId2"/>
          <a:stretch/>
        </p:blipFill>
        <p:spPr>
          <a:xfrm>
            <a:off x="3124080" y="0"/>
            <a:ext cx="236232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pic_222032"/>
          <p:cNvPicPr/>
          <p:nvPr/>
        </p:nvPicPr>
        <p:blipFill>
          <a:blip r:embed="rId3"/>
          <a:stretch/>
        </p:blipFill>
        <p:spPr>
          <a:xfrm>
            <a:off x="6172200" y="0"/>
            <a:ext cx="2467080" cy="1924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8"/>
          <p:cNvSpPr/>
          <p:nvPr/>
        </p:nvSpPr>
        <p:spPr>
          <a:xfrm>
            <a:off x="304920" y="2209680"/>
            <a:ext cx="2819160" cy="3200400"/>
          </a:xfrm>
          <a:prstGeom prst="upArrowCallout">
            <a:avLst>
              <a:gd name="adj1" fmla="val 23873"/>
              <a:gd name="adj2" fmla="val 25000"/>
              <a:gd name="adj3" fmla="val 13055"/>
              <a:gd name="adj4" fmla="val 38581"/>
            </a:avLst>
          </a:prstGeom>
          <a:solidFill>
            <a:srgbClr val="ffffff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华文中宋"/>
              </a:rPr>
              <a:t>小晨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Arial"/>
                <a:ea typeface="华文中宋"/>
              </a:rPr>
              <a:t>一脸轻松：</a:t>
            </a:r>
            <a:r>
              <a:rPr b="1" lang="zh-CN" sz="2800" spc="-1" strike="noStrike">
                <a:solidFill>
                  <a:srgbClr val="ffff66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华文中宋"/>
              </a:rPr>
              <a:t>下学期我将到外国读书，再也不用担心考试成绩了！</a:t>
            </a:r>
            <a:r>
              <a:rPr b="1" lang="zh-CN" sz="2800" spc="-1" strike="noStrike">
                <a:solidFill>
                  <a:srgbClr val="ffff66"/>
                </a:solidFill>
                <a:latin typeface="华文中宋"/>
                <a:ea typeface="华文中宋"/>
              </a:rPr>
              <a:t>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AutoShape 19"/>
          <p:cNvSpPr/>
          <p:nvPr/>
        </p:nvSpPr>
        <p:spPr>
          <a:xfrm>
            <a:off x="2971800" y="1981080"/>
            <a:ext cx="2819520" cy="3200400"/>
          </a:xfrm>
          <a:prstGeom prst="upArrowCallout">
            <a:avLst>
              <a:gd name="adj1" fmla="val 23873"/>
              <a:gd name="adj2" fmla="val 25000"/>
              <a:gd name="adj3" fmla="val 13053"/>
              <a:gd name="adj4" fmla="val 38581"/>
            </a:avLst>
          </a:prstGeom>
          <a:solidFill>
            <a:srgbClr val="ffff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华文中宋"/>
              </a:rPr>
              <a:t>小晔学习平时很努力，但每逢</a:t>
            </a:r>
            <a:r>
              <a:rPr b="1" lang="zh-CN" sz="3200" spc="-1" strike="noStrike" u="sng">
                <a:solidFill>
                  <a:srgbClr val="c00000"/>
                </a:solidFill>
                <a:uFillTx/>
                <a:latin typeface="Arial"/>
                <a:ea typeface="华文中宋"/>
              </a:rPr>
              <a:t>考试就紧张，担心考不好。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AutoShape 20"/>
          <p:cNvSpPr/>
          <p:nvPr/>
        </p:nvSpPr>
        <p:spPr>
          <a:xfrm>
            <a:off x="6095880" y="1905120"/>
            <a:ext cx="2819520" cy="3200400"/>
          </a:xfrm>
          <a:prstGeom prst="upArrowCallout">
            <a:avLst>
              <a:gd name="adj1" fmla="val 23873"/>
              <a:gd name="adj2" fmla="val 25000"/>
              <a:gd name="adj3" fmla="val 13053"/>
              <a:gd name="adj4" fmla="val 38581"/>
            </a:avLst>
          </a:prstGeom>
          <a:solidFill>
            <a:srgbClr val="ffff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宋体"/>
              </a:rPr>
              <a:t>小玉喜欢迎接挑战，她</a:t>
            </a:r>
            <a:r>
              <a:rPr b="1" lang="zh-CN" sz="3200" spc="-1" strike="noStrike" u="sng">
                <a:solidFill>
                  <a:srgbClr val="c00000"/>
                </a:solidFill>
                <a:uFillTx/>
                <a:latin typeface="Arial"/>
                <a:ea typeface="宋体"/>
              </a:rPr>
              <a:t>有条不紊地复习，对自己充满信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宋体"/>
              </a:rPr>
              <a:t>心。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0" y="5181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、面对考试的压力三人各持什么态度？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、不同的态度会对考试产生什么影响？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0"/>
            <a:ext cx="914400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、态度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没有压力、不在乎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）过度压力、过于紧张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）适度压力‘既重视，又善于将压力转化为动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、影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）不利于学习进步和成绩的提高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）不利于复习和考试正常发挥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）有利于充分发挥自己的潜能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"/>
          <p:cNvSpPr/>
          <p:nvPr/>
        </p:nvSpPr>
        <p:spPr>
          <a:xfrm>
            <a:off x="5715000" y="1965240"/>
            <a:ext cx="1219320" cy="1478160"/>
          </a:xfrm>
          <a:custGeom>
            <a:avLst/>
            <a:gdLst/>
            <a:ahLst/>
            <a:rect l="l" t="t" r="r" b="b"/>
            <a:pathLst>
              <a:path w="840" h="806">
                <a:moveTo>
                  <a:pt x="0" y="806"/>
                </a:moveTo>
                <a:cubicBezTo>
                  <a:pt x="140" y="429"/>
                  <a:pt x="280" y="52"/>
                  <a:pt x="420" y="26"/>
                </a:cubicBezTo>
                <a:cubicBezTo>
                  <a:pt x="560" y="0"/>
                  <a:pt x="770" y="546"/>
                  <a:pt x="840" y="650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0" y="684000"/>
            <a:ext cx="2209680" cy="520920"/>
          </a:xfrm>
          <a:prstGeom prst="pie">
            <a:avLst/>
          </a:prstGeom>
          <a:solidFill>
            <a:srgbClr val="ff0000"/>
          </a:solidFill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课堂探究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63400" y="1964880"/>
            <a:ext cx="11160" cy="1676520"/>
            <a:chOff x="1463400" y="1964880"/>
            <a:chExt cx="11160" cy="1676520"/>
          </a:xfrm>
        </p:grpSpPr>
        <p:sp>
          <p:nvSpPr>
            <p:cNvPr id="159" name="Line 4"/>
            <p:cNvSpPr/>
            <p:nvPr/>
          </p:nvSpPr>
          <p:spPr>
            <a:xfrm flipH="1" flipV="1">
              <a:off x="1463400" y="1964880"/>
              <a:ext cx="11160" cy="1676520"/>
            </a:xfrm>
            <a:prstGeom prst="line">
              <a:avLst/>
            </a:prstGeom>
            <a:ln w="442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 rot="10800000">
              <a:off x="1463400" y="1964880"/>
              <a:ext cx="1116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474920" y="3641760"/>
            <a:ext cx="2122200" cy="360"/>
            <a:chOff x="1474920" y="3641760"/>
            <a:chExt cx="2122200" cy="360"/>
          </a:xfrm>
        </p:grpSpPr>
        <p:sp>
          <p:nvSpPr>
            <p:cNvPr id="162" name="Line 5"/>
            <p:cNvSpPr/>
            <p:nvPr/>
          </p:nvSpPr>
          <p:spPr>
            <a:xfrm>
              <a:off x="1474920" y="3641760"/>
              <a:ext cx="2122200" cy="0"/>
            </a:xfrm>
            <a:prstGeom prst="line">
              <a:avLst/>
            </a:prstGeom>
            <a:ln w="442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1474920" y="3641760"/>
              <a:ext cx="2122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4" name="Text Box 6"/>
          <p:cNvSpPr/>
          <p:nvPr/>
        </p:nvSpPr>
        <p:spPr>
          <a:xfrm>
            <a:off x="1071720" y="1965240"/>
            <a:ext cx="423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效率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682720" y="3595680"/>
            <a:ext cx="105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压力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463400" y="4022640"/>
            <a:ext cx="11160" cy="1758960"/>
            <a:chOff x="1463400" y="4022640"/>
            <a:chExt cx="11160" cy="1758960"/>
          </a:xfrm>
        </p:grpSpPr>
        <p:sp>
          <p:nvSpPr>
            <p:cNvPr id="167" name="Line 8"/>
            <p:cNvSpPr/>
            <p:nvPr/>
          </p:nvSpPr>
          <p:spPr>
            <a:xfrm flipH="1" flipV="1">
              <a:off x="1463400" y="4022640"/>
              <a:ext cx="11160" cy="1758960"/>
            </a:xfrm>
            <a:prstGeom prst="line">
              <a:avLst/>
            </a:prstGeom>
            <a:ln w="442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1463400" y="4022640"/>
              <a:ext cx="11160" cy="175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474560" y="5775120"/>
            <a:ext cx="2198880" cy="6120"/>
            <a:chOff x="1474560" y="5775120"/>
            <a:chExt cx="2198880" cy="6120"/>
          </a:xfrm>
        </p:grpSpPr>
        <p:sp>
          <p:nvSpPr>
            <p:cNvPr id="170" name="Line 9"/>
            <p:cNvSpPr/>
            <p:nvPr/>
          </p:nvSpPr>
          <p:spPr>
            <a:xfrm flipV="1">
              <a:off x="1474920" y="5775120"/>
              <a:ext cx="2198520" cy="6120"/>
            </a:xfrm>
            <a:prstGeom prst="line">
              <a:avLst/>
            </a:prstGeom>
            <a:ln w="442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 rot="10800000">
              <a:off x="1474560" y="5775120"/>
              <a:ext cx="219852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72" name="Text Box 10"/>
          <p:cNvSpPr/>
          <p:nvPr/>
        </p:nvSpPr>
        <p:spPr>
          <a:xfrm>
            <a:off x="1071720" y="4105440"/>
            <a:ext cx="423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效率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682720" y="5743440"/>
            <a:ext cx="105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压力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266800" y="1964880"/>
            <a:ext cx="11160" cy="1676520"/>
            <a:chOff x="5266800" y="1964880"/>
            <a:chExt cx="11160" cy="1676520"/>
          </a:xfrm>
        </p:grpSpPr>
        <p:sp>
          <p:nvSpPr>
            <p:cNvPr id="175" name="Line 12"/>
            <p:cNvSpPr/>
            <p:nvPr/>
          </p:nvSpPr>
          <p:spPr>
            <a:xfrm flipH="1" flipV="1">
              <a:off x="5266800" y="1964880"/>
              <a:ext cx="11160" cy="1676520"/>
            </a:xfrm>
            <a:prstGeom prst="line">
              <a:avLst/>
            </a:prstGeom>
            <a:ln w="442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 rot="10800000">
              <a:off x="5266800" y="1964880"/>
              <a:ext cx="1116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278320" y="3641760"/>
            <a:ext cx="2198880" cy="360"/>
            <a:chOff x="5278320" y="3641760"/>
            <a:chExt cx="2198880" cy="360"/>
          </a:xfrm>
        </p:grpSpPr>
        <p:sp>
          <p:nvSpPr>
            <p:cNvPr id="178" name="Line 13"/>
            <p:cNvSpPr/>
            <p:nvPr/>
          </p:nvSpPr>
          <p:spPr>
            <a:xfrm>
              <a:off x="5278320" y="3641760"/>
              <a:ext cx="2198880" cy="0"/>
            </a:xfrm>
            <a:prstGeom prst="line">
              <a:avLst/>
            </a:prstGeom>
            <a:ln w="442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5278320" y="3641760"/>
              <a:ext cx="2198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80" name="Text Box 14"/>
          <p:cNvSpPr/>
          <p:nvPr/>
        </p:nvSpPr>
        <p:spPr>
          <a:xfrm>
            <a:off x="4881600" y="1965240"/>
            <a:ext cx="423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效率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6486480" y="36133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压力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266800" y="4022640"/>
            <a:ext cx="11160" cy="1758960"/>
            <a:chOff x="5266800" y="4022640"/>
            <a:chExt cx="11160" cy="1758960"/>
          </a:xfrm>
        </p:grpSpPr>
        <p:sp>
          <p:nvSpPr>
            <p:cNvPr id="183" name="Line 16"/>
            <p:cNvSpPr/>
            <p:nvPr/>
          </p:nvSpPr>
          <p:spPr>
            <a:xfrm flipH="1" flipV="1">
              <a:off x="5266800" y="4022640"/>
              <a:ext cx="11160" cy="1758960"/>
            </a:xfrm>
            <a:prstGeom prst="line">
              <a:avLst/>
            </a:prstGeom>
            <a:ln w="442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0800000">
              <a:off x="5266800" y="4022640"/>
              <a:ext cx="11160" cy="175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278320" y="5775120"/>
            <a:ext cx="2198880" cy="6120"/>
            <a:chOff x="5278320" y="5775120"/>
            <a:chExt cx="2198880" cy="6120"/>
          </a:xfrm>
        </p:grpSpPr>
        <p:sp>
          <p:nvSpPr>
            <p:cNvPr id="186" name="Line 17"/>
            <p:cNvSpPr/>
            <p:nvPr/>
          </p:nvSpPr>
          <p:spPr>
            <a:xfrm flipV="1">
              <a:off x="5278320" y="5775120"/>
              <a:ext cx="2198880" cy="6120"/>
            </a:xfrm>
            <a:prstGeom prst="line">
              <a:avLst/>
            </a:prstGeom>
            <a:ln w="442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 rot="10800000">
              <a:off x="5278320" y="5775120"/>
              <a:ext cx="219888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88" name="Text Box 18"/>
          <p:cNvSpPr/>
          <p:nvPr/>
        </p:nvSpPr>
        <p:spPr>
          <a:xfrm>
            <a:off x="4881600" y="4105440"/>
            <a:ext cx="423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效率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6486480" y="573264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压力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1954080" y="3641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834520" y="3641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1954080" y="577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5910120" y="577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Freeform 24"/>
          <p:cNvSpPr/>
          <p:nvPr/>
        </p:nvSpPr>
        <p:spPr>
          <a:xfrm rot="10800000">
            <a:off x="1692360" y="2049120"/>
            <a:ext cx="1295280" cy="1477800"/>
          </a:xfrm>
          <a:custGeom>
            <a:avLst/>
            <a:gdLst/>
            <a:ahLst/>
            <a:rect l="l" t="t" r="r" b="b"/>
            <a:pathLst>
              <a:path w="840" h="806">
                <a:moveTo>
                  <a:pt x="0" y="806"/>
                </a:moveTo>
                <a:cubicBezTo>
                  <a:pt x="140" y="429"/>
                  <a:pt x="280" y="52"/>
                  <a:pt x="420" y="26"/>
                </a:cubicBezTo>
                <a:cubicBezTo>
                  <a:pt x="560" y="0"/>
                  <a:pt x="770" y="546"/>
                  <a:pt x="840" y="650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" name="Freeform 25"/>
          <p:cNvSpPr/>
          <p:nvPr/>
        </p:nvSpPr>
        <p:spPr>
          <a:xfrm rot="16474800">
            <a:off x="5691240" y="4168440"/>
            <a:ext cx="1158840" cy="1463400"/>
          </a:xfrm>
          <a:custGeom>
            <a:avLst/>
            <a:gdLst/>
            <a:ahLst/>
            <a:rect l="l" t="t" r="r" b="b"/>
            <a:pathLst>
              <a:path w="840" h="806">
                <a:moveTo>
                  <a:pt x="0" y="806"/>
                </a:moveTo>
                <a:cubicBezTo>
                  <a:pt x="140" y="429"/>
                  <a:pt x="280" y="52"/>
                  <a:pt x="420" y="26"/>
                </a:cubicBezTo>
                <a:cubicBezTo>
                  <a:pt x="560" y="0"/>
                  <a:pt x="770" y="546"/>
                  <a:pt x="840" y="650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463760" y="4182840"/>
            <a:ext cx="1752480" cy="1600200"/>
            <a:chOff x="1463760" y="4182840"/>
            <a:chExt cx="1752480" cy="1600200"/>
          </a:xfrm>
        </p:grpSpPr>
        <p:sp>
          <p:nvSpPr>
            <p:cNvPr id="197" name="Line 26"/>
            <p:cNvSpPr/>
            <p:nvPr/>
          </p:nvSpPr>
          <p:spPr>
            <a:xfrm flipV="1">
              <a:off x="1463760" y="4182840"/>
              <a:ext cx="1752480" cy="16002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 rot="10800000">
              <a:off x="1463760" y="4182840"/>
              <a:ext cx="175248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99" name="Text Box 27"/>
          <p:cNvSpPr/>
          <p:nvPr/>
        </p:nvSpPr>
        <p:spPr>
          <a:xfrm>
            <a:off x="2819520" y="609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压力与效率关系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Rectangle 28"/>
          <p:cNvSpPr/>
          <p:nvPr/>
        </p:nvSpPr>
        <p:spPr>
          <a:xfrm>
            <a:off x="7515720" y="1599840"/>
            <a:ext cx="8496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33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4"/>
          <p:cNvSpPr/>
          <p:nvPr/>
        </p:nvSpPr>
        <p:spPr>
          <a:xfrm>
            <a:off x="2514600" y="1676520"/>
            <a:ext cx="5105520" cy="3809880"/>
          </a:xfrm>
          <a:custGeom>
            <a:avLst/>
            <a:gdLst/>
            <a:ahLst/>
            <a:rect l="l" t="t" r="r" b="b"/>
            <a:pathLst>
              <a:path w="840" h="806">
                <a:moveTo>
                  <a:pt x="0" y="806"/>
                </a:moveTo>
                <a:cubicBezTo>
                  <a:pt x="140" y="429"/>
                  <a:pt x="280" y="52"/>
                  <a:pt x="420" y="26"/>
                </a:cubicBezTo>
                <a:cubicBezTo>
                  <a:pt x="560" y="0"/>
                  <a:pt x="770" y="546"/>
                  <a:pt x="840" y="650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99840" y="1600200"/>
            <a:ext cx="28440" cy="4309920"/>
            <a:chOff x="1599840" y="1600200"/>
            <a:chExt cx="28440" cy="4309920"/>
          </a:xfrm>
        </p:grpSpPr>
        <p:sp>
          <p:nvSpPr>
            <p:cNvPr id="204" name="Line 5"/>
            <p:cNvSpPr/>
            <p:nvPr/>
          </p:nvSpPr>
          <p:spPr>
            <a:xfrm flipH="1" flipV="1">
              <a:off x="1599840" y="1600200"/>
              <a:ext cx="28440" cy="4309920"/>
            </a:xfrm>
            <a:prstGeom prst="line">
              <a:avLst/>
            </a:prstGeom>
            <a:ln w="442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 rot="10800000">
              <a:off x="1599840" y="1600200"/>
              <a:ext cx="28440" cy="430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589040" y="5907240"/>
            <a:ext cx="6792840" cy="6120"/>
            <a:chOff x="1589040" y="5907240"/>
            <a:chExt cx="6792840" cy="6120"/>
          </a:xfrm>
        </p:grpSpPr>
        <p:sp>
          <p:nvSpPr>
            <p:cNvPr id="207" name="Line 6"/>
            <p:cNvSpPr/>
            <p:nvPr/>
          </p:nvSpPr>
          <p:spPr>
            <a:xfrm>
              <a:off x="1589040" y="5907240"/>
              <a:ext cx="6792840" cy="6120"/>
            </a:xfrm>
            <a:prstGeom prst="line">
              <a:avLst/>
            </a:prstGeom>
            <a:ln w="442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1589040" y="5907240"/>
              <a:ext cx="67928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09" name="Text Box 7"/>
          <p:cNvSpPr/>
          <p:nvPr/>
        </p:nvSpPr>
        <p:spPr>
          <a:xfrm>
            <a:off x="917640" y="1905120"/>
            <a:ext cx="546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效  率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6248520" y="6095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压  力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192920" y="601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0" y="685440"/>
            <a:ext cx="2209680" cy="520920"/>
          </a:xfrm>
          <a:prstGeom prst="pie">
            <a:avLst/>
          </a:prstGeom>
          <a:solidFill>
            <a:srgbClr val="ff0000"/>
          </a:solidFill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课堂探究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2971800" y="609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压力与效率关系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5:48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47Z</dcterms:modified>
  <cp:revision>8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