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6.png" ContentType="image/png"/>
  <Override PartName="/ppt/media/image5.gif" ContentType="image/gif"/>
  <Override PartName="/ppt/media/image14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334E-F8F4-4B4D-94CA-84C3D829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0840-DDA9-4083-86E5-58450947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64EFE-38D3-435B-BB77-29177DB0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81825-FC08-4162-B99B-41EB8AD7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31F9A-A299-49E7-88A7-85E050C9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D2CCF-A752-4F9A-8EA6-5BDA1812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B2F4F-3260-431C-A596-D2F2579A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F78D8-75F0-496F-836C-0F7FDA48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7C2EB-3346-41DF-8E73-602DBC8D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90D1F-42F1-4D6A-A51A-880F1BA54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544D2-9BA7-4D55-B978-E207A276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CAB97-F16D-4E99-833A-3B40A095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CC2E-9CB5-4125-B1B8-C4C6D20C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3D69D-4993-4D32-AD99-3F57E697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FC2ED-3EB5-41C3-9458-BB62138C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EE640-3F90-43FA-8C03-3D641E27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EB2FF-846B-4EA2-A3AD-9FC0AF78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472DF-C0FD-4F5B-A941-F90105CD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1F41E-E100-4F8E-A523-BE2623B1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55E1F-9963-4826-A83C-295925DB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C1C9F-4F36-482A-9931-88EAC711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2AE03-71F4-4E95-84A1-01E33510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BCC98-E9EE-4562-BAB1-46E88FA5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4F53-DFC0-4BFB-BACE-EEBA00C8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B93D2-A1B1-4BCA-9397-CB2C4480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83CC-75A9-4025-B572-748F8819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3945-C3DC-4C86-8A6D-00CAD128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3C36-12E6-4E79-9BA9-BDA49D1A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2E2B-3732-468B-B999-F4E16FAD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C602-2DD5-4ED4-8C30-45143236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B9E1-5F4D-44F3-AC71-993A08B9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18A0-465E-4FD6-ABE6-C604182D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1E0A-0F4F-44A6-B5E1-F4B34AAA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EA6A-DEB9-459B-A1D8-6A0DDCF5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C070-234F-4B14-9024-995EA4F2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AF4B-326C-4197-941F-723C6D69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7263-84D1-4C19-9C00-D324FF25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1C6D-936F-4BC9-A14B-2B1CBAD1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973D9-91A4-4CA3-A157-02102AF3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0DCA7-AC6B-437D-84B0-9326AB62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00894-3D6B-4052-9746-7AEF2753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CD69C-62BC-4D21-B480-728E4FCA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8FD09-6ECE-4F16-B2DB-AA34663B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4F76-18C1-49EB-94D3-DBB92654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EB3FD-1AFF-46E6-842E-665115F5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2B269-E5B7-4EC2-B05C-D012178E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CC60A-23F3-499C-B8FE-FDBF4195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225D9-3DB8-4017-A618-0AC63F73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B1D63-C9CB-4D84-B636-7DCC39C4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E2079-66B2-4E13-BE74-B8F9B0A3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ABF78-D470-4303-B577-4DDFF4990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6F981-7719-40F1-A549-57F5156E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111EE-2B49-47C8-A4B8-C1A170C1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3B335-9D27-472B-982C-4F8229F6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22F9-20BF-4099-9A43-6B74D5DA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322C0-5887-4C4B-ABCE-DBCE838D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3853E-3A0D-4E5D-891E-1BEF17B1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2F570-4793-409C-8FC8-7DE34E5E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AF9AE-013B-4F50-B6D8-8583A95B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D65E5-31DA-484E-81CB-3D9C665B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2DEDC-BBB7-436D-91F1-4D542570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EE3FF-845E-4B36-A196-7D3846C7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A6A7C-BA07-49FE-B6B6-E852875F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40B3F-398C-4498-A847-E9DCB75D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4B8D6-CBD0-4082-A03B-0BD31B35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ECC1-239E-40ED-B0E4-CA6450E6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3403A-26DB-4761-9D18-AB1B47D3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F71FF-E103-411B-9CD2-39CBFE1B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E890A-C3FC-49AD-80D6-A158C730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E999B-A4A2-472A-8D33-1CA55D7B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72BD0-5442-469B-9737-07A3AB1D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C8323-1E13-4C7C-939F-EB909665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41E71-33B8-4160-8193-371B4A4F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F9FCE-8F33-47D3-B145-E673DB9B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7993F-231B-438C-A4A1-F702C977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04A4E-FE1C-4C79-AA5A-3C0B2E68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461B-2BE8-46D7-8B29-4B14C956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F5FA9-ADBB-4206-8412-9D65B65D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18ABA-4645-496C-8142-22F415CB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F39AA-1328-4F7C-9D7E-191FDEDD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5B524-5E76-49BD-82EE-D325CC77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FC9A0-C10E-4BCA-91B5-435ADAD4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9D3F6-1BDE-43CA-AAE9-822C2A90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F7C14-1417-4DE0-A1A0-46CEA728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6F4A0-5090-44A6-AB53-20C1863E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8C97E-68A8-4A8B-856C-6D05B634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779E9-BEA5-4FBD-A203-7B6C11C9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5488-199F-40BB-BC1C-016B0DF6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A370D-E061-4D68-AF70-B6DEE99C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82F30-487D-4D05-8796-5C632FF0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DFAC7-4789-436F-ACF9-392DB6C1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7D2FC-0CD0-428F-8BF4-D9E2B6DC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33888-3AF0-4F04-BC4C-63358AEF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C5F5C-D5D8-4830-AE1F-609AC918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E1EC2-5935-41AE-BB91-0FD4BC84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109CD-7E26-40AA-8A2F-5264569E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E32A3-6C68-4CC9-949A-87650D2A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9B420-C65C-45E5-AD65-C8EFBBD0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0BEF-9167-4AA9-A3B6-05463FCC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3801C-2C90-4465-BD4A-E33CFF10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F0CB7-9113-430F-859F-7CA07E39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B600B-2BBE-4882-BCFD-1A35E391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0BEAE-27EF-41A9-B72D-7B6002AF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C5833-163A-45B7-A417-3229C030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D337E-AD0F-47B2-8999-CB423C5C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56452-EB54-4486-9DA0-8FF45042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EAB43-3212-44AA-A631-070BA1E2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6214E-D7A7-4F18-BA86-A8E2F912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14EFA-2923-470A-B85F-F842264A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6D5B-126F-438F-AF19-7660798B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1A292-D5A0-4A70-98FA-3E5E55B3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B7503-1477-4EAC-B22A-D15EFCE6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34099-A5D2-4FB3-A422-AE4D4EE3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B365F-D5CA-465E-9C01-A0D1C7F8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4B598-3C87-4678-AF6C-E1D42096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27332-AEF2-4BC8-8299-6ADC21BE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3E00A-31B1-4579-8F8E-33B6BADB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F9B1B-2145-4A0D-9BE5-431DE695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81B22-F7FE-4BC3-B4F2-53045EF8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F25AE-D4C2-4103-A9A7-BE5CED00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E9FF-308B-4173-A17A-D8F48A966BE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981080" y="3962520"/>
            <a:ext cx="6512040" cy="360"/>
            <a:chOff x="1981080" y="3962520"/>
            <a:chExt cx="6512040" cy="360"/>
          </a:xfrm>
        </p:grpSpPr>
        <p:sp>
          <p:nvSpPr>
            <p:cNvPr id="461" name="Line 8"/>
            <p:cNvSpPr/>
            <p:nvPr/>
          </p:nvSpPr>
          <p:spPr>
            <a:xfrm>
              <a:off x="1981080" y="3962520"/>
              <a:ext cx="651204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>
              <a:off x="1981080" y="3962520"/>
              <a:ext cx="6512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64F4-4A46-4C90-BD82-3931DCF4DB86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7DCA-BFDF-40EE-94D6-3C8B470426A3}" type="slidenum">
              <a:rPr b="1" lang="zh-CN" sz="2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7962840" y="152280"/>
            <a:ext cx="360" cy="1524240"/>
            <a:chOff x="7962840" y="152280"/>
            <a:chExt cx="360" cy="1524240"/>
          </a:xfrm>
        </p:grpSpPr>
        <p:sp>
          <p:nvSpPr>
            <p:cNvPr id="90" name="Line 2"/>
            <p:cNvSpPr/>
            <p:nvPr/>
          </p:nvSpPr>
          <p:spPr>
            <a:xfrm>
              <a:off x="7962840" y="152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7962840" y="152280"/>
              <a:ext cx="360" cy="152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2318-583A-43A3-A23C-496FB617F971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99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00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01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02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03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04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05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06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07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08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09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1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11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12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13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1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15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16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17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1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19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20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21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22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23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24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25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26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27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28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6FD9-A97A-4243-8336-81082D20B79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7396-AA94-4274-A04A-2FC59581A46E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57200" y="6172200"/>
            <a:ext cx="8229600" cy="360"/>
            <a:chOff x="457200" y="6172200"/>
            <a:chExt cx="8229600" cy="360"/>
          </a:xfrm>
        </p:grpSpPr>
        <p:sp>
          <p:nvSpPr>
            <p:cNvPr id="213" name="Line 8"/>
            <p:cNvSpPr/>
            <p:nvPr/>
          </p:nvSpPr>
          <p:spPr>
            <a:xfrm>
              <a:off x="457200" y="6172200"/>
              <a:ext cx="822960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457200" y="61722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C710-AB66-464F-9BB6-991E7BA6BAC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9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9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9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9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9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777F-3FE9-4F8C-87F9-F8AA62DF9E4E}" type="slidenum">
              <a:rPr b="1" lang="zh-CN" sz="2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7315200" y="1066680"/>
            <a:ext cx="360" cy="4496040"/>
            <a:chOff x="7315200" y="1066680"/>
            <a:chExt cx="360" cy="4496040"/>
          </a:xfrm>
        </p:grpSpPr>
        <p:sp>
          <p:nvSpPr>
            <p:cNvPr id="340" name="Line 2"/>
            <p:cNvSpPr/>
            <p:nvPr/>
          </p:nvSpPr>
          <p:spPr>
            <a:xfrm>
              <a:off x="7315200" y="1066680"/>
              <a:ext cx="0" cy="44960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7315200" y="1066680"/>
              <a:ext cx="360" cy="449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342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343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44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46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47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48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49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50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51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52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53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54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55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56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57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58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59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60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61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62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63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64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65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66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67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68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69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70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71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72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73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04920" y="2819520"/>
            <a:ext cx="8229600" cy="360"/>
            <a:chOff x="304920" y="2819520"/>
            <a:chExt cx="8229600" cy="360"/>
          </a:xfrm>
        </p:grpSpPr>
        <p:sp>
          <p:nvSpPr>
            <p:cNvPr id="375" name="Line 40"/>
            <p:cNvSpPr/>
            <p:nvPr/>
          </p:nvSpPr>
          <p:spPr>
            <a:xfrm>
              <a:off x="304920" y="2819520"/>
              <a:ext cx="8229600" cy="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304920" y="281952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F55D-7B8F-4863-A101-31E64678EB2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3B94-9DA5-46E7-9D97-8BC79D67D9D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11"/>
          <p:cNvSpPr/>
          <p:nvPr/>
        </p:nvSpPr>
        <p:spPr>
          <a:xfrm>
            <a:off x="971640" y="187308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宋体"/>
              </a:rPr>
              <a:t>来自社会的</a:t>
            </a:r>
            <a:r>
              <a:rPr b="1" lang="zh-CN" sz="4000" spc="-1" strike="noStrike">
                <a:solidFill>
                  <a:srgbClr val="dc3400"/>
                </a:solidFill>
                <a:latin typeface="宋体"/>
                <a:ea typeface="宋体"/>
              </a:rPr>
              <a:t>爱</a:t>
            </a:r>
            <a:r>
              <a:rPr b="1" lang="en-US" sz="4000" spc="-1" strike="noStrike">
                <a:solidFill>
                  <a:srgbClr val="dc34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dc3400"/>
                </a:solidFill>
                <a:latin typeface="宋体"/>
                <a:ea typeface="宋体"/>
              </a:rPr>
              <a:t>课件打包下载</a:t>
            </a:r>
            <a:endParaRPr b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826920" y="80640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义务教育新课标三年级品德与社会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0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cc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39" name="Picture 4" descr="2007824163226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文本框 8196"/>
          <p:cNvSpPr/>
          <p:nvPr/>
        </p:nvSpPr>
        <p:spPr>
          <a:xfrm>
            <a:off x="1281240" y="8031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43" name="Picture 4" descr="制衣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46" name="Picture 4" descr="盖楼"/>
          <p:cNvPicPr/>
          <p:nvPr/>
        </p:nvPicPr>
        <p:blipFill>
          <a:blip r:embed="rId1"/>
          <a:stretch/>
        </p:blipFill>
        <p:spPr>
          <a:xfrm>
            <a:off x="0" y="-15840"/>
            <a:ext cx="9213840" cy="68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为了给我们营造一个好的学习环境和生活环境，社会为我们做了那些事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610920" y="1916280"/>
            <a:ext cx="70167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1a06"/>
                </a:solidFill>
                <a:latin typeface="Times New Roman"/>
              </a:rPr>
              <a:t>在我们的学校和家庭周围看：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20099281019jt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52" name="Picture 4" descr="201006101035296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55" name="Picture 4" descr="33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58" name="Picture 5" descr="20073281011589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4" descr="图片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5"/>
          <p:cNvSpPr/>
          <p:nvPr/>
        </p:nvSpPr>
        <p:spPr>
          <a:xfrm>
            <a:off x="971640" y="1197000"/>
            <a:ext cx="720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任何人不得在中小学、幼儿园、托儿所的教室、寝室、活动室和其他未成年人集中活动的室内抽烟。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d61a06"/>
                </a:solidFill>
                <a:latin typeface="Times New Roman"/>
              </a:rPr>
              <a:t>——</a:t>
            </a:r>
            <a:r>
              <a:rPr b="1" lang="en-US" sz="3200" spc="-1" strike="noStrike">
                <a:solidFill>
                  <a:srgbClr val="d61a06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d61a06"/>
                </a:solidFill>
                <a:latin typeface="Times New Roman"/>
              </a:rPr>
              <a:t>中华人民共和国未成年人          保护法</a:t>
            </a:r>
            <a:r>
              <a:rPr b="1" lang="en-US" sz="3200" spc="-1" strike="noStrike">
                <a:solidFill>
                  <a:srgbClr val="d61a06"/>
                </a:solidFill>
                <a:latin typeface="Times New Roman"/>
              </a:rPr>
              <a:t>》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826920" y="27082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博物馆、纪念馆、科技馆、文化馆、影剧院、体育场（馆）、动物园、公园等场所，应当对中小学生优惠开放。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</a:t>
            </a:r>
            <a:r>
              <a:rPr b="1" lang="en-US" sz="3200" spc="-1" strike="noStrike">
                <a:solidFill>
                  <a:srgbClr val="d61a06"/>
                </a:solidFill>
                <a:latin typeface="Times New Roman"/>
              </a:rPr>
              <a:t>——</a:t>
            </a:r>
            <a:r>
              <a:rPr b="1" lang="en-US" sz="3200" spc="-1" strike="noStrike">
                <a:solidFill>
                  <a:srgbClr val="d61a06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d61a06"/>
                </a:solidFill>
                <a:latin typeface="Times New Roman"/>
                <a:ea typeface="楷体_GB2312"/>
              </a:rPr>
              <a:t>中华人民共和国未成年人保护法</a:t>
            </a:r>
            <a:r>
              <a:rPr b="1" lang="en-US" sz="3200" spc="-1" strike="noStrike">
                <a:solidFill>
                  <a:srgbClr val="d61a06"/>
                </a:solidFill>
                <a:latin typeface="Times New Roman"/>
              </a:rPr>
              <a:t>》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63" name="Picture 3" descr="04"/>
          <p:cNvPicPr/>
          <p:nvPr/>
        </p:nvPicPr>
        <p:blipFill>
          <a:blip r:embed="rId1"/>
          <a:stretch/>
        </p:blipFill>
        <p:spPr>
          <a:xfrm>
            <a:off x="685800" y="1146240"/>
            <a:ext cx="2446200" cy="60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10" name="Picture 4" descr="图片133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r05"/>
          <p:cNvPicPr/>
          <p:nvPr/>
        </p:nvPicPr>
        <p:blipFill>
          <a:blip r:embed="rId2"/>
          <a:stretch/>
        </p:blipFill>
        <p:spPr>
          <a:xfrm>
            <a:off x="0" y="3141720"/>
            <a:ext cx="1868400" cy="338616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 rot="9693600">
            <a:off x="467640" y="1197000"/>
            <a:ext cx="2082600" cy="1130400"/>
          </a:xfrm>
          <a:prstGeom prst="cloudCallout">
            <a:avLst>
              <a:gd name="adj1" fmla="val -87888"/>
              <a:gd name="adj2" fmla="val -173162"/>
            </a:avLst>
          </a:prstGeom>
          <a:solidFill>
            <a:srgbClr val="00cc99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们应该</a:t>
            </a:r>
            <a:endParaRPr b="1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怎么做？</a:t>
            </a:r>
            <a:endParaRPr b="1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13" name="Text Box 7"/>
          <p:cNvSpPr/>
          <p:nvPr/>
        </p:nvSpPr>
        <p:spPr>
          <a:xfrm>
            <a:off x="2050920" y="3284640"/>
            <a:ext cx="62643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理解爱   表达爱   回报爱</a:t>
            </a:r>
            <a:endParaRPr b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04"/>
          <p:cNvPicPr/>
          <p:nvPr/>
        </p:nvPicPr>
        <p:blipFill>
          <a:blip r:embed="rId1"/>
          <a:stretch/>
        </p:blipFill>
        <p:spPr>
          <a:xfrm>
            <a:off x="685800" y="1146240"/>
            <a:ext cx="2446200" cy="60624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3"/>
          <p:cNvSpPr/>
          <p:nvPr/>
        </p:nvSpPr>
        <p:spPr>
          <a:xfrm>
            <a:off x="1187280" y="2276640"/>
            <a:ext cx="720108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　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凡满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周岁的儿童，不分性别、民族、种族，应当入学接受规定年限的义务教育。父母或者其他监护人必须使适龄的子女或者被监护人按时入学。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   </a:t>
            </a:r>
            <a:r>
              <a:rPr b="1" lang="zh-CN" sz="3000" spc="-1" strike="noStrike">
                <a:solidFill>
                  <a:srgbClr val="d61a06"/>
                </a:solidFill>
                <a:latin typeface="Times New Roman"/>
                <a:ea typeface="楷体_GB2312"/>
              </a:rPr>
              <a:t>——</a:t>
            </a:r>
            <a:r>
              <a:rPr b="1" lang="zh-CN" sz="3000" spc="-1" strike="noStrike">
                <a:solidFill>
                  <a:srgbClr val="d61a06"/>
                </a:solidFill>
                <a:latin typeface="Times New Roman"/>
                <a:ea typeface="楷体_GB2312"/>
              </a:rPr>
              <a:t>《中华人民共和国义务教育法》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6" name="文本框 8196"/>
          <p:cNvSpPr/>
          <p:nvPr/>
        </p:nvSpPr>
        <p:spPr>
          <a:xfrm>
            <a:off x="1187280" y="175248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7e9ce8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10"/>
          <p:cNvSpPr/>
          <p:nvPr/>
        </p:nvSpPr>
        <p:spPr>
          <a:xfrm>
            <a:off x="971640" y="2133720"/>
            <a:ext cx="76327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父母与子女之间的关系，不因父母离婚而消除。离婚后，子女无论由父或母直接抚养，仍是父母双方的子女。父母对子女仍有抚养和教育的权利和义务。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             </a:t>
            </a:r>
            <a:r>
              <a:rPr b="1" lang="zh-CN" sz="3200" spc="-1" strike="noStrike">
                <a:solidFill>
                  <a:srgbClr val="d61a06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d61a06"/>
                </a:solidFill>
                <a:latin typeface="Times New Roman"/>
                <a:ea typeface="楷体_GB2312"/>
              </a:rPr>
              <a:t>《中华人民共和国婚姻法》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68" name="Picture 13" descr="03"/>
          <p:cNvPicPr/>
          <p:nvPr/>
        </p:nvPicPr>
        <p:blipFill>
          <a:blip r:embed="rId1"/>
          <a:stretch/>
        </p:blipFill>
        <p:spPr>
          <a:xfrm>
            <a:off x="539640" y="1125360"/>
            <a:ext cx="2422800" cy="64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70" name="Picture 4" descr="xin_1030106200812843427310"/>
          <p:cNvPicPr/>
          <p:nvPr/>
        </p:nvPicPr>
        <p:blipFill>
          <a:blip r:embed="rId1"/>
          <a:stretch/>
        </p:blipFill>
        <p:spPr>
          <a:xfrm>
            <a:off x="-1476360" y="0"/>
            <a:ext cx="12276000" cy="70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8EBC-F8A8-4CFB-9263-5EEF5183821F}" type="slidenum"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195640" y="1196640"/>
            <a:ext cx="579600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爱的奉献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400"/>
            </a:br>
            <a:br>
              <a:rPr sz="1800"/>
            </a:b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这是心的呼唤 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这是爱的奉献 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这是人间的春风 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幸福之花处处开遍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只要人人都献出一点爱 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世界将变成美好的人间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577" name="群星-爱的奉献.mp3" descr=""/>
          <p:cNvPicPr/>
          <p:nvPr/>
        </p:nvPicPr>
        <p:blipFill>
          <a:blip r:embed="rId2"/>
          <a:stretch/>
        </p:blipFill>
        <p:spPr>
          <a:xfrm>
            <a:off x="7451640" y="551664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218802" fill="hold"/>
                                        <p:tgtEl>
                                          <p:spTgt spid="5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6" descr="20120601154907786"/>
          <p:cNvPicPr/>
          <p:nvPr/>
        </p:nvPicPr>
        <p:blipFill>
          <a:blip r:embed="rId1"/>
          <a:stretch/>
        </p:blipFill>
        <p:spPr>
          <a:xfrm>
            <a:off x="826920" y="189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7"/>
          <p:cNvSpPr/>
          <p:nvPr/>
        </p:nvSpPr>
        <p:spPr>
          <a:xfrm>
            <a:off x="4480920" y="6040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学校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18" name="Picture 4" descr="医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5"/>
          <p:cNvSpPr/>
          <p:nvPr/>
        </p:nvSpPr>
        <p:spPr>
          <a:xfrm>
            <a:off x="4212720" y="508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医院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0" name="文本框 8196"/>
          <p:cNvSpPr/>
          <p:nvPr/>
        </p:nvSpPr>
        <p:spPr>
          <a:xfrm>
            <a:off x="1351080" y="63072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23" name="Picture 4" descr="鹅鹅鹅"/>
          <p:cNvPicPr/>
          <p:nvPr/>
        </p:nvPicPr>
        <p:blipFill>
          <a:blip r:embed="rId1"/>
          <a:stretch/>
        </p:blipFill>
        <p:spPr>
          <a:xfrm>
            <a:off x="0" y="0"/>
            <a:ext cx="9264600" cy="694836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6"/>
          <p:cNvSpPr/>
          <p:nvPr/>
        </p:nvSpPr>
        <p:spPr>
          <a:xfrm>
            <a:off x="4356000" y="522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超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27" name="Picture 5" descr="300000602809126690823473058_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6"/>
          <p:cNvSpPr/>
          <p:nvPr/>
        </p:nvSpPr>
        <p:spPr>
          <a:xfrm>
            <a:off x="2627280" y="5877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游乐场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3" descr="图片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" descr="03"/>
          <p:cNvPicPr/>
          <p:nvPr/>
        </p:nvPicPr>
        <p:blipFill>
          <a:blip r:embed="rId2"/>
          <a:stretch/>
        </p:blipFill>
        <p:spPr>
          <a:xfrm>
            <a:off x="684360" y="765000"/>
            <a:ext cx="2422440" cy="64008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1371600" y="2276640"/>
            <a:ext cx="665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说一说：社会为我们做了些什么？</a:t>
            </a:r>
            <a:endParaRPr b="1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2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2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0" y="981000"/>
            <a:ext cx="2952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议一议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755640" y="177336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在日常生活中，说说自己从哪里感受到来自社会的爱。</a:t>
            </a:r>
            <a:endParaRPr b="1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7" descr="17214408"/>
          <p:cNvPicPr/>
          <p:nvPr/>
        </p:nvPicPr>
        <p:blipFill>
          <a:blip r:embed="rId1"/>
          <a:stretch/>
        </p:blipFill>
        <p:spPr>
          <a:xfrm>
            <a:off x="0" y="189000"/>
            <a:ext cx="9109080" cy="666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1T08:49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3:47Z</dcterms:modified>
  <cp:revision>8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