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chimes.wav" ContentType="audio/x-wav"/>
  <Override PartName="/ppt/media/image6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type.wav" ContentType="audio/x-wav"/>
  <Override PartName="/ppt/media/drumroll.wav" ContentType="audio/x-wav"/>
  <Override PartName="/ppt/media/image7.jpeg" ContentType="image/jpeg"/>
  <Override PartName="/ppt/media/image9.wmf" ContentType="image/x-wmf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E18B-211B-40A2-9F80-82FD62BC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3EF1-523B-481F-BA97-515C3F61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D4871-E200-4D9E-B09F-7897A2D1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BB048-07DA-4966-AF6E-D1604048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BD72F-61E2-45DA-9ADE-24001C8E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43D81-8F2F-49A3-A7D1-3B2C28C2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B432C-2AE9-4CEB-94C9-8ABEA13F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CCB8C-1B23-439F-8BF7-A08D0BC0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E8E8D-B3DB-4CB4-8F4C-C4E276E5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F356E-18BE-4524-9F2C-FA3B129B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AA091-FAE2-41D0-B85C-17E5D2C2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28A47-435A-45B4-B6D4-DA1DA4D7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B442-65F6-4CA8-8A32-F63378E0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E1E7A-AEB8-476F-BD2D-340FB079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29126-7BB5-4AB0-AF5B-AC597DAA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3A4AB-2779-4475-ADBD-E26E7905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24832-0D46-440D-8490-88C56135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7968E-2494-4525-B531-BA2367C1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BE605-B711-453D-B78F-5842791D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5950D-4934-41CD-A762-DBE1D0CB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F85B6-8714-4309-90CE-ECD7CD8C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C66CF-8EF6-42F9-959D-962D0B3B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E6DEB-CDDA-4DFC-BDA4-EDE23396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4FD-0D4C-4EE9-BED5-564BCF5F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8D16B-1590-4167-A73E-88DB1DDF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183C-7304-4EEF-9A55-828F6418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4515-1F8C-4F32-84EC-67C9CDB5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AA1D-DAA3-4B15-AB95-799367F5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740C-54CD-482D-954A-6DB879C9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8430-348E-4A14-9816-EA500F7C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2292-B4F7-427F-A654-6268A749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B749-A042-4E7B-8864-E4F0189B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239-7835-4E28-AE67-422AF0CF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73A7-1923-404A-94A5-4B1CC4BE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7712-DB62-4B6D-8083-6951F607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CCC9-B6EB-4215-9BAD-7175218B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5CF1-C3CD-47B0-96A9-A8CD4370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7DDE-EF64-42B9-965C-BC5A4E48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B9186-278C-4D68-8801-CF3F0850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C3FEC-C0BF-4A9A-88B1-D754607E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73E9F-DA2C-451D-86B2-BB06DF1E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F92D0-598D-483C-A650-ED07AF4A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954ED-7E03-4D62-93CD-3DC82085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6EB9-72B4-44BD-8520-2A9DE308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2B7F8-5EDB-46C0-A7F7-39BD1B9F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46192-1D9B-4940-8753-243C5BBF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10310-E19A-4C81-9176-B4A1B261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C0AD-6303-4002-8DA3-86682DFE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72E2C-4812-414B-96B1-DB2BA3F2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11D84-ED5C-4EA8-9065-19F85056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91086-91E6-4627-9C1D-7FC3D02E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4E45D-C758-4A5C-A662-9F0B6173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C0576-7492-46C4-A479-F95DB06A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0DDBD-436B-4D18-A2BE-1F36A3F6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1002-8073-49F0-9754-29DF1CD8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70502-553E-4271-A3CA-6A5F5D17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8B2C2-4925-4AF8-A026-0C6942EF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5CE2B-2421-46C5-B53C-CE32E958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63760-3F84-4EF1-B2E0-3E14DD12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67845-D58C-4EDA-A3DB-7183B588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45A52-C7C2-4971-B2E5-4D74DAD1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1CF7E-DAE0-46C4-B792-A07B77EF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9CD7F-6B84-48D5-A063-5A871A0D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8FE38-7919-4BA1-917E-6220DAC3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304A6-2B9B-462C-BE90-64AAC489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855E-5787-461B-90A1-B1AF5E28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16263-4F2E-4983-99EF-8046DCAA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460D9-8A3C-4002-81F3-8C9879C5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09D9B-21BF-4A23-A88D-F6A78D86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B0844-4D6F-44FE-870A-92562B76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2E76D-D687-4669-BA7F-D51BC28C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748A8-3355-44EB-8E2A-59A56F4B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439C6-0993-4968-BACF-D081B64D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DCFC9-B282-4523-B452-4BC686AA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3458B-5AE1-49A1-8AC9-2A9E148A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96E7C-CE07-4844-897F-2D000837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9550-1F38-4B12-BCEB-CE9F66F1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703EF-8881-404F-9B5B-7A294D40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D50F5-069B-4CED-A663-74537964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8F4C5-28F1-4A08-A7A6-5BE2EB21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B5915-F33A-4A60-BD90-9675416F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C62D3-B16F-4853-BF6B-94D2024D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DCDFA-4B58-4691-BBAF-CD678BBE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744C4-A5A9-42FB-B1DB-DA923EFC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B6F02-615C-49B4-91F7-CE519D6B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FBF7D-CD18-499C-8EFE-2A070B88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F2411-B3CF-47B4-A8C9-40A7D841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E8D1-2697-4A8F-AAF5-D521E33F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008BE-D4A4-4EB6-AE81-EB68737B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641BF-09B3-4712-A997-8EF8B401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CF871-A1F8-407D-AC16-47CF423C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F0985-067B-491F-A336-537D3955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25909-87BC-4D6C-8671-B5EED992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8C35D-B4CC-4587-BE77-14E98C74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10F45-0F8A-4C27-B1FE-4E2006D3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399BA-C895-4D76-854B-A2A09991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593D6-C255-48AC-AE82-F002951F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A87C5-100D-4F91-9398-7409EC9F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75B-A4E7-4E0C-A8A8-2C3C0621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04F2E-C746-4A98-AAD3-64F38EC7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14A76-0EAB-404E-85C9-7EA6A868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CE362-DDA8-4BE0-80D0-8333DE0B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55BF7-2EB2-4B67-BB4B-BA3458A2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8F0C9-B666-432A-A91D-03633C1B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D3DC0-EB8F-4D87-A222-D69D0485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7D91E-EE83-4B9A-B1C8-7E24292B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14C87-C1EA-412E-BD57-91FB38FA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9FA48-33C8-4ECA-923C-5B8B9520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E930A-1EC7-4E8B-8146-8F16443A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793-74FC-4786-9556-2F8EFD6D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5AEA5-CF25-4F22-9F87-0D80E750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6AB8B-F97B-48EF-8CF2-83B0E0DC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D3CAE-BECA-4351-93BE-E6C0D855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7CDF0-C586-45E5-A914-FAB115CC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510F1-47D8-4530-B656-3410F0FD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1F59A-5B0E-43B3-8C5D-601D6B59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54D29-2132-4279-BB2B-413683E5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4C362-2480-4B49-B7B3-037AD7F6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1B8BC-D32E-4F6D-BDCB-EB6D172E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558E4-4DE3-4E30-A8E0-05B86A60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EBF7-ACFE-404C-8368-03E312B9CA0A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6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7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6683-7030-4D22-BE5D-D376C07072BB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C397-6C91-40E8-A903-B94614B2E9C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直接连接符 12" descr=""/>
          <p:cNvPicPr/>
          <p:nvPr/>
        </p:nvPicPr>
        <p:blipFill>
          <a:blip r:embed="rId3"/>
          <a:stretch/>
        </p:blipFill>
        <p:spPr>
          <a:xfrm>
            <a:off x="514440" y="534528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E834-A1F9-4947-9B17-B9A04755D3E4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128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129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3073-35E1-49A4-89A0-ED86353209E6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直接连接符 12" descr=""/>
          <p:cNvPicPr/>
          <p:nvPr/>
        </p:nvPicPr>
        <p:blipFill>
          <a:blip r:embed="rId3"/>
          <a:stretch/>
        </p:blipFill>
        <p:spPr>
          <a:xfrm>
            <a:off x="514440" y="3440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CF28-61FC-429B-8C2E-454FAF828003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直接连接符 12" descr=""/>
          <p:cNvPicPr/>
          <p:nvPr/>
        </p:nvPicPr>
        <p:blipFill>
          <a:blip r:embed="rId3"/>
          <a:stretch/>
        </p:blipFill>
        <p:spPr>
          <a:xfrm>
            <a:off x="514440" y="6014880"/>
            <a:ext cx="8629560" cy="279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D582-E26F-4C55-875E-8DDD05BDDB00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97BF-82A9-4EDE-86CC-10E862FFECFE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直接连接符 12" descr=""/>
          <p:cNvPicPr/>
          <p:nvPr/>
        </p:nvPicPr>
        <p:blipFill>
          <a:blip r:embed="rId3"/>
          <a:stretch/>
        </p:blipFill>
        <p:spPr>
          <a:xfrm>
            <a:off x="514440" y="5843520"/>
            <a:ext cx="8629560" cy="2811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487A-5B9F-4A4A-B628-57D067AA8CA0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9CE3-C726-4A68-BC72-AE62E0EEFDA8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C:\Documents and Settings\jxz\桌面\美苏争霸\米格-15追逐F-8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矩形 2"/>
          <p:cNvSpPr/>
          <p:nvPr/>
        </p:nvSpPr>
        <p:spPr>
          <a:xfrm>
            <a:off x="1373760" y="2435400"/>
            <a:ext cx="596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第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宋体"/>
              </a:rPr>
              <a:t>14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课 冷战中的对峙课件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3"/>
          <p:cNvSpPr/>
          <p:nvPr/>
        </p:nvSpPr>
        <p:spPr>
          <a:xfrm>
            <a:off x="530280" y="549360"/>
            <a:ext cx="51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七单元  战后世界格局的演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3"/>
          <p:cNvSpPr/>
          <p:nvPr/>
        </p:nvSpPr>
        <p:spPr>
          <a:xfrm>
            <a:off x="2622960" y="15228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看一看，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214200" y="3143160"/>
            <a:ext cx="78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</a:t>
            </a:r>
            <a:r>
              <a:rPr b="1" lang="en-US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、根据材料，结合教材，回答：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马歇尔计划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的影响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5"/>
          <p:cNvGrpSpPr/>
          <p:nvPr/>
        </p:nvGrpSpPr>
        <p:grpSpPr>
          <a:xfrm>
            <a:off x="1928880" y="4500720"/>
            <a:ext cx="6781680" cy="2209680"/>
            <a:chOff x="1928880" y="4500720"/>
            <a:chExt cx="6781680" cy="2209680"/>
          </a:xfrm>
        </p:grpSpPr>
        <p:sp>
          <p:nvSpPr>
            <p:cNvPr id="460" name="AutoShape 6"/>
            <p:cNvSpPr/>
            <p:nvPr/>
          </p:nvSpPr>
          <p:spPr>
            <a:xfrm>
              <a:off x="1928880" y="4500720"/>
              <a:ext cx="6781680" cy="2209680"/>
            </a:xfrm>
            <a:prstGeom prst="horizontalScroll">
              <a:avLst>
                <a:gd name="adj" fmla="val 12500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7"/>
            <p:cNvSpPr/>
            <p:nvPr/>
          </p:nvSpPr>
          <p:spPr>
            <a:xfrm>
              <a:off x="3605760" y="5110200"/>
              <a:ext cx="4021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积极影响：西欧各国经济得到迅速恢复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消极影响：西欧被美国控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2"/>
          <p:cNvSpPr/>
          <p:nvPr/>
        </p:nvSpPr>
        <p:spPr>
          <a:xfrm>
            <a:off x="136440" y="919080"/>
            <a:ext cx="879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材料一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94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年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9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年，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个国家接受了美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多亿美元的援助，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是赠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是贷款。因此丘吉尔把“马歇尔计划”称为“人类历史上最慷慨的举动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材料二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我们每接受一笔贷款，我们的独立便减少一分。”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法国总理皮拉尔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14" descr="华约与北约的对峙"/>
          <p:cNvPicPr/>
          <p:nvPr/>
        </p:nvPicPr>
        <p:blipFill>
          <a:blip r:embed="rId1"/>
          <a:stretch/>
        </p:blipFill>
        <p:spPr>
          <a:xfrm>
            <a:off x="838080" y="0"/>
            <a:ext cx="681192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TextBox 3"/>
          <p:cNvSpPr/>
          <p:nvPr/>
        </p:nvSpPr>
        <p:spPr>
          <a:xfrm>
            <a:off x="7122960" y="571680"/>
            <a:ext cx="1521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Franklin Gothic Book"/>
              </a:rPr>
              <a:t>两大军事集团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3886200" y="2532600"/>
            <a:ext cx="1646280" cy="7642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 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3"/>
          <p:cNvGrpSpPr/>
          <p:nvPr/>
        </p:nvGrpSpPr>
        <p:grpSpPr>
          <a:xfrm>
            <a:off x="1143000" y="5181480"/>
            <a:ext cx="7238880" cy="1067040"/>
            <a:chOff x="1143000" y="5181480"/>
            <a:chExt cx="7238880" cy="1067040"/>
          </a:xfrm>
        </p:grpSpPr>
        <p:sp>
          <p:nvSpPr>
            <p:cNvPr id="467" name="Oval 4"/>
            <p:cNvSpPr/>
            <p:nvPr/>
          </p:nvSpPr>
          <p:spPr>
            <a:xfrm>
              <a:off x="1143000" y="5181480"/>
              <a:ext cx="1676520" cy="9907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苏联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5"/>
            <p:cNvSpPr/>
            <p:nvPr/>
          </p:nvSpPr>
          <p:spPr>
            <a:xfrm>
              <a:off x="6553080" y="5181480"/>
              <a:ext cx="1828800" cy="106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美国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6"/>
          <p:cNvGrpSpPr/>
          <p:nvPr/>
        </p:nvGrpSpPr>
        <p:grpSpPr>
          <a:xfrm>
            <a:off x="3657240" y="3429000"/>
            <a:ext cx="1981080" cy="3124080"/>
            <a:chOff x="3657240" y="3429000"/>
            <a:chExt cx="1981080" cy="3124080"/>
          </a:xfrm>
        </p:grpSpPr>
        <p:sp>
          <p:nvSpPr>
            <p:cNvPr id="470" name="AutoShape 7"/>
            <p:cNvSpPr/>
            <p:nvPr/>
          </p:nvSpPr>
          <p:spPr>
            <a:xfrm rot="5400000">
              <a:off x="3085560" y="4000320"/>
              <a:ext cx="3124080" cy="1981080"/>
            </a:xfrm>
            <a:prstGeom prst="rightArrow">
              <a:avLst>
                <a:gd name="adj1" fmla="val 50000"/>
                <a:gd name="adj2" fmla="val 3940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8"/>
            <p:cNvSpPr/>
            <p:nvPr/>
          </p:nvSpPr>
          <p:spPr>
            <a:xfrm>
              <a:off x="3660480" y="3581280"/>
              <a:ext cx="152100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争霸开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9"/>
          <p:cNvGrpSpPr/>
          <p:nvPr/>
        </p:nvGrpSpPr>
        <p:grpSpPr>
          <a:xfrm>
            <a:off x="6019920" y="549360"/>
            <a:ext cx="2209680" cy="5019840"/>
            <a:chOff x="6019920" y="549360"/>
            <a:chExt cx="2209680" cy="5019840"/>
          </a:xfrm>
        </p:grpSpPr>
        <p:sp>
          <p:nvSpPr>
            <p:cNvPr id="473" name="AutoShape 10"/>
            <p:cNvSpPr/>
            <p:nvPr/>
          </p:nvSpPr>
          <p:spPr>
            <a:xfrm rot="16200000">
              <a:off x="5333760" y="1980720"/>
              <a:ext cx="3581640" cy="2209680"/>
            </a:xfrm>
            <a:prstGeom prst="upArrowCallout">
              <a:avLst>
                <a:gd name="adj1" fmla="val 40526"/>
                <a:gd name="adj2" fmla="val 40522"/>
                <a:gd name="adj3" fmla="val 16657"/>
                <a:gd name="adj4" fmla="val 66660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1"/>
            <p:cNvSpPr/>
            <p:nvPr/>
          </p:nvSpPr>
          <p:spPr>
            <a:xfrm>
              <a:off x="6830280" y="1295280"/>
              <a:ext cx="1399320" cy="35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资本主义阵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2"/>
            <p:cNvSpPr/>
            <p:nvPr/>
          </p:nvSpPr>
          <p:spPr>
            <a:xfrm>
              <a:off x="6853680" y="549360"/>
              <a:ext cx="667800" cy="50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北大西洋公约组织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13"/>
          <p:cNvGrpSpPr/>
          <p:nvPr/>
        </p:nvGrpSpPr>
        <p:grpSpPr>
          <a:xfrm>
            <a:off x="1219320" y="901440"/>
            <a:ext cx="2286000" cy="4245840"/>
            <a:chOff x="1219320" y="901440"/>
            <a:chExt cx="2286000" cy="4245840"/>
          </a:xfrm>
        </p:grpSpPr>
        <p:sp>
          <p:nvSpPr>
            <p:cNvPr id="477" name="AutoShape 14"/>
            <p:cNvSpPr/>
            <p:nvPr/>
          </p:nvSpPr>
          <p:spPr>
            <a:xfrm rot="16200000">
              <a:off x="571320" y="1942560"/>
              <a:ext cx="3581640" cy="2286000"/>
            </a:xfrm>
            <a:prstGeom prst="downArrowCallout">
              <a:avLst>
                <a:gd name="adj1" fmla="val 39173"/>
                <a:gd name="adj2" fmla="val 39169"/>
                <a:gd name="adj3" fmla="val 16657"/>
                <a:gd name="adj4" fmla="val 66667"/>
              </a:avLst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5"/>
            <p:cNvSpPr/>
            <p:nvPr/>
          </p:nvSpPr>
          <p:spPr>
            <a:xfrm>
              <a:off x="1985040" y="1139040"/>
              <a:ext cx="667800" cy="39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（华沙条约组织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6"/>
            <p:cNvSpPr/>
            <p:nvPr/>
          </p:nvSpPr>
          <p:spPr>
            <a:xfrm>
              <a:off x="1223280" y="901440"/>
              <a:ext cx="789840" cy="42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社会主义阵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矩形 3"/>
          <p:cNvSpPr/>
          <p:nvPr/>
        </p:nvSpPr>
        <p:spPr>
          <a:xfrm>
            <a:off x="2566800" y="28584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Franklin Gothic Book"/>
                <a:ea typeface="华文行楷"/>
              </a:rPr>
              <a:t>二、美苏争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4"/>
          <p:cNvSpPr/>
          <p:nvPr/>
        </p:nvSpPr>
        <p:spPr>
          <a:xfrm>
            <a:off x="4143240" y="228600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5"/>
          <p:cNvSpPr/>
          <p:nvPr/>
        </p:nvSpPr>
        <p:spPr>
          <a:xfrm>
            <a:off x="642960" y="6143760"/>
            <a:ext cx="52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美苏争霸是怎样开始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6" descr="美国野牛"/>
          <p:cNvPicPr/>
          <p:nvPr/>
        </p:nvPicPr>
        <p:blipFill>
          <a:blip r:embed="rId1"/>
          <a:stretch/>
        </p:blipFill>
        <p:spPr>
          <a:xfrm>
            <a:off x="5143680" y="1143000"/>
            <a:ext cx="2571480" cy="32180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  <p:pic>
        <p:nvPicPr>
          <p:cNvPr id="484" name="Picture 5" descr="俄国熊"/>
          <p:cNvPicPr/>
          <p:nvPr/>
        </p:nvPicPr>
        <p:blipFill>
          <a:blip r:embed="rId2"/>
          <a:stretch/>
        </p:blipFill>
        <p:spPr>
          <a:xfrm>
            <a:off x="1071720" y="1214280"/>
            <a:ext cx="3000240" cy="320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85" name="Rectangle 4"/>
          <p:cNvSpPr/>
          <p:nvPr/>
        </p:nvSpPr>
        <p:spPr>
          <a:xfrm>
            <a:off x="214200" y="4643280"/>
            <a:ext cx="86742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书体坊郭小语钢笔楷体"/>
                <a:ea typeface="书体坊郭小语钢笔楷体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书体坊郭小语钢笔楷体"/>
                <a:ea typeface="书体坊郭小语钢笔楷体"/>
              </a:rPr>
              <a:t>二战中，英国首相丘吉尔曾对英美苏的力量对比作过一个形象的描绘：“我的一边坐着巨大的俄国熊，另一边是巨大的北美野牛，中间坐着的是一头可怜的英国小毛驴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304920" y="304920"/>
            <a:ext cx="3047760" cy="1068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二、美苏争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04920" y="1371600"/>
          <a:ext cx="8001000" cy="500688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  <a:gridCol w="1295280"/>
                <a:gridCol w="1219320"/>
                <a:gridCol w="1447560"/>
                <a:gridCol w="1905120"/>
              </a:tblGrid>
              <a:tr h="76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阶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特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主要事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美国领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苏联领导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6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五六十年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开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4e3b30"/>
                          </a:solidFill>
                          <a:uFillTx/>
                          <a:latin typeface="Franklin Gothic Book"/>
                          <a:ea typeface="华文楷体"/>
                        </a:rPr>
                        <a:t>       </a:t>
                      </a:r>
                      <a:r>
                        <a:rPr b="1" lang="en-US" sz="2000" spc="-1" strike="noStrike" u="sng">
                          <a:solidFill>
                            <a:srgbClr val="4e3b30"/>
                          </a:solidFill>
                          <a:uFillTx/>
                          <a:latin typeface="Franklin Gothic Book"/>
                          <a:ea typeface="华文楷体"/>
                        </a:rPr>
                        <a:t>.</a:t>
                      </a:r>
                      <a:r>
                        <a:rPr b="1" lang="zh-CN" sz="2000" spc="-1" strike="noStrike" u="sng">
                          <a:solidFill>
                            <a:srgbClr val="4e3b30"/>
                          </a:solidFill>
                          <a:uFillTx/>
                          <a:latin typeface="Franklin Gothic Book"/>
                          <a:ea typeface="华文楷体"/>
                        </a:rPr>
                        <a:t>  </a:t>
                      </a:r>
                      <a:r>
                        <a:rPr b="1" lang="en-US" sz="2000" spc="-1" strike="noStrike" u="sng">
                          <a:solidFill>
                            <a:srgbClr val="4e3b30"/>
                          </a:solidFill>
                          <a:uFillTx/>
                          <a:latin typeface="Franklin Gothic Book"/>
                          <a:ea typeface="华文楷体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占优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4e3b30"/>
                          </a:solidFill>
                          <a:uFillTx/>
                          <a:latin typeface="Franklin Gothic Book"/>
                          <a:ea typeface="华文楷体"/>
                        </a:rPr>
                        <a:t>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5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5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缓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双方</a:t>
                      </a:r>
                      <a:r>
                        <a:rPr b="1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4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8" name="Text Box 47"/>
          <p:cNvSpPr/>
          <p:nvPr/>
        </p:nvSpPr>
        <p:spPr>
          <a:xfrm>
            <a:off x="304920" y="388620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304920" y="3267000"/>
          <a:ext cx="6095880" cy="100656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  <a:gridCol w="1295280"/>
                <a:gridCol w="1219320"/>
                <a:gridCol w="144756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7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年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高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Franklin Gothic Book"/>
                          <a:ea typeface="华文楷体"/>
                        </a:rPr>
                        <a:t>苏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攻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Franklin Gothic Book"/>
                          <a:ea typeface="华文楷体"/>
                        </a:rPr>
                        <a:t>美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苏联出兵阿富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304920" y="4267080"/>
          <a:ext cx="6095880" cy="101592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  <a:gridCol w="1295280"/>
                <a:gridCol w="1219320"/>
                <a:gridCol w="1447560"/>
              </a:tblGrid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年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缓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4e3b30"/>
                          </a:solidFill>
                          <a:uFillTx/>
                          <a:latin typeface="Franklin Gothic Book"/>
                          <a:ea typeface="华文楷体"/>
                        </a:rPr>
                        <a:t>双方缓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苏联从阿富汗撤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    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91" name="Text Box 77"/>
          <p:cNvSpPr/>
          <p:nvPr/>
        </p:nvSpPr>
        <p:spPr>
          <a:xfrm>
            <a:off x="304920" y="5257800"/>
            <a:ext cx="46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78"/>
          <p:cNvSpPr/>
          <p:nvPr/>
        </p:nvSpPr>
        <p:spPr>
          <a:xfrm>
            <a:off x="304920" y="556272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91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    结束       争霸结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2"/>
          <p:cNvSpPr/>
          <p:nvPr/>
        </p:nvSpPr>
        <p:spPr>
          <a:xfrm>
            <a:off x="3429000" y="3571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阅读课文第二目，完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Object 79" descr=""/>
          <p:cNvPicPr/>
          <p:nvPr/>
        </p:nvPicPr>
        <p:blipFill>
          <a:blip r:embed="rId1"/>
          <a:stretch/>
        </p:blipFill>
        <p:spPr>
          <a:xfrm>
            <a:off x="6634080" y="5486400"/>
            <a:ext cx="2509920" cy="137160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8198"/>
          <p:cNvSpPr/>
          <p:nvPr/>
        </p:nvSpPr>
        <p:spPr>
          <a:xfrm>
            <a:off x="3543480" y="911160"/>
            <a:ext cx="4012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d1f1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ad1f1f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304920" y="304920"/>
            <a:ext cx="3047760" cy="1068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二、美苏争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304920" y="1371600"/>
          <a:ext cx="8001000" cy="493704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  <a:gridCol w="1295280"/>
                <a:gridCol w="1219320"/>
                <a:gridCol w="1447560"/>
                <a:gridCol w="1905120"/>
              </a:tblGrid>
              <a:tr h="76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阶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特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主要事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美国领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苏联领导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3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五六十年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开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美国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4e3b30"/>
                          </a:solidFill>
                          <a:uFillTx/>
                          <a:latin typeface="Franklin Gothic Book"/>
                          <a:ea typeface="华文楷体"/>
                        </a:rPr>
                        <a:t>优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4e3b30"/>
                          </a:solidFill>
                          <a:uFillTx/>
                          <a:latin typeface="Franklin Gothic Book"/>
                          <a:ea typeface="华文楷体"/>
                        </a:rPr>
                        <a:t>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Franklin Gothic Book"/>
                          <a:ea typeface="华文楷体"/>
                        </a:rPr>
                        <a:t>古巴导弹危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赫鲁晓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缓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双方</a:t>
                      </a:r>
                      <a:r>
                        <a:rPr b="1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2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98" name="Text Box 47"/>
          <p:cNvSpPr/>
          <p:nvPr/>
        </p:nvSpPr>
        <p:spPr>
          <a:xfrm>
            <a:off x="304920" y="388620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304920" y="3267000"/>
          <a:ext cx="6095880" cy="100656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  <a:gridCol w="1295280"/>
                <a:gridCol w="1219320"/>
                <a:gridCol w="144756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7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年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高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Franklin Gothic Book"/>
                          <a:ea typeface="华文楷体"/>
                        </a:rPr>
                        <a:t>苏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攻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Franklin Gothic Book"/>
                          <a:ea typeface="华文楷体"/>
                        </a:rPr>
                        <a:t>美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苏联出兵阿富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尼克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304920" y="4267080"/>
          <a:ext cx="6095880" cy="101592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  <a:gridCol w="1295280"/>
                <a:gridCol w="1219320"/>
                <a:gridCol w="1447560"/>
              </a:tblGrid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年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缓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4e3b30"/>
                          </a:solidFill>
                          <a:uFillTx/>
                          <a:latin typeface="Franklin Gothic Book"/>
                          <a:ea typeface="华文楷体"/>
                        </a:rPr>
                        <a:t>双方缓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苏联从阿富汗撤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     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1" name="Text Box 76"/>
          <p:cNvSpPr/>
          <p:nvPr/>
        </p:nvSpPr>
        <p:spPr>
          <a:xfrm>
            <a:off x="6400800" y="4267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戈尔巴乔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7"/>
          <p:cNvSpPr/>
          <p:nvPr/>
        </p:nvSpPr>
        <p:spPr>
          <a:xfrm>
            <a:off x="304920" y="5257800"/>
            <a:ext cx="46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8"/>
          <p:cNvSpPr/>
          <p:nvPr/>
        </p:nvSpPr>
        <p:spPr>
          <a:xfrm>
            <a:off x="304920" y="556272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年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结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争霸结束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苏联解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1026" descr="G:\8788\尼克松.JPG"/>
          <p:cNvPicPr/>
          <p:nvPr/>
        </p:nvPicPr>
        <p:blipFill>
          <a:blip r:embed="rId1"/>
          <a:stretch/>
        </p:blipFill>
        <p:spPr>
          <a:xfrm>
            <a:off x="6143760" y="2643120"/>
            <a:ext cx="2787480" cy="161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1" dur="1" fill="hold"/>
                                  <p:tgtEl>
                                    <p:spTgt spid="5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"/>
          <p:cNvSpPr/>
          <p:nvPr/>
        </p:nvSpPr>
        <p:spPr>
          <a:xfrm>
            <a:off x="0" y="1491840"/>
            <a:ext cx="878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材料一：北约集团 的军队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万兵力和华约集团的军队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万兵力，双方千万大军处于战略对峙状态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材料二：美国的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62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枚战略导弹和苏联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9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枚战略导弹，及双方数以万计的战役核导弹，相互瞄准着对方成员国的军事、政治、经济目标，处于待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按电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之势，进而导致军备竞赛，争夺核优势、航天优势的斗争愈演愈烈，国际形势日趋紧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材料三：双方都害怕毁灭于世界上已据有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-1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亿吨当量的核武器中，谁也未敢启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核按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发动核大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2"/>
          <p:cNvSpPr/>
          <p:nvPr/>
        </p:nvSpPr>
        <p:spPr>
          <a:xfrm>
            <a:off x="1902240" y="607212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冷战对战后国际关系产生的影响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F998-A624-4D02-9663-6B4911F5CD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"/>
          <p:cNvSpPr/>
          <p:nvPr/>
        </p:nvSpPr>
        <p:spPr>
          <a:xfrm>
            <a:off x="142920" y="1386360"/>
            <a:ext cx="8786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冷战感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遏制与对抗没有出路，和平与合作才能共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、大力发展经济与社会事业，提高人民生活水平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充分发挥联合国在解决国际与地区事务中的积极作用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反对霸权主义，强权政治，维护世界和平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大力提倡和平共处五项原则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642960" y="2214720"/>
            <a:ext cx="7900920" cy="4140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642960" y="2503440"/>
            <a:ext cx="7848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楷体_GB2312"/>
              </a:rPr>
              <a:t>在二战中，美苏摒弃前嫌，共同发起组建了反法西斯同盟，为二战的尽早结束做出了巨大贡献，二战后，人民渴望永久的和平，但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4"/>
          <p:cNvSpPr/>
          <p:nvPr/>
        </p:nvSpPr>
        <p:spPr>
          <a:xfrm>
            <a:off x="4000680" y="3714840"/>
            <a:ext cx="792000" cy="1084320"/>
          </a:xfrm>
          <a:prstGeom prst="downArrow">
            <a:avLst>
              <a:gd name="adj1" fmla="val 50000"/>
              <a:gd name="adj2" fmla="val 4774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5"/>
          <p:cNvSpPr/>
          <p:nvPr/>
        </p:nvSpPr>
        <p:spPr>
          <a:xfrm>
            <a:off x="1785960" y="4643280"/>
            <a:ext cx="578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Arial"/>
                <a:ea typeface="楷体_GB2312"/>
              </a:rPr>
              <a:t>新形式的“战争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  <a:ea typeface="楷体_GB2312"/>
              </a:rPr>
              <a:t>——“</a:t>
            </a:r>
            <a:r>
              <a:rPr b="1" lang="zh-CN" sz="3600" spc="-1" strike="noStrike">
                <a:solidFill>
                  <a:srgbClr val="4e3b30"/>
                </a:solidFill>
                <a:latin typeface="Arial"/>
                <a:ea typeface="楷体_GB2312"/>
              </a:rPr>
              <a:t>冷战”</a:t>
            </a:r>
            <a:r>
              <a:rPr b="1" lang="en-US" sz="3600" spc="-1" strike="noStrike">
                <a:solidFill>
                  <a:srgbClr val="4e3b30"/>
                </a:solidFill>
                <a:latin typeface="Arial"/>
                <a:ea typeface="楷体_GB2312"/>
              </a:rPr>
              <a:t> 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Arial"/>
                <a:ea typeface="楷体_GB2312"/>
              </a:rPr>
              <a:t>接踵而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214200" y="395640"/>
            <a:ext cx="89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二战后苏联的进行的两次改革及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二战后美国发展经历了三个阶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二战中，反法西斯国家取得胜利的最主要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0" y="153036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"/>
          <p:cNvSpPr/>
          <p:nvPr/>
        </p:nvSpPr>
        <p:spPr>
          <a:xfrm>
            <a:off x="0" y="29880"/>
            <a:ext cx="9001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冷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兴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冷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的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冷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热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冷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三个阶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冷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影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142920" y="592920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什么是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“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冷战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”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（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Cold  War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下箭头 3"/>
          <p:cNvSpPr/>
          <p:nvPr/>
        </p:nvSpPr>
        <p:spPr>
          <a:xfrm>
            <a:off x="4714920" y="1428840"/>
            <a:ext cx="642960" cy="10000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下箭头 4"/>
          <p:cNvSpPr/>
          <p:nvPr/>
        </p:nvSpPr>
        <p:spPr>
          <a:xfrm>
            <a:off x="4714920" y="3714840"/>
            <a:ext cx="642960" cy="10000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hk"/>
          <p:cNvPicPr/>
          <p:nvPr/>
        </p:nvPicPr>
        <p:blipFill>
          <a:blip r:embed="rId1"/>
          <a:stretch/>
        </p:blipFill>
        <p:spPr>
          <a:xfrm>
            <a:off x="1571760" y="857160"/>
            <a:ext cx="6337080" cy="579924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3"/>
          <p:cNvSpPr/>
          <p:nvPr/>
        </p:nvSpPr>
        <p:spPr>
          <a:xfrm>
            <a:off x="2071800" y="1285920"/>
            <a:ext cx="54291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33"/>
                </a:solidFill>
                <a:latin typeface="迷你简硬笔楷书"/>
                <a:ea typeface="迷你简硬笔楷书"/>
              </a:rPr>
              <a:t>材料一：</a:t>
            </a:r>
            <a:r>
              <a:rPr b="0" lang="zh-CN" sz="36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战时，要保持团结并不太难，因为有一个打败共同敌人的共同目标，这一点谁都清楚。艰难的工作在战后，那时，</a:t>
            </a:r>
            <a:r>
              <a:rPr b="0" lang="zh-CN" sz="3600" spc="-1" strike="noStrike">
                <a:solidFill>
                  <a:srgbClr val="ff0000"/>
                </a:solidFill>
                <a:latin typeface="迷你简硬笔楷书"/>
                <a:ea typeface="迷你简硬笔楷书"/>
              </a:rPr>
              <a:t>各种不同的利害关系</a:t>
            </a:r>
            <a:r>
              <a:rPr b="0" lang="zh-CN" sz="36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往往会使同盟国分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斯大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1945</a:t>
            </a:r>
            <a:r>
              <a:rPr b="0" lang="zh-CN" sz="36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年于雅尔塔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3"/>
          <p:cNvSpPr/>
          <p:nvPr/>
        </p:nvSpPr>
        <p:spPr>
          <a:xfrm>
            <a:off x="1867680" y="7776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两个昔日的盟友为什么为反目成仇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457200" y="785880"/>
            <a:ext cx="8458200" cy="180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材料二：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美国今天是一个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强大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国家，没有任何一个国家比它更强大了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……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意味着，我们拥有这样的力量，就得挑起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领导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担子并承担责任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美国 杜鲁门（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46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美国想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428760" y="3214800"/>
            <a:ext cx="8305560" cy="3080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材料三：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次战争和过去不同了：无论谁占领了土地，也就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在那里强加它自己的社会制度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不可能有别的情况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苏联 斯大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苏联想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3"/>
          <p:cNvSpPr/>
          <p:nvPr/>
        </p:nvSpPr>
        <p:spPr>
          <a:xfrm>
            <a:off x="1867680" y="7776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两个昔日的盟友为什么为反目成仇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4"/>
          <p:cNvSpPr/>
          <p:nvPr/>
        </p:nvSpPr>
        <p:spPr>
          <a:xfrm>
            <a:off x="214200" y="628668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迷你简硬笔楷书"/>
                <a:ea typeface="迷你简硬笔楷书"/>
              </a:rPr>
              <a:t>材料三还表明美苏双方在</a:t>
            </a:r>
            <a:r>
              <a:rPr b="1" lang="en-US" sz="2800" spc="-1" strike="noStrike">
                <a:solidFill>
                  <a:srgbClr val="ff0000"/>
                </a:solidFill>
                <a:latin typeface="迷你简硬笔楷书"/>
                <a:ea typeface="迷你简硬笔楷书"/>
              </a:rPr>
              <a:t>___________</a:t>
            </a:r>
            <a:r>
              <a:rPr b="1" lang="zh-CN" sz="2800" spc="-1" strike="noStrike">
                <a:solidFill>
                  <a:srgbClr val="ff0000"/>
                </a:solidFill>
                <a:latin typeface="迷你简硬笔楷书"/>
                <a:ea typeface="迷你简硬笔楷书"/>
              </a:rPr>
              <a:t>方面的根本对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539640" y="549360"/>
            <a:ext cx="8064720" cy="5770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4ece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22440" y="663480"/>
            <a:ext cx="7851600" cy="274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迷你简硬笔楷书"/>
                <a:ea typeface="迷你简硬笔楷书"/>
              </a:rPr>
              <a:t>材料四：苏联“狂热地坚信，它同美国之间不可能有永久的妥协。它坚信，如果苏联政权要得到巩固，那么搞乱我国社会的内部和谐，破坏我国传统的生活方式，以及损害我国在国际舞台上的权威，这种做法是可取和必要的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迷你简硬笔楷书"/>
                <a:ea typeface="迷你简硬笔楷书"/>
              </a:rPr>
              <a:t>——</a:t>
            </a:r>
            <a:r>
              <a:rPr b="1" lang="zh-CN" sz="2400" spc="-1" strike="noStrike">
                <a:solidFill>
                  <a:srgbClr val="333333"/>
                </a:solidFill>
                <a:latin typeface="迷你简硬笔楷书"/>
                <a:ea typeface="迷你简硬笔楷书"/>
              </a:rPr>
              <a:t>美国驻苏代办乔治</a:t>
            </a:r>
            <a:r>
              <a:rPr b="1" lang="en-US" sz="2400" spc="-1" strike="noStrike">
                <a:solidFill>
                  <a:srgbClr val="333333"/>
                </a:solidFill>
                <a:latin typeface="迷你简硬笔楷书"/>
                <a:ea typeface="迷你简硬笔楷书"/>
              </a:rPr>
              <a:t>·</a:t>
            </a:r>
            <a:r>
              <a:rPr b="1" lang="zh-CN" sz="2400" spc="-1" strike="noStrike">
                <a:solidFill>
                  <a:srgbClr val="333333"/>
                </a:solidFill>
                <a:latin typeface="迷你简硬笔楷书"/>
                <a:ea typeface="迷你简硬笔楷书"/>
              </a:rPr>
              <a:t>凯南（</a:t>
            </a:r>
            <a:r>
              <a:rPr b="1" lang="en-US" sz="2400" spc="-1" strike="noStrike">
                <a:solidFill>
                  <a:srgbClr val="333333"/>
                </a:solidFill>
                <a:latin typeface="迷你简硬笔楷书"/>
                <a:ea typeface="迷你简硬笔楷书"/>
              </a:rPr>
              <a:t>1946</a:t>
            </a:r>
            <a:r>
              <a:rPr b="1" lang="zh-CN" sz="2400" spc="-1" strike="noStrike">
                <a:solidFill>
                  <a:srgbClr val="333333"/>
                </a:solidFill>
                <a:latin typeface="迷你简硬笔楷书"/>
                <a:ea typeface="迷你简硬笔楷书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迷你简硬笔楷书"/>
                <a:ea typeface="迷你简硬笔楷书"/>
              </a:rPr>
              <a:t>材料五：战后美国对外政策的基本特征就是争夺世界霸权，苏联是美国通往世界霸权道路上的“最主要障碍”，美国正积极扩充军备，准备针对苏联的战争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迷你简硬笔楷书"/>
                <a:ea typeface="迷你简硬笔楷书"/>
              </a:rPr>
              <a:t>——</a:t>
            </a:r>
            <a:r>
              <a:rPr b="1" lang="zh-CN" sz="2400" spc="-1" strike="noStrike">
                <a:solidFill>
                  <a:srgbClr val="333333"/>
                </a:solidFill>
                <a:latin typeface="迷你简硬笔楷书"/>
                <a:ea typeface="迷你简硬笔楷书"/>
              </a:rPr>
              <a:t>苏联驻美大使诺维科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请回答：两则材料表明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539640" y="549360"/>
            <a:ext cx="8064720" cy="5770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4ece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22440" y="663480"/>
            <a:ext cx="7851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迷你简硬笔楷书"/>
                <a:ea typeface="迷你简硬笔楷书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材料六：从波罗的海的什切青到亚得里亚海边的里亚斯特，一幅横贯欧洲大陆的铁幕已经降落下来。在这条线后面，座落着中欧和东欧古国的都城</a:t>
            </a:r>
            <a:r>
              <a:rPr b="0" lang="en-US" sz="40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……</a:t>
            </a:r>
            <a:r>
              <a:rPr b="0" lang="zh-CN" sz="40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所有这些名城及其居民无一不处在苏联的势力范围之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迷你简硬笔楷书"/>
                <a:ea typeface="迷你简硬笔楷书"/>
              </a:rPr>
              <a:t>引自丘吉尔“铁幕”演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5"/>
          <p:cNvSpPr/>
          <p:nvPr/>
        </p:nvSpPr>
        <p:spPr>
          <a:xfrm>
            <a:off x="357120" y="3571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Franklin Gothic Book"/>
              </a:rPr>
              <a:t>阅读探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357120" y="1096200"/>
            <a:ext cx="8215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何为“冷战”政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美国推行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冷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政策的原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②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冷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政策开始的标志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冷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在政治、经济、军事上各有什么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④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苏联采取哪些措施应对西方国家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冷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两极格局形成的标志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57120" y="3424320"/>
          <a:ext cx="8786880" cy="2219400"/>
        </p:xfrm>
        <a:graphic>
          <a:graphicData uri="http://schemas.openxmlformats.org/drawingml/2006/table">
            <a:tbl>
              <a:tblPr/>
              <a:tblGrid>
                <a:gridCol w="1000080"/>
                <a:gridCol w="3849840"/>
                <a:gridCol w="3936960"/>
              </a:tblGrid>
              <a:tr h="57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以美国为首的资本主义阵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以苏联为首的社会主义阵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政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经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军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48" name=""/>
          <p:cNvGrpSpPr/>
          <p:nvPr/>
        </p:nvGrpSpPr>
        <p:grpSpPr>
          <a:xfrm>
            <a:off x="-60480" y="-7920"/>
            <a:ext cx="868680" cy="592200"/>
            <a:chOff x="-60480" y="-7920"/>
            <a:chExt cx="868680" cy="592200"/>
          </a:xfrm>
        </p:grpSpPr>
        <p:sp>
          <p:nvSpPr>
            <p:cNvPr id="449" name="Line 9"/>
            <p:cNvSpPr/>
            <p:nvPr/>
          </p:nvSpPr>
          <p:spPr>
            <a:xfrm>
              <a:off x="-60480" y="-7920"/>
              <a:ext cx="868680" cy="592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>
              <a:off x="-60480" y="-7920"/>
              <a:ext cx="868680" cy="592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136440" y="919080"/>
            <a:ext cx="879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材料一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94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年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9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年，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个国家接受了美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多亿美元的援助，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是赠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是贷款。因此丘吉尔把“马歇尔计划”称为“人类历史上最慷慨的举动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材料二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我们每接受一笔贷款，我们的独立便减少一分。”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法国总理皮拉尔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2622960" y="15228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看一看，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1561680" y="2643120"/>
            <a:ext cx="53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  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、“马歇尔计划”要解决欧洲什么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结合材料分析“马歇尔计划”的目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5"/>
          <p:cNvGrpSpPr/>
          <p:nvPr/>
        </p:nvGrpSpPr>
        <p:grpSpPr>
          <a:xfrm>
            <a:off x="1714680" y="3500280"/>
            <a:ext cx="7163280" cy="3286080"/>
            <a:chOff x="1714680" y="3500280"/>
            <a:chExt cx="7163280" cy="3286080"/>
          </a:xfrm>
        </p:grpSpPr>
        <p:sp>
          <p:nvSpPr>
            <p:cNvPr id="455" name="AutoShape 6"/>
            <p:cNvSpPr/>
            <p:nvPr/>
          </p:nvSpPr>
          <p:spPr>
            <a:xfrm>
              <a:off x="1714680" y="3500280"/>
              <a:ext cx="7163280" cy="3286080"/>
            </a:xfrm>
            <a:prstGeom prst="horizontalScroll">
              <a:avLst>
                <a:gd name="adj" fmla="val 12500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7"/>
            <p:cNvSpPr/>
            <p:nvPr/>
          </p:nvSpPr>
          <p:spPr>
            <a:xfrm>
              <a:off x="3807360" y="4025160"/>
              <a:ext cx="3432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要解决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战后西欧的经济困境和政治动荡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目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帮助西欧各国迅速恢复经济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防止革命爆发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通过美国的援助，打开西欧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户，控制西欧。进而遏制苏联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" dur="1" fill="hold"/>
                                  <p:tgtEl>
                                    <p:spTgt spid="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2:05:4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57Z</dcterms:modified>
  <cp:revision>9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