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7.png" ContentType="image/png"/>
  <Override PartName="/ppt/media/image1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B03-CAB0-475E-BE35-3FB81D46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EAA-85F8-4229-817F-B5AD20F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AC3-C05C-44DE-BD57-518FDEB9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F21-6F3D-425A-8E70-2F198B03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DFC-F996-47A2-9795-5DBDAB35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EFF-F60C-422C-9BD2-3F9E139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576-615D-4FCE-B398-CD20622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CB7-1856-4B91-AC7F-463DBA98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AD6-6185-449E-9A0B-D4E87334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F3DE-1B76-40BE-BF4C-C2025293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DD65-FFE1-4F0B-B8A1-F5502CF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361-744B-4AED-8659-0E97F6E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7C7-2279-47E9-9944-31ADDA0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3375-A187-4CDD-88E7-1C57181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A9E-D421-4C63-979D-1AD4E2D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BBC-3F67-4040-908F-4F009C9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3EB9-C5F1-4B85-BE08-70B4C80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B517-D7CD-416D-B3FC-908A961E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7268-52D4-4101-81ED-1E8715D6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6F03-A76D-404B-9071-09DA7BE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CE4B-83EA-416F-8216-5C4ACA0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177B-6AB2-4F52-8EE8-35247F3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BE1-0CD8-4AA3-9A10-0DE071B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F53E-5176-483A-A7F0-7800A058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9D18-3533-4E01-8733-A13BF7D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1EED-31E3-412F-AEAD-BC74D4A2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0807-F17D-4E42-96A1-487791E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C5C7-08B2-4843-84C4-622C5377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BBBB-7EA6-461E-9495-6AE59BEB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74C1-A1B9-42F0-8023-75B02FC8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D8E-88BB-4FC2-9535-A320029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CA9-77AA-49EB-81E1-3181D14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598-FA3D-4F23-AE9B-EBAA38A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CEC-25C0-42E4-84BB-0A515F9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102-4DD8-436F-B0C9-69C8ACE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197-BA67-43EE-88E7-C043573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601-F872-4718-94FD-ACC0A1434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0" descr=""/>
          <p:cNvPicPr/>
          <p:nvPr/>
        </p:nvPicPr>
        <p:blipFill>
          <a:blip r:embed="rId4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花纹\2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C8C-629C-4F44-AC00-99363B1A80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5E5-2F32-4524-BC49-29071B382B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502D"/>
          <p:cNvPicPr/>
          <p:nvPr/>
        </p:nvPicPr>
        <p:blipFill>
          <a:blip r:embed="rId1"/>
          <a:stretch/>
        </p:blipFill>
        <p:spPr>
          <a:xfrm>
            <a:off x="0" y="0"/>
            <a:ext cx="586260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6" descr=""/>
          <p:cNvPicPr/>
          <p:nvPr/>
        </p:nvPicPr>
        <p:blipFill>
          <a:blip r:embed="rId2"/>
          <a:stretch/>
        </p:blipFill>
        <p:spPr>
          <a:xfrm>
            <a:off x="1193760" y="2349360"/>
            <a:ext cx="6697800" cy="219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花纹\儿童.png"/>
          <p:cNvPicPr/>
          <p:nvPr/>
        </p:nvPicPr>
        <p:blipFill>
          <a:blip r:embed="rId3"/>
          <a:stretch/>
        </p:blipFill>
        <p:spPr>
          <a:xfrm>
            <a:off x="179280" y="4797360"/>
            <a:ext cx="2786040" cy="10936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8"/>
          <p:cNvSpPr txBox="1"/>
          <p:nvPr/>
        </p:nvSpPr>
        <p:spPr>
          <a:xfrm>
            <a:off x="1625760" y="2771640"/>
            <a:ext cx="583236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面包发霉了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14640" y="260280"/>
            <a:ext cx="28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其他有哪些物体会发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187280" y="50133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苹果、桔子、香蕉、米饭、蛋糕、皮衣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2482920" y="1557360"/>
            <a:ext cx="41148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187280" y="2349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zh-CN" sz="4800" spc="-1" strike="noStrike">
                <a:solidFill>
                  <a:srgbClr val="1f497d"/>
                </a:solidFill>
                <a:latin typeface="Comic Sans MS"/>
                <a:ea typeface="黑体"/>
              </a:rPr>
              <a:t>减慢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食物变质的速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959400" y="141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页，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908000" y="235116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谁动了我们的食物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908000" y="3191040"/>
            <a:ext cx="60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腐败的小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发霉的面包    有没有相似的地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ff"/>
                </a:solidFill>
                <a:latin typeface="Arial"/>
              </a:rPr>
              <a:t>发馊的面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947880" y="26028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观察变质的食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20520" y="1176480"/>
            <a:ext cx="8080560" cy="5508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947880" y="26028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观察变质的食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1125720" y="260280"/>
            <a:ext cx="2581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储存食物的各种方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700360" y="1268280"/>
            <a:ext cx="41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食物变质的原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719280" y="2060640"/>
            <a:ext cx="79563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食物的腐败变质是微生物引起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微生物的生长与繁殖与植物、动物一样，需要一定的</a:t>
            </a:r>
            <a:r>
              <a:rPr b="0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空气、水分和温度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等条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在适宜的环境里，它们能以惊人的速度繁殖。越来越多的微生物分解、吸收食物中的营养，同时排除</a:t>
            </a:r>
            <a:r>
              <a:rPr b="0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废物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，使食物不再是原来的样子食物</a:t>
            </a:r>
            <a:r>
              <a:rPr b="0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腐败变质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了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2268360" y="74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25720" y="260280"/>
            <a:ext cx="2581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储存食物的各种方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76360" y="141300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给你一条鱼，你能用几种方法储存呢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73960" y="22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07396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7396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622680" y="403236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烧  煮  烤  冷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667320" y="2276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密封  真空  浸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667320" y="32130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暴晒  烘干  冷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3602D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E97-D96E-4BC2-A9DC-D80901CD45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3601D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126828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直接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u=1494141851,4031274746&amp;fm=0&amp;gp=-14"/>
          <p:cNvPicPr/>
          <p:nvPr/>
        </p:nvPicPr>
        <p:blipFill>
          <a:blip r:embed="rId1"/>
          <a:stretch/>
        </p:blipFill>
        <p:spPr>
          <a:xfrm>
            <a:off x="611280" y="198900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u=3656375127,3647435949&amp;fm=0&amp;gp=28"/>
          <p:cNvPicPr/>
          <p:nvPr/>
        </p:nvPicPr>
        <p:blipFill>
          <a:blip r:embed="rId2"/>
          <a:stretch/>
        </p:blipFill>
        <p:spPr>
          <a:xfrm>
            <a:off x="4356000" y="1989000"/>
            <a:ext cx="4248360" cy="2554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468360" y="501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面包上长了许多霉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03160" y="2109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观察发霉的面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050713124738727"/>
          <p:cNvPicPr/>
          <p:nvPr/>
        </p:nvPicPr>
        <p:blipFill>
          <a:blip r:embed="rId1"/>
          <a:stretch/>
        </p:blipFill>
        <p:spPr>
          <a:xfrm>
            <a:off x="2124000" y="1341360"/>
            <a:ext cx="495468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7543800" y="1413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651640" y="1773000"/>
            <a:ext cx="1752480" cy="685800"/>
            <a:chOff x="5651640" y="1773000"/>
            <a:chExt cx="1752480" cy="685800"/>
          </a:xfrm>
        </p:grpSpPr>
        <p:sp>
          <p:nvSpPr>
            <p:cNvPr id="145" name="Line 4"/>
            <p:cNvSpPr/>
            <p:nvPr/>
          </p:nvSpPr>
          <p:spPr>
            <a:xfrm flipV="1">
              <a:off x="5651640" y="1773000"/>
              <a:ext cx="1752480" cy="685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5651640" y="1773000"/>
              <a:ext cx="17524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5"/>
          <p:cNvSpPr/>
          <p:nvPr/>
        </p:nvSpPr>
        <p:spPr>
          <a:xfrm>
            <a:off x="228600" y="3200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95280" y="3733920"/>
            <a:ext cx="2057400" cy="761760"/>
            <a:chOff x="1295280" y="3733920"/>
            <a:chExt cx="2057400" cy="761760"/>
          </a:xfrm>
        </p:grpSpPr>
        <p:sp>
          <p:nvSpPr>
            <p:cNvPr id="149" name="Line 6"/>
            <p:cNvSpPr/>
            <p:nvPr/>
          </p:nvSpPr>
          <p:spPr>
            <a:xfrm>
              <a:off x="1295280" y="3733920"/>
              <a:ext cx="2057400" cy="76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295280" y="3733920"/>
              <a:ext cx="205740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7"/>
          <p:cNvSpPr/>
          <p:nvPr/>
        </p:nvSpPr>
        <p:spPr>
          <a:xfrm>
            <a:off x="3492360" y="4762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803160" y="2109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观察发霉的面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79280" y="6021360"/>
            <a:ext cx="6443640" cy="5814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3501D"/>
          <p:cNvPicPr/>
          <p:nvPr/>
        </p:nvPicPr>
        <p:blipFill>
          <a:blip r:embed="rId2"/>
          <a:stretch/>
        </p:blipFill>
        <p:spPr>
          <a:xfrm>
            <a:off x="179280" y="4428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53880" y="234936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两块烘干的面包，（用牙签在每块面包上放一些霉菌），让第一块面包保持干燥，在第二块面包上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87280" y="4441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的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495680" y="4437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干燥和湿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908000" y="1484280"/>
            <a:ext cx="52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一块面包上的霉菌生长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971640" y="1125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燥环境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580000" y="11253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湿润环境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267080" cy="3330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4633920" y="1717560"/>
            <a:ext cx="4254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24000" y="21337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两块烘干的面包，（用牙签在每块面包上放一些霉菌），都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让第一块面包放进冷藏室，将第二块面包放在温暖的室温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247760" y="4508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的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140360" y="45086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低温和高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050920" y="1341360"/>
            <a:ext cx="52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一块面包上的霉菌生长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8199"/>
          <p:cNvSpPr/>
          <p:nvPr/>
        </p:nvSpPr>
        <p:spPr>
          <a:xfrm>
            <a:off x="2854440" y="781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219320" y="4952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温环境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5880" y="487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暖环境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379440" y="1565280"/>
            <a:ext cx="4041720" cy="33051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" descr=""/>
          <p:cNvPicPr/>
          <p:nvPr/>
        </p:nvPicPr>
        <p:blipFill>
          <a:blip r:embed="rId2"/>
          <a:stretch/>
        </p:blipFill>
        <p:spPr>
          <a:xfrm>
            <a:off x="4741920" y="1546200"/>
            <a:ext cx="4029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1"/>
          <p:cNvSpPr/>
          <p:nvPr/>
        </p:nvSpPr>
        <p:spPr>
          <a:xfrm>
            <a:off x="4487760" y="336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组合 6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24720" cy="2406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3"/>
          <p:cNvSpPr/>
          <p:nvPr/>
        </p:nvSpPr>
        <p:spPr>
          <a:xfrm>
            <a:off x="1116000" y="2494080"/>
            <a:ext cx="69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组面包中哪组面包发霉速度最快，哪组最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803160" y="333360"/>
            <a:ext cx="204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800080"/>
                </a:solidFill>
                <a:latin typeface="Arial"/>
                <a:ea typeface="黑体"/>
              </a:rPr>
              <a:t>面包发霉的条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1413000"/>
            <a:ext cx="82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面包发霉是因为在它的上面生长了一种生物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霉菌，与其他生物一样，它的生长需要获取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营养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适宜的生长环境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403280" y="328464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适宜的生长环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500720" y="331164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温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508720" y="331164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水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6516720" y="331164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空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7453440" y="3311640"/>
            <a:ext cx="16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光照</a:t>
            </a:r>
            <a:r>
              <a:rPr b="1" lang="en-US" sz="3000" spc="-1" strike="noStrike">
                <a:solidFill>
                  <a:srgbClr val="ff0000"/>
                </a:solidFill>
                <a:latin typeface="楷体"/>
                <a:ea typeface="楷体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612720" y="429408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因为霉变过程中产生的霉菌含有对人体有害的物质，所以发霉变质的食物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"/>
              </a:rPr>
              <a:t>绝对不能使用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25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4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