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type.wav" ContentType="audio/x-wav"/>
  <Override PartName="/ppt/media/camera.wav" ContentType="audio/x-wav"/>
  <Override PartName="/ppt/media/image13.jpeg" ContentType="image/jpeg"/>
  <Override PartName="/ppt/media/image14.jpeg" ContentType="image/jpeg"/>
  <Override PartName="/ppt/media/carbrake.wav" ContentType="audio/x-wav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5C3-713C-4724-B801-667AC5B3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FCB-821E-4721-94F0-23D7FA1C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CB4-23DE-468A-9560-EB3D0CC4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F58-81C0-4A07-9F00-C0ADAF14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60F1-5D62-4361-8319-966A0AB3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FC77-ED0B-468C-9CAB-7E3EE4A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5816-C658-4F01-974F-E72D0F97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1E25-A8B9-4194-BBE8-C8A5318F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A203-0A1A-4BE6-B881-7C470797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627C-7650-45FD-9DB6-3D1D3860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A5E1-2510-4D06-824C-14FAD9B3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4E3-AC12-47F6-BC02-272E63BC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8060-07C2-42C0-80C1-DB0F2D9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01A1-B09C-449D-BFE7-E9D6519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5992-93A2-4CE0-95F0-6F4C82E3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7E50-2322-478E-B7F2-019C1122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1F9D-5F4C-4B20-BB4E-CAA1C484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473-7E6A-4127-A413-0DB6208D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519-E122-4E70-960A-D59467F4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D6A-A81B-4D3F-AA2F-000FA0CF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7FC-612B-4E8B-81BC-36B24779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D7A-F7B1-414C-B925-AC7E4E20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97E-E252-4D2C-B050-80D7C61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112-68B5-4DBB-9429-1C235B72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3410-DF99-42C3-B56E-B274968A1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1F2-76DE-4C6C-AF91-6975E81C8D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4" descr=""/>
          <p:cNvPicPr/>
          <p:nvPr/>
        </p:nvPicPr>
        <p:blipFill>
          <a:blip r:embed="rId1"/>
          <a:stretch/>
        </p:blipFill>
        <p:spPr>
          <a:xfrm>
            <a:off x="539640" y="150840"/>
            <a:ext cx="7772400" cy="156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6240" y="1901880"/>
            <a:ext cx="423396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猫是大家都很熟悉的一种小动物。很多家庭因为猫惹人喜爱而养它。我国著名作家郑振铎先生，他家也曾养过三只小猫。从养这三只小猫的过程中，他领悟到了一些生活的哲理和做人的道理。究竟是什么样的哲理呢？今天，我们一起来学习郑振铎先生的散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站猫"/>
          <p:cNvPicPr/>
          <p:nvPr/>
        </p:nvPicPr>
        <p:blipFill>
          <a:blip r:embed="rId2"/>
          <a:stretch/>
        </p:blipFill>
        <p:spPr>
          <a:xfrm>
            <a:off x="4578480" y="1916280"/>
            <a:ext cx="4241520" cy="3457440"/>
          </a:xfrm>
          <a:prstGeom prst="rect">
            <a:avLst/>
          </a:prstGeom>
          <a:ln w="0">
            <a:noFill/>
          </a:ln>
        </p:spPr>
      </p:pic>
      <p:pic>
        <p:nvPicPr>
          <p:cNvPr id="85" name="cat11863.wav" descr=""/>
          <p:cNvPicPr/>
          <p:nvPr/>
        </p:nvPicPr>
        <p:blipFill>
          <a:blip r:embed="rId3"/>
          <a:stretch/>
        </p:blipFill>
        <p:spPr>
          <a:xfrm>
            <a:off x="325908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cat21878.wav" descr=""/>
          <p:cNvPicPr/>
          <p:nvPr/>
        </p:nvPicPr>
        <p:blipFill>
          <a:blip r:embed="rId4"/>
          <a:stretch/>
        </p:blipFill>
        <p:spPr>
          <a:xfrm>
            <a:off x="361944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CAT3.wav" descr=""/>
          <p:cNvPicPr/>
          <p:nvPr/>
        </p:nvPicPr>
        <p:blipFill>
          <a:blip r:embed="rId5"/>
          <a:stretch/>
        </p:blipFill>
        <p:spPr>
          <a:xfrm>
            <a:off x="4051440" y="530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12"/>
                            </p:stCondLst>
                            <p:childTnLst>
                              <p:par>
                                <p:cTn id="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25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267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97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了解三只猫的不同外形、性情及在家中的地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体会文章的思想感情及蕴涵的人生哲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揣摩生动的细节描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形成关爱动物、善待生命的情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200"/>
          <p:cNvSpPr/>
          <p:nvPr/>
        </p:nvSpPr>
        <p:spPr>
          <a:xfrm>
            <a:off x="1979640" y="162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138560" y="260280"/>
            <a:ext cx="4681440" cy="1708920"/>
          </a:xfrm>
          <a:prstGeom prst="rect">
            <a:avLst/>
          </a:prstGeom>
          <a:solidFill>
            <a:srgbClr val="3333cc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郑振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现代作家、学者。福建省长乐县，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92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年底，与茅盾、叶圣陶等发起成立文学研究会，是我国新文化运动的积极倡导者。本文选自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郑振铎文集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468360" y="189000"/>
            <a:ext cx="24462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作者简介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8" name="Picture 4" descr="SC20040908133605078"/>
          <p:cNvPicPr/>
          <p:nvPr/>
        </p:nvPicPr>
        <p:blipFill>
          <a:blip r:embed="rId1"/>
          <a:stretch/>
        </p:blipFill>
        <p:spPr>
          <a:xfrm>
            <a:off x="468360" y="1459080"/>
            <a:ext cx="3384360" cy="424800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109" name="Text Box 5"/>
          <p:cNvSpPr/>
          <p:nvPr/>
        </p:nvSpPr>
        <p:spPr>
          <a:xfrm>
            <a:off x="0" y="5805360"/>
            <a:ext cx="494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郑振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uó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898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—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958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533520"/>
            <a:ext cx="754380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预习检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忧郁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污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涩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怅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然 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蜷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伏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惩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戒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凝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望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诅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骂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怂恿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叮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533520"/>
            <a:ext cx="754380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预习检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忧郁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污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涩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怅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然 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蜷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伏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惩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戒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凝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望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诅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骂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怂恿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叮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1600200"/>
            <a:ext cx="8001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ōu    yù                sè         chà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quán           chéng             ní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ǔ                sǒng  yǒng     dīng  zh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027"/>
          <p:cNvSpPr/>
          <p:nvPr/>
        </p:nvSpPr>
        <p:spPr>
          <a:xfrm>
            <a:off x="324000" y="333360"/>
            <a:ext cx="82296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整体感知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、作者一共养了几只猫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这几只猫的外形、性情各有什么特征？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和家人对这几只猫的态度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24000" y="2852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几只猫的结局怎样？对它们的亡失或屈死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心情有些什么变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29"/>
          <p:cNvSpPr/>
          <p:nvPr/>
        </p:nvSpPr>
        <p:spPr>
          <a:xfrm>
            <a:off x="539640" y="407664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猫.mp3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8200"/>
          <p:cNvSpPr/>
          <p:nvPr/>
        </p:nvSpPr>
        <p:spPr>
          <a:xfrm>
            <a:off x="1116000" y="501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649279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8856720" cy="6453360"/>
        </p:xfrm>
        <a:graphic>
          <a:graphicData uri="http://schemas.openxmlformats.org/drawingml/2006/table">
            <a:tbl>
              <a:tblPr/>
              <a:tblGrid>
                <a:gridCol w="1209600"/>
                <a:gridCol w="1206720"/>
                <a:gridCol w="1209600"/>
                <a:gridCol w="1208160"/>
                <a:gridCol w="1209600"/>
                <a:gridCol w="1206360"/>
                <a:gridCol w="160668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来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外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性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态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结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感情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一只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二只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三只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49"/>
          <p:cNvSpPr/>
          <p:nvPr/>
        </p:nvSpPr>
        <p:spPr>
          <a:xfrm>
            <a:off x="1258920" y="90792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从隔壁要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0"/>
          <p:cNvSpPr/>
          <p:nvPr/>
        </p:nvSpPr>
        <p:spPr>
          <a:xfrm>
            <a:off x="140328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1"/>
          <p:cNvSpPr/>
          <p:nvPr/>
        </p:nvSpPr>
        <p:spPr>
          <a:xfrm>
            <a:off x="1332000" y="2421000"/>
            <a:ext cx="7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舅舅送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2"/>
          <p:cNvSpPr/>
          <p:nvPr/>
        </p:nvSpPr>
        <p:spPr>
          <a:xfrm>
            <a:off x="1258920" y="5013360"/>
            <a:ext cx="100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蜷伏在家门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3"/>
          <p:cNvSpPr/>
          <p:nvPr/>
        </p:nvSpPr>
        <p:spPr>
          <a:xfrm>
            <a:off x="2340000" y="10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花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4"/>
          <p:cNvSpPr/>
          <p:nvPr/>
        </p:nvSpPr>
        <p:spPr>
          <a:xfrm>
            <a:off x="2340000" y="28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5"/>
          <p:cNvSpPr/>
          <p:nvPr/>
        </p:nvSpPr>
        <p:spPr>
          <a:xfrm>
            <a:off x="2340000" y="508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不好看很瘦、毛烧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6"/>
          <p:cNvSpPr/>
          <p:nvPr/>
        </p:nvSpPr>
        <p:spPr>
          <a:xfrm>
            <a:off x="3635280" y="98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很活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7"/>
          <p:cNvSpPr/>
          <p:nvPr/>
        </p:nvSpPr>
        <p:spPr>
          <a:xfrm>
            <a:off x="3635280" y="263700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更有趣更活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8"/>
          <p:cNvSpPr/>
          <p:nvPr/>
        </p:nvSpPr>
        <p:spPr>
          <a:xfrm>
            <a:off x="3708360" y="49417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忧郁懒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9"/>
          <p:cNvSpPr/>
          <p:nvPr/>
        </p:nvSpPr>
        <p:spPr>
          <a:xfrm>
            <a:off x="5096520" y="119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喜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4932360" y="3068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喜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1"/>
          <p:cNvSpPr/>
          <p:nvPr/>
        </p:nvSpPr>
        <p:spPr>
          <a:xfrm>
            <a:off x="4859280" y="4797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不喜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6248880" y="10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死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3"/>
          <p:cNvSpPr/>
          <p:nvPr/>
        </p:nvSpPr>
        <p:spPr>
          <a:xfrm>
            <a:off x="6084720" y="314172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丢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4"/>
          <p:cNvSpPr/>
          <p:nvPr/>
        </p:nvSpPr>
        <p:spPr>
          <a:xfrm>
            <a:off x="6084720" y="5013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屈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5"/>
          <p:cNvSpPr/>
          <p:nvPr/>
        </p:nvSpPr>
        <p:spPr>
          <a:xfrm>
            <a:off x="7236000" y="105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难过、酸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6"/>
          <p:cNvSpPr/>
          <p:nvPr/>
        </p:nvSpPr>
        <p:spPr>
          <a:xfrm>
            <a:off x="7164360" y="2349360"/>
            <a:ext cx="17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怅然、愤恨、诅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7"/>
          <p:cNvSpPr/>
          <p:nvPr/>
        </p:nvSpPr>
        <p:spPr>
          <a:xfrm>
            <a:off x="7164360" y="4653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难过、良心受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看到了一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499200" y="1447920"/>
            <a:ext cx="32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它便扑过来抢，又扑过去抢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776840" y="2057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活泼可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800x600_002"/>
          <p:cNvPicPr/>
          <p:nvPr/>
        </p:nvPicPr>
        <p:blipFill>
          <a:blip r:embed="rId1"/>
          <a:stretch/>
        </p:blipFill>
        <p:spPr>
          <a:xfrm>
            <a:off x="3886200" y="2895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1"/>
          <p:cNvSpPr/>
          <p:nvPr/>
        </p:nvSpPr>
        <p:spPr>
          <a:xfrm>
            <a:off x="990720" y="4038480"/>
            <a:ext cx="2133360" cy="1219320"/>
          </a:xfrm>
          <a:prstGeom prst="cloudCallout">
            <a:avLst>
              <a:gd name="adj1" fmla="val 57888"/>
              <a:gd name="adj2" fmla="val -9518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pet0136_m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73560" y="762120"/>
            <a:ext cx="1155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更活泼更有趣的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可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可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可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pet0021_m"/>
          <p:cNvPicPr/>
          <p:nvPr/>
        </p:nvPicPr>
        <p:blipFill>
          <a:blip r:embed="rId1"/>
          <a:stretch/>
        </p:blipFill>
        <p:spPr>
          <a:xfrm>
            <a:off x="2590920" y="676440"/>
            <a:ext cx="6553080" cy="55940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2198880" y="838080"/>
            <a:ext cx="127764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可怜的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3" descr="猫图"/>
          <p:cNvPicPr/>
          <p:nvPr/>
        </p:nvPicPr>
        <p:blipFill>
          <a:blip r:embed="rId1"/>
          <a:stretch/>
        </p:blipFill>
        <p:spPr>
          <a:xfrm>
            <a:off x="5003640" y="3470400"/>
            <a:ext cx="4140360" cy="3387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总共写了三次养猫的经历，哪一次是详写？为什么不单写这一次，而要写另外两次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352680" y="4038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铺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352680" y="4876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5791320" y="380880"/>
            <a:ext cx="2438280" cy="1295640"/>
          </a:xfrm>
          <a:prstGeom prst="wedgeEllipseCallout">
            <a:avLst>
              <a:gd name="adj1" fmla="val -58787"/>
              <a:gd name="adj2" fmla="val 485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6172200" y="685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4419720" y="4267080"/>
            <a:ext cx="380880" cy="1067040"/>
          </a:xfrm>
          <a:custGeom>
            <a:avLst/>
            <a:gdLst>
              <a:gd name="textAreaLeft" fmla="*/ 50760 w 380880"/>
              <a:gd name="textAreaRight" fmla="*/ 330120 w 38088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1258920" y="5734080"/>
            <a:ext cx="59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来历、外形、性情、在家中的地位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75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奔跑的猫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609480" y="1143000"/>
            <a:ext cx="1676520" cy="1066680"/>
          </a:xfrm>
          <a:prstGeom prst="cloudCallout">
            <a:avLst>
              <a:gd name="adj1" fmla="val 31912"/>
              <a:gd name="adj2" fmla="val 100597"/>
            </a:avLst>
          </a:pr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914400" y="1371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标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2666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抒情议论的语句，体会“我的”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精读思考题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609480" y="685800"/>
            <a:ext cx="1447920" cy="99072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362320" y="990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79280" y="3068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　　　　　　　　　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我体味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　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84360" y="35733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     “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我心里也感着一缕的酸辛，可怜这两月来相伴的小侣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46060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050920" y="4149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我”为花白猫的病死而难过、酸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说话　　　　　　　　　　　　　　　　　　　　　　　　　　　　　　　　　　　　　　　　　　　　　　　　　　　　　　　　　　　　　　　　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6400800" y="304920"/>
            <a:ext cx="2362320" cy="914400"/>
          </a:xfrm>
          <a:prstGeom prst="wedgeRoundRectCallout">
            <a:avLst>
              <a:gd name="adj1" fmla="val -56921"/>
              <a:gd name="adj2" fmla="val 6666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品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  3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315200" y="1066680"/>
            <a:ext cx="152280" cy="360"/>
            <a:chOff x="7315200" y="1066680"/>
            <a:chExt cx="152280" cy="360"/>
          </a:xfrm>
        </p:grpSpPr>
        <p:sp>
          <p:nvSpPr>
            <p:cNvPr id="169" name="Line 3"/>
            <p:cNvSpPr/>
            <p:nvPr/>
          </p:nvSpPr>
          <p:spPr>
            <a:xfrm>
              <a:off x="7315200" y="1066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7315200" y="106668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4"/>
          <p:cNvSpPr/>
          <p:nvPr/>
        </p:nvSpPr>
        <p:spPr>
          <a:xfrm>
            <a:off x="990720" y="1371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朗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65760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（难过、后悔、自责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990720" y="22096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出这一部分表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情的词语，品味作者的感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90720" y="35053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第二只猫丢后，作者写道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此，我家好久不养猫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只猫死后，作者写道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此，我家永不养猫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体会这两句话的思想感情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48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重点品读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85800" y="25146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对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我想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6629400" y="762120"/>
            <a:ext cx="1523880" cy="990360"/>
          </a:xfrm>
          <a:prstGeom prst="smileyFace">
            <a:avLst>
              <a:gd name="adj" fmla="val 4653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597280" y="990720"/>
            <a:ext cx="1033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说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362320" y="2590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作品中“我”对第三只猫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066680" y="30481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凡事不能主观臆断，妄下断语，否则就会造成不可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补的损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说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066680" y="2133720"/>
            <a:ext cx="7696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743200" y="2209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第二只猫的讨人喜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74320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家里人对待第三只猫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666880" y="3657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第三只猫的遭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主题探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43A0-D7F9-4967-AF3B-7EA8C227B9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762120" y="838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457200" y="1295280"/>
            <a:ext cx="1676520" cy="914400"/>
          </a:xfrm>
          <a:prstGeom prst="wedgeRoundRectCallout">
            <a:avLst>
              <a:gd name="adj1" fmla="val 69129"/>
              <a:gd name="adj2" fmla="val 47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25909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如养第二只猫时也养了鸟，鸟也被咬死，“我”将怎样想，怎么做？请写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的片段作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爬树的猫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2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01520">
            <a:solidFill>
              <a:srgbClr val="0000ff"/>
            </a:solidFill>
            <a:miter/>
          </a:ln>
        </p:spPr>
      </p:pic>
    </p:spTree>
  </p:cSld>
  <p:transition advTm="1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28" descr="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advTm="1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800x600_002"/>
          <p:cNvPicPr/>
          <p:nvPr/>
        </p:nvPicPr>
        <p:blipFill>
          <a:blip r:embed="rId1"/>
          <a:stretch/>
        </p:blipFill>
        <p:spPr>
          <a:xfrm>
            <a:off x="0" y="-735120"/>
            <a:ext cx="9144000" cy="75931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猫和人"/>
          <p:cNvPicPr/>
          <p:nvPr/>
        </p:nvPicPr>
        <p:blipFill>
          <a:blip r:embed="rId1"/>
          <a:stretch/>
        </p:blipFill>
        <p:spPr>
          <a:xfrm>
            <a:off x="0" y="-506520"/>
            <a:ext cx="9144000" cy="73645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2007091421294777387"/>
          <p:cNvPicPr/>
          <p:nvPr/>
        </p:nvPicPr>
        <p:blipFill>
          <a:blip r:embed="rId1"/>
          <a:stretch/>
        </p:blipFill>
        <p:spPr>
          <a:xfrm>
            <a:off x="-181080" y="-760320"/>
            <a:ext cx="9325080" cy="76183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024x768_140"/>
          <p:cNvPicPr/>
          <p:nvPr/>
        </p:nvPicPr>
        <p:blipFill>
          <a:blip r:embed="rId1"/>
          <a:stretch/>
        </p:blipFill>
        <p:spPr>
          <a:xfrm>
            <a:off x="-395280" y="-663480"/>
            <a:ext cx="10296360" cy="783756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05:27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35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