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D58-D262-4531-88BA-293E382F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CAA6-1625-4C14-8ED3-E0D1C9E3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7BCE-6648-4666-8697-7F273C695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8FF3-A9C4-4150-A3C3-E5C3A77F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12BA-F5B5-404F-8370-4F0613B3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ADDA0-672A-466F-8718-64D9B29A9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A8ED-F309-42C4-B403-3585A66D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FAE64-E546-4C4C-98DE-BDE2BEBD9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AB22-7AD7-4F91-80B6-290970A29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C4C9-A765-44F1-BB88-6883AAA72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8E12-A399-4573-8784-DE591A49A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96D0-4B15-4E5B-B18B-5A97A822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7939-1132-46B5-86AE-39E5A23C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7BE8-E212-4DC0-AEB1-A4697A2A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8E35-632D-42FD-8417-9A0DECBA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CA74F-C094-41BC-BDD9-056D27E3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C2BA-E46C-43FA-93A0-1546B270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1EF8-8AC4-49CB-BCDF-965C0A2F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991A-03C8-4530-88A4-64085CBF8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7F7E-C9FD-4D24-A0FD-B17727A2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E74E-D058-4410-858B-810199CF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1892-2F36-4AA3-8F47-679FA7C1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7E89-7042-4A13-B671-5A72431CE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933-810B-49AF-A274-B7D953E39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0532-2A46-4A91-BA2C-AFB9A8C2EA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D2E3-2AC6-4C12-B121-1EF638527A2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2"/>
          <p:cNvSpPr txBox="1"/>
          <p:nvPr/>
        </p:nvSpPr>
        <p:spPr>
          <a:xfrm>
            <a:off x="1066680" y="1484280"/>
            <a:ext cx="712944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面对几种不知名的矿物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课件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4612d"/>
          <p:cNvPicPr/>
          <p:nvPr/>
        </p:nvPicPr>
        <p:blipFill>
          <a:blip r:embed="rId1"/>
          <a:stretch/>
        </p:blipFill>
        <p:spPr>
          <a:xfrm>
            <a:off x="0" y="0"/>
            <a:ext cx="514836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4609d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00115b52c3100862bdfc14"/>
          <p:cNvPicPr/>
          <p:nvPr/>
        </p:nvPicPr>
        <p:blipFill>
          <a:blip r:embed="rId1"/>
          <a:stretch/>
        </p:blipFill>
        <p:spPr>
          <a:xfrm>
            <a:off x="0" y="0"/>
            <a:ext cx="9144000" cy="6889680"/>
          </a:xfrm>
          <a:prstGeom prst="rect">
            <a:avLst/>
          </a:prstGeom>
          <a:ln w="0">
            <a:noFill/>
          </a:ln>
        </p:spPr>
      </p:pic>
      <p:sp>
        <p:nvSpPr>
          <p:cNvPr id="11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0023504"/>
          <p:cNvPicPr/>
          <p:nvPr/>
        </p:nvPicPr>
        <p:blipFill>
          <a:blip r:embed="rId1"/>
          <a:stretch/>
        </p:blipFill>
        <p:spPr>
          <a:xfrm>
            <a:off x="0" y="2590920"/>
            <a:ext cx="5219640" cy="4267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28162249"/>
          <p:cNvPicPr/>
          <p:nvPr/>
        </p:nvPicPr>
        <p:blipFill>
          <a:blip r:embed="rId2"/>
          <a:stretch/>
        </p:blipFill>
        <p:spPr>
          <a:xfrm>
            <a:off x="5219640" y="0"/>
            <a:ext cx="392112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200471329081"/>
          <p:cNvPicPr/>
          <p:nvPr/>
        </p:nvPicPr>
        <p:blipFill>
          <a:blip r:embed="rId3"/>
          <a:stretch/>
        </p:blipFill>
        <p:spPr>
          <a:xfrm>
            <a:off x="0" y="0"/>
            <a:ext cx="52196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1E3D-D7C9-42AB-AA73-8385EE747A4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55850836"/>
          <p:cNvPicPr/>
          <p:nvPr/>
        </p:nvPicPr>
        <p:blipFill>
          <a:blip r:embed="rId1"/>
          <a:stretch/>
        </p:blipFill>
        <p:spPr>
          <a:xfrm>
            <a:off x="0" y="0"/>
            <a:ext cx="9144000" cy="3727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200471334978"/>
          <p:cNvPicPr/>
          <p:nvPr/>
        </p:nvPicPr>
        <p:blipFill>
          <a:blip r:embed="rId2"/>
          <a:stretch/>
        </p:blipFill>
        <p:spPr>
          <a:xfrm>
            <a:off x="0" y="3727440"/>
            <a:ext cx="5400720" cy="3141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200708150924493649"/>
          <p:cNvPicPr/>
          <p:nvPr/>
        </p:nvPicPr>
        <p:blipFill>
          <a:blip r:embed="rId3"/>
          <a:stretch/>
        </p:blipFill>
        <p:spPr>
          <a:xfrm>
            <a:off x="5364000" y="3716280"/>
            <a:ext cx="378000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1042920" y="907920"/>
            <a:ext cx="23050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学习目标：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979640" y="2133720"/>
            <a:ext cx="63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403280" y="21337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综合运用观察矿物颜色和条痕、检测矿物硬度、观察矿物透明度和光泽、查找资料等方法，研究不知名的矿物，并写出特征卡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云母"/>
          <p:cNvPicPr/>
          <p:nvPr/>
        </p:nvPicPr>
        <p:blipFill>
          <a:blip r:embed="rId1"/>
          <a:stretch/>
        </p:blipFill>
        <p:spPr>
          <a:xfrm>
            <a:off x="4932360" y="260280"/>
            <a:ext cx="3660840" cy="252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石英"/>
          <p:cNvPicPr/>
          <p:nvPr/>
        </p:nvPicPr>
        <p:blipFill>
          <a:blip r:embed="rId2"/>
          <a:stretch/>
        </p:blipFill>
        <p:spPr>
          <a:xfrm>
            <a:off x="5580000" y="3068640"/>
            <a:ext cx="2952720" cy="3357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长石"/>
          <p:cNvPicPr/>
          <p:nvPr/>
        </p:nvPicPr>
        <p:blipFill>
          <a:blip r:embed="rId3"/>
          <a:stretch/>
        </p:blipFill>
        <p:spPr>
          <a:xfrm>
            <a:off x="826920" y="404640"/>
            <a:ext cx="3429000" cy="296100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5"/>
          <p:cNvSpPr/>
          <p:nvPr/>
        </p:nvSpPr>
        <p:spPr>
          <a:xfrm>
            <a:off x="1187280" y="3573360"/>
            <a:ext cx="3888000" cy="1584360"/>
          </a:xfrm>
          <a:prstGeom prst="cloudCallout">
            <a:avLst>
              <a:gd name="adj1" fmla="val -46162"/>
              <a:gd name="adj2" fmla="val 65532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猜一猜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们是什么矿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2"/>
          <p:cNvSpPr txBox="1"/>
          <p:nvPr/>
        </p:nvSpPr>
        <p:spPr>
          <a:xfrm>
            <a:off x="826920" y="692280"/>
            <a:ext cx="2160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ff6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自学指导：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ff6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971640" y="1773360"/>
            <a:ext cx="676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用观察矿物颜色和条痕、检测矿物硬度、观察矿物透明度和光泽等方法鉴别这三种矿物是什么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也可对照阅读资料中的矿物特征卡进行对照辨别。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交流汇报，确定“身份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2"/>
          <p:cNvSpPr txBox="1"/>
          <p:nvPr/>
        </p:nvSpPr>
        <p:spPr>
          <a:xfrm>
            <a:off x="1187280" y="836640"/>
            <a:ext cx="1656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作业：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1692360" y="2276640"/>
            <a:ext cx="6553080" cy="21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选择两种矿物或岩石，详细了解利用它们的不同特性在生产和生活中的应用。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文本框 8199"/>
          <p:cNvSpPr/>
          <p:nvPr/>
        </p:nvSpPr>
        <p:spPr>
          <a:xfrm>
            <a:off x="1093680" y="735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4602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4603d"/>
          <p:cNvPicPr/>
          <p:nvPr/>
        </p:nvPicPr>
        <p:blipFill>
          <a:blip r:embed="rId1"/>
          <a:stretch/>
        </p:blipFill>
        <p:spPr>
          <a:xfrm>
            <a:off x="0" y="0"/>
            <a:ext cx="4716360" cy="3537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4604d"/>
          <p:cNvPicPr/>
          <p:nvPr/>
        </p:nvPicPr>
        <p:blipFill>
          <a:blip r:embed="rId2"/>
          <a:stretch/>
        </p:blipFill>
        <p:spPr>
          <a:xfrm>
            <a:off x="4686480" y="3514680"/>
            <a:ext cx="4457520" cy="3343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4607d"/>
          <p:cNvPicPr/>
          <p:nvPr/>
        </p:nvPicPr>
        <p:blipFill>
          <a:blip r:embed="rId3"/>
          <a:stretch/>
        </p:blipFill>
        <p:spPr>
          <a:xfrm>
            <a:off x="4686480" y="0"/>
            <a:ext cx="4457520" cy="3645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4608d"/>
          <p:cNvPicPr/>
          <p:nvPr/>
        </p:nvPicPr>
        <p:blipFill>
          <a:blip r:embed="rId4"/>
          <a:stretch/>
        </p:blipFill>
        <p:spPr>
          <a:xfrm>
            <a:off x="0" y="3402000"/>
            <a:ext cx="47163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4605d"/>
          <p:cNvPicPr/>
          <p:nvPr/>
        </p:nvPicPr>
        <p:blipFill>
          <a:blip r:embed="rId1"/>
          <a:stretch/>
        </p:blipFill>
        <p:spPr>
          <a:xfrm>
            <a:off x="0" y="9360"/>
            <a:ext cx="485928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4606d"/>
          <p:cNvPicPr/>
          <p:nvPr/>
        </p:nvPicPr>
        <p:blipFill>
          <a:blip r:embed="rId2"/>
          <a:stretch/>
        </p:blipFill>
        <p:spPr>
          <a:xfrm>
            <a:off x="4140360" y="0"/>
            <a:ext cx="500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06:0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3:15Z</dcterms:modified>
  <cp:revision>3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