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projctor.wav" ContentType="audio/x-wav"/>
  <Override PartName="/ppt/media/image22.png" ContentType="image/png"/>
  <Override PartName="/ppt/media/image27.png" ContentType="image/png"/>
  <Override PartName="/ppt/media/image24.png" ContentType="image/png"/>
  <Override PartName="/ppt/media/image21.png" ContentType="image/png"/>
  <Override PartName="/ppt/media/image19.png" ContentType="image/png"/>
  <Override PartName="/ppt/media/chimes.wav" ContentType="audio/x-wav"/>
  <Override PartName="/ppt/media/image16.jpeg" ContentType="image/jpeg"/>
  <Override PartName="/ppt/media/image5.wmf" ContentType="image/x-wmf"/>
  <Override PartName="/ppt/media/image15.jpeg" ContentType="image/jpeg"/>
  <Override PartName="/ppt/media/image14.wmf" ContentType="image/x-wmf"/>
  <Override PartName="/ppt/media/image1.jpeg" ContentType="image/jpeg"/>
  <Override PartName="/ppt/media/image35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7.jpeg" ContentType="image/jpeg"/>
  <Override PartName="/ppt/media/image12.jpeg" ContentType="image/jpeg"/>
  <Override PartName="/ppt/media/image11.wmf" ContentType="image/x-wmf"/>
  <Override PartName="/ppt/media/image17.jpeg" ContentType="image/jpeg"/>
  <Override PartName="/ppt/media/image26.png" ContentType="image/png"/>
  <Override PartName="/ppt/media/image41.png" ContentType="image/png"/>
  <Override PartName="/ppt/media/DRUMROLL.WAV" ContentType="audio/x-wav"/>
  <Override PartName="/ppt/media/image30.jpeg" ContentType="image/jpeg"/>
  <Override PartName="/ppt/media/image28.jpeg" ContentType="image/jpeg"/>
  <Override PartName="/ppt/media/image32.png" ContentType="image/png"/>
  <Override PartName="/ppt/media/image33.png" ContentType="image/png"/>
  <Override PartName="/ppt/media/image29.wmf" ContentType="image/x-wmf"/>
  <Override PartName="/ppt/media/image43.gif" ContentType="image/gif"/>
  <Override PartName="/ppt/media/image31.jpeg" ContentType="image/jpeg"/>
  <Override PartName="/ppt/media/image4.jpeg" ContentType="image/jpeg"/>
  <Override PartName="/ppt/media/image44.jpeg" ContentType="image/jpeg"/>
  <Override PartName="/ppt/media/image34.wmf" ContentType="image/x-wmf"/>
  <Override PartName="/ppt/media/image45.jpeg" ContentType="image/jpeg"/>
  <Override PartName="/ppt/media/image10.jpeg" ContentType="image/jpeg"/>
  <Override PartName="/ppt/media/image25.png" ContentType="image/png"/>
  <Override PartName="/ppt/media/image42.jpeg" ContentType="image/jpeg"/>
  <Override PartName="/ppt/media/image2.gif" ContentType="image/gif"/>
  <Override PartName="/ppt/media/image39.jpeg" ContentType="image/jpeg"/>
  <Override PartName="/ppt/media/image8.jpeg" ContentType="image/jpeg"/>
  <Override PartName="/ppt/media/image38.png" ContentType="image/png"/>
  <Override PartName="/ppt/media/image9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3.jpeg" ContentType="image/jpeg"/>
  <Override PartName="/ppt/media/image37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BFD4-EC49-41F4-995D-62F864C97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BEA9-C784-4017-8E5C-4A16092AE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FCDFC0-5BC3-44E6-BEA5-95C6C673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E60D33-E8A1-4526-A780-97B99C55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8C56A6-0F71-490C-9F13-44E4EDD2A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2139A-D84C-47A1-8EAB-F970511AD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92BA22-3E88-45F6-953A-400FE02C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90D9A8-797C-41A1-8999-81B80193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45549-D394-4763-968E-587709498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08A25C-F526-4D40-891E-4F36F1E02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1581A0-CC76-4CFD-9D20-E7CE8D74B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386265-9CC2-4A52-819D-8EEE8BCCC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6DA8-CF56-4692-9F6E-04F82CBFD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3F39A4-5661-4854-B17F-8393D6FF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DD553-5C17-4B6D-875C-7A34868C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8E26DD-1F99-4CE9-AD10-3C955D472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BF1431-2A0A-48DD-AB99-8C4F2556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7FF95F-55FA-453B-85AF-4BC31029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118A76-BF7F-4BFA-BB95-0489D800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69F9E8-03E3-463A-90B2-F6B2511C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E1D92F-2561-4B75-9D9A-B9B5E0DA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31F68D-B96B-4EBD-8D1D-2A2BE9529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D79615-03B3-4600-A427-DFD6698F0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1718-3BB7-4968-8BCD-C145BD5A2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21B646-F30C-40DD-A98A-2064ADAF4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8FC28-00AD-443A-890F-DB3394F22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654FE4-9C82-424F-805C-6735EDBAD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2ADD2-0579-427B-BAD9-D7514B71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D0533A-CD12-45D4-AC26-D3DB20FF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47131F-5331-4736-8A22-E992C642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10423F-BAF7-47DF-8533-8B6CA596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E6732F-8084-440F-8327-988BEF7E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C003D5-39B2-44B0-8578-0597A4A7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7FA356-787A-48BA-B178-B190A7B52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0792D-F3E0-464F-B432-C199ACE92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E0B542-269D-41A7-8D0B-B8A4EFC8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6A5189-441C-424E-B663-573D94238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6DE65-8990-408B-8716-EFDF6C11A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8CF20A-1EF6-4C1A-9B4B-0BEE212C8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97601A-E648-4F3B-B95A-69F787D89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328E3C-A289-4EDD-9B5E-0FD8E9C04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1257F0-AE16-4044-AB5C-9BB50C56C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FC42D4-D6B3-497C-9AC3-405F27AC1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0FA867-A60A-46F1-A6D5-90D194B0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3C8377-65FE-4CC6-94FE-73FB982C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9F34E-839E-4630-886B-DB80AC94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A7C085-52DE-4B20-88D8-12DEA345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E83CBB-5BB8-4AEF-AABE-4F558D72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35E378-AE01-43C7-9AF4-3587EE63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0ED926-F611-4FF8-AD89-4939C9674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60718-704C-4678-AC85-55DB99143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B5FC09B-B486-481B-BEC9-627835137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2E28C1-DCCC-4884-8B70-9713700A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4956F0-2A97-45EE-9D61-6C0F8CFA6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6F5222-B40B-4352-BB32-91AEC91E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2B7E4A-E670-4E59-A560-3CE27406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27578-A762-4960-AA1D-18182922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EAE993-F73C-4215-AAF6-F79052CF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8B8A33-A549-481D-9563-0D09CE643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BF7FF8-F48C-4D92-BCEC-5A1AF40D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9B2E2F-D1EE-475D-B193-03175A155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715509-CD39-4936-BFAF-7F0AD6FD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F630EA-215B-4CA5-B161-7D9320935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4449E7-CB34-4133-9115-E505AF115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D549-EA8B-4410-A740-032BE418E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3C60-F29A-468C-A81F-A29E76E24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F486-E366-4E3F-B692-A248BFF2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B49DF-DDC3-4F10-8EBD-CE0AEFF0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59A6-F285-4B53-B160-10E80F1C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7E4D4-5E65-4DDD-896F-88908B16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BDC46-8C16-4A0D-B1F0-17F410D2A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6263B-B435-4532-B1CE-57CBE258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83A58-D32F-4E91-BB6F-78B194071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E705-2C42-4A24-AEB6-6D7C9881E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3E707-11C6-4414-9BC6-06C1F1A2D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59A57-F434-48F8-AA43-D286EABF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5BAD3-B5BA-4CF6-B929-8A4587C9B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F3B652-BF01-465C-B1E2-55608A979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EE7D9-6F24-45B9-B9D5-A9034607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DE48-A441-47A6-9B9B-F7CC4BA22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474C0-47DD-4639-819F-54A8E670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6C96F-60BB-4BEC-9117-B1A32A8E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63C9F-251D-4BC5-B3FE-CAC770A5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F4D98-D75F-4539-80E6-674DFC3B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7BF0F-1E96-4711-8AD2-94EB6E894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4E619-1D13-49D5-8940-BC90E3996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E80CA-AC4A-40E8-A893-A329CA8AD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C23D2-D583-4235-A696-632493349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F34BD-86FF-45A0-9BCC-ED3CD0516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62EB4-0777-4BC9-A51F-14FC9B3FE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6EC5-549E-409B-89B0-B8FFF24FD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01D85-341E-4F08-A83E-0292C359E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B45B2-9438-4F8A-95F3-776ABF08B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3E81F1-1FD7-4E2D-8E5C-D4662E7FA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58926-1EC7-4C89-8020-04C410359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82327-602E-4198-830F-A4662BD7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CD987-E58A-41DE-B9E6-1F19D836E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F29F6-017F-4574-9695-1F37DB66C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A4EA57-8767-41D6-A0EE-26A95BC40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35F9A-25A4-4AC2-8677-CA5678D06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8F54E-4DED-4BB0-B2B7-C0EC88CDA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7EBB-F7F4-4330-88B1-E2FB1446C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C2909-01BB-468A-8973-525B7F95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24876-AF01-4E2E-B496-D821A3E5C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54974-42A4-47C8-BA91-975FCD12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184B4-3DEC-4B67-BF0D-A40A7EFD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7AEDD-79C1-402E-98A2-4846BE80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8329E-A88D-430B-A2B3-9522F8FA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083CF-529D-45AE-885F-78A014BB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F7FE3-352C-4668-A850-5369D6F4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500AD-CF82-4285-8A7F-C5B69162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F4069C-876D-48DB-8468-C506E7A40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56C2-D0AF-44B6-B614-36E75F05D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C326E-53B1-46D0-979C-2D6285551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86F5B-50A3-443F-ACDC-D2BC0FA7E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B78E3-2E04-43A1-B2CC-8B40AE2C1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1E408-2784-4612-B569-416E811CA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2A94C3-EBB0-4322-A5F7-840D4C79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F8538F-E149-4047-9A9A-D668EBA17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DC8825-32BE-4C4B-96BB-4FC16A22E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00C567-5BA5-427E-9DE5-6B060F102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90FBE5-09A3-4D2A-83FD-E5259478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EDF97-21A6-4DF6-806F-4BFD3B18D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A34D-9D05-4761-8FF5-8482BA53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30D1C-37E1-4A9A-9B01-2640C145B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57265-2D07-4AA2-89F4-75BAC05A0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0A7E2B-6FBB-4A87-895C-6D9BAA75E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C3001-ADE5-4EEC-AB7A-5536C3437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1145D6-BABC-4AEF-8059-D10A22D6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93AD1-B175-4CFE-8122-E2C15B3ED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BE37C6-6CEC-4C49-BFC7-48AC2AB0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4712B-E263-4DBF-8B5F-F8CF867C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EF98D-26A9-4061-B75A-B91BAD7A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75752-478C-4F4A-AB70-AABDD465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DB9E-B482-4A0D-A09F-C0CC7AA7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9D1CC3-34C6-4FDE-B21B-BB72D3C0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5C165E-6B15-4BA6-8793-34E88AA9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FF86B-E4C2-4677-BDF8-4F9BB5C1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BC6F80-4D62-4308-9674-221C66E81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ABEA9-0EF6-4C71-9B18-2C231398A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E6B677-FEE0-41C7-9FD3-C1BF4F59E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28AAB-69A3-4F15-B974-95AE6652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EA301-AE02-41D9-B697-F3E654DE2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F0AC40-490A-42F1-9757-1A2DB56C4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9BC2D-E3A8-4F29-B764-798B78CA7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05D87-6C4B-4F27-9329-7662D8C8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C77558-243A-45A6-B0BB-BDBFE1BF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6C83D-18EE-4F23-9CC7-DE0020B8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8ED75D-8989-4D4A-828B-AA771007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8597B-7AB5-48C4-850F-6D9965D1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F1C07-692A-4306-817C-9C54AFCF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AD695-9881-44C0-8B1E-EFC918B3C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227BF9-B730-44C5-ACC5-88686423D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3764F-14DF-4027-824C-B4A1976D7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13D7BE-AD0B-4815-8A4A-8F1231E92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EC7F85-572A-4A60-BBCD-A3F18257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6CFAE-EA2B-4A32-9573-E41ED51F5F2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2437-1360-489C-A49A-A0ACA490A60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6761-620F-4B50-A15A-226ECD013B5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AAE0D-AEAB-41C6-A1DD-23E7EAB3085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58F2-8E53-4170-A218-FDA23BAE144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F37C-6DA7-4819-A4D6-C8D5D014F37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B330-33A8-4BDF-943C-EE22E0EB8E5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ABFF-11A1-4C23-977F-72E7C770B10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01D3-F33E-4793-AA4F-CDDBA5888E4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4EB8B-6B92-4697-AFE5-2D42626C4DC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897D6-A2B4-43FB-A5BE-98FFA36EE05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2A9C-3A75-463F-B5DF-4288815A772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70E5-69F3-4C1A-AC7B-B2F45D1D1A4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image" Target="../media/image26.png"/><Relationship Id="rId11" Type="http://schemas.openxmlformats.org/officeDocument/2006/relationships/image" Target="../media/image27.png"/><Relationship Id="rId12" Type="http://schemas.openxmlformats.org/officeDocument/2006/relationships/audio" Target="../media/chimes.wav"/><Relationship Id="rId13" Type="http://schemas.openxmlformats.org/officeDocument/2006/relationships/audio" Target="../media/projctor.wav"/><Relationship Id="rId14" Type="http://schemas.openxmlformats.org/officeDocument/2006/relationships/audio" Target="../media/chimes.wav"/><Relationship Id="rId15" Type="http://schemas.openxmlformats.org/officeDocument/2006/relationships/audio" Target="../media/projctor.wav"/><Relationship Id="rId16" Type="http://schemas.openxmlformats.org/officeDocument/2006/relationships/audio" Target="../media/chimes.wav"/><Relationship Id="rId17" Type="http://schemas.openxmlformats.org/officeDocument/2006/relationships/audio" Target="../media/projctor.wav"/><Relationship Id="rId18" Type="http://schemas.openxmlformats.org/officeDocument/2006/relationships/audio" Target="../media/chimes.wav"/><Relationship Id="rId19" Type="http://schemas.openxmlformats.org/officeDocument/2006/relationships/audio" Target="../media/projctor.wav"/><Relationship Id="rId20" Type="http://schemas.openxmlformats.org/officeDocument/2006/relationships/audio" Target="../media/chimes.wav"/><Relationship Id="rId21" Type="http://schemas.openxmlformats.org/officeDocument/2006/relationships/audio" Target="../media/projctor.wav"/><Relationship Id="rId22" Type="http://schemas.openxmlformats.org/officeDocument/2006/relationships/audio" Target="../media/chimes.wav"/><Relationship Id="rId23" Type="http://schemas.openxmlformats.org/officeDocument/2006/relationships/audio" Target="../media/DRUMROLL.WAV"/><Relationship Id="rId24" Type="http://schemas.openxmlformats.org/officeDocument/2006/relationships/audio" Target="../media/projctor.wav"/><Relationship Id="rId25" Type="http://schemas.openxmlformats.org/officeDocument/2006/relationships/audio" Target="../media/chimes.wav"/><Relationship Id="rId2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9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gif"/><Relationship Id="rId3" Type="http://schemas.openxmlformats.org/officeDocument/2006/relationships/slideLayout" Target="../slideLayouts/slideLayout9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9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51766.com/www/home/show_info.jsp?info_id=1100377585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9"/>
          <p:cNvGrpSpPr/>
          <p:nvPr/>
        </p:nvGrpSpPr>
        <p:grpSpPr>
          <a:xfrm>
            <a:off x="2216160" y="3000240"/>
            <a:ext cx="5179680" cy="2300400"/>
            <a:chOff x="2216160" y="3000240"/>
            <a:chExt cx="5179680" cy="2300400"/>
          </a:xfrm>
        </p:grpSpPr>
        <p:sp>
          <p:nvSpPr>
            <p:cNvPr id="534" name="AutoShape 10"/>
            <p:cNvSpPr/>
            <p:nvPr/>
          </p:nvSpPr>
          <p:spPr>
            <a:xfrm>
              <a:off x="2216160" y="3000240"/>
              <a:ext cx="5179680" cy="2300400"/>
            </a:xfrm>
            <a:prstGeom prst="roundRect">
              <a:avLst>
                <a:gd name="adj" fmla="val 16667"/>
              </a:avLst>
            </a:prstGeom>
            <a:solidFill>
              <a:srgbClr val="ffffd5">
                <a:alpha val="12000"/>
              </a:srgbClr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1"/>
            <p:cNvSpPr/>
            <p:nvPr/>
          </p:nvSpPr>
          <p:spPr>
            <a:xfrm>
              <a:off x="2410200" y="3106080"/>
              <a:ext cx="4788000" cy="2089800"/>
            </a:xfrm>
            <a:prstGeom prst="roundRect">
              <a:avLst>
                <a:gd name="adj" fmla="val 16667"/>
              </a:avLst>
            </a:prstGeom>
            <a:solidFill>
              <a:srgbClr val="ffffd5">
                <a:alpha val="12000"/>
              </a:srgbClr>
            </a:solidFill>
            <a:ln w="324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" name="Text Box 12"/>
          <p:cNvSpPr/>
          <p:nvPr/>
        </p:nvSpPr>
        <p:spPr>
          <a:xfrm>
            <a:off x="1333440" y="106992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30856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第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3"/>
          <p:cNvSpPr/>
          <p:nvPr/>
        </p:nvSpPr>
        <p:spPr>
          <a:xfrm>
            <a:off x="1258920" y="1711440"/>
            <a:ext cx="69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蒙古的兴起和元朝的灭亡课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4"/>
          <p:cNvSpPr/>
          <p:nvPr/>
        </p:nvSpPr>
        <p:spPr>
          <a:xfrm>
            <a:off x="2793960" y="3233880"/>
            <a:ext cx="40179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一代天骄”统一蒙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忽必烈建立元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民族融合的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4"/>
          <p:cNvSpPr/>
          <p:nvPr/>
        </p:nvSpPr>
        <p:spPr>
          <a:xfrm>
            <a:off x="612720" y="1319040"/>
            <a:ext cx="43196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　   由于成吉思汗儿时失去父亲，由母亲携带着几个弟弟一起生活，艰苦的生活环境练就了他刚强的性格。他曾说过：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拼杀冲锋的时候，要像雄鹰一样；高兴的时候，要像三岁牛犊一般欢快；在明亮的白昼，要深沉细心；在黑暗的夜里，要有坚强的忍耐力。”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这正是他坚强刚毅的精神写照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5" descr="P61B"/>
          <p:cNvPicPr/>
          <p:nvPr/>
        </p:nvPicPr>
        <p:blipFill>
          <a:blip r:embed="rId1"/>
          <a:stretch/>
        </p:blipFill>
        <p:spPr>
          <a:xfrm>
            <a:off x="4746600" y="907920"/>
            <a:ext cx="3641760" cy="374508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6"/>
          <p:cNvSpPr/>
          <p:nvPr/>
        </p:nvSpPr>
        <p:spPr>
          <a:xfrm>
            <a:off x="5508720" y="494172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成吉思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4" descr="1812125"/>
          <p:cNvPicPr/>
          <p:nvPr/>
        </p:nvPicPr>
        <p:blipFill>
          <a:blip r:embed="rId1"/>
          <a:stretch/>
        </p:blipFill>
        <p:spPr>
          <a:xfrm>
            <a:off x="1258920" y="836640"/>
            <a:ext cx="7416720" cy="474984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5"/>
          <p:cNvSpPr/>
          <p:nvPr/>
        </p:nvSpPr>
        <p:spPr>
          <a:xfrm>
            <a:off x="3564000" y="5589720"/>
            <a:ext cx="262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蒙古军攻击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ext Box 6"/>
          <p:cNvSpPr/>
          <p:nvPr/>
        </p:nvSpPr>
        <p:spPr>
          <a:xfrm>
            <a:off x="684360" y="1581120"/>
            <a:ext cx="7775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完成了统一蒙古的历史使命。 从此，蒙古草原结束了长期混战的局面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      </a:t>
            </a:r>
            <a:r>
              <a:rPr b="1" lang="en-US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1206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，蒙古贵族召开大会，推举铁木真为大汗，尊称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成吉思汗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蒙古政权建立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实行了</a:t>
            </a:r>
            <a:r>
              <a:rPr b="1" lang="zh-CN" sz="3200" spc="-1" strike="noStrike">
                <a:solidFill>
                  <a:srgbClr val="ff3300"/>
                </a:solidFill>
                <a:latin typeface="华文中宋"/>
                <a:ea typeface="华文中宋"/>
              </a:rPr>
              <a:t>军政合一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的国家体制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创制了蒙古文字，颁布了法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1"/>
          <p:cNvSpPr/>
          <p:nvPr/>
        </p:nvSpPr>
        <p:spPr>
          <a:xfrm>
            <a:off x="828720" y="78264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成吉思汗突出的历史功绩是什么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12" descr="0786"/>
          <p:cNvPicPr/>
          <p:nvPr/>
        </p:nvPicPr>
        <p:blipFill>
          <a:blip r:embed="rId1"/>
          <a:stretch/>
        </p:blipFill>
        <p:spPr>
          <a:xfrm>
            <a:off x="1116000" y="5229360"/>
            <a:ext cx="7056360" cy="85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900000" y="1555920"/>
            <a:ext cx="756144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50745"/>
                </a:solidFill>
                <a:latin typeface="华文中宋"/>
                <a:ea typeface="华文中宋"/>
              </a:rPr>
              <a:t>客观因素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　辽、金对蒙古人民的掠夺战争，蒙古各部落的混战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人民渴望统一、和平、安宁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   军事上训练了一支强大的骑兵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50745"/>
                </a:solidFill>
                <a:latin typeface="华文中宋"/>
                <a:ea typeface="华文中宋"/>
              </a:rPr>
              <a:t>个人因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　　　坚强的意志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坚忍不拔的毅力，机敏果敢的性格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Text Box 4"/>
          <p:cNvSpPr/>
          <p:nvPr/>
        </p:nvSpPr>
        <p:spPr>
          <a:xfrm>
            <a:off x="1297080" y="843120"/>
            <a:ext cx="70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成吉思汗成功的原因有哪些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7"/>
          <p:cNvSpPr/>
          <p:nvPr/>
        </p:nvSpPr>
        <p:spPr>
          <a:xfrm>
            <a:off x="754200" y="750960"/>
            <a:ext cx="3816360" cy="58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r>
              <a:rPr b="1" lang="zh-CN" sz="26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　　北国风光， </a:t>
            </a:r>
            <a:br>
              <a:rPr sz="2600"/>
            </a:br>
            <a:br>
              <a:rPr sz="2600"/>
            </a:br>
            <a:r>
              <a:rPr b="1" lang="zh-CN" sz="26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　　千里冰封， </a:t>
            </a:r>
            <a:br>
              <a:rPr sz="2600"/>
            </a:br>
            <a:br>
              <a:rPr sz="2600"/>
            </a:br>
            <a:r>
              <a:rPr b="1" lang="zh-CN" sz="26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　　万里雪飘。 </a:t>
            </a:r>
            <a:br>
              <a:rPr sz="2600"/>
            </a:br>
            <a:br>
              <a:rPr sz="2600"/>
            </a:br>
            <a:r>
              <a:rPr b="1" lang="zh-CN" sz="26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　　望长城内外， </a:t>
            </a:r>
            <a:br>
              <a:rPr sz="2600"/>
            </a:br>
            <a:br>
              <a:rPr sz="2600"/>
            </a:br>
            <a:r>
              <a:rPr b="1" lang="zh-CN" sz="26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　　惟余莽莽； </a:t>
            </a:r>
            <a:br>
              <a:rPr sz="2600"/>
            </a:br>
            <a:br>
              <a:rPr sz="2600"/>
            </a:br>
            <a:r>
              <a:rPr b="1" lang="zh-CN" sz="26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　　大河上下， </a:t>
            </a:r>
            <a:br>
              <a:rPr sz="2600"/>
            </a:br>
            <a:br>
              <a:rPr sz="2600"/>
            </a:br>
            <a:r>
              <a:rPr b="1" lang="zh-CN" sz="26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　　顿失滔滔。 </a:t>
            </a:r>
            <a:br>
              <a:rPr sz="2600"/>
            </a:br>
            <a:br>
              <a:rPr sz="2600"/>
            </a:br>
            <a:r>
              <a:rPr b="1" lang="zh-CN" sz="26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　　山舞银蛇， </a:t>
            </a:r>
            <a:br>
              <a:rPr sz="2600"/>
            </a:br>
            <a:br>
              <a:rPr sz="2600"/>
            </a:br>
            <a:r>
              <a:rPr b="1" lang="zh-CN" sz="26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　　原驰蜡象， </a:t>
            </a:r>
            <a:br>
              <a:rPr sz="2600"/>
            </a:br>
            <a:br>
              <a:rPr sz="2600"/>
            </a:br>
            <a:r>
              <a:rPr b="1" lang="zh-CN" sz="26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　　欲与天公试比高。 </a:t>
            </a:r>
            <a:br>
              <a:rPr sz="2600"/>
            </a:br>
            <a:br>
              <a:rPr sz="2600"/>
            </a:br>
            <a:r>
              <a:rPr b="1" lang="zh-CN" sz="26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　　须晴日， </a:t>
            </a:r>
            <a:br>
              <a:rPr sz="2600"/>
            </a:br>
            <a:br>
              <a:rPr sz="2600"/>
            </a:br>
            <a:r>
              <a:rPr b="1" lang="zh-CN" sz="26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　　看红装素裹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  </a:t>
            </a:r>
            <a:r>
              <a:rPr b="1" lang="zh-CN" sz="26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　分外妖娆。 </a:t>
            </a:r>
            <a:br>
              <a:rPr sz="2600"/>
            </a:b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8"/>
          <p:cNvSpPr/>
          <p:nvPr/>
        </p:nvSpPr>
        <p:spPr>
          <a:xfrm>
            <a:off x="2411280" y="325440"/>
            <a:ext cx="35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沁园春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·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2"/>
          <p:cNvSpPr/>
          <p:nvPr/>
        </p:nvSpPr>
        <p:spPr>
          <a:xfrm>
            <a:off x="5075280" y="1238400"/>
            <a:ext cx="3600360" cy="64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江山如此多娇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引无数英雄竞折腰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惜秦皇汉武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略输文采；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唐宗宋祖，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稍逊风骚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代天骄，　　　　　       成吉思汗，</a:t>
            </a:r>
            <a:r>
              <a:rPr b="1" lang="zh-CN" sz="26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 　　　　　　　　　　　　　　　　　　  只识弯弓射大雕。　　　　　　　　　　　　　　　　　　 俱往矣，　　　　　　　　　　　　　　　　　　        数风流人物，　　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还看今朝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5"/>
          <p:cNvSpPr/>
          <p:nvPr/>
        </p:nvSpPr>
        <p:spPr>
          <a:xfrm>
            <a:off x="5477760" y="68580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毛泽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ShockwaveFlash1" descr=""/>
          <p:cNvPicPr/>
          <p:nvPr/>
        </p:nvPicPr>
        <p:blipFill>
          <a:blip r:embed="rId1"/>
          <a:stretch/>
        </p:blipFill>
        <p:spPr>
          <a:xfrm>
            <a:off x="7451640" y="476280"/>
            <a:ext cx="108108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6"/>
          <p:cNvSpPr/>
          <p:nvPr/>
        </p:nvSpPr>
        <p:spPr>
          <a:xfrm>
            <a:off x="2987640" y="558972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成吉思汗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9" descr="1258"/>
          <p:cNvPicPr/>
          <p:nvPr/>
        </p:nvPicPr>
        <p:blipFill>
          <a:blip r:embed="rId1"/>
          <a:stretch/>
        </p:blipFill>
        <p:spPr>
          <a:xfrm>
            <a:off x="7740720" y="5734080"/>
            <a:ext cx="936720" cy="7873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0" descr="1812126"/>
          <p:cNvPicPr/>
          <p:nvPr/>
        </p:nvPicPr>
        <p:blipFill>
          <a:blip r:embed="rId2"/>
          <a:stretch/>
        </p:blipFill>
        <p:spPr>
          <a:xfrm>
            <a:off x="1330200" y="981000"/>
            <a:ext cx="6913800" cy="462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ext Box 4"/>
          <p:cNvSpPr/>
          <p:nvPr/>
        </p:nvSpPr>
        <p:spPr>
          <a:xfrm>
            <a:off x="539640" y="1839960"/>
            <a:ext cx="295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c0504d"/>
                </a:solidFill>
                <a:latin typeface="Arial"/>
                <a:ea typeface="华文中宋"/>
              </a:rPr>
              <a:t>元朝统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539640" y="28591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华文中宋"/>
                <a:ea typeface="华文中宋"/>
              </a:rPr>
              <a:t>2.</a:t>
            </a:r>
            <a:r>
              <a:rPr b="1" lang="zh-CN" sz="3200" spc="-1" strike="noStrike">
                <a:solidFill>
                  <a:srgbClr val="c0504d"/>
                </a:solidFill>
                <a:latin typeface="华文中宋"/>
                <a:ea typeface="华文中宋"/>
              </a:rPr>
              <a:t>忽必烈的统治措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6"/>
          <p:cNvSpPr/>
          <p:nvPr/>
        </p:nvSpPr>
        <p:spPr>
          <a:xfrm>
            <a:off x="2484360" y="2857680"/>
            <a:ext cx="289080" cy="1873080"/>
          </a:xfrm>
          <a:custGeom>
            <a:avLst/>
            <a:gdLst>
              <a:gd name="textAreaLeft" fmla="*/ 184680 w 289080"/>
              <a:gd name="textAreaRight" fmla="*/ 289080 w 28908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7"/>
          <p:cNvSpPr/>
          <p:nvPr/>
        </p:nvSpPr>
        <p:spPr>
          <a:xfrm>
            <a:off x="2771640" y="278280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华文中宋"/>
              </a:rPr>
              <a:t>实行行省制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8"/>
          <p:cNvSpPr/>
          <p:nvPr/>
        </p:nvSpPr>
        <p:spPr>
          <a:xfrm>
            <a:off x="2700360" y="350208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华文中宋"/>
              </a:rPr>
              <a:t>重视农业 采取措施发展生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9"/>
          <p:cNvSpPr/>
          <p:nvPr/>
        </p:nvSpPr>
        <p:spPr>
          <a:xfrm>
            <a:off x="2700360" y="42228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华文中宋"/>
              </a:rPr>
              <a:t>以大都为京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Picture 10" descr="1258"/>
          <p:cNvPicPr/>
          <p:nvPr/>
        </p:nvPicPr>
        <p:blipFill>
          <a:blip r:embed="rId1"/>
          <a:stretch/>
        </p:blipFill>
        <p:spPr>
          <a:xfrm>
            <a:off x="3132000" y="1700280"/>
            <a:ext cx="863640" cy="7873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11" descr="1258"/>
          <p:cNvPicPr/>
          <p:nvPr/>
        </p:nvPicPr>
        <p:blipFill>
          <a:blip r:embed="rId2"/>
          <a:stretch/>
        </p:blipFill>
        <p:spPr>
          <a:xfrm>
            <a:off x="5580000" y="2714760"/>
            <a:ext cx="863640" cy="78732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12" descr="1258"/>
          <p:cNvPicPr/>
          <p:nvPr/>
        </p:nvPicPr>
        <p:blipFill>
          <a:blip r:embed="rId3"/>
          <a:stretch/>
        </p:blipFill>
        <p:spPr>
          <a:xfrm>
            <a:off x="7740720" y="3506760"/>
            <a:ext cx="863640" cy="7873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3" descr="1258"/>
          <p:cNvPicPr/>
          <p:nvPr/>
        </p:nvPicPr>
        <p:blipFill>
          <a:blip r:embed="rId4"/>
          <a:stretch/>
        </p:blipFill>
        <p:spPr>
          <a:xfrm>
            <a:off x="5796000" y="4154400"/>
            <a:ext cx="863640" cy="78732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14"/>
          <p:cNvSpPr/>
          <p:nvPr/>
        </p:nvSpPr>
        <p:spPr>
          <a:xfrm>
            <a:off x="755640" y="765000"/>
            <a:ext cx="59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忽必烈建立元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15" descr="j0420334"/>
          <p:cNvPicPr/>
          <p:nvPr/>
        </p:nvPicPr>
        <p:blipFill>
          <a:blip r:embed="rId5"/>
          <a:stretch/>
        </p:blipFill>
        <p:spPr>
          <a:xfrm>
            <a:off x="684360" y="5084640"/>
            <a:ext cx="6192720" cy="105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4"/>
          <p:cNvSpPr/>
          <p:nvPr/>
        </p:nvSpPr>
        <p:spPr>
          <a:xfrm>
            <a:off x="755640" y="112536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华文中宋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中宋"/>
              </a:rPr>
              <a:t>在元之前我国历史上曾经出现过几次结束分裂的大统一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5"/>
          <p:cNvSpPr/>
          <p:nvPr/>
        </p:nvSpPr>
        <p:spPr>
          <a:xfrm>
            <a:off x="1187280" y="2484360"/>
            <a:ext cx="7058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秦                   公元前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221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西晋                公元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280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隋                   公元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589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8" descr="1063"/>
          <p:cNvPicPr/>
          <p:nvPr/>
        </p:nvPicPr>
        <p:blipFill>
          <a:blip r:embed="rId1"/>
          <a:stretch/>
        </p:blipFill>
        <p:spPr>
          <a:xfrm>
            <a:off x="7583400" y="476280"/>
            <a:ext cx="1020960" cy="86184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1" descr="1063"/>
          <p:cNvPicPr/>
          <p:nvPr/>
        </p:nvPicPr>
        <p:blipFill>
          <a:blip r:embed="rId2"/>
          <a:stretch/>
        </p:blipFill>
        <p:spPr>
          <a:xfrm>
            <a:off x="4932360" y="5229360"/>
            <a:ext cx="1020600" cy="86184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2" descr="1063"/>
          <p:cNvPicPr/>
          <p:nvPr/>
        </p:nvPicPr>
        <p:blipFill>
          <a:blip r:embed="rId3"/>
          <a:stretch/>
        </p:blipFill>
        <p:spPr>
          <a:xfrm>
            <a:off x="3780000" y="5229360"/>
            <a:ext cx="1020600" cy="86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4"/>
          <p:cNvSpPr/>
          <p:nvPr/>
        </p:nvSpPr>
        <p:spPr>
          <a:xfrm>
            <a:off x="1908000" y="56610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忽必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5"/>
          <p:cNvSpPr/>
          <p:nvPr/>
        </p:nvSpPr>
        <p:spPr>
          <a:xfrm>
            <a:off x="4788000" y="925560"/>
            <a:ext cx="392436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忽必烈（</a:t>
            </a:r>
            <a:r>
              <a:rPr b="1" lang="en-US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15—1294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），成吉思汗之孙，名字全称孛儿只斤忽必烈，元朝的创始皇帝，庙号世祖，谥号圣德神功文武皇帝，蒙古语尊称薛禅皇帝。他也是第五代的蒙古大汗。</a:t>
            </a:r>
            <a:r>
              <a:rPr b="1" lang="en-US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1260—1294</a:t>
            </a:r>
            <a:r>
              <a:rPr b="1" lang="zh-CN" sz="3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在位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7" descr="1812127"/>
          <p:cNvPicPr/>
          <p:nvPr/>
        </p:nvPicPr>
        <p:blipFill>
          <a:blip r:embed="rId1"/>
          <a:stretch/>
        </p:blipFill>
        <p:spPr>
          <a:xfrm>
            <a:off x="1368360" y="836640"/>
            <a:ext cx="3443400" cy="489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元统一全国底图"/>
          <p:cNvPicPr/>
          <p:nvPr/>
        </p:nvPicPr>
        <p:blipFill>
          <a:blip r:embed="rId1"/>
          <a:stretch/>
        </p:blipFill>
        <p:spPr>
          <a:xfrm>
            <a:off x="179280" y="0"/>
            <a:ext cx="8839440" cy="683244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58560" y="115560"/>
            <a:ext cx="316836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  <a:ea typeface="华文中宋"/>
              </a:rPr>
              <a:t>元朝统一全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1" name="Picture 4" descr="南宋"/>
          <p:cNvPicPr/>
          <p:nvPr/>
        </p:nvPicPr>
        <p:blipFill>
          <a:blip r:embed="rId2"/>
          <a:stretch/>
        </p:blipFill>
        <p:spPr>
          <a:xfrm>
            <a:off x="4827600" y="4038480"/>
            <a:ext cx="2819520" cy="25909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5" descr="金"/>
          <p:cNvPicPr/>
          <p:nvPr/>
        </p:nvPicPr>
        <p:blipFill>
          <a:blip r:embed="rId3"/>
          <a:stretch/>
        </p:blipFill>
        <p:spPr>
          <a:xfrm>
            <a:off x="4979880" y="457200"/>
            <a:ext cx="3962520" cy="3962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6" descr="西辽"/>
          <p:cNvPicPr/>
          <p:nvPr/>
        </p:nvPicPr>
        <p:blipFill>
          <a:blip r:embed="rId4"/>
          <a:stretch/>
        </p:blipFill>
        <p:spPr>
          <a:xfrm>
            <a:off x="484200" y="1789200"/>
            <a:ext cx="3809880" cy="20206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7" descr="西夏"/>
          <p:cNvPicPr/>
          <p:nvPr/>
        </p:nvPicPr>
        <p:blipFill>
          <a:blip r:embed="rId5"/>
          <a:stretch/>
        </p:blipFill>
        <p:spPr>
          <a:xfrm>
            <a:off x="3836880" y="2666880"/>
            <a:ext cx="2210040" cy="134316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8" descr="吐蕃"/>
          <p:cNvPicPr/>
          <p:nvPr/>
        </p:nvPicPr>
        <p:blipFill>
          <a:blip r:embed="rId6"/>
          <a:stretch/>
        </p:blipFill>
        <p:spPr>
          <a:xfrm>
            <a:off x="1627200" y="3352680"/>
            <a:ext cx="3505320" cy="187020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9" descr="未标题-1大理"/>
          <p:cNvPicPr/>
          <p:nvPr/>
        </p:nvPicPr>
        <p:blipFill>
          <a:blip r:embed="rId7"/>
          <a:stretch/>
        </p:blipFill>
        <p:spPr>
          <a:xfrm>
            <a:off x="3922560" y="4952880"/>
            <a:ext cx="1362240" cy="1524240"/>
          </a:xfrm>
          <a:prstGeom prst="rect">
            <a:avLst/>
          </a:prstGeom>
          <a:ln w="0">
            <a:noFill/>
          </a:ln>
        </p:spPr>
      </p:pic>
      <p:grpSp>
        <p:nvGrpSpPr>
          <p:cNvPr id="607" name="Group 10"/>
          <p:cNvGrpSpPr/>
          <p:nvPr/>
        </p:nvGrpSpPr>
        <p:grpSpPr>
          <a:xfrm>
            <a:off x="2922480" y="565200"/>
            <a:ext cx="4114800" cy="2482920"/>
            <a:chOff x="2922480" y="565200"/>
            <a:chExt cx="4114800" cy="2482920"/>
          </a:xfrm>
        </p:grpSpPr>
        <p:pic>
          <p:nvPicPr>
            <p:cNvPr id="608" name="Picture 11" descr="蒙古"/>
            <p:cNvPicPr/>
            <p:nvPr/>
          </p:nvPicPr>
          <p:blipFill>
            <a:blip r:embed="rId8"/>
            <a:stretch/>
          </p:blipFill>
          <p:spPr>
            <a:xfrm>
              <a:off x="2922480" y="565200"/>
              <a:ext cx="4114800" cy="24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Text Box 12"/>
            <p:cNvSpPr/>
            <p:nvPr/>
          </p:nvSpPr>
          <p:spPr>
            <a:xfrm>
              <a:off x="4375800" y="1263600"/>
              <a:ext cx="155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3333ff"/>
                  </a:solidFill>
                  <a:latin typeface="Times New Roman"/>
                  <a:ea typeface="黑体"/>
                </a:rPr>
                <a:t>蒙古（元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0" name="Picture 13" descr="西辽箭头"/>
          <p:cNvPicPr/>
          <p:nvPr/>
        </p:nvPicPr>
        <p:blipFill>
          <a:blip r:embed="rId9"/>
          <a:stretch/>
        </p:blipFill>
        <p:spPr>
          <a:xfrm>
            <a:off x="2838600" y="838080"/>
            <a:ext cx="1989000" cy="1841760"/>
          </a:xfrm>
          <a:prstGeom prst="rect">
            <a:avLst/>
          </a:prstGeom>
          <a:ln w="0">
            <a:noFill/>
          </a:ln>
        </p:spPr>
      </p:pic>
      <p:grpSp>
        <p:nvGrpSpPr>
          <p:cNvPr id="611" name=""/>
          <p:cNvGrpSpPr/>
          <p:nvPr/>
        </p:nvGrpSpPr>
        <p:grpSpPr>
          <a:xfrm>
            <a:off x="4903920" y="2438280"/>
            <a:ext cx="152280" cy="838440"/>
            <a:chOff x="4903920" y="2438280"/>
            <a:chExt cx="152280" cy="838440"/>
          </a:xfrm>
        </p:grpSpPr>
        <p:sp>
          <p:nvSpPr>
            <p:cNvPr id="612" name="Line 14"/>
            <p:cNvSpPr/>
            <p:nvPr/>
          </p:nvSpPr>
          <p:spPr>
            <a:xfrm>
              <a:off x="4903920" y="2438280"/>
              <a:ext cx="152280" cy="838440"/>
            </a:xfrm>
            <a:prstGeom prst="line">
              <a:avLst/>
            </a:prstGeom>
            <a:ln w="76320">
              <a:solidFill>
                <a:srgbClr val="e41c55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 txBox="1"/>
            <p:nvPr/>
          </p:nvSpPr>
          <p:spPr>
            <a:xfrm>
              <a:off x="4903920" y="2438280"/>
              <a:ext cx="152280" cy="838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4" name="Picture 15" descr="金箭头"/>
          <p:cNvPicPr/>
          <p:nvPr/>
        </p:nvPicPr>
        <p:blipFill>
          <a:blip r:embed="rId10"/>
          <a:stretch/>
        </p:blipFill>
        <p:spPr>
          <a:xfrm>
            <a:off x="6145200" y="2362320"/>
            <a:ext cx="539640" cy="838080"/>
          </a:xfrm>
          <a:prstGeom prst="rect">
            <a:avLst/>
          </a:prstGeom>
          <a:ln w="0">
            <a:noFill/>
          </a:ln>
        </p:spPr>
      </p:pic>
      <p:sp>
        <p:nvSpPr>
          <p:cNvPr id="615" name="AutoShape 16"/>
          <p:cNvSpPr/>
          <p:nvPr/>
        </p:nvSpPr>
        <p:spPr>
          <a:xfrm rot="7225800">
            <a:off x="3455640" y="3504600"/>
            <a:ext cx="1295280" cy="22860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2" y="5400"/>
                </a:lnTo>
                <a:lnTo>
                  <a:pt x="16202" y="0"/>
                </a:lnTo>
                <a:lnTo>
                  <a:pt x="21600" y="10800"/>
                </a:lnTo>
                <a:lnTo>
                  <a:pt x="16202" y="21600"/>
                </a:lnTo>
                <a:lnTo>
                  <a:pt x="16202" y="16200"/>
                </a:lnTo>
                <a:lnTo>
                  <a:pt x="0" y="16200"/>
                </a:lnTo>
                <a:lnTo>
                  <a:pt x="269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41c55"/>
          </a:solidFill>
          <a:ln w="9360">
            <a:solidFill>
              <a:srgbClr val="e41c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17"/>
          <p:cNvSpPr/>
          <p:nvPr/>
        </p:nvSpPr>
        <p:spPr>
          <a:xfrm rot="7225800">
            <a:off x="4068360" y="4524120"/>
            <a:ext cx="1905120" cy="241200"/>
          </a:xfrm>
          <a:custGeom>
            <a:avLst/>
            <a:gdLst>
              <a:gd name="textAreaLeft" fmla="*/ 237960 w 1905120"/>
              <a:gd name="textAreaRight" fmla="*/ 1667160 w 1905120"/>
              <a:gd name="textAreaTop" fmla="*/ 60120 h 241200"/>
              <a:gd name="textAreaBottom" fmla="*/ 181080 h 241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2" y="5400"/>
                </a:lnTo>
                <a:lnTo>
                  <a:pt x="16202" y="0"/>
                </a:lnTo>
                <a:lnTo>
                  <a:pt x="21600" y="10800"/>
                </a:lnTo>
                <a:lnTo>
                  <a:pt x="16202" y="21600"/>
                </a:lnTo>
                <a:lnTo>
                  <a:pt x="16202" y="16200"/>
                </a:lnTo>
                <a:lnTo>
                  <a:pt x="0" y="16200"/>
                </a:lnTo>
                <a:lnTo>
                  <a:pt x="269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41c55"/>
          </a:solidFill>
          <a:ln w="9360">
            <a:solidFill>
              <a:srgbClr val="e41c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18"/>
          <p:cNvSpPr/>
          <p:nvPr/>
        </p:nvSpPr>
        <p:spPr>
          <a:xfrm rot="4254000">
            <a:off x="5893920" y="4419360"/>
            <a:ext cx="1295280" cy="22860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2" y="5400"/>
                </a:lnTo>
                <a:lnTo>
                  <a:pt x="16202" y="0"/>
                </a:lnTo>
                <a:lnTo>
                  <a:pt x="21600" y="10800"/>
                </a:lnTo>
                <a:lnTo>
                  <a:pt x="16202" y="21600"/>
                </a:lnTo>
                <a:lnTo>
                  <a:pt x="16202" y="16200"/>
                </a:lnTo>
                <a:lnTo>
                  <a:pt x="0" y="16200"/>
                </a:lnTo>
                <a:lnTo>
                  <a:pt x="269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e41c55"/>
          </a:solidFill>
          <a:ln w="9360">
            <a:solidFill>
              <a:srgbClr val="e41c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8" name="Group 20"/>
          <p:cNvGrpSpPr/>
          <p:nvPr/>
        </p:nvGrpSpPr>
        <p:grpSpPr>
          <a:xfrm>
            <a:off x="2700360" y="2349360"/>
            <a:ext cx="3906360" cy="935280"/>
            <a:chOff x="2700360" y="2349360"/>
            <a:chExt cx="3906360" cy="935280"/>
          </a:xfrm>
        </p:grpSpPr>
        <p:sp>
          <p:nvSpPr>
            <p:cNvPr id="619" name="AutoShape 21"/>
            <p:cNvSpPr/>
            <p:nvPr/>
          </p:nvSpPr>
          <p:spPr>
            <a:xfrm>
              <a:off x="6467400" y="3220200"/>
              <a:ext cx="139320" cy="6444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" bIns="-1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AutoShape 22"/>
            <p:cNvSpPr/>
            <p:nvPr/>
          </p:nvSpPr>
          <p:spPr>
            <a:xfrm>
              <a:off x="2700360" y="2349360"/>
              <a:ext cx="3348720" cy="774000"/>
            </a:xfrm>
            <a:prstGeom prst="wedgeRoundRectCallout">
              <a:avLst>
                <a:gd name="adj1" fmla="val 64712"/>
                <a:gd name="adj2" fmla="val 66666"/>
                <a:gd name="adj3" fmla="val 16667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ff"/>
                  </a:solidFill>
                  <a:latin typeface="Times New Roman"/>
                </a:rPr>
                <a:t>1271</a:t>
              </a: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</a:rPr>
                <a:t>年，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忽必烈</a:t>
              </a:r>
              <a:r>
                <a:rPr b="1" lang="zh-CN" sz="2400" spc="-1" strike="noStrike">
                  <a:solidFill>
                    <a:srgbClr val="3333ff"/>
                  </a:solidFill>
                  <a:latin typeface="Times New Roman"/>
                </a:rPr>
                <a:t>建立元朝，后定都</a:t>
              </a:r>
              <a:r>
                <a:rPr b="1" lang="zh-CN" sz="2400" spc="-1" strike="noStrike">
                  <a:solidFill>
                    <a:srgbClr val="ff3300"/>
                  </a:solidFill>
                  <a:latin typeface="Times New Roman"/>
                </a:rPr>
                <a:t>大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Group 23"/>
          <p:cNvGrpSpPr/>
          <p:nvPr/>
        </p:nvGrpSpPr>
        <p:grpSpPr>
          <a:xfrm>
            <a:off x="179280" y="981000"/>
            <a:ext cx="8458200" cy="2557440"/>
            <a:chOff x="179280" y="981000"/>
            <a:chExt cx="8458200" cy="2557440"/>
          </a:xfrm>
        </p:grpSpPr>
        <p:pic>
          <p:nvPicPr>
            <p:cNvPr id="622" name="Picture 24" descr="元统一"/>
            <p:cNvPicPr/>
            <p:nvPr/>
          </p:nvPicPr>
          <p:blipFill>
            <a:blip r:embed="rId11"/>
            <a:stretch/>
          </p:blipFill>
          <p:spPr>
            <a:xfrm>
              <a:off x="179280" y="981000"/>
              <a:ext cx="8458200" cy="25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" name="Text Box 25"/>
            <p:cNvSpPr/>
            <p:nvPr/>
          </p:nvSpPr>
          <p:spPr>
            <a:xfrm>
              <a:off x="4300560" y="1839600"/>
              <a:ext cx="9122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3333ff"/>
                  </a:solidFill>
                  <a:latin typeface="Times New Roman"/>
                  <a:ea typeface="华文中宋"/>
                </a:rPr>
                <a:t>元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Text Box 28"/>
          <p:cNvSpPr/>
          <p:nvPr/>
        </p:nvSpPr>
        <p:spPr>
          <a:xfrm>
            <a:off x="358920" y="5157720"/>
            <a:ext cx="2952720" cy="459720"/>
          </a:xfrm>
          <a:prstGeom prst="rect">
            <a:avLst/>
          </a:prstGeom>
          <a:solidFill>
            <a:srgbClr val="e7ff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b23c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华文中宋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忽必烈即元世祖，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华文中宋"/>
              </a:rPr>
              <a:t>1271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华文中宋"/>
              </a:rPr>
              <a:t>年定国号为元，次年定都大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29"/>
          <p:cNvSpPr/>
          <p:nvPr/>
        </p:nvSpPr>
        <p:spPr>
          <a:xfrm>
            <a:off x="6480000" y="4941720"/>
            <a:ext cx="2484720" cy="825480"/>
          </a:xfrm>
          <a:prstGeom prst="rect">
            <a:avLst/>
          </a:prstGeom>
          <a:solidFill>
            <a:srgbClr val="e7ffe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b23c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华文中宋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华文中宋"/>
              </a:rPr>
              <a:t>1276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华文中宋"/>
              </a:rPr>
              <a:t>年攻占临安，南宋灭亡。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华文中宋"/>
              </a:rPr>
              <a:t>元朝于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  <a:ea typeface="华文中宋"/>
              </a:rPr>
              <a:t>1279</a:t>
            </a:r>
            <a:r>
              <a:rPr b="1" lang="zh-CN" sz="2400" spc="-1" strike="noStrike" u="sng">
                <a:solidFill>
                  <a:srgbClr val="ff0000"/>
                </a:solidFill>
                <a:uFillTx/>
                <a:latin typeface="Arial"/>
                <a:ea typeface="华文中宋"/>
              </a:rPr>
              <a:t>年统一全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4"/>
          <p:cNvSpPr/>
          <p:nvPr/>
        </p:nvSpPr>
        <p:spPr>
          <a:xfrm>
            <a:off x="755640" y="765000"/>
            <a:ext cx="755964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课程标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　了解蒙古的兴起和忽必烈建立元朝的史实，掌握民族关系融合发展的史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539640" y="3284640"/>
            <a:ext cx="799308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知识与能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了解元朝在历史上的贡献以及地位，培养综合归纳历史知识的能力。认识元朝民族大融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5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4"/>
          <p:cNvSpPr/>
          <p:nvPr/>
        </p:nvSpPr>
        <p:spPr>
          <a:xfrm>
            <a:off x="971640" y="57801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文天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8" descr="1812128"/>
          <p:cNvPicPr/>
          <p:nvPr/>
        </p:nvPicPr>
        <p:blipFill>
          <a:blip r:embed="rId1"/>
          <a:stretch/>
        </p:blipFill>
        <p:spPr>
          <a:xfrm>
            <a:off x="1190520" y="1052640"/>
            <a:ext cx="2589480" cy="4852800"/>
          </a:xfrm>
          <a:prstGeom prst="rect">
            <a:avLst/>
          </a:prstGeom>
          <a:ln w="0">
            <a:noFill/>
          </a:ln>
        </p:spPr>
      </p:pic>
      <p:sp>
        <p:nvSpPr>
          <p:cNvPr id="628" name="Rectangle 9"/>
          <p:cNvSpPr/>
          <p:nvPr/>
        </p:nvSpPr>
        <p:spPr>
          <a:xfrm>
            <a:off x="3780000" y="2968920"/>
            <a:ext cx="467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       </a:t>
            </a:r>
            <a:r>
              <a:rPr b="1" lang="zh-CN" sz="2200" spc="-1" strike="noStrike">
                <a:solidFill>
                  <a:srgbClr val="660066"/>
                </a:solidFill>
                <a:latin typeface="Arial"/>
              </a:rPr>
              <a:t>文天祥（</a:t>
            </a: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1236—1283</a:t>
            </a:r>
            <a:r>
              <a:rPr b="1" lang="zh-CN" sz="2200" spc="-1" strike="noStrike">
                <a:solidFill>
                  <a:srgbClr val="660066"/>
                </a:solidFill>
                <a:latin typeface="Arial"/>
              </a:rPr>
              <a:t>） ，汉族，庐陵（今属江西吉安）人。原名云孙，字宋瑞</a:t>
            </a: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,</a:t>
            </a:r>
            <a:r>
              <a:rPr b="1" lang="zh-CN" sz="2200" spc="-1" strike="noStrike">
                <a:solidFill>
                  <a:srgbClr val="660066"/>
                </a:solidFill>
                <a:latin typeface="Arial"/>
              </a:rPr>
              <a:t>又字履善</a:t>
            </a: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,</a:t>
            </a:r>
            <a:r>
              <a:rPr b="1" lang="zh-CN" sz="2200" spc="-1" strike="noStrike">
                <a:solidFill>
                  <a:srgbClr val="660066"/>
                </a:solidFill>
                <a:latin typeface="Arial"/>
              </a:rPr>
              <a:t>自号文山、浮休道人，南宋杰出的民族英雄和爱国诗人。著</a:t>
            </a: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《</a:t>
            </a:r>
            <a:r>
              <a:rPr b="1" lang="zh-CN" sz="2200" spc="-1" strike="noStrike">
                <a:solidFill>
                  <a:srgbClr val="660066"/>
                </a:solidFill>
                <a:latin typeface="Arial"/>
              </a:rPr>
              <a:t>文山全集</a:t>
            </a: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》</a:t>
            </a:r>
            <a:r>
              <a:rPr b="1" lang="zh-CN" sz="2200" spc="-1" strike="noStrike">
                <a:solidFill>
                  <a:srgbClr val="660066"/>
                </a:solidFill>
                <a:latin typeface="Arial"/>
              </a:rPr>
              <a:t>，名篇有</a:t>
            </a: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《</a:t>
            </a:r>
            <a:r>
              <a:rPr b="1" lang="zh-CN" sz="2200" spc="-1" strike="noStrike">
                <a:solidFill>
                  <a:srgbClr val="660066"/>
                </a:solidFill>
                <a:latin typeface="Arial"/>
              </a:rPr>
              <a:t>正气歌</a:t>
            </a: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》</a:t>
            </a:r>
            <a:r>
              <a:rPr b="1" lang="zh-CN" sz="2200" spc="-1" strike="noStrike">
                <a:solidFill>
                  <a:srgbClr val="660066"/>
                </a:solidFill>
                <a:latin typeface="Arial"/>
              </a:rPr>
              <a:t>、</a:t>
            </a: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《</a:t>
            </a:r>
            <a:r>
              <a:rPr b="1" lang="zh-CN" sz="2200" spc="-1" strike="noStrike">
                <a:solidFill>
                  <a:srgbClr val="660066"/>
                </a:solidFill>
                <a:latin typeface="Arial"/>
              </a:rPr>
              <a:t>过零丁洋</a:t>
            </a: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》</a:t>
            </a:r>
            <a:r>
              <a:rPr b="1" lang="zh-CN" sz="2200" spc="-1" strike="noStrike">
                <a:solidFill>
                  <a:srgbClr val="660066"/>
                </a:solidFill>
                <a:latin typeface="Arial"/>
              </a:rPr>
              <a:t>等。宋理宗宝祐时进士，官至丞相，封信国公。临安危急时，他在家乡招集义军，坚决抵抗元兵的入侵。后不幸被俘，在拘囚中，大义凛然，终以不屈被害。他晚年的诗词，反映了他坚贞的民族气节和顽强的战斗精神。诗歌风格慷慨激昂，苍凉悲壮，具有强烈的感染力。著作有</a:t>
            </a: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《</a:t>
            </a:r>
            <a:r>
              <a:rPr b="1" lang="zh-CN" sz="2200" spc="-1" strike="noStrike">
                <a:solidFill>
                  <a:srgbClr val="660066"/>
                </a:solidFill>
                <a:latin typeface="Arial"/>
              </a:rPr>
              <a:t>文山先生全集</a:t>
            </a: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》</a:t>
            </a:r>
            <a:r>
              <a:rPr b="1" lang="zh-CN" sz="2200" spc="-1" strike="noStrike">
                <a:solidFill>
                  <a:srgbClr val="660066"/>
                </a:solidFill>
                <a:latin typeface="Arial"/>
              </a:rPr>
              <a:t>、</a:t>
            </a: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《</a:t>
            </a:r>
            <a:r>
              <a:rPr b="1" lang="zh-CN" sz="2200" spc="-1" strike="noStrike">
                <a:solidFill>
                  <a:srgbClr val="660066"/>
                </a:solidFill>
                <a:latin typeface="Arial"/>
              </a:rPr>
              <a:t>文山乐府</a:t>
            </a:r>
            <a:r>
              <a:rPr b="1" lang="en-US" sz="2200" spc="-1" strike="noStrike">
                <a:solidFill>
                  <a:srgbClr val="660066"/>
                </a:solidFill>
                <a:latin typeface="Arial"/>
              </a:rPr>
              <a:t>》</a:t>
            </a:r>
            <a:r>
              <a:rPr b="1" lang="zh-CN" sz="2200" spc="-1" strike="noStrike">
                <a:solidFill>
                  <a:srgbClr val="660066"/>
                </a:solidFill>
                <a:latin typeface="Arial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4"/>
          <p:cNvSpPr/>
          <p:nvPr/>
        </p:nvSpPr>
        <p:spPr>
          <a:xfrm>
            <a:off x="2819520" y="692280"/>
            <a:ext cx="424800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</a:t>
            </a: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过零丁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辛苦遭逢起一经， 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干戈寥落四周星。 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山河破碎风飘絮， 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身世沉浮雨打萍。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惶恐滩头说惶恐， 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零丁洋里叹零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人生自古谁无死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留取丹心照汗青。</a:t>
            </a:r>
            <a:r>
              <a:rPr b="1" lang="zh-CN" sz="3200" spc="-1" strike="noStrike">
                <a:solidFill>
                  <a:srgbClr val="f0c010"/>
                </a:solidFill>
                <a:latin typeface="宋体"/>
              </a:rPr>
              <a:t>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5"/>
          <p:cNvSpPr/>
          <p:nvPr/>
        </p:nvSpPr>
        <p:spPr>
          <a:xfrm>
            <a:off x="4745160" y="1401840"/>
            <a:ext cx="120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——</a:t>
            </a: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文天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6" descr="j0420352"/>
          <p:cNvPicPr/>
          <p:nvPr/>
        </p:nvPicPr>
        <p:blipFill>
          <a:blip r:embed="rId1"/>
          <a:stretch/>
        </p:blipFill>
        <p:spPr>
          <a:xfrm>
            <a:off x="6419880" y="660240"/>
            <a:ext cx="1104840" cy="553572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7" descr="j0420352"/>
          <p:cNvPicPr/>
          <p:nvPr/>
        </p:nvPicPr>
        <p:blipFill>
          <a:blip r:embed="rId2"/>
          <a:stretch/>
        </p:blipFill>
        <p:spPr>
          <a:xfrm>
            <a:off x="1450800" y="660240"/>
            <a:ext cx="1105200" cy="553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 Box 4"/>
          <p:cNvSpPr/>
          <p:nvPr/>
        </p:nvSpPr>
        <p:spPr>
          <a:xfrm>
            <a:off x="1403280" y="333360"/>
            <a:ext cx="7201080" cy="520560"/>
          </a:xfrm>
          <a:prstGeom prst="rect">
            <a:avLst/>
          </a:prstGeom>
          <a:solidFill>
            <a:srgbClr val="ffff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华文中宋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华文中宋"/>
              </a:rPr>
              <a:t>元朝的统一是人心所向，大势所趋，而文天祥组织了抗元斗争，却又受到后人的敬佩，这是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5"/>
          <p:cNvSpPr/>
          <p:nvPr/>
        </p:nvSpPr>
        <p:spPr>
          <a:xfrm>
            <a:off x="468360" y="1844640"/>
            <a:ext cx="8244000" cy="167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cc"/>
                </a:solidFill>
                <a:latin typeface="华文中宋"/>
                <a:ea typeface="华文中宋"/>
              </a:rPr>
              <a:t>      </a:t>
            </a:r>
            <a:r>
              <a:rPr b="1" lang="en-US" sz="2600" spc="-1" strike="noStrike">
                <a:solidFill>
                  <a:srgbClr val="0000cc"/>
                </a:solidFill>
                <a:latin typeface="华文中宋"/>
                <a:ea typeface="华文中宋"/>
              </a:rPr>
              <a:t>1. </a:t>
            </a:r>
            <a:r>
              <a:rPr b="1" lang="zh-CN" sz="2600" spc="-1" strike="noStrike">
                <a:solidFill>
                  <a:srgbClr val="0000cc"/>
                </a:solidFill>
                <a:latin typeface="华文中宋"/>
                <a:ea typeface="华文中宋"/>
              </a:rPr>
              <a:t>元统一的进步性是不争的事实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华文中宋"/>
                <a:ea typeface="华文中宋"/>
              </a:rPr>
              <a:t>      </a:t>
            </a:r>
            <a:r>
              <a:rPr b="1" lang="en-US" sz="2600" spc="-1" strike="noStrike">
                <a:solidFill>
                  <a:srgbClr val="0000cc"/>
                </a:solidFill>
                <a:latin typeface="华文中宋"/>
                <a:ea typeface="华文中宋"/>
              </a:rPr>
              <a:t>2. </a:t>
            </a:r>
            <a:r>
              <a:rPr b="1" lang="zh-CN" sz="2600" spc="-1" strike="noStrike">
                <a:solidFill>
                  <a:srgbClr val="0000cc"/>
                </a:solidFill>
                <a:latin typeface="华文中宋"/>
                <a:ea typeface="华文中宋"/>
              </a:rPr>
              <a:t>但是元统一过程中对南宋发动的战争，使南宋境内汉族人民遭受残酷的屠杀和压迫，导致民族矛盾十分尖锐，这也是不可否认的事实。我们必须看到事物的两个方面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华文中宋"/>
                <a:ea typeface="华文中宋"/>
              </a:rPr>
              <a:t>      </a:t>
            </a:r>
            <a:r>
              <a:rPr b="1" lang="en-US" sz="2600" spc="-1" strike="noStrike">
                <a:solidFill>
                  <a:srgbClr val="0000cc"/>
                </a:solidFill>
                <a:latin typeface="华文中宋"/>
                <a:ea typeface="华文中宋"/>
              </a:rPr>
              <a:t>3. </a:t>
            </a:r>
            <a:r>
              <a:rPr b="1" lang="zh-CN" sz="2600" spc="-1" strike="noStrike">
                <a:solidFill>
                  <a:srgbClr val="0000cc"/>
                </a:solidFill>
                <a:latin typeface="华文中宋"/>
                <a:ea typeface="华文中宋"/>
              </a:rPr>
              <a:t>文天祥的抗元，反抗的是蒙古贵族的民族压迫，与人民群众的愿望相一致，是正义行为。抗元失败后，又表现出宁死不屈的精神和崇高气节，理应受到后人的敬仰和纪念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cc"/>
                </a:solidFill>
                <a:latin typeface="华文中宋"/>
                <a:ea typeface="华文中宋"/>
              </a:rPr>
              <a:t>      </a:t>
            </a:r>
            <a:r>
              <a:rPr b="1" lang="en-US" sz="2600" spc="-1" strike="noStrike">
                <a:solidFill>
                  <a:srgbClr val="0000cc"/>
                </a:solidFill>
                <a:latin typeface="华文中宋"/>
                <a:ea typeface="华文中宋"/>
              </a:rPr>
              <a:t>4. </a:t>
            </a:r>
            <a:r>
              <a:rPr b="1" lang="zh-CN" sz="2600" spc="-1" strike="noStrike">
                <a:solidFill>
                  <a:srgbClr val="0000cc"/>
                </a:solidFill>
                <a:latin typeface="华文中宋"/>
                <a:ea typeface="华文中宋"/>
              </a:rPr>
              <a:t>我们肯定文天祥抗元，并不否定元统一的进步性，只是二者的角度不同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Picture 11" descr="1258"/>
          <p:cNvPicPr/>
          <p:nvPr/>
        </p:nvPicPr>
        <p:blipFill>
          <a:blip r:embed="rId1"/>
          <a:stretch/>
        </p:blipFill>
        <p:spPr>
          <a:xfrm>
            <a:off x="7956720" y="5877000"/>
            <a:ext cx="936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 Box 5"/>
          <p:cNvSpPr/>
          <p:nvPr/>
        </p:nvSpPr>
        <p:spPr>
          <a:xfrm>
            <a:off x="3492360" y="5734080"/>
            <a:ext cx="221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元朝疆域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图片 1" descr=""/>
          <p:cNvPicPr/>
          <p:nvPr/>
        </p:nvPicPr>
        <p:blipFill>
          <a:blip r:embed="rId1"/>
          <a:stretch/>
        </p:blipFill>
        <p:spPr>
          <a:xfrm>
            <a:off x="1130400" y="946080"/>
            <a:ext cx="6913440" cy="475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Rectangle 4"/>
          <p:cNvSpPr/>
          <p:nvPr/>
        </p:nvSpPr>
        <p:spPr>
          <a:xfrm>
            <a:off x="250920" y="310572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行省制度源于魏晋时的行台，当时是中央政权处理军国大事时的临时派出机构。金朝曾在边境广置行台尚书省。蒙古人入主中原时仿金制，设行尚书省统辖一个大区的路府州县，演变成地方最高政治机构。元世祖中统年间，尚书省并入中书省，地方机构也改称行中书省，简称行省。从此，地方政治制度进入划省而治的阶段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元代行省下设丞相、平章、左右丞、参知政事，其行政机构名称和官吏品级与中央相等，掌握着一省大权。行省辖区不仅地域辽阔，且省界犬牙交错，使其无山川险阻可依，北向门户洞开，形成以北制南的军事控制局面。这样有助于防止地方割据，明、清两代继承了这一措施。元行省所辖路府州县无固定统属关系，随意性很大。有些行省与路之间还设道，属监察性质。为加强控制，元在路府州县均设蒙古事务官“达鲁花赤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监督各级官吏，执掌最高权力。县以下设村社和里甲，常由蒙军驻村社实行军事统治。里长通常为蒙古人、色目人，衣食用度悉由居民供应，成为当地的最高主宰。由此使民族矛盾与阶级矛盾更加激化，最终导致了元末农民大起义的爆发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Picture 2" descr="2004129143155218"/>
          <p:cNvPicPr/>
          <p:nvPr/>
        </p:nvPicPr>
        <p:blipFill>
          <a:blip r:embed="rId1"/>
          <a:stretch/>
        </p:blipFill>
        <p:spPr>
          <a:xfrm>
            <a:off x="1206360" y="480960"/>
            <a:ext cx="7686720" cy="5310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3" descr="元朝降雨a 副本"/>
          <p:cNvPicPr/>
          <p:nvPr/>
        </p:nvPicPr>
        <p:blipFill>
          <a:blip r:embed="rId2"/>
          <a:stretch/>
        </p:blipFill>
        <p:spPr>
          <a:xfrm>
            <a:off x="1289160" y="674640"/>
            <a:ext cx="6080040" cy="473544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4" descr="元朝降雨2 副本"/>
          <p:cNvPicPr/>
          <p:nvPr/>
        </p:nvPicPr>
        <p:blipFill>
          <a:blip r:embed="rId3"/>
          <a:stretch/>
        </p:blipFill>
        <p:spPr>
          <a:xfrm>
            <a:off x="1338120" y="1052640"/>
            <a:ext cx="5085000" cy="3884400"/>
          </a:xfrm>
          <a:prstGeom prst="rect">
            <a:avLst/>
          </a:prstGeom>
          <a:ln w="0">
            <a:noFill/>
          </a:ln>
        </p:spPr>
      </p:pic>
      <p:grpSp>
        <p:nvGrpSpPr>
          <p:cNvPr id="642" name="Group 5"/>
          <p:cNvGrpSpPr/>
          <p:nvPr/>
        </p:nvGrpSpPr>
        <p:grpSpPr>
          <a:xfrm>
            <a:off x="6454800" y="4460400"/>
            <a:ext cx="928800" cy="923040"/>
            <a:chOff x="6454800" y="4460400"/>
            <a:chExt cx="928800" cy="923040"/>
          </a:xfrm>
        </p:grpSpPr>
        <p:sp>
          <p:nvSpPr>
            <p:cNvPr id="643" name="Text Box 6"/>
            <p:cNvSpPr/>
            <p:nvPr/>
          </p:nvSpPr>
          <p:spPr>
            <a:xfrm>
              <a:off x="6898320" y="4460400"/>
              <a:ext cx="485280" cy="851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Times New Roman"/>
                </a:rPr>
                <a:t>琉 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7"/>
            <p:cNvSpPr/>
            <p:nvPr/>
          </p:nvSpPr>
          <p:spPr>
            <a:xfrm>
              <a:off x="6454800" y="5015160"/>
              <a:ext cx="514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3300"/>
                  </a:solidFill>
                  <a:latin typeface="Times New Roman"/>
                </a:rPr>
                <a:t>澎 湖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Text Box 8"/>
          <p:cNvSpPr/>
          <p:nvPr/>
        </p:nvSpPr>
        <p:spPr>
          <a:xfrm>
            <a:off x="1481040" y="981000"/>
            <a:ext cx="73296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32409"/>
                </a:solidFill>
                <a:latin typeface="Times New Roman"/>
                <a:ea typeface="华文新魏"/>
              </a:rPr>
              <a:t>中央</a:t>
            </a:r>
            <a:r>
              <a:rPr b="1" lang="en-US" sz="3600" spc="-1" strike="noStrike">
                <a:solidFill>
                  <a:srgbClr val="c32409"/>
                </a:solidFill>
                <a:latin typeface="Times New Roman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c32409"/>
                </a:solidFill>
                <a:latin typeface="Times New Roman"/>
                <a:ea typeface="华文新魏"/>
              </a:rPr>
              <a:t>中书省</a:t>
            </a:r>
            <a:r>
              <a:rPr b="1" lang="en-US" sz="3600" spc="-1" strike="noStrike">
                <a:solidFill>
                  <a:srgbClr val="c32409"/>
                </a:solidFill>
                <a:latin typeface="Times New Roman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c32409"/>
                </a:solidFill>
                <a:latin typeface="Times New Roman"/>
                <a:ea typeface="华文新魏"/>
              </a:rPr>
              <a:t>全国最高行政机构</a:t>
            </a:r>
            <a:r>
              <a:rPr b="1" lang="en-US" sz="3600" spc="-1" strike="noStrike">
                <a:solidFill>
                  <a:srgbClr val="c32409"/>
                </a:solidFill>
                <a:latin typeface="Times New Roman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c32409"/>
                </a:solidFill>
                <a:latin typeface="Times New Roman"/>
                <a:ea typeface="华文新魏"/>
              </a:rPr>
              <a:t>管辖大都及周围地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9"/>
          <p:cNvSpPr/>
          <p:nvPr/>
        </p:nvSpPr>
        <p:spPr>
          <a:xfrm>
            <a:off x="1338120" y="981000"/>
            <a:ext cx="732816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32409"/>
                </a:solidFill>
                <a:latin typeface="Times New Roman"/>
                <a:ea typeface="华文新魏"/>
              </a:rPr>
              <a:t>地方</a:t>
            </a:r>
            <a:r>
              <a:rPr b="1" lang="en-US" sz="3600" spc="-1" strike="noStrike">
                <a:solidFill>
                  <a:srgbClr val="c32409"/>
                </a:solidFill>
                <a:latin typeface="Times New Roman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c32409"/>
                </a:solidFill>
                <a:latin typeface="Times New Roman"/>
                <a:ea typeface="华文新魏"/>
              </a:rPr>
              <a:t>行中书省（行省或省）</a:t>
            </a:r>
            <a:r>
              <a:rPr b="1" lang="en-US" sz="3600" spc="-1" strike="noStrike">
                <a:solidFill>
                  <a:srgbClr val="c32409"/>
                </a:solidFill>
                <a:latin typeface="Times New Roman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c32409"/>
                </a:solidFill>
                <a:latin typeface="Times New Roman"/>
                <a:ea typeface="华文新魏"/>
              </a:rPr>
              <a:t>中书省的派出机构</a:t>
            </a:r>
            <a:r>
              <a:rPr b="1" lang="en-US" sz="3600" spc="-1" strike="noStrike">
                <a:solidFill>
                  <a:srgbClr val="c32409"/>
                </a:solidFill>
                <a:latin typeface="Times New Roman"/>
                <a:ea typeface="华文新魏"/>
              </a:rPr>
              <a:t>—</a:t>
            </a:r>
            <a:r>
              <a:rPr b="1" lang="zh-CN" sz="3600" spc="-1" strike="noStrike">
                <a:solidFill>
                  <a:srgbClr val="c32409"/>
                </a:solidFill>
                <a:latin typeface="Times New Roman"/>
                <a:ea typeface="华文新魏"/>
              </a:rPr>
              <a:t>管辖</a:t>
            </a:r>
            <a:r>
              <a:rPr b="1" lang="en-US" sz="3600" spc="-1" strike="noStrike">
                <a:solidFill>
                  <a:srgbClr val="c32409"/>
                </a:solidFill>
                <a:latin typeface="Times New Roman"/>
                <a:ea typeface="华文新魏"/>
              </a:rPr>
              <a:t>11</a:t>
            </a:r>
            <a:r>
              <a:rPr b="1" lang="zh-CN" sz="3600" spc="-1" strike="noStrike">
                <a:solidFill>
                  <a:srgbClr val="c32409"/>
                </a:solidFill>
                <a:latin typeface="Times New Roman"/>
                <a:ea typeface="华文新魏"/>
              </a:rPr>
              <a:t>个行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10"/>
          <p:cNvSpPr/>
          <p:nvPr/>
        </p:nvSpPr>
        <p:spPr>
          <a:xfrm>
            <a:off x="1482840" y="4149720"/>
            <a:ext cx="57182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32409"/>
                </a:solidFill>
                <a:latin typeface="Times New Roman"/>
                <a:ea typeface="华文新魏"/>
              </a:rPr>
              <a:t>西藏成为元朝的正式行政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1"/>
          <p:cNvSpPr/>
          <p:nvPr/>
        </p:nvSpPr>
        <p:spPr>
          <a:xfrm>
            <a:off x="2130480" y="5373720"/>
            <a:ext cx="5954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32409"/>
                </a:solidFill>
                <a:latin typeface="Times New Roman"/>
                <a:ea typeface="华文新魏"/>
              </a:rPr>
              <a:t>澎湖巡检司管辖澎湖和琉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2"/>
          <p:cNvSpPr/>
          <p:nvPr/>
        </p:nvSpPr>
        <p:spPr>
          <a:xfrm>
            <a:off x="890280" y="4797360"/>
            <a:ext cx="625680" cy="459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Garamond"/>
              </a:rPr>
              <a:t>北 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13"/>
          <p:cNvSpPr/>
          <p:nvPr/>
        </p:nvSpPr>
        <p:spPr>
          <a:xfrm>
            <a:off x="4498560" y="1131840"/>
            <a:ext cx="9122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Garamond"/>
              </a:rPr>
              <a:t>岭北行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Freeform 14"/>
          <p:cNvSpPr/>
          <p:nvPr/>
        </p:nvSpPr>
        <p:spPr>
          <a:xfrm>
            <a:off x="2657520" y="1603440"/>
            <a:ext cx="3611520" cy="763560"/>
          </a:xfrm>
          <a:custGeom>
            <a:avLst/>
            <a:gdLst/>
            <a:ahLst/>
            <a:rect l="l" t="t" r="r" b="b"/>
            <a:pathLst>
              <a:path w="2481" h="1292">
                <a:moveTo>
                  <a:pt x="2386" y="27"/>
                </a:moveTo>
                <a:cubicBezTo>
                  <a:pt x="2390" y="79"/>
                  <a:pt x="2372" y="172"/>
                  <a:pt x="2432" y="192"/>
                </a:cubicBezTo>
                <a:cubicBezTo>
                  <a:pt x="2435" y="225"/>
                  <a:pt x="2430" y="260"/>
                  <a:pt x="2441" y="292"/>
                </a:cubicBezTo>
                <a:cubicBezTo>
                  <a:pt x="2444" y="301"/>
                  <a:pt x="2462" y="295"/>
                  <a:pt x="2469" y="302"/>
                </a:cubicBezTo>
                <a:cubicBezTo>
                  <a:pt x="2476" y="309"/>
                  <a:pt x="2475" y="320"/>
                  <a:pt x="2478" y="329"/>
                </a:cubicBezTo>
                <a:cubicBezTo>
                  <a:pt x="2475" y="439"/>
                  <a:pt x="2481" y="549"/>
                  <a:pt x="2469" y="658"/>
                </a:cubicBezTo>
                <a:cubicBezTo>
                  <a:pt x="2468" y="668"/>
                  <a:pt x="2444" y="658"/>
                  <a:pt x="2441" y="667"/>
                </a:cubicBezTo>
                <a:cubicBezTo>
                  <a:pt x="2423" y="721"/>
                  <a:pt x="2461" y="837"/>
                  <a:pt x="2396" y="859"/>
                </a:cubicBezTo>
                <a:cubicBezTo>
                  <a:pt x="2374" y="881"/>
                  <a:pt x="2373" y="913"/>
                  <a:pt x="2350" y="932"/>
                </a:cubicBezTo>
                <a:cubicBezTo>
                  <a:pt x="2342" y="938"/>
                  <a:pt x="2331" y="938"/>
                  <a:pt x="2322" y="942"/>
                </a:cubicBezTo>
                <a:cubicBezTo>
                  <a:pt x="2276" y="965"/>
                  <a:pt x="2243" y="971"/>
                  <a:pt x="2194" y="987"/>
                </a:cubicBezTo>
                <a:cubicBezTo>
                  <a:pt x="2174" y="1008"/>
                  <a:pt x="2151" y="1022"/>
                  <a:pt x="2130" y="1042"/>
                </a:cubicBezTo>
                <a:cubicBezTo>
                  <a:pt x="2094" y="1039"/>
                  <a:pt x="2057" y="1039"/>
                  <a:pt x="2021" y="1033"/>
                </a:cubicBezTo>
                <a:cubicBezTo>
                  <a:pt x="2002" y="1030"/>
                  <a:pt x="1966" y="1015"/>
                  <a:pt x="1966" y="1015"/>
                </a:cubicBezTo>
                <a:cubicBezTo>
                  <a:pt x="1846" y="1030"/>
                  <a:pt x="1925" y="1010"/>
                  <a:pt x="1865" y="1070"/>
                </a:cubicBezTo>
                <a:cubicBezTo>
                  <a:pt x="1852" y="1108"/>
                  <a:pt x="1815" y="1126"/>
                  <a:pt x="1792" y="1161"/>
                </a:cubicBezTo>
                <a:cubicBezTo>
                  <a:pt x="1779" y="1292"/>
                  <a:pt x="1806" y="1250"/>
                  <a:pt x="1728" y="1225"/>
                </a:cubicBezTo>
                <a:cubicBezTo>
                  <a:pt x="1682" y="1228"/>
                  <a:pt x="1636" y="1227"/>
                  <a:pt x="1591" y="1234"/>
                </a:cubicBezTo>
                <a:cubicBezTo>
                  <a:pt x="1580" y="1236"/>
                  <a:pt x="1575" y="1252"/>
                  <a:pt x="1564" y="1252"/>
                </a:cubicBezTo>
                <a:cubicBezTo>
                  <a:pt x="1545" y="1252"/>
                  <a:pt x="1536" y="1224"/>
                  <a:pt x="1518" y="1216"/>
                </a:cubicBezTo>
                <a:cubicBezTo>
                  <a:pt x="1492" y="1204"/>
                  <a:pt x="1463" y="1198"/>
                  <a:pt x="1436" y="1188"/>
                </a:cubicBezTo>
                <a:cubicBezTo>
                  <a:pt x="1407" y="1161"/>
                  <a:pt x="1372" y="1155"/>
                  <a:pt x="1335" y="1143"/>
                </a:cubicBezTo>
                <a:cubicBezTo>
                  <a:pt x="1326" y="1140"/>
                  <a:pt x="1317" y="1137"/>
                  <a:pt x="1308" y="1134"/>
                </a:cubicBezTo>
                <a:cubicBezTo>
                  <a:pt x="1299" y="1131"/>
                  <a:pt x="1280" y="1124"/>
                  <a:pt x="1280" y="1124"/>
                </a:cubicBezTo>
                <a:cubicBezTo>
                  <a:pt x="1247" y="1127"/>
                  <a:pt x="1212" y="1123"/>
                  <a:pt x="1180" y="1134"/>
                </a:cubicBezTo>
                <a:cubicBezTo>
                  <a:pt x="1171" y="1137"/>
                  <a:pt x="1179" y="1159"/>
                  <a:pt x="1170" y="1161"/>
                </a:cubicBezTo>
                <a:cubicBezTo>
                  <a:pt x="1159" y="1164"/>
                  <a:pt x="1153" y="1148"/>
                  <a:pt x="1143" y="1143"/>
                </a:cubicBezTo>
                <a:cubicBezTo>
                  <a:pt x="1135" y="1139"/>
                  <a:pt x="1125" y="1137"/>
                  <a:pt x="1116" y="1134"/>
                </a:cubicBezTo>
                <a:cubicBezTo>
                  <a:pt x="1086" y="1104"/>
                  <a:pt x="1103" y="1093"/>
                  <a:pt x="1061" y="1079"/>
                </a:cubicBezTo>
                <a:cubicBezTo>
                  <a:pt x="1002" y="1020"/>
                  <a:pt x="1086" y="1098"/>
                  <a:pt x="1015" y="1051"/>
                </a:cubicBezTo>
                <a:cubicBezTo>
                  <a:pt x="948" y="1007"/>
                  <a:pt x="1025" y="1036"/>
                  <a:pt x="960" y="1015"/>
                </a:cubicBezTo>
                <a:cubicBezTo>
                  <a:pt x="917" y="969"/>
                  <a:pt x="804" y="955"/>
                  <a:pt x="741" y="932"/>
                </a:cubicBezTo>
                <a:cubicBezTo>
                  <a:pt x="697" y="890"/>
                  <a:pt x="706" y="841"/>
                  <a:pt x="649" y="823"/>
                </a:cubicBezTo>
                <a:cubicBezTo>
                  <a:pt x="624" y="796"/>
                  <a:pt x="598" y="802"/>
                  <a:pt x="567" y="786"/>
                </a:cubicBezTo>
                <a:cubicBezTo>
                  <a:pt x="499" y="752"/>
                  <a:pt x="580" y="781"/>
                  <a:pt x="512" y="759"/>
                </a:cubicBezTo>
                <a:cubicBezTo>
                  <a:pt x="481" y="727"/>
                  <a:pt x="442" y="725"/>
                  <a:pt x="402" y="713"/>
                </a:cubicBezTo>
                <a:cubicBezTo>
                  <a:pt x="365" y="702"/>
                  <a:pt x="329" y="689"/>
                  <a:pt x="293" y="676"/>
                </a:cubicBezTo>
                <a:cubicBezTo>
                  <a:pt x="275" y="659"/>
                  <a:pt x="237" y="631"/>
                  <a:pt x="265" y="603"/>
                </a:cubicBezTo>
                <a:cubicBezTo>
                  <a:pt x="272" y="596"/>
                  <a:pt x="284" y="597"/>
                  <a:pt x="293" y="594"/>
                </a:cubicBezTo>
                <a:cubicBezTo>
                  <a:pt x="282" y="497"/>
                  <a:pt x="262" y="458"/>
                  <a:pt x="220" y="375"/>
                </a:cubicBezTo>
                <a:cubicBezTo>
                  <a:pt x="210" y="354"/>
                  <a:pt x="212" y="336"/>
                  <a:pt x="192" y="320"/>
                </a:cubicBezTo>
                <a:cubicBezTo>
                  <a:pt x="182" y="312"/>
                  <a:pt x="121" y="302"/>
                  <a:pt x="119" y="302"/>
                </a:cubicBezTo>
                <a:cubicBezTo>
                  <a:pt x="79" y="259"/>
                  <a:pt x="94" y="227"/>
                  <a:pt x="82" y="164"/>
                </a:cubicBezTo>
                <a:cubicBezTo>
                  <a:pt x="75" y="130"/>
                  <a:pt x="64" y="97"/>
                  <a:pt x="55" y="64"/>
                </a:cubicBezTo>
                <a:cubicBezTo>
                  <a:pt x="43" y="18"/>
                  <a:pt x="47" y="0"/>
                  <a:pt x="0" y="0"/>
                </a:cubicBezTo>
              </a:path>
            </a:pathLst>
          </a:custGeom>
          <a:solidFill>
            <a:srgbClr val="f0c01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17" descr="1258"/>
          <p:cNvPicPr/>
          <p:nvPr/>
        </p:nvPicPr>
        <p:blipFill>
          <a:blip r:embed="rId4"/>
          <a:stretch/>
        </p:blipFill>
        <p:spPr>
          <a:xfrm>
            <a:off x="7956720" y="5950080"/>
            <a:ext cx="936360" cy="787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dur="indefinite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2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2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38" dur="indefinite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9" dur="2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4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0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63" dur="1" fill="hold"/>
                                  <p:tgtEl>
                                    <p:spTgt spid="6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4"/>
          <p:cNvSpPr/>
          <p:nvPr/>
        </p:nvSpPr>
        <p:spPr>
          <a:xfrm>
            <a:off x="969840" y="171468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国以民为本，民以衣食为本，衣食以农桑为本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5"/>
          <p:cNvSpPr/>
          <p:nvPr/>
        </p:nvSpPr>
        <p:spPr>
          <a:xfrm>
            <a:off x="969840" y="2793960"/>
            <a:ext cx="74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上述的话是谁在即位之初发布的诏令？表明了他的什么态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6"/>
          <p:cNvSpPr/>
          <p:nvPr/>
        </p:nvSpPr>
        <p:spPr>
          <a:xfrm>
            <a:off x="971640" y="4005360"/>
            <a:ext cx="73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      </a:t>
            </a:r>
            <a:r>
              <a:rPr b="1" lang="zh-CN" sz="3200" spc="-1" strike="noStrike">
                <a:solidFill>
                  <a:srgbClr val="0000cc"/>
                </a:solidFill>
                <a:latin typeface="华文中宋"/>
                <a:ea typeface="华文中宋"/>
              </a:rPr>
              <a:t>忽必烈；表明他重视农业，把农业作为根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11"/>
          <p:cNvSpPr/>
          <p:nvPr/>
        </p:nvSpPr>
        <p:spPr>
          <a:xfrm>
            <a:off x="1547640" y="85572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忽必烈发展农业的措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7" name="Picture 12" descr="j0357129"/>
          <p:cNvPicPr/>
          <p:nvPr/>
        </p:nvPicPr>
        <p:blipFill>
          <a:blip r:embed="rId1"/>
          <a:stretch/>
        </p:blipFill>
        <p:spPr>
          <a:xfrm>
            <a:off x="684360" y="5346720"/>
            <a:ext cx="5832360" cy="103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5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 Box 4"/>
          <p:cNvSpPr/>
          <p:nvPr/>
        </p:nvSpPr>
        <p:spPr>
          <a:xfrm>
            <a:off x="2411280" y="551016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农桑辑要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书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9" name="Picture 9" descr="1258"/>
          <p:cNvPicPr/>
          <p:nvPr/>
        </p:nvPicPr>
        <p:blipFill>
          <a:blip r:embed="rId1"/>
          <a:stretch/>
        </p:blipFill>
        <p:spPr>
          <a:xfrm>
            <a:off x="7956720" y="5950080"/>
            <a:ext cx="936360" cy="78732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10" descr="1190781105_3_b"/>
          <p:cNvPicPr/>
          <p:nvPr/>
        </p:nvPicPr>
        <p:blipFill>
          <a:blip r:embed="rId2"/>
          <a:stretch/>
        </p:blipFill>
        <p:spPr>
          <a:xfrm>
            <a:off x="2916360" y="685800"/>
            <a:ext cx="3328920" cy="46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4" descr="1812129"/>
          <p:cNvPicPr/>
          <p:nvPr/>
        </p:nvPicPr>
        <p:blipFill>
          <a:blip r:embed="rId1"/>
          <a:stretch/>
        </p:blipFill>
        <p:spPr>
          <a:xfrm>
            <a:off x="1403280" y="917640"/>
            <a:ext cx="6840720" cy="4672080"/>
          </a:xfrm>
          <a:prstGeom prst="rect">
            <a:avLst/>
          </a:prstGeom>
          <a:ln w="0">
            <a:noFill/>
          </a:ln>
        </p:spPr>
      </p:pic>
      <p:sp>
        <p:nvSpPr>
          <p:cNvPr id="662" name="Text Box 5"/>
          <p:cNvSpPr/>
          <p:nvPr/>
        </p:nvSpPr>
        <p:spPr>
          <a:xfrm>
            <a:off x="2890800" y="5589720"/>
            <a:ext cx="384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元大都遗址公园一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4" descr="dadu01"/>
          <p:cNvPicPr/>
          <p:nvPr/>
        </p:nvPicPr>
        <p:blipFill>
          <a:blip r:embed="rId1"/>
          <a:stretch/>
        </p:blipFill>
        <p:spPr>
          <a:xfrm>
            <a:off x="539640" y="1628640"/>
            <a:ext cx="5327640" cy="502308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5"/>
          <p:cNvSpPr/>
          <p:nvPr/>
        </p:nvSpPr>
        <p:spPr>
          <a:xfrm>
            <a:off x="2387520" y="90504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中宋"/>
              </a:rPr>
              <a:t>元大都略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6"/>
          <p:cNvSpPr/>
          <p:nvPr/>
        </p:nvSpPr>
        <p:spPr>
          <a:xfrm>
            <a:off x="6083280" y="1654200"/>
            <a:ext cx="24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中宋"/>
              </a:rPr>
              <a:t>　　元大都是当时世界上最宏伟的城市之一，既是政治文化中心，也是商业中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4"/>
          <p:cNvSpPr/>
          <p:nvPr/>
        </p:nvSpPr>
        <p:spPr>
          <a:xfrm>
            <a:off x="971640" y="1484280"/>
            <a:ext cx="7488000" cy="21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情感态度与价值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　通过学习蒙古政权以及元朝建立的史实，了解蒙元政权对我国社会发展以及民族融合所做出的贡献，培养民族认同感和自豪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　了解文天祥的抗元斗争事迹，增强正气之心，感受英雄人物凛然不屈的高尚气节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Text Box 5"/>
          <p:cNvSpPr/>
          <p:nvPr/>
        </p:nvSpPr>
        <p:spPr>
          <a:xfrm>
            <a:off x="4572000" y="981000"/>
            <a:ext cx="396072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华文中宋"/>
                <a:ea typeface="华文中宋"/>
              </a:rPr>
              <a:t>　　意大利旅行家，曾于元世祖时在中国待过多年。回国后写了一本书</a:t>
            </a:r>
            <a:r>
              <a:rPr b="1" lang="en-US" sz="3200" spc="-1" strike="noStrike">
                <a:solidFill>
                  <a:srgbClr val="000066"/>
                </a:solidFill>
                <a:latin typeface="华文中宋"/>
                <a:ea typeface="华文中宋"/>
              </a:rPr>
              <a:t>《</a:t>
            </a:r>
            <a:r>
              <a:rPr b="1" lang="zh-CN" sz="3200" spc="-1" strike="noStrike">
                <a:solidFill>
                  <a:srgbClr val="000066"/>
                </a:solidFill>
                <a:latin typeface="华文中宋"/>
                <a:ea typeface="华文中宋"/>
              </a:rPr>
              <a:t>马可</a:t>
            </a:r>
            <a:r>
              <a:rPr b="1" lang="en-US" sz="3200" spc="-1" strike="noStrike">
                <a:solidFill>
                  <a:srgbClr val="000066"/>
                </a:solidFill>
                <a:latin typeface="华文中宋"/>
                <a:ea typeface="华文中宋"/>
              </a:rPr>
              <a:t>·</a:t>
            </a:r>
            <a:r>
              <a:rPr b="1" lang="zh-CN" sz="3200" spc="-1" strike="noStrike">
                <a:solidFill>
                  <a:srgbClr val="000066"/>
                </a:solidFill>
                <a:latin typeface="华文中宋"/>
                <a:ea typeface="华文中宋"/>
              </a:rPr>
              <a:t>波罗行纪</a:t>
            </a:r>
            <a:r>
              <a:rPr b="1" lang="en-US" sz="3200" spc="-1" strike="noStrike">
                <a:solidFill>
                  <a:srgbClr val="000066"/>
                </a:solidFill>
                <a:latin typeface="华文中宋"/>
                <a:ea typeface="华文中宋"/>
              </a:rPr>
              <a:t>》</a:t>
            </a:r>
            <a:r>
              <a:rPr b="1" lang="zh-CN" sz="3200" spc="-1" strike="noStrike">
                <a:solidFill>
                  <a:srgbClr val="000066"/>
                </a:solidFill>
                <a:latin typeface="华文中宋"/>
                <a:ea typeface="华文中宋"/>
              </a:rPr>
              <a:t>，书中描述了大都的繁华。“城市如此美丽，布置如此巧妙，我们竟不能用语言描述它了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Picture 9" descr="1258"/>
          <p:cNvPicPr/>
          <p:nvPr/>
        </p:nvPicPr>
        <p:blipFill>
          <a:blip r:embed="rId1"/>
          <a:stretch/>
        </p:blipFill>
        <p:spPr>
          <a:xfrm>
            <a:off x="7956720" y="5950080"/>
            <a:ext cx="936360" cy="78732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10" descr="图片1"/>
          <p:cNvPicPr/>
          <p:nvPr/>
        </p:nvPicPr>
        <p:blipFill>
          <a:blip r:embed="rId2"/>
          <a:stretch/>
        </p:blipFill>
        <p:spPr>
          <a:xfrm>
            <a:off x="324000" y="1773360"/>
            <a:ext cx="4000320" cy="4392360"/>
          </a:xfrm>
          <a:prstGeom prst="rect">
            <a:avLst/>
          </a:prstGeom>
          <a:ln w="0">
            <a:noFill/>
          </a:ln>
        </p:spPr>
      </p:pic>
      <p:sp>
        <p:nvSpPr>
          <p:cNvPr id="669" name="Text Box 11"/>
          <p:cNvSpPr/>
          <p:nvPr/>
        </p:nvSpPr>
        <p:spPr>
          <a:xfrm>
            <a:off x="1419120" y="1325520"/>
            <a:ext cx="221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马可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·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波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0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Text Box 4"/>
          <p:cNvSpPr/>
          <p:nvPr/>
        </p:nvSpPr>
        <p:spPr>
          <a:xfrm>
            <a:off x="1116000" y="170028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中宋"/>
              </a:rPr>
              <a:t>　　我国古代出现的第一次民族融合的高峰是在哪一时期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5"/>
          <p:cNvSpPr/>
          <p:nvPr/>
        </p:nvSpPr>
        <p:spPr>
          <a:xfrm>
            <a:off x="1042920" y="3429000"/>
            <a:ext cx="698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华文中宋"/>
              </a:rPr>
              <a:t>　　魏晋南北朝时期，孝文帝改革达到高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7"/>
          <p:cNvSpPr/>
          <p:nvPr/>
        </p:nvSpPr>
        <p:spPr>
          <a:xfrm>
            <a:off x="1547640" y="92700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民族大融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9" descr="0766"/>
          <p:cNvPicPr/>
          <p:nvPr/>
        </p:nvPicPr>
        <p:blipFill>
          <a:blip r:embed="rId1"/>
          <a:stretch/>
        </p:blipFill>
        <p:spPr>
          <a:xfrm>
            <a:off x="1332000" y="4797360"/>
            <a:ext cx="6912000" cy="140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4" name="Group 4"/>
          <p:cNvGrpSpPr/>
          <p:nvPr/>
        </p:nvGrpSpPr>
        <p:grpSpPr>
          <a:xfrm>
            <a:off x="2124000" y="981000"/>
            <a:ext cx="5976720" cy="3778920"/>
            <a:chOff x="2124000" y="981000"/>
            <a:chExt cx="5976720" cy="3778920"/>
          </a:xfrm>
        </p:grpSpPr>
        <p:sp>
          <p:nvSpPr>
            <p:cNvPr id="675" name="Text Box 5"/>
            <p:cNvSpPr/>
            <p:nvPr/>
          </p:nvSpPr>
          <p:spPr>
            <a:xfrm>
              <a:off x="5024160" y="2664000"/>
              <a:ext cx="424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回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Text Box 6"/>
            <p:cNvSpPr/>
            <p:nvPr/>
          </p:nvSpPr>
          <p:spPr>
            <a:xfrm>
              <a:off x="4557240" y="981000"/>
              <a:ext cx="1665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波斯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Text Box 7"/>
            <p:cNvSpPr/>
            <p:nvPr/>
          </p:nvSpPr>
          <p:spPr>
            <a:xfrm>
              <a:off x="2124000" y="2327400"/>
              <a:ext cx="187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阿拉伯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Text Box 8"/>
            <p:cNvSpPr/>
            <p:nvPr/>
          </p:nvSpPr>
          <p:spPr>
            <a:xfrm>
              <a:off x="6820200" y="2327400"/>
              <a:ext cx="128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汉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Text Box 9"/>
            <p:cNvSpPr/>
            <p:nvPr/>
          </p:nvSpPr>
          <p:spPr>
            <a:xfrm>
              <a:off x="5581800" y="4178520"/>
              <a:ext cx="200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畏兀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0" name="Group 10"/>
            <p:cNvGrpSpPr/>
            <p:nvPr/>
          </p:nvGrpSpPr>
          <p:grpSpPr>
            <a:xfrm>
              <a:off x="3759840" y="1698840"/>
              <a:ext cx="3071520" cy="2950920"/>
              <a:chOff x="3759840" y="1698840"/>
              <a:chExt cx="3071520" cy="2950920"/>
            </a:xfrm>
          </p:grpSpPr>
          <p:grpSp>
            <p:nvGrpSpPr>
              <p:cNvPr id="681" name=""/>
              <p:cNvGrpSpPr/>
              <p:nvPr/>
            </p:nvGrpSpPr>
            <p:grpSpPr>
              <a:xfrm>
                <a:off x="4249440" y="1724400"/>
                <a:ext cx="986040" cy="2432520"/>
                <a:chOff x="4249440" y="1724400"/>
                <a:chExt cx="986040" cy="2432520"/>
              </a:xfrm>
            </p:grpSpPr>
            <p:sp>
              <p:nvSpPr>
                <p:cNvPr id="682" name="Line 11"/>
                <p:cNvSpPr/>
                <p:nvPr/>
              </p:nvSpPr>
              <p:spPr>
                <a:xfrm flipH="1">
                  <a:off x="4325040" y="1724400"/>
                  <a:ext cx="834480" cy="2432520"/>
                </a:xfrm>
                <a:prstGeom prst="line">
                  <a:avLst/>
                </a:prstGeom>
                <a:ln cap="sq" w="3168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 txBox="1"/>
                <p:nvPr/>
              </p:nvSpPr>
              <p:spPr>
                <a:xfrm rot="21492000">
                  <a:off x="4286880" y="1737720"/>
                  <a:ext cx="910800" cy="240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4" name=""/>
              <p:cNvGrpSpPr/>
              <p:nvPr/>
            </p:nvGrpSpPr>
            <p:grpSpPr>
              <a:xfrm>
                <a:off x="4531320" y="1698840"/>
                <a:ext cx="2300040" cy="2385720"/>
                <a:chOff x="4531320" y="1698840"/>
                <a:chExt cx="2300040" cy="2385720"/>
              </a:xfrm>
            </p:grpSpPr>
            <p:sp>
              <p:nvSpPr>
                <p:cNvPr id="685" name="Line 12"/>
                <p:cNvSpPr/>
                <p:nvPr/>
              </p:nvSpPr>
              <p:spPr>
                <a:xfrm flipH="1" flipV="1">
                  <a:off x="5200920" y="1698840"/>
                  <a:ext cx="960840" cy="2385720"/>
                </a:xfrm>
                <a:prstGeom prst="line">
                  <a:avLst/>
                </a:prstGeom>
                <a:ln cap="sq" w="3168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 txBox="1"/>
                <p:nvPr/>
              </p:nvSpPr>
              <p:spPr>
                <a:xfrm rot="8239200">
                  <a:off x="5225760" y="1689120"/>
                  <a:ext cx="910800" cy="240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7" name=""/>
              <p:cNvGrpSpPr/>
              <p:nvPr/>
            </p:nvGrpSpPr>
            <p:grpSpPr>
              <a:xfrm>
                <a:off x="4378680" y="2143800"/>
                <a:ext cx="2092680" cy="2505960"/>
                <a:chOff x="4378680" y="2143800"/>
                <a:chExt cx="2092680" cy="2505960"/>
              </a:xfrm>
            </p:grpSpPr>
            <p:sp>
              <p:nvSpPr>
                <p:cNvPr id="688" name="Line 13"/>
                <p:cNvSpPr/>
                <p:nvPr/>
              </p:nvSpPr>
              <p:spPr>
                <a:xfrm flipH="1">
                  <a:off x="4378680" y="2649240"/>
                  <a:ext cx="2092680" cy="1495080"/>
                </a:xfrm>
                <a:prstGeom prst="line">
                  <a:avLst/>
                </a:prstGeom>
                <a:ln cap="sq" w="3168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"/>
                <p:cNvSpPr txBox="1"/>
                <p:nvPr/>
              </p:nvSpPr>
              <p:spPr>
                <a:xfrm rot="2023200">
                  <a:off x="4969440" y="2194200"/>
                  <a:ext cx="910800" cy="240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0" name=""/>
              <p:cNvGrpSpPr/>
              <p:nvPr/>
            </p:nvGrpSpPr>
            <p:grpSpPr>
              <a:xfrm>
                <a:off x="3759840" y="2643840"/>
                <a:ext cx="2582640" cy="1442520"/>
                <a:chOff x="3759840" y="2643840"/>
                <a:chExt cx="2582640" cy="1442520"/>
              </a:xfrm>
            </p:grpSpPr>
            <p:sp>
              <p:nvSpPr>
                <p:cNvPr id="691" name="Line 14"/>
                <p:cNvSpPr/>
                <p:nvPr/>
              </p:nvSpPr>
              <p:spPr>
                <a:xfrm flipH="1" flipV="1">
                  <a:off x="3969720" y="2644200"/>
                  <a:ext cx="2163240" cy="1442160"/>
                </a:xfrm>
                <a:prstGeom prst="line">
                  <a:avLst/>
                </a:prstGeom>
                <a:ln cap="sq" w="3168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 txBox="1"/>
                <p:nvPr/>
              </p:nvSpPr>
              <p:spPr>
                <a:xfrm rot="6210600">
                  <a:off x="4602600" y="2144880"/>
                  <a:ext cx="897120" cy="244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3" name=""/>
              <p:cNvGrpSpPr/>
              <p:nvPr/>
            </p:nvGrpSpPr>
            <p:grpSpPr>
              <a:xfrm>
                <a:off x="3917160" y="1755360"/>
                <a:ext cx="2610000" cy="1733400"/>
                <a:chOff x="3917160" y="1755360"/>
                <a:chExt cx="2610000" cy="1733400"/>
              </a:xfrm>
            </p:grpSpPr>
            <p:sp>
              <p:nvSpPr>
                <p:cNvPr id="694" name="Line 15"/>
                <p:cNvSpPr/>
                <p:nvPr/>
              </p:nvSpPr>
              <p:spPr>
                <a:xfrm flipH="1">
                  <a:off x="3917160" y="2620080"/>
                  <a:ext cx="2609640" cy="3960"/>
                </a:xfrm>
                <a:prstGeom prst="line">
                  <a:avLst/>
                </a:prstGeom>
                <a:ln cap="sq" w="3168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 txBox="1"/>
                <p:nvPr/>
              </p:nvSpPr>
              <p:spPr>
                <a:xfrm rot="4149000">
                  <a:off x="4759200" y="1401480"/>
                  <a:ext cx="925200" cy="244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6" name="Text Box 16"/>
            <p:cNvSpPr/>
            <p:nvPr/>
          </p:nvSpPr>
          <p:spPr>
            <a:xfrm>
              <a:off x="3603600" y="409464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华文中宋"/>
                  <a:ea typeface="华文中宋"/>
                </a:rPr>
                <a:t>蒙古人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7" name="Picture 19" descr="0906"/>
          <p:cNvPicPr/>
          <p:nvPr/>
        </p:nvPicPr>
        <p:blipFill>
          <a:blip r:embed="rId1"/>
          <a:stretch/>
        </p:blipFill>
        <p:spPr>
          <a:xfrm>
            <a:off x="684360" y="3429000"/>
            <a:ext cx="2082600" cy="273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Text Box 4"/>
          <p:cNvSpPr/>
          <p:nvPr/>
        </p:nvSpPr>
        <p:spPr>
          <a:xfrm>
            <a:off x="1403280" y="927000"/>
            <a:ext cx="74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元朝民族大融合的原因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5"/>
          <p:cNvSpPr/>
          <p:nvPr/>
        </p:nvSpPr>
        <p:spPr>
          <a:xfrm>
            <a:off x="790560" y="1700280"/>
            <a:ext cx="7561440" cy="29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中宋"/>
              </a:rPr>
              <a:t>　　根本原因：政治上结束了长期以来的分裂局面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中宋"/>
              </a:rPr>
              <a:t>　　实行行省制度加强了对周边地区的有效管辖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中宋"/>
              </a:rPr>
              <a:t>　　元朝陆路交通发达，有利于国内各民族各地区之间经济文化的联系和交流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华文中宋"/>
              </a:rPr>
              <a:t>　　各族人民长期杂居，互通婚姻，民族差异逐渐缩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4" descr="等级"/>
          <p:cNvPicPr/>
          <p:nvPr/>
        </p:nvPicPr>
        <p:blipFill>
          <a:blip r:embed="rId1"/>
          <a:stretch/>
        </p:blipFill>
        <p:spPr>
          <a:xfrm>
            <a:off x="1979640" y="907920"/>
            <a:ext cx="4987800" cy="523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49" dur="1" fill="hold"/>
                                  <p:tgtEl>
                                    <p:spTgt spid="7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 Box 2"/>
          <p:cNvSpPr/>
          <p:nvPr/>
        </p:nvSpPr>
        <p:spPr>
          <a:xfrm>
            <a:off x="1224000" y="836640"/>
            <a:ext cx="78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元朝在我国历史上有什么贡献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3"/>
          <p:cNvSpPr/>
          <p:nvPr/>
        </p:nvSpPr>
        <p:spPr>
          <a:xfrm>
            <a:off x="755640" y="1989000"/>
            <a:ext cx="7993080" cy="581400"/>
          </a:xfrm>
          <a:prstGeom prst="rect">
            <a:avLst/>
          </a:prstGeom>
          <a:noFill/>
          <a:ln w="76320">
            <a:solidFill>
              <a:srgbClr val="66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　元朝统一全国，疆域辽阔；行省制度对内地和边疆实行有效的管辖，促进民族融合，社会经济继续发展，中外交往频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Picture 6" descr="0884"/>
          <p:cNvPicPr/>
          <p:nvPr/>
        </p:nvPicPr>
        <p:blipFill>
          <a:blip r:embed="rId1"/>
          <a:stretch/>
        </p:blipFill>
        <p:spPr>
          <a:xfrm>
            <a:off x="1547640" y="4653000"/>
            <a:ext cx="6480360" cy="147780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7" descr="`OQ36[))F)(3H_16S98KTAI"/>
          <p:cNvPicPr/>
          <p:nvPr/>
        </p:nvPicPr>
        <p:blipFill>
          <a:blip r:embed="rId2"/>
          <a:stretch/>
        </p:blipFill>
        <p:spPr>
          <a:xfrm>
            <a:off x="8172360" y="1349280"/>
            <a:ext cx="457200" cy="495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6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1" dur="75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 Box 4"/>
          <p:cNvSpPr/>
          <p:nvPr/>
        </p:nvSpPr>
        <p:spPr>
          <a:xfrm>
            <a:off x="2195640" y="620640"/>
            <a:ext cx="247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课堂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5"/>
          <p:cNvSpPr/>
          <p:nvPr/>
        </p:nvSpPr>
        <p:spPr>
          <a:xfrm>
            <a:off x="1416960" y="765000"/>
            <a:ext cx="606960" cy="5472360"/>
          </a:xfrm>
          <a:prstGeom prst="rect">
            <a:avLst/>
          </a:prstGeom>
          <a:solidFill>
            <a:srgbClr val="fff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蒙古各部的统一和蒙古政权的建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utoShape 6"/>
          <p:cNvSpPr/>
          <p:nvPr/>
        </p:nvSpPr>
        <p:spPr>
          <a:xfrm>
            <a:off x="2195640" y="3068640"/>
            <a:ext cx="792000" cy="647640"/>
          </a:xfrm>
          <a:prstGeom prst="rightArrow">
            <a:avLst>
              <a:gd name="adj1" fmla="val 50000"/>
              <a:gd name="adj2" fmla="val 30561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7"/>
          <p:cNvSpPr/>
          <p:nvPr/>
        </p:nvSpPr>
        <p:spPr>
          <a:xfrm>
            <a:off x="2674800" y="2565360"/>
            <a:ext cx="1033560" cy="2160720"/>
          </a:xfrm>
          <a:prstGeom prst="rect">
            <a:avLst/>
          </a:prstGeom>
          <a:solidFill>
            <a:srgbClr val="e7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元朝的建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AutoShape 8"/>
          <p:cNvSpPr/>
          <p:nvPr/>
        </p:nvSpPr>
        <p:spPr>
          <a:xfrm>
            <a:off x="3781440" y="3068640"/>
            <a:ext cx="861840" cy="647640"/>
          </a:xfrm>
          <a:prstGeom prst="rightArrow">
            <a:avLst>
              <a:gd name="adj1" fmla="val 50000"/>
              <a:gd name="adj2" fmla="val 33256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9"/>
          <p:cNvSpPr/>
          <p:nvPr/>
        </p:nvSpPr>
        <p:spPr>
          <a:xfrm>
            <a:off x="4259160" y="2133720"/>
            <a:ext cx="1033560" cy="2474640"/>
          </a:xfrm>
          <a:prstGeom prst="rect">
            <a:avLst/>
          </a:prstGeom>
          <a:solidFill>
            <a:srgbClr val="ffffc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元朝统一全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AutoShape 10"/>
          <p:cNvSpPr/>
          <p:nvPr/>
        </p:nvSpPr>
        <p:spPr>
          <a:xfrm>
            <a:off x="5435640" y="3068640"/>
            <a:ext cx="790560" cy="647640"/>
          </a:xfrm>
          <a:prstGeom prst="rightArrow">
            <a:avLst>
              <a:gd name="adj1" fmla="val 50000"/>
              <a:gd name="adj2" fmla="val 3050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11"/>
          <p:cNvSpPr/>
          <p:nvPr/>
        </p:nvSpPr>
        <p:spPr>
          <a:xfrm>
            <a:off x="6270120" y="1557360"/>
            <a:ext cx="606960" cy="3889440"/>
          </a:xfrm>
          <a:prstGeom prst="rect">
            <a:avLst/>
          </a:prstGeom>
          <a:solidFill>
            <a:srgbClr val="e7ffe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巩固统一        行省制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utoShape 12"/>
          <p:cNvSpPr/>
          <p:nvPr/>
        </p:nvSpPr>
        <p:spPr>
          <a:xfrm>
            <a:off x="6948360" y="3068640"/>
            <a:ext cx="889200" cy="647640"/>
          </a:xfrm>
          <a:prstGeom prst="rightArrow">
            <a:avLst>
              <a:gd name="adj1" fmla="val 50000"/>
              <a:gd name="adj2" fmla="val 34312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13"/>
          <p:cNvSpPr/>
          <p:nvPr/>
        </p:nvSpPr>
        <p:spPr>
          <a:xfrm>
            <a:off x="7426080" y="981000"/>
            <a:ext cx="1033560" cy="5256360"/>
          </a:xfrm>
          <a:prstGeom prst="rect">
            <a:avLst/>
          </a:prstGeom>
          <a:solidFill>
            <a:srgbClr val="d8fa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民族的大融合   经济文化的发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Text Box 6"/>
          <p:cNvSpPr/>
          <p:nvPr/>
        </p:nvSpPr>
        <p:spPr>
          <a:xfrm>
            <a:off x="826920" y="1666800"/>
            <a:ext cx="777744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成吉思汗的功绩主要是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(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灭亡西夏      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统一蒙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建立元朝      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定都大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２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我国历史上，西藏成为中央政府辖下的正式行政区，是在（　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唐 　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元    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明  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．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1"/>
          <p:cNvSpPr/>
          <p:nvPr/>
        </p:nvSpPr>
        <p:spPr>
          <a:xfrm>
            <a:off x="4067280" y="61657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14"/>
          <p:cNvSpPr/>
          <p:nvPr/>
        </p:nvSpPr>
        <p:spPr>
          <a:xfrm>
            <a:off x="1403280" y="782640"/>
            <a:ext cx="23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课堂练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6"/>
          <p:cNvSpPr/>
          <p:nvPr/>
        </p:nvSpPr>
        <p:spPr>
          <a:xfrm>
            <a:off x="5678280" y="16668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7"/>
          <p:cNvSpPr/>
          <p:nvPr/>
        </p:nvSpPr>
        <p:spPr>
          <a:xfrm>
            <a:off x="4789440" y="439884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3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Text Box 4"/>
          <p:cNvSpPr/>
          <p:nvPr/>
        </p:nvSpPr>
        <p:spPr>
          <a:xfrm>
            <a:off x="1042920" y="118440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３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忽必烈建立元朝后，采取了在现代依然可以看到其影响的统治措施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 Box 5"/>
          <p:cNvSpPr/>
          <p:nvPr/>
        </p:nvSpPr>
        <p:spPr>
          <a:xfrm>
            <a:off x="1619280" y="2997360"/>
            <a:ext cx="6408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⑴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在全国实行行省制度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⑵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重视农业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⑶</a:t>
            </a:r>
            <a:r>
              <a:rPr b="1" lang="zh-CN" sz="3600" spc="-1" strike="noStrike">
                <a:solidFill>
                  <a:srgbClr val="0000cc"/>
                </a:solidFill>
                <a:latin typeface="华文中宋"/>
                <a:ea typeface="华文中宋"/>
              </a:rPr>
              <a:t>以大都即今北京为都城。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44E5F-53D5-44BF-9830-CD869D6DD4C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4"/>
          <p:cNvSpPr/>
          <p:nvPr/>
        </p:nvSpPr>
        <p:spPr>
          <a:xfrm>
            <a:off x="900000" y="1724040"/>
            <a:ext cx="727236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重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　蒙古的兴起和元朝的建立，行省制度和民族融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971640" y="3795840"/>
            <a:ext cx="7200720" cy="14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难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　　行省制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0623"/>
          <p:cNvPicPr/>
          <p:nvPr/>
        </p:nvPicPr>
        <p:blipFill>
          <a:blip r:embed="rId1"/>
          <a:stretch/>
        </p:blipFill>
        <p:spPr>
          <a:xfrm>
            <a:off x="6012000" y="4724280"/>
            <a:ext cx="2309760" cy="1546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5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5" descr="1439"/>
          <p:cNvPicPr/>
          <p:nvPr/>
        </p:nvPicPr>
        <p:blipFill>
          <a:blip r:embed="rId1"/>
          <a:stretch/>
        </p:blipFill>
        <p:spPr>
          <a:xfrm>
            <a:off x="2411280" y="907920"/>
            <a:ext cx="5757840" cy="4856400"/>
          </a:xfrm>
          <a:prstGeom prst="rect">
            <a:avLst/>
          </a:prstGeom>
          <a:ln w="0">
            <a:noFill/>
          </a:ln>
        </p:spPr>
      </p:pic>
      <p:sp>
        <p:nvSpPr>
          <p:cNvPr id="727" name="Text Box 4"/>
          <p:cNvSpPr/>
          <p:nvPr/>
        </p:nvSpPr>
        <p:spPr>
          <a:xfrm>
            <a:off x="2050920" y="3284640"/>
            <a:ext cx="43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00"/>
                </a:solidFill>
                <a:latin typeface="Arial"/>
                <a:ea typeface="华文行楷"/>
              </a:rPr>
              <a:t>再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4"/>
          <p:cNvSpPr/>
          <p:nvPr/>
        </p:nvSpPr>
        <p:spPr>
          <a:xfrm>
            <a:off x="928800" y="1290600"/>
            <a:ext cx="630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一、“一代天骄”统一蒙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928800" y="2590920"/>
            <a:ext cx="59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二、忽必烈建立元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928800" y="3865680"/>
            <a:ext cx="554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三、民族融合的发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31" descr="1258"/>
          <p:cNvPicPr/>
          <p:nvPr/>
        </p:nvPicPr>
        <p:blipFill>
          <a:blip r:embed="rId1"/>
          <a:stretch/>
        </p:blipFill>
        <p:spPr>
          <a:xfrm>
            <a:off x="7308720" y="1290600"/>
            <a:ext cx="863640" cy="7873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37" descr="1258"/>
          <p:cNvPicPr/>
          <p:nvPr/>
        </p:nvPicPr>
        <p:blipFill>
          <a:blip r:embed="rId2"/>
          <a:stretch/>
        </p:blipFill>
        <p:spPr>
          <a:xfrm>
            <a:off x="7237440" y="4005360"/>
            <a:ext cx="863640" cy="78732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39" descr="1258"/>
          <p:cNvPicPr/>
          <p:nvPr/>
        </p:nvPicPr>
        <p:blipFill>
          <a:blip r:embed="rId3"/>
          <a:stretch/>
        </p:blipFill>
        <p:spPr>
          <a:xfrm>
            <a:off x="7236000" y="2712960"/>
            <a:ext cx="863280" cy="78732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40" descr="j0420336"/>
          <p:cNvPicPr/>
          <p:nvPr/>
        </p:nvPicPr>
        <p:blipFill>
          <a:blip r:embed="rId4"/>
          <a:stretch/>
        </p:blipFill>
        <p:spPr>
          <a:xfrm>
            <a:off x="755640" y="4941720"/>
            <a:ext cx="6985080" cy="104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7" descr="11768805666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3280" y="2781360"/>
            <a:ext cx="8136000" cy="382896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8"/>
          <p:cNvSpPr/>
          <p:nvPr/>
        </p:nvSpPr>
        <p:spPr>
          <a:xfrm>
            <a:off x="5144040" y="1413000"/>
            <a:ext cx="338868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隶书"/>
                <a:ea typeface="华文隶书"/>
              </a:rPr>
              <a:t>        </a:t>
            </a:r>
            <a:r>
              <a:rPr b="0" lang="zh-CN" sz="2800" spc="-1" strike="noStrike">
                <a:solidFill>
                  <a:srgbClr val="990033"/>
                </a:solidFill>
                <a:latin typeface="华文隶书"/>
                <a:ea typeface="华文隶书"/>
              </a:rPr>
              <a:t>铁木真统一蒙古前，草原上的战争情景：    星天旋转，诸国争征， </a:t>
            </a:r>
            <a:r>
              <a:rPr b="0" lang="en-US" sz="2800" spc="-1" strike="noStrike">
                <a:solidFill>
                  <a:srgbClr val="990033"/>
                </a:solidFill>
                <a:latin typeface="华文中宋"/>
                <a:ea typeface="华文隶书"/>
              </a:rPr>
              <a:t>……</a:t>
            </a:r>
            <a:r>
              <a:rPr b="0" lang="en-US" sz="2800" spc="-1" strike="noStrike">
                <a:solidFill>
                  <a:srgbClr val="990033"/>
                </a:solidFill>
                <a:latin typeface="华文隶书"/>
                <a:ea typeface="华文隶书"/>
              </a:rPr>
              <a:t>                            </a:t>
            </a:r>
            <a:r>
              <a:rPr b="0" lang="zh-CN" sz="2800" spc="-1" strike="noStrike">
                <a:solidFill>
                  <a:srgbClr val="990033"/>
                </a:solidFill>
                <a:latin typeface="华文隶书"/>
                <a:ea typeface="华文隶书"/>
              </a:rPr>
              <a:t>没有的逃避地方，只有冲锋打仗。        没有平安幸福，只有互相杀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9"/>
          <p:cNvSpPr/>
          <p:nvPr/>
        </p:nvSpPr>
        <p:spPr>
          <a:xfrm>
            <a:off x="1403280" y="620640"/>
            <a:ext cx="48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一代天骄成吉思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4"/>
          <p:cNvSpPr/>
          <p:nvPr/>
        </p:nvSpPr>
        <p:spPr>
          <a:xfrm>
            <a:off x="468360" y="2994120"/>
            <a:ext cx="8136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蒙古族属东胡族系。公元前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209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年，东胡被匈奴冒顿单于击溃，东胡诸部被匈奴人统治了三个多世纪，后来匈奴族被汉朝击败，东胡人的一支鲜卑人自潢水流域辗转迁徙到兴安岭一带，剩余的匈奴人也都自称为鲜卑，鲜卑自此强盛起来。公元四世纪中叶，居住在潢水、老哈河流域一带的鲜卑人的一支，自称为“契丹”；居住于兴安岭以西（今呼伦贝尔地区）的鲜卑人的一支则称为“室韦”。蒙古族就是室韦人的一个分支，这在唐朝时已有记载，称为“蒙兀室韦”。 “蒙古”这一名称较早记载于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旧唐书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契丹国志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，其意为“永恒之火”。别称：“马背民族” ，发祥于额尔古纳河流域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4"/>
          <p:cNvSpPr/>
          <p:nvPr/>
        </p:nvSpPr>
        <p:spPr>
          <a:xfrm>
            <a:off x="468360" y="33184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南宋中期蒙古族各部落有如一盘散沙，还得向强大的金国俯首称臣。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世纪初，成吉思汗统一蒙古高原诸部，建立大蒙古帝国。蒙古族逐渐强盛。成吉思汗用新的千户制体系分封人口。战败的部落，如塔塔儿、克烈、乃蛮被瓜分到各千户，这样族属不同、社会发展不平衡、方言各异的各部在统一的汗权统治下，形成了具有共同地域、共同经济基础、共同语言和共同心理素质的民族共同体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蒙古族。成吉思汗及其子孙东征西讨，扩张版图，向西一直打到欧洲多瑙河畔，就连当时的俄罗斯大公等欧洲君主也屈服在蒙古统治之下。后来蒙古灭亡金国，又一举灭了南宋，建立元朝，忽必烈称元世祖，蒙古族达到了历史上的全盛时期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Text Box 10"/>
          <p:cNvSpPr/>
          <p:nvPr/>
        </p:nvSpPr>
        <p:spPr>
          <a:xfrm>
            <a:off x="1258920" y="54468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成吉思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1"/>
          <p:cNvSpPr/>
          <p:nvPr/>
        </p:nvSpPr>
        <p:spPr>
          <a:xfrm>
            <a:off x="3851280" y="981000"/>
            <a:ext cx="464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成吉思汗，即元太祖（</a:t>
            </a:r>
            <a:r>
              <a:rPr b="1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1162—1227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），蒙古民族杰出的军事家、政治家。孛儿只斤氏，名铁木真。</a:t>
            </a:r>
            <a:r>
              <a:rPr b="1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1206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年，进位蒙古帝国大汗（后被尊为元太祖），统一蒙古各部落。在位期间，多次发动侵略战争，征服地域西达黑海海滨，东括几乎整个东亚，为世界历史上著名的横跨欧亚两洲的大帝国之一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12" descr="1812124"/>
          <p:cNvPicPr/>
          <p:nvPr/>
        </p:nvPicPr>
        <p:blipFill>
          <a:blip r:embed="rId1"/>
          <a:stretch/>
        </p:blipFill>
        <p:spPr>
          <a:xfrm>
            <a:off x="900000" y="1630440"/>
            <a:ext cx="2621160" cy="374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7T14:38:0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0:42Z</dcterms:modified>
  <cp:revision>9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