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27.png" ContentType="image/png"/>
  <Override PartName="/ppt/media/image3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56.gif" ContentType="image/gif"/>
  <Override PartName="/ppt/media/image49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54.gif" ContentType="image/gif"/>
  <Override PartName="/ppt/media/image1.jpeg" ContentType="image/jpeg"/>
  <Override PartName="/ppt/media/image28.png" ContentType="image/png"/>
  <Override PartName="/ppt/media/image43.jpeg" ContentType="image/jpeg"/>
  <Override PartName="/ppt/media/image61.png" ContentType="image/png"/>
  <Override PartName="/ppt/media/image19.png" ContentType="image/png"/>
  <Override PartName="/ppt/media/image14.png" ContentType="image/png"/>
  <Override PartName="/ppt/media/image57.gif" ContentType="image/gif"/>
  <Override PartName="/ppt/media/image20.gif" ContentType="image/gif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60.png" ContentType="image/png"/>
  <Override PartName="/ppt/media/image15.jpeg" ContentType="image/jpeg"/>
  <Override PartName="/ppt/media/image22.jpeg" ContentType="image/jpeg"/>
  <Override PartName="/ppt/media/image34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jpeg" ContentType="image/jpeg"/>
  <Override PartName="/ppt/media/image42.png" ContentType="image/png"/>
  <Override PartName="/ppt/media/image7.gif" ContentType="image/gif"/>
  <Override PartName="/ppt/media/image18.jpeg" ContentType="image/jpeg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58.gif" ContentType="image/gif"/>
  <Override PartName="/ppt/media/image30.jpeg" ContentType="image/jpeg"/>
  <Override PartName="/ppt/media/image31.jpeg" ContentType="image/jpeg"/>
  <Override PartName="/ppt/media/image3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40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50.png" ContentType="image/png"/>
  <Override PartName="/ppt/media/image51.jpeg" ContentType="image/jpeg"/>
  <Override PartName="/ppt/media/image52.png" ContentType="image/png"/>
  <Override PartName="/ppt/media/image53.png" ContentType="image/png"/>
  <Override PartName="/ppt/media/image5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C0A-B179-47BF-9155-40B7CFFD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418-F035-4070-A5F2-22575249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BFF-ABF8-4214-BA5D-7A05DEBB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64D-821B-4858-B923-AF0994AE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33D-6E96-4333-A7EE-5A19B7E5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ABD-732B-4575-ADCE-86CED61A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BF9-4F5F-48E2-8393-1E26C22E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33C-AF23-4D1F-90C8-14094BD9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259-4AA5-466C-8487-E0C836A8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36A-2E69-420C-AB10-7E9C278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FD6-075F-4A06-99BB-5E14C677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F55-F7B4-4107-A9D3-827D1AC3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64E5-0FE8-4206-9004-0BE12C577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4.gif"/><Relationship Id="rId4" Type="http://schemas.openxmlformats.org/officeDocument/2006/relationships/image" Target="../media/image55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6.gi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417,2,&#24187;&#28783;&#29255; 2" TargetMode="External"/><Relationship Id="rId2" Type="http://schemas.openxmlformats.org/officeDocument/2006/relationships/hyperlink" Target="417,2,&#24187;&#28783;&#29255; 2" TargetMode="External"/><Relationship Id="rId3" Type="http://schemas.openxmlformats.org/officeDocument/2006/relationships/hyperlink" Target="391,6,&#24187;&#28783;&#29255; 6" TargetMode="External"/><Relationship Id="rId4" Type="http://schemas.openxmlformats.org/officeDocument/2006/relationships/hyperlink" Target="391,6,&#24187;&#28783;&#29255; 6" TargetMode="External"/><Relationship Id="rId5" Type="http://schemas.openxmlformats.org/officeDocument/2006/relationships/hyperlink" Target="392,8,&#24187;&#28783;&#29255; 8" TargetMode="External"/><Relationship Id="rId6" Type="http://schemas.openxmlformats.org/officeDocument/2006/relationships/hyperlink" Target="392,8,&#24187;&#28783;&#29255; 8" TargetMode="External"/><Relationship Id="rId7" Type="http://schemas.openxmlformats.org/officeDocument/2006/relationships/hyperlink" Target="392,8,&#24187;&#28783;&#29255; 8" TargetMode="External"/><Relationship Id="rId8" Type="http://schemas.openxmlformats.org/officeDocument/2006/relationships/hyperlink" Target="392,8,&#24187;&#28783;&#29255; 8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12"/>
          <p:cNvGrpSpPr/>
          <p:nvPr/>
        </p:nvGrpSpPr>
        <p:grpSpPr>
          <a:xfrm>
            <a:off x="2395440" y="3549600"/>
            <a:ext cx="5441760" cy="2359080"/>
            <a:chOff x="2395440" y="3549600"/>
            <a:chExt cx="5441760" cy="2359080"/>
          </a:xfrm>
        </p:grpSpPr>
        <p:pic>
          <p:nvPicPr>
            <p:cNvPr id="152" name="Picture 8" descr="从月球看地球"/>
            <p:cNvPicPr/>
            <p:nvPr/>
          </p:nvPicPr>
          <p:blipFill>
            <a:blip r:embed="rId1"/>
            <a:stretch/>
          </p:blipFill>
          <p:spPr>
            <a:xfrm>
              <a:off x="2395440" y="3558600"/>
              <a:ext cx="2727000" cy="234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1" descr="W020100825479039454635"/>
            <p:cNvPicPr/>
            <p:nvPr/>
          </p:nvPicPr>
          <p:blipFill>
            <a:blip r:embed="rId2"/>
            <a:stretch/>
          </p:blipFill>
          <p:spPr>
            <a:xfrm>
              <a:off x="5144760" y="3549600"/>
              <a:ext cx="2692440" cy="235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Picture 5" descr="老师"/>
          <p:cNvPicPr/>
          <p:nvPr/>
        </p:nvPicPr>
        <p:blipFill>
          <a:blip r:embed="rId3"/>
          <a:stretch/>
        </p:blipFill>
        <p:spPr>
          <a:xfrm>
            <a:off x="420840" y="3443400"/>
            <a:ext cx="2711160" cy="2801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框"/>
          <p:cNvPicPr/>
          <p:nvPr/>
        </p:nvPicPr>
        <p:blipFill>
          <a:blip r:embed="rId4"/>
          <a:stretch/>
        </p:blipFill>
        <p:spPr>
          <a:xfrm>
            <a:off x="1370160" y="932040"/>
            <a:ext cx="7078680" cy="2295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722160" y="976320"/>
            <a:ext cx="793440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单元</a:t>
            </a:r>
            <a:endParaRPr b="1" lang="en-US" sz="36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战后主要资本主义国家的发展变化</a:t>
            </a:r>
            <a:endParaRPr b="1" lang="en-US" sz="36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第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8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  美国经济的发展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157" name="文本框 6155"/>
          <p:cNvSpPr/>
          <p:nvPr/>
        </p:nvSpPr>
        <p:spPr>
          <a:xfrm>
            <a:off x="34920" y="6453360"/>
            <a:ext cx="507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世界上第一台电子计算机2"/>
          <p:cNvPicPr/>
          <p:nvPr/>
        </p:nvPicPr>
        <p:blipFill>
          <a:blip r:embed="rId1"/>
          <a:stretch/>
        </p:blipFill>
        <p:spPr>
          <a:xfrm>
            <a:off x="2373480" y="1359000"/>
            <a:ext cx="4956120" cy="30668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3293640" y="4519440"/>
            <a:ext cx="3079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第一台电子计算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ENIAC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（埃尼克森）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在美国宾夕法尼亚大学诞生（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946.2.14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642960" y="5164200"/>
            <a:ext cx="7840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94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月，美国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Intel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公司宣布研制成功世界上最快的超级计算机，它每秒可进行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3280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亿次加法运算（是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ENIAC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6600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万倍）。如果让人完成它一秒钟进行的运算量的话，需要一个人昼夜不停地计算一万多年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grpSp>
        <p:nvGrpSpPr>
          <p:cNvPr id="363" name="Group 9"/>
          <p:cNvGrpSpPr/>
          <p:nvPr/>
        </p:nvGrpSpPr>
        <p:grpSpPr>
          <a:xfrm>
            <a:off x="463680" y="708120"/>
            <a:ext cx="7086600" cy="542880"/>
            <a:chOff x="463680" y="708120"/>
            <a:chExt cx="7086600" cy="542880"/>
          </a:xfrm>
        </p:grpSpPr>
        <p:sp>
          <p:nvSpPr>
            <p:cNvPr id="364" name="AutoShape 8"/>
            <p:cNvSpPr/>
            <p:nvPr/>
          </p:nvSpPr>
          <p:spPr>
            <a:xfrm>
              <a:off x="463680" y="708120"/>
              <a:ext cx="7086600" cy="542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65" name="Text Box 7"/>
            <p:cNvSpPr/>
            <p:nvPr/>
          </p:nvSpPr>
          <p:spPr>
            <a:xfrm>
              <a:off x="473400" y="755640"/>
              <a:ext cx="69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）掀起更新原有设备热潮，技术条件大为改观</a:t>
              </a: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pic>
        <p:nvPicPr>
          <p:cNvPr id="366" name="Picture 2" descr="6_1105584051"/>
          <p:cNvPicPr/>
          <p:nvPr/>
        </p:nvPicPr>
        <p:blipFill>
          <a:blip r:embed="rId2"/>
          <a:stretch/>
        </p:blipFill>
        <p:spPr>
          <a:xfrm>
            <a:off x="7777080" y="1328760"/>
            <a:ext cx="955800" cy="35002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Boy10"/>
          <p:cNvPicPr/>
          <p:nvPr/>
        </p:nvPicPr>
        <p:blipFill>
          <a:blip r:embed="rId3"/>
          <a:stretch/>
        </p:blipFill>
        <p:spPr>
          <a:xfrm>
            <a:off x="457200" y="2660760"/>
            <a:ext cx="160020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736720" y="4781520"/>
            <a:ext cx="41497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二战后的德国几乎变成一片废墟</a:t>
            </a:r>
            <a:endParaRPr b="1" lang="en-US" sz="20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731880" y="5259240"/>
            <a:ext cx="768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二战后战败的德国不仅面临着因战争遭受的严重经济衰败局面，而且因美苏冷战而导致德国分裂为两个国家，致使统一的经济被割裂。但战后，联邦德国经济高速发展，并在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世纪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代初，经济发展再次超过英法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370" name="Picture 4" descr="Germany194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781280" y="1424160"/>
            <a:ext cx="5864040" cy="330804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463680" y="736560"/>
            <a:ext cx="6914880" cy="552600"/>
            <a:chOff x="463680" y="736560"/>
            <a:chExt cx="6914880" cy="552600"/>
          </a:xfrm>
        </p:grpSpPr>
        <p:sp>
          <p:nvSpPr>
            <p:cNvPr id="372" name="AutoShape 8"/>
            <p:cNvSpPr/>
            <p:nvPr/>
          </p:nvSpPr>
          <p:spPr>
            <a:xfrm>
              <a:off x="463680" y="736560"/>
              <a:ext cx="6600600" cy="552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463680" y="784080"/>
              <a:ext cx="69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）战后各国重建为美国提供广阔的国外市场</a:t>
              </a: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25600" y="1495440"/>
          <a:ext cx="8024760" cy="4543560"/>
        </p:xfrm>
        <a:graphic>
          <a:graphicData uri="http://schemas.openxmlformats.org/drawingml/2006/table">
            <a:tbl>
              <a:tblPr/>
              <a:tblGrid>
                <a:gridCol w="2006640"/>
                <a:gridCol w="2006640"/>
                <a:gridCol w="2033640"/>
                <a:gridCol w="1977840"/>
              </a:tblGrid>
              <a:tr h="414360">
                <a:tc gridSpan="4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世 界 著 名 大 学 前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00 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位 详 细 排 名 一 览 表</a:t>
                      </a:r>
                      <a:endParaRPr b="1" lang="en-US" sz="20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01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哈佛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02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斯坦福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03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耶鲁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04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州理工学院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05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州大学伯克利分校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06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英国剑桥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07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麻省理工学院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08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英国牛津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09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州大学旧金山分校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10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哥伦比亚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11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密歇根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12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州大学洛杉矶分校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13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宾西法尼亚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14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杜克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15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普林斯顿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16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日本东京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17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英国伦敦大学帝国理工学院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18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拿大多伦多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19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康奈尔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20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芝加哥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26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瑞士联邦理工学院洛桑分校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27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德州大学奥斯丁分校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28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威斯康星大学麦迪逊分校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29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日本京都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30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明尼苏达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31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拿大英属哥伦比亚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32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瑞士日内瓦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33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圣路易斯华盛顿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34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英国伦敦经济学院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35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西北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36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新加坡国立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37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匹兹堡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38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澳大利亚国立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39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纽约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40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宾西法尼亚州立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41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北卡罗来那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42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拿大麦吉尔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43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法国巴黎综合理工学院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44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瑞士巴塞尔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51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科罗拉多大学波尔得分校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52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荷兰乌得勒支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53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澳大利亚墨尔本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54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南加州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55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拿大阿尔伯塔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56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布朗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57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日本大阪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58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英国曼彻斯特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59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州大学圣巴巴拉分校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60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香港科技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61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荷兰瓦赫宁根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62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密歇根州立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63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德国慕尼黑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64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澳大利亚新南威尔士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65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波士顿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66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范德比尔特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67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罗切斯特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68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日本东北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69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香港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76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瑞典兰德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77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德克萨斯</a:t>
                      </a: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A&amp;M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78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澳大利亚西澳大利亚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79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法国巴黎高等师范学院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80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弗吉尼亚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81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德国慕尼黑理工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82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以色列耶路撒冷希伯莱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83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荷兰莱顿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84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加拿大滑铁卢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85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英国伦敦大学国王学院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86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普度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87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英国伯明翰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88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瑞典乌普萨拉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89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荷兰阿姆斯特丹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90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德国海登堡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91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澳大利亚昆士兰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92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比利时卢汶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93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艾莫利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94.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日本名古屋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095.</a:t>
                      </a:r>
                      <a:r>
                        <a:rPr b="1" lang="zh-CN" sz="11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美国</a:t>
                      </a:r>
                      <a:r>
                        <a:rPr b="1" lang="zh-CN" sz="11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凯斯西保留地大学</a:t>
                      </a:r>
                      <a:endParaRPr b="1" lang="en-US" sz="11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5" name="Group 31"/>
          <p:cNvGrpSpPr/>
          <p:nvPr/>
        </p:nvGrpSpPr>
        <p:grpSpPr>
          <a:xfrm>
            <a:off x="593640" y="698400"/>
            <a:ext cx="5610240" cy="504720"/>
            <a:chOff x="593640" y="698400"/>
            <a:chExt cx="5610240" cy="504720"/>
          </a:xfrm>
        </p:grpSpPr>
        <p:sp>
          <p:nvSpPr>
            <p:cNvPr id="376" name="AutoShape 30"/>
            <p:cNvSpPr/>
            <p:nvPr/>
          </p:nvSpPr>
          <p:spPr>
            <a:xfrm>
              <a:off x="593640" y="698400"/>
              <a:ext cx="5610240" cy="504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622080" y="736560"/>
              <a:ext cx="52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）巨大的教育、科技和人才优势</a:t>
              </a: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744480" y="5181480"/>
            <a:ext cx="774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第二次世界大战加速了第三次科技革命的到来，它以原子能技术、航天技术、电子计算机的突破为代表。其中电子计算机的不断普及与不断升级，是第三次科技革命中最为突出的核心技术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3208320" y="4784760"/>
            <a:ext cx="26431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哥伦比亚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号航天飞机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098720" y="4759200"/>
            <a:ext cx="17794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广岛原子弹爆炸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grpSp>
        <p:nvGrpSpPr>
          <p:cNvPr id="381" name="Group 10"/>
          <p:cNvGrpSpPr/>
          <p:nvPr/>
        </p:nvGrpSpPr>
        <p:grpSpPr>
          <a:xfrm>
            <a:off x="833400" y="1251000"/>
            <a:ext cx="7508520" cy="3419280"/>
            <a:chOff x="833400" y="1251000"/>
            <a:chExt cx="7508520" cy="3419280"/>
          </a:xfrm>
        </p:grpSpPr>
        <p:pic>
          <p:nvPicPr>
            <p:cNvPr id="382" name="Picture 4" descr="g"/>
            <p:cNvPicPr/>
            <p:nvPr/>
          </p:nvPicPr>
          <p:blipFill>
            <a:blip r:embed="rId1"/>
            <a:stretch/>
          </p:blipFill>
          <p:spPr>
            <a:xfrm>
              <a:off x="3390840" y="1251000"/>
              <a:ext cx="2354400" cy="34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6" descr="广岛上空的原子弹爆炸时的蘑菇云"/>
            <p:cNvPicPr/>
            <p:nvPr/>
          </p:nvPicPr>
          <p:blipFill>
            <a:blip r:embed="rId2"/>
            <a:stretch/>
          </p:blipFill>
          <p:spPr>
            <a:xfrm>
              <a:off x="833400" y="1252080"/>
              <a:ext cx="2480040" cy="341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7" descr="a"/>
            <p:cNvPicPr/>
            <p:nvPr/>
          </p:nvPicPr>
          <p:blipFill>
            <a:blip r:embed="rId3"/>
            <a:stretch/>
          </p:blipFill>
          <p:spPr>
            <a:xfrm>
              <a:off x="5811120" y="1254600"/>
              <a:ext cx="2530800" cy="341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Rectangle 8"/>
          <p:cNvSpPr/>
          <p:nvPr/>
        </p:nvSpPr>
        <p:spPr>
          <a:xfrm>
            <a:off x="5938920" y="4761000"/>
            <a:ext cx="2719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世界上第一台电子计算机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grpSp>
        <p:nvGrpSpPr>
          <p:cNvPr id="386" name="Group 14"/>
          <p:cNvGrpSpPr/>
          <p:nvPr/>
        </p:nvGrpSpPr>
        <p:grpSpPr>
          <a:xfrm>
            <a:off x="506520" y="714240"/>
            <a:ext cx="5905440" cy="476280"/>
            <a:chOff x="506520" y="714240"/>
            <a:chExt cx="5905440" cy="476280"/>
          </a:xfrm>
        </p:grpSpPr>
        <p:sp>
          <p:nvSpPr>
            <p:cNvPr id="387" name="AutoShape 13"/>
            <p:cNvSpPr/>
            <p:nvPr/>
          </p:nvSpPr>
          <p:spPr>
            <a:xfrm>
              <a:off x="506520" y="733320"/>
              <a:ext cx="5810040" cy="457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88" name="Text Box 12"/>
            <p:cNvSpPr/>
            <p:nvPr/>
          </p:nvSpPr>
          <p:spPr>
            <a:xfrm>
              <a:off x="506520" y="714240"/>
              <a:ext cx="59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6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）第三次科技革命的推动</a:t>
              </a: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8"/>
          <p:cNvGrpSpPr/>
          <p:nvPr/>
        </p:nvGrpSpPr>
        <p:grpSpPr>
          <a:xfrm>
            <a:off x="636480" y="671400"/>
            <a:ext cx="7691400" cy="4059720"/>
            <a:chOff x="636480" y="671400"/>
            <a:chExt cx="7691400" cy="4059720"/>
          </a:xfrm>
        </p:grpSpPr>
        <p:sp>
          <p:nvSpPr>
            <p:cNvPr id="390" name="Text Box 2"/>
            <p:cNvSpPr/>
            <p:nvPr/>
          </p:nvSpPr>
          <p:spPr>
            <a:xfrm>
              <a:off x="636480" y="4373280"/>
              <a:ext cx="4324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埃德温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尤金</a:t>
              </a:r>
              <a:r>
                <a:rPr b="1" lang="en-US" sz="18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艾德林站在登月舱支架旁</a:t>
              </a:r>
              <a:endParaRPr b="1" lang="en-US" sz="18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91" name="Text Box 3"/>
            <p:cNvSpPr/>
            <p:nvPr/>
          </p:nvSpPr>
          <p:spPr>
            <a:xfrm>
              <a:off x="5468760" y="4384440"/>
              <a:ext cx="269244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宇航员奥尔德林的脚印</a:t>
              </a:r>
              <a:endParaRPr b="1" lang="en-US" sz="18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pic>
          <p:nvPicPr>
            <p:cNvPr id="392" name="Picture 4" descr="登月的第一个脚印"/>
            <p:cNvPicPr/>
            <p:nvPr/>
          </p:nvPicPr>
          <p:blipFill>
            <a:blip r:embed="rId1"/>
            <a:stretch/>
          </p:blipFill>
          <p:spPr>
            <a:xfrm>
              <a:off x="5240160" y="671400"/>
              <a:ext cx="3087720" cy="36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5" descr="人类登上月球"/>
            <p:cNvPicPr/>
            <p:nvPr/>
          </p:nvPicPr>
          <p:blipFill>
            <a:blip r:embed="rId2"/>
            <a:stretch/>
          </p:blipFill>
          <p:spPr>
            <a:xfrm>
              <a:off x="798480" y="674640"/>
              <a:ext cx="3865680" cy="360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Rectangle 6"/>
          <p:cNvSpPr/>
          <p:nvPr/>
        </p:nvSpPr>
        <p:spPr>
          <a:xfrm>
            <a:off x="511200" y="4911840"/>
            <a:ext cx="809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　　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61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5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日，美国肯尼迪总统向全世界宣布实施宏伟的“阿波罗”载人登月计划。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69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日，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名美国宇航员（尼尔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奥尔登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阿姆斯特朗、埃德温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尤金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艾德林、迈克尔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柯林斯）搭乘“阿波罗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1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号”飞船成功地登上了月球。它标志着人类文明向前迈出了一大步，也显示了美国宇航工业的成就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t105"/>
          <p:cNvPicPr/>
          <p:nvPr/>
        </p:nvPicPr>
        <p:blipFill>
          <a:blip r:embed="rId1"/>
          <a:stretch/>
        </p:blipFill>
        <p:spPr>
          <a:xfrm>
            <a:off x="568440" y="706320"/>
            <a:ext cx="8029440" cy="54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9"/>
          <p:cNvSpPr/>
          <p:nvPr/>
        </p:nvSpPr>
        <p:spPr>
          <a:xfrm>
            <a:off x="600120" y="1514520"/>
            <a:ext cx="8058240" cy="4124160"/>
          </a:xfrm>
          <a:prstGeom prst="flowChartDocument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458640" y="3176640"/>
            <a:ext cx="822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469800" y="727200"/>
            <a:ext cx="389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危机和经济调整</a:t>
            </a:r>
            <a:endParaRPr b="1" lang="en-US" sz="26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744480" y="1606680"/>
            <a:ext cx="645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时间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世纪七八十年代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原因：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受到世界经济危机严重打击；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通货膨胀；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债务沉重。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调整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世纪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7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代后期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8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代初  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00" name="Picture 10" descr="LX2"/>
          <p:cNvPicPr/>
          <p:nvPr/>
        </p:nvPicPr>
        <p:blipFill>
          <a:blip r:embed="rId1"/>
          <a:srcRect l="71324" t="45800" r="0" b="3798"/>
          <a:stretch/>
        </p:blipFill>
        <p:spPr>
          <a:xfrm>
            <a:off x="7496280" y="4983120"/>
            <a:ext cx="1111320" cy="1225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3"/>
          <p:cNvPicPr/>
          <p:nvPr/>
        </p:nvPicPr>
        <p:blipFill>
          <a:blip r:embed="rId2"/>
          <a:stretch/>
        </p:blipFill>
        <p:spPr>
          <a:xfrm>
            <a:off x="4998960" y="700200"/>
            <a:ext cx="3591000" cy="5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12"/>
          <p:cNvGrpSpPr/>
          <p:nvPr/>
        </p:nvGrpSpPr>
        <p:grpSpPr>
          <a:xfrm>
            <a:off x="609480" y="1523880"/>
            <a:ext cx="7925040" cy="3238560"/>
            <a:chOff x="609480" y="1523880"/>
            <a:chExt cx="7925040" cy="3238560"/>
          </a:xfrm>
        </p:grpSpPr>
        <p:sp>
          <p:nvSpPr>
            <p:cNvPr id="403" name="AutoShape 11"/>
            <p:cNvSpPr/>
            <p:nvPr/>
          </p:nvSpPr>
          <p:spPr>
            <a:xfrm>
              <a:off x="609480" y="1523880"/>
              <a:ext cx="7925040" cy="3238560"/>
            </a:xfrm>
            <a:prstGeom prst="foldedCorner">
              <a:avLst>
                <a:gd name="adj" fmla="val 12500"/>
              </a:avLst>
            </a:pr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404" name="Text Box 5"/>
            <p:cNvSpPr/>
            <p:nvPr/>
          </p:nvSpPr>
          <p:spPr>
            <a:xfrm>
              <a:off x="681120" y="1641240"/>
              <a:ext cx="7616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时间：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20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世纪九十年代以来</a:t>
              </a: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原因：改革社会经济；加大发展教育科技事业的力度，促进以信息产业为代表的高新技术的发展；完成传统产业的技术改造。</a:t>
              </a: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新经济的主要特征：信息化和全球化</a:t>
              </a: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615960" y="8841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新经济的出现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06" name="Picture 13" descr="zhidao-newyear"/>
          <p:cNvPicPr/>
          <p:nvPr/>
        </p:nvPicPr>
        <p:blipFill>
          <a:blip r:embed="rId1"/>
          <a:stretch/>
        </p:blipFill>
        <p:spPr>
          <a:xfrm>
            <a:off x="480960" y="5048280"/>
            <a:ext cx="8172360" cy="1066680"/>
          </a:xfrm>
          <a:prstGeom prst="rect">
            <a:avLst/>
          </a:prstGeom>
          <a:ln w="0">
            <a:noFill/>
          </a:ln>
        </p:spPr>
      </p:pic>
      <p:sp>
        <p:nvSpPr>
          <p:cNvPr id="407" name="文本框 8194"/>
          <p:cNvSpPr/>
          <p:nvPr/>
        </p:nvSpPr>
        <p:spPr>
          <a:xfrm>
            <a:off x="2970360" y="884160"/>
            <a:ext cx="53276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W020100825479033355889"/>
          <p:cNvPicPr/>
          <p:nvPr/>
        </p:nvPicPr>
        <p:blipFill>
          <a:blip r:embed="rId1"/>
          <a:stretch/>
        </p:blipFill>
        <p:spPr>
          <a:xfrm>
            <a:off x="1019160" y="825480"/>
            <a:ext cx="6962760" cy="47340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"/>
          <p:cNvSpPr/>
          <p:nvPr/>
        </p:nvSpPr>
        <p:spPr>
          <a:xfrm>
            <a:off x="2847960" y="562284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美国学生在使用计算机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8"/>
          <p:cNvGrpSpPr/>
          <p:nvPr/>
        </p:nvGrpSpPr>
        <p:grpSpPr>
          <a:xfrm>
            <a:off x="522360" y="698400"/>
            <a:ext cx="8105760" cy="3983400"/>
            <a:chOff x="522360" y="698400"/>
            <a:chExt cx="8105760" cy="3983400"/>
          </a:xfrm>
        </p:grpSpPr>
        <p:pic>
          <p:nvPicPr>
            <p:cNvPr id="411" name="Picture 3" descr="g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522360" y="698400"/>
              <a:ext cx="8105760" cy="35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6"/>
            <p:cNvSpPr/>
            <p:nvPr/>
          </p:nvSpPr>
          <p:spPr>
            <a:xfrm>
              <a:off x="1187640" y="4282920"/>
              <a:ext cx="707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宋体"/>
                </a:rPr>
                <a:t>美国“硅谷”是兴起最早、规模最大的高新技术产业中心</a:t>
              </a:r>
              <a:endParaRPr b="1" lang="en-US" sz="20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sp>
        <p:nvSpPr>
          <p:cNvPr id="413" name="Text Box 7"/>
          <p:cNvSpPr/>
          <p:nvPr/>
        </p:nvSpPr>
        <p:spPr>
          <a:xfrm>
            <a:off x="619200" y="4724280"/>
            <a:ext cx="79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硅谷是名副其实的全球第一科技园。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世纪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年代中期，随着微电子技术高速发展而逐步形成的，拥有思科、英特尔、惠普、朗讯、苹果、雅虎、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AMD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等大公司，所产半导体集成电路和电子计算机约占全美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/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和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1/6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1" lang="en-US" sz="20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图片1"/>
          <p:cNvPicPr/>
          <p:nvPr/>
        </p:nvPicPr>
        <p:blipFill>
          <a:blip r:embed="rId1"/>
          <a:stretch/>
        </p:blipFill>
        <p:spPr>
          <a:xfrm>
            <a:off x="2114640" y="1636560"/>
            <a:ext cx="4033800" cy="801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http://t3.baidu.com/it/u=2468400631,1213018213&amp;fm=0&amp;gp=0.jpg"/>
          <p:cNvPicPr/>
          <p:nvPr/>
        </p:nvPicPr>
        <p:blipFill>
          <a:blip r:embed="rId2"/>
          <a:stretch/>
        </p:blipFill>
        <p:spPr>
          <a:xfrm flipH="1">
            <a:off x="425520" y="658800"/>
            <a:ext cx="1285920" cy="11844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453960" y="5280120"/>
            <a:ext cx="8206920" cy="969480"/>
            <a:chOff x="453960" y="5280120"/>
            <a:chExt cx="8206920" cy="969480"/>
          </a:xfrm>
        </p:grpSpPr>
        <p:sp>
          <p:nvSpPr>
            <p:cNvPr id="161" name="Freeform 5"/>
            <p:cNvSpPr/>
            <p:nvPr/>
          </p:nvSpPr>
          <p:spPr>
            <a:xfrm>
              <a:off x="453960" y="5445360"/>
              <a:ext cx="1643040" cy="46332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453960" y="5880600"/>
              <a:ext cx="1639440" cy="3412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406480" y="5428080"/>
              <a:ext cx="3254040" cy="4802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5403960" y="5908680"/>
              <a:ext cx="3256920" cy="340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5403960" y="5704920"/>
              <a:ext cx="6984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5509080" y="5704920"/>
              <a:ext cx="7380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562104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5403960" y="5758560"/>
              <a:ext cx="31392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5403960" y="5857560"/>
              <a:ext cx="31392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7529040" y="5704920"/>
              <a:ext cx="7056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763488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774612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785808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7969680" y="5704920"/>
              <a:ext cx="73800" cy="22212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8081640" y="5717160"/>
              <a:ext cx="73080" cy="2286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8196120" y="5729400"/>
              <a:ext cx="70560" cy="24084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8307360" y="5744880"/>
              <a:ext cx="70560" cy="26100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8419320" y="5768280"/>
              <a:ext cx="70560" cy="28692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8531280" y="5794560"/>
              <a:ext cx="69840" cy="33336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8642880" y="5851440"/>
              <a:ext cx="17640" cy="32868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7490880" y="5758560"/>
              <a:ext cx="1169640" cy="16200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7490880" y="5857560"/>
              <a:ext cx="1169640" cy="2376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5715000" y="5704920"/>
              <a:ext cx="7056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582120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5932440" y="5704920"/>
              <a:ext cx="7380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86" name="Rectangle 30"/>
            <p:cNvSpPr/>
            <p:nvPr/>
          </p:nvSpPr>
          <p:spPr>
            <a:xfrm>
              <a:off x="5715000" y="5758560"/>
              <a:ext cx="31428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87" name="Rectangle 31"/>
            <p:cNvSpPr/>
            <p:nvPr/>
          </p:nvSpPr>
          <p:spPr>
            <a:xfrm>
              <a:off x="5715000" y="5857560"/>
              <a:ext cx="31428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6026400" y="5704920"/>
              <a:ext cx="7056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612972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624456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91" name="Rectangle 35"/>
            <p:cNvSpPr/>
            <p:nvPr/>
          </p:nvSpPr>
          <p:spPr>
            <a:xfrm>
              <a:off x="6026400" y="5758560"/>
              <a:ext cx="31428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92" name="Rectangle 36"/>
            <p:cNvSpPr/>
            <p:nvPr/>
          </p:nvSpPr>
          <p:spPr>
            <a:xfrm>
              <a:off x="6026400" y="5857560"/>
              <a:ext cx="31428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6338520" y="5704920"/>
              <a:ext cx="7056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6441120" y="5704920"/>
              <a:ext cx="7380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655308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96" name="Rectangle 40"/>
            <p:cNvSpPr/>
            <p:nvPr/>
          </p:nvSpPr>
          <p:spPr>
            <a:xfrm>
              <a:off x="6338520" y="5758560"/>
              <a:ext cx="31428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97" name="Rectangle 41"/>
            <p:cNvSpPr/>
            <p:nvPr/>
          </p:nvSpPr>
          <p:spPr>
            <a:xfrm>
              <a:off x="6338520" y="5857560"/>
              <a:ext cx="31428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664704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75288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6864480" y="5704920"/>
              <a:ext cx="7380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01" name="Rectangle 45"/>
            <p:cNvSpPr/>
            <p:nvPr/>
          </p:nvSpPr>
          <p:spPr>
            <a:xfrm>
              <a:off x="6647040" y="5758560"/>
              <a:ext cx="31716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02" name="Rectangle 46"/>
            <p:cNvSpPr/>
            <p:nvPr/>
          </p:nvSpPr>
          <p:spPr>
            <a:xfrm>
              <a:off x="6647040" y="5857560"/>
              <a:ext cx="31716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6958440" y="5704920"/>
              <a:ext cx="7380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04" name="Freeform 48"/>
            <p:cNvSpPr/>
            <p:nvPr/>
          </p:nvSpPr>
          <p:spPr>
            <a:xfrm>
              <a:off x="706428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05" name="Freeform 49"/>
            <p:cNvSpPr/>
            <p:nvPr/>
          </p:nvSpPr>
          <p:spPr>
            <a:xfrm>
              <a:off x="717624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06" name="Rectangle 50"/>
            <p:cNvSpPr/>
            <p:nvPr/>
          </p:nvSpPr>
          <p:spPr>
            <a:xfrm>
              <a:off x="6958440" y="5758560"/>
              <a:ext cx="31428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07" name="Rectangle 51"/>
            <p:cNvSpPr/>
            <p:nvPr/>
          </p:nvSpPr>
          <p:spPr>
            <a:xfrm>
              <a:off x="6958440" y="5857560"/>
              <a:ext cx="31428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08" name="Freeform 52"/>
            <p:cNvSpPr/>
            <p:nvPr/>
          </p:nvSpPr>
          <p:spPr>
            <a:xfrm>
              <a:off x="727020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09" name="Freeform 53"/>
            <p:cNvSpPr/>
            <p:nvPr/>
          </p:nvSpPr>
          <p:spPr>
            <a:xfrm>
              <a:off x="737640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10" name="Freeform 54"/>
            <p:cNvSpPr/>
            <p:nvPr/>
          </p:nvSpPr>
          <p:spPr>
            <a:xfrm>
              <a:off x="7487640" y="5704920"/>
              <a:ext cx="73080" cy="2037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11" name="Rectangle 55"/>
            <p:cNvSpPr/>
            <p:nvPr/>
          </p:nvSpPr>
          <p:spPr>
            <a:xfrm>
              <a:off x="7270200" y="5758560"/>
              <a:ext cx="31428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12" name="Rectangle 56"/>
            <p:cNvSpPr/>
            <p:nvPr/>
          </p:nvSpPr>
          <p:spPr>
            <a:xfrm>
              <a:off x="7270200" y="5857560"/>
              <a:ext cx="314280" cy="2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13" name="Freeform 57"/>
            <p:cNvSpPr/>
            <p:nvPr/>
          </p:nvSpPr>
          <p:spPr>
            <a:xfrm>
              <a:off x="7578720" y="5380560"/>
              <a:ext cx="893160" cy="64836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14" name="Freeform 58"/>
            <p:cNvSpPr/>
            <p:nvPr/>
          </p:nvSpPr>
          <p:spPr>
            <a:xfrm>
              <a:off x="7326360" y="5280120"/>
              <a:ext cx="1251720" cy="4741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15" name="Freeform 59"/>
            <p:cNvSpPr/>
            <p:nvPr/>
          </p:nvSpPr>
          <p:spPr>
            <a:xfrm>
              <a:off x="2097000" y="5433120"/>
              <a:ext cx="3306600" cy="4755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2170080" y="5415840"/>
              <a:ext cx="516960" cy="49248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17" name="Freeform 61"/>
            <p:cNvSpPr/>
            <p:nvPr/>
          </p:nvSpPr>
          <p:spPr>
            <a:xfrm>
              <a:off x="2372760" y="5562720"/>
              <a:ext cx="1113840" cy="34596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18" name="Freeform 62"/>
            <p:cNvSpPr/>
            <p:nvPr/>
          </p:nvSpPr>
          <p:spPr>
            <a:xfrm>
              <a:off x="2364120" y="5533200"/>
              <a:ext cx="1134360" cy="20556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19" name="Rectangle 63"/>
            <p:cNvSpPr/>
            <p:nvPr/>
          </p:nvSpPr>
          <p:spPr>
            <a:xfrm>
              <a:off x="2405520" y="5751000"/>
              <a:ext cx="393840" cy="1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20" name="Freeform 64"/>
            <p:cNvSpPr/>
            <p:nvPr/>
          </p:nvSpPr>
          <p:spPr>
            <a:xfrm>
              <a:off x="2593440" y="5533200"/>
              <a:ext cx="905040" cy="18360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21" name="Rectangle 65"/>
            <p:cNvSpPr/>
            <p:nvPr/>
          </p:nvSpPr>
          <p:spPr>
            <a:xfrm>
              <a:off x="2431440" y="5763240"/>
              <a:ext cx="335160" cy="145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22" name="Rectangle 66"/>
            <p:cNvSpPr/>
            <p:nvPr/>
          </p:nvSpPr>
          <p:spPr>
            <a:xfrm>
              <a:off x="2093400" y="5908680"/>
              <a:ext cx="3310200" cy="340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23" name="Freeform 67"/>
            <p:cNvSpPr/>
            <p:nvPr/>
          </p:nvSpPr>
          <p:spPr>
            <a:xfrm>
              <a:off x="3425400" y="5320080"/>
              <a:ext cx="1278360" cy="3164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24" name="Freeform 68"/>
            <p:cNvSpPr/>
            <p:nvPr/>
          </p:nvSpPr>
          <p:spPr>
            <a:xfrm>
              <a:off x="3437280" y="5417640"/>
              <a:ext cx="1578240" cy="49104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25" name="Rectangle 69"/>
            <p:cNvSpPr/>
            <p:nvPr/>
          </p:nvSpPr>
          <p:spPr>
            <a:xfrm>
              <a:off x="3463560" y="5684400"/>
              <a:ext cx="916920" cy="21456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4753800" y="5822280"/>
              <a:ext cx="511200" cy="8640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27" name="Rectangle 71"/>
            <p:cNvSpPr/>
            <p:nvPr/>
          </p:nvSpPr>
          <p:spPr>
            <a:xfrm>
              <a:off x="4753800" y="5680080"/>
              <a:ext cx="217080" cy="1422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28" name="Rectangle 72"/>
            <p:cNvSpPr/>
            <p:nvPr/>
          </p:nvSpPr>
          <p:spPr>
            <a:xfrm>
              <a:off x="3898800" y="5707800"/>
              <a:ext cx="393840" cy="16020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29" name="Rectangle 73"/>
            <p:cNvSpPr/>
            <p:nvPr/>
          </p:nvSpPr>
          <p:spPr>
            <a:xfrm>
              <a:off x="4798080" y="5695200"/>
              <a:ext cx="132480" cy="12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30" name="Freeform 74"/>
            <p:cNvSpPr/>
            <p:nvPr/>
          </p:nvSpPr>
          <p:spPr>
            <a:xfrm>
              <a:off x="3425400" y="5377320"/>
              <a:ext cx="1601640" cy="2901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31" name="Rectangle 75"/>
            <p:cNvSpPr/>
            <p:nvPr/>
          </p:nvSpPr>
          <p:spPr>
            <a:xfrm>
              <a:off x="4010040" y="5717160"/>
              <a:ext cx="1706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32" name="Rectangle 76"/>
            <p:cNvSpPr/>
            <p:nvPr/>
          </p:nvSpPr>
          <p:spPr>
            <a:xfrm>
              <a:off x="3919320" y="5717160"/>
              <a:ext cx="7056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33" name="Rectangle 77"/>
            <p:cNvSpPr/>
            <p:nvPr/>
          </p:nvSpPr>
          <p:spPr>
            <a:xfrm>
              <a:off x="4204080" y="5717160"/>
              <a:ext cx="676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34" name="Rectangle 78"/>
            <p:cNvSpPr/>
            <p:nvPr/>
          </p:nvSpPr>
          <p:spPr>
            <a:xfrm>
              <a:off x="4518720" y="5717160"/>
              <a:ext cx="10836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35" name="Rectangle 79"/>
            <p:cNvSpPr/>
            <p:nvPr/>
          </p:nvSpPr>
          <p:spPr>
            <a:xfrm>
              <a:off x="4447800" y="5717160"/>
              <a:ext cx="496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36" name="Rectangle 80"/>
            <p:cNvSpPr/>
            <p:nvPr/>
          </p:nvSpPr>
          <p:spPr>
            <a:xfrm>
              <a:off x="4651200" y="5717160"/>
              <a:ext cx="496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37" name="Freeform 81"/>
            <p:cNvSpPr/>
            <p:nvPr/>
          </p:nvSpPr>
          <p:spPr>
            <a:xfrm>
              <a:off x="4609800" y="5525640"/>
              <a:ext cx="79200" cy="30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38" name="Freeform 82"/>
            <p:cNvSpPr/>
            <p:nvPr/>
          </p:nvSpPr>
          <p:spPr>
            <a:xfrm>
              <a:off x="4718520" y="5525640"/>
              <a:ext cx="82440" cy="30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39" name="Freeform 83"/>
            <p:cNvSpPr/>
            <p:nvPr/>
          </p:nvSpPr>
          <p:spPr>
            <a:xfrm>
              <a:off x="4657320" y="5508720"/>
              <a:ext cx="93960" cy="4140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40" name="Freeform 84"/>
            <p:cNvSpPr/>
            <p:nvPr/>
          </p:nvSpPr>
          <p:spPr>
            <a:xfrm>
              <a:off x="4716000" y="5545800"/>
              <a:ext cx="511200" cy="13392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41" name="Rectangle 85"/>
            <p:cNvSpPr/>
            <p:nvPr/>
          </p:nvSpPr>
          <p:spPr>
            <a:xfrm>
              <a:off x="5050440" y="5871600"/>
              <a:ext cx="203040" cy="3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42" name="Rectangle 86"/>
            <p:cNvSpPr/>
            <p:nvPr/>
          </p:nvSpPr>
          <p:spPr>
            <a:xfrm>
              <a:off x="4983120" y="5829840"/>
              <a:ext cx="202320" cy="3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43" name="Freeform 87"/>
            <p:cNvSpPr/>
            <p:nvPr/>
          </p:nvSpPr>
          <p:spPr>
            <a:xfrm>
              <a:off x="4980600" y="5585760"/>
              <a:ext cx="234360" cy="9396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44" name="Rectangle 88"/>
            <p:cNvSpPr/>
            <p:nvPr/>
          </p:nvSpPr>
          <p:spPr>
            <a:xfrm>
              <a:off x="5162400" y="5680080"/>
              <a:ext cx="26640" cy="1422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45" name="Freeform 89"/>
            <p:cNvSpPr/>
            <p:nvPr/>
          </p:nvSpPr>
          <p:spPr>
            <a:xfrm>
              <a:off x="4768560" y="5545800"/>
              <a:ext cx="326520" cy="1044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46" name="Rectangle 90"/>
            <p:cNvSpPr/>
            <p:nvPr/>
          </p:nvSpPr>
          <p:spPr>
            <a:xfrm>
              <a:off x="4971240" y="5680080"/>
              <a:ext cx="44640" cy="1422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47" name="Rectangle 91"/>
            <p:cNvSpPr/>
            <p:nvPr/>
          </p:nvSpPr>
          <p:spPr>
            <a:xfrm>
              <a:off x="4753800" y="5680080"/>
              <a:ext cx="43920" cy="1422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48" name="Freeform 92"/>
            <p:cNvSpPr/>
            <p:nvPr/>
          </p:nvSpPr>
          <p:spPr>
            <a:xfrm>
              <a:off x="1500480" y="5908680"/>
              <a:ext cx="1298880" cy="3409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49" name="Freeform 93"/>
            <p:cNvSpPr/>
            <p:nvPr/>
          </p:nvSpPr>
          <p:spPr>
            <a:xfrm>
              <a:off x="3143520" y="5752440"/>
              <a:ext cx="131760" cy="26244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50" name="Freeform 94"/>
            <p:cNvSpPr/>
            <p:nvPr/>
          </p:nvSpPr>
          <p:spPr>
            <a:xfrm>
              <a:off x="3158280" y="5774040"/>
              <a:ext cx="75960" cy="756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51" name="Freeform 95"/>
            <p:cNvSpPr/>
            <p:nvPr/>
          </p:nvSpPr>
          <p:spPr>
            <a:xfrm>
              <a:off x="3158280" y="5808240"/>
              <a:ext cx="79200" cy="612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52" name="Freeform 96"/>
            <p:cNvSpPr/>
            <p:nvPr/>
          </p:nvSpPr>
          <p:spPr>
            <a:xfrm>
              <a:off x="3158280" y="5798880"/>
              <a:ext cx="79200" cy="43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53" name="Freeform 97"/>
            <p:cNvSpPr/>
            <p:nvPr/>
          </p:nvSpPr>
          <p:spPr>
            <a:xfrm>
              <a:off x="3158280" y="5845320"/>
              <a:ext cx="84600" cy="756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54" name="Freeform 98"/>
            <p:cNvSpPr/>
            <p:nvPr/>
          </p:nvSpPr>
          <p:spPr>
            <a:xfrm>
              <a:off x="3158280" y="5837400"/>
              <a:ext cx="84600" cy="43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55" name="Freeform 99"/>
            <p:cNvSpPr/>
            <p:nvPr/>
          </p:nvSpPr>
          <p:spPr>
            <a:xfrm>
              <a:off x="612360" y="5383440"/>
              <a:ext cx="893160" cy="68544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56" name="Freeform 100"/>
            <p:cNvSpPr/>
            <p:nvPr/>
          </p:nvSpPr>
          <p:spPr>
            <a:xfrm>
              <a:off x="462600" y="5289480"/>
              <a:ext cx="1199160" cy="4600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57" name="Freeform 101"/>
            <p:cNvSpPr/>
            <p:nvPr/>
          </p:nvSpPr>
          <p:spPr>
            <a:xfrm>
              <a:off x="1391040" y="5871600"/>
              <a:ext cx="235080" cy="14328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58" name="Freeform 102"/>
            <p:cNvSpPr/>
            <p:nvPr/>
          </p:nvSpPr>
          <p:spPr>
            <a:xfrm>
              <a:off x="997200" y="5927040"/>
              <a:ext cx="138600" cy="7704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sp>
        <p:nvSpPr>
          <p:cNvPr id="259" name="Text Box 104"/>
          <p:cNvSpPr/>
          <p:nvPr/>
        </p:nvSpPr>
        <p:spPr>
          <a:xfrm>
            <a:off x="1687680" y="32432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概述战后美国经济发展的主要特点。 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grpSp>
        <p:nvGrpSpPr>
          <p:cNvPr id="260" name="Group 110"/>
          <p:cNvGrpSpPr/>
          <p:nvPr/>
        </p:nvGrpSpPr>
        <p:grpSpPr>
          <a:xfrm>
            <a:off x="7435800" y="685800"/>
            <a:ext cx="1193760" cy="1601640"/>
            <a:chOff x="7435800" y="685800"/>
            <a:chExt cx="1193760" cy="1601640"/>
          </a:xfrm>
        </p:grpSpPr>
        <p:pic>
          <p:nvPicPr>
            <p:cNvPr id="261" name="Picture 106" descr="u=3856929596,913488829&amp;fm=0&amp;gp=0[1]"/>
            <p:cNvPicPr/>
            <p:nvPr/>
          </p:nvPicPr>
          <p:blipFill>
            <a:blip r:embed="rId3"/>
            <a:stretch/>
          </p:blipFill>
          <p:spPr>
            <a:xfrm>
              <a:off x="7743600" y="742680"/>
              <a:ext cx="51444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08" descr="u=772064833,634882374&amp;fm=0&amp;gp=0[1]"/>
            <p:cNvPicPr/>
            <p:nvPr/>
          </p:nvPicPr>
          <p:blipFill>
            <a:blip r:embed="rId4"/>
            <a:stretch/>
          </p:blipFill>
          <p:spPr>
            <a:xfrm>
              <a:off x="7435800" y="685800"/>
              <a:ext cx="1193760" cy="1601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i"/>
          <p:cNvPicPr/>
          <p:nvPr/>
        </p:nvPicPr>
        <p:blipFill>
          <a:blip r:embed="rId1"/>
          <a:stretch/>
        </p:blipFill>
        <p:spPr>
          <a:xfrm>
            <a:off x="1341360" y="811080"/>
            <a:ext cx="6569280" cy="3141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1425600" y="4011480"/>
            <a:ext cx="6746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位于美国硅谷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20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号的英特尔公司（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Intel Corporation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）总部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685800" y="4548240"/>
            <a:ext cx="78487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1968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16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日成立的英特尔公司总部位于美国加利福尼亚州圣克拉拉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由罗伯特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诺宜斯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高登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摩尔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安迪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葛洛夫以集成电路之名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integrated electronics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）共同创办。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1971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年，英特尔推出全球第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个微处理器。随着个人电脑的普及，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Intel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公司成为世界上最大设计和生产半导体的科技巨擎。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17" name="Picture 5" descr="i"/>
          <p:cNvPicPr/>
          <p:nvPr/>
        </p:nvPicPr>
        <p:blipFill>
          <a:blip r:embed="rId2"/>
          <a:stretch/>
        </p:blipFill>
        <p:spPr>
          <a:xfrm>
            <a:off x="1547640" y="836640"/>
            <a:ext cx="160020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2882880" y="4241880"/>
            <a:ext cx="36324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英特尔在处理市场的宿敌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AMD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19" name="Picture 3" descr="a"/>
          <p:cNvPicPr/>
          <p:nvPr/>
        </p:nvPicPr>
        <p:blipFill>
          <a:blip r:embed="rId1"/>
          <a:stretch/>
        </p:blipFill>
        <p:spPr>
          <a:xfrm>
            <a:off x="2133720" y="888840"/>
            <a:ext cx="4946400" cy="31687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4"/>
          <p:cNvSpPr/>
          <p:nvPr/>
        </p:nvSpPr>
        <p:spPr>
          <a:xfrm>
            <a:off x="714240" y="4616280"/>
            <a:ext cx="770436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AMD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Advanced Micro Devices 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超威半导体）成立于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69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日，总部位于加利福尼亚州桑尼维尔。公司专门为计算机、通信和消费电子行业设计和制造各种创新的微处理器、闪存和低功率处理器解决方案。其在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CPU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市场上的占有率仅次于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Intel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21" name="Picture 5" descr="a"/>
          <p:cNvPicPr/>
          <p:nvPr/>
        </p:nvPicPr>
        <p:blipFill>
          <a:blip r:embed="rId2"/>
          <a:stretch/>
        </p:blipFill>
        <p:spPr>
          <a:xfrm>
            <a:off x="1835280" y="981000"/>
            <a:ext cx="149832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652320" y="4694400"/>
            <a:ext cx="78361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Google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公司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于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98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日以私有股份公司形式创立，是因特网中最大、影响最广泛的搜索引擎，由拉里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佩奇和谢尔盖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布林共同创建，总部位于加利福尼亚山景城。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006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日，公司行政总裁埃里克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施密特在北京宣布该公司的全球中文名字为“谷歌”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116160" y="4356000"/>
            <a:ext cx="31370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美国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Google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（谷歌）食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24" name="Picture 4" descr="g"/>
          <p:cNvPicPr/>
          <p:nvPr/>
        </p:nvPicPr>
        <p:blipFill>
          <a:blip r:embed="rId1"/>
          <a:stretch/>
        </p:blipFill>
        <p:spPr>
          <a:xfrm>
            <a:off x="1531800" y="800280"/>
            <a:ext cx="6051600" cy="3517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g"/>
          <p:cNvPicPr/>
          <p:nvPr/>
        </p:nvPicPr>
        <p:blipFill>
          <a:blip r:embed="rId2"/>
          <a:stretch/>
        </p:blipFill>
        <p:spPr>
          <a:xfrm>
            <a:off x="1538280" y="817560"/>
            <a:ext cx="177480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2284560" y="4417920"/>
            <a:ext cx="48020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惠普研发有限合伙公司（惠普 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HP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）总部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27" name="Picture 3" descr="h"/>
          <p:cNvPicPr/>
          <p:nvPr/>
        </p:nvPicPr>
        <p:blipFill>
          <a:blip r:embed="rId1"/>
          <a:stretch/>
        </p:blipFill>
        <p:spPr>
          <a:xfrm>
            <a:off x="1577880" y="731880"/>
            <a:ext cx="5905440" cy="3522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4"/>
          <p:cNvSpPr/>
          <p:nvPr/>
        </p:nvSpPr>
        <p:spPr>
          <a:xfrm>
            <a:off x="746280" y="4713120"/>
            <a:ext cx="770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公司位于美国加州的帕罗奥多，属全球性的资讯科技公司。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39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，在美国加州帕洛阿尔托市爱迪生大街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367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号的一间狭窄车库里，两位年轻的发明家比尔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休利特和戴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帕卡德，以仅有的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538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美元，满怀激情地创建了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HP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公司。主要专注于打印机、数码影像、软件、计算机与资讯服务等业务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29" name="Picture 5" descr="h"/>
          <p:cNvPicPr/>
          <p:nvPr/>
        </p:nvPicPr>
        <p:blipFill>
          <a:blip r:embed="rId2"/>
          <a:stretch/>
        </p:blipFill>
        <p:spPr>
          <a:xfrm>
            <a:off x="1835280" y="909720"/>
            <a:ext cx="1412640" cy="12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a"/>
          <p:cNvPicPr/>
          <p:nvPr/>
        </p:nvPicPr>
        <p:blipFill>
          <a:blip r:embed="rId1"/>
          <a:stretch/>
        </p:blipFill>
        <p:spPr>
          <a:xfrm>
            <a:off x="1066680" y="733320"/>
            <a:ext cx="7128000" cy="35751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3"/>
          <p:cNvSpPr/>
          <p:nvPr/>
        </p:nvSpPr>
        <p:spPr>
          <a:xfrm>
            <a:off x="2685960" y="4390920"/>
            <a:ext cx="3722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苹果（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Apple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）股份有限公司总部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641520" y="4727520"/>
            <a:ext cx="78469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76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日由斯蒂夫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乔布斯和斯蒂夫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沃兹尼亚克创立。原称苹果电脑，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007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日于旧金山的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Macworld Expo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上宣布改名。总部位于美国加利福尼亚库比提诺，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77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，发售最早的个人电脑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Apple II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。核心业务是电子科技产品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33" name="Picture 5" descr="p"/>
          <p:cNvPicPr/>
          <p:nvPr/>
        </p:nvPicPr>
        <p:blipFill>
          <a:blip r:embed="rId2"/>
          <a:stretch/>
        </p:blipFill>
        <p:spPr>
          <a:xfrm>
            <a:off x="1177920" y="722160"/>
            <a:ext cx="8827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92080302"/>
          <p:cNvPicPr/>
          <p:nvPr/>
        </p:nvPicPr>
        <p:blipFill>
          <a:blip r:embed="rId1"/>
          <a:stretch/>
        </p:blipFill>
        <p:spPr>
          <a:xfrm>
            <a:off x="565200" y="795240"/>
            <a:ext cx="7791480" cy="48546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"/>
          <p:cNvSpPr/>
          <p:nvPr/>
        </p:nvSpPr>
        <p:spPr>
          <a:xfrm>
            <a:off x="3305160" y="568656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信息高速公路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2954160" y="4479840"/>
            <a:ext cx="377352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美国微软公司总裁比尔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盖茨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37" name="Picture 3" descr="b"/>
          <p:cNvPicPr/>
          <p:nvPr/>
        </p:nvPicPr>
        <p:blipFill>
          <a:blip r:embed="rId1"/>
          <a:stretch/>
        </p:blipFill>
        <p:spPr>
          <a:xfrm>
            <a:off x="1278000" y="665280"/>
            <a:ext cx="6502320" cy="37116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4"/>
          <p:cNvSpPr/>
          <p:nvPr/>
        </p:nvSpPr>
        <p:spPr>
          <a:xfrm>
            <a:off x="611280" y="4896000"/>
            <a:ext cx="7891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威廉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亨利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盖茨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William Henry Gates III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简称比尔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盖茨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Bill Gates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）。微软公司创始人、前微软公司主席兼首席软件架构师。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008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7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日，辞去微软行政主席一职，同时将自己的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580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亿美元（约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4530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亿元人民币）财产，全数捐给名下的慈善基金比尔及梅琳达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盖茨基金会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39" name="Picture 5" descr="W"/>
          <p:cNvPicPr/>
          <p:nvPr/>
        </p:nvPicPr>
        <p:blipFill>
          <a:blip r:embed="rId2"/>
          <a:stretch/>
        </p:blipFill>
        <p:spPr>
          <a:xfrm>
            <a:off x="5364000" y="708120"/>
            <a:ext cx="2441880" cy="64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2160720" y="4446720"/>
            <a:ext cx="5387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波音公司（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The Boeing Company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）的飞机制造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41" name="Picture 3" descr="747-1"/>
          <p:cNvPicPr/>
          <p:nvPr/>
        </p:nvPicPr>
        <p:blipFill>
          <a:blip r:embed="rId1"/>
          <a:stretch/>
        </p:blipFill>
        <p:spPr>
          <a:xfrm>
            <a:off x="1413000" y="687240"/>
            <a:ext cx="6267240" cy="37180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4"/>
          <p:cNvSpPr/>
          <p:nvPr/>
        </p:nvSpPr>
        <p:spPr>
          <a:xfrm>
            <a:off x="755640" y="4910040"/>
            <a:ext cx="77040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波音公司成立于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16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日，由威廉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爱德华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波音创建，并于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17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改名波音公司。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29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更名为联合飞机及空运公司。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34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按政府法规要求拆分成三个独立的公司：联合飞机公司（现联合技术公司）、波音飞机公司、联合航空公司。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61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原波音飞机公司改名为波音公司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43" name="Picture 5" descr="b"/>
          <p:cNvPicPr/>
          <p:nvPr/>
        </p:nvPicPr>
        <p:blipFill>
          <a:blip r:embed="rId2"/>
          <a:stretch/>
        </p:blipFill>
        <p:spPr>
          <a:xfrm>
            <a:off x="1692360" y="981000"/>
            <a:ext cx="12668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6_1105584051"/>
          <p:cNvPicPr/>
          <p:nvPr/>
        </p:nvPicPr>
        <p:blipFill>
          <a:blip r:embed="rId1"/>
          <a:srcRect l="0" t="0" r="-11607" b="0"/>
          <a:stretch/>
        </p:blipFill>
        <p:spPr>
          <a:xfrm>
            <a:off x="6740640" y="669960"/>
            <a:ext cx="1944720" cy="2536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本课小结"/>
          <p:cNvPicPr/>
          <p:nvPr/>
        </p:nvPicPr>
        <p:blipFill>
          <a:blip r:embed="rId2"/>
          <a:stretch/>
        </p:blipFill>
        <p:spPr>
          <a:xfrm>
            <a:off x="2033640" y="878040"/>
            <a:ext cx="3632040" cy="82836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440640" y="2409840"/>
            <a:ext cx="911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美国经济的发展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1495440" y="1943280"/>
            <a:ext cx="171360" cy="3409920"/>
          </a:xfrm>
          <a:custGeom>
            <a:avLst/>
            <a:gdLst>
              <a:gd name="textAreaLeft" fmla="*/ 109440 w 171360"/>
              <a:gd name="textAreaRight" fmla="*/ 171720 w 171360"/>
              <a:gd name="textAreaTop" fmla="*/ 88560 h 3409920"/>
              <a:gd name="textAreaBottom" fmla="*/ 3321360 h 34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1695600" y="1704960"/>
            <a:ext cx="6572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战后的繁荣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世纪五六十年代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危机和经济调整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危机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74—197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调整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世纪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7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代后期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8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代初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新经济的出现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时间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世纪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9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代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特征：信息化和全球化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49" name="Picture 10" descr="line%2D3"/>
          <p:cNvPicPr/>
          <p:nvPr/>
        </p:nvPicPr>
        <p:blipFill>
          <a:blip r:embed="rId3"/>
          <a:stretch/>
        </p:blipFill>
        <p:spPr>
          <a:xfrm>
            <a:off x="455760" y="5745240"/>
            <a:ext cx="8232480" cy="49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"/>
          <p:cNvSpPr/>
          <p:nvPr/>
        </p:nvSpPr>
        <p:spPr>
          <a:xfrm>
            <a:off x="582480" y="1555920"/>
            <a:ext cx="798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战后 ，成为世界第一经济大国的是 （    ）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美国　　　　  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苏联　　　　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日本　　　　  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联邦德国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美国经济开始出现空前繁荣局面是在（    ）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美国内战后　  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战后　　　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战后　　　    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苏联解体后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6575400" y="170496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6234120" y="3327480"/>
            <a:ext cx="4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53" name="Picture 17" descr="banner"/>
          <p:cNvPicPr/>
          <p:nvPr/>
        </p:nvPicPr>
        <p:blipFill>
          <a:blip r:embed="rId1"/>
          <a:stretch/>
        </p:blipFill>
        <p:spPr>
          <a:xfrm>
            <a:off x="428760" y="5222880"/>
            <a:ext cx="8277120" cy="990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课堂训练"/>
          <p:cNvPicPr/>
          <p:nvPr/>
        </p:nvPicPr>
        <p:blipFill>
          <a:blip r:embed="rId2"/>
          <a:stretch/>
        </p:blipFill>
        <p:spPr>
          <a:xfrm>
            <a:off x="2411280" y="692280"/>
            <a:ext cx="3654720" cy="83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182"/>
          <p:cNvPicPr/>
          <p:nvPr/>
        </p:nvPicPr>
        <p:blipFill>
          <a:blip r:embed="rId1"/>
          <a:stretch/>
        </p:blipFill>
        <p:spPr>
          <a:xfrm>
            <a:off x="523800" y="5653080"/>
            <a:ext cx="7848720" cy="596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图片2"/>
          <p:cNvPicPr/>
          <p:nvPr/>
        </p:nvPicPr>
        <p:blipFill>
          <a:blip r:embed="rId2"/>
          <a:stretch/>
        </p:blipFill>
        <p:spPr>
          <a:xfrm>
            <a:off x="2577960" y="1546200"/>
            <a:ext cx="4397400" cy="949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bj3"/>
          <p:cNvPicPr/>
          <p:nvPr/>
        </p:nvPicPr>
        <p:blipFill>
          <a:blip r:embed="rId3"/>
          <a:stretch/>
        </p:blipFill>
        <p:spPr>
          <a:xfrm>
            <a:off x="404640" y="636480"/>
            <a:ext cx="3252960" cy="1138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u=304829133,1677234980&amp;fm=0&amp;gp=0"/>
          <p:cNvPicPr/>
          <p:nvPr/>
        </p:nvPicPr>
        <p:blipFill>
          <a:blip r:embed="rId4"/>
          <a:stretch/>
        </p:blipFill>
        <p:spPr>
          <a:xfrm>
            <a:off x="7647120" y="671400"/>
            <a:ext cx="1031760" cy="1719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7"/>
          <p:cNvSpPr/>
          <p:nvPr/>
        </p:nvSpPr>
        <p:spPr>
          <a:xfrm>
            <a:off x="2577960" y="2989440"/>
            <a:ext cx="41896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战后的繁荣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危机和经济调整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新经济的出现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542880" y="828720"/>
            <a:ext cx="807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10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桂林中考）美国凭借强大的经济实力在国际舞台上扮演着重要的角色。“二战”以来，美国经济出现了几个不同的发展阶段。对图示中第二阶段美国经济发展的特点描述最准确的是 （    ）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发展速度放慢，出现严重经济危机       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开始复苏和繁荣       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经济实力膨胀，成为经济超级大国       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进入知识经济时代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56" name="Picture 5" descr=""/>
          <p:cNvPicPr/>
          <p:nvPr/>
        </p:nvPicPr>
        <p:blipFill>
          <a:blip r:embed="rId1"/>
          <a:stretch/>
        </p:blipFill>
        <p:spPr>
          <a:xfrm>
            <a:off x="895320" y="2990880"/>
            <a:ext cx="6114960" cy="72396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6"/>
          <p:cNvGrpSpPr/>
          <p:nvPr/>
        </p:nvGrpSpPr>
        <p:grpSpPr>
          <a:xfrm>
            <a:off x="6813720" y="4336920"/>
            <a:ext cx="1871640" cy="2102040"/>
            <a:chOff x="6813720" y="4336920"/>
            <a:chExt cx="1871640" cy="2102040"/>
          </a:xfrm>
        </p:grpSpPr>
        <p:pic>
          <p:nvPicPr>
            <p:cNvPr id="458" name="Picture 7" descr="bsj"/>
            <p:cNvPicPr/>
            <p:nvPr/>
          </p:nvPicPr>
          <p:blipFill>
            <a:blip r:embed="rId2"/>
            <a:stretch/>
          </p:blipFill>
          <p:spPr>
            <a:xfrm>
              <a:off x="6813720" y="4849200"/>
              <a:ext cx="1271160" cy="15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8" descr="bsj"/>
            <p:cNvPicPr/>
            <p:nvPr/>
          </p:nvPicPr>
          <p:blipFill>
            <a:blip r:embed="rId3"/>
            <a:stretch/>
          </p:blipFill>
          <p:spPr>
            <a:xfrm>
              <a:off x="7555320" y="4336920"/>
              <a:ext cx="1130040" cy="21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9" descr="bsj"/>
            <p:cNvPicPr/>
            <p:nvPr/>
          </p:nvPicPr>
          <p:blipFill>
            <a:blip r:embed="rId4"/>
            <a:stretch/>
          </p:blipFill>
          <p:spPr>
            <a:xfrm>
              <a:off x="7555320" y="5202360"/>
              <a:ext cx="569160" cy="123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Text Box 10"/>
          <p:cNvSpPr/>
          <p:nvPr/>
        </p:nvSpPr>
        <p:spPr>
          <a:xfrm>
            <a:off x="6622920" y="149400"/>
            <a:ext cx="536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3917880" y="228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63" name="文本框 8194"/>
          <p:cNvSpPr/>
          <p:nvPr/>
        </p:nvSpPr>
        <p:spPr>
          <a:xfrm>
            <a:off x="1295280" y="5794200"/>
            <a:ext cx="53276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4"/>
          <p:cNvSpPr/>
          <p:nvPr/>
        </p:nvSpPr>
        <p:spPr>
          <a:xfrm>
            <a:off x="674640" y="720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010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湛江中考）以下表格反映的是战后哪个国家经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济发展的基本情况？（    ）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879480" y="1940040"/>
          <a:ext cx="7542360" cy="3236760"/>
        </p:xfrm>
        <a:graphic>
          <a:graphicData uri="http://schemas.openxmlformats.org/drawingml/2006/table">
            <a:tbl>
              <a:tblPr/>
              <a:tblGrid>
                <a:gridCol w="2771640"/>
                <a:gridCol w="477072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历史时期</a:t>
                      </a:r>
                      <a:endParaRPr b="1" lang="en-US" sz="24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经济发展情况</a:t>
                      </a:r>
                      <a:endParaRPr b="1" lang="en-US" sz="24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世纪五六十年代</a:t>
                      </a:r>
                      <a:endParaRPr b="1" lang="en-US" sz="22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高速增长的“黄金时期”，西部和南部发展尤为迅速。</a:t>
                      </a:r>
                      <a:endParaRPr b="1" lang="en-US" sz="22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世纪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70</a:t>
                      </a: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年代</a:t>
                      </a:r>
                      <a:endParaRPr b="1" lang="en-US" sz="22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出现负增长和“滞涨”现象。</a:t>
                      </a:r>
                      <a:endParaRPr b="1" lang="en-US" sz="22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世纪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80</a:t>
                      </a: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年代</a:t>
                      </a:r>
                      <a:endParaRPr b="1" lang="en-US" sz="22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经济好转，但负担加重。</a:t>
                      </a:r>
                      <a:endParaRPr b="1" lang="en-US" sz="22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世纪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90</a:t>
                      </a: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年代</a:t>
                      </a:r>
                      <a:endParaRPr b="1" lang="en-US" sz="22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经济持续稳定发展，仍然是世界上经济最发达国家。</a:t>
                      </a:r>
                      <a:endParaRPr b="1" lang="en-US" sz="22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Rectangle 68"/>
          <p:cNvSpPr/>
          <p:nvPr/>
        </p:nvSpPr>
        <p:spPr>
          <a:xfrm>
            <a:off x="922320" y="51724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美国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中国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日本 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苏联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grpSp>
        <p:nvGrpSpPr>
          <p:cNvPr id="467" name="Group 78"/>
          <p:cNvGrpSpPr/>
          <p:nvPr/>
        </p:nvGrpSpPr>
        <p:grpSpPr>
          <a:xfrm>
            <a:off x="422280" y="5656320"/>
            <a:ext cx="8231040" cy="619200"/>
            <a:chOff x="422280" y="5656320"/>
            <a:chExt cx="8231040" cy="619200"/>
          </a:xfrm>
        </p:grpSpPr>
        <p:sp>
          <p:nvSpPr>
            <p:cNvPr id="468" name="AutoShape 79"/>
            <p:cNvSpPr/>
            <p:nvPr/>
          </p:nvSpPr>
          <p:spPr>
            <a:xfrm>
              <a:off x="422280" y="5656320"/>
              <a:ext cx="82310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pic>
          <p:nvPicPr>
            <p:cNvPr id="469" name="Picture 80" descr="u=173534794,3517629530&amp;fm=0&amp;gp=0"/>
            <p:cNvPicPr/>
            <p:nvPr/>
          </p:nvPicPr>
          <p:blipFill>
            <a:blip r:embed="rId1"/>
            <a:stretch/>
          </p:blipFill>
          <p:spPr>
            <a:xfrm>
              <a:off x="422280" y="5717880"/>
              <a:ext cx="15433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81" descr="u=173534794,3517629530&amp;fm=0&amp;gp=0"/>
            <p:cNvPicPr/>
            <p:nvPr/>
          </p:nvPicPr>
          <p:blipFill>
            <a:blip r:embed="rId2"/>
            <a:stretch/>
          </p:blipFill>
          <p:spPr>
            <a:xfrm>
              <a:off x="2205360" y="5713920"/>
              <a:ext cx="15433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82" descr="u=173534794,3517629530&amp;fm=0&amp;gp=0"/>
            <p:cNvPicPr/>
            <p:nvPr/>
          </p:nvPicPr>
          <p:blipFill>
            <a:blip r:embed="rId3"/>
            <a:stretch/>
          </p:blipFill>
          <p:spPr>
            <a:xfrm>
              <a:off x="3921120" y="5703480"/>
              <a:ext cx="154332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83" descr="u=173534794,3517629530&amp;fm=0&amp;gp=0"/>
            <p:cNvPicPr/>
            <p:nvPr/>
          </p:nvPicPr>
          <p:blipFill>
            <a:blip r:embed="rId4"/>
            <a:stretch/>
          </p:blipFill>
          <p:spPr>
            <a:xfrm>
              <a:off x="5516280" y="5675400"/>
              <a:ext cx="154332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84" descr="u=173534794,3517629530&amp;fm=0&amp;gp=0"/>
            <p:cNvPicPr/>
            <p:nvPr/>
          </p:nvPicPr>
          <p:blipFill>
            <a:blip r:embed="rId5"/>
            <a:stretch/>
          </p:blipFill>
          <p:spPr>
            <a:xfrm>
              <a:off x="7110360" y="5656320"/>
              <a:ext cx="1542600" cy="5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Text Box 85"/>
          <p:cNvSpPr/>
          <p:nvPr/>
        </p:nvSpPr>
        <p:spPr>
          <a:xfrm>
            <a:off x="3975120" y="143820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704880" y="1349280"/>
            <a:ext cx="78678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10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自贡学业考试）美国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年轻的国家，但其政治、经济和文化的发展都很充分。下列关于美国的叙述，不正确的是（    ）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解放黑人奴隶宣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使得所有奴隶都获得了自由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爱迪生发明的电灯改变了人类传统的照明方式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罗斯福新政提供了国家干预经济生活的范例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二战后初期美国经济出现了空前繁荣局面 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76" name="Picture 24" descr="20081117225726819"/>
          <p:cNvPicPr/>
          <p:nvPr/>
        </p:nvPicPr>
        <p:blipFill>
          <a:blip r:embed="rId1"/>
          <a:stretch/>
        </p:blipFill>
        <p:spPr>
          <a:xfrm>
            <a:off x="446040" y="666720"/>
            <a:ext cx="8229600" cy="35892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6"/>
          <p:cNvSpPr/>
          <p:nvPr/>
        </p:nvSpPr>
        <p:spPr>
          <a:xfrm>
            <a:off x="3338640" y="2787480"/>
            <a:ext cx="3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78" name="Picture 7" descr="image1330"/>
          <p:cNvPicPr/>
          <p:nvPr/>
        </p:nvPicPr>
        <p:blipFill>
          <a:blip r:embed="rId2"/>
          <a:stretch/>
        </p:blipFill>
        <p:spPr>
          <a:xfrm>
            <a:off x="7453440" y="5049720"/>
            <a:ext cx="121896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1B75-EE20-4CBC-B1F3-74EE19DD92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13"/>
          <p:cNvSpPr/>
          <p:nvPr/>
        </p:nvSpPr>
        <p:spPr>
          <a:xfrm>
            <a:off x="571680" y="2579760"/>
            <a:ext cx="7991280" cy="227952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00ffff"/>
            </a:solidFill>
            <a:round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841320" y="2647800"/>
            <a:ext cx="7453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获得成功有两个重要的前提：一是坚决，二是忍耐。              </a:t>
            </a:r>
            <a:endParaRPr b="1" lang="en-US" sz="30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黑体"/>
              </a:rPr>
              <a:t>——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比尔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  <a:ea typeface="黑体"/>
              </a:rPr>
              <a:t>·</a:t>
            </a: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盖茨</a:t>
            </a:r>
            <a:endParaRPr b="1" lang="en-US" sz="30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485" name="Picture 18" descr="图片9"/>
          <p:cNvPicPr/>
          <p:nvPr/>
        </p:nvPicPr>
        <p:blipFill>
          <a:blip r:embed="rId1"/>
          <a:stretch/>
        </p:blipFill>
        <p:spPr>
          <a:xfrm>
            <a:off x="2252520" y="1189080"/>
            <a:ext cx="4638960" cy="9874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0" descr="点此返回目录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49920" y="5138640"/>
            <a:ext cx="311148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2"/>
          <p:cNvSpPr/>
          <p:nvPr/>
        </p:nvSpPr>
        <p:spPr>
          <a:xfrm>
            <a:off x="3246480" y="1709640"/>
            <a:ext cx="5357880" cy="1762200"/>
          </a:xfrm>
          <a:prstGeom prst="cloudCallout">
            <a:avLst>
              <a:gd name="adj1" fmla="val -70120"/>
              <a:gd name="adj2" fmla="val 85046"/>
            </a:avLst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战后美国经济的发展</a:t>
            </a:r>
            <a:endParaRPr b="1" lang="en-US" sz="2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有何特点？</a:t>
            </a:r>
            <a:endParaRPr b="1" lang="en-US" sz="28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269" name="Picture 3" descr="200905222058534"/>
          <p:cNvPicPr/>
          <p:nvPr/>
        </p:nvPicPr>
        <p:blipFill>
          <a:blip r:embed="rId1"/>
          <a:stretch/>
        </p:blipFill>
        <p:spPr>
          <a:xfrm>
            <a:off x="642960" y="3292560"/>
            <a:ext cx="14572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55760" y="1309680"/>
          <a:ext cx="8315280" cy="4662360"/>
        </p:xfrm>
        <a:graphic>
          <a:graphicData uri="http://schemas.openxmlformats.org/drawingml/2006/table">
            <a:tbl>
              <a:tblPr/>
              <a:tblGrid>
                <a:gridCol w="2530440"/>
                <a:gridCol w="578484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      期</a:t>
                      </a:r>
                      <a:endParaRPr b="1" lang="en-US" sz="28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    现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      点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1" lang="en-US" sz="28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20</a:t>
                      </a:r>
                      <a:r>
                        <a:rPr b="1" lang="zh-CN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世纪五六十年代</a:t>
                      </a:r>
                      <a:endParaRPr b="1" lang="en-US" sz="28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20</a:t>
                      </a:r>
                      <a:r>
                        <a:rPr b="1" lang="zh-CN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世纪七八十年代</a:t>
                      </a:r>
                      <a:endParaRPr b="1" lang="en-US" sz="28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20</a:t>
                      </a:r>
                      <a:r>
                        <a:rPr b="1" lang="zh-CN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世纪</a:t>
                      </a:r>
                      <a:r>
                        <a:rPr b="1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90</a:t>
                      </a:r>
                      <a:r>
                        <a:rPr b="1" lang="zh-CN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年代</a:t>
                      </a:r>
                      <a:endParaRPr b="1" lang="en-US" sz="28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1" lang="en-US" sz="28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0" y="692280"/>
            <a:ext cx="9144000" cy="360"/>
            <a:chOff x="0" y="692280"/>
            <a:chExt cx="9144000" cy="360"/>
          </a:xfrm>
        </p:grpSpPr>
        <p:sp>
          <p:nvSpPr>
            <p:cNvPr id="272" name="Line 21"/>
            <p:cNvSpPr/>
            <p:nvPr/>
          </p:nvSpPr>
          <p:spPr>
            <a:xfrm>
              <a:off x="0" y="69228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0" y="692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sp>
        <p:nvSpPr>
          <p:cNvPr id="274" name="Rectangle 22"/>
          <p:cNvSpPr/>
          <p:nvPr/>
        </p:nvSpPr>
        <p:spPr>
          <a:xfrm>
            <a:off x="1700280" y="5904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二战后美国经济发展的特点</a:t>
            </a:r>
            <a:endParaRPr b="1" lang="en-US" sz="36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4565880" y="184464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持续发展，经济繁荣</a:t>
            </a:r>
            <a:endParaRPr b="1" lang="en-US" sz="28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3370320" y="2930400"/>
            <a:ext cx="48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代危机，经济地位下降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代调整，经济发展受限</a:t>
            </a:r>
            <a:endParaRPr b="1" lang="en-US" sz="2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3228840" y="4249800"/>
            <a:ext cx="53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持续稳定发展，进入新经济时代</a:t>
            </a:r>
            <a:endParaRPr b="1" lang="en-US" sz="2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712800" y="5087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的来看，战后美国国内生产总值年均增长率起伏变化大，经济发展呈现出周期性调整状态。</a:t>
            </a:r>
            <a:endParaRPr b="1" lang="en-US" sz="2800" spc="-1" strike="noStrike">
              <a:solidFill>
                <a:srgbClr val="0000ff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m"/>
          <p:cNvPicPr/>
          <p:nvPr/>
        </p:nvPicPr>
        <p:blipFill>
          <a:blip r:embed="rId1"/>
          <a:stretch/>
        </p:blipFill>
        <p:spPr>
          <a:xfrm>
            <a:off x="1281240" y="1736640"/>
            <a:ext cx="6661080" cy="42768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1"/>
          <p:cNvSpPr/>
          <p:nvPr/>
        </p:nvSpPr>
        <p:spPr>
          <a:xfrm>
            <a:off x="503280" y="733320"/>
            <a:ext cx="276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战后的繁荣</a:t>
            </a:r>
            <a:endParaRPr b="1" lang="en-US" sz="26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281" name="Picture 12" descr="taoshu"/>
          <p:cNvPicPr/>
          <p:nvPr/>
        </p:nvPicPr>
        <p:blipFill>
          <a:blip r:embed="rId2"/>
          <a:stretch/>
        </p:blipFill>
        <p:spPr>
          <a:xfrm>
            <a:off x="5234040" y="738360"/>
            <a:ext cx="3365280" cy="8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3198960" y="1709640"/>
            <a:ext cx="5405400" cy="2600280"/>
          </a:xfrm>
          <a:prstGeom prst="cloudCallout">
            <a:avLst>
              <a:gd name="adj1" fmla="val -69060"/>
              <a:gd name="adj2" fmla="val 41513"/>
            </a:avLst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战后美国经济迅速发展的原因有哪些？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最主要的原因是什么？</a:t>
            </a:r>
            <a:endParaRPr b="1" lang="en-US" sz="24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283" name="Picture 3" descr="200905222058534"/>
          <p:cNvPicPr/>
          <p:nvPr/>
        </p:nvPicPr>
        <p:blipFill>
          <a:blip r:embed="rId1"/>
          <a:stretch/>
        </p:blipFill>
        <p:spPr>
          <a:xfrm>
            <a:off x="642960" y="3292560"/>
            <a:ext cx="14572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131840" y="4281120"/>
            <a:ext cx="7461360" cy="4680"/>
            <a:chOff x="1131840" y="4281120"/>
            <a:chExt cx="7461360" cy="4680"/>
          </a:xfrm>
        </p:grpSpPr>
        <p:sp>
          <p:nvSpPr>
            <p:cNvPr id="285" name="Line 6"/>
            <p:cNvSpPr/>
            <p:nvPr/>
          </p:nvSpPr>
          <p:spPr>
            <a:xfrm flipV="1">
              <a:off x="1131840" y="4281120"/>
              <a:ext cx="7461360" cy="46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 rot="10800000">
              <a:off x="1131840" y="4280760"/>
              <a:ext cx="746136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sp>
        <p:nvSpPr>
          <p:cNvPr id="287" name="Rectangle 3"/>
          <p:cNvSpPr/>
          <p:nvPr/>
        </p:nvSpPr>
        <p:spPr>
          <a:xfrm>
            <a:off x="520560" y="4794120"/>
            <a:ext cx="80344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950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年美国与其他发达国家经济实力对比</a:t>
            </a:r>
            <a:endParaRPr b="1" lang="en-US" sz="2000" spc="-1" strike="noStrike">
              <a:solidFill>
                <a:srgbClr val="0000ff"/>
              </a:solidFill>
              <a:latin typeface="宋体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二战加速了资本主义各国经济发展的不平衡。在二战中，美国是参战国家中唯一的本土未遭受战火洗劫的资本主义大国，损失较小，而巨大的军火需求又大大刺激了美国经济的发展，从而使它大发战争横财。美国工业生产年平均增长率达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15%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以上，经济实力大增，而且政局一直保持相对稳定。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004760" y="4122720"/>
            <a:ext cx="101880" cy="360"/>
            <a:chOff x="1004760" y="4122720"/>
            <a:chExt cx="101880" cy="360"/>
          </a:xfrm>
        </p:grpSpPr>
        <p:sp>
          <p:nvSpPr>
            <p:cNvPr id="289" name="Line 16"/>
            <p:cNvSpPr/>
            <p:nvPr/>
          </p:nvSpPr>
          <p:spPr>
            <a:xfrm>
              <a:off x="1004760" y="412272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1004760" y="4122720"/>
              <a:ext cx="10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004760" y="3843360"/>
            <a:ext cx="101880" cy="360"/>
            <a:chOff x="1004760" y="3843360"/>
            <a:chExt cx="101880" cy="360"/>
          </a:xfrm>
        </p:grpSpPr>
        <p:sp>
          <p:nvSpPr>
            <p:cNvPr id="292" name="Line 17"/>
            <p:cNvSpPr/>
            <p:nvPr/>
          </p:nvSpPr>
          <p:spPr>
            <a:xfrm>
              <a:off x="1004760" y="384336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1004760" y="3843360"/>
              <a:ext cx="10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004760" y="3562200"/>
            <a:ext cx="101880" cy="360"/>
            <a:chOff x="1004760" y="3562200"/>
            <a:chExt cx="101880" cy="360"/>
          </a:xfrm>
        </p:grpSpPr>
        <p:sp>
          <p:nvSpPr>
            <p:cNvPr id="295" name="Line 18"/>
            <p:cNvSpPr/>
            <p:nvPr/>
          </p:nvSpPr>
          <p:spPr>
            <a:xfrm>
              <a:off x="1004760" y="356220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1004760" y="3562200"/>
              <a:ext cx="10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004760" y="3281400"/>
            <a:ext cx="101880" cy="360"/>
            <a:chOff x="1004760" y="3281400"/>
            <a:chExt cx="101880" cy="360"/>
          </a:xfrm>
        </p:grpSpPr>
        <p:sp>
          <p:nvSpPr>
            <p:cNvPr id="298" name="Line 19"/>
            <p:cNvSpPr/>
            <p:nvPr/>
          </p:nvSpPr>
          <p:spPr>
            <a:xfrm>
              <a:off x="1004760" y="328140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1004760" y="3281400"/>
              <a:ext cx="10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004760" y="3002040"/>
            <a:ext cx="101880" cy="360"/>
            <a:chOff x="1004760" y="3002040"/>
            <a:chExt cx="101880" cy="360"/>
          </a:xfrm>
        </p:grpSpPr>
        <p:sp>
          <p:nvSpPr>
            <p:cNvPr id="301" name="Line 20"/>
            <p:cNvSpPr/>
            <p:nvPr/>
          </p:nvSpPr>
          <p:spPr>
            <a:xfrm>
              <a:off x="1004760" y="300204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1004760" y="3002040"/>
              <a:ext cx="10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004760" y="2720880"/>
            <a:ext cx="101880" cy="360"/>
            <a:chOff x="1004760" y="2720880"/>
            <a:chExt cx="101880" cy="360"/>
          </a:xfrm>
        </p:grpSpPr>
        <p:sp>
          <p:nvSpPr>
            <p:cNvPr id="304" name="Line 21"/>
            <p:cNvSpPr/>
            <p:nvPr/>
          </p:nvSpPr>
          <p:spPr>
            <a:xfrm>
              <a:off x="1004760" y="272088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1004760" y="2720880"/>
              <a:ext cx="10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04760" y="2440080"/>
            <a:ext cx="101880" cy="360"/>
            <a:chOff x="1004760" y="2440080"/>
            <a:chExt cx="101880" cy="360"/>
          </a:xfrm>
        </p:grpSpPr>
        <p:sp>
          <p:nvSpPr>
            <p:cNvPr id="307" name="Line 22"/>
            <p:cNvSpPr/>
            <p:nvPr/>
          </p:nvSpPr>
          <p:spPr>
            <a:xfrm>
              <a:off x="1004760" y="244008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004760" y="2440080"/>
              <a:ext cx="10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004760" y="2160720"/>
            <a:ext cx="101880" cy="360"/>
            <a:chOff x="1004760" y="2160720"/>
            <a:chExt cx="101880" cy="360"/>
          </a:xfrm>
        </p:grpSpPr>
        <p:sp>
          <p:nvSpPr>
            <p:cNvPr id="310" name="Line 23"/>
            <p:cNvSpPr/>
            <p:nvPr/>
          </p:nvSpPr>
          <p:spPr>
            <a:xfrm>
              <a:off x="1004760" y="216072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1004760" y="2160720"/>
              <a:ext cx="10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004760" y="4403880"/>
            <a:ext cx="7529760" cy="9360"/>
            <a:chOff x="1004760" y="4403880"/>
            <a:chExt cx="7529760" cy="9360"/>
          </a:xfrm>
        </p:grpSpPr>
        <p:sp>
          <p:nvSpPr>
            <p:cNvPr id="313" name="Line 25"/>
            <p:cNvSpPr/>
            <p:nvPr/>
          </p:nvSpPr>
          <p:spPr>
            <a:xfrm>
              <a:off x="1004760" y="4403880"/>
              <a:ext cx="7529760" cy="9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1004760" y="4403880"/>
              <a:ext cx="752976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004760" y="1878120"/>
            <a:ext cx="101880" cy="360"/>
            <a:chOff x="1004760" y="1878120"/>
            <a:chExt cx="101880" cy="360"/>
          </a:xfrm>
        </p:grpSpPr>
        <p:sp>
          <p:nvSpPr>
            <p:cNvPr id="316" name="Line 26"/>
            <p:cNvSpPr/>
            <p:nvPr/>
          </p:nvSpPr>
          <p:spPr>
            <a:xfrm>
              <a:off x="1004760" y="187812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1004760" y="1878120"/>
              <a:ext cx="10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004760" y="1598760"/>
            <a:ext cx="101880" cy="360"/>
            <a:chOff x="1004760" y="1598760"/>
            <a:chExt cx="101880" cy="360"/>
          </a:xfrm>
        </p:grpSpPr>
        <p:sp>
          <p:nvSpPr>
            <p:cNvPr id="319" name="Line 27"/>
            <p:cNvSpPr/>
            <p:nvPr/>
          </p:nvSpPr>
          <p:spPr>
            <a:xfrm>
              <a:off x="1004760" y="1598760"/>
              <a:ext cx="101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004760" y="1598760"/>
              <a:ext cx="10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8505360" y="4277880"/>
            <a:ext cx="72000" cy="127080"/>
            <a:chOff x="8505360" y="4277880"/>
            <a:chExt cx="72000" cy="127080"/>
          </a:xfrm>
        </p:grpSpPr>
        <p:sp>
          <p:nvSpPr>
            <p:cNvPr id="322" name="Line 35"/>
            <p:cNvSpPr/>
            <p:nvPr/>
          </p:nvSpPr>
          <p:spPr>
            <a:xfrm flipV="1">
              <a:off x="8505720" y="4277880"/>
              <a:ext cx="71640" cy="127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 rot="10800000">
              <a:off x="8505360" y="4277880"/>
              <a:ext cx="71640" cy="12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99720" y="4280040"/>
            <a:ext cx="135360" cy="118800"/>
            <a:chOff x="999720" y="4280040"/>
            <a:chExt cx="135360" cy="118800"/>
          </a:xfrm>
        </p:grpSpPr>
        <p:sp>
          <p:nvSpPr>
            <p:cNvPr id="325" name="Line 36"/>
            <p:cNvSpPr/>
            <p:nvPr/>
          </p:nvSpPr>
          <p:spPr>
            <a:xfrm flipV="1">
              <a:off x="1000080" y="4280040"/>
              <a:ext cx="135000" cy="118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 rot="10800000">
              <a:off x="999720" y="4280040"/>
              <a:ext cx="135000" cy="11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sp>
        <p:nvSpPr>
          <p:cNvPr id="327" name="AutoShape 37"/>
          <p:cNvSpPr/>
          <p:nvPr/>
        </p:nvSpPr>
        <p:spPr>
          <a:xfrm>
            <a:off x="1538280" y="2365200"/>
            <a:ext cx="531720" cy="2079720"/>
          </a:xfrm>
          <a:prstGeom prst="cube">
            <a:avLst>
              <a:gd name="adj" fmla="val 25000"/>
            </a:avLst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美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国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51320" y="205884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36.3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488040" y="134136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48.7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5406840" y="28796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22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7183080" y="129384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49.6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2089440" y="323856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15.5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951720" y="272556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24.7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5791680" y="30574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18.6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7641720" y="34480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11.5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012320" y="1380600"/>
            <a:ext cx="360" cy="3076920"/>
            <a:chOff x="1012320" y="1380600"/>
            <a:chExt cx="360" cy="3076920"/>
          </a:xfrm>
        </p:grpSpPr>
        <p:sp>
          <p:nvSpPr>
            <p:cNvPr id="337" name="Line 15"/>
            <p:cNvSpPr/>
            <p:nvPr/>
          </p:nvSpPr>
          <p:spPr>
            <a:xfrm flipV="1">
              <a:off x="1012680" y="1380600"/>
              <a:ext cx="0" cy="3076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10800000">
              <a:off x="1012320" y="1380600"/>
              <a:ext cx="360" cy="30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  <p:sp>
        <p:nvSpPr>
          <p:cNvPr id="339" name="Rectangle 24"/>
          <p:cNvSpPr/>
          <p:nvPr/>
        </p:nvSpPr>
        <p:spPr>
          <a:xfrm>
            <a:off x="575280" y="1436760"/>
            <a:ext cx="262800" cy="32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0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5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5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0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5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0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5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40" name="AutoShape 29"/>
          <p:cNvSpPr/>
          <p:nvPr/>
        </p:nvSpPr>
        <p:spPr>
          <a:xfrm>
            <a:off x="3382920" y="1652760"/>
            <a:ext cx="533520" cy="2792160"/>
          </a:xfrm>
          <a:prstGeom prst="cube">
            <a:avLst>
              <a:gd name="adj" fmla="val 25000"/>
            </a:avLst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美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国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780000" y="3029040"/>
            <a:ext cx="533160" cy="1415880"/>
          </a:xfrm>
          <a:prstGeom prst="cube">
            <a:avLst>
              <a:gd name="adj" fmla="val 25000"/>
            </a:avLst>
          </a:prstGeom>
          <a:solidFill>
            <a:srgbClr val="99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其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他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发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达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国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家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5227560" y="3182760"/>
            <a:ext cx="534960" cy="1262160"/>
          </a:xfrm>
          <a:prstGeom prst="cube">
            <a:avLst>
              <a:gd name="adj" fmla="val 25000"/>
            </a:avLst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美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国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5629320" y="3378240"/>
            <a:ext cx="533520" cy="1066680"/>
          </a:xfrm>
          <a:prstGeom prst="cube">
            <a:avLst>
              <a:gd name="adj" fmla="val 25000"/>
            </a:avLst>
          </a:prstGeom>
          <a:solidFill>
            <a:srgbClr val="99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其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他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发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达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国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</a:rPr>
              <a:t>家</a:t>
            </a:r>
            <a:endParaRPr b="1" lang="en-US" sz="16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44" name="AutoShape 33"/>
          <p:cNvSpPr/>
          <p:nvPr/>
        </p:nvSpPr>
        <p:spPr>
          <a:xfrm>
            <a:off x="7074000" y="1608120"/>
            <a:ext cx="533160" cy="2844720"/>
          </a:xfrm>
          <a:prstGeom prst="cube">
            <a:avLst>
              <a:gd name="adj" fmla="val 25000"/>
            </a:avLst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美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国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45" name="AutoShape 34"/>
          <p:cNvSpPr/>
          <p:nvPr/>
        </p:nvSpPr>
        <p:spPr>
          <a:xfrm>
            <a:off x="7472520" y="3790800"/>
            <a:ext cx="533160" cy="658800"/>
          </a:xfrm>
          <a:prstGeom prst="cube">
            <a:avLst>
              <a:gd name="adj" fmla="val 25000"/>
            </a:avLst>
          </a:prstGeom>
          <a:solidFill>
            <a:srgbClr val="99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其</a:t>
            </a:r>
            <a:endParaRPr b="1" lang="en-US" sz="11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他</a:t>
            </a:r>
            <a:endParaRPr b="1" lang="en-US" sz="11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发</a:t>
            </a:r>
            <a:endParaRPr b="1" lang="en-US" sz="11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达</a:t>
            </a:r>
            <a:endParaRPr b="1" lang="en-US" sz="11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国</a:t>
            </a:r>
            <a:endParaRPr b="1" lang="en-US" sz="11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家</a:t>
            </a:r>
            <a:endParaRPr b="1" lang="en-US" sz="11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46" name="Rectangle 38"/>
          <p:cNvSpPr/>
          <p:nvPr/>
        </p:nvSpPr>
        <p:spPr>
          <a:xfrm>
            <a:off x="1696680" y="457668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GNP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3585960" y="45147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工业生产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48" name="Rectangle 40"/>
          <p:cNvSpPr/>
          <p:nvPr/>
        </p:nvSpPr>
        <p:spPr>
          <a:xfrm>
            <a:off x="5564520" y="451476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出口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7284240" y="45482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黄金储备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50" name="AutoShape 28"/>
          <p:cNvSpPr/>
          <p:nvPr/>
        </p:nvSpPr>
        <p:spPr>
          <a:xfrm>
            <a:off x="1944720" y="3564000"/>
            <a:ext cx="531720" cy="887400"/>
          </a:xfrm>
          <a:prstGeom prst="cube">
            <a:avLst>
              <a:gd name="adj" fmla="val 25000"/>
            </a:avLst>
          </a:prstGeom>
          <a:solidFill>
            <a:srgbClr val="99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宋体"/>
              </a:rPr>
              <a:t>其</a:t>
            </a:r>
            <a:endParaRPr b="1" lang="en-US" sz="12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宋体"/>
              </a:rPr>
              <a:t>他</a:t>
            </a:r>
            <a:endParaRPr b="1" lang="en-US" sz="12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宋体"/>
              </a:rPr>
              <a:t>发</a:t>
            </a:r>
            <a:endParaRPr b="1" lang="en-US" sz="12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宋体"/>
              </a:rPr>
              <a:t>达</a:t>
            </a:r>
            <a:endParaRPr b="1" lang="en-US" sz="12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宋体"/>
              </a:rPr>
              <a:t>国</a:t>
            </a:r>
            <a:endParaRPr b="1" lang="en-US" sz="1200" spc="-1" strike="noStrike">
              <a:solidFill>
                <a:srgbClr val="0000ff"/>
              </a:solidFill>
              <a:latin typeface="宋体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宋体"/>
              </a:rPr>
              <a:t>家</a:t>
            </a:r>
            <a:endParaRPr b="1" lang="en-US" sz="1200" spc="-1" strike="noStrike">
              <a:solidFill>
                <a:srgbClr val="0000ff"/>
              </a:solidFill>
              <a:latin typeface="宋体"/>
            </a:endParaRPr>
          </a:p>
        </p:txBody>
      </p:sp>
      <p:grpSp>
        <p:nvGrpSpPr>
          <p:cNvPr id="351" name="Group 52"/>
          <p:cNvGrpSpPr/>
          <p:nvPr/>
        </p:nvGrpSpPr>
        <p:grpSpPr>
          <a:xfrm>
            <a:off x="419040" y="692280"/>
            <a:ext cx="7029360" cy="514080"/>
            <a:chOff x="419040" y="692280"/>
            <a:chExt cx="7029360" cy="514080"/>
          </a:xfrm>
        </p:grpSpPr>
        <p:sp>
          <p:nvSpPr>
            <p:cNvPr id="352" name="AutoShape 49"/>
            <p:cNvSpPr/>
            <p:nvPr/>
          </p:nvSpPr>
          <p:spPr>
            <a:xfrm>
              <a:off x="419040" y="692280"/>
              <a:ext cx="7029360" cy="5140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53" name="Text Box 51"/>
            <p:cNvSpPr/>
            <p:nvPr/>
          </p:nvSpPr>
          <p:spPr>
            <a:xfrm>
              <a:off x="447480" y="7207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原因：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）二战中美国本土远离战火并大发横财</a:t>
              </a: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647640" y="4878360"/>
            <a:ext cx="7893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　　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48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至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949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年间，美国工业总产量占资本主义世界的一半以上，而黄金储备则占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3/4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左右（战后美国经济实力强大表现）。战争结束后，美国在经济和军事实力膨胀的刺激下，向世界各地输出资本，大力拓展海外市场，以此赚取高额利润。</a:t>
            </a:r>
            <a:endParaRPr b="1" lang="en-US" sz="1800" spc="-1" strike="noStrike">
              <a:solidFill>
                <a:srgbClr val="0000ff"/>
              </a:solidFill>
              <a:latin typeface="宋体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262320" y="4378320"/>
            <a:ext cx="2600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福特汽车生产线示意图</a:t>
            </a:r>
            <a:endParaRPr b="1" lang="en-US" sz="2000" spc="-1" strike="noStrike">
              <a:solidFill>
                <a:srgbClr val="0000ff"/>
              </a:solidFill>
              <a:latin typeface="宋体"/>
            </a:endParaRPr>
          </a:p>
        </p:txBody>
      </p:sp>
      <p:pic>
        <p:nvPicPr>
          <p:cNvPr id="356" name="Picture 5" descr="f"/>
          <p:cNvPicPr/>
          <p:nvPr/>
        </p:nvPicPr>
        <p:blipFill>
          <a:blip r:embed="rId1"/>
          <a:srcRect l="0" t="0" r="0" b="6517"/>
          <a:stretch/>
        </p:blipFill>
        <p:spPr>
          <a:xfrm>
            <a:off x="404640" y="1284120"/>
            <a:ext cx="8269560" cy="3117960"/>
          </a:xfrm>
          <a:prstGeom prst="rect">
            <a:avLst/>
          </a:prstGeom>
          <a:ln w="0">
            <a:noFill/>
          </a:ln>
        </p:spPr>
      </p:pic>
      <p:grpSp>
        <p:nvGrpSpPr>
          <p:cNvPr id="357" name="Group 15"/>
          <p:cNvGrpSpPr/>
          <p:nvPr/>
        </p:nvGrpSpPr>
        <p:grpSpPr>
          <a:xfrm>
            <a:off x="453960" y="731880"/>
            <a:ext cx="6819840" cy="476280"/>
            <a:chOff x="453960" y="731880"/>
            <a:chExt cx="6819840" cy="476280"/>
          </a:xfrm>
        </p:grpSpPr>
        <p:sp>
          <p:nvSpPr>
            <p:cNvPr id="358" name="AutoShape 12"/>
            <p:cNvSpPr/>
            <p:nvPr/>
          </p:nvSpPr>
          <p:spPr>
            <a:xfrm>
              <a:off x="453960" y="741240"/>
              <a:ext cx="6819840" cy="4669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  <p:sp>
          <p:nvSpPr>
            <p:cNvPr id="359" name="Text Box 14"/>
            <p:cNvSpPr/>
            <p:nvPr/>
          </p:nvSpPr>
          <p:spPr>
            <a:xfrm>
              <a:off x="453960" y="731880"/>
              <a:ext cx="68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）向世界各地输出资本，大力拓展海外市场</a:t>
              </a:r>
              <a:endParaRPr b="1" lang="en-US" sz="2400" spc="-1" strike="noStrike">
                <a:solidFill>
                  <a:srgbClr val="0000ff"/>
                </a:solidFill>
                <a:latin typeface="宋体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3T05:21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01Z</dcterms:modified>
  <cp:revision>60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