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18.png" ContentType="image/png"/>
  <Override PartName="/ppt/media/image6.jpeg" ContentType="image/jpeg"/>
  <Override PartName="/ppt/media/image25.png" ContentType="image/png"/>
  <Override PartName="/ppt/media/image42.jpeg" ContentType="image/jpeg"/>
  <Override PartName="/ppt/media/image32.gif" ContentType="image/gi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665-1D36-4EDE-8C8B-A5C48D77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970-A27D-46F2-9C9B-35AA5458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73C-E040-4B75-9B13-ADEE345E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4FB-8862-48B6-964A-6BBBFE87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838-0D34-4813-AD49-3E862AEE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478-1B69-40EE-8098-ABD5B825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D6E3-F6FF-4299-BFD9-0A0BE527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E452-CD99-42AC-8586-5BE9FADE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3DBB-281E-448B-BADA-E213EFF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5FBC-FBA2-40CE-AE7B-D0319C5B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40EF-C5F9-4F68-835F-358023F7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872-C31B-45CB-93FF-31AD9B3E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E9E-5E7F-4224-8B2B-B43C431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A6F-58B8-4BA5-A88F-0C24B19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E6A9-459D-4CC1-A266-A0B1615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35B5-5EEF-456F-95C8-F7EC21BA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4A7B-DC3C-4893-A3EF-BEB15AA0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7F3-4302-4A8D-AFBF-E7A5AE5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C05-5CFE-46C3-873B-2EA8836D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3AB-DFB9-4390-81F3-EB865F7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F0E-560C-410E-8B3D-4CB69367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A9A-AFD7-471C-B176-3A75454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863-5015-4CD1-A088-271B731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8C8-CB3C-4A81-B8B8-93649C6B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3C7-14E2-49C2-9D29-AE891753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B0F-3486-488A-A14E-E22D4DAB67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88322.htm" TargetMode="External"/><Relationship Id="rId2" Type="http://schemas.openxmlformats.org/officeDocument/2006/relationships/hyperlink" Target="http://baike.baidu.com/view/8672.htm" TargetMode="External"/><Relationship Id="rId3" Type="http://schemas.openxmlformats.org/officeDocument/2006/relationships/hyperlink" Target="http://baike.baidu.com/view/335434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7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7" descr=""/>
          <p:cNvPicPr/>
          <p:nvPr/>
        </p:nvPicPr>
        <p:blipFill>
          <a:blip r:embed="rId2"/>
          <a:stretch/>
        </p:blipFill>
        <p:spPr>
          <a:xfrm>
            <a:off x="835200" y="3156120"/>
            <a:ext cx="7488000" cy="12920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冷极了，下着雪，又快黑了。这是一年的最后一天──大年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1300000053621120011042167418"/>
          <p:cNvPicPr/>
          <p:nvPr/>
        </p:nvPicPr>
        <p:blipFill>
          <a:blip r:embed="rId1"/>
          <a:stretch/>
        </p:blipFill>
        <p:spPr>
          <a:xfrm>
            <a:off x="2819520" y="1600200"/>
            <a:ext cx="367668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6516720" y="4941720"/>
            <a:ext cx="28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什么写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虚实对比的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幻象和现实强烈对比，小女孩内心渴望的美好和现实的严酷，字里行间流露出来的作者深深的同情以及对社会现实的强烈不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她敢从成把的火柴里抽出一根，在墙上擦燃了，来暖和暖和自己的小手吗？她终于抽出了一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5426274601028657854"/>
          <p:cNvPicPr/>
          <p:nvPr/>
        </p:nvPicPr>
        <p:blipFill>
          <a:blip r:embed="rId1"/>
          <a:stretch/>
        </p:blipFill>
        <p:spPr>
          <a:xfrm>
            <a:off x="2438280" y="2286000"/>
            <a:ext cx="455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③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一个什么人快要死了。”小女孩说。唯一疼她的奶奶活着的时候告诉过她：一颗星星落下来，就有一个灵魂要到上帝那儿去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260531177839042771_l"/>
          <p:cNvPicPr/>
          <p:nvPr/>
        </p:nvPicPr>
        <p:blipFill>
          <a:blip r:embed="rId1"/>
          <a:stretch/>
        </p:blipFill>
        <p:spPr>
          <a:xfrm>
            <a:off x="1600200" y="2743200"/>
            <a:ext cx="5715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④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奶奶！”小女孩叫起来，“啊！请把我带走吧！我知道，火柴一灭，您就会不见的，像那暖和的火炉，喷香的烤鹅，美丽的圣诞树一个样，就会不见的！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63003_vw"/>
          <p:cNvPicPr/>
          <p:nvPr/>
        </p:nvPicPr>
        <p:blipFill>
          <a:blip r:embed="rId1"/>
          <a:stretch/>
        </p:blipFill>
        <p:spPr>
          <a:xfrm>
            <a:off x="197964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8197"/>
          <p:cNvSpPr/>
          <p:nvPr/>
        </p:nvSpPr>
        <p:spPr>
          <a:xfrm>
            <a:off x="126036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她俩在光明和快乐中飞走了，越飞越高，飞到那没有寒冷，没有饥饿，也没有痛苦的地方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12231971611213584543_26192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谁也不知道她曾经看到过多么美丽的东西，她曾经多么幸福，跟着她奶奶一起走向新年的幸福中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1ff4d509f56a5b78c5430a3"/>
          <p:cNvPicPr/>
          <p:nvPr/>
        </p:nvPicPr>
        <p:blipFill>
          <a:blip r:embed="rId1"/>
          <a:stretch/>
        </p:blipFill>
        <p:spPr>
          <a:xfrm>
            <a:off x="2195640" y="23623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79280" y="4756320"/>
            <a:ext cx="9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天冷极了，下着雪，又快黑了，在大年夜的晚上，一个卖火柴的小女孩在大街上走着，走着</a:t>
            </a: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1042920" y="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9640" y="5445000"/>
            <a:ext cx="9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突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两辆马车从街道上飞奔而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761080" cy="379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39640" y="4937040"/>
            <a:ext cx="92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小女孩只好光着脚走在冰冷的、满是积雪的大街上。她的小脚被冻得红一块，青一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143000" y="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1828800" y="27925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徒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805-187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丹麦作家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安徒生诞生在丹麦奥登塞镇的一座破旧阁楼上。他的父亲用棺材为他做了一个摇篮，他的父亲是个鞋匠，很早就去世了，全家靠母亲给人洗衣服维持生活。安徒生虽然过着十分贫穷的生活，但他却有自己远大的理想。从三十岁开始，专心从事儿童文学创作，一生中共写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童话故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皇帝的新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夜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拇子姑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1236304997132"/>
          <p:cNvPicPr/>
          <p:nvPr/>
        </p:nvPicPr>
        <p:blipFill>
          <a:blip r:embed="rId4"/>
          <a:stretch/>
        </p:blipFill>
        <p:spPr>
          <a:xfrm>
            <a:off x="0" y="457200"/>
            <a:ext cx="43178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95280" y="4756320"/>
            <a:ext cx="90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因为她没有卖掉一根火柴，所以她不敢回家。只好在一座房子的墙角里坐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990720" y="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9280" y="126828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默读课文第二部分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—1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自然段），边读边画小女孩一共擦了几次火柴？每次分别都看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0" y="0"/>
            <a:ext cx="3492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4005360"/>
            <a:ext cx="896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火炉 、烤鹅 、圣诞树 、奶奶 、奶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整体感悟第二部分的梗概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333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评读，从而发现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讨论“终于”“好像”两个词需不需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教师指导朗读：“她的一双小手几乎冻僵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暖和暖和自己的小手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指导朗读描写幻想和现实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幻想：惊奇、兴奋的语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实：失望的语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指名读第一次擦火柴部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0" y="1052640"/>
            <a:ext cx="89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先读读，找出幻想的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再想想，出现了怎样的幻象？说明小女孩渴望的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体会小女孩的情感，有感情的朗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0" y="0"/>
            <a:ext cx="3492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5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5"/>
          <a:stretch/>
        </p:blipFill>
        <p:spPr>
          <a:xfrm>
            <a:off x="106668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990720" y="0"/>
            <a:ext cx="7391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5"/>
          <a:stretch/>
        </p:blipFill>
        <p:spPr>
          <a:xfrm>
            <a:off x="2590920" y="0"/>
            <a:ext cx="556236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6"/>
          <a:stretch/>
        </p:blipFill>
        <p:spPr>
          <a:xfrm>
            <a:off x="1066680" y="2286000"/>
            <a:ext cx="2133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114300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ntus[1]"/>
          <p:cNvPicPr/>
          <p:nvPr/>
        </p:nvPicPr>
        <p:blipFill>
          <a:blip r:embed="rId1"/>
          <a:stretch/>
        </p:blipFill>
        <p:spPr>
          <a:xfrm>
            <a:off x="304920" y="1197000"/>
            <a:ext cx="4109760" cy="4746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648320" y="66528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安徒生：是世界著名童话作家。他的童话和过去的一般童话不同，并不是民间传说的重述。他立足于现实生活，运用浪漫主义的手法，创作了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168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篇童话故事。在英国，他的作品是青少年教育的范本，同时，他也是属于全世界的。他的作品被译成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多种文字，是丹麦对世界文学最伟大的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5"/>
          <a:stretch/>
        </p:blipFill>
        <p:spPr>
          <a:xfrm>
            <a:off x="106668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/>
          <p:cNvSpPr/>
          <p:nvPr/>
        </p:nvSpPr>
        <p:spPr>
          <a:xfrm>
            <a:off x="7467480" y="6172200"/>
            <a:ext cx="457200" cy="3808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5"/>
          <a:stretch/>
        </p:blipFill>
        <p:spPr>
          <a:xfrm>
            <a:off x="106668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8197"/>
          <p:cNvSpPr/>
          <p:nvPr/>
        </p:nvSpPr>
        <p:spPr>
          <a:xfrm>
            <a:off x="1547640" y="630864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ts0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042920" y="-1684440"/>
            <a:ext cx="647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0" lang="zh-CN" sz="6600" spc="-1" strike="noStrike">
                <a:solidFill>
                  <a:srgbClr val="000099"/>
                </a:solidFill>
                <a:latin typeface="Times New Roman"/>
                <a:ea typeface="隶书"/>
              </a:rPr>
              <a:t>卖火柴的小女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258920" y="2708280"/>
            <a:ext cx="6985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看了图片有什么感想？</a:t>
            </a:r>
            <a:endParaRPr b="1" i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836640"/>
            <a:ext cx="922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）为什么死了还能“两腮通红，嘴角带着微笑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怎样理解“谁也不知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曾经看到过多么美丽的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，她曾经、多么幸福地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她的奶奶一起走向新年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幸福中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ts001[1]"/>
          <p:cNvPicPr/>
          <p:nvPr/>
        </p:nvPicPr>
        <p:blipFill>
          <a:blip r:embed="rId1"/>
          <a:stretch/>
        </p:blipFill>
        <p:spPr>
          <a:xfrm>
            <a:off x="-914400" y="-380880"/>
            <a:ext cx="11353680" cy="9137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3505320" y="30492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在这又冷又黑的大年夜里，一个光着头赤着脚的小女孩在大街上卖火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ats002[1]"/>
          <p:cNvPicPr/>
          <p:nvPr/>
        </p:nvPicPr>
        <p:blipFill>
          <a:blip r:embed="rId1"/>
          <a:stretch/>
        </p:blipFill>
        <p:spPr>
          <a:xfrm>
            <a:off x="0" y="0"/>
            <a:ext cx="9372600" cy="7292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3886200" y="58672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小男孩捡起她的鞋跑了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ats003[1]"/>
          <p:cNvPicPr/>
          <p:nvPr/>
        </p:nvPicPr>
        <p:blipFill>
          <a:blip r:embed="rId1"/>
          <a:stretch/>
        </p:blipFill>
        <p:spPr>
          <a:xfrm>
            <a:off x="-1523880" y="-1676520"/>
            <a:ext cx="10896480" cy="927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74320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小女孩一根火柴也没卖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ats005[1]"/>
          <p:cNvPicPr/>
          <p:nvPr/>
        </p:nvPicPr>
        <p:blipFill>
          <a:blip r:embed="rId1"/>
          <a:stretch/>
        </p:blipFill>
        <p:spPr>
          <a:xfrm>
            <a:off x="-1371600" y="-457200"/>
            <a:ext cx="12115800" cy="78375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3429000" y="45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她又冷又饿，蜷着腿缩在墙角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80880" y="990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762120" y="685800"/>
            <a:ext cx="274320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想一想</a:t>
            </a:r>
            <a:endParaRPr b="0" lang="en-US" sz="72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205" name="Picture 4" descr="EYE"/>
          <p:cNvPicPr/>
          <p:nvPr/>
        </p:nvPicPr>
        <p:blipFill>
          <a:blip r:embed="rId1"/>
          <a:stretch/>
        </p:blipFill>
        <p:spPr>
          <a:xfrm>
            <a:off x="6172200" y="533520"/>
            <a:ext cx="1905120" cy="1803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990720" y="2438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、小女孩共擦燃了几次火柴，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次都看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90720" y="3581280"/>
            <a:ext cx="710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、你从中体会到了什么？是从哪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些语句体会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990720" y="4724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、小女孩为什么接连不断地擦燃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火柴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EYE"/>
          <p:cNvPicPr/>
          <p:nvPr/>
        </p:nvPicPr>
        <p:blipFill>
          <a:blip r:embed="rId2"/>
          <a:stretch/>
        </p:blipFill>
        <p:spPr>
          <a:xfrm>
            <a:off x="4932360" y="836640"/>
            <a:ext cx="16002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安徒生生前资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3664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安徒生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1805-187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丹麦作家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，安徒生诞生在丹麦奥登塞镇的一座破旧阁楼上。他的父亲是个鞋匠，很早就去世了，全家靠母亲给人洗衣服维持生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　安徒生虽然过着十分贫穷的生活，但他却有自己远大的理想。开始，他决心当一名演员，十四岁时便离别了故乡和亲人，独自来到首都哥本哈根。他克服了生活上的重重困难，以坚强的毅力学习文化。起初，他想学习舞蹈和演戏，却遭到了拒绝，后来被一位音乐学校的教授收留，学习唱歌。可是第二年冬天，因为他没有钱买衣服和鞋子，不断地感冒、咳嗽，嗓音嘶哑了，只好离开了音乐学校。但是，他从事艺术事业的顽强意志毫不动摇，又下决心进行文学创作，用自己的笔写出人间的不平。他住在一间旧房子的顶楼上，没日没夜地练习写作。经过十几年的奋斗，终于踏进了文坛。从三十岁开始，专心从事儿童文学创作，一生中共写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篇童话故事。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看门人的儿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皇帝的新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夜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豌豆上的公主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等。选编在六年制小学语文第十二册中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卖火柴的小女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就是其中的一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ts006[1]"/>
          <p:cNvPicPr/>
          <p:nvPr/>
        </p:nvPicPr>
        <p:blipFill>
          <a:blip r:embed="rId1"/>
          <a:stretch/>
        </p:blipFill>
        <p:spPr>
          <a:xfrm>
            <a:off x="762120" y="2590920"/>
            <a:ext cx="7726320" cy="3429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066680" y="6858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她又冷又饿，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终于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擦燃了第一根火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ats006[1]"/>
          <p:cNvPicPr/>
          <p:nvPr/>
        </p:nvPicPr>
        <p:blipFill>
          <a:blip r:embed="rId1"/>
          <a:stretch/>
        </p:blipFill>
        <p:spPr>
          <a:xfrm>
            <a:off x="-838080" y="-380880"/>
            <a:ext cx="10591560" cy="1714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7776720" y="-798840"/>
            <a:ext cx="729000" cy="88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多么温暖，多么明亮的火焰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ats007"/>
          <p:cNvPicPr/>
          <p:nvPr/>
        </p:nvPicPr>
        <p:blipFill>
          <a:blip r:embed="rId1"/>
          <a:stretch/>
        </p:blipFill>
        <p:spPr>
          <a:xfrm>
            <a:off x="-380880" y="-914400"/>
            <a:ext cx="10591560" cy="134874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4506840" y="533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第二次擦燃了火柴，她看到了喷香的烤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ats008"/>
          <p:cNvPicPr/>
          <p:nvPr/>
        </p:nvPicPr>
        <p:blipFill>
          <a:blip r:embed="rId1"/>
          <a:stretch/>
        </p:blipFill>
        <p:spPr>
          <a:xfrm>
            <a:off x="-228600" y="-914400"/>
            <a:ext cx="10058400" cy="8802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8081280" y="2234160"/>
            <a:ext cx="7898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美丽的圣诞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 rot="1056600">
            <a:off x="5551560" y="4299120"/>
            <a:ext cx="3657600" cy="2747880"/>
          </a:xfrm>
          <a:prstGeom prst="cloudCallout">
            <a:avLst>
              <a:gd name="adj1" fmla="val -58824"/>
              <a:gd name="adj2" fmla="val 1412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10291200">
            <a:off x="228600" y="304560"/>
            <a:ext cx="4038480" cy="2286000"/>
          </a:xfrm>
          <a:prstGeom prst="cloudCallout">
            <a:avLst>
              <a:gd name="adj1" fmla="val -49884"/>
              <a:gd name="adj2" fmla="val -4597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ts012"/>
          <p:cNvPicPr/>
          <p:nvPr/>
        </p:nvPicPr>
        <p:blipFill>
          <a:blip r:embed="rId1"/>
          <a:stretch/>
        </p:blipFill>
        <p:spPr>
          <a:xfrm>
            <a:off x="4495680" y="228600"/>
            <a:ext cx="4648320" cy="4233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ts011"/>
          <p:cNvPicPr/>
          <p:nvPr/>
        </p:nvPicPr>
        <p:blipFill>
          <a:blip r:embed="rId2"/>
          <a:stretch/>
        </p:blipFill>
        <p:spPr>
          <a:xfrm>
            <a:off x="0" y="2948040"/>
            <a:ext cx="5257800" cy="3909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457200" y="533520"/>
            <a:ext cx="42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奶奶出现在亮光里，是那么温和，那么慈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192640" y="5013360"/>
            <a:ext cx="395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    “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奶奶，请把我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带走吧！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ats013"/>
          <p:cNvPicPr/>
          <p:nvPr/>
        </p:nvPicPr>
        <p:blipFill>
          <a:blip r:embed="rId1"/>
          <a:stretch/>
        </p:blipFill>
        <p:spPr>
          <a:xfrm>
            <a:off x="0" y="-304920"/>
            <a:ext cx="9320040" cy="11220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914400" y="5118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她们俩在光明和快乐中飞走了，越飞越高，飞到那没有寒冷，没有饥饿，也没有痛苦的地方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ts014"/>
          <p:cNvPicPr/>
          <p:nvPr/>
        </p:nvPicPr>
        <p:blipFill>
          <a:blip r:embed="rId1"/>
          <a:stretch/>
        </p:blipFill>
        <p:spPr>
          <a:xfrm>
            <a:off x="-457200" y="-4648320"/>
            <a:ext cx="9982080" cy="11887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1864800" y="304920"/>
            <a:ext cx="729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她死了，在旧年的大年夜冻死了。她曾经多么幸福，跟着她奶奶一起走向新年的幸福中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197"/>
          <p:cNvSpPr/>
          <p:nvPr/>
        </p:nvSpPr>
        <p:spPr>
          <a:xfrm>
            <a:off x="2700360" y="630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4"/>
          <a:stretch/>
        </p:blipFill>
        <p:spPr>
          <a:xfrm>
            <a:off x="0" y="304812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371600" y="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板书设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943280" y="1371600"/>
            <a:ext cx="5257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卖火柴的小女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幻想         渴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火炉         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烤鹅         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圣诞树       欢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奶奶         爱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奶奶         幸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511-EE0C-4A0E-B804-69BBAC1634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abg09"/>
          <p:cNvPicPr/>
          <p:nvPr/>
        </p:nvPicPr>
        <p:blipFill>
          <a:blip r:embed="rId1"/>
          <a:stretch/>
        </p:blipFill>
        <p:spPr>
          <a:xfrm>
            <a:off x="-1905120" y="-7238880"/>
            <a:ext cx="11128320" cy="14401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90720" y="31240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假如卖火柴的小女孩来到我们中间，你会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914400" y="762120"/>
            <a:ext cx="4572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00cc"/>
                  </a:solidFill>
                  <a:round/>
                </a:ln>
                <a:solidFill>
                  <a:srgbClr val="9900cc"/>
                </a:solidFill>
                <a:latin typeface="宋体"/>
              </a:rPr>
              <a:t>想一想 说一说 写一写</a:t>
            </a:r>
            <a:endParaRPr b="0" lang="en-US" sz="1800" spc="1" strike="noStrike">
              <a:ln w="9360">
                <a:solidFill>
                  <a:srgbClr val="9900cc"/>
                </a:solidFill>
                <a:round/>
              </a:ln>
              <a:solidFill>
                <a:srgbClr val="9900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332000" y="0"/>
            <a:ext cx="6985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安徒生与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卖火柴的小女孩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那么安徒生是怎样写出这篇童话的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848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年，他到国外去旅行。在途中收到了一封朋友的来信，要求他按照信中寄来的三张画片写一篇故事。其中一张画片上，画的是一个穷苦的小女孩，金黄的长头发打成卷儿披在肩上，看上去很美丽，她手里拿着许多火柴，瞪大了一双可怜的眼睛，好像在想些什么。安徒生看着这张画片，双眼渐渐湿润了。他想起了自己的妈妈。妈妈小时候要过饭，有一次要饭时，实在走不动了，竟然昏倒在路上。他又想起了在童年时代惟一疼爱他的奶奶。爸爸去世以后，妈妈改嫁了，他只好和奶奶相依为命。每到傍晚，他坐在墙角里，蜷着腿缩成一团，盼望着讨饭的奶奶快些回来。慈祥的奶奶一回家，便把他搂在怀里，给他带来温暖，为他解除饥饿。他还想起了在丹麦封建王朝统治下，千千万万穷苦的儿童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想着、想着，他情不自禁地摊开稿纸，以自己的亲身感受和对广大穷苦儿童的同情，以及对统治阶级的憎恨，奋笔疾书，写出了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卖火柴的小女孩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这篇优美动人的童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　　安徒生的童话深受广大人民群众的喜爱，被翻译成许多国家的文字，广泛流传。他也被人们誉为“世界童话大王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读写本课生字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乖   裙  兜  币  哎  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摇篮   围裙   蜷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宋体"/>
              </a:rPr>
              <a:t>裂缝   填满   橱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宋体"/>
              </a:rPr>
              <a:t>饥饿   乖巧   硬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宋体"/>
              </a:rPr>
              <a:t>圣诞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19280" y="26028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华文行楷"/>
                <a:ea typeface="华文行楷"/>
              </a:rPr>
              <a:t> </a:t>
            </a:r>
            <a:r>
              <a:rPr b="0" lang="zh-CN" sz="6000" spc="-1" strike="noStrike">
                <a:solidFill>
                  <a:srgbClr val="9900cc"/>
                </a:solidFill>
                <a:latin typeface="华文行楷"/>
                <a:ea typeface="华文行楷"/>
              </a:rPr>
              <a:t>学习生字新词</a:t>
            </a:r>
            <a:r>
              <a:rPr b="0" lang="en-US" sz="6000" spc="-1" strike="noStrike">
                <a:solidFill>
                  <a:srgbClr val="9900cc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700280"/>
            <a:ext cx="7467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兜着   蜷着   火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填满   橱窗   闪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灵魂   哎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暖烘烘   火柴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小女孩现实的悲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天冷极了，下着雪，又快黑了。这是一年的最后一天──大年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这又冷又黑的晚上，一个光着头赤着脚的小女孩在大街走着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一整天，谁也没买过她一根火柴，谁也没给过她一个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微软雅黑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小女孩幻想的美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第一根 　 大火炉 　 渴望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第二根  　烤　鹅 　 渴望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第三根  　圣诞树  　渴望欢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第四根 　 奶　奶  　渴望疼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一大把  　飞走了 　 渴望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0:42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0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