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png" ContentType="image/png"/>
  <Override PartName="/ppt/media/image2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FA2-4E25-4CDC-B58C-65463370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398-4F8E-45F9-A101-CBD23A6D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285-6AA0-4488-9EE4-BE644E21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EA6-81A4-4A94-BE16-E3519708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D04-6BE0-44B3-A9B9-0333C11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9A6-22A3-4897-8B60-F89D048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85FB-F6FC-4AB4-8F98-F3F4B1F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CA47-83D2-418C-B121-B447E42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AC9-EA55-40AE-B57B-A45E853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E66-52A2-469B-A089-B367E40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091-2A82-400B-A765-F7D6E94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B22-719C-4E68-A87A-C67AD5F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81A-2A59-44E1-92C3-6DA9A25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FBF-80B2-40A1-B4FD-2E74655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D173-A952-4890-A8CB-D567D84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A18-4933-4E69-ACEA-E1E9759A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AB1E-FCB9-43CD-AC67-05F127E0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3D6-94D5-4330-A1DA-1DD0BF7F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8F7-6603-4587-BFF2-4008A31B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44-A10C-423C-91B4-D1F1303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77D-8BB4-49C5-B489-F5B0FC3C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D90-6F61-416D-B3AB-9E0C6BD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F2B-0800-417E-90DD-A562A44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384-1108-420D-8A56-70F62AD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D66-379C-4097-A999-E4776E1A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75C3-EDD2-4FCA-A752-3EC8036C22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990720" y="1981080"/>
            <a:ext cx="7162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美化家园</a:t>
            </a:r>
            <a:r>
              <a:rPr b="1" i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件模板免费下载</a:t>
            </a:r>
            <a:endParaRPr b="1" i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5" descr=""/>
          <p:cNvPicPr/>
          <p:nvPr/>
        </p:nvPicPr>
        <p:blipFill>
          <a:blip r:embed="rId2"/>
          <a:stretch/>
        </p:blipFill>
        <p:spPr>
          <a:xfrm>
            <a:off x="1062000" y="0"/>
            <a:ext cx="7286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66680" y="10666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变废为宝大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可乐花盆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可乐花瓶"/>
          <p:cNvPicPr/>
          <p:nvPr/>
        </p:nvPicPr>
        <p:blipFill>
          <a:blip r:embed="rId2"/>
          <a:stretch/>
        </p:blipFill>
        <p:spPr>
          <a:xfrm>
            <a:off x="0" y="1828800"/>
            <a:ext cx="472428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03"/>
          <p:cNvPicPr/>
          <p:nvPr/>
        </p:nvPicPr>
        <p:blipFill>
          <a:blip r:embed="rId3"/>
          <a:stretch/>
        </p:blipFill>
        <p:spPr>
          <a:xfrm>
            <a:off x="0" y="0"/>
            <a:ext cx="39625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09480" y="10666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变废为宝大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一张椅子(易拉罐)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椅子(易拉罐)"/>
          <p:cNvPicPr/>
          <p:nvPr/>
        </p:nvPicPr>
        <p:blipFill>
          <a:blip r:embed="rId2"/>
          <a:stretch/>
        </p:blipFill>
        <p:spPr>
          <a:xfrm>
            <a:off x="0" y="1828800"/>
            <a:ext cx="5334120" cy="502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03"/>
          <p:cNvPicPr/>
          <p:nvPr/>
        </p:nvPicPr>
        <p:blipFill>
          <a:blip r:embed="rId3"/>
          <a:stretch/>
        </p:blipFill>
        <p:spPr>
          <a:xfrm>
            <a:off x="0" y="0"/>
            <a:ext cx="3581280" cy="101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457200" y="2057400"/>
            <a:ext cx="8082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标识（图标）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414313431D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8199"/>
          <p:cNvSpPr/>
          <p:nvPr/>
        </p:nvSpPr>
        <p:spPr>
          <a:xfrm>
            <a:off x="720720" y="4129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201062102158900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01062102210408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2009061122220067741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0090612145338285"/>
          <p:cNvPicPr/>
          <p:nvPr/>
        </p:nvPicPr>
        <p:blipFill>
          <a:blip r:embed="rId2"/>
          <a:stretch/>
        </p:blipFill>
        <p:spPr>
          <a:xfrm>
            <a:off x="0" y="0"/>
            <a:ext cx="28224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20090612145338576"/>
          <p:cNvPicPr/>
          <p:nvPr/>
        </p:nvPicPr>
        <p:blipFill>
          <a:blip r:embed="rId3"/>
          <a:stretch/>
        </p:blipFill>
        <p:spPr>
          <a:xfrm>
            <a:off x="2666880" y="0"/>
            <a:ext cx="28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1640-2121-44C5-AFB2-7706F90987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7817662_092717531000_2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0024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朋友们，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以后看见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这个图片，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一定要记住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不可以乱扔垃圾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要把垃圾扔进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垃圾桶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u=1135735942,408616644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5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5786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02"/>
          <p:cNvPicPr/>
          <p:nvPr/>
        </p:nvPicPr>
        <p:blipFill>
          <a:blip r:embed="rId2"/>
          <a:stretch/>
        </p:blipFill>
        <p:spPr>
          <a:xfrm>
            <a:off x="304920" y="304920"/>
            <a:ext cx="335268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562040" y="1905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乱倒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冰糕纸扔哪儿"/>
          <p:cNvPicPr/>
          <p:nvPr/>
        </p:nvPicPr>
        <p:blipFill>
          <a:blip r:embed="rId3"/>
          <a:stretch/>
        </p:blipFill>
        <p:spPr>
          <a:xfrm>
            <a:off x="1676520" y="2486160"/>
            <a:ext cx="5790960" cy="3914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"/>
          <p:cNvSpPr/>
          <p:nvPr/>
        </p:nvSpPr>
        <p:spPr>
          <a:xfrm>
            <a:off x="4343400" y="990720"/>
            <a:ext cx="2895480" cy="2209680"/>
          </a:xfrm>
          <a:prstGeom prst="wedgeEllipseCallout">
            <a:avLst>
              <a:gd name="adj1" fmla="val -58388"/>
              <a:gd name="adj2" fmla="val 68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冰糕纸扔哪儿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02"/>
          <p:cNvPicPr/>
          <p:nvPr/>
        </p:nvPicPr>
        <p:blipFill>
          <a:blip r:embed="rId2"/>
          <a:stretch/>
        </p:blipFill>
        <p:spPr>
          <a:xfrm>
            <a:off x="380880" y="304920"/>
            <a:ext cx="377532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口香糖叶哪儿"/>
          <p:cNvPicPr/>
          <p:nvPr/>
        </p:nvPicPr>
        <p:blipFill>
          <a:blip r:embed="rId3"/>
          <a:stretch/>
        </p:blipFill>
        <p:spPr>
          <a:xfrm>
            <a:off x="1752480" y="2382840"/>
            <a:ext cx="601992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/>
          <p:cNvSpPr/>
          <p:nvPr/>
        </p:nvSpPr>
        <p:spPr>
          <a:xfrm>
            <a:off x="4343400" y="762120"/>
            <a:ext cx="3352680" cy="2286000"/>
          </a:xfrm>
          <a:prstGeom prst="wedgeEllipseCallout">
            <a:avLst>
              <a:gd name="adj1" fmla="val -53361"/>
              <a:gd name="adj2" fmla="val 63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过的口香糖往哪儿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02"/>
          <p:cNvPicPr/>
          <p:nvPr/>
        </p:nvPicPr>
        <p:blipFill>
          <a:blip r:embed="rId2"/>
          <a:stretch/>
        </p:blipFill>
        <p:spPr>
          <a:xfrm>
            <a:off x="0" y="304920"/>
            <a:ext cx="312408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喝口乐1"/>
          <p:cNvPicPr/>
          <p:nvPr/>
        </p:nvPicPr>
        <p:blipFill>
          <a:blip r:embed="rId3"/>
          <a:stretch/>
        </p:blipFill>
        <p:spPr>
          <a:xfrm>
            <a:off x="1981080" y="2421000"/>
            <a:ext cx="525492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/>
          <p:cNvSpPr/>
          <p:nvPr/>
        </p:nvSpPr>
        <p:spPr>
          <a:xfrm>
            <a:off x="3924360" y="1066680"/>
            <a:ext cx="2933640" cy="1981440"/>
          </a:xfrm>
          <a:prstGeom prst="wedgeEllipseCallout">
            <a:avLst>
              <a:gd name="adj1" fmla="val -50865"/>
              <a:gd name="adj2" fmla="val 59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乐罐扔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0100293_935162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0" y="0"/>
            <a:ext cx="9144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谁再制造垃圾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470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0" y="0"/>
            <a:ext cx="6248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有什么启示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2"/>
          <p:cNvPicPr/>
          <p:nvPr/>
        </p:nvPicPr>
        <p:blipFill>
          <a:blip r:embed="rId1"/>
          <a:stretch/>
        </p:blipFill>
        <p:spPr>
          <a:xfrm>
            <a:off x="380880" y="0"/>
            <a:ext cx="3470400" cy="911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219320" y="11430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垃圾应放到哪里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不随地吐痰2"/>
          <p:cNvPicPr/>
          <p:nvPr/>
        </p:nvPicPr>
        <p:blipFill>
          <a:blip r:embed="rId2"/>
          <a:stretch/>
        </p:blipFill>
        <p:spPr>
          <a:xfrm>
            <a:off x="0" y="1828800"/>
            <a:ext cx="441972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不乱扔果皮"/>
          <p:cNvPicPr/>
          <p:nvPr/>
        </p:nvPicPr>
        <p:blipFill>
          <a:blip r:embed="rId3"/>
          <a:stretch/>
        </p:blipFill>
        <p:spPr>
          <a:xfrm>
            <a:off x="4419720" y="175248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7263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0" y="17524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为了保持环境卫生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我们可以做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7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5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