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0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9.jpeg" ContentType="image/jpeg"/>
  <Override PartName="/ppt/media/image11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9.png" ContentType="image/png"/>
  <Override PartName="/ppt/media/image39.png" ContentType="image/png"/>
  <Override PartName="/ppt/media/image31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6.png" ContentType="image/png"/>
  <Override PartName="/ppt/media/image13.png" ContentType="image/png"/>
  <Override PartName="/ppt/media/image37.png" ContentType="image/png"/>
  <Override PartName="/ppt/media/image40.png" ContentType="image/png"/>
  <Override PartName="/ppt/media/image8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5.png" ContentType="image/png"/>
  <Override PartName="/ppt/media/image30.png" ContentType="image/png"/>
  <Override PartName="/ppt/media/image3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32.png" ContentType="image/png"/>
  <Override PartName="/ppt/media/image2.png" ContentType="image/png"/>
  <Override PartName="/ppt/media/image25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C167-C4B7-4A8B-A8B3-CACCBE60A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1658-165A-425E-AC3A-650A81D6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5BC23F-7ED6-4BCD-A9BC-9892A030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AD6172-4512-4847-AC34-105B6537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33C9BE-5F64-42E9-8B6F-72ECA7AA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3715B8-58FC-4BC9-AEE1-D29A53FB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131627-6FA6-48D6-93BA-D8A2FDB7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0B039-85E1-48EE-AB30-46AD17A9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67759-6094-495F-8554-AB0D7E43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373763-D946-4620-B4F4-C901ACF8F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CA871-8D0F-4B6D-AEAE-61A69CFF5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70B764-64ED-4D8D-8C91-C7F4151AF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4492-5A67-4278-9EBF-74A7527D0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49075E-A947-4012-8788-3C980BA0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F80D5-199C-4DE1-8487-B2227FFF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6DC1E5-6261-4413-871D-AA83786E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5C3E5D-0D46-41EC-8A2F-CF5CEED0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1EBC42-C112-451C-B39E-8499EC90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99CAFC-1023-4579-ADE5-EFBD406F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D017FF-6C4F-4956-BBF4-8177009A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F77462-2449-4BD2-8758-C5D72D83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CF6B2-E784-4C75-8FF3-3BAEC894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7E581-3E0E-4DB3-8E0C-A0329384C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DA1C-1F0E-4EAF-AB3B-8520D4CF3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5B052D-883B-4122-A0A0-D2F6CB076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C5F46-0AA9-4804-8BCA-A3D62E344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AC6A4-1B2A-48BB-9FE7-0B614E5A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2FCF7-62AD-4717-ACE6-996D53BD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70B3A-2F67-4F2D-94B7-EFA62C31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C75DE7-5463-4107-8242-D376ED0C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023D9F-DC7B-482C-BE0C-9B7316DC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A506F-0169-40CF-8C91-655C154B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7AE28-FDAF-4479-8BB4-7FD9CD60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E50FE0-4FE5-4070-8AFF-69A47D9B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5DD7-1FA2-4A46-9D97-DD574CBC7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826D09-84AF-4B34-ABC1-7289ADB8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031C6-69FD-4A6D-9FF2-E6E0D0DEC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94D032-4DC7-4702-816B-EE17A882C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B8D6D3-3BE9-4C3C-AA1D-66477A182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B09329-50C1-4C0E-B3CA-976309CF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B6FCDF-9C76-40EB-9734-F0AC3D75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EFECC9-9A0E-45DC-9163-55F9EC92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8366C3-92E7-44FF-A5CA-00C13E2E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23119C-1642-4CAB-B523-712CFC2F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4DA20E-1D54-4AB8-910C-AC4028C3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04BD-AA34-4BD7-BBD5-1940261F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57DE01-C7AA-430C-9B2A-BED7910B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E6A604-58B3-4052-93D6-65F23815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8D1B4C-EDE1-4673-8DDC-2F6FFAA1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9B2ABD-3A09-44B8-9C2D-A1BE62E76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69DA4C-5B34-4F43-83D8-A0953071D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2FB57D-0258-479D-9F0B-32D9EC163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F7142B-3082-481F-9C04-4771257F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A7E8BD-C2E9-47A8-A574-A8C008D5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80911D-D774-4922-AE9B-0DF9DD4E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528484-FB8A-4C72-94DA-7962BF13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92F8-1E34-4470-9B00-6F8039C1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8CD70E-FDA4-4D46-98E2-FABA09E7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5DCFE6-F1CA-4D6B-BC1A-26766E6C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007054-FF6B-4282-B95D-08C712C6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F85523-166F-4DAD-AB88-C5EE0F23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A2FFB4-691A-4AA1-929B-FE332DBD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8B6E06-A8A5-4E31-AF8A-44CE82F46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105559-9B0D-424B-9B16-A0BFCED24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DFA83D-90B2-4D62-A82D-E38625DB0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944E10-0B5B-4B1D-8D8B-02C3216C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5F8674-B341-4F8C-898E-F5BEB793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2671-8CAC-40E3-A146-92193396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E45BF7-561D-498F-B089-CE6EFF63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C034F0-E192-477F-8FFC-A6941F07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E6C7EF-78F5-4AEF-9634-929AC6A1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86BE91-C9F4-4ECD-8E5D-8830A2CE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5A86EB-4091-4E78-812D-B4263BAD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D3AE2D-05E3-4BA6-9C3B-3BE72493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44678B-9FB1-44CF-9CEC-D348B651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703FEF-BB88-4EAD-BA5D-C535DC5BF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04060C-5083-440D-AB4D-8702C9AFC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57097A-C0FD-4F09-8224-7F01742AA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ED7E-EE30-47F1-BF53-E081F69F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12E3B8-390C-4FE3-8FC0-B4593D8F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135381-3D29-4F08-8BDA-339FE5C1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3A58B3-5098-4F42-A234-9F0FDAC9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58AF12-0502-4863-95CC-5239E5B8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010985-2FD2-4738-A0B4-E0636B43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00CA90-A466-4719-A0EC-56DA39B9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CCA774-DC17-4071-8DC4-E23A8212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E369EB-9D4F-44CB-9E64-9B445467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FF45CA-3332-43C7-B945-124D1499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D97504-E942-4DD2-A934-7F4B5D3E0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810B-CB0A-4109-8E9D-D8E83A6A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8BE714-AA18-4D1D-8AED-D8BBB79B8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90F0-9ED7-4707-9353-8100DB83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A3D3-4372-4AAE-A7AF-80E485F5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2316-9783-413A-8537-38C200CF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12D5-A2AD-42EB-B39B-2CBCB71F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84D7-5D40-42B6-AA76-1F30767F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12C4-B33C-4B2F-B0E4-B8A895AF3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51F8-9226-40D8-80AC-A4D72CEF4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CD9B9-F1B5-45A5-8CEA-21D338204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8DAEC-F0F4-4E06-A26D-CD309815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BEC9A-59CE-4938-92AC-D1E6A68C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9B03B-71DD-4C54-AE60-87469D0B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037AC-1F0E-454D-83AA-29B5217D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65F3-9A64-48C8-BD89-E62AEF4E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273E6-FA4D-47BF-A9F0-B213E254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B2DFD-0438-40B7-A13A-4CEAC183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C8982-2ECE-4C28-8B34-DC26AE42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717C6-F491-4B1D-8DD7-A7C80E6C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08167-3922-4647-9DD7-113432EF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61C31-6E6E-4AB1-9626-9C4F884EB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4354C-4CB0-4242-AC99-7061440B0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C9370-9045-447D-A137-C53C50DB4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DF61D-0A7D-4D1B-BFD0-3C1BC9F3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8AE0D-8FD6-4804-B506-9640EBF4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DE3E-95E3-47FC-894D-6FB679CB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E7671-437F-4D68-A8E8-45A73A89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6E1A9-C6E3-4AF7-97C7-33F4C999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5DCFF-FA75-4BC8-9FB3-A9889D14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D96E8-43B6-4CA9-858E-E4F982AD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8B61D-9F81-4932-8CCF-A4748FBA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85F9C-A967-4F9A-93E3-3514666E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50E25-D003-4481-95AA-0CF5EC7C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36AA4-C29D-4F1A-9E2A-4825C6EE3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C4841-8691-449C-A296-B54D5D622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B5E52-28CE-408C-B882-0513689B5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7B90-CCB5-4CCC-A243-A9DB41BB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540F4-91DF-410E-93FC-81B367FD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4AE2F-6059-4455-89BB-B6F62940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F39D0-F800-4A5A-AC32-3B0D9926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848E6-6C7A-4533-8C23-84045D70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A1AFC-29CD-49DE-ADE6-72313229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4B742-DD86-4CED-80E6-201FA2F2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B449B-C7AD-4FF8-962D-7372738E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28494-7111-4889-ACCD-847C181D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20141-6F26-4EE2-B925-56C9554D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A3E9A-778E-443F-A51F-814C2DC22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42BB-9E5E-4989-B025-6A2FB762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E81CF-03F8-449E-B589-207EF85B5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C3D0C-8465-4B5B-A867-B7B29C7DD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25E26-ABB5-4AD8-A05B-D415FEB7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6AEBD-25F3-4192-8448-FEA3978E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26530-B03C-4A1B-B333-0C11083C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9AC71-DFE1-4DE3-8DFF-8FF7405F9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16AEA-E5BC-4A41-8D7A-66946B7A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3EC3F-5057-4660-91E4-E11C91A7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FBF13-5BBF-4B45-B930-4CDC85FB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AB668-251E-4BF8-A8B3-464EA663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7C6A-6B16-490C-998B-42585331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765BB-CE36-4476-8789-23D01B81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FB872-E3AE-4F2B-AC15-79632081C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5A64F-6B97-4A6F-BDD0-A7A2A0927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C1EBC-B599-438C-874C-0E65A70EA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BAB36-094B-4A9C-898F-9BD082D0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DD534-0070-4E92-AFA3-5751C4F5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7CA84-701F-4312-8D31-4E27642F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E573D-D3DA-41B8-8A9B-52FF7809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A7B1A-E24C-452B-9643-4002DE37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A4AE5E-C43F-4F91-BB8A-EB1820E6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225F-6A1B-41D9-8347-E9C140BD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00F1F-3B5C-465E-A9A6-1DD77D62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D8AD8-7AFB-4265-9427-CD94EE8B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C2230-1210-4104-9911-437EE7C2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C80FD-7A6C-4C01-B759-A657A2AD1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90AF6-BEF0-46CC-BC69-318DAECEE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1A697-FE69-4519-AFCC-732915DB2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B8C31-3702-4CA8-993D-EBBB6F7B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F16F3-EEB0-4D91-8F4A-B6AE43EC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DC802-4B05-4DDB-BA4C-513745B6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6220D-9807-46D6-8927-A32353AC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9540-FDEA-4781-A4A3-6573E120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5530C-E4BE-43E7-A69A-8A787883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806BB-8D81-4B73-8F72-DAA5B2D5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8CD8B-02A8-4294-80C5-43C04C29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6A949-EA40-4B6B-BFB2-357F691C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085E3-77D4-4E04-A5D1-0D26AE1D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372EB-4CBE-443E-AFA7-5E753E310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01FFF-0A27-4F4E-A546-AFF3C0FDC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364CA-EB36-4C43-B09A-7CE30D0FD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74DCD-1229-4A3B-9846-8EBCC848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D26E1-7A45-427A-AC15-D0EFE63A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368C-2F35-494C-995B-C3282521C4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BC49-9EDD-4ED3-B83A-CC65B6F236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E31E-AF43-498B-A99D-97F87508D0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8E62-12AE-4116-A8F4-75DE793C69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F49B-92D5-4B8E-BD71-9424CB7F96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26C4-1301-4AC1-A2A0-E0D48C1CF9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209B-7AF3-41B0-AEEF-DE60A83D73D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9E37-34B0-427E-8326-767460B3034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19E3-A5FC-44B7-BAC2-FD00F866FAD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BA70-65F0-42B7-A34D-4E8AC327CEC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291F-91C9-484F-9C76-8A40923CC4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6915-890D-4DBB-94CE-1C815110B0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4B3D-2D7E-45AB-BE10-136F037EAA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788C-B56B-4689-A6FB-AF069C4199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4BFE-2921-4639-B57B-FE05931814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hyperlink" Target="268,14,&#24187;&#28783;&#29255; 14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hyperlink" Target="273,18,&#24187;&#28783;&#29255; 18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5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5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6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D:\&#32654;&#20029;&#30340;&#29983;&#21629;\flash1.exe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D:\&#32654;&#20029;&#30340;&#29983;&#21629;\flash2.exe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AutoShape 2"/>
          <p:cNvSpPr/>
          <p:nvPr/>
        </p:nvSpPr>
        <p:spPr>
          <a:xfrm>
            <a:off x="1152360" y="1538280"/>
            <a:ext cx="6794640" cy="180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WordArt 3"/>
          <p:cNvSpPr txBox="1"/>
          <p:nvPr/>
        </p:nvSpPr>
        <p:spPr>
          <a:xfrm>
            <a:off x="1758960" y="1855800"/>
            <a:ext cx="55800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美丽的生命课件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模板下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7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2" descr="D:\品德与生活\资源库\课件\品德与生活\二年级上册\金色的秋天\秋游去\PM_007 拷贝.jpg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59436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655" name="Picture 3" descr="D:\品德与社会\资源库\课件\三年级上册\我爱我的家\33.png"/>
          <p:cNvPicPr/>
          <p:nvPr/>
        </p:nvPicPr>
        <p:blipFill>
          <a:blip r:embed="rId2"/>
          <a:stretch/>
        </p:blipFill>
        <p:spPr>
          <a:xfrm>
            <a:off x="6095880" y="4648320"/>
            <a:ext cx="1494000" cy="998280"/>
          </a:xfrm>
          <a:prstGeom prst="rect">
            <a:avLst/>
          </a:prstGeom>
          <a:ln w="0">
            <a:noFill/>
          </a:ln>
        </p:spPr>
      </p:pic>
      <p:sp>
        <p:nvSpPr>
          <p:cNvPr id="656" name="WordArt 4"/>
          <p:cNvSpPr txBox="1"/>
          <p:nvPr/>
        </p:nvSpPr>
        <p:spPr>
          <a:xfrm>
            <a:off x="3200400" y="800280"/>
            <a:ext cx="2577960" cy="58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美丽的生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57" name="Picture 5" descr="D:\品德与生活\资源库\课件\品德与生活\二年级下册\鲜艳的红领巾\d.png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224920" y="6477120"/>
            <a:ext cx="233280" cy="23148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6" descr="D:\品德与生活\资源库\课件\品德与生活\二年级下册\鲜艳的红领巾\c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531280" y="6478560"/>
            <a:ext cx="231840" cy="230040"/>
          </a:xfrm>
          <a:prstGeom prst="rect">
            <a:avLst/>
          </a:prstGeom>
          <a:ln w="0">
            <a:noFill/>
          </a:ln>
        </p:spPr>
      </p:pic>
      <p:sp>
        <p:nvSpPr>
          <p:cNvPr id="659" name="文本框 8199"/>
          <p:cNvSpPr/>
          <p:nvPr/>
        </p:nvSpPr>
        <p:spPr>
          <a:xfrm>
            <a:off x="1979640" y="63738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6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2"/>
          <p:cNvSpPr/>
          <p:nvPr/>
        </p:nvSpPr>
        <p:spPr>
          <a:xfrm>
            <a:off x="376200" y="990720"/>
            <a:ext cx="8381880" cy="5333760"/>
          </a:xfrm>
          <a:prstGeom prst="rect">
            <a:avLst/>
          </a:prstGeom>
          <a:solidFill>
            <a:srgbClr val="0066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WordArt 3"/>
          <p:cNvSpPr txBox="1"/>
          <p:nvPr/>
        </p:nvSpPr>
        <p:spPr>
          <a:xfrm>
            <a:off x="2666880" y="171360"/>
            <a:ext cx="3714840" cy="6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我的动植物朋友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62" name="Text Box 4"/>
          <p:cNvSpPr/>
          <p:nvPr/>
        </p:nvSpPr>
        <p:spPr>
          <a:xfrm>
            <a:off x="685800" y="13716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动物、植物和我们一起生活在地球这个家园中，它们与我们朝夕相处，我们应该与动植物成为和睦相处的好朋友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3" name="Picture 5" descr="D:\品德与社会\资源库\课件\四年级上册\美丽的生命\011.jpg"/>
          <p:cNvPicPr/>
          <p:nvPr/>
        </p:nvPicPr>
        <p:blipFill>
          <a:blip r:embed="rId1"/>
          <a:stretch/>
        </p:blipFill>
        <p:spPr>
          <a:xfrm>
            <a:off x="1371600" y="3200400"/>
            <a:ext cx="1676520" cy="19810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664" name="Picture 6" descr="D:\品德与社会\资源库\课件\四年级上册\美丽的生命\022.jpg"/>
          <p:cNvPicPr/>
          <p:nvPr/>
        </p:nvPicPr>
        <p:blipFill>
          <a:blip r:embed="rId2"/>
          <a:stretch/>
        </p:blipFill>
        <p:spPr>
          <a:xfrm>
            <a:off x="3776760" y="3200400"/>
            <a:ext cx="1666800" cy="19810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665" name="Picture 7" descr="D:\品德与社会\资源库\课件\四年级上册\美丽的生命\033.jpg"/>
          <p:cNvPicPr/>
          <p:nvPr/>
        </p:nvPicPr>
        <p:blipFill>
          <a:blip r:embed="rId3"/>
          <a:stretch/>
        </p:blipFill>
        <p:spPr>
          <a:xfrm>
            <a:off x="6172200" y="3200400"/>
            <a:ext cx="1676520" cy="19810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666" name="AutoShape 8"/>
          <p:cNvSpPr/>
          <p:nvPr/>
        </p:nvSpPr>
        <p:spPr>
          <a:xfrm>
            <a:off x="3975120" y="5384880"/>
            <a:ext cx="1523880" cy="838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20" y="0"/>
                </a:moveTo>
                <a:lnTo>
                  <a:pt x="14520" y="4623"/>
                </a:lnTo>
                <a:lnTo>
                  <a:pt x="3375" y="4623"/>
                </a:lnTo>
                <a:lnTo>
                  <a:pt x="3375" y="16977"/>
                </a:lnTo>
                <a:lnTo>
                  <a:pt x="14520" y="16977"/>
                </a:lnTo>
                <a:lnTo>
                  <a:pt x="14520" y="21600"/>
                </a:lnTo>
                <a:lnTo>
                  <a:pt x="21600" y="10800"/>
                </a:lnTo>
                <a:lnTo>
                  <a:pt x="14520" y="0"/>
                </a:lnTo>
                <a:close/>
              </a:path>
              <a:path w="21600" h="21600">
                <a:moveTo>
                  <a:pt x="1350" y="4623"/>
                </a:moveTo>
                <a:lnTo>
                  <a:pt x="1350" y="16977"/>
                </a:lnTo>
                <a:lnTo>
                  <a:pt x="2700" y="16977"/>
                </a:lnTo>
                <a:lnTo>
                  <a:pt x="2700" y="4623"/>
                </a:lnTo>
                <a:lnTo>
                  <a:pt x="1350" y="4623"/>
                </a:lnTo>
                <a:close/>
              </a:path>
              <a:path w="21600" h="21600">
                <a:moveTo>
                  <a:pt x="0" y="4623"/>
                </a:moveTo>
                <a:lnTo>
                  <a:pt x="0" y="16977"/>
                </a:lnTo>
                <a:lnTo>
                  <a:pt x="675" y="16977"/>
                </a:lnTo>
                <a:lnTo>
                  <a:pt x="675" y="4623"/>
                </a:lnTo>
                <a:lnTo>
                  <a:pt x="0" y="4623"/>
                </a:lnTo>
                <a:close/>
              </a:path>
            </a:pathLst>
          </a:custGeom>
          <a:solidFill>
            <a:srgbClr val="ff99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Text Box 9"/>
          <p:cNvSpPr/>
          <p:nvPr/>
        </p:nvSpPr>
        <p:spPr>
          <a:xfrm>
            <a:off x="4178160" y="554184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  <a:ea typeface="黑体"/>
                <a:hlinkClick r:id="rId4"/>
              </a:rPr>
              <a:t>讲一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8" name="Picture 10" descr="D:\品德与生活\资源库\课件\品德与生活\二年级下册\鲜艳的红领巾\d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224920" y="6477120"/>
            <a:ext cx="233280" cy="23148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11" descr="D:\品德与生活\资源库\课件\品德与生活\二年级下册\鲜艳的红领巾\c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531280" y="6478560"/>
            <a:ext cx="231840" cy="23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2"/>
          <p:cNvSpPr/>
          <p:nvPr/>
        </p:nvSpPr>
        <p:spPr>
          <a:xfrm>
            <a:off x="376200" y="990720"/>
            <a:ext cx="8381880" cy="5333760"/>
          </a:xfrm>
          <a:prstGeom prst="rect">
            <a:avLst/>
          </a:prstGeom>
          <a:solidFill>
            <a:srgbClr val="0066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WordArt 3"/>
          <p:cNvSpPr txBox="1"/>
          <p:nvPr/>
        </p:nvSpPr>
        <p:spPr>
          <a:xfrm>
            <a:off x="3162240" y="146160"/>
            <a:ext cx="266724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呵护生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72" name="Text Box 4"/>
          <p:cNvSpPr/>
          <p:nvPr/>
        </p:nvSpPr>
        <p:spPr>
          <a:xfrm>
            <a:off x="533520" y="1219320"/>
            <a:ext cx="829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植物有花开叶落，动物有喜、怒、哀、乐；作为生命，植物、动物与人类一样，也需要爱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让我们来看一看下面几位同学的做法：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3" name="Picture 5" descr="D:\品德与社会\资源库\课件\四年级上册\美丽的生命\05.png"/>
          <p:cNvPicPr/>
          <p:nvPr/>
        </p:nvPicPr>
        <p:blipFill>
          <a:blip r:embed="rId1"/>
          <a:stretch/>
        </p:blipFill>
        <p:spPr>
          <a:xfrm>
            <a:off x="685800" y="3117960"/>
            <a:ext cx="2212920" cy="259704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6" descr="D:\品德与社会\资源库\课件\四年级上册\美丽的生命\06.png"/>
          <p:cNvPicPr/>
          <p:nvPr/>
        </p:nvPicPr>
        <p:blipFill>
          <a:blip r:embed="rId2"/>
          <a:stretch/>
        </p:blipFill>
        <p:spPr>
          <a:xfrm>
            <a:off x="3162240" y="3048120"/>
            <a:ext cx="2286000" cy="259056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7" descr="D:\品德与社会\资源库\课件\四年级上册\美丽的生命\07.png"/>
          <p:cNvPicPr/>
          <p:nvPr/>
        </p:nvPicPr>
        <p:blipFill>
          <a:blip r:embed="rId3"/>
          <a:stretch/>
        </p:blipFill>
        <p:spPr>
          <a:xfrm>
            <a:off x="5715000" y="2971800"/>
            <a:ext cx="2743200" cy="2062080"/>
          </a:xfrm>
          <a:prstGeom prst="rect">
            <a:avLst/>
          </a:prstGeom>
          <a:ln w="0">
            <a:noFill/>
          </a:ln>
        </p:spPr>
      </p:pic>
      <p:sp>
        <p:nvSpPr>
          <p:cNvPr id="676" name="AutoShape 8"/>
          <p:cNvSpPr/>
          <p:nvPr/>
        </p:nvSpPr>
        <p:spPr>
          <a:xfrm>
            <a:off x="6477120" y="5181480"/>
            <a:ext cx="1143000" cy="83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20" y="0"/>
                </a:moveTo>
                <a:lnTo>
                  <a:pt x="14520" y="4623"/>
                </a:lnTo>
                <a:lnTo>
                  <a:pt x="3375" y="4623"/>
                </a:lnTo>
                <a:lnTo>
                  <a:pt x="3375" y="16977"/>
                </a:lnTo>
                <a:lnTo>
                  <a:pt x="14520" y="16977"/>
                </a:lnTo>
                <a:lnTo>
                  <a:pt x="14520" y="21600"/>
                </a:lnTo>
                <a:lnTo>
                  <a:pt x="21600" y="10800"/>
                </a:lnTo>
                <a:lnTo>
                  <a:pt x="14520" y="0"/>
                </a:lnTo>
                <a:close/>
              </a:path>
              <a:path w="21600" h="21600">
                <a:moveTo>
                  <a:pt x="1350" y="4623"/>
                </a:moveTo>
                <a:lnTo>
                  <a:pt x="1350" y="16977"/>
                </a:lnTo>
                <a:lnTo>
                  <a:pt x="2700" y="16977"/>
                </a:lnTo>
                <a:lnTo>
                  <a:pt x="2700" y="4623"/>
                </a:lnTo>
                <a:lnTo>
                  <a:pt x="1350" y="4623"/>
                </a:lnTo>
                <a:close/>
              </a:path>
              <a:path w="21600" h="21600">
                <a:moveTo>
                  <a:pt x="0" y="4623"/>
                </a:moveTo>
                <a:lnTo>
                  <a:pt x="0" y="16977"/>
                </a:lnTo>
                <a:lnTo>
                  <a:pt x="675" y="16977"/>
                </a:lnTo>
                <a:lnTo>
                  <a:pt x="675" y="4623"/>
                </a:lnTo>
                <a:lnTo>
                  <a:pt x="0" y="4623"/>
                </a:lnTo>
                <a:close/>
              </a:path>
            </a:pathLst>
          </a:custGeom>
          <a:solidFill>
            <a:srgbClr val="ff99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Text Box 9"/>
          <p:cNvSpPr/>
          <p:nvPr/>
        </p:nvSpPr>
        <p:spPr>
          <a:xfrm>
            <a:off x="6629400" y="53388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  <a:ea typeface="黑体"/>
                <a:hlinkClick r:id="rId4"/>
              </a:rPr>
              <a:t>讨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8" name="Picture 10" descr="D:\品德与生活\资源库\课件\品德与生活\二年级下册\鲜艳的红领巾\d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224920" y="6477120"/>
            <a:ext cx="233280" cy="23148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11" descr="D:\品德与生活\资源库\课件\品德与生活\二年级下册\鲜艳的红领巾\c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531280" y="6478560"/>
            <a:ext cx="231840" cy="23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Picture 2" descr="D:\品德与社会\资源库\课件\四年级上册\美丽的生命\200432611274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1" name="WordArt 3"/>
          <p:cNvSpPr txBox="1"/>
          <p:nvPr/>
        </p:nvSpPr>
        <p:spPr>
          <a:xfrm>
            <a:off x="3162240" y="874800"/>
            <a:ext cx="266724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呵护生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457200" y="17827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700" spc="-1" strike="noStrike">
                <a:solidFill>
                  <a:srgbClr val="ffffff"/>
                </a:solidFill>
                <a:latin typeface="黑体"/>
                <a:ea typeface="黑体"/>
              </a:rPr>
              <a:t>同学们，在这个世界上，生命是那么的美丽，让我们把爱送给这个充满生机的世界，爱护每一个生命，哪怕是一朵小花、一棵小草、一只蚂蚁</a:t>
            </a:r>
            <a:r>
              <a:rPr b="1" lang="zh-CN" sz="2700" spc="-1" strike="noStrike">
                <a:solidFill>
                  <a:srgbClr val="ffffff"/>
                </a:solidFill>
                <a:latin typeface="Times New Roman"/>
                <a:ea typeface="黑体"/>
              </a:rPr>
              <a:t>……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3" name="Picture 5" descr="D:\品德与生活\资源库\课件\品德与生活\二年级下册\鲜艳的红领巾\d.png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8224920" y="6477120"/>
            <a:ext cx="233280" cy="23148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6" descr="D:\品德与生活\资源库\课件\品德与生活\二年级下册\鲜艳的红领巾\c.pn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531280" y="6478560"/>
            <a:ext cx="231840" cy="2300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2"/>
          <p:cNvSpPr/>
          <p:nvPr/>
        </p:nvSpPr>
        <p:spPr>
          <a:xfrm>
            <a:off x="376200" y="990720"/>
            <a:ext cx="8381880" cy="5333760"/>
          </a:xfrm>
          <a:prstGeom prst="rect">
            <a:avLst/>
          </a:prstGeom>
          <a:solidFill>
            <a:srgbClr val="0066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WordArt 3"/>
          <p:cNvSpPr txBox="1"/>
          <p:nvPr/>
        </p:nvSpPr>
        <p:spPr>
          <a:xfrm>
            <a:off x="2666880" y="171360"/>
            <a:ext cx="3714840" cy="6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我的动植物朋友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87" name="Picture 4" descr="D:\品德与社会\资源库\课件\四年级上册\美丽的生命\011.jpg"/>
          <p:cNvPicPr/>
          <p:nvPr/>
        </p:nvPicPr>
        <p:blipFill>
          <a:blip r:embed="rId1"/>
          <a:stretch/>
        </p:blipFill>
        <p:spPr>
          <a:xfrm>
            <a:off x="609480" y="1143000"/>
            <a:ext cx="4254480" cy="50292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688" name="AutoShape 5"/>
          <p:cNvSpPr/>
          <p:nvPr/>
        </p:nvSpPr>
        <p:spPr>
          <a:xfrm>
            <a:off x="4343400" y="1295280"/>
            <a:ext cx="4343400" cy="2819520"/>
          </a:xfrm>
          <a:prstGeom prst="cloudCallout">
            <a:avLst>
              <a:gd name="adj1" fmla="val -45287"/>
              <a:gd name="adj2" fmla="val 53208"/>
            </a:avLst>
          </a:prstGeom>
          <a:solidFill>
            <a:srgbClr val="ffffff"/>
          </a:solidFill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Text Box 6"/>
          <p:cNvSpPr/>
          <p:nvPr/>
        </p:nvSpPr>
        <p:spPr>
          <a:xfrm>
            <a:off x="4724280" y="1752480"/>
            <a:ext cx="373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我家种的兰花可漂亮了，洁白的花瓣，中间还带着一点儿粉红。走近她时，还能闻到兰花散发出的淡淡的香呢！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0" name="Picture 7" descr="D:\品德与生活\资源库\课件\品德与生活\二年级下册\鲜艳的红领巾\c.png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31280" y="6478560"/>
            <a:ext cx="231840" cy="23004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8" descr="D:\品德与生活\资源库\课件\品德与生活\二年级下册\鲜艳的红领巾\a.png"/>
          <p:cNvPicPr/>
          <p:nvPr/>
        </p:nvPicPr>
        <p:blipFill>
          <a:blip r:embed="rId3"/>
          <a:stretch/>
        </p:blipFill>
        <p:spPr>
          <a:xfrm>
            <a:off x="8229600" y="6481800"/>
            <a:ext cx="228600" cy="22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2"/>
          <p:cNvSpPr/>
          <p:nvPr/>
        </p:nvSpPr>
        <p:spPr>
          <a:xfrm>
            <a:off x="376200" y="990720"/>
            <a:ext cx="8381880" cy="5333760"/>
          </a:xfrm>
          <a:prstGeom prst="rect">
            <a:avLst/>
          </a:prstGeom>
          <a:solidFill>
            <a:srgbClr val="0066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3" name="Picture 3" descr="D:\品德与社会\资源库\课件\四年级上册\美丽的生命\022.jpg"/>
          <p:cNvPicPr/>
          <p:nvPr/>
        </p:nvPicPr>
        <p:blipFill>
          <a:blip r:embed="rId1"/>
          <a:stretch/>
        </p:blipFill>
        <p:spPr>
          <a:xfrm>
            <a:off x="4344840" y="1143000"/>
            <a:ext cx="4230720" cy="50292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694" name="WordArt 4"/>
          <p:cNvSpPr txBox="1"/>
          <p:nvPr/>
        </p:nvSpPr>
        <p:spPr>
          <a:xfrm>
            <a:off x="2666880" y="171360"/>
            <a:ext cx="3714840" cy="6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我的动植物朋友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95" name="AutoShape 5"/>
          <p:cNvSpPr/>
          <p:nvPr/>
        </p:nvSpPr>
        <p:spPr>
          <a:xfrm>
            <a:off x="457200" y="1676520"/>
            <a:ext cx="4343400" cy="2819160"/>
          </a:xfrm>
          <a:prstGeom prst="cloudCallout">
            <a:avLst>
              <a:gd name="adj1" fmla="val 54495"/>
              <a:gd name="adj2" fmla="val 45606"/>
            </a:avLst>
          </a:prstGeom>
          <a:solidFill>
            <a:srgbClr val="ffffff"/>
          </a:solidFill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Text Box 6"/>
          <p:cNvSpPr/>
          <p:nvPr/>
        </p:nvSpPr>
        <p:spPr>
          <a:xfrm>
            <a:off x="952560" y="2119320"/>
            <a:ext cx="3390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我家小狗波波可懂事了。奶奶生病的时候，它一直趴在奶奶的床头。奶奶病一好，它立刻欢蹦乱跳，高兴极了。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7" name="Picture 7" descr="D:\品德与生活\资源库\课件\品德与生活\二年级下册\鲜艳的红领巾\d.png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8194680" y="6464160"/>
            <a:ext cx="233280" cy="23184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8" descr="D:\品德与生活\资源库\课件\品德与生活\二年级下册\鲜艳的红领巾\c.pn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531280" y="6465960"/>
            <a:ext cx="231840" cy="23004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9" descr="D:\品德与生活\资源库\课件\品德与生活\二年级下册\鲜艳的红领巾\a.png"/>
          <p:cNvPicPr/>
          <p:nvPr/>
        </p:nvPicPr>
        <p:blipFill>
          <a:blip r:embed="rId4"/>
          <a:stretch/>
        </p:blipFill>
        <p:spPr>
          <a:xfrm>
            <a:off x="7862760" y="6469200"/>
            <a:ext cx="228600" cy="22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2"/>
          <p:cNvSpPr/>
          <p:nvPr/>
        </p:nvSpPr>
        <p:spPr>
          <a:xfrm>
            <a:off x="376200" y="990720"/>
            <a:ext cx="8381880" cy="5333760"/>
          </a:xfrm>
          <a:prstGeom prst="rect">
            <a:avLst/>
          </a:prstGeom>
          <a:solidFill>
            <a:srgbClr val="0066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1" name="Picture 3" descr="D:\品德与社会\资源库\课件\四年级上册\美丽的生命\033.jpg"/>
          <p:cNvPicPr/>
          <p:nvPr/>
        </p:nvPicPr>
        <p:blipFill>
          <a:blip r:embed="rId1"/>
          <a:stretch/>
        </p:blipFill>
        <p:spPr>
          <a:xfrm>
            <a:off x="4329000" y="1143000"/>
            <a:ext cx="4256280" cy="50292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702" name="WordArt 4"/>
          <p:cNvSpPr txBox="1"/>
          <p:nvPr/>
        </p:nvSpPr>
        <p:spPr>
          <a:xfrm>
            <a:off x="2666880" y="171360"/>
            <a:ext cx="3714840" cy="6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我的动植物朋友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03" name="AutoShape 5"/>
          <p:cNvSpPr/>
          <p:nvPr/>
        </p:nvSpPr>
        <p:spPr>
          <a:xfrm>
            <a:off x="457200" y="1600200"/>
            <a:ext cx="4648320" cy="2895480"/>
          </a:xfrm>
          <a:prstGeom prst="cloudCallout">
            <a:avLst>
              <a:gd name="adj1" fmla="val 48222"/>
              <a:gd name="adj2" fmla="val 48083"/>
            </a:avLst>
          </a:prstGeom>
          <a:solidFill>
            <a:srgbClr val="ffffff"/>
          </a:solidFill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Text Box 6"/>
          <p:cNvSpPr/>
          <p:nvPr/>
        </p:nvSpPr>
        <p:spPr>
          <a:xfrm>
            <a:off x="838080" y="2119320"/>
            <a:ext cx="392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去树林玩的时候，常常能听到小鸟动听的歌声，有独唱，也有伙伴之间的对唱，有时还会有群鸟大合唱。那情景就像参加一场音乐盛会。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5" name="Picture 7" descr="D:\品德与生活\资源库\课件\品德与生活\二年级下册\鲜艳的红领巾\d.png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8194680" y="6464160"/>
            <a:ext cx="233280" cy="23184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8" descr="D:\品德与生活\资源库\课件\品德与生活\二年级下册\鲜艳的红领巾\c.pn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531280" y="6465960"/>
            <a:ext cx="231840" cy="23004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9" descr="D:\品德与生活\资源库\课件\品德与生活\二年级下册\鲜艳的红领巾\a.png"/>
          <p:cNvPicPr/>
          <p:nvPr/>
        </p:nvPicPr>
        <p:blipFill>
          <a:blip r:embed="rId4"/>
          <a:stretch/>
        </p:blipFill>
        <p:spPr>
          <a:xfrm>
            <a:off x="7862760" y="6469200"/>
            <a:ext cx="228600" cy="22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2"/>
          <p:cNvSpPr/>
          <p:nvPr/>
        </p:nvSpPr>
        <p:spPr>
          <a:xfrm>
            <a:off x="376200" y="380880"/>
            <a:ext cx="8381880" cy="5943600"/>
          </a:xfrm>
          <a:prstGeom prst="rect">
            <a:avLst/>
          </a:prstGeom>
          <a:solidFill>
            <a:srgbClr val="0066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WordArt 3"/>
          <p:cNvSpPr txBox="1"/>
          <p:nvPr/>
        </p:nvSpPr>
        <p:spPr>
          <a:xfrm>
            <a:off x="3187800" y="635040"/>
            <a:ext cx="2514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讲  故  事</a:t>
            </a:r>
            <a:endParaRPr b="1" lang="en-US" sz="2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710" name="Text Box 4"/>
          <p:cNvSpPr/>
          <p:nvPr/>
        </p:nvSpPr>
        <p:spPr>
          <a:xfrm>
            <a:off x="914400" y="1523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在你的生活中有过动物或植物朋友吗？快把关于它们的故事讲给大家听一听吧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1" name="Picture 5" descr="D:\品德与社会\资源库\课件\四年级上册\美丽的生命\04.png"/>
          <p:cNvPicPr/>
          <p:nvPr/>
        </p:nvPicPr>
        <p:blipFill>
          <a:blip r:embed="rId1"/>
          <a:stretch/>
        </p:blipFill>
        <p:spPr>
          <a:xfrm>
            <a:off x="5562720" y="2743200"/>
            <a:ext cx="2484360" cy="342900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6" descr="D:\品德与生活\资源库\课件\品德与生活\二年级下册\鲜艳的红领巾\d.png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8529480" y="6464160"/>
            <a:ext cx="233640" cy="23184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7" descr="D:\品德与生活\资源库\课件\品德与生活\二年级下册\鲜艳的红领巾\a.png"/>
          <p:cNvPicPr/>
          <p:nvPr/>
        </p:nvPicPr>
        <p:blipFill>
          <a:blip r:embed="rId3"/>
          <a:stretch/>
        </p:blipFill>
        <p:spPr>
          <a:xfrm>
            <a:off x="8197920" y="6469200"/>
            <a:ext cx="228600" cy="22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2"/>
          <p:cNvSpPr/>
          <p:nvPr/>
        </p:nvSpPr>
        <p:spPr>
          <a:xfrm>
            <a:off x="376200" y="990720"/>
            <a:ext cx="8381880" cy="5333760"/>
          </a:xfrm>
          <a:prstGeom prst="rect">
            <a:avLst/>
          </a:prstGeom>
          <a:solidFill>
            <a:srgbClr val="0066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WordArt 3"/>
          <p:cNvSpPr txBox="1"/>
          <p:nvPr/>
        </p:nvSpPr>
        <p:spPr>
          <a:xfrm>
            <a:off x="3162240" y="146160"/>
            <a:ext cx="266724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呵护生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16" name="Picture 4" descr="D:\品德与社会\资源库\课件\四年级上册\美丽的生命\05.png"/>
          <p:cNvPicPr/>
          <p:nvPr/>
        </p:nvPicPr>
        <p:blipFill>
          <a:blip r:embed="rId1"/>
          <a:stretch/>
        </p:blipFill>
        <p:spPr>
          <a:xfrm>
            <a:off x="685800" y="1206360"/>
            <a:ext cx="4219560" cy="4953240"/>
          </a:xfrm>
          <a:prstGeom prst="rect">
            <a:avLst/>
          </a:prstGeom>
          <a:ln w="0">
            <a:noFill/>
          </a:ln>
        </p:spPr>
      </p:pic>
      <p:sp>
        <p:nvSpPr>
          <p:cNvPr id="717" name="AutoShape 5"/>
          <p:cNvSpPr/>
          <p:nvPr/>
        </p:nvSpPr>
        <p:spPr>
          <a:xfrm>
            <a:off x="5334120" y="990720"/>
            <a:ext cx="380880" cy="5333760"/>
          </a:xfrm>
          <a:custGeom>
            <a:avLst/>
            <a:gdLst>
              <a:gd name="textAreaLeft" fmla="*/ 111960 w 380880"/>
              <a:gd name="textAreaRight" fmla="*/ 381240 w 380880"/>
              <a:gd name="textAreaTop" fmla="*/ 222120 h 5333760"/>
              <a:gd name="textAreaBottom" fmla="*/ 5111640 h 533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Text Box 6"/>
          <p:cNvSpPr/>
          <p:nvPr/>
        </p:nvSpPr>
        <p:spPr>
          <a:xfrm>
            <a:off x="5486400" y="2013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这样做对吗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Text Box 7"/>
          <p:cNvSpPr/>
          <p:nvPr/>
        </p:nvSpPr>
        <p:spPr>
          <a:xfrm>
            <a:off x="5486400" y="27748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当这样与动物玩耍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时，你想过它们的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感受吗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0" name="Picture 8" descr="D:\品德与生活\资源库\课件\品德与生活\二年级下册\鲜艳的红领巾\c.png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31280" y="6478560"/>
            <a:ext cx="231840" cy="23004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9" descr="D:\品德与生活\资源库\课件\品德与生活\二年级下册\鲜艳的红领巾\a.png"/>
          <p:cNvPicPr/>
          <p:nvPr/>
        </p:nvPicPr>
        <p:blipFill>
          <a:blip r:embed="rId3"/>
          <a:stretch/>
        </p:blipFill>
        <p:spPr>
          <a:xfrm>
            <a:off x="8229600" y="6481800"/>
            <a:ext cx="228600" cy="22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2"/>
          <p:cNvSpPr/>
          <p:nvPr/>
        </p:nvSpPr>
        <p:spPr>
          <a:xfrm>
            <a:off x="304920" y="990720"/>
            <a:ext cx="8534160" cy="5333760"/>
          </a:xfrm>
          <a:prstGeom prst="rect">
            <a:avLst/>
          </a:prstGeom>
          <a:solidFill>
            <a:srgbClr val="0066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WordArt 3"/>
          <p:cNvSpPr txBox="1"/>
          <p:nvPr/>
        </p:nvSpPr>
        <p:spPr>
          <a:xfrm>
            <a:off x="3162240" y="146160"/>
            <a:ext cx="266724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呵护生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24" name="AutoShape 4"/>
          <p:cNvSpPr/>
          <p:nvPr/>
        </p:nvSpPr>
        <p:spPr>
          <a:xfrm>
            <a:off x="4991040" y="990720"/>
            <a:ext cx="381240" cy="5333760"/>
          </a:xfrm>
          <a:custGeom>
            <a:avLst/>
            <a:gdLst>
              <a:gd name="textAreaLeft" fmla="*/ 111960 w 381240"/>
              <a:gd name="textAreaRight" fmla="*/ 381600 w 381240"/>
              <a:gd name="textAreaTop" fmla="*/ 222120 h 5333760"/>
              <a:gd name="textAreaBottom" fmla="*/ 5111640 h 533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Text Box 5"/>
          <p:cNvSpPr/>
          <p:nvPr/>
        </p:nvSpPr>
        <p:spPr>
          <a:xfrm>
            <a:off x="5029200" y="2013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你做过这样的事吗？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Text Box 6"/>
          <p:cNvSpPr/>
          <p:nvPr/>
        </p:nvSpPr>
        <p:spPr>
          <a:xfrm>
            <a:off x="5029200" y="277488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、植物是无声的生命，我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们是不是就可以随便伤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害它们呢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7" name="Picture 7" descr="D:\品德与社会\资源库\课件\四年级上册\美丽的生命\06.png"/>
          <p:cNvPicPr/>
          <p:nvPr/>
        </p:nvPicPr>
        <p:blipFill>
          <a:blip r:embed="rId1"/>
          <a:stretch/>
        </p:blipFill>
        <p:spPr>
          <a:xfrm>
            <a:off x="496800" y="1219320"/>
            <a:ext cx="4303800" cy="487656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8" descr="D:\品德与生活\资源库\课件\品德与生活\二年级下册\鲜艳的红领巾\d.png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8194680" y="6464160"/>
            <a:ext cx="233280" cy="23184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9" descr="D:\品德与生活\资源库\课件\品德与生活\二年级下册\鲜艳的红领巾\c.pn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531280" y="6465960"/>
            <a:ext cx="231840" cy="23004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10" descr="D:\品德与生活\资源库\课件\品德与生活\二年级下册\鲜艳的红领巾\a.png"/>
          <p:cNvPicPr/>
          <p:nvPr/>
        </p:nvPicPr>
        <p:blipFill>
          <a:blip r:embed="rId4"/>
          <a:stretch/>
        </p:blipFill>
        <p:spPr>
          <a:xfrm>
            <a:off x="7862760" y="6469200"/>
            <a:ext cx="228600" cy="22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2"/>
          <p:cNvSpPr/>
          <p:nvPr/>
        </p:nvSpPr>
        <p:spPr>
          <a:xfrm>
            <a:off x="376200" y="990720"/>
            <a:ext cx="8381880" cy="5333760"/>
          </a:xfrm>
          <a:prstGeom prst="rect">
            <a:avLst/>
          </a:prstGeom>
          <a:solidFill>
            <a:srgbClr val="0066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WordArt 3"/>
          <p:cNvSpPr txBox="1"/>
          <p:nvPr/>
        </p:nvSpPr>
        <p:spPr>
          <a:xfrm>
            <a:off x="2990880" y="171360"/>
            <a:ext cx="3200400" cy="6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美丽的生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20" name="Text Box 4"/>
          <p:cNvSpPr/>
          <p:nvPr/>
        </p:nvSpPr>
        <p:spPr>
          <a:xfrm>
            <a:off x="533520" y="1219320"/>
            <a:ext cx="829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同学们，我们生活在一个美丽的世界里。草地上，小草在风中起舞，鲜花在竞相开放；小鸟在树林时歌唱，小朋友们在追逐嬉戏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这就是生命的魅力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1" name="Picture 5" descr="D:\品德与社会\资源库\课件\四年级上册\美丽的生命\02.png"/>
          <p:cNvPicPr/>
          <p:nvPr/>
        </p:nvPicPr>
        <p:blipFill>
          <a:blip r:embed="rId1"/>
          <a:stretch/>
        </p:blipFill>
        <p:spPr>
          <a:xfrm>
            <a:off x="5867280" y="3048120"/>
            <a:ext cx="2373480" cy="32004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6" descr="D:\品德与社会\资源库\课件\四年级上册\美丽的生命\01.jpg"/>
          <p:cNvPicPr/>
          <p:nvPr/>
        </p:nvPicPr>
        <p:blipFill>
          <a:blip r:embed="rId2"/>
          <a:stretch/>
        </p:blipFill>
        <p:spPr>
          <a:xfrm>
            <a:off x="1676520" y="3124080"/>
            <a:ext cx="3276360" cy="30038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623" name="Picture 7" descr="D:\品德与生活\资源库\课件\品德与生活\二年级下册\鲜艳的红领巾\d.png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224920" y="6477120"/>
            <a:ext cx="233280" cy="23148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8" descr="D:\品德与生活\资源库\课件\品德与生活\二年级下册\鲜艳的红领巾\c.png"/>
          <p:cNvPicPr/>
          <p:nvPr/>
        </p:nvPicPr>
        <p:blipFill>
          <a:blip r:embed="rId4"/>
          <a:stretch/>
        </p:blipFill>
        <p:spPr>
          <a:xfrm>
            <a:off x="8531280" y="6478560"/>
            <a:ext cx="231840" cy="2300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304920" y="990720"/>
            <a:ext cx="8534160" cy="5333760"/>
          </a:xfrm>
          <a:prstGeom prst="rect">
            <a:avLst/>
          </a:prstGeom>
          <a:solidFill>
            <a:srgbClr val="0066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WordArt 3"/>
          <p:cNvSpPr txBox="1"/>
          <p:nvPr/>
        </p:nvSpPr>
        <p:spPr>
          <a:xfrm>
            <a:off x="3162240" y="146160"/>
            <a:ext cx="266724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呵护生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33" name="Picture 4" descr="D:\品德与社会\资源库\课件\四年级上册\美丽的生命\07.png"/>
          <p:cNvPicPr/>
          <p:nvPr/>
        </p:nvPicPr>
        <p:blipFill>
          <a:blip r:embed="rId1"/>
          <a:stretch/>
        </p:blipFill>
        <p:spPr>
          <a:xfrm>
            <a:off x="457200" y="1523880"/>
            <a:ext cx="5867280" cy="4410360"/>
          </a:xfrm>
          <a:prstGeom prst="rect">
            <a:avLst/>
          </a:prstGeom>
          <a:ln w="0">
            <a:noFill/>
          </a:ln>
        </p:spPr>
      </p:pic>
      <p:sp>
        <p:nvSpPr>
          <p:cNvPr id="734" name="AutoShape 5"/>
          <p:cNvSpPr/>
          <p:nvPr/>
        </p:nvSpPr>
        <p:spPr>
          <a:xfrm>
            <a:off x="6477120" y="990720"/>
            <a:ext cx="380880" cy="5333760"/>
          </a:xfrm>
          <a:custGeom>
            <a:avLst/>
            <a:gdLst>
              <a:gd name="textAreaLeft" fmla="*/ 111960 w 380880"/>
              <a:gd name="textAreaRight" fmla="*/ 381240 w 380880"/>
              <a:gd name="textAreaTop" fmla="*/ 222120 h 5333760"/>
              <a:gd name="textAreaBottom" fmla="*/ 5111640 h 533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Text Box 6"/>
          <p:cNvSpPr/>
          <p:nvPr/>
        </p:nvSpPr>
        <p:spPr>
          <a:xfrm>
            <a:off x="6629400" y="236232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如果你是小白兔，你想对小主人说些什么呢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6" name="Picture 7" descr="D:\品德与生活\资源库\课件\品德与生活\二年级下册\鲜艳的红领巾\d.png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8194680" y="6464160"/>
            <a:ext cx="233280" cy="23184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8" descr="D:\品德与生活\资源库\课件\品德与生活\二年级下册\鲜艳的红领巾\c.pn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531280" y="6465960"/>
            <a:ext cx="231840" cy="23004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9" descr="D:\品德与生活\资源库\课件\品德与生活\二年级下册\鲜艳的红领巾\a.png"/>
          <p:cNvPicPr/>
          <p:nvPr/>
        </p:nvPicPr>
        <p:blipFill>
          <a:blip r:embed="rId4"/>
          <a:stretch/>
        </p:blipFill>
        <p:spPr>
          <a:xfrm>
            <a:off x="7862760" y="6469200"/>
            <a:ext cx="228600" cy="22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Picture 2" descr="！成材林被砍"/>
          <p:cNvPicPr/>
          <p:nvPr/>
        </p:nvPicPr>
        <p:blipFill>
          <a:blip r:embed="rId1"/>
          <a:stretch/>
        </p:blipFill>
        <p:spPr>
          <a:xfrm>
            <a:off x="3048120" y="2066760"/>
            <a:ext cx="3028680" cy="4457880"/>
          </a:xfrm>
          <a:prstGeom prst="rect">
            <a:avLst/>
          </a:prstGeom>
          <a:ln w="0">
            <a:noFill/>
          </a:ln>
        </p:spPr>
      </p:pic>
      <p:sp>
        <p:nvSpPr>
          <p:cNvPr id="740" name="Text Box 3"/>
          <p:cNvSpPr/>
          <p:nvPr/>
        </p:nvSpPr>
        <p:spPr>
          <a:xfrm>
            <a:off x="3352680" y="146196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7220"/>
                </a:solidFill>
                <a:latin typeface="Times New Roman"/>
                <a:ea typeface="楷体_GB2312"/>
              </a:rPr>
              <a:t>不和谐的音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1" name="Picture 4" descr="02"/>
          <p:cNvPicPr/>
          <p:nvPr/>
        </p:nvPicPr>
        <p:blipFill>
          <a:blip r:embed="rId2"/>
          <a:stretch/>
        </p:blipFill>
        <p:spPr>
          <a:xfrm>
            <a:off x="1143000" y="914400"/>
            <a:ext cx="2435400" cy="60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2" descr="！破坏2"/>
          <p:cNvPicPr/>
          <p:nvPr/>
        </p:nvPicPr>
        <p:blipFill>
          <a:blip r:embed="rId1"/>
          <a:stretch/>
        </p:blipFill>
        <p:spPr>
          <a:xfrm>
            <a:off x="2743200" y="2057400"/>
            <a:ext cx="3610080" cy="4724280"/>
          </a:xfrm>
          <a:prstGeom prst="rect">
            <a:avLst/>
          </a:prstGeom>
          <a:ln w="0">
            <a:noFill/>
          </a:ln>
        </p:spPr>
      </p:pic>
      <p:sp>
        <p:nvSpPr>
          <p:cNvPr id="743" name="Text Box 3"/>
          <p:cNvSpPr/>
          <p:nvPr/>
        </p:nvSpPr>
        <p:spPr>
          <a:xfrm>
            <a:off x="3352680" y="146196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7220"/>
                </a:solidFill>
                <a:latin typeface="Times New Roman"/>
                <a:ea typeface="楷体_GB2312"/>
              </a:rPr>
              <a:t>不和谐的音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4" name="Picture 4" descr="02"/>
          <p:cNvPicPr/>
          <p:nvPr/>
        </p:nvPicPr>
        <p:blipFill>
          <a:blip r:embed="rId2"/>
          <a:stretch/>
        </p:blipFill>
        <p:spPr>
          <a:xfrm>
            <a:off x="1143000" y="914400"/>
            <a:ext cx="2435400" cy="606600"/>
          </a:xfrm>
          <a:prstGeom prst="rect">
            <a:avLst/>
          </a:prstGeom>
          <a:ln w="0">
            <a:noFill/>
          </a:ln>
        </p:spPr>
      </p:pic>
      <p:sp>
        <p:nvSpPr>
          <p:cNvPr id="745" name="文本框 8199"/>
          <p:cNvSpPr/>
          <p:nvPr/>
        </p:nvSpPr>
        <p:spPr>
          <a:xfrm>
            <a:off x="1330200" y="5014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ff"/>
                </a:solidFill>
                <a:uFillTx/>
                <a:latin typeface="Times New Roman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3333ff"/>
                </a:solidFill>
                <a:uFillTx/>
                <a:latin typeface="Times New Roman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Picture 2" descr="！破坏4"/>
          <p:cNvPicPr/>
          <p:nvPr/>
        </p:nvPicPr>
        <p:blipFill>
          <a:blip r:embed="rId1"/>
          <a:stretch/>
        </p:blipFill>
        <p:spPr>
          <a:xfrm>
            <a:off x="2743200" y="2057400"/>
            <a:ext cx="3738600" cy="4419720"/>
          </a:xfrm>
          <a:prstGeom prst="rect">
            <a:avLst/>
          </a:prstGeom>
          <a:ln w="0">
            <a:noFill/>
          </a:ln>
        </p:spPr>
      </p:pic>
      <p:sp>
        <p:nvSpPr>
          <p:cNvPr id="747" name="Text Box 3"/>
          <p:cNvSpPr/>
          <p:nvPr/>
        </p:nvSpPr>
        <p:spPr>
          <a:xfrm>
            <a:off x="3352680" y="146196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7220"/>
                </a:solidFill>
                <a:latin typeface="Times New Roman"/>
                <a:ea typeface="楷体_GB2312"/>
              </a:rPr>
              <a:t>不和谐的音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8" name="Picture 4" descr="02"/>
          <p:cNvPicPr/>
          <p:nvPr/>
        </p:nvPicPr>
        <p:blipFill>
          <a:blip r:embed="rId2"/>
          <a:stretch/>
        </p:blipFill>
        <p:spPr>
          <a:xfrm>
            <a:off x="1143000" y="914400"/>
            <a:ext cx="2435400" cy="60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Picture 2" descr="！爱护动物'"/>
          <p:cNvPicPr/>
          <p:nvPr/>
        </p:nvPicPr>
        <p:blipFill>
          <a:blip r:embed="rId1"/>
          <a:stretch/>
        </p:blipFill>
        <p:spPr>
          <a:xfrm>
            <a:off x="2214720" y="1676520"/>
            <a:ext cx="4713120" cy="4724280"/>
          </a:xfrm>
          <a:prstGeom prst="rect">
            <a:avLst/>
          </a:prstGeom>
          <a:ln w="0">
            <a:noFill/>
          </a:ln>
        </p:spPr>
      </p:pic>
      <p:sp>
        <p:nvSpPr>
          <p:cNvPr id="750" name="AutoShape 3"/>
          <p:cNvSpPr/>
          <p:nvPr/>
        </p:nvSpPr>
        <p:spPr>
          <a:xfrm flipH="1">
            <a:off x="228600" y="2743200"/>
            <a:ext cx="2819520" cy="1600200"/>
          </a:xfrm>
          <a:prstGeom prst="wedgeEllipseCallout">
            <a:avLst>
              <a:gd name="adj1" fmla="val -80462"/>
              <a:gd name="adj2" fmla="val -51393"/>
            </a:avLst>
          </a:prstGeom>
          <a:solidFill>
            <a:srgbClr val="fffedd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37220"/>
                </a:solidFill>
                <a:latin typeface="楷体_GB2312"/>
                <a:ea typeface="楷体_GB2312"/>
              </a:rPr>
              <a:t>　　劝君莫打报春鸟，子在巢中盼母归。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1" name="Picture 4" descr="04"/>
          <p:cNvPicPr/>
          <p:nvPr/>
        </p:nvPicPr>
        <p:blipFill>
          <a:blip r:embed="rId2"/>
          <a:stretch/>
        </p:blipFill>
        <p:spPr>
          <a:xfrm>
            <a:off x="1143000" y="838080"/>
            <a:ext cx="2446200" cy="6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1D36-9DAB-4039-A504-DA35AF52F5C7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2"/>
          <p:cNvSpPr/>
          <p:nvPr/>
        </p:nvSpPr>
        <p:spPr>
          <a:xfrm>
            <a:off x="304920" y="990720"/>
            <a:ext cx="8534160" cy="5333760"/>
          </a:xfrm>
          <a:prstGeom prst="rect">
            <a:avLst/>
          </a:prstGeom>
          <a:solidFill>
            <a:srgbClr val="0066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WordArt 3"/>
          <p:cNvSpPr txBox="1"/>
          <p:nvPr/>
        </p:nvSpPr>
        <p:spPr>
          <a:xfrm>
            <a:off x="3162240" y="146160"/>
            <a:ext cx="266724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呵护生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58" name="Text Box 4"/>
          <p:cNvSpPr/>
          <p:nvPr/>
        </p:nvSpPr>
        <p:spPr>
          <a:xfrm>
            <a:off x="3124080" y="1219320"/>
            <a:ext cx="236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讨 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Text Box 5"/>
          <p:cNvSpPr/>
          <p:nvPr/>
        </p:nvSpPr>
        <p:spPr>
          <a:xfrm>
            <a:off x="762120" y="21970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在生活中，我们应该怎样呵护动植物呢？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0" name="Picture 6" descr="D:\品德与社会\资源库\课件\四年级上册\美丽的生命\01.png"/>
          <p:cNvPicPr/>
          <p:nvPr/>
        </p:nvPicPr>
        <p:blipFill>
          <a:blip r:embed="rId1"/>
          <a:stretch/>
        </p:blipFill>
        <p:spPr>
          <a:xfrm>
            <a:off x="6019920" y="2971800"/>
            <a:ext cx="1784160" cy="320184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7" descr="D:\品德与生活\资源库\课件\品德与生活\二年级下册\鲜艳的红领巾\d.png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8194680" y="6464160"/>
            <a:ext cx="233280" cy="23184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8" descr="D:\品德与生活\资源库\课件\品德与生活\二年级下册\鲜艳的红领巾\a.png"/>
          <p:cNvPicPr/>
          <p:nvPr/>
        </p:nvPicPr>
        <p:blipFill>
          <a:blip r:embed="rId3"/>
          <a:stretch/>
        </p:blipFill>
        <p:spPr>
          <a:xfrm>
            <a:off x="7862760" y="6469200"/>
            <a:ext cx="228600" cy="22680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9" descr="D:\品德与社会\资源库\课件\四年级上册\美丽的生命\b.png"/>
          <p:cNvPicPr/>
          <p:nvPr/>
        </p:nvPicPr>
        <p:blipFill>
          <a:blip r:embed="rId4"/>
          <a:stretch/>
        </p:blipFill>
        <p:spPr>
          <a:xfrm>
            <a:off x="8528040" y="6470640"/>
            <a:ext cx="225360" cy="22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Text Box 3"/>
          <p:cNvSpPr/>
          <p:nvPr/>
        </p:nvSpPr>
        <p:spPr>
          <a:xfrm>
            <a:off x="279360" y="1498680"/>
            <a:ext cx="762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黑体"/>
              </a:rPr>
              <a:t>美丽的生命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7" name="美丽的生命.asf" descr=""/>
          <p:cNvPicPr/>
          <p:nvPr/>
        </p:nvPicPr>
        <p:blipFill>
          <a:blip r:embed="rId1"/>
          <a:stretch/>
        </p:blipFill>
        <p:spPr>
          <a:xfrm>
            <a:off x="1384200" y="152280"/>
            <a:ext cx="7620120" cy="6235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628" name="Picture 5" descr="D:\品德与生活\资源库\课件\品德与生活\二年级下册\鲜艳的红领巾\a.png"/>
          <p:cNvPicPr/>
          <p:nvPr/>
        </p:nvPicPr>
        <p:blipFill>
          <a:blip r:embed="rId2"/>
          <a:stretch/>
        </p:blipFill>
        <p:spPr>
          <a:xfrm>
            <a:off x="8470800" y="6515280"/>
            <a:ext cx="228600" cy="2268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6" descr="D:\品德与生活\资源库\课件\品德与生活\二年级下册\鲜艳的红领巾\c.pn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772480" y="6516720"/>
            <a:ext cx="231840" cy="23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2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2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6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矩形 8"/>
          <p:cNvSpPr/>
          <p:nvPr/>
        </p:nvSpPr>
        <p:spPr>
          <a:xfrm>
            <a:off x="1393920" y="213048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Rectangle 2"/>
          <p:cNvSpPr/>
          <p:nvPr/>
        </p:nvSpPr>
        <p:spPr>
          <a:xfrm>
            <a:off x="376200" y="990720"/>
            <a:ext cx="8381880" cy="5333760"/>
          </a:xfrm>
          <a:prstGeom prst="rect">
            <a:avLst/>
          </a:prstGeom>
          <a:solidFill>
            <a:srgbClr val="0066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WordArt 3"/>
          <p:cNvSpPr txBox="1"/>
          <p:nvPr/>
        </p:nvSpPr>
        <p:spPr>
          <a:xfrm>
            <a:off x="2990880" y="171360"/>
            <a:ext cx="3200400" cy="6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生活中的生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3" name="Text Box 4"/>
          <p:cNvSpPr/>
          <p:nvPr/>
        </p:nvSpPr>
        <p:spPr>
          <a:xfrm>
            <a:off x="838080" y="15238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同学们，请你说一说，你在校园、街道、公园、森林里都见过哪些生命呢？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4" name="Picture 5" descr="D:\品德与社会\资源库\课件\四年级上册\美丽的生命\02.png"/>
          <p:cNvPicPr/>
          <p:nvPr/>
        </p:nvPicPr>
        <p:blipFill>
          <a:blip r:embed="rId1"/>
          <a:stretch/>
        </p:blipFill>
        <p:spPr>
          <a:xfrm>
            <a:off x="5791320" y="2362320"/>
            <a:ext cx="2712960" cy="365760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6" descr="D:\品德与生活\资源库\课件\品德与生活\二年级下册\鲜艳的红领巾\d.png"/>
          <p:cNvPicPr/>
          <p:nvPr/>
        </p:nvPicPr>
        <p:blipFill>
          <a:blip r:embed="rId2"/>
          <a:stretch/>
        </p:blipFill>
        <p:spPr>
          <a:xfrm>
            <a:off x="8224920" y="6477120"/>
            <a:ext cx="233280" cy="23148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7" descr="D:\品德与生活\资源库\课件\品德与生活\二年级下册\鲜艳的红领巾\c.png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531280" y="6478560"/>
            <a:ext cx="231840" cy="230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3397320" y="1461960"/>
            <a:ext cx="254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7220"/>
                </a:solidFill>
                <a:latin typeface="Times New Roman"/>
                <a:ea typeface="楷体_GB2312"/>
              </a:rPr>
              <a:t>我看到的生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8" name="Picture 3" descr="03"/>
          <p:cNvPicPr/>
          <p:nvPr/>
        </p:nvPicPr>
        <p:blipFill>
          <a:blip r:embed="rId1"/>
          <a:stretch/>
        </p:blipFill>
        <p:spPr>
          <a:xfrm>
            <a:off x="1123920" y="914400"/>
            <a:ext cx="2422440" cy="63972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4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52480" y="2095560"/>
            <a:ext cx="5639040" cy="4228920"/>
          </a:xfrm>
          <a:prstGeom prst="rect">
            <a:avLst/>
          </a:prstGeom>
          <a:ln w="0">
            <a:noFill/>
          </a:ln>
        </p:spPr>
      </p:pic>
      <p:pic>
        <p:nvPicPr>
          <p:cNvPr id="640" name="sound1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640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640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5308" fill="hold"/>
                                        <p:tgtEl>
                                          <p:spTgt spid="6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6600"/>
                </a:solidFill>
                <a:latin typeface="Times New Roman"/>
              </a:rPr>
              <a:t>     </a:t>
            </a:r>
            <a:r>
              <a:rPr b="1" lang="zh-CN" sz="6600" spc="-1" strike="noStrike">
                <a:solidFill>
                  <a:srgbClr val="006600"/>
                </a:solidFill>
                <a:latin typeface="Times New Roman"/>
              </a:rPr>
              <a:t>地球上的动物有</a:t>
            </a:r>
            <a:r>
              <a:rPr b="1" lang="en-US" sz="6600" spc="-1" strike="noStrike">
                <a:solidFill>
                  <a:srgbClr val="006600"/>
                </a:solidFill>
                <a:latin typeface="Times New Roman"/>
              </a:rPr>
              <a:t>150</a:t>
            </a:r>
            <a:r>
              <a:rPr b="1" lang="zh-CN" sz="6600" spc="-1" strike="noStrike">
                <a:solidFill>
                  <a:srgbClr val="006600"/>
                </a:solidFill>
                <a:latin typeface="Times New Roman"/>
              </a:rPr>
              <a:t>多万种，植物有</a:t>
            </a:r>
            <a:r>
              <a:rPr b="1" lang="en-US" sz="6600" spc="-1" strike="noStrike">
                <a:solidFill>
                  <a:srgbClr val="006600"/>
                </a:solidFill>
                <a:latin typeface="Times New Roman"/>
              </a:rPr>
              <a:t>40</a:t>
            </a:r>
            <a:r>
              <a:rPr b="1" lang="zh-CN" sz="6600" spc="-1" strike="noStrike">
                <a:solidFill>
                  <a:srgbClr val="006600"/>
                </a:solidFill>
                <a:latin typeface="Times New Roman"/>
              </a:rPr>
              <a:t>多万种 。</a:t>
            </a:r>
            <a:endParaRPr b="0" lang="en-US" sz="66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Picture 2" descr="Untitled-1 cop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739880"/>
            <a:ext cx="6410160" cy="428004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3" descr="01"/>
          <p:cNvPicPr/>
          <p:nvPr/>
        </p:nvPicPr>
        <p:blipFill>
          <a:blip r:embed="rId3"/>
          <a:stretch/>
        </p:blipFill>
        <p:spPr>
          <a:xfrm>
            <a:off x="1101600" y="914400"/>
            <a:ext cx="2479680" cy="549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2"/>
          <p:cNvSpPr/>
          <p:nvPr/>
        </p:nvSpPr>
        <p:spPr>
          <a:xfrm>
            <a:off x="376200" y="990720"/>
            <a:ext cx="8381880" cy="5333760"/>
          </a:xfrm>
          <a:prstGeom prst="rect">
            <a:avLst/>
          </a:prstGeom>
          <a:solidFill>
            <a:srgbClr val="0066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WordArt 3"/>
          <p:cNvSpPr txBox="1"/>
          <p:nvPr/>
        </p:nvSpPr>
        <p:spPr>
          <a:xfrm>
            <a:off x="3149640" y="171360"/>
            <a:ext cx="274320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表现生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685800" y="14479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请同学们拿起画笔，勾画一幅展示美丽的生命的图画，比一比谁的想象力丰富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8" name="Picture 5" descr="D:\品德与社会\资源库\课件\四年级上册\美丽的生命\02.png"/>
          <p:cNvPicPr/>
          <p:nvPr/>
        </p:nvPicPr>
        <p:blipFill>
          <a:blip r:embed="rId1"/>
          <a:stretch/>
        </p:blipFill>
        <p:spPr>
          <a:xfrm>
            <a:off x="5527800" y="2590920"/>
            <a:ext cx="2712960" cy="36576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6" descr="D:\品德与社会\资源库\课件\四年级上册\美丽的生命\03.png"/>
          <p:cNvPicPr/>
          <p:nvPr/>
        </p:nvPicPr>
        <p:blipFill>
          <a:blip r:embed="rId2"/>
          <a:stretch/>
        </p:blipFill>
        <p:spPr>
          <a:xfrm>
            <a:off x="609480" y="3505320"/>
            <a:ext cx="3657600" cy="244476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7" descr="D:\品德与生活\资源库\课件\品德与生活\二年级下册\鲜艳的红领巾\d.png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8224920" y="6477120"/>
            <a:ext cx="233280" cy="2314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8" descr="D:\品德与生活\资源库\课件\品德与生活\二年级下册\鲜艳的红领巾\c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531280" y="6478560"/>
            <a:ext cx="231840" cy="230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2"/>
          <p:cNvSpPr/>
          <p:nvPr/>
        </p:nvSpPr>
        <p:spPr>
          <a:xfrm>
            <a:off x="1042920" y="1557360"/>
            <a:ext cx="777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6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假如有一天，所有的生命都消失了，世界将会怎样？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3" name="Picture 3" descr="02"/>
          <p:cNvPicPr/>
          <p:nvPr/>
        </p:nvPicPr>
        <p:blipFill>
          <a:blip r:embed="rId1"/>
          <a:stretch/>
        </p:blipFill>
        <p:spPr>
          <a:xfrm>
            <a:off x="1042920" y="1052640"/>
            <a:ext cx="27370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2T12:53:2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9:55Z</dcterms:modified>
  <cp:revision>7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NXTAG2">
    <vt:lpwstr>0008006414000000000001024120</vt:lpwstr>
  </property>
</Properties>
</file>