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11077575" cy="16325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F38-0E96-4EB7-BF88-247A0F64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6064-FBAE-4ACF-98B8-CBA033ED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8033-B023-4808-AF00-151C980D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007-4506-48D3-9DB4-C3D2CABB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7B3A-CFF6-412C-8C93-1BE516F7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B09F-5D83-45C7-9699-8B723D23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25E9-F888-4A56-802C-D2449ED7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236A-A473-428B-B1C7-51041C41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DFE1-07E1-44A5-9DFD-51AC2FAC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3000" y="143640"/>
            <a:ext cx="7772400" cy="66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0065-2B01-43A5-A2A9-D92CE1C9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4835-8C08-42B5-8013-618D9428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BB2-B0A1-4FEE-8341-DB9E3E26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D3C9-DDE7-4E75-A2E7-DDAFFB67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B4D7-FD38-4C34-9D8D-B0821EE8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4B48-A4C8-4A3C-90E2-92996F37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20D1-66CC-4C8B-BF3D-60295768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0002-3A8C-4EF3-AF67-02356A08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4D635-E61B-42D8-9A90-28215DBC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76439-CB7C-4B26-8242-23ED18D7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D861F-F2E8-4EB0-BD26-AE6A7A84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DFC17-9E55-4AAB-AF20-3FCFE1C2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176F0-0B7B-4AB4-8467-9358EBF3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6C9-7161-4504-B923-6D218E64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143000" y="143640"/>
            <a:ext cx="7772400" cy="66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7D02B-4C21-49E9-B3A3-31EAD68F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4B4D2-54BF-4F26-A2C2-B525E269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8202A-8059-4C5F-A0AA-25145A40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A65D9-737D-42AF-A922-6E9CA52E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5A696-637C-4667-BA3A-9432402D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2AD85-93CB-4148-A46D-4551CA2D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40947-83B0-46CF-8B84-FC151C10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A686-2979-43D6-A9C0-25E5F642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877-7F99-40C0-8313-CFC08F8B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3640"/>
            <a:ext cx="7772400" cy="66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4B9-B433-47F6-A28E-FF1CC627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2D9-E900-4F97-A7B7-E9A5146E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D82-471F-4CF9-8093-300EF521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8AE-7CC2-45CF-B196-372916FF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2280" y="313920"/>
            <a:ext cx="847800" cy="6543720"/>
            <a:chOff x="152280" y="313920"/>
            <a:chExt cx="84780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7440" y="50500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2120" y="5991480"/>
              <a:ext cx="885960" cy="846000"/>
            </a:xfrm>
            <a:prstGeom prst="parallelogram">
              <a:avLst>
                <a:gd name="adj" fmla="val 5545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7440" y="127512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7440" y="22212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5" y="0"/>
                </a:lnTo>
                <a:lnTo>
                  <a:pt x="21600" y="10800"/>
                </a:lnTo>
                <a:lnTo>
                  <a:pt x="212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8880" cy="6858000"/>
            <a:chOff x="150840" y="0"/>
            <a:chExt cx="84888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6000" y="3634200"/>
              <a:ext cx="895320" cy="842760"/>
            </a:xfrm>
            <a:prstGeom prst="parallelogram">
              <a:avLst>
                <a:gd name="adj" fmla="val 5625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5280" y="4578120"/>
              <a:ext cx="896760" cy="842760"/>
            </a:xfrm>
            <a:prstGeom prst="parallelogram">
              <a:avLst>
                <a:gd name="adj" fmla="val 5634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4560" y="5520240"/>
              <a:ext cx="895320" cy="842760"/>
            </a:xfrm>
            <a:prstGeom prst="parallelogram">
              <a:avLst>
                <a:gd name="adj" fmla="val 5625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4920" y="803160"/>
              <a:ext cx="897120" cy="842760"/>
            </a:xfrm>
            <a:prstGeom prst="parallelogram">
              <a:avLst>
                <a:gd name="adj" fmla="val 56369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4560" y="1745280"/>
              <a:ext cx="895320" cy="842760"/>
            </a:xfrm>
            <a:prstGeom prst="parallelogram">
              <a:avLst>
                <a:gd name="adj" fmla="val 5625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4560" y="2691360"/>
              <a:ext cx="895320" cy="842760"/>
            </a:xfrm>
            <a:prstGeom prst="parallelogram">
              <a:avLst>
                <a:gd name="adj" fmla="val 5625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8400" y="0"/>
              <a:ext cx="84132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3720" y="6445080"/>
              <a:ext cx="72252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8EA1-0D03-4F6D-9304-1590ABBDE95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9139-B9AC-445C-B6DA-FB5670D342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Group 24"/>
          <p:cNvGrpSpPr/>
          <p:nvPr/>
        </p:nvGrpSpPr>
        <p:grpSpPr>
          <a:xfrm>
            <a:off x="150840" y="0"/>
            <a:ext cx="848880" cy="6858000"/>
            <a:chOff x="150840" y="0"/>
            <a:chExt cx="848880" cy="6858000"/>
          </a:xfrm>
        </p:grpSpPr>
        <p:sp>
          <p:nvSpPr>
            <p:cNvPr id="108" name="AutoShape 25"/>
            <p:cNvSpPr/>
            <p:nvPr/>
          </p:nvSpPr>
          <p:spPr>
            <a:xfrm rot="16200000">
              <a:off x="126000" y="3634200"/>
              <a:ext cx="895320" cy="842760"/>
            </a:xfrm>
            <a:prstGeom prst="parallelogram">
              <a:avLst>
                <a:gd name="adj" fmla="val 5625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AutoShape 26"/>
            <p:cNvSpPr/>
            <p:nvPr/>
          </p:nvSpPr>
          <p:spPr>
            <a:xfrm rot="16200000">
              <a:off x="125280" y="4578120"/>
              <a:ext cx="896760" cy="842760"/>
            </a:xfrm>
            <a:prstGeom prst="parallelogram">
              <a:avLst>
                <a:gd name="adj" fmla="val 5634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AutoShape 27"/>
            <p:cNvSpPr/>
            <p:nvPr/>
          </p:nvSpPr>
          <p:spPr>
            <a:xfrm rot="16200000">
              <a:off x="124560" y="5520240"/>
              <a:ext cx="895320" cy="842760"/>
            </a:xfrm>
            <a:prstGeom prst="parallelogram">
              <a:avLst>
                <a:gd name="adj" fmla="val 5625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AutoShape 28"/>
            <p:cNvSpPr/>
            <p:nvPr/>
          </p:nvSpPr>
          <p:spPr>
            <a:xfrm rot="16200000">
              <a:off x="124920" y="803160"/>
              <a:ext cx="897120" cy="842760"/>
            </a:xfrm>
            <a:prstGeom prst="parallelogram">
              <a:avLst>
                <a:gd name="adj" fmla="val 56369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AutoShape 29"/>
            <p:cNvSpPr/>
            <p:nvPr/>
          </p:nvSpPr>
          <p:spPr>
            <a:xfrm rot="16200000">
              <a:off x="124560" y="1745280"/>
              <a:ext cx="895320" cy="842760"/>
            </a:xfrm>
            <a:prstGeom prst="parallelogram">
              <a:avLst>
                <a:gd name="adj" fmla="val 5625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AutoShape 30"/>
            <p:cNvSpPr/>
            <p:nvPr/>
          </p:nvSpPr>
          <p:spPr>
            <a:xfrm rot="16200000">
              <a:off x="124560" y="2691360"/>
              <a:ext cx="895320" cy="842760"/>
            </a:xfrm>
            <a:prstGeom prst="parallelogram">
              <a:avLst>
                <a:gd name="adj" fmla="val 5625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31"/>
            <p:cNvSpPr/>
            <p:nvPr/>
          </p:nvSpPr>
          <p:spPr>
            <a:xfrm>
              <a:off x="158400" y="0"/>
              <a:ext cx="84132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32"/>
            <p:cNvSpPr/>
            <p:nvPr/>
          </p:nvSpPr>
          <p:spPr>
            <a:xfrm>
              <a:off x="153720" y="6445080"/>
              <a:ext cx="72252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152280" y="313920"/>
            <a:ext cx="847800" cy="6543720"/>
            <a:chOff x="152280" y="313920"/>
            <a:chExt cx="847800" cy="6543720"/>
          </a:xfrm>
        </p:grpSpPr>
        <p:sp>
          <p:nvSpPr>
            <p:cNvPr id="122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 flipH="1" rot="5400000">
              <a:off x="127440" y="50500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 flipH="1" rot="5400000">
              <a:off x="132120" y="5991480"/>
              <a:ext cx="885960" cy="846000"/>
            </a:xfrm>
            <a:prstGeom prst="parallelogram">
              <a:avLst>
                <a:gd name="adj" fmla="val 5545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AutoShape 16"/>
            <p:cNvSpPr/>
            <p:nvPr/>
          </p:nvSpPr>
          <p:spPr>
            <a:xfrm flipH="1" rot="5400000">
              <a:off x="127440" y="127512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AutoShape 17"/>
            <p:cNvSpPr/>
            <p:nvPr/>
          </p:nvSpPr>
          <p:spPr>
            <a:xfrm flipH="1" rot="5400000">
              <a:off x="127440" y="22212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5" y="0"/>
                </a:lnTo>
                <a:lnTo>
                  <a:pt x="21600" y="10800"/>
                </a:lnTo>
                <a:lnTo>
                  <a:pt x="212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7720-86BD-40F9-B433-A52B23478470}" type="slidenum">
              <a: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矩形 4" descr=""/>
          <p:cNvPicPr/>
          <p:nvPr/>
        </p:nvPicPr>
        <p:blipFill>
          <a:blip r:embed="rId1"/>
          <a:stretch/>
        </p:blipFill>
        <p:spPr>
          <a:xfrm>
            <a:off x="1355760" y="917640"/>
            <a:ext cx="6784920" cy="70164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三、木兰诗中的动物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马的配具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2" name="Picture 4" descr="h"/>
          <p:cNvPicPr/>
          <p:nvPr/>
        </p:nvPicPr>
        <p:blipFill>
          <a:blip r:embed="rId1"/>
          <a:stretch/>
        </p:blipFill>
        <p:spPr>
          <a:xfrm>
            <a:off x="3276720" y="1752480"/>
            <a:ext cx="5638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dur="indefinite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dur="indefinite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三、木兰诗中的动物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(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骆驼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6" name="Picture 4" descr="單峰駱駝"/>
          <p:cNvPicPr/>
          <p:nvPr/>
        </p:nvPicPr>
        <p:blipFill>
          <a:blip r:embed="rId1"/>
          <a:stretch/>
        </p:blipFill>
        <p:spPr>
          <a:xfrm>
            <a:off x="1219320" y="2057400"/>
            <a:ext cx="3657600" cy="3962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雙峰駱駝"/>
          <p:cNvPicPr/>
          <p:nvPr/>
        </p:nvPicPr>
        <p:blipFill>
          <a:blip r:embed="rId2"/>
          <a:stretch/>
        </p:blipFill>
        <p:spPr>
          <a:xfrm>
            <a:off x="5029200" y="19810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四、木兰诗中的地理环境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1.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关山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1" name="Picture 1028" descr="第四1"/>
          <p:cNvPicPr/>
          <p:nvPr/>
        </p:nvPicPr>
        <p:blipFill>
          <a:blip r:embed="rId1"/>
          <a:stretch/>
        </p:blipFill>
        <p:spPr>
          <a:xfrm>
            <a:off x="2895480" y="2014560"/>
            <a:ext cx="62485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dur="indefinite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四、木兰诗中的地理环境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2.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黄河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.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黑山：山名，在河北省北部。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4.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燕山：从河北省蓟县北方绵延到辽西的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燕山山脉。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dur="indefinite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dur="indefinite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500"/>
                            </p:stCondLst>
                            <p:childTnLst>
                              <p:par>
                                <p:cTn id="288" dur="indefinite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五、北朝的生活用品简介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1.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阁楼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8" name="Picture 4" descr="古樓閣"/>
          <p:cNvPicPr/>
          <p:nvPr/>
        </p:nvPicPr>
        <p:blipFill>
          <a:blip r:embed="rId1"/>
          <a:stretch/>
        </p:blipFill>
        <p:spPr>
          <a:xfrm>
            <a:off x="2743200" y="1981080"/>
            <a:ext cx="6095880" cy="449604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8200"/>
          <p:cNvSpPr/>
          <p:nvPr/>
        </p:nvSpPr>
        <p:spPr>
          <a:xfrm>
            <a:off x="3564000" y="2060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66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dur="indefinite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五、北朝的生活用品简介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、男女服装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3" name="Picture 4" descr="二組7"/>
          <p:cNvPicPr/>
          <p:nvPr/>
        </p:nvPicPr>
        <p:blipFill>
          <a:blip r:embed="rId1"/>
          <a:stretch/>
        </p:blipFill>
        <p:spPr>
          <a:xfrm>
            <a:off x="5029200" y="2133720"/>
            <a:ext cx="4114800" cy="4495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二組6"/>
          <p:cNvPicPr/>
          <p:nvPr/>
        </p:nvPicPr>
        <p:blipFill>
          <a:blip r:embed="rId2"/>
          <a:stretch/>
        </p:blipFill>
        <p:spPr>
          <a:xfrm>
            <a:off x="1143000" y="274320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dur="indefinite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DBF3-3DC2-4703-898D-E462ECF012D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五、北朝的生活用品简介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116000" y="1916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3.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兵器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42" name="Picture 4" descr="二組8"/>
          <p:cNvPicPr/>
          <p:nvPr/>
        </p:nvPicPr>
        <p:blipFill>
          <a:blip r:embed="rId1"/>
          <a:stretch/>
        </p:blipFill>
        <p:spPr>
          <a:xfrm>
            <a:off x="2743200" y="2049480"/>
            <a:ext cx="609588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dur="indefinite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8"/>
          <p:cNvSpPr/>
          <p:nvPr/>
        </p:nvSpPr>
        <p:spPr>
          <a:xfrm>
            <a:off x="5724360" y="299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PMingLiU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669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一、木兰诗结构分析图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430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1.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原因：第一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(1)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引子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(2)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代父从军的原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2.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离乡：第二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(1)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装备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(2)</a:t>
            </a: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出征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8" name="Picture 17" descr="c36"/>
          <p:cNvPicPr/>
          <p:nvPr/>
        </p:nvPicPr>
        <p:blipFill>
          <a:blip r:embed="rId1"/>
          <a:stretch/>
        </p:blipFill>
        <p:spPr>
          <a:xfrm>
            <a:off x="5192640" y="2209680"/>
            <a:ext cx="372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dur="indefinite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dur="indefinite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dur="indefinite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dur="indefinite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dur="indefinite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5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一、木兰诗结构分析图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3.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征程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第三段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(1)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行军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(2)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军中生活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(3)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凯归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4.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封赏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第四段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(1)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朝天子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(2)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厚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(3)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心愿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2" name="Picture 11" descr="BD05489_"/>
          <p:cNvPicPr/>
          <p:nvPr/>
        </p:nvPicPr>
        <p:blipFill>
          <a:blip r:embed="rId1"/>
          <a:stretch/>
        </p:blipFill>
        <p:spPr>
          <a:xfrm>
            <a:off x="4572000" y="2590920"/>
            <a:ext cx="43434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5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一、木蘭詩結構分析圖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5.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榮歸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第五段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(1)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家人的歡欣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(2)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木蘭之喜悅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(3)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真相大白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6.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結語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0" lang="zh-TW" sz="2800" spc="-1" strike="noStrike">
                <a:solidFill>
                  <a:srgbClr val="ffffff"/>
                </a:solidFill>
                <a:latin typeface="Arial Black"/>
              </a:rPr>
              <a:t>第六段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6" name="Picture 17" descr="兔子"/>
          <p:cNvPicPr/>
          <p:nvPr/>
        </p:nvPicPr>
        <p:blipFill>
          <a:blip r:embed="rId1"/>
          <a:stretch/>
        </p:blipFill>
        <p:spPr>
          <a:xfrm>
            <a:off x="4648320" y="4444920"/>
            <a:ext cx="3333600" cy="2217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1" descr="SO01827_"/>
          <p:cNvPicPr/>
          <p:nvPr/>
        </p:nvPicPr>
        <p:blipFill>
          <a:blip r:embed="rId2"/>
          <a:stretch/>
        </p:blipFill>
        <p:spPr>
          <a:xfrm flipH="1">
            <a:off x="5410080" y="1752480"/>
            <a:ext cx="3733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二、木兰诗中相关文物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(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机杼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1" name="Picture 4" descr="杼"/>
          <p:cNvPicPr/>
          <p:nvPr/>
        </p:nvPicPr>
        <p:blipFill>
          <a:blip r:embed="rId1"/>
          <a:stretch/>
        </p:blipFill>
        <p:spPr>
          <a:xfrm>
            <a:off x="1143000" y="1955880"/>
            <a:ext cx="723888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二、木兰诗中相关文物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(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织布机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) 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5" name="Picture 5" descr="織布機"/>
          <p:cNvPicPr/>
          <p:nvPr/>
        </p:nvPicPr>
        <p:blipFill>
          <a:blip r:embed="rId1"/>
          <a:stretch/>
        </p:blipFill>
        <p:spPr>
          <a:xfrm>
            <a:off x="1143000" y="1828800"/>
            <a:ext cx="7696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dur="indefinite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二、木兰诗中相关文物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(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金柝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9" name="Picture 4" descr="金柝"/>
          <p:cNvPicPr/>
          <p:nvPr/>
        </p:nvPicPr>
        <p:blipFill>
          <a:blip r:embed="rId1"/>
          <a:stretch/>
        </p:blipFill>
        <p:spPr>
          <a:xfrm>
            <a:off x="1219320" y="2057400"/>
            <a:ext cx="746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二、木兰诗中相关文物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(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铁衣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1)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3" name="Picture 4" descr="鐵衣1"/>
          <p:cNvPicPr/>
          <p:nvPr/>
        </p:nvPicPr>
        <p:blipFill>
          <a:blip r:embed="rId1"/>
          <a:stretch/>
        </p:blipFill>
        <p:spPr>
          <a:xfrm>
            <a:off x="1295280" y="205740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鐵衣2"/>
          <p:cNvPicPr/>
          <p:nvPr/>
        </p:nvPicPr>
        <p:blipFill>
          <a:blip r:embed="rId2"/>
          <a:stretch/>
        </p:blipFill>
        <p:spPr>
          <a:xfrm>
            <a:off x="5257800" y="2057400"/>
            <a:ext cx="3886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dur="indefinite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二、木兰诗中相关文物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(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铁衣</a:t>
            </a: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2)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8" name="Picture 4" descr="630"/>
          <p:cNvPicPr/>
          <p:nvPr/>
        </p:nvPicPr>
        <p:blipFill>
          <a:blip r:embed="rId1"/>
          <a:stretch/>
        </p:blipFill>
        <p:spPr>
          <a:xfrm>
            <a:off x="1447920" y="1752480"/>
            <a:ext cx="7162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4T02:18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34Z</dcterms:modified>
  <cp:revision>5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