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8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8.png" ContentType="image/png"/>
  <Override PartName="/ppt/media/image1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9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13.gif" ContentType="image/gif"/>
  <Override PartName="/ppt/media/image16.png" ContentType="image/png"/>
  <Override PartName="/ppt/media/image31.png" ContentType="image/png"/>
  <Override PartName="/ppt/media/image6.png" ContentType="image/png"/>
  <Override PartName="/ppt/media/image9.png" ContentType="image/png"/>
  <Override PartName="/ppt/media/image38.jpeg" ContentType="image/jpeg"/>
  <Override PartName="/ppt/media/image33.jpeg" ContentType="image/jpeg"/>
  <Override PartName="/ppt/media/explode.wav" ContentType="audio/x-wav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7BF-F89B-49E3-B3F9-3739060B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F1F-2090-4559-B04F-45A1DD51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F81-43AC-4D06-BF1A-0095A692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D44-8C40-42AB-BF38-A381969B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AD42-BDC0-47BC-BFBA-C3BDDA96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8BDE-2D60-4A8B-908F-8AA54FC9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7D17-B6FF-4A99-9643-60DC4FB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A650-7E51-481E-B228-71FE7321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BED2-4649-4164-8A9C-05AE2703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EDD7-CD8B-41CF-A3F5-2BFB4B8B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967B-9E10-4664-9061-6868815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75D-8814-4C83-B74A-9F3EE2D7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EDBC-930F-426E-8A8D-CDEDD791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5B18-9061-4248-BBEF-CE9E5A1A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9B65-40BE-4021-98FA-0FF37D22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E27E-58D0-4722-91D1-6C8E6076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628F-DF24-4FA9-9E9F-882833F5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A3C5-7894-4E44-9676-F8A2D2AA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4D2B-9530-4426-82FE-7D2D7A3C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71FAC-B07A-40D8-B262-BEEFBD63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D3BF-C5C8-415A-93E8-238D7F90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36CFC-66AB-4C7F-9F69-3888C61B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494-22C0-4B6F-AA62-AE6422F5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B6F2-0FA6-4D38-B764-7D04E03A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0E79-E533-4F92-A235-67B42F73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D0EDE-301A-4D46-AFBE-1E9E0F09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5E19-154F-4ACA-B777-DC8CDF57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55CC-E915-4D46-83C1-6517F2B0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311C-D5C3-4134-B467-B142DE74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05F6-DEB9-4C2C-A2DE-158C2C6A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DE83D-3FB1-4E81-8F4C-8AB60565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D15E-AA93-49DC-A3B5-0660309E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387D-C9B0-4C94-B9CB-1C61CEED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3BC-D460-4497-8253-F34395CD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C828A-7D7A-4B0C-96EE-E89ED685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464A8-A00F-4068-A56F-7CE8156F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71260-FF3F-4B4B-83BF-6347B6B0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7AC1-3D17-46CA-B5FF-A286C648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5F74-37E8-4A8B-BCAB-E9650D78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FFEF-B4A8-4B07-9FE2-483E8396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6EA5-C8FF-4638-B2AE-CFD3199F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8159D-B277-46DA-B094-FD698A54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B70D-F974-45D0-899B-388D8FAC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F0137-F350-4C29-B6F2-4352EAF2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A2A-C042-427E-AA72-83C0DC45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D736-A9F8-4C84-AEBE-6B9E9C02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99FA-80BA-4A92-AF63-1D1F0D50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6F064-102A-40D8-B8EE-C5FF994A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B49E5-5DA4-4329-BB81-3DFF1703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41AFD-7273-418C-8625-D506B766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78AB5-3075-43DA-B527-304CFB7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B6927-44A8-47EC-82B5-886E80F1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53C7F-E1B4-425B-AFCF-4B033F1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9B55F-EBB2-4958-BFF7-18C71E79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BDCF2-BC39-48CD-BAD3-F2B65943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AD1-EB75-47F4-A000-6C05348F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6FA02-3710-4BC4-8AC6-6141C6F3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A9C-A217-474E-9653-BB4BDC14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615-3E84-4EF0-B420-BF90B3D8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E93-8783-40DA-8F49-7176FB9E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C90D-F9AB-4390-9FDA-8C69F451A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9C20-F4EC-4830-B34A-387196DB4A5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48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B030-A2EC-4791-8C1F-A90BDA9861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FC40-7B2D-40F2-AAD4-67B0D0062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170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9FC6-FBB0-4287-8873-77C5E6E5C8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nmch.gov.cn/gb/collections/show2.jsp?id=4658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26.jpeg"/><Relationship Id="rId4" Type="http://schemas.openxmlformats.org/officeDocument/2006/relationships/hyperlink" Target="../../../&#21382;&#21490;&#25945;&#23398;/&#20044;&#24066;12&#20013;&#26417;&#34174;/2006030513125016705.avi" TargetMode="External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368280" y="1620720"/>
            <a:ext cx="708660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明清经济的发展与闭关锁国课件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1" descr="29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5"/>
          <p:cNvSpPr/>
          <p:nvPr/>
        </p:nvSpPr>
        <p:spPr>
          <a:xfrm>
            <a:off x="380880" y="228600"/>
            <a:ext cx="3657600" cy="609480"/>
          </a:xfrm>
          <a:prstGeom prst="flowChartDecision">
            <a:avLst/>
          </a:prstGeom>
          <a:solidFill>
            <a:srgbClr val="ffcc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工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1676520"/>
            <a:ext cx="1295280" cy="5205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棉织业</a:t>
            </a:r>
            <a:r>
              <a:rPr b="1" lang="zh-CN" sz="2800" spc="-1" strike="noStrike">
                <a:solidFill>
                  <a:srgbClr val="66cc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2209680" y="15238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代从南方推向北方，南北方都涌现出一批棉纺织业基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62120" y="3048120"/>
            <a:ext cx="1295280" cy="52056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丝织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2133720" y="2819520"/>
            <a:ext cx="431640" cy="1150920"/>
          </a:xfrm>
          <a:custGeom>
            <a:avLst/>
            <a:gdLst>
              <a:gd name="textAreaLeft" fmla="*/ 275760 w 431640"/>
              <a:gd name="textAreaRight" fmla="*/ 432000 w 431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290400" y="26668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苏州是明代的丝织业中心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218400" y="3124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京的丝织业后来居上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514600" y="3581280"/>
            <a:ext cx="483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代时已拥有三万多台织机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762120" y="4419720"/>
            <a:ext cx="1447560" cy="52056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制瓷业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4236480" y="4478400"/>
            <a:ext cx="5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景德镇是全国的制瓷中心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6400800" y="4572000"/>
            <a:ext cx="1152360" cy="459720"/>
          </a:xfrm>
          <a:prstGeom prst="rect">
            <a:avLst/>
          </a:prstGeom>
          <a:solidFill>
            <a:srgbClr val="ff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青花瓷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952880" y="2743200"/>
            <a:ext cx="4191120" cy="1368360"/>
          </a:xfrm>
          <a:prstGeom prst="wedgeRoundRectCallout">
            <a:avLst>
              <a:gd name="adj1" fmla="val -10907"/>
              <a:gd name="adj2" fmla="val 80162"/>
              <a:gd name="adj3" fmla="val 16667"/>
            </a:avLst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开始于宋代，成熟于元代的青花瓷，明朝已达极盛。清代质量最好的青花瓷，则是康熙年间的民窑产品，有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五彩青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之称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Oval 18"/>
          <p:cNvSpPr/>
          <p:nvPr/>
        </p:nvSpPr>
        <p:spPr>
          <a:xfrm>
            <a:off x="838080" y="5105520"/>
            <a:ext cx="7315200" cy="1218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手工业的发展总体特征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>
            <a:off x="2362320" y="5715000"/>
            <a:ext cx="3886200" cy="609480"/>
          </a:xfrm>
          <a:prstGeom prst="flowChartAlternateProcess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水平高、规模大、基地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"/>
                            </p:stCondLst>
                            <p:childTnLst>
                              <p:par>
                                <p:cTn id="25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"/>
                            </p:stCondLst>
                            <p:childTnLst>
                              <p:par>
                                <p:cTn id="26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86160" cy="32004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"/>
          <p:cNvSpPr/>
          <p:nvPr/>
        </p:nvSpPr>
        <p:spPr>
          <a:xfrm>
            <a:off x="1143000" y="3657600"/>
            <a:ext cx="2362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南京的云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5029200" y="533520"/>
            <a:ext cx="3657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云锦是丝绸中最高贵的一种，有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寸锦寸金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之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云锦是明清皇帝御用物品。明清皇帝在江宁（南京）设置织造府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红楼梦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的作者曹雪芹祖上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代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人在江宁织造府任职长达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65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年之久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57200" y="5334120"/>
            <a:ext cx="84582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苏州的丝，杭州的绸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南京云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苏杭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愁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1295280" y="3781800"/>
            <a:ext cx="3353040" cy="1047240"/>
          </a:xfrm>
          <a:prstGeom prst="wedgeRectCallout">
            <a:avLst>
              <a:gd name="adj1" fmla="val -37462"/>
              <a:gd name="adj2" fmla="val 96699"/>
            </a:avLst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幼圆"/>
                <a:ea typeface="幼圆"/>
              </a:rPr>
              <a:t>苏州明代丝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幼圆"/>
                <a:ea typeface="幼圆"/>
              </a:rPr>
              <a:t>中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5486400" y="3899160"/>
            <a:ext cx="3352680" cy="1047240"/>
          </a:xfrm>
          <a:prstGeom prst="wedgeRectCallout">
            <a:avLst>
              <a:gd name="adj1" fmla="val -37462"/>
              <a:gd name="adj2" fmla="val 106250"/>
            </a:avLst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幼圆"/>
                <a:ea typeface="幼圆"/>
              </a:rPr>
              <a:t>南京清代丝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幼圆"/>
                <a:ea typeface="幼圆"/>
              </a:rPr>
              <a:t>中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9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5"/>
          <p:cNvSpPr/>
          <p:nvPr/>
        </p:nvSpPr>
        <p:spPr>
          <a:xfrm>
            <a:off x="685800" y="838080"/>
            <a:ext cx="3657600" cy="609840"/>
          </a:xfrm>
          <a:prstGeom prst="flowChartDecision">
            <a:avLst/>
          </a:prstGeom>
          <a:solidFill>
            <a:srgbClr val="ffcc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工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1" name="Picture 8" descr=""/>
          <p:cNvPicPr/>
          <p:nvPr/>
        </p:nvPicPr>
        <p:blipFill>
          <a:blip r:embed="rId2"/>
          <a:stretch/>
        </p:blipFill>
        <p:spPr>
          <a:xfrm rot="1536000">
            <a:off x="4952880" y="2709360"/>
            <a:ext cx="3641760" cy="4148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"/>
          <p:cNvPicPr/>
          <p:nvPr/>
        </p:nvPicPr>
        <p:blipFill>
          <a:blip r:embed="rId3"/>
          <a:stretch/>
        </p:blipFill>
        <p:spPr>
          <a:xfrm rot="20518200">
            <a:off x="533520" y="2514600"/>
            <a:ext cx="4349520" cy="3678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pic_134005"/>
          <p:cNvPicPr/>
          <p:nvPr/>
        </p:nvPicPr>
        <p:blipFill>
          <a:blip r:embed="rId4"/>
          <a:stretch/>
        </p:blipFill>
        <p:spPr>
          <a:xfrm>
            <a:off x="0" y="1960560"/>
            <a:ext cx="9144000" cy="48974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solidFill>
            <a:srgbClr val="13f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左边同学说的有一定道理，但右边同学说的更准确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因为纺纱织布不仅要求有一定的温度，更重要的是要求有一定的湿度，半地窖式房屋，既有利于保持一定的湿度，也有利于维持常温，所以能织出好棉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10"/>
          <p:cNvPicPr/>
          <p:nvPr/>
        </p:nvPicPr>
        <p:blipFill>
          <a:blip r:embed="rId1"/>
          <a:stretch/>
        </p:blipFill>
        <p:spPr>
          <a:xfrm>
            <a:off x="380880" y="380880"/>
            <a:ext cx="3969000" cy="47246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304920" y="5334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青花折枝花纹八方烛台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7" name="Picture 4" descr="ming7"/>
          <p:cNvPicPr/>
          <p:nvPr/>
        </p:nvPicPr>
        <p:blipFill>
          <a:blip r:embed="rId2"/>
          <a:stretch/>
        </p:blipFill>
        <p:spPr>
          <a:xfrm>
            <a:off x="4800600" y="380880"/>
            <a:ext cx="3541680" cy="46483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5"/>
          <p:cNvSpPr/>
          <p:nvPr/>
        </p:nvSpPr>
        <p:spPr>
          <a:xfrm>
            <a:off x="4724280" y="5334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青花海水云龙瓷扁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80880" y="228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景德镇的青花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657600" cy="3581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609480" y="4800600"/>
            <a:ext cx="36576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青花海水行龙瓷扁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2" name="Picture 5" descr="青花瓷返回"/>
          <p:cNvPicPr/>
          <p:nvPr/>
        </p:nvPicPr>
        <p:blipFill>
          <a:blip r:embed="rId2"/>
          <a:stretch/>
        </p:blipFill>
        <p:spPr>
          <a:xfrm>
            <a:off x="8153280" y="6113520"/>
            <a:ext cx="990720" cy="74448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6"/>
          <p:cNvGrpSpPr/>
          <p:nvPr/>
        </p:nvGrpSpPr>
        <p:grpSpPr>
          <a:xfrm>
            <a:off x="4800600" y="1066680"/>
            <a:ext cx="3962520" cy="4179960"/>
            <a:chOff x="4800600" y="1066680"/>
            <a:chExt cx="3962520" cy="4179960"/>
          </a:xfrm>
        </p:grpSpPr>
        <p:pic>
          <p:nvPicPr>
            <p:cNvPr id="314" name="Picture 7" descr=""/>
            <p:cNvPicPr/>
            <p:nvPr/>
          </p:nvPicPr>
          <p:blipFill>
            <a:blip r:embed="rId3"/>
            <a:stretch/>
          </p:blipFill>
          <p:spPr>
            <a:xfrm>
              <a:off x="4800600" y="1066680"/>
              <a:ext cx="3962520" cy="36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8"/>
            <p:cNvSpPr/>
            <p:nvPr/>
          </p:nvSpPr>
          <p:spPr>
            <a:xfrm>
              <a:off x="4800600" y="4726080"/>
              <a:ext cx="3962520" cy="520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c3300"/>
                  </a:solidFill>
                  <a:latin typeface="Arial"/>
                  <a:ea typeface="隶书"/>
                </a:rPr>
                <a:t>明朝青花盘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316" name="Picture 9" descr="image00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0"/>
          <p:cNvSpPr/>
          <p:nvPr/>
        </p:nvSpPr>
        <p:spPr>
          <a:xfrm>
            <a:off x="304920" y="5638680"/>
            <a:ext cx="3200400" cy="487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黑体"/>
              </a:rPr>
              <a:t>景德镇成为全国制瓷业的中心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152280" y="152280"/>
            <a:ext cx="91440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、明清时期经济的发展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AutoShape 3">
            <a:hlinkClick r:id="" action="ppaction://hlinkshowjump?jump=endshow"/>
          </p:cNvPr>
          <p:cNvSpPr/>
          <p:nvPr/>
        </p:nvSpPr>
        <p:spPr>
          <a:xfrm>
            <a:off x="8001000" y="6324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6628" y="10800"/>
                </a:moveTo>
                <a:lnTo>
                  <a:pt x="16123" y="17806"/>
                </a:lnTo>
                <a:lnTo>
                  <a:pt x="16123" y="3794"/>
                </a:lnTo>
                <a:close/>
              </a:path>
              <a:path fill="darken" w="46259" h="21600">
                <a:moveTo>
                  <a:pt x="28473" y="3794"/>
                </a:moveTo>
                <a:lnTo>
                  <a:pt x="28473" y="17806"/>
                </a:lnTo>
                <a:lnTo>
                  <a:pt x="30136" y="17806"/>
                </a:lnTo>
                <a:lnTo>
                  <a:pt x="30136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298880" y="99072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农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1681560" y="194148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手工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1438560" y="293220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商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3761640" y="9907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引种高产农作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001040" y="1905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技艺先进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3961440" y="29718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商品经济空前活跃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6"/>
          <p:cNvSpPr/>
          <p:nvPr/>
        </p:nvSpPr>
        <p:spPr>
          <a:xfrm>
            <a:off x="533520" y="685800"/>
            <a:ext cx="3657600" cy="609480"/>
          </a:xfrm>
          <a:prstGeom prst="flowChartDecision">
            <a:avLst/>
          </a:prstGeom>
          <a:solidFill>
            <a:srgbClr val="ffcc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商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8" name="Picture 7" descr="4658_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133720"/>
            <a:ext cx="4876920" cy="36874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1"/>
          <p:cNvPicPr/>
          <p:nvPr/>
        </p:nvPicPr>
        <p:blipFill>
          <a:blip r:embed="rId4"/>
          <a:stretch/>
        </p:blipFill>
        <p:spPr>
          <a:xfrm>
            <a:off x="4724280" y="2057400"/>
            <a:ext cx="4419720" cy="37339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9"/>
          <p:cNvSpPr/>
          <p:nvPr/>
        </p:nvSpPr>
        <p:spPr>
          <a:xfrm>
            <a:off x="914400" y="6019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57200" y="5867280"/>
            <a:ext cx="380988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都繁会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952880" y="5867280"/>
            <a:ext cx="381024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都积胜图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局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4876920" y="2057400"/>
            <a:ext cx="4267080" cy="2971800"/>
          </a:xfrm>
          <a:prstGeom prst="wedgeRoundRectCallout">
            <a:avLst>
              <a:gd name="adj1" fmla="val -44643"/>
              <a:gd name="adj2" fmla="val 68694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都：今南京。街市上店铺林立，店铺前悬挂着招牌，有的写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北两口皮货发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有的写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西两洋货物俱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，这说明当时的南京除销售本地商品外，还销售来自外地甚至海外的东西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304920" y="2133720"/>
            <a:ext cx="4419360" cy="3429000"/>
          </a:xfrm>
          <a:prstGeom prst="wedgeRoundRectCallout">
            <a:avLst>
              <a:gd name="adj1" fmla="val 48166"/>
              <a:gd name="adj2" fmla="val 59120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幅长卷是明朝中后期北京城繁盛景况的再现。画面看重描绘市区商业街道面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道上车马行人熙来攘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茶楼酒肆店铺林立，招幌牌匾随处可见，马戏，小唱处处聚集有人群看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金店银铺人潮如涌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1905120" y="60948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295280" y="434340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）明朝</a:t>
            </a:r>
            <a:r>
              <a:rPr b="0" lang="zh-CN" sz="4000" spc="-1" strike="noStrike">
                <a:solidFill>
                  <a:srgbClr val="339966"/>
                </a:solidFill>
                <a:latin typeface="华文新魏"/>
                <a:ea typeface="华文新魏"/>
              </a:rPr>
              <a:t>中后期</a:t>
            </a:r>
            <a:r>
              <a:rPr b="0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，商品种类增多：</a:t>
            </a: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投入市场的农产品和手工业品多达</a:t>
            </a:r>
            <a:r>
              <a:rPr b="0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200</a:t>
            </a: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多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95280" y="1752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）商业城市的繁荣：</a:t>
            </a:r>
            <a:r>
              <a:rPr b="0" lang="zh-CN" sz="4000" spc="-1" strike="noStrike" u="sng">
                <a:solidFill>
                  <a:srgbClr val="339966"/>
                </a:solidFill>
                <a:uFillTx/>
                <a:latin typeface="华文新魏"/>
                <a:ea typeface="华文新魏"/>
              </a:rPr>
              <a:t>北京</a:t>
            </a:r>
            <a:r>
              <a:rPr b="0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和</a:t>
            </a:r>
            <a:r>
              <a:rPr b="0" lang="zh-CN" sz="4000" spc="-1" strike="noStrike" u="sng">
                <a:solidFill>
                  <a:srgbClr val="339966"/>
                </a:solidFill>
                <a:uFillTx/>
                <a:latin typeface="华文新魏"/>
                <a:ea typeface="华文新魏"/>
              </a:rPr>
              <a:t>南京</a:t>
            </a:r>
            <a:r>
              <a:rPr b="0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是全国性的商贸城市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990720" y="380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明清时期商品经济活跃的具体表现有哪些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295280" y="3200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）许多富人积极从事商贸活动，推动商业的发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152280" y="152280"/>
            <a:ext cx="91440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、明清时期经济的发展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AutoShape 3">
            <a:hlinkClick r:id="" action="ppaction://hlinkshowjump?jump=endshow"/>
          </p:cNvPr>
          <p:cNvSpPr/>
          <p:nvPr/>
        </p:nvSpPr>
        <p:spPr>
          <a:xfrm>
            <a:off x="8001000" y="6324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6628" y="10800"/>
                </a:moveTo>
                <a:lnTo>
                  <a:pt x="16123" y="17806"/>
                </a:lnTo>
                <a:lnTo>
                  <a:pt x="16123" y="3794"/>
                </a:lnTo>
                <a:close/>
              </a:path>
              <a:path fill="darken" w="46259" h="21600">
                <a:moveTo>
                  <a:pt x="28473" y="3794"/>
                </a:moveTo>
                <a:lnTo>
                  <a:pt x="28473" y="17806"/>
                </a:lnTo>
                <a:lnTo>
                  <a:pt x="30136" y="17806"/>
                </a:lnTo>
                <a:lnTo>
                  <a:pt x="30136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80880" y="54244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时间、地点、行业、表现、原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1298880" y="99072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农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1681560" y="194148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手工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438560" y="293220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商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457200" y="3809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资本主义性质的生产关系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出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761640" y="9907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引种高产农作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4001040" y="1905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技艺先进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3961440" y="29718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商品经济空前活跃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2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7"/>
          <p:cNvSpPr/>
          <p:nvPr/>
        </p:nvSpPr>
        <p:spPr>
          <a:xfrm>
            <a:off x="304920" y="457200"/>
            <a:ext cx="3581280" cy="1371600"/>
          </a:xfrm>
          <a:prstGeom prst="flowChartDecision">
            <a:avLst/>
          </a:prstGeom>
          <a:solidFill>
            <a:srgbClr val="ffcc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资本主义的萌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3" name="Picture 9" descr="f"/>
          <p:cNvPicPr/>
          <p:nvPr/>
        </p:nvPicPr>
        <p:blipFill>
          <a:blip r:embed="rId3"/>
          <a:stretch/>
        </p:blipFill>
        <p:spPr>
          <a:xfrm>
            <a:off x="0" y="1905120"/>
            <a:ext cx="5105520" cy="39621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986400" y="19051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施复夫妇经营丝织业的机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5" name="Picture 11" descr="男孩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6858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2"/>
          <p:cNvSpPr/>
          <p:nvPr/>
        </p:nvSpPr>
        <p:spPr>
          <a:xfrm>
            <a:off x="5029200" y="1600200"/>
            <a:ext cx="388620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黑体"/>
              </a:rPr>
              <a:t>出现在何时？何地？何行业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黑体"/>
              </a:rPr>
              <a:t>其典型表现是什么？有什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黑体"/>
              </a:rPr>
              <a:t>样的特征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5334120" y="2971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明朝中后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5334120" y="4114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纺织业部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5410080" y="480060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机户出资、机工出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0" y="5562720"/>
            <a:ext cx="91440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以生产商品为目的，具有雇佣的资本主义性质的生产关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5334120" y="3505320"/>
            <a:ext cx="37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苏州、松江等江南地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52280" y="914400"/>
            <a:ext cx="87854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请归纳总结：清朝前期采取了哪些维护统一多民族国家的措施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4920" y="2209680"/>
            <a:ext cx="8458200" cy="228852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乾隆平定大小和卓叛乱，设伊犁将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册封达赖、班禅，设驻藏大臣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尔扈特部回归祖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抗外来侵略。（郑成功收复台湾；康熙两次组织雅克萨反击战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2286000" y="228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"/>
              </a:rPr>
              <a:t>上节课内容复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2"/>
          <p:cNvSpPr txBox="1"/>
          <p:nvPr/>
        </p:nvSpPr>
        <p:spPr>
          <a:xfrm>
            <a:off x="2209680" y="457200"/>
            <a:ext cx="4419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思考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80880" y="205740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机户与地主有什么不同？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457200" y="32004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机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拥有生产资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资金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的早期资本家，他们开设机房（早期的手工工场），靠雇佣机工（早期的雇佣工人）进行生产，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剥削的是雇佣工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380880" y="51055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封建地主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则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占有大量土地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靠剥削农民为生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宋体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文本框 8199"/>
          <p:cNvSpPr/>
          <p:nvPr/>
        </p:nvSpPr>
        <p:spPr>
          <a:xfrm>
            <a:off x="1139760" y="1600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明清经济发展与“闭关锁国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152280" y="1295280"/>
            <a:ext cx="3276720" cy="91440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  <a:ea typeface="楷体_GB2312"/>
              </a:rPr>
              <a:t>明清经济发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3429000" y="1447920"/>
            <a:ext cx="1600200" cy="38088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3443"/>
                <a:lnTo>
                  <a:pt x="21168" y="14403"/>
                </a:lnTo>
                <a:lnTo>
                  <a:pt x="17280" y="21600"/>
                </a:lnTo>
                <a:lnTo>
                  <a:pt x="12528" y="14403"/>
                </a:lnTo>
                <a:lnTo>
                  <a:pt x="14688" y="14403"/>
                </a:lnTo>
                <a:arcTo wR="7560" hR="21600" stAng="-2716557" swAng="-2326008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5029200" y="1066680"/>
            <a:ext cx="3962520" cy="1371600"/>
          </a:xfrm>
          <a:prstGeom prst="flowChartDecision">
            <a:avLst/>
          </a:prstGeom>
          <a:solidFill>
            <a:srgbClr val="ffcc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资本主义的萌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2666880"/>
            <a:ext cx="19051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产生条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057400" y="2895480"/>
            <a:ext cx="914400" cy="360"/>
            <a:chOff x="2057400" y="2895480"/>
            <a:chExt cx="914400" cy="360"/>
          </a:xfrm>
        </p:grpSpPr>
        <p:sp>
          <p:nvSpPr>
            <p:cNvPr id="374" name="Line 8"/>
            <p:cNvSpPr/>
            <p:nvPr/>
          </p:nvSpPr>
          <p:spPr>
            <a:xfrm>
              <a:off x="2057400" y="2895480"/>
              <a:ext cx="9144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2057400" y="28954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76" name="AutoShape 9"/>
          <p:cNvSpPr/>
          <p:nvPr/>
        </p:nvSpPr>
        <p:spPr>
          <a:xfrm>
            <a:off x="3048120" y="22860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3505320" y="205740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Arial"/>
                <a:ea typeface="楷体_GB2312"/>
              </a:rPr>
              <a:t>农业、手工业、商业的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Arial"/>
                <a:ea typeface="楷体_GB2312"/>
              </a:rPr>
              <a:t>展，尤其是商品经济的发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3505320" y="30481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Arial"/>
                <a:ea typeface="楷体_GB2312"/>
              </a:rPr>
              <a:t>有资金较多的作坊主、商人和有人身自由的雇佣劳动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0" y="3809880"/>
            <a:ext cx="19810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产生标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057400" y="4038480"/>
            <a:ext cx="914400" cy="360"/>
            <a:chOff x="2057400" y="4038480"/>
            <a:chExt cx="914400" cy="360"/>
          </a:xfrm>
        </p:grpSpPr>
        <p:sp>
          <p:nvSpPr>
            <p:cNvPr id="381" name="Line 13"/>
            <p:cNvSpPr/>
            <p:nvPr/>
          </p:nvSpPr>
          <p:spPr>
            <a:xfrm>
              <a:off x="2057400" y="4038480"/>
              <a:ext cx="9144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2057400" y="40384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83" name="Text Box 14"/>
          <p:cNvSpPr/>
          <p:nvPr/>
        </p:nvSpPr>
        <p:spPr>
          <a:xfrm>
            <a:off x="3048120" y="3809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机户出资，机工出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0" y="4343400"/>
            <a:ext cx="91440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机户与机工的关系：雇佣与被雇佣的关系，即资本主义生产关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0" y="5181480"/>
            <a:ext cx="1828800" cy="12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发展缓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原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905120" y="5791320"/>
            <a:ext cx="914400" cy="360"/>
            <a:chOff x="1905120" y="5791320"/>
            <a:chExt cx="914400" cy="360"/>
          </a:xfrm>
        </p:grpSpPr>
        <p:sp>
          <p:nvSpPr>
            <p:cNvPr id="387" name="Line 17"/>
            <p:cNvSpPr/>
            <p:nvPr/>
          </p:nvSpPr>
          <p:spPr>
            <a:xfrm>
              <a:off x="1905120" y="5791320"/>
              <a:ext cx="9144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1905120" y="57913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89" name="AutoShape 18"/>
          <p:cNvSpPr/>
          <p:nvPr/>
        </p:nvSpPr>
        <p:spPr>
          <a:xfrm>
            <a:off x="2819520" y="5105520"/>
            <a:ext cx="457200" cy="1523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3946680" y="4844880"/>
            <a:ext cx="359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3124080" y="4952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Arial"/>
                <a:ea typeface="楷体_GB2312"/>
              </a:rPr>
              <a:t>封建统治下的小农经济束缚着生产力的发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3200400" y="5867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Arial"/>
                <a:ea typeface="楷体_GB2312"/>
              </a:rPr>
              <a:t>封建政府实行重农抑商政策，约束了资本主义萌芽的发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304920" y="3049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"/>
              </a:rPr>
              <a:t>二、</a:t>
            </a:r>
            <a:r>
              <a:rPr b="1" lang="zh-CN" sz="60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"/>
              </a:rPr>
              <a:t>闭关锁国</a:t>
            </a:r>
            <a:r>
              <a:rPr b="1" lang="zh-CN" sz="6000" spc="-1" strike="noStrike">
                <a:solidFill>
                  <a:srgbClr val="0000ff"/>
                </a:solidFill>
                <a:latin typeface="楷体"/>
                <a:ea typeface="楷体"/>
              </a:rPr>
              <a:t>”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"/>
              </a:rPr>
              <a:t>政策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838080" y="121932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原因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838080" y="2209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过程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838080" y="32130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影响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609480" y="40384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造成了明清时期资本主义经济发展的缓慢，中国逐渐在世界上落伍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838080" y="5335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清朝统治者为什么要实行“闭关锁国”的政策？具体表现有哪些？产生了什么样的影响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380880" y="2286000"/>
            <a:ext cx="84582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原因：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清朝统治者坚持“以农为本，重农抑商”的政策。 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自给自足的封建经济稳定使人们无需同外界进行太多的交往。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清统治者以天朝大国自居，固步自封严重影响了中国 的进步。  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D</a:t>
            </a:r>
            <a:r>
              <a:rPr b="1" lang="zh-CN" sz="3600" spc="-1" strike="noStrike">
                <a:solidFill>
                  <a:srgbClr val="339966"/>
                </a:solidFill>
                <a:latin typeface="Times New Roman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清统治者担心国家领土主权受外国侵略，害怕沿海人民与外国人交往，危及自己统治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219320" y="4572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具体表现（过程）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1371600" y="1600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、严禁沿海人民擅自出海贸易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1371600" y="2743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、只开放四个后减至广州一个港口作为对外通商口岸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1371600" y="4343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、严格限制进口的种类和出海船只的载重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01100000000010113703370026443"/>
          <p:cNvPicPr/>
          <p:nvPr/>
        </p:nvPicPr>
        <p:blipFill>
          <a:blip r:embed="rId1"/>
          <a:stretch/>
        </p:blipFill>
        <p:spPr>
          <a:xfrm>
            <a:off x="2844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3"/>
          <p:cNvSpPr/>
          <p:nvPr/>
        </p:nvSpPr>
        <p:spPr>
          <a:xfrm>
            <a:off x="380880" y="5867280"/>
            <a:ext cx="1079640" cy="358920"/>
          </a:xfrm>
          <a:prstGeom prst="wedgeRectCallout">
            <a:avLst>
              <a:gd name="adj1" fmla="val 33824"/>
              <a:gd name="adj2" fmla="val 1477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Verdana"/>
                <a:ea typeface="黑体"/>
              </a:rPr>
              <a:t>澳门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1828800" y="5105520"/>
            <a:ext cx="792000" cy="360360"/>
          </a:xfrm>
          <a:prstGeom prst="wedgeRectCallout">
            <a:avLst>
              <a:gd name="adj1" fmla="val 50601"/>
              <a:gd name="adj2" fmla="val 1491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Verdana"/>
                <a:ea typeface="黑体"/>
              </a:rPr>
              <a:t>漳州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2743200" y="3505320"/>
            <a:ext cx="762120" cy="428400"/>
          </a:xfrm>
          <a:prstGeom prst="wedgeRectCallout">
            <a:avLst>
              <a:gd name="adj1" fmla="val 77291"/>
              <a:gd name="adj2" fmla="val 86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Verdana"/>
                <a:ea typeface="黑体"/>
              </a:rPr>
              <a:t>宁波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2286000" y="2057400"/>
            <a:ext cx="1058760" cy="347760"/>
          </a:xfrm>
          <a:prstGeom prst="wedgeRectCallout">
            <a:avLst>
              <a:gd name="adj1" fmla="val 38453"/>
              <a:gd name="adj2" fmla="val 1262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Verdana"/>
                <a:ea typeface="黑体"/>
              </a:rPr>
              <a:t>云台山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5148360" y="260280"/>
            <a:ext cx="287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⑴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清初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40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  <a:ea typeface="黑体"/>
              </a:rPr>
              <a:t>—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5076720" y="2492280"/>
            <a:ext cx="2880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⑵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统一台湾后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  <a:ea typeface="黑体"/>
              </a:rPr>
              <a:t>—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5076720" y="4941720"/>
            <a:ext cx="3672000" cy="45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⑶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英商宁波贸易后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黑体"/>
              </a:rPr>
              <a:t>—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5076720" y="1125360"/>
            <a:ext cx="259236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严厉的禁海政策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5076720" y="3357720"/>
            <a:ext cx="223200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四口通商    但有严格限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AutoShape 12"/>
          <p:cNvSpPr/>
          <p:nvPr/>
        </p:nvSpPr>
        <p:spPr>
          <a:xfrm>
            <a:off x="762120" y="5334120"/>
            <a:ext cx="1368360" cy="576000"/>
          </a:xfrm>
          <a:prstGeom prst="wedgeRectCallout">
            <a:avLst>
              <a:gd name="adj1" fmla="val -5337"/>
              <a:gd name="adj2" fmla="val 9490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Verdana"/>
                <a:ea typeface="黑体"/>
              </a:rPr>
              <a:t>广州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AutoShape 13"/>
          <p:cNvSpPr/>
          <p:nvPr/>
        </p:nvSpPr>
        <p:spPr>
          <a:xfrm>
            <a:off x="838080" y="484920"/>
            <a:ext cx="4289400" cy="407880"/>
          </a:xfrm>
          <a:prstGeom prst="wedgeRectCallout">
            <a:avLst>
              <a:gd name="adj1" fmla="val 46851"/>
              <a:gd name="adj2" fmla="val 167458"/>
            </a:avLst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3300"/>
                </a:solidFill>
                <a:latin typeface="幼圆"/>
                <a:ea typeface="幼圆"/>
              </a:rPr>
              <a:t>清初为打击郑成功等沿海抗清力量</a:t>
            </a:r>
            <a:r>
              <a:rPr b="1" lang="zh-CN" sz="2200" spc="-1" strike="noStrike">
                <a:solidFill>
                  <a:srgbClr val="663300"/>
                </a:solidFill>
                <a:latin typeface="华文细黑"/>
                <a:ea typeface="幼圆"/>
              </a:rPr>
              <a:t>“</a:t>
            </a:r>
            <a:r>
              <a:rPr b="1" lang="zh-CN" sz="2200" spc="-1" strike="noStrike">
                <a:solidFill>
                  <a:srgbClr val="663300"/>
                </a:solidFill>
                <a:latin typeface="幼圆"/>
                <a:ea typeface="幼圆"/>
              </a:rPr>
              <a:t>片板不准下海</a:t>
            </a:r>
            <a:r>
              <a:rPr b="1" lang="zh-CN" sz="2200" spc="-1" strike="noStrike">
                <a:solidFill>
                  <a:srgbClr val="663300"/>
                </a:solidFill>
                <a:latin typeface="华文细黑"/>
                <a:ea typeface="幼圆"/>
              </a:rPr>
              <a:t>”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5292720" y="5805360"/>
            <a:ext cx="237636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广州一口通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2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924600" cy="5343480"/>
          </a:xfrm>
          <a:prstGeom prst="rect">
            <a:avLst/>
          </a:prstGeom>
          <a:ln w="0">
            <a:noFill/>
          </a:ln>
        </p:spPr>
      </p:pic>
      <p:sp>
        <p:nvSpPr>
          <p:cNvPr id="418" name="未知"/>
          <p:cNvSpPr/>
          <p:nvPr/>
        </p:nvSpPr>
        <p:spPr>
          <a:xfrm>
            <a:off x="1403280" y="1268280"/>
            <a:ext cx="6697800" cy="505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63" y="15805"/>
                </a:moveTo>
                <a:cubicBezTo>
                  <a:pt x="18985" y="15749"/>
                  <a:pt x="19072" y="15567"/>
                  <a:pt x="19100" y="15460"/>
                </a:cubicBezTo>
                <a:cubicBezTo>
                  <a:pt x="19127" y="15353"/>
                  <a:pt x="19116" y="15264"/>
                  <a:pt x="19133" y="15165"/>
                </a:cubicBezTo>
                <a:cubicBezTo>
                  <a:pt x="19150" y="15066"/>
                  <a:pt x="19185" y="14967"/>
                  <a:pt x="19202" y="14868"/>
                </a:cubicBezTo>
                <a:cubicBezTo>
                  <a:pt x="19218" y="14769"/>
                  <a:pt x="19226" y="14681"/>
                  <a:pt x="19237" y="14574"/>
                </a:cubicBezTo>
                <a:cubicBezTo>
                  <a:pt x="19248" y="14466"/>
                  <a:pt x="19259" y="14333"/>
                  <a:pt x="19270" y="14225"/>
                </a:cubicBezTo>
                <a:cubicBezTo>
                  <a:pt x="19281" y="14118"/>
                  <a:pt x="19294" y="14030"/>
                  <a:pt x="19305" y="13931"/>
                </a:cubicBezTo>
                <a:cubicBezTo>
                  <a:pt x="19316" y="13832"/>
                  <a:pt x="19333" y="13733"/>
                  <a:pt x="19339" y="13634"/>
                </a:cubicBezTo>
                <a:cubicBezTo>
                  <a:pt x="19344" y="13535"/>
                  <a:pt x="19339" y="13438"/>
                  <a:pt x="19339" y="13339"/>
                </a:cubicBezTo>
                <a:cubicBezTo>
                  <a:pt x="19339" y="13240"/>
                  <a:pt x="19339" y="13141"/>
                  <a:pt x="19339" y="13042"/>
                </a:cubicBezTo>
                <a:cubicBezTo>
                  <a:pt x="19339" y="12943"/>
                  <a:pt x="19339" y="12860"/>
                  <a:pt x="19339" y="12745"/>
                </a:cubicBezTo>
                <a:cubicBezTo>
                  <a:pt x="19339" y="12630"/>
                  <a:pt x="19339" y="12474"/>
                  <a:pt x="19339" y="12351"/>
                </a:cubicBezTo>
                <a:cubicBezTo>
                  <a:pt x="19339" y="12228"/>
                  <a:pt x="19339" y="12121"/>
                  <a:pt x="19339" y="12006"/>
                </a:cubicBezTo>
                <a:cubicBezTo>
                  <a:pt x="19339" y="11891"/>
                  <a:pt x="19339" y="11775"/>
                  <a:pt x="19339" y="11660"/>
                </a:cubicBezTo>
                <a:cubicBezTo>
                  <a:pt x="19339" y="11545"/>
                  <a:pt x="19339" y="11438"/>
                  <a:pt x="19339" y="11315"/>
                </a:cubicBezTo>
                <a:cubicBezTo>
                  <a:pt x="19339" y="11192"/>
                  <a:pt x="19339" y="11042"/>
                  <a:pt x="19339" y="10919"/>
                </a:cubicBezTo>
                <a:cubicBezTo>
                  <a:pt x="19339" y="10795"/>
                  <a:pt x="19339" y="10688"/>
                  <a:pt x="19339" y="10573"/>
                </a:cubicBezTo>
                <a:cubicBezTo>
                  <a:pt x="19339" y="10458"/>
                  <a:pt x="19339" y="10343"/>
                  <a:pt x="19339" y="10228"/>
                </a:cubicBezTo>
                <a:cubicBezTo>
                  <a:pt x="19339" y="10113"/>
                  <a:pt x="19339" y="9990"/>
                  <a:pt x="19339" y="9882"/>
                </a:cubicBezTo>
                <a:cubicBezTo>
                  <a:pt x="19339" y="9775"/>
                  <a:pt x="19339" y="9684"/>
                  <a:pt x="19339" y="9585"/>
                </a:cubicBezTo>
                <a:cubicBezTo>
                  <a:pt x="19339" y="9486"/>
                  <a:pt x="19344" y="9390"/>
                  <a:pt x="19339" y="9291"/>
                </a:cubicBezTo>
                <a:cubicBezTo>
                  <a:pt x="19333" y="9192"/>
                  <a:pt x="19339" y="9093"/>
                  <a:pt x="19305" y="8993"/>
                </a:cubicBezTo>
                <a:cubicBezTo>
                  <a:pt x="19272" y="8894"/>
                  <a:pt x="19190" y="8795"/>
                  <a:pt x="19133" y="8696"/>
                </a:cubicBezTo>
                <a:cubicBezTo>
                  <a:pt x="19076" y="8597"/>
                  <a:pt x="19001" y="8501"/>
                  <a:pt x="18963" y="8402"/>
                </a:cubicBezTo>
                <a:cubicBezTo>
                  <a:pt x="18924" y="8303"/>
                  <a:pt x="18872" y="8196"/>
                  <a:pt x="18894" y="8105"/>
                </a:cubicBezTo>
                <a:cubicBezTo>
                  <a:pt x="18916" y="8013"/>
                  <a:pt x="19031" y="7933"/>
                  <a:pt x="19100" y="7858"/>
                </a:cubicBezTo>
                <a:cubicBezTo>
                  <a:pt x="19168" y="7783"/>
                  <a:pt x="19237" y="7735"/>
                  <a:pt x="19305" y="7660"/>
                </a:cubicBezTo>
                <a:cubicBezTo>
                  <a:pt x="19374" y="7585"/>
                  <a:pt x="19441" y="7497"/>
                  <a:pt x="19509" y="7414"/>
                </a:cubicBezTo>
                <a:cubicBezTo>
                  <a:pt x="19578" y="7331"/>
                  <a:pt x="19641" y="7242"/>
                  <a:pt x="19715" y="7167"/>
                </a:cubicBezTo>
                <a:cubicBezTo>
                  <a:pt x="19789" y="7092"/>
                  <a:pt x="19880" y="7044"/>
                  <a:pt x="19954" y="6969"/>
                </a:cubicBezTo>
                <a:cubicBezTo>
                  <a:pt x="20028" y="6894"/>
                  <a:pt x="20089" y="6814"/>
                  <a:pt x="20158" y="6723"/>
                </a:cubicBezTo>
                <a:cubicBezTo>
                  <a:pt x="20226" y="6632"/>
                  <a:pt x="20300" y="6525"/>
                  <a:pt x="20363" y="6426"/>
                </a:cubicBezTo>
                <a:cubicBezTo>
                  <a:pt x="20426" y="6327"/>
                  <a:pt x="20477" y="6230"/>
                  <a:pt x="20534" y="6131"/>
                </a:cubicBezTo>
                <a:cubicBezTo>
                  <a:pt x="20591" y="6032"/>
                  <a:pt x="20653" y="5933"/>
                  <a:pt x="20704" y="5834"/>
                </a:cubicBezTo>
                <a:cubicBezTo>
                  <a:pt x="20756" y="5735"/>
                  <a:pt x="20790" y="5644"/>
                  <a:pt x="20842" y="5537"/>
                </a:cubicBezTo>
                <a:cubicBezTo>
                  <a:pt x="20893" y="5430"/>
                  <a:pt x="20966" y="5314"/>
                  <a:pt x="21012" y="5191"/>
                </a:cubicBezTo>
                <a:cubicBezTo>
                  <a:pt x="21058" y="5068"/>
                  <a:pt x="21082" y="4921"/>
                  <a:pt x="21116" y="4798"/>
                </a:cubicBezTo>
                <a:cubicBezTo>
                  <a:pt x="21149" y="4675"/>
                  <a:pt x="21179" y="4559"/>
                  <a:pt x="21218" y="4452"/>
                </a:cubicBezTo>
                <a:cubicBezTo>
                  <a:pt x="21257" y="4345"/>
                  <a:pt x="21316" y="4254"/>
                  <a:pt x="21355" y="4155"/>
                </a:cubicBezTo>
                <a:cubicBezTo>
                  <a:pt x="21394" y="4056"/>
                  <a:pt x="21429" y="3957"/>
                  <a:pt x="21457" y="3858"/>
                </a:cubicBezTo>
                <a:cubicBezTo>
                  <a:pt x="21485" y="3759"/>
                  <a:pt x="21509" y="3670"/>
                  <a:pt x="21525" y="3563"/>
                </a:cubicBezTo>
                <a:cubicBezTo>
                  <a:pt x="21542" y="3456"/>
                  <a:pt x="21548" y="3325"/>
                  <a:pt x="21559" y="3218"/>
                </a:cubicBezTo>
                <a:cubicBezTo>
                  <a:pt x="21570" y="3111"/>
                  <a:pt x="21588" y="3020"/>
                  <a:pt x="21594" y="2921"/>
                </a:cubicBezTo>
                <a:cubicBezTo>
                  <a:pt x="21600" y="2822"/>
                  <a:pt x="21600" y="2725"/>
                  <a:pt x="21594" y="2626"/>
                </a:cubicBezTo>
                <a:cubicBezTo>
                  <a:pt x="21588" y="2527"/>
                  <a:pt x="21598" y="2420"/>
                  <a:pt x="21559" y="2329"/>
                </a:cubicBezTo>
                <a:cubicBezTo>
                  <a:pt x="21520" y="2238"/>
                  <a:pt x="21418" y="2174"/>
                  <a:pt x="21355" y="2083"/>
                </a:cubicBezTo>
                <a:cubicBezTo>
                  <a:pt x="21292" y="1992"/>
                  <a:pt x="21247" y="1876"/>
                  <a:pt x="21184" y="1785"/>
                </a:cubicBezTo>
                <a:cubicBezTo>
                  <a:pt x="21121" y="1694"/>
                  <a:pt x="21047" y="1630"/>
                  <a:pt x="20979" y="1539"/>
                </a:cubicBezTo>
                <a:cubicBezTo>
                  <a:pt x="20910" y="1448"/>
                  <a:pt x="20842" y="1333"/>
                  <a:pt x="20773" y="1242"/>
                </a:cubicBezTo>
                <a:cubicBezTo>
                  <a:pt x="20704" y="1151"/>
                  <a:pt x="20638" y="1087"/>
                  <a:pt x="20569" y="996"/>
                </a:cubicBezTo>
                <a:cubicBezTo>
                  <a:pt x="20501" y="905"/>
                  <a:pt x="20432" y="781"/>
                  <a:pt x="20363" y="698"/>
                </a:cubicBezTo>
                <a:cubicBezTo>
                  <a:pt x="20295" y="615"/>
                  <a:pt x="20226" y="559"/>
                  <a:pt x="20158" y="503"/>
                </a:cubicBezTo>
                <a:cubicBezTo>
                  <a:pt x="20089" y="447"/>
                  <a:pt x="20022" y="377"/>
                  <a:pt x="19954" y="353"/>
                </a:cubicBezTo>
                <a:cubicBezTo>
                  <a:pt x="19885" y="329"/>
                  <a:pt x="19817" y="353"/>
                  <a:pt x="19748" y="353"/>
                </a:cubicBezTo>
                <a:cubicBezTo>
                  <a:pt x="19680" y="353"/>
                  <a:pt x="19624" y="353"/>
                  <a:pt x="19544" y="353"/>
                </a:cubicBezTo>
                <a:cubicBezTo>
                  <a:pt x="19465" y="353"/>
                  <a:pt x="19350" y="353"/>
                  <a:pt x="19270" y="353"/>
                </a:cubicBezTo>
                <a:cubicBezTo>
                  <a:pt x="19190" y="353"/>
                  <a:pt x="19133" y="353"/>
                  <a:pt x="19064" y="353"/>
                </a:cubicBezTo>
                <a:cubicBezTo>
                  <a:pt x="18996" y="353"/>
                  <a:pt x="18929" y="369"/>
                  <a:pt x="18861" y="353"/>
                </a:cubicBezTo>
                <a:cubicBezTo>
                  <a:pt x="18792" y="337"/>
                  <a:pt x="18723" y="289"/>
                  <a:pt x="18655" y="257"/>
                </a:cubicBezTo>
                <a:cubicBezTo>
                  <a:pt x="18586" y="224"/>
                  <a:pt x="18525" y="182"/>
                  <a:pt x="18451" y="157"/>
                </a:cubicBezTo>
                <a:cubicBezTo>
                  <a:pt x="18377" y="133"/>
                  <a:pt x="18284" y="123"/>
                  <a:pt x="18210" y="107"/>
                </a:cubicBezTo>
                <a:cubicBezTo>
                  <a:pt x="18136" y="91"/>
                  <a:pt x="18075" y="74"/>
                  <a:pt x="18006" y="58"/>
                </a:cubicBezTo>
                <a:cubicBezTo>
                  <a:pt x="17938" y="42"/>
                  <a:pt x="17869" y="16"/>
                  <a:pt x="17801" y="8"/>
                </a:cubicBezTo>
                <a:cubicBezTo>
                  <a:pt x="17732" y="0"/>
                  <a:pt x="17665" y="8"/>
                  <a:pt x="17597" y="8"/>
                </a:cubicBezTo>
                <a:cubicBezTo>
                  <a:pt x="17528" y="8"/>
                  <a:pt x="17460" y="8"/>
                  <a:pt x="17391" y="8"/>
                </a:cubicBezTo>
                <a:cubicBezTo>
                  <a:pt x="17322" y="8"/>
                  <a:pt x="17254" y="0"/>
                  <a:pt x="17185" y="8"/>
                </a:cubicBezTo>
                <a:cubicBezTo>
                  <a:pt x="17117" y="16"/>
                  <a:pt x="17050" y="42"/>
                  <a:pt x="16982" y="58"/>
                </a:cubicBezTo>
                <a:cubicBezTo>
                  <a:pt x="16913" y="74"/>
                  <a:pt x="16844" y="91"/>
                  <a:pt x="16776" y="107"/>
                </a:cubicBezTo>
                <a:cubicBezTo>
                  <a:pt x="16707" y="123"/>
                  <a:pt x="16639" y="133"/>
                  <a:pt x="16570" y="157"/>
                </a:cubicBezTo>
                <a:cubicBezTo>
                  <a:pt x="16502" y="182"/>
                  <a:pt x="16435" y="240"/>
                  <a:pt x="16366" y="257"/>
                </a:cubicBezTo>
                <a:cubicBezTo>
                  <a:pt x="16298" y="273"/>
                  <a:pt x="16235" y="240"/>
                  <a:pt x="16161" y="257"/>
                </a:cubicBezTo>
                <a:cubicBezTo>
                  <a:pt x="16086" y="273"/>
                  <a:pt x="15996" y="321"/>
                  <a:pt x="15922" y="353"/>
                </a:cubicBezTo>
                <a:cubicBezTo>
                  <a:pt x="15847" y="385"/>
                  <a:pt x="15786" y="420"/>
                  <a:pt x="15718" y="452"/>
                </a:cubicBezTo>
                <a:cubicBezTo>
                  <a:pt x="15649" y="484"/>
                  <a:pt x="15581" y="535"/>
                  <a:pt x="15512" y="551"/>
                </a:cubicBezTo>
                <a:cubicBezTo>
                  <a:pt x="15443" y="567"/>
                  <a:pt x="15375" y="551"/>
                  <a:pt x="15306" y="551"/>
                </a:cubicBezTo>
                <a:cubicBezTo>
                  <a:pt x="15238" y="551"/>
                  <a:pt x="15171" y="543"/>
                  <a:pt x="15102" y="551"/>
                </a:cubicBezTo>
                <a:cubicBezTo>
                  <a:pt x="15034" y="559"/>
                  <a:pt x="14971" y="570"/>
                  <a:pt x="14897" y="602"/>
                </a:cubicBezTo>
                <a:cubicBezTo>
                  <a:pt x="14823" y="634"/>
                  <a:pt x="14732" y="693"/>
                  <a:pt x="14658" y="749"/>
                </a:cubicBezTo>
                <a:cubicBezTo>
                  <a:pt x="14584" y="805"/>
                  <a:pt x="14521" y="891"/>
                  <a:pt x="14452" y="947"/>
                </a:cubicBezTo>
                <a:cubicBezTo>
                  <a:pt x="14383" y="1004"/>
                  <a:pt x="14317" y="1038"/>
                  <a:pt x="14248" y="1095"/>
                </a:cubicBezTo>
                <a:cubicBezTo>
                  <a:pt x="14180" y="1151"/>
                  <a:pt x="14111" y="1229"/>
                  <a:pt x="14042" y="1293"/>
                </a:cubicBezTo>
                <a:cubicBezTo>
                  <a:pt x="13974" y="1357"/>
                  <a:pt x="13905" y="1440"/>
                  <a:pt x="13837" y="1488"/>
                </a:cubicBezTo>
                <a:cubicBezTo>
                  <a:pt x="13768" y="1536"/>
                  <a:pt x="13701" y="1563"/>
                  <a:pt x="13633" y="1587"/>
                </a:cubicBezTo>
                <a:cubicBezTo>
                  <a:pt x="13564" y="1611"/>
                  <a:pt x="13496" y="1630"/>
                  <a:pt x="13427" y="1638"/>
                </a:cubicBezTo>
                <a:cubicBezTo>
                  <a:pt x="13359" y="1646"/>
                  <a:pt x="13292" y="1622"/>
                  <a:pt x="13223" y="1638"/>
                </a:cubicBezTo>
                <a:cubicBezTo>
                  <a:pt x="13155" y="1654"/>
                  <a:pt x="13086" y="1705"/>
                  <a:pt x="13018" y="1737"/>
                </a:cubicBezTo>
                <a:cubicBezTo>
                  <a:pt x="12949" y="1769"/>
                  <a:pt x="12881" y="1804"/>
                  <a:pt x="12812" y="1836"/>
                </a:cubicBezTo>
                <a:cubicBezTo>
                  <a:pt x="12743" y="1868"/>
                  <a:pt x="12677" y="1917"/>
                  <a:pt x="12608" y="1933"/>
                </a:cubicBezTo>
                <a:cubicBezTo>
                  <a:pt x="12540" y="1949"/>
                  <a:pt x="12471" y="1933"/>
                  <a:pt x="12402" y="1933"/>
                </a:cubicBezTo>
                <a:cubicBezTo>
                  <a:pt x="12334" y="1933"/>
                  <a:pt x="12265" y="1933"/>
                  <a:pt x="12197" y="1933"/>
                </a:cubicBezTo>
                <a:cubicBezTo>
                  <a:pt x="12128" y="1933"/>
                  <a:pt x="12061" y="1933"/>
                  <a:pt x="11993" y="1933"/>
                </a:cubicBezTo>
                <a:cubicBezTo>
                  <a:pt x="11924" y="1933"/>
                  <a:pt x="11856" y="1933"/>
                  <a:pt x="11787" y="1933"/>
                </a:cubicBezTo>
                <a:cubicBezTo>
                  <a:pt x="11719" y="1933"/>
                  <a:pt x="11652" y="1933"/>
                  <a:pt x="11583" y="1933"/>
                </a:cubicBezTo>
                <a:cubicBezTo>
                  <a:pt x="11515" y="1933"/>
                  <a:pt x="11446" y="1933"/>
                  <a:pt x="11378" y="1933"/>
                </a:cubicBezTo>
                <a:cubicBezTo>
                  <a:pt x="11309" y="1933"/>
                  <a:pt x="11241" y="1933"/>
                  <a:pt x="11172" y="1933"/>
                </a:cubicBezTo>
                <a:cubicBezTo>
                  <a:pt x="11103" y="1933"/>
                  <a:pt x="11037" y="1933"/>
                  <a:pt x="10968" y="1933"/>
                </a:cubicBezTo>
                <a:cubicBezTo>
                  <a:pt x="10900" y="1933"/>
                  <a:pt x="10831" y="1933"/>
                  <a:pt x="10762" y="1933"/>
                </a:cubicBezTo>
                <a:cubicBezTo>
                  <a:pt x="10694" y="1933"/>
                  <a:pt x="10631" y="1933"/>
                  <a:pt x="10557" y="1933"/>
                </a:cubicBezTo>
                <a:cubicBezTo>
                  <a:pt x="10483" y="1933"/>
                  <a:pt x="10392" y="1933"/>
                  <a:pt x="10318" y="1933"/>
                </a:cubicBezTo>
                <a:cubicBezTo>
                  <a:pt x="10244" y="1933"/>
                  <a:pt x="10188" y="1941"/>
                  <a:pt x="10114" y="1933"/>
                </a:cubicBezTo>
                <a:cubicBezTo>
                  <a:pt x="10040" y="1925"/>
                  <a:pt x="9954" y="1893"/>
                  <a:pt x="9875" y="1885"/>
                </a:cubicBezTo>
                <a:cubicBezTo>
                  <a:pt x="9795" y="1876"/>
                  <a:pt x="9715" y="1885"/>
                  <a:pt x="9636" y="1885"/>
                </a:cubicBezTo>
                <a:cubicBezTo>
                  <a:pt x="9556" y="1885"/>
                  <a:pt x="9476" y="1893"/>
                  <a:pt x="9397" y="1885"/>
                </a:cubicBezTo>
                <a:cubicBezTo>
                  <a:pt x="9317" y="1876"/>
                  <a:pt x="9235" y="1852"/>
                  <a:pt x="9156" y="1836"/>
                </a:cubicBezTo>
                <a:cubicBezTo>
                  <a:pt x="9076" y="1820"/>
                  <a:pt x="8991" y="1793"/>
                  <a:pt x="8917" y="1785"/>
                </a:cubicBezTo>
                <a:cubicBezTo>
                  <a:pt x="8843" y="1777"/>
                  <a:pt x="8781" y="1810"/>
                  <a:pt x="8713" y="1785"/>
                </a:cubicBezTo>
                <a:cubicBezTo>
                  <a:pt x="8644" y="1761"/>
                  <a:pt x="8576" y="1670"/>
                  <a:pt x="8507" y="1638"/>
                </a:cubicBezTo>
                <a:cubicBezTo>
                  <a:pt x="8439" y="1606"/>
                  <a:pt x="8372" y="1595"/>
                  <a:pt x="8303" y="1587"/>
                </a:cubicBezTo>
                <a:cubicBezTo>
                  <a:pt x="8235" y="1579"/>
                  <a:pt x="8172" y="1595"/>
                  <a:pt x="8098" y="1587"/>
                </a:cubicBezTo>
                <a:cubicBezTo>
                  <a:pt x="8024" y="1579"/>
                  <a:pt x="7938" y="1555"/>
                  <a:pt x="7859" y="1539"/>
                </a:cubicBezTo>
                <a:cubicBezTo>
                  <a:pt x="7779" y="1523"/>
                  <a:pt x="7699" y="1496"/>
                  <a:pt x="7620" y="1488"/>
                </a:cubicBezTo>
                <a:cubicBezTo>
                  <a:pt x="7540" y="1480"/>
                  <a:pt x="7455" y="1488"/>
                  <a:pt x="7380" y="1488"/>
                </a:cubicBezTo>
                <a:cubicBezTo>
                  <a:pt x="7306" y="1488"/>
                  <a:pt x="7249" y="1488"/>
                  <a:pt x="7175" y="1488"/>
                </a:cubicBezTo>
                <a:cubicBezTo>
                  <a:pt x="7101" y="1488"/>
                  <a:pt x="7010" y="1488"/>
                  <a:pt x="6936" y="1488"/>
                </a:cubicBezTo>
                <a:cubicBezTo>
                  <a:pt x="6862" y="1488"/>
                  <a:pt x="6799" y="1496"/>
                  <a:pt x="6730" y="1488"/>
                </a:cubicBezTo>
                <a:cubicBezTo>
                  <a:pt x="6661" y="1480"/>
                  <a:pt x="6600" y="1448"/>
                  <a:pt x="6526" y="1440"/>
                </a:cubicBezTo>
                <a:cubicBezTo>
                  <a:pt x="6452" y="1432"/>
                  <a:pt x="6361" y="1448"/>
                  <a:pt x="6287" y="1440"/>
                </a:cubicBezTo>
                <a:cubicBezTo>
                  <a:pt x="6213" y="1432"/>
                  <a:pt x="6161" y="1400"/>
                  <a:pt x="6081" y="1392"/>
                </a:cubicBezTo>
                <a:cubicBezTo>
                  <a:pt x="6002" y="1384"/>
                  <a:pt x="5889" y="1392"/>
                  <a:pt x="5809" y="1392"/>
                </a:cubicBezTo>
                <a:cubicBezTo>
                  <a:pt x="5729" y="1392"/>
                  <a:pt x="5677" y="1392"/>
                  <a:pt x="5603" y="1392"/>
                </a:cubicBezTo>
                <a:cubicBezTo>
                  <a:pt x="5529" y="1392"/>
                  <a:pt x="5438" y="1392"/>
                  <a:pt x="5364" y="1392"/>
                </a:cubicBezTo>
                <a:cubicBezTo>
                  <a:pt x="5290" y="1392"/>
                  <a:pt x="5227" y="1392"/>
                  <a:pt x="5159" y="1392"/>
                </a:cubicBezTo>
                <a:cubicBezTo>
                  <a:pt x="5090" y="1392"/>
                  <a:pt x="5023" y="1392"/>
                  <a:pt x="4955" y="1392"/>
                </a:cubicBezTo>
                <a:cubicBezTo>
                  <a:pt x="4886" y="1392"/>
                  <a:pt x="4818" y="1392"/>
                  <a:pt x="4749" y="1392"/>
                </a:cubicBezTo>
                <a:cubicBezTo>
                  <a:pt x="4680" y="1392"/>
                  <a:pt x="4617" y="1392"/>
                  <a:pt x="4543" y="1392"/>
                </a:cubicBezTo>
                <a:cubicBezTo>
                  <a:pt x="4469" y="1392"/>
                  <a:pt x="4384" y="1392"/>
                  <a:pt x="4304" y="1392"/>
                </a:cubicBezTo>
                <a:cubicBezTo>
                  <a:pt x="4225" y="1392"/>
                  <a:pt x="4150" y="1392"/>
                  <a:pt x="4065" y="1392"/>
                </a:cubicBezTo>
                <a:cubicBezTo>
                  <a:pt x="3980" y="1392"/>
                  <a:pt x="3873" y="1384"/>
                  <a:pt x="3793" y="1392"/>
                </a:cubicBezTo>
                <a:cubicBezTo>
                  <a:pt x="3713" y="1400"/>
                  <a:pt x="3656" y="1424"/>
                  <a:pt x="3587" y="1440"/>
                </a:cubicBezTo>
                <a:cubicBezTo>
                  <a:pt x="3519" y="1456"/>
                  <a:pt x="3450" y="1472"/>
                  <a:pt x="3381" y="1488"/>
                </a:cubicBezTo>
                <a:cubicBezTo>
                  <a:pt x="3313" y="1504"/>
                  <a:pt x="3252" y="1515"/>
                  <a:pt x="3178" y="1539"/>
                </a:cubicBezTo>
                <a:cubicBezTo>
                  <a:pt x="3103" y="1563"/>
                  <a:pt x="3013" y="1598"/>
                  <a:pt x="2939" y="1638"/>
                </a:cubicBezTo>
                <a:cubicBezTo>
                  <a:pt x="2864" y="1678"/>
                  <a:pt x="2807" y="1721"/>
                  <a:pt x="2733" y="1785"/>
                </a:cubicBezTo>
                <a:cubicBezTo>
                  <a:pt x="2659" y="1850"/>
                  <a:pt x="2568" y="1965"/>
                  <a:pt x="2494" y="2032"/>
                </a:cubicBezTo>
                <a:cubicBezTo>
                  <a:pt x="2420" y="2099"/>
                  <a:pt x="2357" y="2125"/>
                  <a:pt x="2288" y="2182"/>
                </a:cubicBezTo>
                <a:cubicBezTo>
                  <a:pt x="2220" y="2238"/>
                  <a:pt x="2170" y="2294"/>
                  <a:pt x="2084" y="2377"/>
                </a:cubicBezTo>
                <a:cubicBezTo>
                  <a:pt x="1999" y="2460"/>
                  <a:pt x="1862" y="2599"/>
                  <a:pt x="1777" y="2674"/>
                </a:cubicBezTo>
                <a:cubicBezTo>
                  <a:pt x="1691" y="2749"/>
                  <a:pt x="1640" y="2773"/>
                  <a:pt x="1571" y="2822"/>
                </a:cubicBezTo>
                <a:cubicBezTo>
                  <a:pt x="1502" y="2870"/>
                  <a:pt x="1436" y="2897"/>
                  <a:pt x="1367" y="2972"/>
                </a:cubicBezTo>
                <a:cubicBezTo>
                  <a:pt x="1299" y="3047"/>
                  <a:pt x="1230" y="3175"/>
                  <a:pt x="1161" y="3266"/>
                </a:cubicBezTo>
                <a:cubicBezTo>
                  <a:pt x="1093" y="3357"/>
                  <a:pt x="1024" y="3429"/>
                  <a:pt x="956" y="3512"/>
                </a:cubicBezTo>
                <a:cubicBezTo>
                  <a:pt x="887" y="3595"/>
                  <a:pt x="815" y="3670"/>
                  <a:pt x="752" y="3761"/>
                </a:cubicBezTo>
                <a:cubicBezTo>
                  <a:pt x="689" y="3853"/>
                  <a:pt x="628" y="3949"/>
                  <a:pt x="581" y="4056"/>
                </a:cubicBezTo>
                <a:cubicBezTo>
                  <a:pt x="535" y="4163"/>
                  <a:pt x="524" y="4294"/>
                  <a:pt x="478" y="4401"/>
                </a:cubicBezTo>
                <a:cubicBezTo>
                  <a:pt x="431" y="4509"/>
                  <a:pt x="352" y="4592"/>
                  <a:pt x="307" y="4699"/>
                </a:cubicBezTo>
                <a:cubicBezTo>
                  <a:pt x="263" y="4806"/>
                  <a:pt x="239" y="4929"/>
                  <a:pt x="205" y="5044"/>
                </a:cubicBezTo>
                <a:cubicBezTo>
                  <a:pt x="172" y="5159"/>
                  <a:pt x="124" y="5282"/>
                  <a:pt x="101" y="5389"/>
                </a:cubicBezTo>
                <a:cubicBezTo>
                  <a:pt x="79" y="5497"/>
                  <a:pt x="79" y="5588"/>
                  <a:pt x="68" y="5687"/>
                </a:cubicBezTo>
                <a:cubicBezTo>
                  <a:pt x="57" y="5786"/>
                  <a:pt x="40" y="5874"/>
                  <a:pt x="35" y="5981"/>
                </a:cubicBezTo>
                <a:cubicBezTo>
                  <a:pt x="29" y="6088"/>
                  <a:pt x="35" y="6220"/>
                  <a:pt x="35" y="6327"/>
                </a:cubicBezTo>
                <a:cubicBezTo>
                  <a:pt x="35" y="6434"/>
                  <a:pt x="35" y="6525"/>
                  <a:pt x="35" y="6624"/>
                </a:cubicBezTo>
                <a:cubicBezTo>
                  <a:pt x="35" y="6723"/>
                  <a:pt x="35" y="6822"/>
                  <a:pt x="35" y="6921"/>
                </a:cubicBezTo>
                <a:cubicBezTo>
                  <a:pt x="35" y="7020"/>
                  <a:pt x="35" y="7116"/>
                  <a:pt x="35" y="7216"/>
                </a:cubicBezTo>
                <a:cubicBezTo>
                  <a:pt x="35" y="7315"/>
                  <a:pt x="35" y="7406"/>
                  <a:pt x="35" y="7513"/>
                </a:cubicBezTo>
                <a:cubicBezTo>
                  <a:pt x="35" y="7620"/>
                  <a:pt x="35" y="7743"/>
                  <a:pt x="35" y="7858"/>
                </a:cubicBezTo>
                <a:cubicBezTo>
                  <a:pt x="35" y="7973"/>
                  <a:pt x="35" y="8088"/>
                  <a:pt x="35" y="8204"/>
                </a:cubicBezTo>
                <a:cubicBezTo>
                  <a:pt x="35" y="8319"/>
                  <a:pt x="35" y="8442"/>
                  <a:pt x="35" y="8549"/>
                </a:cubicBezTo>
                <a:cubicBezTo>
                  <a:pt x="35" y="8656"/>
                  <a:pt x="35" y="8739"/>
                  <a:pt x="35" y="8846"/>
                </a:cubicBezTo>
                <a:cubicBezTo>
                  <a:pt x="35" y="8953"/>
                  <a:pt x="40" y="9076"/>
                  <a:pt x="35" y="9192"/>
                </a:cubicBezTo>
                <a:cubicBezTo>
                  <a:pt x="29" y="9307"/>
                  <a:pt x="0" y="9430"/>
                  <a:pt x="0" y="9537"/>
                </a:cubicBezTo>
                <a:cubicBezTo>
                  <a:pt x="0" y="9644"/>
                  <a:pt x="29" y="9732"/>
                  <a:pt x="35" y="9832"/>
                </a:cubicBezTo>
                <a:cubicBezTo>
                  <a:pt x="40" y="9931"/>
                  <a:pt x="24" y="10030"/>
                  <a:pt x="35" y="10129"/>
                </a:cubicBezTo>
                <a:cubicBezTo>
                  <a:pt x="46" y="10228"/>
                  <a:pt x="68" y="10327"/>
                  <a:pt x="101" y="10426"/>
                </a:cubicBezTo>
                <a:cubicBezTo>
                  <a:pt x="135" y="10525"/>
                  <a:pt x="200" y="10621"/>
                  <a:pt x="239" y="10721"/>
                </a:cubicBezTo>
                <a:cubicBezTo>
                  <a:pt x="277" y="10820"/>
                  <a:pt x="294" y="10911"/>
                  <a:pt x="340" y="11018"/>
                </a:cubicBezTo>
                <a:cubicBezTo>
                  <a:pt x="387" y="11125"/>
                  <a:pt x="455" y="11248"/>
                  <a:pt x="513" y="11363"/>
                </a:cubicBezTo>
                <a:cubicBezTo>
                  <a:pt x="570" y="11478"/>
                  <a:pt x="626" y="11593"/>
                  <a:pt x="683" y="11709"/>
                </a:cubicBezTo>
                <a:cubicBezTo>
                  <a:pt x="741" y="11824"/>
                  <a:pt x="809" y="11947"/>
                  <a:pt x="854" y="12054"/>
                </a:cubicBezTo>
                <a:cubicBezTo>
                  <a:pt x="898" y="12161"/>
                  <a:pt x="909" y="12252"/>
                  <a:pt x="956" y="12351"/>
                </a:cubicBezTo>
                <a:cubicBezTo>
                  <a:pt x="1002" y="12450"/>
                  <a:pt x="1071" y="12547"/>
                  <a:pt x="1128" y="12646"/>
                </a:cubicBezTo>
                <a:cubicBezTo>
                  <a:pt x="1185" y="12745"/>
                  <a:pt x="1236" y="12860"/>
                  <a:pt x="1299" y="12943"/>
                </a:cubicBezTo>
                <a:cubicBezTo>
                  <a:pt x="1362" y="13026"/>
                  <a:pt x="1434" y="13066"/>
                  <a:pt x="1502" y="13141"/>
                </a:cubicBezTo>
                <a:cubicBezTo>
                  <a:pt x="1571" y="13216"/>
                  <a:pt x="1640" y="13323"/>
                  <a:pt x="1708" y="13387"/>
                </a:cubicBezTo>
                <a:cubicBezTo>
                  <a:pt x="1777" y="13452"/>
                  <a:pt x="1845" y="13468"/>
                  <a:pt x="1914" y="13535"/>
                </a:cubicBezTo>
                <a:cubicBezTo>
                  <a:pt x="1982" y="13602"/>
                  <a:pt x="2043" y="13701"/>
                  <a:pt x="2118" y="13784"/>
                </a:cubicBezTo>
                <a:cubicBezTo>
                  <a:pt x="2192" y="13867"/>
                  <a:pt x="2288" y="13939"/>
                  <a:pt x="2357" y="14030"/>
                </a:cubicBezTo>
                <a:cubicBezTo>
                  <a:pt x="2425" y="14121"/>
                  <a:pt x="2464" y="14242"/>
                  <a:pt x="2527" y="14325"/>
                </a:cubicBezTo>
                <a:cubicBezTo>
                  <a:pt x="2590" y="14408"/>
                  <a:pt x="2664" y="14466"/>
                  <a:pt x="2733" y="14523"/>
                </a:cubicBezTo>
                <a:cubicBezTo>
                  <a:pt x="2801" y="14579"/>
                  <a:pt x="2870" y="14630"/>
                  <a:pt x="2939" y="14670"/>
                </a:cubicBezTo>
                <a:cubicBezTo>
                  <a:pt x="3007" y="14710"/>
                  <a:pt x="3068" y="14729"/>
                  <a:pt x="3142" y="14769"/>
                </a:cubicBezTo>
                <a:cubicBezTo>
                  <a:pt x="3217" y="14809"/>
                  <a:pt x="3307" y="14871"/>
                  <a:pt x="3381" y="14919"/>
                </a:cubicBezTo>
                <a:cubicBezTo>
                  <a:pt x="3456" y="14967"/>
                  <a:pt x="3519" y="14991"/>
                  <a:pt x="3587" y="15066"/>
                </a:cubicBezTo>
                <a:cubicBezTo>
                  <a:pt x="3656" y="15141"/>
                  <a:pt x="3735" y="15264"/>
                  <a:pt x="3793" y="15363"/>
                </a:cubicBezTo>
                <a:cubicBezTo>
                  <a:pt x="3850" y="15462"/>
                  <a:pt x="3871" y="15567"/>
                  <a:pt x="3928" y="15658"/>
                </a:cubicBezTo>
                <a:cubicBezTo>
                  <a:pt x="3986" y="15749"/>
                  <a:pt x="4065" y="15856"/>
                  <a:pt x="4134" y="15904"/>
                </a:cubicBezTo>
                <a:cubicBezTo>
                  <a:pt x="4202" y="15952"/>
                  <a:pt x="4271" y="15939"/>
                  <a:pt x="4340" y="15955"/>
                </a:cubicBezTo>
                <a:cubicBezTo>
                  <a:pt x="4408" y="15971"/>
                  <a:pt x="4475" y="15979"/>
                  <a:pt x="4543" y="16003"/>
                </a:cubicBezTo>
                <a:cubicBezTo>
                  <a:pt x="4612" y="16027"/>
                  <a:pt x="4680" y="16086"/>
                  <a:pt x="4749" y="16102"/>
                </a:cubicBezTo>
                <a:cubicBezTo>
                  <a:pt x="4818" y="16119"/>
                  <a:pt x="4886" y="16102"/>
                  <a:pt x="4955" y="16102"/>
                </a:cubicBezTo>
                <a:cubicBezTo>
                  <a:pt x="5023" y="16102"/>
                  <a:pt x="5084" y="16078"/>
                  <a:pt x="5159" y="16102"/>
                </a:cubicBezTo>
                <a:cubicBezTo>
                  <a:pt x="5233" y="16127"/>
                  <a:pt x="5318" y="16193"/>
                  <a:pt x="5398" y="16250"/>
                </a:cubicBezTo>
                <a:cubicBezTo>
                  <a:pt x="5477" y="16306"/>
                  <a:pt x="5563" y="16416"/>
                  <a:pt x="5637" y="16448"/>
                </a:cubicBezTo>
                <a:cubicBezTo>
                  <a:pt x="5711" y="16480"/>
                  <a:pt x="5774" y="16440"/>
                  <a:pt x="5842" y="16448"/>
                </a:cubicBezTo>
                <a:cubicBezTo>
                  <a:pt x="5911" y="16456"/>
                  <a:pt x="5980" y="16475"/>
                  <a:pt x="6048" y="16499"/>
                </a:cubicBezTo>
                <a:cubicBezTo>
                  <a:pt x="6117" y="16523"/>
                  <a:pt x="6183" y="16571"/>
                  <a:pt x="6252" y="16595"/>
                </a:cubicBezTo>
                <a:cubicBezTo>
                  <a:pt x="6321" y="16619"/>
                  <a:pt x="6389" y="16638"/>
                  <a:pt x="6458" y="16646"/>
                </a:cubicBezTo>
                <a:cubicBezTo>
                  <a:pt x="6526" y="16654"/>
                  <a:pt x="6593" y="16646"/>
                  <a:pt x="6661" y="16646"/>
                </a:cubicBezTo>
                <a:cubicBezTo>
                  <a:pt x="6730" y="16646"/>
                  <a:pt x="6787" y="16646"/>
                  <a:pt x="6867" y="16646"/>
                </a:cubicBezTo>
                <a:cubicBezTo>
                  <a:pt x="6947" y="16646"/>
                  <a:pt x="7062" y="16646"/>
                  <a:pt x="7141" y="16646"/>
                </a:cubicBezTo>
                <a:cubicBezTo>
                  <a:pt x="7221" y="16646"/>
                  <a:pt x="7277" y="16646"/>
                  <a:pt x="7345" y="16646"/>
                </a:cubicBezTo>
                <a:cubicBezTo>
                  <a:pt x="7414" y="16646"/>
                  <a:pt x="7482" y="16646"/>
                  <a:pt x="7551" y="16646"/>
                </a:cubicBezTo>
                <a:cubicBezTo>
                  <a:pt x="7620" y="16646"/>
                  <a:pt x="7686" y="16646"/>
                  <a:pt x="7755" y="16646"/>
                </a:cubicBezTo>
                <a:cubicBezTo>
                  <a:pt x="7823" y="16646"/>
                  <a:pt x="7927" y="16598"/>
                  <a:pt x="7961" y="16646"/>
                </a:cubicBezTo>
                <a:cubicBezTo>
                  <a:pt x="7994" y="16694"/>
                  <a:pt x="7994" y="16860"/>
                  <a:pt x="7961" y="16943"/>
                </a:cubicBezTo>
                <a:cubicBezTo>
                  <a:pt x="7927" y="17026"/>
                  <a:pt x="7812" y="17056"/>
                  <a:pt x="7755" y="17139"/>
                </a:cubicBezTo>
                <a:cubicBezTo>
                  <a:pt x="7697" y="17222"/>
                  <a:pt x="7642" y="17337"/>
                  <a:pt x="7620" y="17436"/>
                </a:cubicBezTo>
                <a:cubicBezTo>
                  <a:pt x="7597" y="17535"/>
                  <a:pt x="7608" y="17634"/>
                  <a:pt x="7620" y="17733"/>
                </a:cubicBezTo>
                <a:cubicBezTo>
                  <a:pt x="7631" y="17832"/>
                  <a:pt x="7649" y="17929"/>
                  <a:pt x="7688" y="18028"/>
                </a:cubicBezTo>
                <a:cubicBezTo>
                  <a:pt x="7727" y="18127"/>
                  <a:pt x="7796" y="18226"/>
                  <a:pt x="7859" y="18325"/>
                </a:cubicBezTo>
                <a:cubicBezTo>
                  <a:pt x="7922" y="18424"/>
                  <a:pt x="7994" y="18536"/>
                  <a:pt x="8062" y="18619"/>
                </a:cubicBezTo>
                <a:cubicBezTo>
                  <a:pt x="8131" y="18702"/>
                  <a:pt x="8194" y="18761"/>
                  <a:pt x="8268" y="18817"/>
                </a:cubicBezTo>
                <a:cubicBezTo>
                  <a:pt x="8342" y="18874"/>
                  <a:pt x="8433" y="18925"/>
                  <a:pt x="8507" y="18965"/>
                </a:cubicBezTo>
                <a:cubicBezTo>
                  <a:pt x="8581" y="19005"/>
                  <a:pt x="8644" y="19048"/>
                  <a:pt x="8713" y="19064"/>
                </a:cubicBezTo>
                <a:cubicBezTo>
                  <a:pt x="8781" y="19080"/>
                  <a:pt x="8848" y="19064"/>
                  <a:pt x="8917" y="19064"/>
                </a:cubicBezTo>
                <a:cubicBezTo>
                  <a:pt x="8985" y="19064"/>
                  <a:pt x="9048" y="19064"/>
                  <a:pt x="9122" y="19064"/>
                </a:cubicBezTo>
                <a:cubicBezTo>
                  <a:pt x="9197" y="19064"/>
                  <a:pt x="9287" y="19064"/>
                  <a:pt x="9361" y="19064"/>
                </a:cubicBezTo>
                <a:cubicBezTo>
                  <a:pt x="9436" y="19064"/>
                  <a:pt x="9493" y="19064"/>
                  <a:pt x="9567" y="19064"/>
                </a:cubicBezTo>
                <a:cubicBezTo>
                  <a:pt x="9641" y="19064"/>
                  <a:pt x="9727" y="19064"/>
                  <a:pt x="9806" y="19064"/>
                </a:cubicBezTo>
                <a:cubicBezTo>
                  <a:pt x="9886" y="19064"/>
                  <a:pt x="9971" y="19064"/>
                  <a:pt x="10045" y="19064"/>
                </a:cubicBezTo>
                <a:cubicBezTo>
                  <a:pt x="10119" y="19064"/>
                  <a:pt x="10181" y="19064"/>
                  <a:pt x="10249" y="19064"/>
                </a:cubicBezTo>
                <a:cubicBezTo>
                  <a:pt x="10318" y="19064"/>
                  <a:pt x="10386" y="19064"/>
                  <a:pt x="10455" y="19064"/>
                </a:cubicBezTo>
                <a:cubicBezTo>
                  <a:pt x="10523" y="19064"/>
                  <a:pt x="10592" y="19032"/>
                  <a:pt x="10661" y="19064"/>
                </a:cubicBezTo>
                <a:cubicBezTo>
                  <a:pt x="10729" y="19096"/>
                  <a:pt x="10796" y="19187"/>
                  <a:pt x="10864" y="19262"/>
                </a:cubicBezTo>
                <a:cubicBezTo>
                  <a:pt x="10933" y="19337"/>
                  <a:pt x="11018" y="19417"/>
                  <a:pt x="11070" y="19508"/>
                </a:cubicBezTo>
                <a:cubicBezTo>
                  <a:pt x="11122" y="19599"/>
                  <a:pt x="11150" y="19706"/>
                  <a:pt x="11172" y="19806"/>
                </a:cubicBezTo>
                <a:cubicBezTo>
                  <a:pt x="11194" y="19905"/>
                  <a:pt x="11161" y="20012"/>
                  <a:pt x="11207" y="20103"/>
                </a:cubicBezTo>
                <a:cubicBezTo>
                  <a:pt x="11254" y="20194"/>
                  <a:pt x="11372" y="20266"/>
                  <a:pt x="11446" y="20349"/>
                </a:cubicBezTo>
                <a:cubicBezTo>
                  <a:pt x="11520" y="20432"/>
                  <a:pt x="11570" y="20531"/>
                  <a:pt x="11650" y="20595"/>
                </a:cubicBezTo>
                <a:cubicBezTo>
                  <a:pt x="11730" y="20660"/>
                  <a:pt x="11839" y="20694"/>
                  <a:pt x="11924" y="20743"/>
                </a:cubicBezTo>
                <a:cubicBezTo>
                  <a:pt x="12010" y="20791"/>
                  <a:pt x="12089" y="20852"/>
                  <a:pt x="12163" y="20893"/>
                </a:cubicBezTo>
                <a:cubicBezTo>
                  <a:pt x="12238" y="20933"/>
                  <a:pt x="12295" y="20949"/>
                  <a:pt x="12369" y="20989"/>
                </a:cubicBezTo>
                <a:cubicBezTo>
                  <a:pt x="12443" y="21029"/>
                  <a:pt x="12534" y="21099"/>
                  <a:pt x="12608" y="21139"/>
                </a:cubicBezTo>
                <a:cubicBezTo>
                  <a:pt x="12682" y="21179"/>
                  <a:pt x="12743" y="21206"/>
                  <a:pt x="12812" y="21238"/>
                </a:cubicBezTo>
                <a:cubicBezTo>
                  <a:pt x="12881" y="21270"/>
                  <a:pt x="12944" y="21297"/>
                  <a:pt x="13018" y="21337"/>
                </a:cubicBezTo>
                <a:cubicBezTo>
                  <a:pt x="13092" y="21377"/>
                  <a:pt x="13177" y="21460"/>
                  <a:pt x="13257" y="21484"/>
                </a:cubicBezTo>
                <a:cubicBezTo>
                  <a:pt x="13336" y="21508"/>
                  <a:pt x="13422" y="21484"/>
                  <a:pt x="13496" y="21484"/>
                </a:cubicBezTo>
                <a:cubicBezTo>
                  <a:pt x="13570" y="21484"/>
                  <a:pt x="13627" y="21468"/>
                  <a:pt x="13701" y="21484"/>
                </a:cubicBezTo>
                <a:cubicBezTo>
                  <a:pt x="13776" y="21500"/>
                  <a:pt x="13861" y="21567"/>
                  <a:pt x="13941" y="21583"/>
                </a:cubicBezTo>
                <a:cubicBezTo>
                  <a:pt x="14020" y="21600"/>
                  <a:pt x="14105" y="21583"/>
                  <a:pt x="14180" y="21583"/>
                </a:cubicBezTo>
                <a:cubicBezTo>
                  <a:pt x="14254" y="21583"/>
                  <a:pt x="14315" y="21583"/>
                  <a:pt x="14383" y="21583"/>
                </a:cubicBezTo>
                <a:cubicBezTo>
                  <a:pt x="14452" y="21583"/>
                  <a:pt x="14521" y="21583"/>
                  <a:pt x="14589" y="21583"/>
                </a:cubicBezTo>
                <a:cubicBezTo>
                  <a:pt x="14658" y="21583"/>
                  <a:pt x="14715" y="21583"/>
                  <a:pt x="14795" y="21583"/>
                </a:cubicBezTo>
                <a:cubicBezTo>
                  <a:pt x="14875" y="21583"/>
                  <a:pt x="14988" y="21583"/>
                  <a:pt x="15067" y="21583"/>
                </a:cubicBezTo>
                <a:cubicBezTo>
                  <a:pt x="15147" y="21583"/>
                  <a:pt x="15204" y="21583"/>
                  <a:pt x="15273" y="21583"/>
                </a:cubicBezTo>
                <a:cubicBezTo>
                  <a:pt x="15342" y="21583"/>
                  <a:pt x="15403" y="21600"/>
                  <a:pt x="15477" y="21583"/>
                </a:cubicBezTo>
                <a:cubicBezTo>
                  <a:pt x="15551" y="21567"/>
                  <a:pt x="15644" y="21516"/>
                  <a:pt x="15718" y="21484"/>
                </a:cubicBezTo>
                <a:cubicBezTo>
                  <a:pt x="15792" y="21452"/>
                  <a:pt x="15847" y="21433"/>
                  <a:pt x="15922" y="21385"/>
                </a:cubicBezTo>
                <a:cubicBezTo>
                  <a:pt x="15996" y="21337"/>
                  <a:pt x="16081" y="21270"/>
                  <a:pt x="16161" y="21187"/>
                </a:cubicBezTo>
                <a:cubicBezTo>
                  <a:pt x="16240" y="21104"/>
                  <a:pt x="16337" y="20992"/>
                  <a:pt x="16400" y="20893"/>
                </a:cubicBezTo>
                <a:cubicBezTo>
                  <a:pt x="16463" y="20794"/>
                  <a:pt x="16485" y="20694"/>
                  <a:pt x="16537" y="20595"/>
                </a:cubicBezTo>
                <a:cubicBezTo>
                  <a:pt x="16589" y="20496"/>
                  <a:pt x="16661" y="20397"/>
                  <a:pt x="16707" y="20298"/>
                </a:cubicBezTo>
                <a:cubicBezTo>
                  <a:pt x="16754" y="20199"/>
                  <a:pt x="16765" y="20103"/>
                  <a:pt x="16811" y="20004"/>
                </a:cubicBezTo>
                <a:cubicBezTo>
                  <a:pt x="16857" y="19905"/>
                  <a:pt x="16937" y="19806"/>
                  <a:pt x="16982" y="19706"/>
                </a:cubicBezTo>
                <a:cubicBezTo>
                  <a:pt x="17026" y="19607"/>
                  <a:pt x="17050" y="19508"/>
                  <a:pt x="17083" y="19409"/>
                </a:cubicBezTo>
                <a:cubicBezTo>
                  <a:pt x="17117" y="19310"/>
                  <a:pt x="17139" y="19214"/>
                  <a:pt x="17185" y="19115"/>
                </a:cubicBezTo>
                <a:cubicBezTo>
                  <a:pt x="17232" y="19016"/>
                  <a:pt x="17295" y="18909"/>
                  <a:pt x="17358" y="18817"/>
                </a:cubicBezTo>
                <a:cubicBezTo>
                  <a:pt x="17421" y="18726"/>
                  <a:pt x="17499" y="18662"/>
                  <a:pt x="17562" y="18571"/>
                </a:cubicBezTo>
                <a:cubicBezTo>
                  <a:pt x="17625" y="18480"/>
                  <a:pt x="17686" y="18373"/>
                  <a:pt x="17732" y="18274"/>
                </a:cubicBezTo>
                <a:cubicBezTo>
                  <a:pt x="17778" y="18175"/>
                  <a:pt x="17797" y="18078"/>
                  <a:pt x="17836" y="17979"/>
                </a:cubicBezTo>
                <a:cubicBezTo>
                  <a:pt x="17875" y="17880"/>
                  <a:pt x="17943" y="17781"/>
                  <a:pt x="17971" y="17682"/>
                </a:cubicBezTo>
                <a:cubicBezTo>
                  <a:pt x="17999" y="17583"/>
                  <a:pt x="17978" y="17484"/>
                  <a:pt x="18006" y="17385"/>
                </a:cubicBezTo>
                <a:cubicBezTo>
                  <a:pt x="18034" y="17286"/>
                  <a:pt x="18092" y="17190"/>
                  <a:pt x="18143" y="17090"/>
                </a:cubicBezTo>
                <a:cubicBezTo>
                  <a:pt x="18195" y="16991"/>
                  <a:pt x="18251" y="16849"/>
                  <a:pt x="18314" y="16793"/>
                </a:cubicBezTo>
                <a:cubicBezTo>
                  <a:pt x="18377" y="16737"/>
                  <a:pt x="18449" y="16753"/>
                  <a:pt x="18518" y="16745"/>
                </a:cubicBezTo>
                <a:cubicBezTo>
                  <a:pt x="18586" y="16737"/>
                  <a:pt x="18660" y="16793"/>
                  <a:pt x="18723" y="16745"/>
                </a:cubicBezTo>
                <a:cubicBezTo>
                  <a:pt x="18786" y="16697"/>
                  <a:pt x="18866" y="16496"/>
                  <a:pt x="18894" y="16448"/>
                </a:cubicBezTo>
              </a:path>
            </a:pathLst>
          </a:custGeom>
          <a:noFill/>
          <a:ln w="12708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19" name="Picture 4" descr="胜多负少"/>
          <p:cNvPicPr/>
          <p:nvPr/>
        </p:nvPicPr>
        <p:blipFill>
          <a:blip r:embed="rId2"/>
          <a:stretch/>
        </p:blipFill>
        <p:spPr>
          <a:xfrm rot="19620000">
            <a:off x="6314760" y="4492440"/>
            <a:ext cx="1887480" cy="1869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毛笔2"/>
          <p:cNvPicPr/>
          <p:nvPr/>
        </p:nvPicPr>
        <p:blipFill>
          <a:blip r:embed="rId3"/>
          <a:stretch/>
        </p:blipFill>
        <p:spPr>
          <a:xfrm>
            <a:off x="380880" y="5829480"/>
            <a:ext cx="579600" cy="6048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6"/>
          <p:cNvSpPr/>
          <p:nvPr/>
        </p:nvSpPr>
        <p:spPr>
          <a:xfrm>
            <a:off x="684360" y="260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闭关锁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政策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066680" y="6094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3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、影响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609480" y="182880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清政府的闭关锁国政策推行了近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200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年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积极影响：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它对西方殖民者的侵略活动，起过一定的自卫作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消极影响：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但是，与世隔绝，既看不到世界形势的变化，也未能适时地向西方学习先进的科学知识和生产技术，使中国在世界上逐渐落伍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5651280" cy="3716280"/>
          </a:xfrm>
          <a:prstGeom prst="rect">
            <a:avLst/>
          </a:prstGeom>
          <a:ln w="76320">
            <a:solidFill>
              <a:srgbClr val="afbf39"/>
            </a:solidFill>
            <a:miter/>
          </a:ln>
        </p:spPr>
      </p:pic>
      <p:sp>
        <p:nvSpPr>
          <p:cNvPr id="425" name="Text Box 3"/>
          <p:cNvSpPr/>
          <p:nvPr/>
        </p:nvSpPr>
        <p:spPr>
          <a:xfrm>
            <a:off x="2746440" y="1038240"/>
            <a:ext cx="10335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隶书"/>
              </a:rPr>
              <a:t>乾隆帝接见英国使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0" y="836640"/>
            <a:ext cx="284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隶书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隶书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乾隆帝给英王的赦谕说：“天朝物产丰盈，无所不有，原不籍外夷货物以通有无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隶书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嘉庆皇帝的上谕说：“天朝富有四海，岂需撮尔小国些微货物哉？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611280" y="4437000"/>
            <a:ext cx="770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3b812f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3b812f"/>
                </a:solidFill>
                <a:latin typeface="华文新魏"/>
                <a:ea typeface="华文新魏"/>
              </a:rPr>
              <a:t>）此话反映了清统治者怎样的思想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3b812f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3b812f"/>
                </a:solidFill>
                <a:latin typeface="华文新魏"/>
                <a:ea typeface="华文新魏"/>
              </a:rPr>
              <a:t>）清政府实行了什么政策？有何影响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3b812f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3b812f"/>
                </a:solidFill>
                <a:latin typeface="华文新魏"/>
                <a:ea typeface="华文新魏"/>
              </a:rPr>
              <a:t>）请联系当前对外开放谈谈自己的看法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0" y="304920"/>
            <a:ext cx="9144000" cy="947160"/>
          </a:xfrm>
          <a:prstGeom prst="rect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自恃中国地大物博，骄傲自大，藐视西方各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0" y="762120"/>
            <a:ext cx="4267080" cy="947160"/>
          </a:xfrm>
          <a:prstGeom prst="rect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闭关锁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西方殖民者的入侵曾起了一定的自卫作用，但限制了航海事业的发展，丧失了对外贸易的主动权，阻碍了手工业的进步；与世隔绝，限制了中外文化的交流，妨碍中国掌握世界先进的思想文化和科学知识、技术。使中国在世界上落伍了。在近代陷入了被动挨打的局面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0" y="3505320"/>
            <a:ext cx="9144000" cy="947160"/>
          </a:xfrm>
          <a:prstGeom prst="rect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一、从“闭关锁国”政策中汲取教训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坚定不移地走改革开放之路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304920" y="765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已趋于衰落的封建专制制度阻碍了社会各方面的进步；闭关锁国使中国资本主义萌芽的发展失去了广阔的海外市场，阻滞了资本的原始积累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学习目标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676160"/>
            <a:ext cx="8534520" cy="28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仿宋"/>
                <a:ea typeface="仿宋"/>
              </a:rPr>
              <a:t>1</a:t>
            </a:r>
            <a:r>
              <a:rPr b="1" lang="zh-CN" sz="4800" spc="-1" strike="noStrike">
                <a:solidFill>
                  <a:srgbClr val="ff0066"/>
                </a:solidFill>
                <a:latin typeface="仿宋"/>
                <a:ea typeface="仿宋"/>
              </a:rPr>
              <a:t>、明清经济发展的表现</a:t>
            </a:r>
            <a:r>
              <a:rPr b="1" lang="en-US" sz="4800" spc="-1" strike="noStrike">
                <a:solidFill>
                  <a:srgbClr val="ff0066"/>
                </a:solidFill>
                <a:latin typeface="仿宋"/>
                <a:ea typeface="仿宋"/>
              </a:rPr>
              <a:t>;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仿宋"/>
                <a:ea typeface="仿宋"/>
              </a:rPr>
              <a:t>2</a:t>
            </a:r>
            <a:r>
              <a:rPr b="1" lang="zh-CN" sz="4800" spc="-1" strike="noStrike">
                <a:solidFill>
                  <a:srgbClr val="ff0066"/>
                </a:solidFill>
                <a:latin typeface="仿宋"/>
                <a:ea typeface="仿宋"/>
              </a:rPr>
              <a:t>、资本主义性质的生产关系</a:t>
            </a:r>
            <a:r>
              <a:rPr b="1" lang="en-US" sz="4800" spc="-1" strike="noStrike">
                <a:solidFill>
                  <a:srgbClr val="ff0066"/>
                </a:solidFill>
                <a:latin typeface="仿宋"/>
                <a:ea typeface="仿宋"/>
              </a:rPr>
              <a:t>;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仿宋"/>
                <a:ea typeface="仿宋"/>
              </a:rPr>
              <a:t>3</a:t>
            </a:r>
            <a:r>
              <a:rPr b="1" lang="zh-CN" sz="4800" spc="-1" strike="noStrike">
                <a:solidFill>
                  <a:srgbClr val="ff0066"/>
                </a:solidFill>
                <a:latin typeface="仿宋"/>
                <a:ea typeface="仿宋"/>
              </a:rPr>
              <a:t>、“闭关锁国”的政策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09480" y="46483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本主义的萌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概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AutoShape 2"/>
          <p:cNvSpPr/>
          <p:nvPr/>
        </p:nvSpPr>
        <p:spPr>
          <a:xfrm>
            <a:off x="1476360" y="3500280"/>
            <a:ext cx="6696000" cy="2305080"/>
          </a:xfrm>
          <a:prstGeom prst="pie">
            <a:avLst/>
          </a:prstGeom>
          <a:solidFill>
            <a:srgbClr val="ff66ff"/>
          </a:solidFill>
          <a:ln cap="sq"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改革开放是强国之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547640" y="2997360"/>
            <a:ext cx="612000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今天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1547640" y="1484280"/>
            <a:ext cx="6121440" cy="581400"/>
            <a:chOff x="1547640" y="1484280"/>
            <a:chExt cx="6121440" cy="581400"/>
          </a:xfrm>
        </p:grpSpPr>
        <p:sp>
          <p:nvSpPr>
            <p:cNvPr id="436" name="Text Box 5"/>
            <p:cNvSpPr/>
            <p:nvPr/>
          </p:nvSpPr>
          <p:spPr>
            <a:xfrm>
              <a:off x="1547640" y="1484280"/>
              <a:ext cx="6121440" cy="58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唐朝         开明开放         国力强盛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37" name="Group 6"/>
            <p:cNvGrpSpPr/>
            <p:nvPr/>
          </p:nvGrpSpPr>
          <p:grpSpPr>
            <a:xfrm>
              <a:off x="2627280" y="1700280"/>
              <a:ext cx="3168720" cy="142920"/>
              <a:chOff x="2627280" y="1700280"/>
              <a:chExt cx="3168720" cy="142920"/>
            </a:xfrm>
          </p:grpSpPr>
          <p:sp>
            <p:nvSpPr>
              <p:cNvPr id="438" name="AutoShape 7"/>
              <p:cNvSpPr/>
              <p:nvPr/>
            </p:nvSpPr>
            <p:spPr>
              <a:xfrm>
                <a:off x="2627280" y="1700280"/>
                <a:ext cx="647640" cy="142920"/>
              </a:xfrm>
              <a:prstGeom prst="rightArrow">
                <a:avLst>
                  <a:gd name="adj1" fmla="val 50000"/>
                  <a:gd name="adj2" fmla="val 113224"/>
                </a:avLst>
              </a:prstGeom>
              <a:solidFill>
                <a:srgbClr val="0000ff"/>
              </a:solidFill>
              <a:ln cap="sq"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39" name="AutoShape 8"/>
              <p:cNvSpPr/>
              <p:nvPr/>
            </p:nvSpPr>
            <p:spPr>
              <a:xfrm>
                <a:off x="5148360" y="1700280"/>
                <a:ext cx="647640" cy="142920"/>
              </a:xfrm>
              <a:prstGeom prst="rightArrow">
                <a:avLst>
                  <a:gd name="adj1" fmla="val 50000"/>
                  <a:gd name="adj2" fmla="val 113224"/>
                </a:avLst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Group 9"/>
          <p:cNvGrpSpPr/>
          <p:nvPr/>
        </p:nvGrpSpPr>
        <p:grpSpPr>
          <a:xfrm>
            <a:off x="1547640" y="2349360"/>
            <a:ext cx="6119640" cy="520560"/>
            <a:chOff x="1547640" y="2349360"/>
            <a:chExt cx="6119640" cy="520560"/>
          </a:xfrm>
        </p:grpSpPr>
        <p:sp>
          <p:nvSpPr>
            <p:cNvPr id="441" name="Text Box 10"/>
            <p:cNvSpPr/>
            <p:nvPr/>
          </p:nvSpPr>
          <p:spPr>
            <a:xfrm>
              <a:off x="1547640" y="2349360"/>
              <a:ext cx="611964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清朝         闭关锁国         落后挨打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2" name="AutoShape 11"/>
            <p:cNvSpPr/>
            <p:nvPr/>
          </p:nvSpPr>
          <p:spPr>
            <a:xfrm>
              <a:off x="2484000" y="2493720"/>
              <a:ext cx="648000" cy="142920"/>
            </a:xfrm>
            <a:prstGeom prst="rightArrow">
              <a:avLst>
                <a:gd name="adj1" fmla="val 50000"/>
                <a:gd name="adj2" fmla="val 113287"/>
              </a:avLst>
            </a:prstGeom>
            <a:solidFill>
              <a:srgbClr val="cc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3" name="AutoShape 12"/>
            <p:cNvSpPr/>
            <p:nvPr/>
          </p:nvSpPr>
          <p:spPr>
            <a:xfrm>
              <a:off x="4716000" y="2493720"/>
              <a:ext cx="648000" cy="142920"/>
            </a:xfrm>
            <a:prstGeom prst="rightArrow">
              <a:avLst>
                <a:gd name="adj1" fmla="val 50000"/>
                <a:gd name="adj2" fmla="val 113287"/>
              </a:avLst>
            </a:prstGeom>
            <a:solidFill>
              <a:srgbClr val="cc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44" name="Rectangle 13"/>
          <p:cNvSpPr/>
          <p:nvPr/>
        </p:nvSpPr>
        <p:spPr>
          <a:xfrm>
            <a:off x="1116000" y="404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宋体"/>
              </a:rPr>
              <a:t>闭关锁国”带来的思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文本框 8199"/>
          <p:cNvSpPr/>
          <p:nvPr/>
        </p:nvSpPr>
        <p:spPr>
          <a:xfrm>
            <a:off x="1619280" y="966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火车"/>
          <p:cNvPicPr/>
          <p:nvPr/>
        </p:nvPicPr>
        <p:blipFill>
          <a:blip r:embed="rId1"/>
          <a:stretch/>
        </p:blipFill>
        <p:spPr>
          <a:xfrm>
            <a:off x="152280" y="3276720"/>
            <a:ext cx="4343400" cy="33350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20060118175651780"/>
          <p:cNvPicPr/>
          <p:nvPr/>
        </p:nvPicPr>
        <p:blipFill>
          <a:blip r:embed="rId2"/>
          <a:stretch/>
        </p:blipFill>
        <p:spPr>
          <a:xfrm>
            <a:off x="152280" y="0"/>
            <a:ext cx="4318200" cy="334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AA01188325"/>
          <p:cNvPicPr/>
          <p:nvPr/>
        </p:nvPicPr>
        <p:blipFill>
          <a:blip r:embed="rId3"/>
          <a:stretch/>
        </p:blipFill>
        <p:spPr>
          <a:xfrm>
            <a:off x="4500720" y="2819520"/>
            <a:ext cx="4414680" cy="372564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5"/>
          <p:cNvSpPr/>
          <p:nvPr/>
        </p:nvSpPr>
        <p:spPr>
          <a:xfrm>
            <a:off x="4648320" y="762120"/>
            <a:ext cx="41148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隶书"/>
                <a:ea typeface="隶书"/>
              </a:rPr>
              <a:t>18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世纪英国工业革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600200" y="3886200"/>
            <a:ext cx="563868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84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年时，中国人均粮食仅有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公斤左右，美国接近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公斤；中国年产铁不及法国的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/1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不及英国的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/4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3"/>
          <p:cNvSpPr/>
          <p:nvPr/>
        </p:nvSpPr>
        <p:spPr>
          <a:xfrm>
            <a:off x="609480" y="0"/>
            <a:ext cx="8229600" cy="22860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1840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年，英国人用枪炮轰开中国的大门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中国开始了百年屈辱的历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8E3B-3FE7-4507-9405-5DFF42AEAB50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304920" y="685800"/>
            <a:ext cx="88390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下列事物中，传入中国的时间先后顺序排列正确的是（       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            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①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玉米、甘薯     ②占城稻     ③胡旋舞      ④苜蓿、葡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. ① ② ④ ③      B. ② ③ ④ ①        C. ① ② ③ ④       D. ④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③ ② ①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花生、向日葵、马铃薯等农作物的原产地是（     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33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、西域　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、 西洋　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、东洋　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、 南美洲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明朝中后期资本主义萌芽的地区出现在（       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山西地区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皖南地区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苏州、松江地区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.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东南沿海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4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明朝中后期资本主义萌芽的判断依据是（    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．手工业的水平超过前代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．商品经济发展，对外贸易扩大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．手工业作坊增多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．出现“机户出资，机工出力”的雇佣与被雇佣的生产方式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5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清朝初期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4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年的对外政策是（      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严厉的海禁政策，不许百姓擅自出海贸易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四口对外通商，但有严格限制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广州一口通商，十三行管理对外贸易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.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对内改革，对外开放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6858000" y="914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5715000" y="198108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5715000" y="1905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5181480" y="2514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5181480" y="31240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3962520" y="4343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3809880" y="44197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9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152280" y="152280"/>
            <a:ext cx="91440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、明清时期经济的发展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AutoShape 8">
            <a:hlinkClick r:id="" action="ppaction://hlinkshowjump?jump=endshow"/>
          </p:cNvPr>
          <p:cNvSpPr/>
          <p:nvPr/>
        </p:nvSpPr>
        <p:spPr>
          <a:xfrm>
            <a:off x="8001000" y="6324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6628" y="10800"/>
                </a:moveTo>
                <a:lnTo>
                  <a:pt x="16123" y="17806"/>
                </a:lnTo>
                <a:lnTo>
                  <a:pt x="16123" y="3794"/>
                </a:lnTo>
                <a:close/>
              </a:path>
              <a:path fill="darken" w="46259" h="21600">
                <a:moveTo>
                  <a:pt x="28473" y="3794"/>
                </a:moveTo>
                <a:lnTo>
                  <a:pt x="28473" y="17806"/>
                </a:lnTo>
                <a:lnTo>
                  <a:pt x="30136" y="17806"/>
                </a:lnTo>
                <a:lnTo>
                  <a:pt x="30136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380880" y="54244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时间、地点、行业、表现、原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1298880" y="99072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农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1681560" y="194148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手工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1438560" y="293220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商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57200" y="3809880"/>
            <a:ext cx="8381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资本主义性质的生产关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的出现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3761640" y="9907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引种高产农作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4001040" y="1905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技艺先进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3961440" y="29718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商品经济空前活跃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52280" y="152280"/>
            <a:ext cx="91440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、明清时期经济的发展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AutoShape 3">
            <a:hlinkClick r:id="" action="ppaction://hlinkshowjump?jump=endshow"/>
          </p:cNvPr>
          <p:cNvSpPr/>
          <p:nvPr/>
        </p:nvSpPr>
        <p:spPr>
          <a:xfrm>
            <a:off x="8001000" y="6324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6628" y="10800"/>
                </a:moveTo>
                <a:lnTo>
                  <a:pt x="16123" y="17806"/>
                </a:lnTo>
                <a:lnTo>
                  <a:pt x="16123" y="3794"/>
                </a:lnTo>
                <a:close/>
              </a:path>
              <a:path fill="darken" w="46259" h="21600">
                <a:moveTo>
                  <a:pt x="28473" y="3794"/>
                </a:moveTo>
                <a:lnTo>
                  <a:pt x="28473" y="17806"/>
                </a:lnTo>
                <a:lnTo>
                  <a:pt x="30136" y="17806"/>
                </a:lnTo>
                <a:lnTo>
                  <a:pt x="30136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1298880" y="108108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农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761640" y="11574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引种高产农作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文本框 8199"/>
          <p:cNvSpPr/>
          <p:nvPr/>
        </p:nvSpPr>
        <p:spPr>
          <a:xfrm>
            <a:off x="733320" y="2284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581280" y="990720"/>
            <a:ext cx="2590920" cy="2438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3"/>
          <a:stretch/>
        </p:blipFill>
        <p:spPr>
          <a:xfrm>
            <a:off x="6400800" y="990720"/>
            <a:ext cx="2590920" cy="2438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4"/>
          <a:stretch/>
        </p:blipFill>
        <p:spPr>
          <a:xfrm>
            <a:off x="609480" y="3809880"/>
            <a:ext cx="2743200" cy="2362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5"/>
          <a:stretch/>
        </p:blipFill>
        <p:spPr>
          <a:xfrm>
            <a:off x="3581280" y="3809880"/>
            <a:ext cx="2819520" cy="2438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笔"/>
          <p:cNvPicPr/>
          <p:nvPr/>
        </p:nvPicPr>
        <p:blipFill>
          <a:blip r:embed="rId6"/>
          <a:stretch/>
        </p:blipFill>
        <p:spPr>
          <a:xfrm>
            <a:off x="8229600" y="6019920"/>
            <a:ext cx="579600" cy="603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447920" y="2819520"/>
            <a:ext cx="1066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玉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4419720" y="2819520"/>
            <a:ext cx="1066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甘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6858000" y="2819520"/>
            <a:ext cx="1447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马铃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1371600" y="5562720"/>
            <a:ext cx="1295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花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4648320" y="5486400"/>
            <a:ext cx="1295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向日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80880" y="228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明清时期的农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8" name="Group 14"/>
          <p:cNvGrpSpPr/>
          <p:nvPr/>
        </p:nvGrpSpPr>
        <p:grpSpPr>
          <a:xfrm>
            <a:off x="6858000" y="4419720"/>
            <a:ext cx="1715400" cy="1573560"/>
            <a:chOff x="6858000" y="4419720"/>
            <a:chExt cx="1715400" cy="1573560"/>
          </a:xfrm>
        </p:grpSpPr>
        <p:sp>
          <p:nvSpPr>
            <p:cNvPr id="249" name="WordArt 15"/>
            <p:cNvSpPr txBox="1"/>
            <p:nvPr/>
          </p:nvSpPr>
          <p:spPr>
            <a:xfrm rot="5400000">
              <a:off x="7295760" y="4664520"/>
              <a:ext cx="1522440" cy="103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162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宋体"/>
                </a:rPr>
                <a:t>？</a:t>
              </a:r>
              <a:endParaRPr b="0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50" name="Text Box 16"/>
            <p:cNvSpPr/>
            <p:nvPr/>
          </p:nvSpPr>
          <p:spPr>
            <a:xfrm>
              <a:off x="6858000" y="5411880"/>
              <a:ext cx="145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黑体"/>
                </a:rPr>
                <a:t>猜一猜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51" name="AutoShape 17"/>
          <p:cNvSpPr/>
          <p:nvPr/>
        </p:nvSpPr>
        <p:spPr>
          <a:xfrm>
            <a:off x="3124080" y="3200400"/>
            <a:ext cx="2665440" cy="1368360"/>
          </a:xfrm>
          <a:prstGeom prst="wedgeRoundRectCallout">
            <a:avLst>
              <a:gd name="adj1" fmla="val -94671"/>
              <a:gd name="adj2" fmla="val -57425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玉米，原产美洲大陆。最初传入欧洲（哥伦布）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世纪传入我国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>
            <a:off x="5105520" y="685800"/>
            <a:ext cx="3124080" cy="1368360"/>
          </a:xfrm>
          <a:prstGeom prst="wedgeRoundRectCallout">
            <a:avLst>
              <a:gd name="adj1" fmla="val -87245"/>
              <a:gd name="adj2" fmla="val 21578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甘薯，原产美洲大陆。最初传入欧洲和东南亚（哥伦布）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明万历年间传入我国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4876920" y="4038480"/>
            <a:ext cx="3124080" cy="1368720"/>
          </a:xfrm>
          <a:prstGeom prst="wedgeRoundRectCallout">
            <a:avLst>
              <a:gd name="adj1" fmla="val 52490"/>
              <a:gd name="adj2" fmla="val -132712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马铃薯，原产南美洲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明万历年间传入我国。欧洲直到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世纪末还将其当作观赏植物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AutoShape 20"/>
          <p:cNvSpPr/>
          <p:nvPr/>
        </p:nvSpPr>
        <p:spPr>
          <a:xfrm>
            <a:off x="0" y="2895480"/>
            <a:ext cx="3048120" cy="1368720"/>
          </a:xfrm>
          <a:prstGeom prst="wedgeRoundRectCallout">
            <a:avLst>
              <a:gd name="adj1" fmla="val -4375"/>
              <a:gd name="adj2" fmla="val 145939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花生，原产南美洲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世纪传入我国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其实我国种植花生的历史已有四千年的历史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AutoShape 21"/>
          <p:cNvSpPr/>
          <p:nvPr/>
        </p:nvSpPr>
        <p:spPr>
          <a:xfrm>
            <a:off x="2133720" y="2666880"/>
            <a:ext cx="3047760" cy="1008360"/>
          </a:xfrm>
          <a:prstGeom prst="wedgeRoundRectCallout">
            <a:avLst>
              <a:gd name="adj1" fmla="val 22134"/>
              <a:gd name="adj2" fmla="val 131259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向日葵，原产北美洲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大约在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世纪从东南亚传入我国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ae6731d34eccb1163bf3cfd1"/>
          <p:cNvPicPr/>
          <p:nvPr/>
        </p:nvPicPr>
        <p:blipFill>
          <a:blip r:embed="rId1"/>
          <a:stretch/>
        </p:blipFill>
        <p:spPr>
          <a:xfrm>
            <a:off x="0" y="0"/>
            <a:ext cx="9144000" cy="54133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1116000" y="5661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原产南美农作物传入中国的路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Freeform 4"/>
          <p:cNvSpPr/>
          <p:nvPr/>
        </p:nvSpPr>
        <p:spPr>
          <a:xfrm>
            <a:off x="2387520" y="2328840"/>
            <a:ext cx="1689120" cy="1052640"/>
          </a:xfrm>
          <a:custGeom>
            <a:avLst/>
            <a:gdLst/>
            <a:ahLst/>
            <a:rect l="l" t="t" r="r" b="b"/>
            <a:pathLst>
              <a:path w="1064" h="663">
                <a:moveTo>
                  <a:pt x="266" y="663"/>
                </a:moveTo>
                <a:cubicBezTo>
                  <a:pt x="226" y="572"/>
                  <a:pt x="0" y="222"/>
                  <a:pt x="26" y="117"/>
                </a:cubicBezTo>
                <a:cubicBezTo>
                  <a:pt x="52" y="12"/>
                  <a:pt x="320" y="51"/>
                  <a:pt x="422" y="33"/>
                </a:cubicBezTo>
                <a:cubicBezTo>
                  <a:pt x="524" y="15"/>
                  <a:pt x="576" y="0"/>
                  <a:pt x="638" y="9"/>
                </a:cubicBezTo>
                <a:cubicBezTo>
                  <a:pt x="700" y="18"/>
                  <a:pt x="723" y="83"/>
                  <a:pt x="794" y="87"/>
                </a:cubicBezTo>
                <a:cubicBezTo>
                  <a:pt x="865" y="91"/>
                  <a:pt x="1008" y="44"/>
                  <a:pt x="1064" y="33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Freeform 5"/>
          <p:cNvSpPr/>
          <p:nvPr/>
        </p:nvSpPr>
        <p:spPr>
          <a:xfrm>
            <a:off x="4124160" y="2281320"/>
            <a:ext cx="2752920" cy="985680"/>
          </a:xfrm>
          <a:custGeom>
            <a:avLst/>
            <a:gdLst/>
            <a:ahLst/>
            <a:rect l="l" t="t" r="r" b="b"/>
            <a:pathLst>
              <a:path w="1734" h="621">
                <a:moveTo>
                  <a:pt x="0" y="69"/>
                </a:moveTo>
                <a:cubicBezTo>
                  <a:pt x="24" y="57"/>
                  <a:pt x="90" y="10"/>
                  <a:pt x="146" y="5"/>
                </a:cubicBezTo>
                <a:cubicBezTo>
                  <a:pt x="202" y="0"/>
                  <a:pt x="256" y="27"/>
                  <a:pt x="336" y="39"/>
                </a:cubicBezTo>
                <a:cubicBezTo>
                  <a:pt x="416" y="51"/>
                  <a:pt x="548" y="44"/>
                  <a:pt x="624" y="75"/>
                </a:cubicBezTo>
                <a:cubicBezTo>
                  <a:pt x="700" y="106"/>
                  <a:pt x="699" y="183"/>
                  <a:pt x="792" y="225"/>
                </a:cubicBezTo>
                <a:cubicBezTo>
                  <a:pt x="885" y="267"/>
                  <a:pt x="1063" y="303"/>
                  <a:pt x="1182" y="327"/>
                </a:cubicBezTo>
                <a:cubicBezTo>
                  <a:pt x="1301" y="351"/>
                  <a:pt x="1414" y="320"/>
                  <a:pt x="1506" y="369"/>
                </a:cubicBezTo>
                <a:cubicBezTo>
                  <a:pt x="1598" y="418"/>
                  <a:pt x="1687" y="569"/>
                  <a:pt x="1734" y="621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Freeform 6"/>
          <p:cNvSpPr/>
          <p:nvPr/>
        </p:nvSpPr>
        <p:spPr>
          <a:xfrm>
            <a:off x="3852720" y="2505240"/>
            <a:ext cx="3538800" cy="2317680"/>
          </a:xfrm>
          <a:custGeom>
            <a:avLst/>
            <a:gdLst/>
            <a:ahLst/>
            <a:rect l="l" t="t" r="r" b="b"/>
            <a:pathLst>
              <a:path w="2229" h="1460">
                <a:moveTo>
                  <a:pt x="153" y="0"/>
                </a:moveTo>
                <a:cubicBezTo>
                  <a:pt x="136" y="31"/>
                  <a:pt x="75" y="116"/>
                  <a:pt x="51" y="186"/>
                </a:cubicBezTo>
                <a:cubicBezTo>
                  <a:pt x="27" y="256"/>
                  <a:pt x="0" y="342"/>
                  <a:pt x="9" y="420"/>
                </a:cubicBezTo>
                <a:cubicBezTo>
                  <a:pt x="18" y="498"/>
                  <a:pt x="55" y="614"/>
                  <a:pt x="105" y="654"/>
                </a:cubicBezTo>
                <a:cubicBezTo>
                  <a:pt x="155" y="694"/>
                  <a:pt x="255" y="638"/>
                  <a:pt x="309" y="660"/>
                </a:cubicBezTo>
                <a:cubicBezTo>
                  <a:pt x="363" y="682"/>
                  <a:pt x="387" y="665"/>
                  <a:pt x="429" y="786"/>
                </a:cubicBezTo>
                <a:cubicBezTo>
                  <a:pt x="471" y="907"/>
                  <a:pt x="495" y="1312"/>
                  <a:pt x="561" y="1386"/>
                </a:cubicBezTo>
                <a:cubicBezTo>
                  <a:pt x="627" y="1460"/>
                  <a:pt x="746" y="1344"/>
                  <a:pt x="825" y="1230"/>
                </a:cubicBezTo>
                <a:cubicBezTo>
                  <a:pt x="904" y="1116"/>
                  <a:pt x="933" y="786"/>
                  <a:pt x="1035" y="702"/>
                </a:cubicBezTo>
                <a:cubicBezTo>
                  <a:pt x="1137" y="618"/>
                  <a:pt x="1299" y="718"/>
                  <a:pt x="1437" y="726"/>
                </a:cubicBezTo>
                <a:cubicBezTo>
                  <a:pt x="1575" y="734"/>
                  <a:pt x="1731" y="793"/>
                  <a:pt x="1863" y="750"/>
                </a:cubicBezTo>
                <a:cubicBezTo>
                  <a:pt x="1995" y="707"/>
                  <a:pt x="2153" y="527"/>
                  <a:pt x="2229" y="468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0" y="0"/>
            <a:ext cx="4284720" cy="5300640"/>
          </a:xfrm>
          <a:prstGeom prst="wedgeRectCallout">
            <a:avLst>
              <a:gd name="adj1" fmla="val 110245"/>
              <a:gd name="adj2" fmla="val 8759"/>
            </a:avLst>
          </a:prstGeom>
          <a:solidFill>
            <a:srgbClr val="00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770480" y="3124080"/>
            <a:ext cx="127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美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3" name="Picture 9" descr="img008"/>
          <p:cNvPicPr/>
          <p:nvPr/>
        </p:nvPicPr>
        <p:blipFill>
          <a:blip r:embed="rId2"/>
          <a:stretch/>
        </p:blipFill>
        <p:spPr>
          <a:xfrm>
            <a:off x="0" y="0"/>
            <a:ext cx="445788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6"/>
          <p:cNvSpPr/>
          <p:nvPr/>
        </p:nvSpPr>
        <p:spPr>
          <a:xfrm>
            <a:off x="533520" y="838080"/>
            <a:ext cx="3581280" cy="609840"/>
          </a:xfrm>
          <a:prstGeom prst="flowChartDecision">
            <a:avLst/>
          </a:prstGeom>
          <a:solidFill>
            <a:srgbClr val="ffcc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农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6" name="Picture 7" descr="想一想"/>
          <p:cNvPicPr/>
          <p:nvPr/>
        </p:nvPicPr>
        <p:blipFill>
          <a:blip r:embed="rId2"/>
          <a:stretch/>
        </p:blipFill>
        <p:spPr>
          <a:xfrm>
            <a:off x="533520" y="3809880"/>
            <a:ext cx="2055600" cy="17020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8"/>
          <p:cNvSpPr/>
          <p:nvPr/>
        </p:nvSpPr>
        <p:spPr>
          <a:xfrm>
            <a:off x="1828800" y="1981080"/>
            <a:ext cx="3657600" cy="1600200"/>
          </a:xfrm>
          <a:prstGeom prst="cloudCallout">
            <a:avLst>
              <a:gd name="adj1" fmla="val -44402"/>
              <a:gd name="adj2" fmla="val 69976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引进农作物的意义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124080" y="3581280"/>
            <a:ext cx="57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大大丰富了我国农作物的品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3124080" y="4191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粮食产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3124080" y="4800600"/>
            <a:ext cx="32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饮食结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3124080" y="541008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手工业的发展提供了更多的原料，促进了手工业的进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52280" y="152280"/>
            <a:ext cx="91440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、明清时期经济的发展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AutoShape 3">
            <a:hlinkClick r:id="" action="ppaction://hlinkshowjump?jump=endshow"/>
          </p:cNvPr>
          <p:cNvSpPr/>
          <p:nvPr/>
        </p:nvSpPr>
        <p:spPr>
          <a:xfrm>
            <a:off x="8001000" y="6324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6628" y="10800"/>
                </a:moveTo>
                <a:lnTo>
                  <a:pt x="16123" y="17806"/>
                </a:lnTo>
                <a:lnTo>
                  <a:pt x="16123" y="3794"/>
                </a:lnTo>
                <a:close/>
              </a:path>
              <a:path fill="darken" w="46259" h="21600">
                <a:moveTo>
                  <a:pt x="28473" y="3794"/>
                </a:moveTo>
                <a:lnTo>
                  <a:pt x="28473" y="17806"/>
                </a:lnTo>
                <a:lnTo>
                  <a:pt x="30136" y="17806"/>
                </a:lnTo>
                <a:lnTo>
                  <a:pt x="30136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298880" y="99072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农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681560" y="194148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手工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761640" y="9907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引种高产农作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4001040" y="1905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技艺先进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2:48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10Z</dcterms:modified>
  <cp:revision>19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