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44D-D7EA-4F3E-9D8C-50382705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3CA-5F2F-467E-AF9D-D2524C91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40D-2F95-4BC6-B85D-43720687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04B-63FE-4B1A-9D87-7B798ABD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6A31-FB54-45F5-BA34-38775500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A1D3-F41D-4D1A-A02C-F41059C4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BE86-82B7-4D83-94AE-54BC67D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F5EC-F738-4336-A2D9-2527ECA4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F472-8956-4ECC-9991-8AD20E4F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A19D-B368-43F0-910C-4FD3C643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DC4E-B438-46A2-8702-6FFCC5AD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98B-D3C4-45A7-AF37-F1A63CA5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BE45-5BF0-4780-8251-54E4374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989-2E63-4667-A680-0F60451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75AF-4B19-44F5-80E9-407BD324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6AD6-3F13-4EFE-B15B-D22F2DA3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C42-8C91-4094-A611-0EE92832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9880-741F-400F-9CD4-E9FBC2AC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A4AA-3DA2-400C-9C03-1A9A570C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0393-AEBF-43A3-ACE3-A0CA968B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C803-A550-4148-86BA-225BEEF6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D019-37B1-471D-8A43-F9299E24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65F-8D93-4E15-A20B-6D28974B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EFB8-2FD7-4150-8B01-49BE0803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D54D-F1CE-4F46-9BDD-35D5DCCD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E7D5-EF57-49E5-A9A3-DE521DA1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20C0-DF20-4904-A2ED-66309B40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8B75-4977-4C6B-A735-B6FC914F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D412-F72F-4647-9AE2-F949D6AB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F335-7607-47A4-8030-3272B2F8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BE0-B220-4B26-9CE1-34CB9C45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DE9-800E-40C4-866E-EC198270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B90-3621-4C9F-9603-9F22EE40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F0F-0E5A-4DB5-B61E-E9D3650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0BD-2EA6-4930-AA59-C1363AB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680-E45F-4B95-9FFA-5019127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A70B-9AE5-43E6-A9DA-89CFD287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3B17-D25D-4D79-B49F-6622BA58C1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DC92-99C5-4CDB-8EB4-D0B41625F141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1_234"/>
          <p:cNvPicPr/>
          <p:nvPr/>
        </p:nvPicPr>
        <p:blipFill>
          <a:blip r:embed="rId1"/>
          <a:stretch/>
        </p:blipFill>
        <p:spPr>
          <a:xfrm>
            <a:off x="1908000" y="3068640"/>
            <a:ext cx="5040360" cy="30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042920" y="969840"/>
            <a:ext cx="703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宋体"/>
                <a:ea typeface="宋体"/>
              </a:rPr>
              <a:t>马说语文课件</a:t>
            </a:r>
            <a:r>
              <a:rPr b="0" lang="en-US" sz="4000" spc="-1" strike="noStrike">
                <a:solidFill>
                  <a:srgbClr val="3366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3366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01-旧日的私情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37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B08A-DE63-4220-9F2B-D68E15DBB8E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324000" y="1314360"/>
            <a:ext cx="856908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如果你怀才不遇，你会学那位古人的做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、韩 愈 怀 才不遇写文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、苏 秦 悬 梁刺骨暗发愤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、董邵南另寻高就求发展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、陶渊明归隐田园乐悠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876312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7"/>
          <p:cNvSpPr/>
          <p:nvPr/>
        </p:nvSpPr>
        <p:spPr>
          <a:xfrm>
            <a:off x="6012000" y="32367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0920" y="765000"/>
            <a:ext cx="512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900"/>
                </a:solidFill>
                <a:latin typeface="华文细黑"/>
                <a:ea typeface="华文细黑"/>
              </a:rPr>
              <a:t>        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韩愈 </a:t>
            </a:r>
            <a:r>
              <a:rPr b="1" lang="en-US" sz="3200" spc="-1" strike="noStrike">
                <a:solidFill>
                  <a:srgbClr val="dc5900"/>
                </a:solidFill>
                <a:latin typeface="黑体"/>
                <a:ea typeface="黑体"/>
              </a:rPr>
              <a:t>(768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dc5900"/>
                </a:solidFill>
                <a:latin typeface="黑体"/>
                <a:ea typeface="黑体"/>
              </a:rPr>
              <a:t>824),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字退之，唐代著名文学家。初登仕途时，很不得志。他曾三次上书宰相求擢用。很可惜有</a:t>
            </a:r>
            <a:r>
              <a:rPr b="1" lang="zh-CN" sz="3200" spc="-1" strike="noStrike">
                <a:solidFill>
                  <a:srgbClr val="dc5900"/>
                </a:solidFill>
                <a:latin typeface="华文细黑"/>
                <a:ea typeface="黑体"/>
              </a:rPr>
              <a:t>“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忧天下之心</a:t>
            </a:r>
            <a:r>
              <a:rPr b="1" lang="zh-CN" sz="3200" spc="-1" strike="noStrike">
                <a:solidFill>
                  <a:srgbClr val="dc5900"/>
                </a:solidFill>
                <a:latin typeface="华文细黑"/>
                <a:ea typeface="黑体"/>
              </a:rPr>
              <a:t>”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的他，终未被采纳。当时奸佞当权，政治黑暗，有才能之士不受重视，所以他有</a:t>
            </a:r>
            <a:r>
              <a:rPr b="1" lang="zh-CN" sz="3200" spc="-1" strike="noStrike">
                <a:solidFill>
                  <a:srgbClr val="dc5900"/>
                </a:solidFill>
                <a:latin typeface="华文细黑"/>
                <a:ea typeface="黑体"/>
              </a:rPr>
              <a:t>“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伯乐不常有</a:t>
            </a:r>
            <a:r>
              <a:rPr b="1" lang="zh-CN" sz="3200" spc="-1" strike="noStrike">
                <a:solidFill>
                  <a:srgbClr val="dc5900"/>
                </a:solidFill>
                <a:latin typeface="华文细黑"/>
                <a:ea typeface="黑体"/>
              </a:rPr>
              <a:t>”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之叹，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对埋没人才强烈不满，并加以揭露和抨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9" name="Picture 3" descr="聊斋志异——促织1"/>
          <p:cNvPicPr/>
          <p:nvPr/>
        </p:nvPicPr>
        <p:blipFill>
          <a:blip r:embed="rId1"/>
          <a:srcRect l="44448" t="0" r="14283" b="13638"/>
          <a:stretch/>
        </p:blipFill>
        <p:spPr>
          <a:xfrm>
            <a:off x="5410080" y="685800"/>
            <a:ext cx="3468960" cy="5562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Picture 11" descr="马说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24000" y="112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作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24000" y="191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朗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24000" y="458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拓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24000" y="371628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情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24000" y="278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配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24000" y="33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文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0920" y="1557360"/>
            <a:ext cx="860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”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古代的一种议论体裁，用以陈述作者对社会上某些问题的观点；写法十分灵活，可以叙事，可以议论，都是为了说明一个道理；讲究文采，和现在的杂文大致相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4920" y="476280"/>
            <a:ext cx="914400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世有伯乐，然后有千里马。千里马常有，而伯乐不常有。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名马，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辱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于奴隶人之手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骈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死于槽枥之间，不以千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马之千里者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或尽粟一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马者不知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千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也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马也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千里之能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饱，力不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才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美不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且欲与常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可得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求其能千里也 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策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之不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道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食之不能尽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材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鸣之而不能通其意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执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策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临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之，曰：“天下无马！”呜呼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真无马邪？其真不知马也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57200" y="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朗诵课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2843280" y="62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6012000" y="6206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203640" y="198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5796000" y="198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468360" y="256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5364000" y="2565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684360" y="3141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76720" y="952560"/>
            <a:ext cx="75960" cy="38160"/>
            <a:chOff x="3276720" y="952560"/>
            <a:chExt cx="75960" cy="38160"/>
          </a:xfrm>
        </p:grpSpPr>
        <p:sp>
          <p:nvSpPr>
            <p:cNvPr id="152" name="Line 37"/>
            <p:cNvSpPr/>
            <p:nvPr/>
          </p:nvSpPr>
          <p:spPr>
            <a:xfrm>
              <a:off x="3276720" y="952560"/>
              <a:ext cx="75960" cy="38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276720" y="952560"/>
              <a:ext cx="7596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19560" y="2514240"/>
            <a:ext cx="360" cy="360"/>
            <a:chOff x="6019560" y="2514240"/>
            <a:chExt cx="360" cy="360"/>
          </a:xfrm>
        </p:grpSpPr>
        <p:sp>
          <p:nvSpPr>
            <p:cNvPr id="155" name="Line 38"/>
            <p:cNvSpPr/>
            <p:nvPr/>
          </p:nvSpPr>
          <p:spPr>
            <a:xfrm>
              <a:off x="6019920" y="2514600"/>
              <a:ext cx="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6019560" y="2514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7" name="Text Box 39"/>
          <p:cNvSpPr/>
          <p:nvPr/>
        </p:nvSpPr>
        <p:spPr>
          <a:xfrm>
            <a:off x="4932360" y="198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AutoShape 40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马说  朗读欣赏2.wav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8194"/>
          <p:cNvSpPr/>
          <p:nvPr/>
        </p:nvSpPr>
        <p:spPr>
          <a:xfrm>
            <a:off x="2266920" y="5734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3452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-9360" y="476280"/>
            <a:ext cx="9144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世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伯乐，然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千里马。千里马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常有，而伯乐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常有。故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虽有名马，祗辱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奴隶人之手，骈死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槽枥之间，不以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千里称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马之千里者，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尽粟一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马者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知其能千里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也。是马也，虽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千里之能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饱，力不足，才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且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欲与常马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可得，安求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其能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千里也 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策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以其道，食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能尽其材，鸣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而不能通其意，执策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而临之，曰：“天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无马！”呜呼！其真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无马邪？其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真不知马也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朗诵课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8532720" y="602136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708360" y="62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877080" y="620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203640" y="198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940360" y="1916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900000" y="256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867280" y="2565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476360" y="3068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76720" y="952560"/>
            <a:ext cx="75960" cy="38160"/>
            <a:chOff x="3276720" y="952560"/>
            <a:chExt cx="75960" cy="38160"/>
          </a:xfrm>
        </p:grpSpPr>
        <p:sp>
          <p:nvSpPr>
            <p:cNvPr id="172" name="Line 15"/>
            <p:cNvSpPr/>
            <p:nvPr/>
          </p:nvSpPr>
          <p:spPr>
            <a:xfrm>
              <a:off x="3276720" y="952560"/>
              <a:ext cx="75960" cy="38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276720" y="952560"/>
              <a:ext cx="7596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19560" y="2514240"/>
            <a:ext cx="360" cy="360"/>
            <a:chOff x="6019560" y="2514240"/>
            <a:chExt cx="360" cy="360"/>
          </a:xfrm>
        </p:grpSpPr>
        <p:sp>
          <p:nvSpPr>
            <p:cNvPr id="175" name="Line 16"/>
            <p:cNvSpPr/>
            <p:nvPr/>
          </p:nvSpPr>
          <p:spPr>
            <a:xfrm>
              <a:off x="6019920" y="2514600"/>
              <a:ext cx="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6019560" y="2514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7" name="Text Box 17"/>
          <p:cNvSpPr/>
          <p:nvPr/>
        </p:nvSpPr>
        <p:spPr>
          <a:xfrm>
            <a:off x="5148360" y="1916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843280" y="2349360"/>
            <a:ext cx="25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808"/>
                </a:solidFill>
                <a:latin typeface="Arial"/>
              </a:rPr>
              <a:t>识马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250920" y="549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有个研究生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专业水平高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因其与人沟通的能力不行而找不到工作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一直没有被哪个单位重用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他不由地感慨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唉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______</a:t>
            </a:r>
            <a:r>
              <a:rPr b="0" lang="en-US" sz="3600" spc="-1" strike="noStrike" u="sng">
                <a:solidFill>
                  <a:srgbClr val="000808"/>
                </a:solidFill>
                <a:uFillTx/>
                <a:latin typeface="Arial"/>
              </a:rPr>
              <a:t>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2276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假设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你在短跑方面具有刘翔的天赋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但因饮食调养等因素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没有良好的身体素质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同时不能接受严格正规的训练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最终变成一个平常人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当有人笑你怎么成不了世界冠军时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你会说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:___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0" y="4292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当你遇到这样一个老师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上课不能正确引导你学习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每天的题海战术弄得你头晕目眩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当你想与他沟通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他又不能明白你的意思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你会说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: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文本框 8194"/>
          <p:cNvSpPr/>
          <p:nvPr/>
        </p:nvSpPr>
        <p:spPr>
          <a:xfrm>
            <a:off x="1692360" y="5734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539640" y="1989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808"/>
                </a:solidFill>
                <a:latin typeface="Arial"/>
              </a:rPr>
              <a:t>我是千里马，因为</a:t>
            </a:r>
            <a:r>
              <a:rPr b="0" lang="en-US" sz="6000" spc="-1" strike="noStrike">
                <a:solidFill>
                  <a:srgbClr val="000808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2:45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32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