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5.png" ContentType="image/png"/>
  <Override PartName="/ppt/media/image9.jpeg" ContentType="image/jpeg"/>
  <Override PartName="/ppt/media/image2.png" ContentType="image/png"/>
  <Override PartName="/ppt/media/explode.wav" ContentType="audio/x-wav"/>
  <Override PartName="/ppt/media/PROJCTOR.WAV" ContentType="audio/x-wav"/>
  <Override PartName="/ppt/media/image7.jpeg" ContentType="image/jpeg"/>
  <Override PartName="/ppt/media/CAMERA.WAV" ContentType="audio/x-wav"/>
  <Override PartName="/ppt/media/image3.jpeg" ContentType="image/jpeg"/>
  <Override PartName="/ppt/media/CHIMES.WAV" ContentType="audio/x-wav"/>
  <Override PartName="/ppt/media/image1.jpeg" ContentType="image/jpeg"/>
  <Override PartName="/ppt/media/image4.gif" ContentType="image/gif"/>
  <Override PartName="/ppt/media/image6.jpeg" ContentType="image/jpeg"/>
  <Override PartName="/ppt/media/chimes.wav" ContentType="audio/x-wav"/>
  <Override PartName="/ppt/media/cashreg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449-F2E8-4E89-AEDE-99999135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AF4-530A-4582-B4B2-D35E6E7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5E9-BBD5-4234-B6EE-525C303B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5B9-C252-4564-8B85-5DFDCBE8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20F3-D66D-44B6-8590-37FDCC45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5AA4-D4C8-462B-B913-681F56A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EFE-57F3-44C8-80BC-9F138CA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2197-DC8B-418B-A43D-16127C2B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173F-54B7-4D89-B527-163A1AE1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F7FB-0CD4-40CC-A9C7-BF24716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5F1B-6728-4483-8D9F-65D5E36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936-E8E9-4DD2-9082-1EC8D55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1BA6-14EE-4675-BF24-35E8607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11F-3C14-4612-8106-9042A3A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B1C0-E275-4CAB-B226-B3AE440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97DE-79E0-45B9-A22F-940A34CC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A117-6639-4EA4-B7F8-7A1D3E0C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65E-3E73-41F4-B435-0E68C67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4FC-C347-40C4-8B5A-96E7578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DA6-9D69-4917-B5A8-F961BFB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AC1-FC5E-4ED1-8683-C760AC0A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54A-9FD8-4C70-8E64-4DF04F1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8F9-17F8-4F2C-B6C2-C20FBC9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CAC-ABAC-4D9B-8917-91C1867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4721-F5E2-4DFA-A08B-DDAFE808F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297F-32A6-4E28-937D-57478AC81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94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642320" y="144792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茅屋为秋风所破歌语文</a:t>
            </a:r>
            <a:r>
              <a:rPr b="0" lang="en-US" sz="4000" spc="-1" strike="noStrike">
                <a:solidFill>
                  <a:srgbClr val="ff33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537600" y="2286000"/>
            <a:ext cx="16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杜甫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63634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463634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276720" y="6858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秋风破屋的情景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276720" y="23623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群童抱茅的感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76720" y="403848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长夜难眠的苦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495680" y="16765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aa947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495680" y="32767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aa947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867280" y="1143000"/>
            <a:ext cx="457200" cy="3048120"/>
          </a:xfrm>
          <a:custGeom>
            <a:avLst/>
            <a:gdLst>
              <a:gd name="textAreaLeft" fmla="*/ 0 w 457200"/>
              <a:gd name="textAreaRight" fmla="*/ 16488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93640" y="22096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推己及人</a:t>
            </a:r>
            <a:r>
              <a:rPr b="0" lang="zh-CN" sz="2800" spc="-1" strike="noStrike">
                <a:solidFill>
                  <a:srgbClr val="99ff33"/>
                </a:solidFill>
                <a:latin typeface="Times New Roman"/>
                <a:ea typeface="隶书"/>
              </a:rPr>
              <a:t>的胸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374360" y="121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37400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374000" y="449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50772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愿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43520" y="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课文板书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0" name="Picture 15" descr="22"/>
          <p:cNvPicPr/>
          <p:nvPr/>
        </p:nvPicPr>
        <p:blipFill>
          <a:blip r:embed="rId1"/>
          <a:stretch/>
        </p:blipFill>
        <p:spPr>
          <a:xfrm>
            <a:off x="380880" y="685800"/>
            <a:ext cx="2786040" cy="4191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back2"/>
          <p:cNvPicPr/>
          <p:nvPr/>
        </p:nvPicPr>
        <p:blipFill>
          <a:blip r:embed="rId2"/>
          <a:stretch/>
        </p:blipFill>
        <p:spPr>
          <a:xfrm>
            <a:off x="7924680" y="6095880"/>
            <a:ext cx="838440" cy="457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4176360" y="176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947e"/>
                </a:solidFill>
                <a:latin typeface="Times New Roman"/>
              </a:rPr>
              <a:t>现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48000" y="15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a947e"/>
                </a:solidFill>
                <a:latin typeface="Times New Roman"/>
              </a:rPr>
              <a:t>理想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181480" y="457200"/>
            <a:ext cx="1371600" cy="360"/>
            <a:chOff x="5181480" y="457200"/>
            <a:chExt cx="1371600" cy="360"/>
          </a:xfrm>
        </p:grpSpPr>
        <p:sp>
          <p:nvSpPr>
            <p:cNvPr id="165" name="Line 19"/>
            <p:cNvSpPr/>
            <p:nvPr/>
          </p:nvSpPr>
          <p:spPr>
            <a:xfrm>
              <a:off x="5181480" y="457200"/>
              <a:ext cx="1371600" cy="0"/>
            </a:xfrm>
            <a:prstGeom prst="line">
              <a:avLst/>
            </a:prstGeom>
            <a:ln w="19080">
              <a:solidFill>
                <a:srgbClr val="cc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5181480" y="4572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67" name="文本框 8194"/>
          <p:cNvSpPr/>
          <p:nvPr/>
        </p:nvSpPr>
        <p:spPr>
          <a:xfrm>
            <a:off x="1619280" y="5157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0"/>
            <a:ext cx="6629400" cy="37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393a18"/>
                </a:solidFill>
                <a:latin typeface="Times New Roman"/>
                <a:ea typeface="华文琥珀"/>
              </a:rPr>
              <a:t>闻官军收河南河北</a:t>
            </a:r>
            <a:br>
              <a:rPr sz="3600"/>
            </a:br>
            <a:r>
              <a:rPr b="0" lang="zh-CN" sz="2800" spc="-1" strike="noStrike">
                <a:solidFill>
                  <a:srgbClr val="393a18"/>
                </a:solidFill>
                <a:latin typeface="Times New Roman"/>
                <a:ea typeface="楷体_GB2312"/>
              </a:rPr>
              <a:t>剑外忽传收蓟北，初闻涕泪满衣裳。 </a:t>
            </a:r>
            <a:br>
              <a:rPr sz="2800"/>
            </a:br>
            <a:r>
              <a:rPr b="0" lang="zh-CN" sz="2800" spc="-1" strike="noStrike">
                <a:solidFill>
                  <a:srgbClr val="393a18"/>
                </a:solidFill>
                <a:latin typeface="Times New Roman"/>
                <a:ea typeface="楷体_GB2312"/>
              </a:rPr>
              <a:t>却看妻子愁何在，漫卷诗书喜欲狂。 </a:t>
            </a:r>
            <a:br>
              <a:rPr sz="2800"/>
            </a:br>
            <a:r>
              <a:rPr b="0" lang="zh-CN" sz="2800" spc="-1" strike="noStrike">
                <a:solidFill>
                  <a:srgbClr val="393a18"/>
                </a:solidFill>
                <a:latin typeface="Times New Roman"/>
                <a:ea typeface="楷体_GB2312"/>
              </a:rPr>
              <a:t>白首放歌须纵酒，青春作伴好还乡。 </a:t>
            </a:r>
            <a:br>
              <a:rPr sz="2800"/>
            </a:br>
            <a:r>
              <a:rPr b="0" lang="zh-CN" sz="2800" spc="-1" strike="noStrike">
                <a:solidFill>
                  <a:srgbClr val="393a18"/>
                </a:solidFill>
                <a:latin typeface="Times New Roman"/>
                <a:ea typeface="楷体_GB2312"/>
              </a:rPr>
              <a:t>即从巴峡穿巫峡，便下襄阳向洛阳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2743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     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  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</a:rPr>
              <a:t>这首诗作于代宗广德元年（７６３）春。延续七年多的安史之乱终于结束了。诗人在剑南喜闻蓟北光复，想到国家可以重新安定，人民可过安定生活，自己可以携眷还乡，喜极而涕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诗人的“喜”，从另一个方面表现了他忧国忧民的深沉情感。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</a:rPr>
              <a:t>全诗毫无点饰，情真意切。读首诗，我们可以想象作者当时对着妻儿侃侃讲述捷报，手舞足蹈，惊喜欲狂的神态。因此，历代诗论家都极为推崇这首诗，浦起龙在</a:t>
            </a:r>
            <a:r>
              <a:rPr b="0" lang="en-US" sz="2800" spc="-1" strike="noStrike">
                <a:solidFill>
                  <a:srgbClr val="2911d7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</a:rPr>
              <a:t>读杜心解</a:t>
            </a:r>
            <a:r>
              <a:rPr b="0" lang="en-US" sz="2800" spc="-1" strike="noStrike">
                <a:solidFill>
                  <a:srgbClr val="2911d7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2911d7"/>
                </a:solidFill>
                <a:latin typeface="Times New Roman"/>
              </a:rPr>
              <a:t>中称赞它是杜甫“生平第一首快诗。”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AutoShape 5">
            <a:hlinkClick r:id="" action="ppaction://hlinkshowjump?jump=nextslide"/>
          </p:cNvPr>
          <p:cNvSpPr/>
          <p:nvPr/>
        </p:nvSpPr>
        <p:spPr>
          <a:xfrm>
            <a:off x="8458200" y="61722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914400" y="304920"/>
            <a:ext cx="68580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杜甫忧国忧民的诗歌名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</a:t>
            </a: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国破山河在，城春草木深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                </a:t>
            </a: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朱门酒肉臭，路有冻死骨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                </a:t>
            </a:r>
            <a:r>
              <a:rPr b="0" lang="zh-CN" sz="3200" spc="-1" strike="noStrike">
                <a:solidFill>
                  <a:srgbClr val="2911d7"/>
                </a:solidFill>
                <a:latin typeface="Times New Roman"/>
                <a:ea typeface="方正隶书简体"/>
              </a:rPr>
              <a:t>穷年忧黎元，叹息肠内热。 </a:t>
            </a: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1440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         </a:t>
            </a: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任何一个诗人也不能由于他自己和靠描写他自己而显得伟大 ，是因为他们的痛苦和幸福的根系深深地伸进了社会和历史的土壤里，因为他是社会、朝代、人类的器官和代表。 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                                          －－</a:t>
            </a:r>
            <a:r>
              <a:rPr b="1" i="1" lang="en-US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〔</a:t>
            </a: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前苏联</a:t>
            </a:r>
            <a:r>
              <a:rPr b="1" i="1" lang="en-US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〕</a:t>
            </a:r>
            <a:r>
              <a:rPr b="1" i="1" lang="zh-CN" sz="2400" spc="-1" strike="noStrike">
                <a:solidFill>
                  <a:srgbClr val="156520"/>
                </a:solidFill>
                <a:latin typeface="Times New Roman"/>
                <a:ea typeface="幼圆"/>
              </a:rPr>
              <a:t>别林斯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AutoShape 5">
            <a:hlinkClick r:id="" action="ppaction://hlinkshowjump?jump=nextslide"/>
          </p:cNvPr>
          <p:cNvSpPr/>
          <p:nvPr/>
        </p:nvSpPr>
        <p:spPr>
          <a:xfrm>
            <a:off x="8458200" y="60958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4299" y="10809"/>
                </a:moveTo>
                <a:lnTo>
                  <a:pt x="3794" y="17815"/>
                </a:lnTo>
                <a:lnTo>
                  <a:pt x="3794" y="3803"/>
                </a:lnTo>
                <a:close/>
              </a:path>
              <a:path fill="darken" w="21600" h="21618">
                <a:moveTo>
                  <a:pt x="16144" y="3803"/>
                </a:moveTo>
                <a:lnTo>
                  <a:pt x="16144" y="17815"/>
                </a:lnTo>
                <a:lnTo>
                  <a:pt x="17806" y="17815"/>
                </a:lnTo>
                <a:lnTo>
                  <a:pt x="17806" y="3803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-2895480" y="258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78" name="Group 8"/>
          <p:cNvGrpSpPr/>
          <p:nvPr/>
        </p:nvGrpSpPr>
        <p:grpSpPr>
          <a:xfrm>
            <a:off x="1600200" y="2583000"/>
            <a:ext cx="2895480" cy="1692000"/>
            <a:chOff x="1600200" y="2583000"/>
            <a:chExt cx="2895480" cy="1692000"/>
          </a:xfrm>
        </p:grpSpPr>
        <p:grpSp>
          <p:nvGrpSpPr>
            <p:cNvPr id="179" name="Group 6"/>
            <p:cNvGrpSpPr/>
            <p:nvPr/>
          </p:nvGrpSpPr>
          <p:grpSpPr>
            <a:xfrm>
              <a:off x="1600200" y="2583000"/>
              <a:ext cx="2895480" cy="1692000"/>
              <a:chOff x="1600200" y="2583000"/>
              <a:chExt cx="2895480" cy="1692000"/>
            </a:xfrm>
          </p:grpSpPr>
          <p:sp>
            <p:nvSpPr>
              <p:cNvPr id="180" name="Rectangle 3"/>
              <p:cNvSpPr/>
              <p:nvPr/>
            </p:nvSpPr>
            <p:spPr>
              <a:xfrm>
                <a:off x="1600200" y="2583000"/>
                <a:ext cx="2895480" cy="16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3634"/>
                    </a:solidFill>
                    <a:latin typeface="Times New Roman"/>
                  </a:rPr>
                  <a:t>  </a:t>
                </a:r>
                <a:r>
                  <a:rPr b="0" lang="en-US" sz="9500" spc="-1" strike="noStrike">
                    <a:solidFill>
                      <a:srgbClr val="463634"/>
                    </a:solidFill>
                    <a:latin typeface="Times New Roman"/>
                  </a:rPr>
                  <a:t> </a:t>
                </a:r>
                <a:r>
                  <a:rPr b="0" lang="en-US" sz="1000" spc="-1" strike="noStrike">
                    <a:solidFill>
                      <a:srgbClr val="463634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</a:t>
                </a:r>
                <a:r>
                  <a:rPr b="0" lang="en-US" sz="1400" spc="-1" strike="noStrike">
                    <a:solidFill>
                      <a:srgbClr val="463634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Rectangle 5"/>
              <p:cNvSpPr/>
              <p:nvPr/>
            </p:nvSpPr>
            <p:spPr>
              <a:xfrm>
                <a:off x="1600200" y="2583000"/>
                <a:ext cx="2895480" cy="169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  <p:sp>
          <p:nvSpPr>
            <p:cNvPr id="182" name="Rectangle 7"/>
            <p:cNvSpPr/>
            <p:nvPr/>
          </p:nvSpPr>
          <p:spPr>
            <a:xfrm>
              <a:off x="1600200" y="2583000"/>
              <a:ext cx="2895480" cy="1692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pic>
        <p:nvPicPr>
          <p:cNvPr id="183" name="Picture 4" descr="dufu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3960000" y="380880"/>
            <a:ext cx="4942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 </a:t>
            </a:r>
            <a:br>
              <a:rPr sz="24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方正隶二简体"/>
              </a:rPr>
              <a:t>世上疮痍，诗中圣哲     社会病态，振笔疾呼 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方正隶二简体"/>
              </a:rPr>
              <a:t>民间疾苦，笔底波澜     百姓疾苦，震撼人心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方正隶二简体"/>
              </a:rPr>
              <a:t>           </a:t>
            </a:r>
            <a:r>
              <a:rPr b="0" lang="zh-CN" sz="2400" spc="-1" strike="noStrike">
                <a:solidFill>
                  <a:srgbClr val="0b36d5"/>
                </a:solidFill>
                <a:latin typeface="Times New Roman"/>
                <a:ea typeface="隶书"/>
              </a:rPr>
              <a:t>郭沫若题成都杜甫草堂诗史堂联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AutoShape 11">
            <a:hlinkClick r:id="" action="ppaction://hlinkshowjump?jump=firstslide"/>
          </p:cNvPr>
          <p:cNvSpPr/>
          <p:nvPr/>
        </p:nvSpPr>
        <p:spPr>
          <a:xfrm>
            <a:off x="7543800" y="6172200"/>
            <a:ext cx="431640" cy="4348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4880"/>
              <a:gd name="textAreaBottom" fmla="*/ 407160 h 434880"/>
            </a:gdLst>
            <a:ahLst/>
            <a:rect l="textAreaLeft" t="textAreaTop" r="textAreaRight" b="textAreaBottom"/>
            <a:pathLst>
              <a:path w="21600" h="21762">
                <a:moveTo>
                  <a:pt x="0" y="0"/>
                </a:moveTo>
                <a:lnTo>
                  <a:pt x="21600" y="0"/>
                </a:lnTo>
                <a:lnTo>
                  <a:pt x="21600" y="21762"/>
                </a:lnTo>
                <a:lnTo>
                  <a:pt x="0" y="21762"/>
                </a:lnTo>
                <a:close/>
              </a:path>
              <a:path fill="lightenLess" w="21600" h="21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2">
                <a:moveTo>
                  <a:pt x="21600" y="0"/>
                </a:moveTo>
                <a:lnTo>
                  <a:pt x="21600" y="21762"/>
                </a:lnTo>
                <a:lnTo>
                  <a:pt x="20200" y="20362"/>
                </a:lnTo>
                <a:lnTo>
                  <a:pt x="20200" y="1400"/>
                </a:lnTo>
                <a:close/>
              </a:path>
              <a:path fill="darkenLess" w="21600" h="21762">
                <a:moveTo>
                  <a:pt x="21600" y="21762"/>
                </a:moveTo>
                <a:lnTo>
                  <a:pt x="0" y="21762"/>
                </a:lnTo>
                <a:lnTo>
                  <a:pt x="1400" y="20362"/>
                </a:lnTo>
                <a:lnTo>
                  <a:pt x="20200" y="20362"/>
                </a:lnTo>
                <a:close/>
              </a:path>
              <a:path fill="lighten" w="21600" h="21762">
                <a:moveTo>
                  <a:pt x="0" y="21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2"/>
                </a:lnTo>
                <a:close/>
              </a:path>
              <a:path fill="darken" w="21600" h="21762">
                <a:moveTo>
                  <a:pt x="7301" y="10881"/>
                </a:moveTo>
                <a:lnTo>
                  <a:pt x="17806" y="3875"/>
                </a:lnTo>
                <a:lnTo>
                  <a:pt x="17806" y="17887"/>
                </a:lnTo>
                <a:close/>
              </a:path>
              <a:path fill="darken" w="21600" h="21762">
                <a:moveTo>
                  <a:pt x="3794" y="3875"/>
                </a:moveTo>
                <a:lnTo>
                  <a:pt x="5456" y="3875"/>
                </a:lnTo>
                <a:lnTo>
                  <a:pt x="5456" y="17887"/>
                </a:lnTo>
                <a:lnTo>
                  <a:pt x="3794" y="17887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519840" y="22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隶书"/>
              </a:rPr>
              <a:t>杜公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11160"/>
            <a:ext cx="8915400" cy="63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诗歌鉴赏练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隶书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隶书"/>
              </a:rPr>
              <a:t>、下边对晚唐诗人聂夷中的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隶书"/>
              </a:rPr>
              <a:t>《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隶书"/>
              </a:rPr>
              <a:t>伤田家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隶书"/>
              </a:rPr>
              <a:t>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隶书"/>
              </a:rPr>
              <a:t>，理解错误的一项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  </a:t>
            </a:r>
            <a:r>
              <a:rPr b="0" lang="zh-CN" sz="2400" spc="-1" strike="noStrike">
                <a:solidFill>
                  <a:srgbClr val="2911d7"/>
                </a:solidFill>
                <a:latin typeface="Times New Roman"/>
                <a:ea typeface="楷体_GB2312"/>
              </a:rPr>
              <a:t>二月卖新丝，五月粜新谷。 </a:t>
            </a:r>
            <a:br>
              <a:rPr sz="2400"/>
            </a:br>
            <a:r>
              <a:rPr b="0" lang="zh-CN" sz="2400" spc="-1" strike="noStrike">
                <a:solidFill>
                  <a:srgbClr val="2911d7"/>
                </a:solidFill>
                <a:latin typeface="Times New Roman"/>
                <a:ea typeface="楷体_GB2312"/>
              </a:rPr>
              <a:t>                               医得眼前疮，却割心头肉。 </a:t>
            </a:r>
            <a:br>
              <a:rPr sz="2400"/>
            </a:br>
            <a:r>
              <a:rPr b="0" lang="zh-CN" sz="2400" spc="-1" strike="noStrike">
                <a:solidFill>
                  <a:srgbClr val="2911d7"/>
                </a:solidFill>
                <a:latin typeface="Times New Roman"/>
                <a:ea typeface="楷体_GB2312"/>
              </a:rPr>
              <a:t>                               我愿君王心，化作光明烛。 </a:t>
            </a:r>
            <a:br>
              <a:rPr sz="2400"/>
            </a:br>
            <a:r>
              <a:rPr b="0" lang="zh-CN" sz="2400" spc="-1" strike="noStrike">
                <a:solidFill>
                  <a:srgbClr val="2911d7"/>
                </a:solidFill>
                <a:latin typeface="Times New Roman"/>
                <a:ea typeface="楷体_GB2312"/>
              </a:rPr>
              <a:t>                               不照绮罗筵，只照逃亡屋。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A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二月卖新丝，五月粜新谷”，写“田家”虽然贫困，但尚有“丝”、“谷”可卖。 </a:t>
            </a:r>
            <a:br>
              <a:rPr sz="2400"/>
            </a:b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B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眼前疮”和“心头肉”是比喻的写法，“眼前疮”喻眼前急难，“心头肉”喻“丝”、“谷”等农家命根。这两句入木三分地提示出血淋淋的社会现实。 </a:t>
            </a:r>
            <a:br>
              <a:rPr sz="2400"/>
            </a:b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C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绮罗筵”与“逃亡屋”构成鲜明对比，更增强了诗的艺术力量。 </a:t>
            </a:r>
            <a:br>
              <a:rPr sz="2400"/>
            </a:b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全诗言简意足，充满诗人对田家的同情、对君王的讽刺。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458200" y="304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7848720" y="6095880"/>
            <a:ext cx="431640" cy="4352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5240"/>
              <a:gd name="textAreaBottom" fmla="*/ 407520 h 4352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7301" y="10890"/>
                </a:moveTo>
                <a:lnTo>
                  <a:pt x="17806" y="3884"/>
                </a:lnTo>
                <a:lnTo>
                  <a:pt x="17806" y="17896"/>
                </a:lnTo>
                <a:close/>
              </a:path>
              <a:path fill="darken" w="21600" h="21780">
                <a:moveTo>
                  <a:pt x="3794" y="3884"/>
                </a:moveTo>
                <a:lnTo>
                  <a:pt x="5456" y="3884"/>
                </a:lnTo>
                <a:lnTo>
                  <a:pt x="5456" y="17896"/>
                </a:lnTo>
                <a:lnTo>
                  <a:pt x="3794" y="17896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AutoShape 5">
            <a:hlinkClick r:id="" action="ppaction://hlinkshowjump?jump=nextslide"/>
          </p:cNvPr>
          <p:cNvSpPr/>
          <p:nvPr/>
        </p:nvSpPr>
        <p:spPr>
          <a:xfrm>
            <a:off x="8458200" y="60958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4299" y="10809"/>
                </a:moveTo>
                <a:lnTo>
                  <a:pt x="3794" y="17815"/>
                </a:lnTo>
                <a:lnTo>
                  <a:pt x="3794" y="3803"/>
                </a:lnTo>
                <a:close/>
              </a:path>
              <a:path fill="darken" w="21600" h="21618">
                <a:moveTo>
                  <a:pt x="16144" y="3803"/>
                </a:moveTo>
                <a:lnTo>
                  <a:pt x="16144" y="17815"/>
                </a:lnTo>
                <a:lnTo>
                  <a:pt x="17806" y="17815"/>
                </a:lnTo>
                <a:lnTo>
                  <a:pt x="17806" y="3803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900000" y="40464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63634"/>
                </a:solidFill>
                <a:latin typeface="Arial"/>
              </a:rPr>
              <a:t>诗文积累：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00000" y="2205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463634"/>
                </a:solidFill>
                <a:latin typeface="Arial"/>
              </a:rPr>
              <a:t>心怀天下、忧国忧民的诗文，你还知道哪些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50760" y="4113360"/>
            <a:ext cx="62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Arial"/>
              </a:rPr>
              <a:t>得万安里裘，盖裹周四垠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Arial"/>
              </a:rPr>
              <a:t>稳暖皆如我，天下无寒人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463634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463634"/>
                </a:solidFill>
                <a:latin typeface="Arial"/>
              </a:rPr>
              <a:t>白居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187280" y="33336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Arial"/>
              </a:rPr>
              <a:t>畅所欲言</a:t>
            </a:r>
            <a:r>
              <a:rPr b="0" lang="en-US" sz="6000" spc="-1" strike="noStrike">
                <a:solidFill>
                  <a:srgbClr val="463634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116000" y="1773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463634"/>
                </a:solidFill>
                <a:latin typeface="Arial"/>
              </a:rPr>
              <a:t>诗人追求的理想，在改革开放的年代成为现实，联系现实中的某些人和事你最想说什么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文本框 8194"/>
          <p:cNvSpPr/>
          <p:nvPr/>
        </p:nvSpPr>
        <p:spPr>
          <a:xfrm>
            <a:off x="1260360" y="4292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600200" y="380880"/>
            <a:ext cx="6095880" cy="85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登  高</a:t>
            </a:r>
            <a:br>
              <a:rPr sz="36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风急天高猿啸哀，渚清沙白鸟飞回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无边落木萧萧下，不尽长江滚滚来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万里悲秋常作客，百年多病独登台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艰难苦恨繁霜鬓，潦倒新停浊酒杯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蜀  相</a:t>
            </a:r>
            <a:br>
              <a:rPr sz="36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丞相祠堂何处寻？锦官城外柏森森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映阶碧草自春色，隔叶黄鹂空好音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三顾频烦天下计，两朝开济老臣心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出师未捷身先死，长使英雄泪满襟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878360" y="762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AutoShape 4">
            <a:hlinkClick r:id="" action="ppaction://hlinkshowjump?jump=nextslide"/>
          </p:cNvPr>
          <p:cNvSpPr/>
          <p:nvPr/>
        </p:nvSpPr>
        <p:spPr>
          <a:xfrm>
            <a:off x="8458200" y="60958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4299" y="10809"/>
                </a:moveTo>
                <a:lnTo>
                  <a:pt x="3794" y="17815"/>
                </a:lnTo>
                <a:lnTo>
                  <a:pt x="3794" y="3803"/>
                </a:lnTo>
                <a:close/>
              </a:path>
              <a:path fill="darken" w="21600" h="21618">
                <a:moveTo>
                  <a:pt x="16144" y="3803"/>
                </a:moveTo>
                <a:lnTo>
                  <a:pt x="16144" y="17815"/>
                </a:lnTo>
                <a:lnTo>
                  <a:pt x="17806" y="17815"/>
                </a:lnTo>
                <a:lnTo>
                  <a:pt x="17806" y="3803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09480" y="228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诗歌诵读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EEB-49FD-4111-BCBC-1FDAAF3A02DB}" type="slidenum">
              <a:rPr b="0" lang="zh-CN" sz="1400" spc="-1" strike="noStrike">
                <a:solidFill>
                  <a:srgbClr val="46363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0"/>
            <a:ext cx="6324480" cy="78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咏怀古迹五首之三</a:t>
            </a:r>
            <a:br>
              <a:rPr sz="3600"/>
            </a:b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群山万壑赴荆门，生长明妃尚有村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一去紫台连朔漠，独留青冢向黄昏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画图省识春风面，环佩空归月下魂。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千载琵琶作胡语，分明怨恨曲中论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崔颢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昔人已乘黄鹤去，此地空馀黄鹤楼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黄鹤一去不复返，白云千载空悠悠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晴川历历汉阳树，芳草萋萋鹦鹉洲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日暮乡关何处是，烟波江上使人愁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AutoShape 3">
            <a:hlinkClick r:id="" action="ppaction://hlinkshowjump?jump=endshow"/>
          </p:cNvPr>
          <p:cNvSpPr/>
          <p:nvPr/>
        </p:nvSpPr>
        <p:spPr>
          <a:xfrm>
            <a:off x="8458200" y="60958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4299" y="10809"/>
                </a:moveTo>
                <a:lnTo>
                  <a:pt x="3794" y="17815"/>
                </a:lnTo>
                <a:lnTo>
                  <a:pt x="3794" y="3803"/>
                </a:lnTo>
                <a:close/>
              </a:path>
              <a:path fill="darken" w="21600" h="21618">
                <a:moveTo>
                  <a:pt x="16144" y="3803"/>
                </a:moveTo>
                <a:lnTo>
                  <a:pt x="16144" y="17815"/>
                </a:lnTo>
                <a:lnTo>
                  <a:pt x="17806" y="17815"/>
                </a:lnTo>
                <a:lnTo>
                  <a:pt x="17806" y="3803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848720" y="6095880"/>
            <a:ext cx="431640" cy="4352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5240"/>
              <a:gd name="textAreaBottom" fmla="*/ 407520 h 4352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7301" y="10890"/>
                </a:moveTo>
                <a:lnTo>
                  <a:pt x="17806" y="3884"/>
                </a:lnTo>
                <a:lnTo>
                  <a:pt x="17806" y="17896"/>
                </a:lnTo>
                <a:close/>
              </a:path>
              <a:path fill="darken" w="21600" h="21780">
                <a:moveTo>
                  <a:pt x="3794" y="3884"/>
                </a:moveTo>
                <a:lnTo>
                  <a:pt x="5456" y="3884"/>
                </a:lnTo>
                <a:lnTo>
                  <a:pt x="5456" y="17896"/>
                </a:lnTo>
                <a:lnTo>
                  <a:pt x="3794" y="17896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042920" y="9079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6e1c"/>
                </a:solidFill>
                <a:latin typeface="Arial"/>
              </a:rPr>
              <a:t>学习目标：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16000" y="184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93a18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393a18"/>
                </a:solidFill>
                <a:latin typeface="Arial"/>
              </a:rPr>
              <a:t>、揣摩诗歌的语言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116000" y="2852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93a18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393a18"/>
                </a:solidFill>
                <a:latin typeface="Arial"/>
              </a:rPr>
              <a:t>、品味忧国忧民的思想感情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38862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93a18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393a18"/>
                </a:solidFill>
                <a:latin typeface="Arial"/>
              </a:rPr>
              <a:t>、进行朗读训练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"/>
          <p:cNvSpPr/>
          <p:nvPr/>
        </p:nvSpPr>
        <p:spPr>
          <a:xfrm>
            <a:off x="281160" y="7588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0520" y="-1440"/>
            <a:ext cx="411984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140000" y="1295280"/>
            <a:ext cx="4895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字子美，自号少陵野老，曾任检校工部员外郎，世称杜工部。有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杜工部集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伟大的现实主义诗人，人称“诗圣” ；其诗直接反映了唐朝“安史之乱”时期的社会现实，显示了唐代由盛转衰的历史过程，人称“诗史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以古诗、律诗见长，风格多样，而以沉郁为主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与李白和称为“李杜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6672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Times New Roman"/>
              </a:rPr>
              <a:t>杜甫及杜诗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66"/>
                </a:solidFill>
                <a:latin typeface="Times New Roman"/>
              </a:rPr>
              <a:t>解题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52f4"/>
                </a:solidFill>
                <a:latin typeface="Times New Roman"/>
              </a:rPr>
              <a:t>歌行，古代诗歌的一种。汉魏以下的乐府诗，题名为“歌”或“行”的颇多，二者虽名称不同，其实并无严格区别。后遂有“歌行”一体。其音节、格律一般比较自由，富于变化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83818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八月秋高风怒号，卷我屋上三重茅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茅飞渡江洒江郊，高者挂罥长林梢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下者飘转沉塘坳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南村群童欺我老无力，忍能对面为盗贼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公然抱茅入竹去，唇焦口燥呼不得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归来倚杖自叹息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俄顷风定云墨色，秋天漠漠向昏黑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布衾多年冷似铁，娇儿恶卧踏里裂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床头屋漏无干处，雨脚如麻未断绝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自经丧乱少睡眠，长夜沾湿何由彻</a:t>
            </a:r>
            <a:r>
              <a:rPr b="1" lang="zh-CN" sz="2800" spc="-1" strike="noStrike">
                <a:solidFill>
                  <a:srgbClr val="db3fdb"/>
                </a:solidFill>
                <a:latin typeface="Times New Roman"/>
                <a:ea typeface="华文楷体"/>
              </a:rPr>
              <a:t>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文本框 8194"/>
          <p:cNvSpPr/>
          <p:nvPr/>
        </p:nvSpPr>
        <p:spPr>
          <a:xfrm>
            <a:off x="291636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63634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43520" y="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诗歌翻译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5335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36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36d5"/>
                </a:solidFill>
                <a:latin typeface="Arial Black"/>
                <a:ea typeface="楷体_GB2312"/>
              </a:rPr>
              <a:t>深秋八月，狂风怒吼，卷走了我的草屋上的几层茅草。茅草飘飞，飞过浣花溪，散落在江边，高的挂在高大树林的枝头，低的落在水塘和水边地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6002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36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36d5"/>
                </a:solidFill>
                <a:latin typeface="Arial Black"/>
                <a:ea typeface="楷体_GB2312"/>
              </a:rPr>
              <a:t>南村的一群顽童欺负我年老无力，竟狠心这样当面做盗贼，毫无顾忌地抱着茅草跑进竹林里去。我喊得唇焦口燥再也喊不出声来了，只好回来靠着手杖自己叹气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28600" y="28195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36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36d5"/>
                </a:solidFill>
                <a:latin typeface="楷体_GB2312"/>
                <a:ea typeface="楷体_GB2312"/>
              </a:rPr>
              <a:t>一会儿狂风停息，乌云像墨一样黑，秋日的天色灰蒙蒙的接近黄昏。被子用了多年冷得像铁一样，孩子睡相不好，把被里都蹬破了。因为屋顶漏水，床上没干燥 的地方，而雨水还像麻线一样不断流。自从安史之乱之后，自己睡眠就不好，漫漫长夜浑身沾湿，如何才能捱到天亮呢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36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46483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36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b36d5"/>
                </a:solidFill>
                <a:latin typeface="Arial Black"/>
                <a:ea typeface="楷体_GB2312"/>
              </a:rPr>
              <a:t>如何才能得到千万间宽大的房子，彻底庇护天下贫寒的读书人，让他们都高高兴兴的，在狂风暴雨中也不会倾倒，安稳得像山岳一样呢？唉！什么时候，我的眼前能一下子出现这种宽大的房子，即使我的茅屋被狂风吹破，我自己被冻死了也心甘情愿！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8" name="Picture 7" descr="back2"/>
          <p:cNvPicPr/>
          <p:nvPr/>
        </p:nvPicPr>
        <p:blipFill>
          <a:blip r:embed="rId1"/>
          <a:stretch/>
        </p:blipFill>
        <p:spPr>
          <a:xfrm>
            <a:off x="7924680" y="6095880"/>
            <a:ext cx="838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0" name="Picture 4" descr="TPBG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0"/>
            <a:ext cx="6400800" cy="6359040"/>
          </a:xfrm>
          <a:prstGeom prst="rect">
            <a:avLst/>
          </a:prstGeom>
          <a:solidFill>
            <a:srgbClr val="d2faf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八月秋高风怒号，卷我屋上三重茅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茅飞渡江洒江郊，高者挂罥长林梢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下者飘转沉塘坳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南村群童欺我老无力，忍能对面为盗贼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公然抱茅入竹去，唇焦口燥呼不得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归来倚杖自叹息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俄顷风定云墨色，秋天漠漠向昏黑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布衾多年冷似铁，娇儿恶卧踏里裂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床头屋漏无干处，雨脚如麻未断绝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3fdb"/>
                </a:solidFill>
                <a:latin typeface="Times New Roman"/>
              </a:rPr>
              <a:t>自经丧乱少睡眠，长夜沾湿何由彻</a:t>
            </a:r>
            <a:r>
              <a:rPr b="1" lang="zh-CN" sz="2800" spc="-1" strike="noStrike">
                <a:solidFill>
                  <a:srgbClr val="db3fdb"/>
                </a:solidFill>
                <a:latin typeface="Times New Roman"/>
                <a:ea typeface="华文楷体"/>
              </a:rPr>
              <a:t>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477120" y="304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秋风破屋   心情苦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55308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群童抢茅   无可奈何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553080" y="46483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长夜沾湿   忧思不绝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5" name="ZR295.WAV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ZR2425.WAV" descr=""/>
          <p:cNvPicPr/>
          <p:nvPr/>
        </p:nvPicPr>
        <p:blipFill>
          <a:blip r:embed="rId3"/>
          <a:stretch/>
        </p:blipFill>
        <p:spPr>
          <a:xfrm>
            <a:off x="5638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8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40560" y="304920"/>
            <a:ext cx="6579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安得广厦千万间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大庇天下寒士俱欢颜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风雨不动安如山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呜呼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何时眼前突兀见此屋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魏碑简体"/>
              </a:rPr>
              <a:t>吾庐独破受冻死亦足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5410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b36d5"/>
                </a:solidFill>
                <a:latin typeface="Times New Roman"/>
                <a:ea typeface="黑体"/>
              </a:rPr>
              <a:t>诗人推己及人，希冀“广厦千万间”，使“天下寒士俱欢颜”，表达了诗人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关心民生疾苦、忧国忧民</a:t>
            </a:r>
            <a:r>
              <a:rPr b="0" i="1" lang="zh-CN" sz="2800" spc="-1" strike="noStrike">
                <a:solidFill>
                  <a:srgbClr val="0b36d5"/>
                </a:solidFill>
                <a:latin typeface="Times New Roman"/>
                <a:ea typeface="黑体"/>
              </a:rPr>
              <a:t>的深沉情感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AutoShape 5">
            <a:hlinkClick r:id="" action="ppaction://hlinkshowjump?jump=firstslide"/>
          </p:cNvPr>
          <p:cNvSpPr/>
          <p:nvPr/>
        </p:nvSpPr>
        <p:spPr>
          <a:xfrm>
            <a:off x="7010280" y="6423120"/>
            <a:ext cx="432000" cy="4348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4880"/>
              <a:gd name="textAreaBottom" fmla="*/ 407160 h 43488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7301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5456" y="3865"/>
                </a:lnTo>
                <a:lnTo>
                  <a:pt x="5456" y="17878"/>
                </a:lnTo>
                <a:lnTo>
                  <a:pt x="3794" y="17878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AutoShape 6">
            <a:hlinkClick r:id="" action="ppaction://hlinkshowjump?jump=nextslide"/>
          </p:cNvPr>
          <p:cNvSpPr/>
          <p:nvPr/>
        </p:nvSpPr>
        <p:spPr>
          <a:xfrm>
            <a:off x="845820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AutoShape 7">
            <a:hlinkClick r:id="" action="ppaction://hlinkshowjump?jump=previousslide"/>
          </p:cNvPr>
          <p:cNvSpPr/>
          <p:nvPr/>
        </p:nvSpPr>
        <p:spPr>
          <a:xfrm>
            <a:off x="7696080" y="6426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560000"/>
          </a:solidFill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b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057400" y="380880"/>
            <a:ext cx="182880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e74"/>
                </a:solidFill>
                <a:latin typeface="Times New Roman"/>
                <a:ea typeface="楷体_GB2312"/>
              </a:rPr>
              <a:t>秋风破屋   心情苦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e74"/>
                </a:solidFill>
                <a:latin typeface="Times New Roman"/>
                <a:ea typeface="楷体_GB2312"/>
              </a:rPr>
              <a:t>群童抢茅无可奈何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e74"/>
                </a:solidFill>
                <a:latin typeface="Times New Roman"/>
                <a:ea typeface="楷体_GB2312"/>
              </a:rPr>
              <a:t>长夜沾湿忧思不绝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838080" y="1981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现实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114800" y="609480"/>
            <a:ext cx="609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724280" y="609480"/>
            <a:ext cx="79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白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黑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38680" y="609480"/>
            <a:ext cx="1067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屋外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屋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6629400" y="60948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b3fdb"/>
                </a:solidFill>
                <a:latin typeface="Times New Roman"/>
              </a:rPr>
              <a:t>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b3fdb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7010280" y="2133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3a18"/>
                </a:solidFill>
                <a:latin typeface="Times New Roman"/>
                <a:ea typeface="华文新魏"/>
              </a:rPr>
              <a:t>自己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892800" y="4419720"/>
            <a:ext cx="9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理想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209680" y="4495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61e74"/>
                </a:solidFill>
                <a:latin typeface="Times New Roman"/>
                <a:ea typeface="楷体_GB2312"/>
              </a:rPr>
              <a:t>广厦千万间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400800" y="4495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93a18"/>
                </a:solidFill>
                <a:latin typeface="Times New Roman"/>
                <a:ea typeface="华文新魏"/>
              </a:rPr>
              <a:t>天下寒士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71600" y="2743200"/>
            <a:ext cx="360" cy="1600200"/>
            <a:chOff x="1371600" y="2743200"/>
            <a:chExt cx="360" cy="1600200"/>
          </a:xfrm>
        </p:grpSpPr>
        <p:sp>
          <p:nvSpPr>
            <p:cNvPr id="137" name="Line 18"/>
            <p:cNvSpPr/>
            <p:nvPr/>
          </p:nvSpPr>
          <p:spPr>
            <a:xfrm>
              <a:off x="1371600" y="2743200"/>
              <a:ext cx="0" cy="16002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1371600" y="27432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543800" y="2819520"/>
            <a:ext cx="360" cy="1752480"/>
            <a:chOff x="7543800" y="2819520"/>
            <a:chExt cx="360" cy="1752480"/>
          </a:xfrm>
        </p:grpSpPr>
        <p:sp>
          <p:nvSpPr>
            <p:cNvPr id="140" name="Line 19"/>
            <p:cNvSpPr/>
            <p:nvPr/>
          </p:nvSpPr>
          <p:spPr>
            <a:xfrm>
              <a:off x="7543800" y="2819520"/>
              <a:ext cx="0" cy="17524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7543800" y="2819520"/>
              <a:ext cx="36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42" name="Text Box 20"/>
          <p:cNvSpPr/>
          <p:nvPr/>
        </p:nvSpPr>
        <p:spPr>
          <a:xfrm>
            <a:off x="8305920" y="1295280"/>
            <a:ext cx="83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关心民生忧国忧民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6861600" y="3048120"/>
            <a:ext cx="790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推己及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343520" y="2895480"/>
            <a:ext cx="485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水到渠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173400" y="609480"/>
            <a:ext cx="1033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惨         悲       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0" y="5057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c6e1c"/>
                </a:solidFill>
                <a:latin typeface="Times New Roman"/>
                <a:ea typeface="楷体_GB2312"/>
              </a:rPr>
              <a:t>全诗描写自己饱经离乱、困苦凄凉的生活，体现自己要让天下寒士得到欢乐的情怀，由己及人感人至深，特别是最后一段集中表现了诗人忧国忧民，毫不利己、专门利人的崇高思想境界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2:05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4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