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3B0-B60A-495A-98A2-24BC01FE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D79-F8A8-453C-81B4-D4B1B94D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933-46DC-4CFD-B3D5-E7B73CA0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6D1-E9D6-4398-9447-4A209C24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DD88-9AEE-48A7-BEC1-9E0F284B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8BD3-52B9-4358-A599-366AC0BB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E25A-3138-4895-8AB2-60C9F2C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948C-9DE0-4B16-A174-E9000CA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FF4-7D48-4A35-A389-152FCFC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F5EC-D342-40E2-806E-28404C8F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B9E0-A652-46AF-82E2-297A38B8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5E4-A453-48E9-B61E-207D3B91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403F-5E40-403F-9F91-66AA9436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4DA4-197F-49DC-9EFB-0E5D749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63E-8FF1-47C2-91E5-28FB38F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88C-941C-4D70-8341-393BFB34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3D2A-E331-4BA6-886A-EEE6AB3A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FC1-9378-48E3-9B5B-5AD37F2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088-6E86-4085-B5B5-3247B188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201-649B-4502-87FF-B639ADAE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DEA-25BA-4855-A240-10551344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28D-6731-4F21-B9CB-D6E47F7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FA1-2009-41B5-81D5-1C4B738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A2D-03E1-40B2-84D6-FFFB47F7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CDF-C37F-4DAD-97A9-FC64AC4C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4688-86E4-4522-B743-F71300E944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55280" y="1844280"/>
            <a:ext cx="777708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梦想的力量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"/>
          <p:cNvPicPr/>
          <p:nvPr/>
        </p:nvPicPr>
        <p:blipFill>
          <a:blip r:embed="rId1"/>
          <a:stretch/>
        </p:blipFill>
        <p:spPr>
          <a:xfrm>
            <a:off x="324000" y="260280"/>
            <a:ext cx="3958920" cy="2562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920" y="2997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据统计，目前全世界共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人口缺水，而南非就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农村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城镇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人口缺水。整个非洲缺水人口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，占非洲总人口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6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近年来，非洲旱灾频发，因饮用不清洁的水而引发的各种疾病，每年都要夺走数以百万计的非洲人的生命。有关专家估计，非洲缺水问题还有可能继续恶化和蔓延。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0"/>
          <p:cNvPicPr/>
          <p:nvPr/>
        </p:nvPicPr>
        <p:blipFill>
          <a:blip r:embed="rId2"/>
          <a:stretch/>
        </p:blipFill>
        <p:spPr>
          <a:xfrm>
            <a:off x="4859280" y="260280"/>
            <a:ext cx="3737160" cy="2521080"/>
          </a:xfrm>
          <a:prstGeom prst="rect">
            <a:avLst/>
          </a:prstGeom>
          <a:ln w="0">
            <a:noFill/>
          </a:ln>
        </p:spPr>
      </p:pic>
      <p:pic>
        <p:nvPicPr>
          <p:cNvPr id="102" name="录音1.mp3" descr=""/>
          <p:cNvPicPr/>
          <p:nvPr/>
        </p:nvPicPr>
        <p:blipFill>
          <a:blip r:embed="rId3"/>
          <a:stretch/>
        </p:blipFill>
        <p:spPr>
          <a:xfrm>
            <a:off x="8028000" y="61815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097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5"/>
          <p:cNvPicPr/>
          <p:nvPr/>
        </p:nvPicPr>
        <p:blipFill>
          <a:blip r:embed="rId1"/>
          <a:stretch/>
        </p:blipFill>
        <p:spPr>
          <a:xfrm>
            <a:off x="611280" y="189000"/>
            <a:ext cx="3671640" cy="293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3"/>
          <p:cNvPicPr/>
          <p:nvPr/>
        </p:nvPicPr>
        <p:blipFill>
          <a:blip r:embed="rId2"/>
          <a:stretch/>
        </p:blipFill>
        <p:spPr>
          <a:xfrm>
            <a:off x="4859280" y="18900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684360" y="3284640"/>
            <a:ext cx="8135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中提到的非洲安格鲁地区长年干旱。最近的水源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外的一处池塘。这里常年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患有霍乱、伤寒和其他严重的水生寄生虫疾病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居民，却没有一名医生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孩子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前就死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录音2.mp3" descr=""/>
          <p:cNvPicPr/>
          <p:nvPr/>
        </p:nvPicPr>
        <p:blipFill>
          <a:blip r:embed="rId3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590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63640" y="14130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非洲，许多孩子没有玩具，没有足够的食物和药品，甚至喝不上干净的水。成千上万的孩子因为喝了受污染的水死去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7"/>
          <p:cNvPicPr/>
          <p:nvPr/>
        </p:nvPicPr>
        <p:blipFill>
          <a:blip r:embed="rId1"/>
          <a:srcRect l="0" t="0" r="0" b="122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喝水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病床"/>
          <p:cNvPicPr/>
          <p:nvPr/>
        </p:nvPicPr>
        <p:blipFill>
          <a:blip r:embed="rId2"/>
          <a:srcRect l="0" t="0" r="0" b="6945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u=4154037775,4265007230&amp;fm=0&amp;gp=3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8199"/>
          <p:cNvSpPr/>
          <p:nvPr/>
        </p:nvSpPr>
        <p:spPr>
          <a:xfrm>
            <a:off x="3203640" y="486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=3931395411,231537145&amp;fm=0&amp;gp=20[1]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u=3139875958,296285273&amp;fm=0&amp;gp=20[1]"/>
          <p:cNvPicPr/>
          <p:nvPr/>
        </p:nvPicPr>
        <p:blipFill>
          <a:blip r:embed="rId2"/>
          <a:stretch/>
        </p:blipFill>
        <p:spPr>
          <a:xfrm>
            <a:off x="46432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瑞恩的第一项工作是为地毯吸尘。哥哥和弟弟都出去玩了，瑞恩干了两个多小时。妈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验收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后，往饼干盒里放了两元钱。几天后，全家人去看电影，瑞恩一个人留下来擦了两个小时窗子，又挣了两元钱。爷爷知道了瑞恩的梦想，雇他去捡松果；暴风雪过后，邻居们请他去帮忙捡落下的树枝；考试取得好成绩，爸爸给了他奖励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瑞恩把得到的所有钱，都放进了那个饼干盒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454640"/>
        </p:xfrm>
        <a:graphic>
          <a:graphicData uri="http://schemas.openxmlformats.org/drawingml/2006/table">
            <a:tbl>
              <a:tblPr/>
              <a:tblGrid>
                <a:gridCol w="1811160"/>
                <a:gridCol w="1465560"/>
                <a:gridCol w="1660320"/>
                <a:gridCol w="1646280"/>
                <a:gridCol w="164628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53"/>
          <p:cNvSpPr/>
          <p:nvPr/>
        </p:nvSpPr>
        <p:spPr>
          <a:xfrm>
            <a:off x="457200" y="17524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为地毯吸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4"/>
          <p:cNvSpPr/>
          <p:nvPr/>
        </p:nvSpPr>
        <p:spPr>
          <a:xfrm>
            <a:off x="266688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擦窗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>
            <a:off x="3886200" y="16765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6"/>
          <p:cNvSpPr/>
          <p:nvPr/>
        </p:nvSpPr>
        <p:spPr>
          <a:xfrm>
            <a:off x="5867280" y="1752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捡树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7"/>
          <p:cNvSpPr/>
          <p:nvPr/>
        </p:nvSpPr>
        <p:spPr>
          <a:xfrm>
            <a:off x="7543800" y="1752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好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8"/>
          <p:cNvSpPr/>
          <p:nvPr/>
        </p:nvSpPr>
        <p:spPr>
          <a:xfrm>
            <a:off x="380880" y="2209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9"/>
          <p:cNvSpPr/>
          <p:nvPr/>
        </p:nvSpPr>
        <p:spPr>
          <a:xfrm>
            <a:off x="4267080" y="17524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捡松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1187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pic_251466h"/>
          <p:cNvPicPr/>
          <p:nvPr/>
        </p:nvPicPr>
        <p:blipFill>
          <a:blip r:embed="rId1"/>
          <a:stretch/>
        </p:blipFill>
        <p:spPr>
          <a:xfrm>
            <a:off x="0" y="0"/>
            <a:ext cx="1018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55"/>
          <p:cNvSpPr/>
          <p:nvPr/>
        </p:nvSpPr>
        <p:spPr>
          <a:xfrm>
            <a:off x="5364000" y="2276640"/>
            <a:ext cx="16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28640"/>
          <a:ext cx="8223120" cy="4430880"/>
        </p:xfrm>
        <a:graphic>
          <a:graphicData uri="http://schemas.openxmlformats.org/drawingml/2006/table">
            <a:tbl>
              <a:tblPr/>
              <a:tblGrid>
                <a:gridCol w="1644480"/>
                <a:gridCol w="1644840"/>
                <a:gridCol w="1617480"/>
                <a:gridCol w="1729080"/>
                <a:gridCol w="158724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7"/>
          <p:cNvSpPr/>
          <p:nvPr/>
        </p:nvSpPr>
        <p:spPr>
          <a:xfrm>
            <a:off x="457200" y="175248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为地毯吸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9"/>
          <p:cNvSpPr/>
          <p:nvPr/>
        </p:nvSpPr>
        <p:spPr>
          <a:xfrm>
            <a:off x="2268360" y="1773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擦窗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1"/>
          <p:cNvSpPr/>
          <p:nvPr/>
        </p:nvSpPr>
        <p:spPr>
          <a:xfrm>
            <a:off x="3886200" y="16765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2"/>
          <p:cNvSpPr/>
          <p:nvPr/>
        </p:nvSpPr>
        <p:spPr>
          <a:xfrm>
            <a:off x="5580000" y="1773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捡树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3"/>
          <p:cNvSpPr/>
          <p:nvPr/>
        </p:nvSpPr>
        <p:spPr>
          <a:xfrm>
            <a:off x="7236000" y="17733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好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4"/>
          <p:cNvSpPr/>
          <p:nvPr/>
        </p:nvSpPr>
        <p:spPr>
          <a:xfrm>
            <a:off x="380880" y="2209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3924360" y="1773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捡松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1"/>
          <p:cNvSpPr/>
          <p:nvPr/>
        </p:nvSpPr>
        <p:spPr>
          <a:xfrm>
            <a:off x="468360" y="1628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6"/>
          <p:cNvSpPr/>
          <p:nvPr/>
        </p:nvSpPr>
        <p:spPr>
          <a:xfrm>
            <a:off x="7093080" y="227664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8"/>
          <p:cNvSpPr/>
          <p:nvPr/>
        </p:nvSpPr>
        <p:spPr>
          <a:xfrm>
            <a:off x="5364000" y="1628640"/>
            <a:ext cx="17290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7"/>
          <p:cNvSpPr/>
          <p:nvPr/>
        </p:nvSpPr>
        <p:spPr>
          <a:xfrm>
            <a:off x="7093080" y="1628640"/>
            <a:ext cx="15825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9"/>
          <p:cNvSpPr/>
          <p:nvPr/>
        </p:nvSpPr>
        <p:spPr>
          <a:xfrm>
            <a:off x="3708360" y="162864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0"/>
          <p:cNvSpPr/>
          <p:nvPr/>
        </p:nvSpPr>
        <p:spPr>
          <a:xfrm>
            <a:off x="2124000" y="1628640"/>
            <a:ext cx="1656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1"/>
          <p:cNvSpPr/>
          <p:nvPr/>
        </p:nvSpPr>
        <p:spPr>
          <a:xfrm>
            <a:off x="468360" y="227664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2"/>
          <p:cNvSpPr/>
          <p:nvPr/>
        </p:nvSpPr>
        <p:spPr>
          <a:xfrm>
            <a:off x="5364000" y="2924280"/>
            <a:ext cx="172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3"/>
          <p:cNvSpPr/>
          <p:nvPr/>
        </p:nvSpPr>
        <p:spPr>
          <a:xfrm>
            <a:off x="2124000" y="2924280"/>
            <a:ext cx="16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4"/>
          <p:cNvSpPr/>
          <p:nvPr/>
        </p:nvSpPr>
        <p:spPr>
          <a:xfrm>
            <a:off x="468360" y="292428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5"/>
          <p:cNvSpPr/>
          <p:nvPr/>
        </p:nvSpPr>
        <p:spPr>
          <a:xfrm>
            <a:off x="2124000" y="2276640"/>
            <a:ext cx="16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6"/>
          <p:cNvSpPr/>
          <p:nvPr/>
        </p:nvSpPr>
        <p:spPr>
          <a:xfrm>
            <a:off x="3780000" y="2924280"/>
            <a:ext cx="158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7093080" y="292428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468360" y="357336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2124000" y="4221000"/>
            <a:ext cx="1656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468360" y="4221000"/>
            <a:ext cx="1655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5"/>
          <p:cNvSpPr/>
          <p:nvPr/>
        </p:nvSpPr>
        <p:spPr>
          <a:xfrm>
            <a:off x="5364000" y="2276640"/>
            <a:ext cx="172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3"/>
          <p:cNvSpPr/>
          <p:nvPr/>
        </p:nvSpPr>
        <p:spPr>
          <a:xfrm>
            <a:off x="2124000" y="3573360"/>
            <a:ext cx="16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4"/>
          <p:cNvSpPr/>
          <p:nvPr/>
        </p:nvSpPr>
        <p:spPr>
          <a:xfrm>
            <a:off x="3780000" y="3573360"/>
            <a:ext cx="158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6"/>
          <p:cNvSpPr/>
          <p:nvPr/>
        </p:nvSpPr>
        <p:spPr>
          <a:xfrm>
            <a:off x="3780000" y="4221000"/>
            <a:ext cx="158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7"/>
          <p:cNvSpPr/>
          <p:nvPr/>
        </p:nvSpPr>
        <p:spPr>
          <a:xfrm>
            <a:off x="5364000" y="4221000"/>
            <a:ext cx="172728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8"/>
          <p:cNvSpPr/>
          <p:nvPr/>
        </p:nvSpPr>
        <p:spPr>
          <a:xfrm>
            <a:off x="7093080" y="357336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1"/>
          <p:cNvSpPr/>
          <p:nvPr/>
        </p:nvSpPr>
        <p:spPr>
          <a:xfrm>
            <a:off x="2124000" y="4869000"/>
            <a:ext cx="16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2"/>
          <p:cNvSpPr/>
          <p:nvPr/>
        </p:nvSpPr>
        <p:spPr>
          <a:xfrm>
            <a:off x="468360" y="4869000"/>
            <a:ext cx="16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3"/>
          <p:cNvSpPr/>
          <p:nvPr/>
        </p:nvSpPr>
        <p:spPr>
          <a:xfrm>
            <a:off x="7093080" y="4221000"/>
            <a:ext cx="15825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5"/>
          <p:cNvSpPr/>
          <p:nvPr/>
        </p:nvSpPr>
        <p:spPr>
          <a:xfrm>
            <a:off x="2124000" y="5516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6"/>
          <p:cNvSpPr/>
          <p:nvPr/>
        </p:nvSpPr>
        <p:spPr>
          <a:xfrm>
            <a:off x="468360" y="5516640"/>
            <a:ext cx="1655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8"/>
          <p:cNvSpPr/>
          <p:nvPr/>
        </p:nvSpPr>
        <p:spPr>
          <a:xfrm>
            <a:off x="5364000" y="4869000"/>
            <a:ext cx="1727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7"/>
          <p:cNvSpPr/>
          <p:nvPr/>
        </p:nvSpPr>
        <p:spPr>
          <a:xfrm>
            <a:off x="7093080" y="4869000"/>
            <a:ext cx="1582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9"/>
          <p:cNvSpPr/>
          <p:nvPr/>
        </p:nvSpPr>
        <p:spPr>
          <a:xfrm>
            <a:off x="3780000" y="4869000"/>
            <a:ext cx="158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4"/>
          <p:cNvSpPr/>
          <p:nvPr/>
        </p:nvSpPr>
        <p:spPr>
          <a:xfrm>
            <a:off x="3780000" y="5516640"/>
            <a:ext cx="158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1"/>
          <p:cNvSpPr/>
          <p:nvPr/>
        </p:nvSpPr>
        <p:spPr>
          <a:xfrm>
            <a:off x="5364000" y="5516640"/>
            <a:ext cx="17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0"/>
          <p:cNvSpPr/>
          <p:nvPr/>
        </p:nvSpPr>
        <p:spPr>
          <a:xfrm>
            <a:off x="7093080" y="5516640"/>
            <a:ext cx="15825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5"/>
          <p:cNvSpPr/>
          <p:nvPr/>
        </p:nvSpPr>
        <p:spPr>
          <a:xfrm>
            <a:off x="5364000" y="3573360"/>
            <a:ext cx="172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4"/>
          <p:cNvSpPr/>
          <p:nvPr/>
        </p:nvSpPr>
        <p:spPr>
          <a:xfrm>
            <a:off x="3780000" y="2276640"/>
            <a:ext cx="158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500"/>
                            </p:stCondLst>
                            <p:childTnLst>
                              <p:par>
                                <p:cTn id="1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2133360"/>
            <a:ext cx="8362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5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格子终于被涂掉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971640" y="1484280"/>
            <a:ext cx="66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填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的加拿大男孩瑞恩为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的行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640" y="2331720"/>
            <a:ext cx="822960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04920" y="4495680"/>
            <a:ext cx="32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333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瑞恩还小，他不知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是个多么大的数目，他只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兴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说：“那我再多干些活挣更多的钱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声不吭的瑞恩突然说：“那我来攒钱买钻井机吧。”他的声音很小，但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坚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“我想让非洲的每一个人都能喝上洁净的水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24000" y="4941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兴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坚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能体现出瑞恩怎样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2331720"/>
            <a:ext cx="822960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钱筹齐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BAS00226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647712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瑞恩的井”在安格鲁社区投入使用两年多，附近的家庭陆续迁移进来，这个地区的人口和入学率有了惊人的增长。孩子们不用再每天花几个小时到很远的地方去背水，他们都开始上学读书；妇女们也不用整天为全家的吃水奔波，她们开始有时间种地，或者做些小买卖。到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200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年春季，安格鲁小学里已经有了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125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名学生，还有了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名中学生。</a:t>
            </a:r>
            <a:br>
              <a:rPr sz="2400"/>
            </a:b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    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1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，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瑞恩的井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基金会正式成立。一年以后，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瑞恩的井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基金会已经为非洲的８个国家打了</a:t>
            </a:r>
            <a:r>
              <a:rPr b="1" lang="en-US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</a:t>
            </a:r>
            <a:r>
              <a:rPr b="1" lang="zh-CN" sz="5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口水井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9"/>
          <p:cNvSpPr/>
          <p:nvPr/>
        </p:nvSpPr>
        <p:spPr>
          <a:xfrm>
            <a:off x="1547640" y="112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AS00226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18288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着时间的推移，他的心愿鼓舞了全世界六十多个国家的成年人，帮助瑞恩的队伍越来越庞大，人们纷纷解囊相助。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初，“瑞恩的井”基金会有七十多万加元，已经在非洲挖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多口水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85800" y="12193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延续梦想的力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标题是“梦想的力量”，瑞恩的梦想产生了哪些力量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676520"/>
            <a:ext cx="8153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瑞恩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希里杰克　　加拿大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乌干达　安格鲁　基金会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负责人　援助救济会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鼓励着他本人前进的风帆，激励着他克服重重困难，坚定执著地为达到梦想的彼岸而奋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感动并带动了越来越多的人加入到其中，最终使梦想成为现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使安格鲁的村民们对瑞恩以及加拿大人民感激不尽，从而增进了加非人民的友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是什么促成了这项伟大事业的成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是呀，一个梦想，竟有如此大的力量，在此时有谁不流泪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2006753417682"/>
          <p:cNvPicPr/>
          <p:nvPr/>
        </p:nvPicPr>
        <p:blipFill>
          <a:blip r:embed="rId1">
            <a:lum bright="30000"/>
          </a:blip>
          <a:srcRect l="0" t="0" r="1270" b="14562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是啊，一个梦想，竟有如此大的力量，在此时有谁不流泪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thumb_8c4afbbff8da6593623afcfab5638474"/>
          <p:cNvPicPr/>
          <p:nvPr/>
        </p:nvPicPr>
        <p:blipFill>
          <a:blip r:embed="rId2"/>
          <a:stretch/>
        </p:blipFill>
        <p:spPr>
          <a:xfrm>
            <a:off x="6781680" y="4846680"/>
            <a:ext cx="2362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AS00226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752480" y="13712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心有多宽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梦想就有多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心有多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梦想就有多精彩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R402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523880" y="1981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正是因为瑞恩对梦想的坚持，唤醒了众人的爱心，才让这个梦想产生了如此巨大的力量。一个孩子的梦，影响越来越多的人去关爱和帮助别人，并且给非洲人民带来生存的希望，这就是──梦想的力量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8199"/>
          <p:cNvSpPr/>
          <p:nvPr/>
        </p:nvSpPr>
        <p:spPr>
          <a:xfrm>
            <a:off x="1835280" y="44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wight017"/>
          <p:cNvPicPr/>
          <p:nvPr/>
        </p:nvPicPr>
        <p:blipFill>
          <a:blip r:embed="rId1"/>
          <a:stretch/>
        </p:blipFill>
        <p:spPr>
          <a:xfrm>
            <a:off x="0" y="0"/>
            <a:ext cx="8915400" cy="6859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课后拓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143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瑞恩的执着感动了妈妈的一位朋友。她决定帮帮这个富有同情心的孩子。她把瑞恩的事写成了文章。如果你就是妈妈的朋友，你会在文章中写些什么呢？请结合上下文，结合自己的感受，写一段话。参考题目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执着的瑞恩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瑞恩的梦想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瑞恩的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》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也可以自己命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9640" y="54936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加拿大   非洲    乌干达    安格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世界地图3"/>
          <p:cNvPicPr/>
          <p:nvPr/>
        </p:nvPicPr>
        <p:blipFill>
          <a:blip r:embed="rId1"/>
          <a:srcRect l="0" t="0" r="0" b="38447"/>
          <a:stretch/>
        </p:blipFill>
        <p:spPr>
          <a:xfrm>
            <a:off x="539640" y="1773360"/>
            <a:ext cx="74898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3D98-3293-4239-A1CF-CDD2F2D747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9000"/>
            <a:ext cx="8316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此刻，如果你就站在井旁，看着清澈见底的井水，你会说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pic_251466h"/>
          <p:cNvPicPr/>
          <p:nvPr/>
        </p:nvPicPr>
        <p:blipFill>
          <a:blip r:embed="rId1"/>
          <a:stretch/>
        </p:blipFill>
        <p:spPr>
          <a:xfrm>
            <a:off x="179280" y="1844640"/>
            <a:ext cx="2772000" cy="4653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771640" y="1413000"/>
            <a:ext cx="615636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是瑞恩，我会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是瑞恩的父母，我会对瑞恩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是非洲安格鲁的孩子，我会对瑞恩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我们是非洲人民，我们会真诚地对加拿大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民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05.田野静悄悄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2395800" y="61848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isaih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214936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非洲　水井　额外　水泵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攒钱　捐款　钻井机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流泪　　瑞恩的井</a:t>
            </a:r>
            <a:r>
              <a:rPr b="1" lang="zh-CN" sz="6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标好自然段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瑞恩的梦想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为什么会产生这个梦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怎样一步步实现自己梦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57200" y="1676520"/>
            <a:ext cx="8153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妈妈，给我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0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元钱，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98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的一天，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的加拿大男孩瑞恩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希里杰克刚一放学，就迫不及待地冲进家，向妈妈伸出手说，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要给非洲的孩子挖一口井，好让他们有干净的水喝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57200" y="1676520"/>
            <a:ext cx="8153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妈妈，给我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0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钱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98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的一天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加拿大男孩瑞恩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希里杰克刚一放学，就迫不及待地冲进家，向妈妈伸出手说，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要给非洲的孩子挖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口井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好让他们有干净的水喝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95280" y="476280"/>
            <a:ext cx="84978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给非洲的孩子挖一口井，好让他们有干净的水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一定要为他们挖一口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想让非洲的每一个人都能喝上洁净的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6697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资料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052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洲的安格鲁地区长年干旱。最近的水源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里外的一处池塘。这里常年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患有霍乱、伤寒和其他严重的水生寄生虫疾病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多居民，却没有一名医生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孩子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前就死掉了。近年来，非洲旱灾频发，因饮用不清洁水引发的各种疾病，每年都要夺走数以百万计非洲人的生命。有关专家估计，非洲缺水问题还有可能继续恶化和蔓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4:16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7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