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6A9-9437-420A-8D26-0E7C5256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444-417E-45CB-90B0-D5A5111D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1CB-7DBC-4444-A955-2460D454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043-0F10-49F4-8E5D-748F6D0A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9858-0B94-40F6-A803-F752BEB8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3E31-F40A-45E5-BB0D-D0F55A12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3B6-9FC4-4AC3-962E-58B4A9AA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62D-872D-4B1C-9366-DD0C4A58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C236-8574-4AAD-8E89-13293C1B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4EC4-437C-4347-82DA-B7B424F7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DAA7-8481-4183-AA83-5F4EF0CC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9DE8-6C61-4847-BCAA-9D24E572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lan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DA89-146A-402C-91DC-0C213186E7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我的文档\民族团结\民族团结00\爱我中华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WordArt 3"/>
          <p:cNvSpPr txBox="1"/>
          <p:nvPr/>
        </p:nvSpPr>
        <p:spPr>
          <a:xfrm>
            <a:off x="1401840" y="1125360"/>
            <a:ext cx="6705360" cy="90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2232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民族团结课件</a:t>
            </a:r>
            <a:r>
              <a:rPr b="0" lang="en-US" sz="4000" spc="1" strike="noStrike">
                <a:ln w="2232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PPT</a:t>
            </a:r>
            <a:r>
              <a:rPr b="0" lang="zh-CN" sz="4000" spc="1" strike="noStrike">
                <a:ln w="2232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模板免费下载</a:t>
            </a:r>
            <a:endParaRPr b="0" lang="en-US" sz="4000" spc="1" strike="noStrike">
              <a:ln w="2232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362320" y="83808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民族区域自治制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219320" y="1676520"/>
            <a:ext cx="69339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请同学们以藏族为例，探讨在我国为什么要实行民族区域自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85800" y="273996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原因：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楷体"/>
                <a:ea typeface="楷体"/>
              </a:rPr>
              <a:t>①</a:t>
            </a: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中国自古以来就是一个</a:t>
            </a:r>
            <a:r>
              <a:rPr b="0" lang="zh-CN" sz="2800" spc="-1" strike="noStrike">
                <a:solidFill>
                  <a:srgbClr val="800000"/>
                </a:solidFill>
                <a:latin typeface="楷体"/>
                <a:ea typeface="楷体"/>
              </a:rPr>
              <a:t>统一的多民族国家</a:t>
            </a: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，</a:t>
            </a:r>
            <a:br>
              <a:rPr sz="2800"/>
            </a:b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  实行民族区域自治符合中国</a:t>
            </a:r>
            <a:r>
              <a:rPr b="0" lang="zh-CN" sz="2800" spc="-1" strike="noStrike">
                <a:solidFill>
                  <a:srgbClr val="800000"/>
                </a:solidFill>
                <a:latin typeface="楷体"/>
                <a:ea typeface="楷体"/>
              </a:rPr>
              <a:t>国情</a:t>
            </a: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和</a:t>
            </a:r>
            <a:r>
              <a:rPr b="0" lang="zh-CN" sz="2800" spc="-1" strike="noStrike">
                <a:solidFill>
                  <a:srgbClr val="800000"/>
                </a:solidFill>
                <a:latin typeface="楷体"/>
                <a:ea typeface="楷体"/>
              </a:rPr>
              <a:t>历史传统</a:t>
            </a: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楷体"/>
                <a:ea typeface="楷体"/>
              </a:rPr>
              <a:t>②</a:t>
            </a: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各民族在长期的</a:t>
            </a:r>
            <a:r>
              <a:rPr b="0" lang="zh-CN" sz="2800" spc="-1" strike="noStrike">
                <a:solidFill>
                  <a:srgbClr val="800000"/>
                </a:solidFill>
                <a:latin typeface="楷体"/>
                <a:ea typeface="楷体"/>
              </a:rPr>
              <a:t>经济文化</a:t>
            </a: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往来中，形成了合作</a:t>
            </a:r>
            <a:br>
              <a:rPr sz="2800"/>
            </a:b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  互助，</a:t>
            </a:r>
            <a:r>
              <a:rPr b="0" lang="zh-CN" sz="2800" spc="-1" strike="noStrike">
                <a:solidFill>
                  <a:srgbClr val="800000"/>
                </a:solidFill>
                <a:latin typeface="楷体"/>
                <a:ea typeface="楷体"/>
              </a:rPr>
              <a:t>共同发展</a:t>
            </a: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的民族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楷体"/>
                <a:ea typeface="楷体"/>
              </a:rPr>
              <a:t>③</a:t>
            </a: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近代史上，各民族在</a:t>
            </a:r>
            <a:r>
              <a:rPr b="0" lang="zh-CN" sz="2800" spc="-1" strike="noStrike">
                <a:solidFill>
                  <a:srgbClr val="800000"/>
                </a:solidFill>
                <a:latin typeface="楷体"/>
                <a:ea typeface="楷体"/>
              </a:rPr>
              <a:t>共御外敌</a:t>
            </a: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、争取民族独    </a:t>
            </a:r>
            <a:br>
              <a:rPr sz="2800"/>
            </a:b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  立和解放的革命斗争中，建立了</a:t>
            </a:r>
            <a:r>
              <a:rPr b="0" lang="zh-CN" sz="2800" spc="-1" strike="noStrike">
                <a:solidFill>
                  <a:srgbClr val="800000"/>
                </a:solidFill>
                <a:latin typeface="楷体"/>
                <a:ea typeface="楷体"/>
              </a:rPr>
              <a:t>休戚与共</a:t>
            </a: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的</a:t>
            </a:r>
            <a:br>
              <a:rPr sz="2800"/>
            </a:b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  亲密关系，形成了高度的</a:t>
            </a:r>
            <a:r>
              <a:rPr b="0" lang="zh-CN" sz="2800" spc="-1" strike="noStrike">
                <a:solidFill>
                  <a:srgbClr val="800000"/>
                </a:solidFill>
                <a:latin typeface="楷体"/>
                <a:ea typeface="楷体"/>
              </a:rPr>
              <a:t>政治认同</a:t>
            </a:r>
            <a:r>
              <a:rPr b="0" lang="zh-CN" sz="2800" spc="-1" strike="noStrike">
                <a:solidFill>
                  <a:srgbClr val="006666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文本框 8194"/>
          <p:cNvSpPr/>
          <p:nvPr/>
        </p:nvSpPr>
        <p:spPr>
          <a:xfrm>
            <a:off x="1676520" y="2889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762120" y="1405080"/>
            <a:ext cx="784836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华文行楷"/>
                <a:ea typeface="华文行楷"/>
              </a:rPr>
              <a:t>           </a:t>
            </a:r>
            <a:r>
              <a:rPr b="0" lang="zh-CN" sz="4400" spc="-1" strike="noStrike">
                <a:solidFill>
                  <a:srgbClr val="800000"/>
                </a:solidFill>
                <a:latin typeface="华文行楷"/>
                <a:ea typeface="华文行楷"/>
              </a:rPr>
              <a:t>各少数民族聚居的地方实行区域自治。</a:t>
            </a:r>
            <a:br>
              <a:rPr sz="4400"/>
            </a:br>
            <a:r>
              <a:rPr b="0" lang="zh-CN" sz="4400" spc="-1" strike="noStrike">
                <a:solidFill>
                  <a:srgbClr val="800000"/>
                </a:solidFill>
                <a:latin typeface="华文行楷"/>
                <a:ea typeface="华文行楷"/>
              </a:rPr>
              <a:t>        各民族自治地方都是中华人民共和国不可分离的部分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5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《中华人民共和国宪法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2616120" y="54864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"/>
              </a:rPr>
              <a:t>我国已建立了哪几个省级民族自治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中国政区图"/>
          <p:cNvPicPr/>
          <p:nvPr/>
        </p:nvPicPr>
        <p:blipFill>
          <a:blip r:embed="rId2"/>
          <a:stretch/>
        </p:blipFill>
        <p:spPr>
          <a:xfrm>
            <a:off x="609480" y="609480"/>
            <a:ext cx="6400800" cy="4896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586560" y="1905120"/>
            <a:ext cx="1400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内蒙古自治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新疆维吾尔自治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广西壮族自治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宁夏回族自治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西藏自治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838080" y="762120"/>
            <a:ext cx="2514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第一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1371600" y="152388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"/>
              </a:rPr>
              <a:t>实行民族区域自治有哪些优越性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685800" y="762120"/>
            <a:ext cx="1828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想一想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219320" y="23623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黑体"/>
              </a:rPr>
              <a:t>活动：分小组模拟西藏人民如何管理本民族事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6"/>
          <p:cNvGrpSpPr/>
          <p:nvPr/>
        </p:nvGrpSpPr>
        <p:grpSpPr>
          <a:xfrm>
            <a:off x="1066680" y="2895480"/>
            <a:ext cx="7010280" cy="3517920"/>
            <a:chOff x="1066680" y="2895480"/>
            <a:chExt cx="7010280" cy="3517920"/>
          </a:xfrm>
        </p:grpSpPr>
        <p:sp>
          <p:nvSpPr>
            <p:cNvPr id="158" name="Text Box 7"/>
            <p:cNvSpPr/>
            <p:nvPr/>
          </p:nvSpPr>
          <p:spPr>
            <a:xfrm>
              <a:off x="2352960" y="2895480"/>
              <a:ext cx="435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ff"/>
                  </a:solidFill>
                  <a:latin typeface="Times New Roman"/>
                  <a:ea typeface="黑体"/>
                </a:rPr>
                <a:t>①</a:t>
              </a:r>
              <a:r>
                <a:rPr b="1" lang="zh-CN" sz="2400" spc="-1" strike="noStrike">
                  <a:solidFill>
                    <a:srgbClr val="cc00ff"/>
                  </a:solidFill>
                  <a:latin typeface="Times New Roman"/>
                  <a:ea typeface="黑体"/>
                </a:rPr>
                <a:t>组－针对近期发生在西藏的骚乱，联系西藏解放</a:t>
              </a:r>
              <a:br>
                <a:rPr sz="2400"/>
              </a:br>
              <a:r>
                <a:rPr b="1" lang="zh-CN" sz="2400" spc="-1" strike="noStrike">
                  <a:solidFill>
                    <a:srgbClr val="cc00ff"/>
                  </a:solidFill>
                  <a:latin typeface="Times New Roman"/>
                  <a:ea typeface="黑体"/>
                </a:rPr>
                <a:t>            以来发生的巨大变化，发表一份谴责声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1066680" y="3809880"/>
              <a:ext cx="701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ff"/>
                  </a:solidFill>
                  <a:latin typeface="华文新魏"/>
                  <a:ea typeface="黑体"/>
                </a:rPr>
                <a:t>②</a:t>
              </a:r>
              <a:r>
                <a:rPr b="1" lang="zh-CN" sz="2400" spc="-1" strike="noStrike">
                  <a:solidFill>
                    <a:srgbClr val="cc00ff"/>
                  </a:solidFill>
                  <a:latin typeface="华文新魏"/>
                  <a:ea typeface="黑体"/>
                </a:rPr>
                <a:t>组－商定一项大型基础建设项目，以提高西藏人</a:t>
              </a:r>
              <a:br>
                <a:rPr sz="2400"/>
              </a:br>
              <a:r>
                <a:rPr b="1" lang="zh-CN" sz="2400" spc="-1" strike="noStrike">
                  <a:solidFill>
                    <a:srgbClr val="cc00ff"/>
                  </a:solidFill>
                  <a:latin typeface="华文新魏"/>
                  <a:ea typeface="黑体"/>
                </a:rPr>
                <a:t>            民的生活水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3322800" y="4698720"/>
              <a:ext cx="241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ff"/>
                  </a:solidFill>
                  <a:latin typeface="华文新魏"/>
                  <a:ea typeface="黑体"/>
                </a:rPr>
                <a:t>③</a:t>
              </a:r>
              <a:r>
                <a:rPr b="1" lang="zh-CN" sz="2400" spc="-1" strike="noStrike">
                  <a:solidFill>
                    <a:srgbClr val="cc00ff"/>
                  </a:solidFill>
                  <a:latin typeface="华文新魏"/>
                  <a:ea typeface="黑体"/>
                </a:rPr>
                <a:t>组－利用西藏的资源优势，与外商洽谈一个招商</a:t>
              </a:r>
              <a:br>
                <a:rPr sz="2400"/>
              </a:br>
              <a:r>
                <a:rPr b="1" lang="zh-CN" sz="2400" spc="-1" strike="noStrike">
                  <a:solidFill>
                    <a:srgbClr val="cc00ff"/>
                  </a:solidFill>
                  <a:latin typeface="华文新魏"/>
                  <a:ea typeface="黑体"/>
                </a:rPr>
                <a:t>            引资的合资项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066680" y="5587920"/>
              <a:ext cx="701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ff"/>
                  </a:solidFill>
                  <a:latin typeface="华文新魏"/>
                  <a:ea typeface="黑体"/>
                </a:rPr>
                <a:t>④</a:t>
              </a:r>
              <a:r>
                <a:rPr b="1" lang="zh-CN" sz="2400" spc="-1" strike="noStrike">
                  <a:solidFill>
                    <a:srgbClr val="cc00ff"/>
                  </a:solidFill>
                  <a:latin typeface="华文新魏"/>
                  <a:ea typeface="黑体"/>
                </a:rPr>
                <a:t>组－从文化、教育、民族节假日、工作时等方面</a:t>
              </a:r>
              <a:br>
                <a:rPr sz="2400"/>
              </a:br>
              <a:r>
                <a:rPr b="1" lang="zh-CN" sz="2400" spc="-1" strike="noStrike">
                  <a:solidFill>
                    <a:srgbClr val="cc00ff"/>
                  </a:solidFill>
                  <a:latin typeface="华文新魏"/>
                  <a:ea typeface="黑体"/>
                </a:rPr>
                <a:t>            制定一项民族优惠政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838080" y="762120"/>
            <a:ext cx="2514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第一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143000" y="243828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"/>
              </a:rPr>
              <a:t>实行民族区域自治有哪些优越性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1828800" y="9144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想一想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66" name="Group 6"/>
          <p:cNvGrpSpPr/>
          <p:nvPr/>
        </p:nvGrpSpPr>
        <p:grpSpPr>
          <a:xfrm>
            <a:off x="1295280" y="3505320"/>
            <a:ext cx="5791320" cy="2440800"/>
            <a:chOff x="1295280" y="3505320"/>
            <a:chExt cx="5791320" cy="2440800"/>
          </a:xfrm>
        </p:grpSpPr>
        <p:sp>
          <p:nvSpPr>
            <p:cNvPr id="167" name="Text Box 7"/>
            <p:cNvSpPr/>
            <p:nvPr/>
          </p:nvSpPr>
          <p:spPr>
            <a:xfrm>
              <a:off x="3430440" y="350532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①</a:t>
              </a:r>
              <a:r>
                <a:rPr b="1" lang="zh-CN" sz="2400" spc="-1" strike="noStrike">
                  <a:solidFill>
                    <a:srgbClr val="ff6600"/>
                  </a:solidFill>
                  <a:latin typeface="宋体"/>
                  <a:ea typeface="黑体"/>
                </a:rPr>
                <a:t>维护国家统一和保障少数民族权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2273040" y="4165560"/>
              <a:ext cx="343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00"/>
                  </a:solidFill>
                  <a:latin typeface="华文新魏"/>
                  <a:ea typeface="黑体"/>
                </a:rPr>
                <a:t>②</a:t>
              </a:r>
              <a:r>
                <a:rPr b="1" lang="zh-CN" sz="2400" spc="-1" strike="noStrike">
                  <a:solidFill>
                    <a:srgbClr val="ff6600"/>
                  </a:solidFill>
                  <a:latin typeface="华文新魏"/>
                  <a:ea typeface="黑体"/>
                </a:rPr>
                <a:t>国家方针政策和民族地区特点相结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9"/>
            <p:cNvSpPr/>
            <p:nvPr/>
          </p:nvSpPr>
          <p:spPr>
            <a:xfrm>
              <a:off x="2334600" y="4826160"/>
              <a:ext cx="362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00"/>
                  </a:solidFill>
                  <a:latin typeface="华文新魏"/>
                  <a:ea typeface="黑体"/>
                </a:rPr>
                <a:t>③</a:t>
              </a:r>
              <a:r>
                <a:rPr b="1" lang="zh-CN" sz="2400" spc="-1" strike="noStrike">
                  <a:solidFill>
                    <a:srgbClr val="ff6600"/>
                  </a:solidFill>
                  <a:latin typeface="华文新魏"/>
                  <a:ea typeface="黑体"/>
                </a:rPr>
                <a:t>有利于国家富强和民族地区经济的繁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1295280" y="548640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00"/>
                  </a:solidFill>
                  <a:latin typeface="华文新魏"/>
                  <a:ea typeface="黑体"/>
                </a:rPr>
                <a:t>④</a:t>
              </a:r>
              <a:r>
                <a:rPr b="1" lang="zh-CN" sz="2400" spc="-1" strike="noStrike">
                  <a:solidFill>
                    <a:srgbClr val="ff6600"/>
                  </a:solidFill>
                  <a:latin typeface="华文新魏"/>
                  <a:ea typeface="黑体"/>
                </a:rPr>
                <a:t>体现民族平等和民族团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1308240" y="1797120"/>
            <a:ext cx="68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、在少数民族地区实行民主改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990720" y="2819520"/>
            <a:ext cx="73911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新中国成立时，少数民族地区基本上还处于</a:t>
            </a: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封建制、农奴制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甚至是</a:t>
            </a: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原始公社制度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等落后的社会经济形态下。经过广泛深刻的民主改革，各民族在党和政府的领导下都走上了社会主义道路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2764800" y="7462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二、各民族共同发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38080" y="9144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、加强少数民族地区基础设施建设，促进基础产业发展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3" descr="川藏公路"/>
          <p:cNvPicPr/>
          <p:nvPr/>
        </p:nvPicPr>
        <p:blipFill>
          <a:blip r:embed="rId1"/>
          <a:stretch/>
        </p:blipFill>
        <p:spPr>
          <a:xfrm>
            <a:off x="1371600" y="2514600"/>
            <a:ext cx="5257800" cy="353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6" name="Text Box 4"/>
          <p:cNvSpPr/>
          <p:nvPr/>
        </p:nvSpPr>
        <p:spPr>
          <a:xfrm>
            <a:off x="6627960" y="3124080"/>
            <a:ext cx="1277640" cy="2179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川藏公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838080" y="8827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、加强少数民族地区基础设施建设，促进基础产业发展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3" descr="川藏公路"/>
          <p:cNvPicPr/>
          <p:nvPr/>
        </p:nvPicPr>
        <p:blipFill>
          <a:blip r:embed="rId1"/>
          <a:stretch/>
        </p:blipFill>
        <p:spPr>
          <a:xfrm>
            <a:off x="1371600" y="2514600"/>
            <a:ext cx="5257800" cy="353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9" name="Text Box 4"/>
          <p:cNvSpPr/>
          <p:nvPr/>
        </p:nvSpPr>
        <p:spPr>
          <a:xfrm>
            <a:off x="6627960" y="3124080"/>
            <a:ext cx="1277640" cy="2179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青藏铁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5" descr="C:\我的文档\民族团结\新建文件夹\H4733CAIIJ6CE18F4J.jpg"/>
          <p:cNvPicPr/>
          <p:nvPr/>
        </p:nvPicPr>
        <p:blipFill>
          <a:blip r:embed="rId2"/>
          <a:stretch/>
        </p:blipFill>
        <p:spPr>
          <a:xfrm>
            <a:off x="1371600" y="2514600"/>
            <a:ext cx="525780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4099320" y="762120"/>
            <a:ext cx="7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、发展民族经济，实施西部大开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914400" y="15238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广西的</a:t>
            </a:r>
            <a:r>
              <a:rPr b="1" lang="zh-CN" sz="2800" spc="-1" strike="noStrike">
                <a:solidFill>
                  <a:srgbClr val="ff6600"/>
                </a:solidFill>
                <a:latin typeface="仿宋"/>
                <a:ea typeface="仿宋"/>
              </a:rPr>
              <a:t>北海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市被列为国家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个</a:t>
            </a:r>
            <a:r>
              <a:rPr b="1" lang="zh-CN" sz="2800" spc="-1" strike="noStrike">
                <a:solidFill>
                  <a:srgbClr val="006666"/>
                </a:solidFill>
                <a:latin typeface="仿宋"/>
                <a:ea typeface="仿宋"/>
              </a:rPr>
              <a:t>沿海开放城市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。</a:t>
            </a:r>
            <a:r>
              <a:rPr b="1" lang="zh-CN" sz="2800" spc="-1" strike="noStrike">
                <a:solidFill>
                  <a:srgbClr val="ff6600"/>
                </a:solidFill>
                <a:latin typeface="仿宋"/>
                <a:ea typeface="仿宋"/>
              </a:rPr>
              <a:t>乌鲁木齐、南宁、昆明、呼和浩特、银川、西宁、贵阳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被国家列为</a:t>
            </a:r>
            <a:r>
              <a:rPr b="1" lang="zh-CN" sz="2800" spc="-1" strike="noStrike">
                <a:solidFill>
                  <a:srgbClr val="006666"/>
                </a:solidFill>
                <a:latin typeface="仿宋"/>
                <a:ea typeface="仿宋"/>
              </a:rPr>
              <a:t>内陆开放城市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361944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5" descr="chengji"/>
          <p:cNvPicPr/>
          <p:nvPr/>
        </p:nvPicPr>
        <p:blipFill>
          <a:blip r:embed="rId1"/>
          <a:stretch/>
        </p:blipFill>
        <p:spPr>
          <a:xfrm>
            <a:off x="2438280" y="3200400"/>
            <a:ext cx="4484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mg219559624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94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Text Box 3"/>
          <p:cNvSpPr/>
          <p:nvPr/>
        </p:nvSpPr>
        <p:spPr>
          <a:xfrm>
            <a:off x="2431800" y="4572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"/>
              </a:rPr>
              <a:t>实施西部大开发战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159920" y="730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泼水节1"/>
          <p:cNvPicPr/>
          <p:nvPr/>
        </p:nvPicPr>
        <p:blipFill>
          <a:blip r:embed="rId2"/>
          <a:stretch/>
        </p:blipFill>
        <p:spPr>
          <a:xfrm>
            <a:off x="3429000" y="1371600"/>
            <a:ext cx="274320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Text Box 5"/>
          <p:cNvSpPr/>
          <p:nvPr/>
        </p:nvSpPr>
        <p:spPr>
          <a:xfrm>
            <a:off x="2621880" y="556272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"/>
              </a:rPr>
              <a:t>这是我国哪个少数民族在欢渡什么节日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128240" y="730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477120" y="289548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傣族  </a:t>
            </a:r>
            <a:br>
              <a:rPr sz="2800"/>
            </a:b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泼水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14300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华文彩云"/>
              </a:rPr>
              <a:t>第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西气东输"/>
          <p:cNvPicPr/>
          <p:nvPr/>
        </p:nvPicPr>
        <p:blipFill>
          <a:blip r:embed="rId1"/>
          <a:stretch/>
        </p:blipFill>
        <p:spPr>
          <a:xfrm>
            <a:off x="1905120" y="914400"/>
            <a:ext cx="541008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8" name="Text Box 3"/>
          <p:cNvSpPr/>
          <p:nvPr/>
        </p:nvSpPr>
        <p:spPr>
          <a:xfrm>
            <a:off x="1969920" y="5133960"/>
            <a:ext cx="523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"/>
              </a:rPr>
              <a:t>西气东输</a:t>
            </a:r>
            <a:br>
              <a:rPr sz="36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0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新疆塔里木的轮南油气田实现了向上海输送天然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文本框 8194"/>
          <p:cNvSpPr/>
          <p:nvPr/>
        </p:nvSpPr>
        <p:spPr>
          <a:xfrm>
            <a:off x="1222200" y="49860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http:/image2.sina.com.cn/dy/c/2004-03-28/U397P1T1D3070485F21DT20040328171948.jpg"/>
          <p:cNvPicPr/>
          <p:nvPr/>
        </p:nvPicPr>
        <p:blipFill>
          <a:blip r:embed="rId1"/>
          <a:stretch/>
        </p:blipFill>
        <p:spPr>
          <a:xfrm>
            <a:off x="1676520" y="457200"/>
            <a:ext cx="5790960" cy="44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" name="Text Box 3"/>
          <p:cNvSpPr/>
          <p:nvPr/>
        </p:nvSpPr>
        <p:spPr>
          <a:xfrm>
            <a:off x="2275200" y="5003640"/>
            <a:ext cx="473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"/>
              </a:rPr>
              <a:t>西电东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贵州洪家渡水电站是我国首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西电东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标志性工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4194720" y="654120"/>
            <a:ext cx="7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4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、帮助少数民族发展文化教育事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3" descr="证书"/>
          <p:cNvPicPr/>
          <p:nvPr/>
        </p:nvPicPr>
        <p:blipFill>
          <a:blip r:embed="rId1"/>
          <a:stretch/>
        </p:blipFill>
        <p:spPr>
          <a:xfrm>
            <a:off x="2900520" y="1752480"/>
            <a:ext cx="327168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AutoShape 4"/>
          <p:cNvSpPr/>
          <p:nvPr/>
        </p:nvSpPr>
        <p:spPr>
          <a:xfrm>
            <a:off x="7620120" y="58672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7301"/>
                </a:moveTo>
                <a:lnTo>
                  <a:pt x="8290" y="7301"/>
                </a:lnTo>
                <a:lnTo>
                  <a:pt x="8673" y="7667"/>
                </a:lnTo>
                <a:lnTo>
                  <a:pt x="17882" y="7667"/>
                </a:lnTo>
                <a:lnTo>
                  <a:pt x="18439" y="8224"/>
                </a:lnTo>
                <a:lnTo>
                  <a:pt x="18439" y="8772"/>
                </a:lnTo>
                <a:lnTo>
                  <a:pt x="20284" y="8772"/>
                </a:lnTo>
                <a:lnTo>
                  <a:pt x="20650" y="8224"/>
                </a:lnTo>
                <a:lnTo>
                  <a:pt x="21390" y="8224"/>
                </a:lnTo>
                <a:lnTo>
                  <a:pt x="21390" y="13376"/>
                </a:lnTo>
                <a:lnTo>
                  <a:pt x="20650" y="13376"/>
                </a:lnTo>
                <a:lnTo>
                  <a:pt x="20284" y="12828"/>
                </a:lnTo>
                <a:lnTo>
                  <a:pt x="18439" y="12828"/>
                </a:lnTo>
                <a:lnTo>
                  <a:pt x="18439" y="14107"/>
                </a:lnTo>
                <a:lnTo>
                  <a:pt x="8856" y="14107"/>
                </a:lnTo>
                <a:lnTo>
                  <a:pt x="8856" y="9877"/>
                </a:lnTo>
                <a:lnTo>
                  <a:pt x="8673" y="9877"/>
                </a:lnTo>
                <a:lnTo>
                  <a:pt x="8290" y="10243"/>
                </a:lnTo>
                <a:lnTo>
                  <a:pt x="7377" y="10243"/>
                </a:lnTo>
                <a:close/>
              </a:path>
            </a:pathLst>
          </a:custGeom>
          <a:solidFill>
            <a:srgbClr val="cc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2" dur="1" fill="hold"/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6D0D-83EE-45DC-A0B1-AA1CCD7F3E3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66996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7488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5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WordArt 6" descr=""/>
          <p:cNvPicPr/>
          <p:nvPr/>
        </p:nvPicPr>
        <p:blipFill>
          <a:blip r:embed="rId2"/>
          <a:stretch/>
        </p:blipFill>
        <p:spPr>
          <a:xfrm>
            <a:off x="833400" y="1066680"/>
            <a:ext cx="4886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663280" y="213372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"/>
              </a:rPr>
              <a:t>这是哪个少数民族的什么乐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08360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05192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58000" y="3124080"/>
            <a:ext cx="1371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彝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白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阿昌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葫芦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14300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华文彩云"/>
              </a:rPr>
              <a:t>第二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C:\我的文档\民族团结\新建文件夹\hulusi.jpg"/>
          <p:cNvPicPr/>
          <p:nvPr/>
        </p:nvPicPr>
        <p:blipFill>
          <a:blip r:embed="rId2"/>
          <a:stretch/>
        </p:blipFill>
        <p:spPr>
          <a:xfrm>
            <a:off x="1828800" y="3048120"/>
            <a:ext cx="4724280" cy="27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维吾尔3"/>
          <p:cNvPicPr/>
          <p:nvPr/>
        </p:nvPicPr>
        <p:blipFill>
          <a:blip r:embed="rId2"/>
          <a:stretch/>
        </p:blipFill>
        <p:spPr>
          <a:xfrm>
            <a:off x="2602080" y="2133720"/>
            <a:ext cx="1817640" cy="3047760"/>
          </a:xfrm>
          <a:prstGeom prst="rect">
            <a:avLst/>
          </a:prstGeom>
          <a:ln w="0">
            <a:noFill/>
          </a:ln>
        </p:spPr>
      </p:pic>
      <p:sp>
        <p:nvSpPr>
          <p:cNvPr id="97" name="Oval 4"/>
          <p:cNvSpPr/>
          <p:nvPr/>
        </p:nvSpPr>
        <p:spPr>
          <a:xfrm rot="1521600">
            <a:off x="4647960" y="837720"/>
            <a:ext cx="6858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420720" y="5410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"/>
              </a:rPr>
              <a:t>这些分别是哪个民族的服饰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08360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05192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14300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华文彩云"/>
              </a:rPr>
              <a:t>第三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3505320" y="1676520"/>
            <a:ext cx="114300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114560" y="4572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维吾尔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7151760" y="4572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朝鲜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2" descr="C:\我的文档\民族团结\新建文件夹\007.jpg"/>
          <p:cNvPicPr/>
          <p:nvPr/>
        </p:nvPicPr>
        <p:blipFill>
          <a:blip r:embed="rId3"/>
          <a:stretch/>
        </p:blipFill>
        <p:spPr>
          <a:xfrm>
            <a:off x="4800600" y="2209680"/>
            <a:ext cx="1895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2673720" y="52578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"/>
              </a:rPr>
              <a:t>这是哪个少数民族的传统体育盛会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08360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05192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095880" y="3809880"/>
            <a:ext cx="19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蒙古族</a:t>
            </a:r>
            <a:br>
              <a:rPr sz="2800"/>
            </a:b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那达慕大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14300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华文彩云"/>
              </a:rPr>
              <a:t>第四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8" descr="G:\11.jpg"/>
          <p:cNvPicPr/>
          <p:nvPr/>
        </p:nvPicPr>
        <p:blipFill>
          <a:blip r:embed="rId2"/>
          <a:stretch/>
        </p:blipFill>
        <p:spPr>
          <a:xfrm>
            <a:off x="5761080" y="1295280"/>
            <a:ext cx="2468520" cy="187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Picture 9" descr="G:\18.jpg"/>
          <p:cNvPicPr/>
          <p:nvPr/>
        </p:nvPicPr>
        <p:blipFill>
          <a:blip r:embed="rId3"/>
          <a:stretch/>
        </p:blipFill>
        <p:spPr>
          <a:xfrm>
            <a:off x="3352680" y="2286000"/>
            <a:ext cx="2392560" cy="176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Picture 10" descr="G:\14.jpg"/>
          <p:cNvPicPr/>
          <p:nvPr/>
        </p:nvPicPr>
        <p:blipFill>
          <a:blip r:embed="rId4"/>
          <a:stretch/>
        </p:blipFill>
        <p:spPr>
          <a:xfrm>
            <a:off x="914400" y="3200400"/>
            <a:ext cx="2438280" cy="181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371600" y="482904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仿宋"/>
                <a:ea typeface="仿宋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仿宋"/>
                <a:ea typeface="仿宋"/>
              </a:rPr>
              <a:t>元朝和清朝分别是哪两个少数民族建立的政权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8360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05192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175200" y="3962520"/>
            <a:ext cx="28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元朝：蒙古族    清朝：满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14300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华文彩云"/>
              </a:rPr>
              <a:t>第五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G:\chengjieshihan.jpg"/>
          <p:cNvPicPr/>
          <p:nvPr/>
        </p:nvPicPr>
        <p:blipFill>
          <a:blip r:embed="rId2"/>
          <a:stretch/>
        </p:blipFill>
        <p:spPr>
          <a:xfrm>
            <a:off x="2590920" y="1676520"/>
            <a:ext cx="1716120" cy="217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Text Box 9"/>
          <p:cNvSpPr/>
          <p:nvPr/>
        </p:nvSpPr>
        <p:spPr>
          <a:xfrm>
            <a:off x="2895480" y="167652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成吉思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0" descr="G:\nuerhachi.jpg"/>
          <p:cNvPicPr/>
          <p:nvPr/>
        </p:nvPicPr>
        <p:blipFill>
          <a:blip r:embed="rId3"/>
          <a:stretch/>
        </p:blipFill>
        <p:spPr>
          <a:xfrm>
            <a:off x="5181480" y="1676520"/>
            <a:ext cx="1676520" cy="213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Text Box 11"/>
          <p:cNvSpPr/>
          <p:nvPr/>
        </p:nvSpPr>
        <p:spPr>
          <a:xfrm>
            <a:off x="5410080" y="343368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努尔哈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219320" y="48769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仿宋"/>
                <a:ea typeface="仿宋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仿宋"/>
                <a:ea typeface="仿宋"/>
              </a:rPr>
              <a:t>你能说出他是哪个少数民族的哪位艺术家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08360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05192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14300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华文彩云"/>
              </a:rPr>
              <a:t>第六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G:\马.jpg"/>
          <p:cNvPicPr/>
          <p:nvPr/>
        </p:nvPicPr>
        <p:blipFill>
          <a:blip r:embed="rId2"/>
          <a:stretch/>
        </p:blipFill>
        <p:spPr>
          <a:xfrm>
            <a:off x="3352680" y="1981080"/>
            <a:ext cx="251460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Text Box 8"/>
          <p:cNvSpPr/>
          <p:nvPr/>
        </p:nvSpPr>
        <p:spPr>
          <a:xfrm>
            <a:off x="6248520" y="312408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马三立  </a:t>
            </a:r>
            <a:br>
              <a:rPr sz="2800"/>
            </a:b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回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371600" y="2743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仿宋"/>
                <a:ea typeface="仿宋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仿宋"/>
                <a:ea typeface="仿宋"/>
              </a:rPr>
              <a:t>我国在少数民族聚居的地区实行什么制度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08360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051920" y="914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民族知识竞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14300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华文彩云"/>
              </a:rPr>
              <a:t>第七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133720" y="4572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743200" y="44197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民族区域自治制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759680" y="495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一、民族区域自治的实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014360" y="119700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我国的民族构成和民族分布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1"/>
          <p:cNvPicPr/>
          <p:nvPr/>
        </p:nvPicPr>
        <p:blipFill>
          <a:blip r:embed="rId1"/>
          <a:stretch/>
        </p:blipFill>
        <p:spPr>
          <a:xfrm>
            <a:off x="1116000" y="1905120"/>
            <a:ext cx="5334120" cy="4289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088040" y="3124080"/>
            <a:ext cx="1095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imes New Roman"/>
                <a:ea typeface="仿宋_GB2312"/>
              </a:rPr>
              <a:t>分布特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大杂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小聚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6:32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30Z</dcterms:modified>
  <cp:revision>10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