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laser.wav" ContentType="audio/x-wav"/>
  <Override PartName="/ppt/media/image16.jpeg" ContentType="image/jpeg"/>
  <Override PartName="/ppt/media/image22.png" ContentType="image/png"/>
  <Override PartName="/ppt/media/image24.jpeg" ContentType="image/jpeg"/>
  <Override PartName="/ppt/media/camera.wav" ContentType="audio/x-wav"/>
  <Override PartName="/ppt/media/image14.png" ContentType="image/png"/>
  <Override PartName="/ppt/media/image10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media/voltage.wav" ContentType="audio/x-wav"/>
  <Override PartName="/ppt/media/image7.jpeg" ContentType="image/jpeg"/>
  <Override PartName="/ppt/media/image34.jpeg" ContentType="image/jpeg"/>
  <Override PartName="/ppt/media/image26.jpeg" ContentType="image/jpeg"/>
  <Override PartName="/ppt/media/image32.jpeg" ContentType="image/jpeg"/>
  <Override PartName="/ppt/media/image27.jpeg" ContentType="image/jpeg"/>
  <Override PartName="/ppt/media/image33.jpeg" ContentType="image/jpeg"/>
  <Override PartName="/ppt/media/glass.wav" ContentType="audio/x-wav"/>
  <Override PartName="/ppt/media/image30.jpeg" ContentType="image/jpeg"/>
  <Override PartName="/ppt/media/image31.jpeg" ContentType="image/jpeg"/>
  <Override PartName="/ppt/media/image25.png" ContentType="image/png"/>
  <Override PartName="/ppt/media/image4.jpeg" ContentType="image/jpeg"/>
  <Override PartName="/ppt/media/image23.png" ContentType="image/png"/>
  <Override PartName="/ppt/media/explode.wav" ContentType="audio/x-wav"/>
  <Override PartName="/ppt/media/gunshot.wav" ContentType="audio/x-wav"/>
  <Override PartName="/ppt/media/image3.png" ContentType="image/png"/>
  <Override PartName="/ppt/media/image17.jpeg" ContentType="image/jpeg"/>
  <Override PartName="/ppt/media/suction.wav" ContentType="audio/x-wav"/>
  <Override PartName="/ppt/media/image28.gif" ContentType="image/gif"/>
  <Override PartName="/ppt/media/image8.jpeg" ContentType="image/jpeg"/>
  <Override PartName="/ppt/media/image5.png" ContentType="image/png"/>
  <Override PartName="/ppt/media/image29.png" ContentType="image/png"/>
  <Override PartName="/ppt/media/chimes.wav" ContentType="audio/x-wav"/>
  <Override PartName="/ppt/media/image6.jpeg" ContentType="image/jpeg"/>
  <Override PartName="/ppt/media/type.wav" ContentType="audio/x-wav"/>
  <Override PartName="/ppt/media/hammer.wav" ContentType="audio/x-wav"/>
  <Override PartName="/ppt/media/image2.jpeg" ContentType="image/jpeg"/>
  <Override PartName="/ppt/media/image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801-F1A4-4CB5-9D80-57F47553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512-ED50-4018-9ECE-C6D6A623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BAD-B79F-43D6-A8B1-E0A579F0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DCA-B6F4-4413-8996-FAE8A116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99D-89FE-45B6-BED1-6D5C8A51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BDE-4209-4A08-BA8D-787FFEAC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4FFD-FF40-4AB7-888C-0E716990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432B-9EFF-4803-86FB-CF543D8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EC19-9AE6-47D5-BEC8-D3B90023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4D33-D35F-4366-886C-B44F6911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8D5F-0AEB-4009-A649-E619C9C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9AD-BB6C-443B-BBB5-632C69E3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4F99-27E1-494C-A320-1985625C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28BA-77F7-487F-BE02-97FB4BD4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33E1-DE0C-4662-BDF5-CCFF75C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C38-D118-4549-8221-858292D6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1296-BDE0-4CA8-8A0C-893E2BB1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8649-492D-4C61-A20A-2247019E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3433-190E-40AF-88D8-C45DBA8A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5A49-9BD3-4D3B-82A5-D121BE0D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AD0E0-0889-485C-BEFE-913D035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6A36-8CCC-433A-B624-B7FFB0DC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DF1-9E13-4690-BDDC-D113B48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E378-A869-4315-AB24-9A45EAB2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C71B-471C-476B-86B1-09EFE84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D577-C252-4277-9487-840F0CC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EF32-238D-4998-91FA-071DC7E3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D2C3-4754-48D4-B697-A66621CB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EFB7-3C42-43FC-943F-3FC2E36A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FA3E-9F1A-4287-BAB7-F905A0DA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B0B4-40AC-4C09-941B-3B66A6BB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1F8A-5A5D-4B26-8705-056FC20A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6DF0-4326-4FF8-9802-3A490CCC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83C-BEFA-4AAB-AA4B-9880D75F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715F-3816-4F6B-8E9A-3DF787AE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1C70-D405-412D-91CE-957287E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BA28-805E-4717-93E9-862E2CC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B6CC-1772-4425-88D4-2FDAD69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12AC-9444-46D9-ABA1-63B64F7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1405-8CCF-408E-997B-2764942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C7E5-FD80-447E-A99B-B769CCEF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C735-745E-4076-A60E-044CB3B6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09AB-D3C1-4B03-B9FA-36452A50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6B15B-BF30-4E68-9296-50AC090F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1F9-4A53-4A95-B4EF-4EFFB2C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7B47-03DA-40FC-8984-4E961382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962D-D856-45D7-BF88-6ADEBD7F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567F-3F8F-40A7-B080-99F2A888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97A4-86BD-42FC-9F4D-EE31636A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88B3-58EB-41E8-8FAE-3F1DABC1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34F74-C73A-4C91-A16C-9D5F55DB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B91E-6000-4FD1-8C98-63F47B6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86B6-7EAD-4032-B9CA-F0078E3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6020-A310-4A50-800B-40C13A8E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CF58-C2CA-41CC-AC20-5D1C73B1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3ED-330B-4F21-978D-77F61B89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8721-3796-4DFB-9A62-5AB7CA58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ADC-9A18-4C25-8EE6-147666C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E47-F89D-403D-83AD-D6E6D73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D1F-49A6-4B0F-A52B-B10A2C8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0"/>
            <a:ext cx="1063800" cy="6853320"/>
            <a:chOff x="-720" y="0"/>
            <a:chExt cx="1063800" cy="6853320"/>
          </a:xfrm>
        </p:grpSpPr>
        <p:grpSp>
          <p:nvGrpSpPr>
            <p:cNvPr id="1" name="Group 3"/>
            <p:cNvGrpSpPr/>
            <p:nvPr/>
          </p:nvGrpSpPr>
          <p:grpSpPr>
            <a:xfrm>
              <a:off x="41760" y="0"/>
              <a:ext cx="1021320" cy="6852960"/>
              <a:chOff x="41760" y="0"/>
              <a:chExt cx="1021320" cy="6852960"/>
            </a:xfrm>
          </p:grpSpPr>
          <p:sp>
            <p:nvSpPr>
              <p:cNvPr id="2" name="未知"/>
              <p:cNvSpPr/>
              <p:nvPr/>
            </p:nvSpPr>
            <p:spPr>
              <a:xfrm flipH="1">
                <a:off x="68400" y="0"/>
                <a:ext cx="990000" cy="683316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flipH="1">
                <a:off x="49320" y="1682280"/>
                <a:ext cx="989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未知"/>
              <p:cNvSpPr/>
              <p:nvPr/>
            </p:nvSpPr>
            <p:spPr>
              <a:xfrm flipH="1">
                <a:off x="68400" y="1290960"/>
                <a:ext cx="990000" cy="501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 flipH="1">
                <a:off x="49320" y="154080"/>
                <a:ext cx="989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 flipH="1">
                <a:off x="68400" y="988560"/>
                <a:ext cx="99000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 flipH="1">
                <a:off x="68400" y="684360"/>
                <a:ext cx="990000" cy="430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 flipH="1">
                <a:off x="49680" y="361800"/>
                <a:ext cx="1002240" cy="3744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 flipH="1">
                <a:off x="41760" y="3927240"/>
                <a:ext cx="990000" cy="5004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 flipH="1">
                <a:off x="60480" y="3535920"/>
                <a:ext cx="990000" cy="5018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flipH="1">
                <a:off x="41760" y="2383560"/>
                <a:ext cx="99000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flipH="1">
                <a:off x="60480" y="3232800"/>
                <a:ext cx="99000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H="1">
                <a:off x="41760" y="2914920"/>
                <a:ext cx="990000" cy="429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 flipH="1">
                <a:off x="60120" y="2620800"/>
                <a:ext cx="100260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 flipH="1">
                <a:off x="48960" y="4957200"/>
                <a:ext cx="989640" cy="5004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 flipH="1">
                <a:off x="68400" y="4565880"/>
                <a:ext cx="990000" cy="5018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 flipH="1">
                <a:off x="41760" y="5658840"/>
                <a:ext cx="99000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H="1" rot="16200000">
                <a:off x="381600" y="6184080"/>
                <a:ext cx="345960" cy="9914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flipH="1">
                <a:off x="41760" y="6190920"/>
                <a:ext cx="990000" cy="429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 flipH="1">
                <a:off x="59760" y="5895720"/>
                <a:ext cx="100260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未知"/>
            <p:cNvSpPr/>
            <p:nvPr/>
          </p:nvSpPr>
          <p:spPr>
            <a:xfrm flipH="1" rot="16200000">
              <a:off x="-3097440" y="3096720"/>
              <a:ext cx="6853320" cy="6598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flipH="1" rot="16200000">
              <a:off x="-2523960" y="3274560"/>
              <a:ext cx="6851880" cy="30276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7FCE-9DB6-466A-AA12-B0537E8BA9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DD61-05FD-47DB-AE45-6321830F5D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" y="2438280"/>
            <a:ext cx="9144360" cy="1063800"/>
            <a:chOff x="-360" y="2438280"/>
            <a:chExt cx="914436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360" y="2476080"/>
              <a:ext cx="9143640" cy="1011240"/>
              <a:chOff x="360" y="2476080"/>
              <a:chExt cx="9143640" cy="1011240"/>
            </a:xfrm>
          </p:grpSpPr>
          <p:sp>
            <p:nvSpPr>
              <p:cNvPr id="107" name="未知"/>
              <p:cNvSpPr/>
              <p:nvPr/>
            </p:nvSpPr>
            <p:spPr>
              <a:xfrm flipH="1" rot="5400000">
                <a:off x="4095360" y="-1566000"/>
                <a:ext cx="979560" cy="91170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flipH="1" rot="5400000">
                <a:off x="6076440" y="2639160"/>
                <a:ext cx="979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flipH="1" rot="5400000">
                <a:off x="6597360" y="2657880"/>
                <a:ext cx="979560" cy="6692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flipH="1" rot="5400000">
                <a:off x="8247240" y="2771280"/>
                <a:ext cx="979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flipH="1" rot="5400000">
                <a:off x="7102440" y="2759040"/>
                <a:ext cx="9795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 flipH="1" rot="5400000">
                <a:off x="7454160" y="2705400"/>
                <a:ext cx="97956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 flipH="1" rot="5400000">
                <a:off x="7915680" y="2730240"/>
                <a:ext cx="99216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 flipH="1" rot="5400000">
                <a:off x="3080160" y="2631960"/>
                <a:ext cx="979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 flipH="1" rot="5400000">
                <a:off x="3601440" y="2649600"/>
                <a:ext cx="97956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 flipH="1" rot="5400000">
                <a:off x="5271840" y="2763360"/>
                <a:ext cx="979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 flipH="1" rot="5400000">
                <a:off x="4107600" y="2751480"/>
                <a:ext cx="97956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 flipH="1" rot="5400000">
                <a:off x="4478040" y="2679480"/>
                <a:ext cx="979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flipH="1" rot="5400000">
                <a:off x="4901400" y="2740680"/>
                <a:ext cx="99216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 flipH="1" rot="5400000">
                <a:off x="1705680" y="2639520"/>
                <a:ext cx="979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 flipH="1" rot="5400000">
                <a:off x="2226960" y="2657520"/>
                <a:ext cx="97956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 flipH="1" rot="5400000">
                <a:off x="901440" y="2763360"/>
                <a:ext cx="979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H="1">
                <a:off x="360" y="2493720"/>
                <a:ext cx="461520" cy="9810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flipH="1" rot="5400000">
                <a:off x="107280" y="2679480"/>
                <a:ext cx="979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flipH="1" rot="5400000">
                <a:off x="530640" y="2740680"/>
                <a:ext cx="99216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未知"/>
            <p:cNvSpPr/>
            <p:nvPr/>
          </p:nvSpPr>
          <p:spPr>
            <a:xfrm flipH="1">
              <a:off x="0" y="2438280"/>
              <a:ext cx="9144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 flipH="1">
              <a:off x="-720" y="3201840"/>
              <a:ext cx="9142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FB75-93C6-452A-8F7E-726879F7C6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4DE7-750E-4F40-A6B2-78F08299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E20D-1861-40E9-B645-20E353315B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typ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audio" Target="../media/hamme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explode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 民族政权并立的时代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472360" cy="402264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155"/>
          <p:cNvSpPr/>
          <p:nvPr/>
        </p:nvSpPr>
        <p:spPr>
          <a:xfrm>
            <a:off x="1038240" y="6523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38080" y="2556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二、北宋的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826920" y="476280"/>
            <a:ext cx="80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唐亡之后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五代十国的分裂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局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未命名"/>
          <p:cNvPicPr/>
          <p:nvPr/>
        </p:nvPicPr>
        <p:blipFill>
          <a:blip r:embed="rId1"/>
          <a:stretch/>
        </p:blipFill>
        <p:spPr>
          <a:xfrm>
            <a:off x="324000" y="1557360"/>
            <a:ext cx="8820000" cy="53006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1835280" y="1052640"/>
            <a:ext cx="119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285920" y="620640"/>
            <a:ext cx="688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北宋建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时间：</a:t>
            </a:r>
            <a:r>
              <a:rPr b="1" lang="zh-CN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960</a:t>
            </a:r>
            <a:r>
              <a:rPr b="1" lang="zh-CN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建立者：赵匡胤（宋太祖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宋体"/>
              </a:rPr>
              <a:t>定都：东京</a:t>
            </a:r>
            <a:r>
              <a:rPr b="1" lang="zh-CN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80000" y="692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陈桥兵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4" descr="赵匡胤"/>
          <p:cNvPicPr/>
          <p:nvPr/>
        </p:nvPicPr>
        <p:blipFill>
          <a:blip r:embed="rId1"/>
          <a:stretch/>
        </p:blipFill>
        <p:spPr>
          <a:xfrm>
            <a:off x="7118280" y="0"/>
            <a:ext cx="2025720" cy="24922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1044720" y="35020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宋体"/>
              </a:rPr>
              <a:t>2.“</a:t>
            </a:r>
            <a:r>
              <a:rPr b="1" lang="zh-CN" sz="3600" spc="-1" strike="noStrike">
                <a:solidFill>
                  <a:srgbClr val="3366cc"/>
                </a:solidFill>
                <a:latin typeface="宋体"/>
              </a:rPr>
              <a:t>杯酒释兵权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6" descr="5b10022a"/>
          <p:cNvPicPr/>
          <p:nvPr/>
        </p:nvPicPr>
        <p:blipFill>
          <a:blip r:embed="rId2"/>
          <a:stretch/>
        </p:blipFill>
        <p:spPr>
          <a:xfrm>
            <a:off x="4356000" y="4437000"/>
            <a:ext cx="4500720" cy="19684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7"/>
          <p:cNvSpPr/>
          <p:nvPr/>
        </p:nvSpPr>
        <p:spPr>
          <a:xfrm>
            <a:off x="1042920" y="4365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目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117440" y="508644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71d"/>
                </a:solidFill>
                <a:latin typeface="Times New Roman"/>
              </a:rPr>
              <a:t>巩固统治，解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71d"/>
                </a:solidFill>
                <a:latin typeface="Times New Roman"/>
              </a:rPr>
              <a:t>统军大将的兵权</a:t>
            </a:r>
            <a:r>
              <a:rPr b="1" lang="zh-CN" sz="2800" spc="-1" strike="noStrike">
                <a:solidFill>
                  <a:srgbClr val="f957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1042920" y="549360"/>
            <a:ext cx="810108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杯酒释兵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宋太祖统一全国后，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巩固统治，他决定解除统军大将的兵权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的一天，宋太祖宴请石守信等大将。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，宋太祖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当上皇帝，全靠你们。可当上皇帝后，却整夜不能安睡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石守信等人忙问原因。宋太祖答道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假如有一天，你们的部下贫图富贵，也把黄袍加在你们身上，那时事情也就由不得你们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石守信等人非常惶恐，跪倒在地，问该怎么办。宋太祖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们不如放弃兵权，买良田美宅，享受富贵，欢乐一世。这样，君臣之间互不猜疑，岂不很好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石守信等领会了皇帝的用意，第二天全都称病辞职，交出兵权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26920" y="620640"/>
            <a:ext cx="8118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北宋建立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结束了五代十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裂局面，但这时北方还有两个军事力量十分强大的政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契丹族建立的辽、党项族建立的西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因而北宋政权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并不是一个统一全国的王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随之而来的是几个民族政权并存，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辽、宋、夏之间有和有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并立局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辽北宋西夏形势"/>
          <p:cNvPicPr/>
          <p:nvPr/>
        </p:nvPicPr>
        <p:blipFill>
          <a:blip r:embed="rId1"/>
          <a:stretch/>
        </p:blipFill>
        <p:spPr>
          <a:xfrm>
            <a:off x="838080" y="0"/>
            <a:ext cx="815364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"/>
          <p:cNvSpPr/>
          <p:nvPr/>
        </p:nvSpPr>
        <p:spPr>
          <a:xfrm>
            <a:off x="6149520" y="202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4d4d"/>
                </a:solidFill>
                <a:latin typeface="Times New Roman"/>
              </a:rPr>
              <a:t>上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801600" y="1440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3594240" y="3044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4d4d"/>
                </a:solidFill>
                <a:latin typeface="Times New Roman"/>
              </a:rPr>
              <a:t>兴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766600" y="26845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   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463720" y="377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4d4d"/>
                </a:solidFill>
                <a:latin typeface="Times New Roman"/>
              </a:rPr>
              <a:t>东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4174560" y="459108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       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5181480" y="3657600"/>
            <a:ext cx="1526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1908000" y="33336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辽宋夏的和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北宋和辽的战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战：澶州之战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：澶渊之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3289320" y="3502080"/>
            <a:ext cx="74520" cy="74520"/>
          </a:xfrm>
          <a:custGeom>
            <a:avLst/>
            <a:gdLst>
              <a:gd name="textAreaLeft" fmla="*/ 47520 w 74520"/>
              <a:gd name="textAreaRight" fmla="*/ 74880 w 74520"/>
              <a:gd name="textAreaTop" fmla="*/ 1800 h 74520"/>
              <a:gd name="textAreaBottom" fmla="*/ 72720 h 7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071960" y="4071960"/>
            <a:ext cx="289080" cy="9144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 flipV="1" rot="10800000">
            <a:off x="4428720" y="37692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 flipV="1" rot="10800000">
            <a:off x="4428720" y="4578840"/>
            <a:ext cx="18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2"/>
          <p:cNvSpPr/>
          <p:nvPr/>
        </p:nvSpPr>
        <p:spPr>
          <a:xfrm>
            <a:off x="0" y="0"/>
            <a:ext cx="8675640" cy="1916280"/>
          </a:xfrm>
          <a:prstGeom prst="ellipse">
            <a:avLst/>
          </a:prstGeom>
          <a:solidFill>
            <a:srgbClr val="0099cc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史书记载，澶渊之盟以后，双方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边境地区开展贸易，宋用丝织品、稻米、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叶等，换取辽的羊、马、骆驼等。我认为宋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达成澶渊之盟是好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3"/>
          <p:cNvSpPr/>
          <p:nvPr/>
        </p:nvSpPr>
        <p:spPr>
          <a:xfrm flipV="1">
            <a:off x="2490840" y="2491560"/>
            <a:ext cx="871560" cy="289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5638680" y="2743200"/>
            <a:ext cx="871560" cy="43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5562720" y="3352680"/>
            <a:ext cx="871560" cy="28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1258920" y="3962520"/>
            <a:ext cx="7885080" cy="2666880"/>
          </a:xfrm>
          <a:prstGeom prst="ellipse">
            <a:avLst/>
          </a:prstGeom>
          <a:solidFill>
            <a:srgbClr val="0099cc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规定宋要给辽岁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每年银十万两，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万匹，这些都要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宋朝的百姓负担。我认为澶渊之盟对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朝是屈辱的，对宋朝的百姓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很不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WordArt 7"/>
          <p:cNvSpPr txBox="1"/>
          <p:nvPr/>
        </p:nvSpPr>
        <p:spPr>
          <a:xfrm>
            <a:off x="826920" y="2895480"/>
            <a:ext cx="392112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prstDash val="sysDot"/>
                  <a:round/>
                </a:ln>
                <a:solidFill>
                  <a:srgbClr val="3366ff"/>
                </a:solidFill>
                <a:latin typeface="华文行楷"/>
              </a:rPr>
              <a:t>你的意见呢？</a:t>
            </a:r>
            <a:endParaRPr b="1" lang="en-US" sz="5400" spc="1" strike="noStrike">
              <a:ln w="9360">
                <a:solidFill>
                  <a:srgbClr val="000000"/>
                </a:solidFill>
                <a:prstDash val="sysDot"/>
                <a:round/>
              </a:ln>
              <a:solidFill>
                <a:srgbClr val="3366ff"/>
              </a:solidFill>
              <a:latin typeface="华文行楷"/>
              <a:ea typeface="华文行楷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2606040" y="2106720"/>
            <a:ext cx="44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如何评价“澶渊之盟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59480" y="228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755640" y="692280"/>
            <a:ext cx="838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们都说的对，只是看问题的角度不同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fca2"/>
                </a:solidFill>
                <a:latin typeface="Arial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１、对于北宋来说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澶渊之盟是屈辱的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和约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“岁币”加重了人民的负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、但是，从整个中华民族的发展史看，澶渊之盟的订立有其积极的一面：它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结束了辽宋之间的战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使此后的辽宋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边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长期处于相对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和平稳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的状态，双方展开频繁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经济文化交流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有利于边境地区的生产发展，从长远看有利于我国多民族国家的发展和统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62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西夏的建立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152568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时  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132000" y="1989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中宋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世纪前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332000" y="29242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民  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133800" y="285264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党项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258920" y="3789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建立者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3203640" y="378936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元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1332000" y="4581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定 都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132000" y="4581360"/>
            <a:ext cx="14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兴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062880" y="14130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： 西夏与北宋多次进行战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447920" y="220968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4d4d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4d4d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： </a:t>
            </a: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44</a:t>
            </a: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年，西夏与北宋订立和约，元昊向宋称臣，宋给西夏岁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684800" y="333360"/>
            <a:ext cx="35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北宋与西夏的战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944080" y="451476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4d4d"/>
                </a:solidFill>
                <a:uFillTx/>
                <a:latin typeface="Times New Roman"/>
              </a:rPr>
              <a:t>思考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议和后有何影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01188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340000" y="836640"/>
            <a:ext cx="62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战国 、秦、汉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344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封建国家分裂和民族大融合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376360" y="2852640"/>
            <a:ext cx="41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隋、唐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2340000" y="1844640"/>
            <a:ext cx="45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三国、两晋、南北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059280" y="1268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封建社会的确立和发展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132000" y="3284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封建社会的繁荣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84360" y="270828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4d4d"/>
                </a:solidFill>
                <a:latin typeface="Times New Roman"/>
                <a:ea typeface="隶书"/>
              </a:rPr>
              <a:t>封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4d4d"/>
                </a:solidFill>
                <a:latin typeface="Times New Roman"/>
                <a:ea typeface="隶书"/>
              </a:rPr>
              <a:t>社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2050920" y="1052640"/>
            <a:ext cx="360360" cy="468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1680 h 4680000"/>
              <a:gd name="textAreaBottom" fmla="*/ 455832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40000" y="378936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隶书"/>
                <a:ea typeface="隶书"/>
              </a:rPr>
              <a:t>五代、十国、辽、宋、夏、金、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2411280" y="5661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明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55840" y="425916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经济重心南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3276720" y="465300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民族融合加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3276720" y="50846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封建经济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辽、北宋、西夏形势图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>
            <a:off x="6400800" y="5410080"/>
            <a:ext cx="68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</a:rPr>
              <a:t>北宋</a:t>
            </a:r>
            <a:endParaRPr b="1" lang="en-US" sz="5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998b01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6" name="WordArt 3"/>
          <p:cNvSpPr txBox="1"/>
          <p:nvPr/>
        </p:nvSpPr>
        <p:spPr>
          <a:xfrm>
            <a:off x="762120" y="365760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</a:rPr>
              <a:t>兴庆</a:t>
            </a:r>
            <a:endParaRPr b="1" lang="en-US" sz="5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998b01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5651640" y="0"/>
            <a:ext cx="2590560" cy="2362320"/>
            <a:chOff x="5651640" y="0"/>
            <a:chExt cx="2590560" cy="2362320"/>
          </a:xfrm>
        </p:grpSpPr>
        <p:sp>
          <p:nvSpPr>
            <p:cNvPr id="348" name="AutoShape 5"/>
            <p:cNvSpPr/>
            <p:nvPr/>
          </p:nvSpPr>
          <p:spPr>
            <a:xfrm>
              <a:off x="5651640" y="0"/>
              <a:ext cx="2590560" cy="236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684" y="10800"/>
                  </a:moveTo>
                  <a:cubicBezTo>
                    <a:pt x="6684" y="13073"/>
                    <a:pt x="8527" y="14916"/>
                    <a:pt x="10800" y="14916"/>
                  </a:cubicBezTo>
                  <a:cubicBezTo>
                    <a:pt x="13073" y="14916"/>
                    <a:pt x="14916" y="13073"/>
                    <a:pt x="14916" y="10800"/>
                  </a:cubicBezTo>
                  <a:cubicBezTo>
                    <a:pt x="14916" y="8527"/>
                    <a:pt x="13073" y="6684"/>
                    <a:pt x="10800" y="6684"/>
                  </a:cubicBezTo>
                  <a:cubicBezTo>
                    <a:pt x="8527" y="6684"/>
                    <a:pt x="6684" y="8527"/>
                    <a:pt x="6684" y="10800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WordArt 6"/>
            <p:cNvSpPr txBox="1"/>
            <p:nvPr/>
          </p:nvSpPr>
          <p:spPr>
            <a:xfrm>
              <a:off x="6642000" y="914400"/>
              <a:ext cx="685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辽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0" name="WordArt 7"/>
            <p:cNvSpPr txBox="1"/>
            <p:nvPr/>
          </p:nvSpPr>
          <p:spPr>
            <a:xfrm>
              <a:off x="6565680" y="0"/>
              <a:ext cx="9903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契丹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1" name="WordArt 8"/>
            <p:cNvSpPr txBox="1"/>
            <p:nvPr/>
          </p:nvSpPr>
          <p:spPr>
            <a:xfrm>
              <a:off x="7480080" y="914400"/>
              <a:ext cx="685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916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2" name="WordArt 9"/>
            <p:cNvSpPr txBox="1"/>
            <p:nvPr/>
          </p:nvSpPr>
          <p:spPr>
            <a:xfrm>
              <a:off x="6565680" y="1600200"/>
              <a:ext cx="685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上京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3" name="WordArt 10"/>
            <p:cNvSpPr txBox="1"/>
            <p:nvPr/>
          </p:nvSpPr>
          <p:spPr>
            <a:xfrm rot="5400000">
              <a:off x="5498280" y="1066680"/>
              <a:ext cx="1371600" cy="456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500" spc="1" strike="noStrike">
                  <a:ln w="9360">
                    <a:solidFill>
                      <a:srgbClr val="800000"/>
                    </a:solidFill>
                    <a:round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阿保机</a:t>
              </a:r>
              <a:endParaRPr b="0" i="1" lang="en-US" sz="5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54" name="Group 11"/>
          <p:cNvGrpSpPr/>
          <p:nvPr/>
        </p:nvGrpSpPr>
        <p:grpSpPr>
          <a:xfrm>
            <a:off x="5508720" y="4648320"/>
            <a:ext cx="2514600" cy="2209680"/>
            <a:chOff x="5508720" y="4648320"/>
            <a:chExt cx="2514600" cy="2209680"/>
          </a:xfrm>
        </p:grpSpPr>
        <p:sp>
          <p:nvSpPr>
            <p:cNvPr id="355" name="AutoShape 12"/>
            <p:cNvSpPr/>
            <p:nvPr/>
          </p:nvSpPr>
          <p:spPr>
            <a:xfrm>
              <a:off x="5508720" y="4648320"/>
              <a:ext cx="2514600" cy="220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382" y="10800"/>
                  </a:moveTo>
                  <a:cubicBezTo>
                    <a:pt x="6382" y="13240"/>
                    <a:pt x="8360" y="15218"/>
                    <a:pt x="10800" y="15218"/>
                  </a:cubicBezTo>
                  <a:cubicBezTo>
                    <a:pt x="13240" y="15218"/>
                    <a:pt x="15218" y="13240"/>
                    <a:pt x="15218" y="10800"/>
                  </a:cubicBezTo>
                  <a:cubicBezTo>
                    <a:pt x="15218" y="8360"/>
                    <a:pt x="13240" y="6382"/>
                    <a:pt x="10800" y="6382"/>
                  </a:cubicBezTo>
                  <a:cubicBezTo>
                    <a:pt x="8360" y="6382"/>
                    <a:pt x="6382" y="8360"/>
                    <a:pt x="6382" y="10800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WordArt 13"/>
            <p:cNvSpPr txBox="1"/>
            <p:nvPr/>
          </p:nvSpPr>
          <p:spPr>
            <a:xfrm>
              <a:off x="6575400" y="4724640"/>
              <a:ext cx="685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汉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7" name="WordArt 14"/>
            <p:cNvSpPr txBox="1"/>
            <p:nvPr/>
          </p:nvSpPr>
          <p:spPr>
            <a:xfrm>
              <a:off x="7337520" y="5486400"/>
              <a:ext cx="6858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960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8" name="WordArt 15"/>
            <p:cNvSpPr txBox="1"/>
            <p:nvPr/>
          </p:nvSpPr>
          <p:spPr>
            <a:xfrm>
              <a:off x="6423120" y="6248520"/>
              <a:ext cx="685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东京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9" name="WordArt 16"/>
            <p:cNvSpPr txBox="1"/>
            <p:nvPr/>
          </p:nvSpPr>
          <p:spPr>
            <a:xfrm rot="5400000">
              <a:off x="5356440" y="556272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500" spc="1" strike="noStrike">
                  <a:ln w="9360">
                    <a:solidFill>
                      <a:srgbClr val="800000"/>
                    </a:solidFill>
                    <a:round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赵匡胤</a:t>
              </a:r>
              <a:endParaRPr b="0" i="1" lang="en-US" sz="5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60" name="Group 17"/>
          <p:cNvGrpSpPr/>
          <p:nvPr/>
        </p:nvGrpSpPr>
        <p:grpSpPr>
          <a:xfrm>
            <a:off x="0" y="2060640"/>
            <a:ext cx="2286000" cy="2209680"/>
            <a:chOff x="0" y="2060640"/>
            <a:chExt cx="2286000" cy="2209680"/>
          </a:xfrm>
        </p:grpSpPr>
        <p:sp>
          <p:nvSpPr>
            <p:cNvPr id="361" name="AutoShape 18"/>
            <p:cNvSpPr/>
            <p:nvPr/>
          </p:nvSpPr>
          <p:spPr>
            <a:xfrm>
              <a:off x="0" y="2060640"/>
              <a:ext cx="2286000" cy="220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120" y="10800"/>
                  </a:moveTo>
                  <a:cubicBezTo>
                    <a:pt x="6120" y="13385"/>
                    <a:pt x="8215" y="15480"/>
                    <a:pt x="10800" y="15480"/>
                  </a:cubicBezTo>
                  <a:cubicBezTo>
                    <a:pt x="13385" y="15480"/>
                    <a:pt x="15480" y="13385"/>
                    <a:pt x="15480" y="10800"/>
                  </a:cubicBezTo>
                  <a:cubicBezTo>
                    <a:pt x="15480" y="8215"/>
                    <a:pt x="13385" y="6120"/>
                    <a:pt x="10800" y="6120"/>
                  </a:cubicBezTo>
                  <a:cubicBezTo>
                    <a:pt x="8215" y="6120"/>
                    <a:pt x="6120" y="8215"/>
                    <a:pt x="6120" y="10800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WordArt 19"/>
            <p:cNvSpPr txBox="1"/>
            <p:nvPr/>
          </p:nvSpPr>
          <p:spPr>
            <a:xfrm>
              <a:off x="762120" y="2898720"/>
              <a:ext cx="6858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西夏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3" name="WordArt 20"/>
            <p:cNvSpPr txBox="1"/>
            <p:nvPr/>
          </p:nvSpPr>
          <p:spPr>
            <a:xfrm>
              <a:off x="762120" y="2060640"/>
              <a:ext cx="685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党项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4" name="WordArt 21"/>
            <p:cNvSpPr txBox="1"/>
            <p:nvPr/>
          </p:nvSpPr>
          <p:spPr>
            <a:xfrm>
              <a:off x="1600200" y="2822760"/>
              <a:ext cx="685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1038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5" name="WordArt 22"/>
            <p:cNvSpPr txBox="1"/>
            <p:nvPr/>
          </p:nvSpPr>
          <p:spPr>
            <a:xfrm rot="5400000">
              <a:off x="-228600" y="297504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500" spc="1" strike="noStrike">
                  <a:ln w="9360">
                    <a:solidFill>
                      <a:srgbClr val="800000"/>
                    </a:solidFill>
                    <a:round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元昊</a:t>
              </a:r>
              <a:endParaRPr b="0" i="1" lang="en-US" sz="5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00200" y="533160"/>
            <a:ext cx="4191120" cy="1600200"/>
            <a:chOff x="1600200" y="533160"/>
            <a:chExt cx="4191120" cy="1600200"/>
          </a:xfrm>
        </p:grpSpPr>
        <p:sp>
          <p:nvSpPr>
            <p:cNvPr id="367" name="Line 23"/>
            <p:cNvSpPr/>
            <p:nvPr/>
          </p:nvSpPr>
          <p:spPr>
            <a:xfrm flipV="1">
              <a:off x="1600200" y="533160"/>
              <a:ext cx="4191120" cy="16002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 rot="10800000">
              <a:off x="1600200" y="532800"/>
              <a:ext cx="41911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6846120" y="1916280"/>
            <a:ext cx="1399320" cy="3123720"/>
            <a:chOff x="6846120" y="1916280"/>
            <a:chExt cx="1399320" cy="3123720"/>
          </a:xfrm>
        </p:grpSpPr>
        <p:grpSp>
          <p:nvGrpSpPr>
            <p:cNvPr id="370" name=""/>
            <p:cNvGrpSpPr/>
            <p:nvPr/>
          </p:nvGrpSpPr>
          <p:grpSpPr>
            <a:xfrm>
              <a:off x="7596720" y="1916280"/>
              <a:ext cx="360" cy="3123720"/>
              <a:chOff x="7596720" y="1916280"/>
              <a:chExt cx="360" cy="3123720"/>
            </a:xfrm>
          </p:grpSpPr>
          <p:sp>
            <p:nvSpPr>
              <p:cNvPr id="371" name="Line 25"/>
              <p:cNvSpPr/>
              <p:nvPr/>
            </p:nvSpPr>
            <p:spPr>
              <a:xfrm>
                <a:off x="7596720" y="1916280"/>
                <a:ext cx="0" cy="3123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7596720" y="1916280"/>
                <a:ext cx="360" cy="312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26"/>
            <p:cNvSpPr/>
            <p:nvPr/>
          </p:nvSpPr>
          <p:spPr>
            <a:xfrm>
              <a:off x="6846120" y="2599560"/>
              <a:ext cx="139932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用兵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WordArt 27"/>
          <p:cNvSpPr txBox="1"/>
          <p:nvPr/>
        </p:nvSpPr>
        <p:spPr>
          <a:xfrm>
            <a:off x="1905120" y="0"/>
            <a:ext cx="3047760" cy="20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d007a"/>
                  </a:outerShdw>
                </a:effectLst>
                <a:latin typeface="宋体"/>
              </a:rPr>
              <a:t>共同开发北方地区</a:t>
            </a:r>
            <a:endParaRPr b="1" lang="en-US" sz="500" spc="-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3d007a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75" name="Group 28"/>
          <p:cNvGrpSpPr/>
          <p:nvPr/>
        </p:nvGrpSpPr>
        <p:grpSpPr>
          <a:xfrm>
            <a:off x="2195640" y="3573360"/>
            <a:ext cx="3580920" cy="1905120"/>
            <a:chOff x="2195640" y="3573360"/>
            <a:chExt cx="3580920" cy="1905120"/>
          </a:xfrm>
        </p:grpSpPr>
        <p:grpSp>
          <p:nvGrpSpPr>
            <p:cNvPr id="376" name=""/>
            <p:cNvGrpSpPr/>
            <p:nvPr/>
          </p:nvGrpSpPr>
          <p:grpSpPr>
            <a:xfrm>
              <a:off x="2313360" y="4164480"/>
              <a:ext cx="3463200" cy="1314000"/>
              <a:chOff x="2313360" y="4164480"/>
              <a:chExt cx="3463200" cy="1314000"/>
            </a:xfrm>
          </p:grpSpPr>
          <p:sp>
            <p:nvSpPr>
              <p:cNvPr id="377" name="Line 29"/>
              <p:cNvSpPr/>
              <p:nvPr/>
            </p:nvSpPr>
            <p:spPr>
              <a:xfrm>
                <a:off x="2313360" y="4164480"/>
                <a:ext cx="3463200" cy="1314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2313360" y="4164480"/>
                <a:ext cx="3463200" cy="131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9" name="WordArt 30" descr=""/>
            <p:cNvPicPr/>
            <p:nvPr/>
          </p:nvPicPr>
          <p:blipFill>
            <a:blip r:embed="rId1"/>
            <a:stretch/>
          </p:blipFill>
          <p:spPr>
            <a:xfrm>
              <a:off x="2195640" y="3573360"/>
              <a:ext cx="2873880" cy="142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31"/>
          <p:cNvGrpSpPr/>
          <p:nvPr/>
        </p:nvGrpSpPr>
        <p:grpSpPr>
          <a:xfrm>
            <a:off x="1666440" y="4149720"/>
            <a:ext cx="3935520" cy="1734120"/>
            <a:chOff x="1666440" y="4149720"/>
            <a:chExt cx="3935520" cy="1734120"/>
          </a:xfrm>
        </p:grpSpPr>
        <p:grpSp>
          <p:nvGrpSpPr>
            <p:cNvPr id="381" name=""/>
            <p:cNvGrpSpPr/>
            <p:nvPr/>
          </p:nvGrpSpPr>
          <p:grpSpPr>
            <a:xfrm>
              <a:off x="1692360" y="4149720"/>
              <a:ext cx="3909600" cy="1584360"/>
              <a:chOff x="1692360" y="4149720"/>
              <a:chExt cx="3909600" cy="1584360"/>
            </a:xfrm>
          </p:grpSpPr>
          <p:sp>
            <p:nvSpPr>
              <p:cNvPr id="382" name="Line 32"/>
              <p:cNvSpPr/>
              <p:nvPr/>
            </p:nvSpPr>
            <p:spPr>
              <a:xfrm>
                <a:off x="1692360" y="4149720"/>
                <a:ext cx="3909600" cy="1584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1692360" y="4149720"/>
                <a:ext cx="390960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WordArt 33"/>
            <p:cNvSpPr txBox="1"/>
            <p:nvPr/>
          </p:nvSpPr>
          <p:spPr>
            <a:xfrm rot="1383000">
              <a:off x="1692360" y="4743720"/>
              <a:ext cx="2584800" cy="66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0"/>
                  <a:gd name="adj2" fmla="val -194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990000"/>
                    </a:outerShdw>
                  </a:effectLst>
                  <a:latin typeface="宋体"/>
                </a:rPr>
                <a:t>元昊出兵</a:t>
              </a:r>
              <a:endParaRPr b="0" lang="en-US" sz="5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85" name="Group 34"/>
          <p:cNvGrpSpPr/>
          <p:nvPr/>
        </p:nvGrpSpPr>
        <p:grpSpPr>
          <a:xfrm>
            <a:off x="3419640" y="1484280"/>
            <a:ext cx="1295280" cy="1219320"/>
            <a:chOff x="3419640" y="1484280"/>
            <a:chExt cx="1295280" cy="1219320"/>
          </a:xfrm>
        </p:grpSpPr>
        <p:sp>
          <p:nvSpPr>
            <p:cNvPr id="386" name="AutoShape 35"/>
            <p:cNvSpPr/>
            <p:nvPr/>
          </p:nvSpPr>
          <p:spPr>
            <a:xfrm>
              <a:off x="3419640" y="1484280"/>
              <a:ext cx="1295280" cy="1219320"/>
            </a:xfrm>
            <a:prstGeom prst="octagon">
              <a:avLst>
                <a:gd name="adj" fmla="val 2928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WordArt 36"/>
            <p:cNvSpPr txBox="1"/>
            <p:nvPr/>
          </p:nvSpPr>
          <p:spPr>
            <a:xfrm>
              <a:off x="3592800" y="1746360"/>
              <a:ext cx="776160" cy="69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和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88" name="Text Box 37"/>
          <p:cNvSpPr/>
          <p:nvPr/>
        </p:nvSpPr>
        <p:spPr>
          <a:xfrm>
            <a:off x="5261760" y="2205000"/>
            <a:ext cx="1399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澶渊之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38"/>
          <p:cNvGrpSpPr/>
          <p:nvPr/>
        </p:nvGrpSpPr>
        <p:grpSpPr>
          <a:xfrm>
            <a:off x="5364000" y="2205000"/>
            <a:ext cx="2164680" cy="2514600"/>
            <a:chOff x="5364000" y="2205000"/>
            <a:chExt cx="2164680" cy="2514600"/>
          </a:xfrm>
        </p:grpSpPr>
        <p:grpSp>
          <p:nvGrpSpPr>
            <p:cNvPr id="390" name="Group 39"/>
            <p:cNvGrpSpPr/>
            <p:nvPr/>
          </p:nvGrpSpPr>
          <p:grpSpPr>
            <a:xfrm>
              <a:off x="6129360" y="2205000"/>
              <a:ext cx="1399320" cy="2514600"/>
              <a:chOff x="6129360" y="2205000"/>
              <a:chExt cx="1399320" cy="25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6608880" y="2205000"/>
                <a:ext cx="360" cy="2514600"/>
                <a:chOff x="6608880" y="2205000"/>
                <a:chExt cx="360" cy="2514600"/>
              </a:xfrm>
            </p:grpSpPr>
            <p:sp>
              <p:nvSpPr>
                <p:cNvPr id="392" name="Line 40"/>
                <p:cNvSpPr/>
                <p:nvPr/>
              </p:nvSpPr>
              <p:spPr>
                <a:xfrm>
                  <a:off x="6608880" y="2205000"/>
                  <a:ext cx="0" cy="25146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 txBox="1"/>
                <p:nvPr/>
              </p:nvSpPr>
              <p:spPr>
                <a:xfrm>
                  <a:off x="6608880" y="2205000"/>
                  <a:ext cx="360" cy="251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Text Box 41"/>
              <p:cNvSpPr/>
              <p:nvPr/>
            </p:nvSpPr>
            <p:spPr>
              <a:xfrm>
                <a:off x="6129360" y="2357280"/>
                <a:ext cx="1399320" cy="22100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澶州大战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WordArt 42" descr=""/>
            <p:cNvPicPr/>
            <p:nvPr/>
          </p:nvPicPr>
          <p:blipFill>
            <a:blip r:embed="rId2"/>
            <a:stretch/>
          </p:blipFill>
          <p:spPr>
            <a:xfrm>
              <a:off x="5364000" y="2395440"/>
              <a:ext cx="718200" cy="13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Group 43"/>
          <p:cNvGrpSpPr/>
          <p:nvPr/>
        </p:nvGrpSpPr>
        <p:grpSpPr>
          <a:xfrm>
            <a:off x="1600200" y="0"/>
            <a:ext cx="4191120" cy="2133360"/>
            <a:chOff x="1600200" y="0"/>
            <a:chExt cx="4191120" cy="2133360"/>
          </a:xfrm>
        </p:grpSpPr>
        <p:grpSp>
          <p:nvGrpSpPr>
            <p:cNvPr id="397" name=""/>
            <p:cNvGrpSpPr/>
            <p:nvPr/>
          </p:nvGrpSpPr>
          <p:grpSpPr>
            <a:xfrm>
              <a:off x="1600200" y="533160"/>
              <a:ext cx="4191120" cy="1600200"/>
              <a:chOff x="1600200" y="533160"/>
              <a:chExt cx="4191120" cy="1600200"/>
            </a:xfrm>
          </p:grpSpPr>
          <p:sp>
            <p:nvSpPr>
              <p:cNvPr id="398" name="Line 44"/>
              <p:cNvSpPr/>
              <p:nvPr/>
            </p:nvSpPr>
            <p:spPr>
              <a:xfrm flipV="1">
                <a:off x="1600200" y="533160"/>
                <a:ext cx="4191120" cy="1600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 rot="10800000">
                <a:off x="1600200" y="532800"/>
                <a:ext cx="419112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WordArt 45"/>
            <p:cNvSpPr txBox="1"/>
            <p:nvPr/>
          </p:nvSpPr>
          <p:spPr>
            <a:xfrm>
              <a:off x="1905120" y="0"/>
              <a:ext cx="3047760" cy="20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0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共同开发北方地区</a:t>
              </a:r>
              <a:endParaRPr b="1" lang="en-US" sz="5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401" name="Group 46"/>
          <p:cNvGrpSpPr/>
          <p:nvPr/>
        </p:nvGrpSpPr>
        <p:grpSpPr>
          <a:xfrm>
            <a:off x="685800" y="5486400"/>
            <a:ext cx="1143000" cy="1066680"/>
            <a:chOff x="685800" y="5486400"/>
            <a:chExt cx="1143000" cy="1066680"/>
          </a:xfrm>
        </p:grpSpPr>
        <p:sp>
          <p:nvSpPr>
            <p:cNvPr id="402" name="AutoShape 47"/>
            <p:cNvSpPr/>
            <p:nvPr/>
          </p:nvSpPr>
          <p:spPr>
            <a:xfrm>
              <a:off x="685800" y="5486400"/>
              <a:ext cx="1143000" cy="1066680"/>
            </a:xfrm>
            <a:prstGeom prst="hexagon">
              <a:avLst>
                <a:gd name="adj" fmla="val 26789"/>
                <a:gd name="vf" fmla="val 11547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48"/>
            <p:cNvSpPr txBox="1"/>
            <p:nvPr/>
          </p:nvSpPr>
          <p:spPr>
            <a:xfrm>
              <a:off x="914400" y="5791320"/>
              <a:ext cx="685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战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404" name="Group 49"/>
          <p:cNvGrpSpPr/>
          <p:nvPr/>
        </p:nvGrpSpPr>
        <p:grpSpPr>
          <a:xfrm>
            <a:off x="5261760" y="2205000"/>
            <a:ext cx="2266920" cy="2514600"/>
            <a:chOff x="5261760" y="2205000"/>
            <a:chExt cx="2266920" cy="2514600"/>
          </a:xfrm>
        </p:grpSpPr>
        <p:sp>
          <p:nvSpPr>
            <p:cNvPr id="405" name="Text Box 50"/>
            <p:cNvSpPr/>
            <p:nvPr/>
          </p:nvSpPr>
          <p:spPr>
            <a:xfrm>
              <a:off x="5261760" y="2205000"/>
              <a:ext cx="13993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澶渊之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Group 51"/>
            <p:cNvGrpSpPr/>
            <p:nvPr/>
          </p:nvGrpSpPr>
          <p:grpSpPr>
            <a:xfrm>
              <a:off x="5364000" y="2205000"/>
              <a:ext cx="2164680" cy="2514600"/>
              <a:chOff x="5364000" y="2205000"/>
              <a:chExt cx="2164680" cy="2514600"/>
            </a:xfrm>
          </p:grpSpPr>
          <p:grpSp>
            <p:nvGrpSpPr>
              <p:cNvPr id="407" name="Group 52"/>
              <p:cNvGrpSpPr/>
              <p:nvPr/>
            </p:nvGrpSpPr>
            <p:grpSpPr>
              <a:xfrm>
                <a:off x="6129360" y="2205000"/>
                <a:ext cx="1399320" cy="2514600"/>
                <a:chOff x="6129360" y="2205000"/>
                <a:chExt cx="1399320" cy="251460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6608880" y="2205000"/>
                  <a:ext cx="360" cy="2514600"/>
                  <a:chOff x="6608880" y="2205000"/>
                  <a:chExt cx="360" cy="2514600"/>
                </a:xfrm>
              </p:grpSpPr>
              <p:sp>
                <p:nvSpPr>
                  <p:cNvPr id="409" name="Line 53"/>
                  <p:cNvSpPr/>
                  <p:nvPr/>
                </p:nvSpPr>
                <p:spPr>
                  <a:xfrm>
                    <a:off x="6608880" y="2205000"/>
                    <a:ext cx="0" cy="2514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 txBox="1"/>
                  <p:nvPr/>
                </p:nvSpPr>
                <p:spPr>
                  <a:xfrm>
                    <a:off x="6608880" y="2205000"/>
                    <a:ext cx="360" cy="251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Text Box 54"/>
                <p:cNvSpPr/>
                <p:nvPr/>
              </p:nvSpPr>
              <p:spPr>
                <a:xfrm>
                  <a:off x="6129360" y="2357280"/>
                  <a:ext cx="1399320" cy="22100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澶州大战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12" name="WordArt 55" descr="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2395440"/>
                <a:ext cx="718200" cy="135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3" name="Group 56"/>
          <p:cNvGrpSpPr/>
          <p:nvPr/>
        </p:nvGrpSpPr>
        <p:grpSpPr>
          <a:xfrm>
            <a:off x="7956720" y="2637000"/>
            <a:ext cx="1187280" cy="1225440"/>
            <a:chOff x="7956720" y="2637000"/>
            <a:chExt cx="1187280" cy="1225440"/>
          </a:xfrm>
        </p:grpSpPr>
        <p:sp>
          <p:nvSpPr>
            <p:cNvPr id="414" name="AutoShape 57"/>
            <p:cNvSpPr/>
            <p:nvPr/>
          </p:nvSpPr>
          <p:spPr>
            <a:xfrm>
              <a:off x="7956720" y="2637000"/>
              <a:ext cx="1187280" cy="122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WordArt 58"/>
            <p:cNvSpPr txBox="1"/>
            <p:nvPr/>
          </p:nvSpPr>
          <p:spPr>
            <a:xfrm>
              <a:off x="8172720" y="2997360"/>
              <a:ext cx="6858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61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98b01"/>
                    </a:outerShdw>
                  </a:effectLst>
                  <a:latin typeface="宋体"/>
                </a:rPr>
                <a:t>战</a:t>
              </a:r>
              <a:endParaRPr b="1" lang="en-US" sz="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8b01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16" name="Text Box 59"/>
          <p:cNvSpPr/>
          <p:nvPr/>
        </p:nvSpPr>
        <p:spPr>
          <a:xfrm>
            <a:off x="684360" y="3500280"/>
            <a:ext cx="1157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兴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5410080" y="0"/>
            <a:ext cx="3733920" cy="6858000"/>
            <a:chOff x="5410080" y="0"/>
            <a:chExt cx="3733920" cy="6858000"/>
          </a:xfrm>
        </p:grpSpPr>
        <p:pic>
          <p:nvPicPr>
            <p:cNvPr id="418" name="Picture 3" descr="金南宋对峙形势"/>
            <p:cNvPicPr/>
            <p:nvPr/>
          </p:nvPicPr>
          <p:blipFill>
            <a:blip r:embed="rId1"/>
            <a:stretch/>
          </p:blipFill>
          <p:spPr>
            <a:xfrm>
              <a:off x="5410080" y="0"/>
              <a:ext cx="373392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Group 4"/>
            <p:cNvGrpSpPr/>
            <p:nvPr/>
          </p:nvGrpSpPr>
          <p:grpSpPr>
            <a:xfrm>
              <a:off x="5715000" y="2133720"/>
              <a:ext cx="1143000" cy="992880"/>
              <a:chOff x="5715000" y="2133720"/>
              <a:chExt cx="1143000" cy="992880"/>
            </a:xfrm>
          </p:grpSpPr>
          <p:sp>
            <p:nvSpPr>
              <p:cNvPr id="420" name="Text Box 5"/>
              <p:cNvSpPr/>
              <p:nvPr/>
            </p:nvSpPr>
            <p:spPr>
              <a:xfrm>
                <a:off x="5715000" y="2133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3300"/>
                    </a:solidFill>
                    <a:latin typeface="Times New Roman"/>
                    <a:ea typeface="华文中宋"/>
                  </a:rPr>
                  <a:t>西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6019920" y="2666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兴庆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2" name="Picture 7" descr="辽北宋西夏形势"/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8"/>
          <p:cNvGrpSpPr/>
          <p:nvPr/>
        </p:nvGrpSpPr>
        <p:grpSpPr>
          <a:xfrm>
            <a:off x="6934320" y="2057400"/>
            <a:ext cx="874800" cy="1343520"/>
            <a:chOff x="6934320" y="2057400"/>
            <a:chExt cx="874800" cy="1343520"/>
          </a:xfrm>
        </p:grpSpPr>
        <p:sp>
          <p:nvSpPr>
            <p:cNvPr id="424" name="Text Box 9"/>
            <p:cNvSpPr/>
            <p:nvPr/>
          </p:nvSpPr>
          <p:spPr>
            <a:xfrm>
              <a:off x="7262640" y="2057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0"/>
            <p:cNvSpPr/>
            <p:nvPr/>
          </p:nvSpPr>
          <p:spPr>
            <a:xfrm>
              <a:off x="6934320" y="28195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1"/>
          <p:cNvGrpSpPr/>
          <p:nvPr/>
        </p:nvGrpSpPr>
        <p:grpSpPr>
          <a:xfrm>
            <a:off x="6871320" y="4419720"/>
            <a:ext cx="1041120" cy="1190880"/>
            <a:chOff x="6871320" y="4419720"/>
            <a:chExt cx="1041120" cy="1190880"/>
          </a:xfrm>
        </p:grpSpPr>
        <p:sp>
          <p:nvSpPr>
            <p:cNvPr id="427" name="Text Box 12"/>
            <p:cNvSpPr/>
            <p:nvPr/>
          </p:nvSpPr>
          <p:spPr>
            <a:xfrm>
              <a:off x="7365960" y="4419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临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3"/>
            <p:cNvSpPr/>
            <p:nvPr/>
          </p:nvSpPr>
          <p:spPr>
            <a:xfrm>
              <a:off x="6871320" y="5029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南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AutoShape 14"/>
          <p:cNvSpPr/>
          <p:nvPr/>
        </p:nvSpPr>
        <p:spPr>
          <a:xfrm>
            <a:off x="4343400" y="2895480"/>
            <a:ext cx="99072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15"/>
          <p:cNvGrpSpPr/>
          <p:nvPr/>
        </p:nvGrpSpPr>
        <p:grpSpPr>
          <a:xfrm>
            <a:off x="1828800" y="1447920"/>
            <a:ext cx="838080" cy="1145520"/>
            <a:chOff x="1828800" y="1447920"/>
            <a:chExt cx="838080" cy="1145520"/>
          </a:xfrm>
        </p:grpSpPr>
        <p:sp>
          <p:nvSpPr>
            <p:cNvPr id="431" name="Text Box 16"/>
            <p:cNvSpPr/>
            <p:nvPr/>
          </p:nvSpPr>
          <p:spPr>
            <a:xfrm>
              <a:off x="1981080" y="1447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17"/>
            <p:cNvSpPr/>
            <p:nvPr/>
          </p:nvSpPr>
          <p:spPr>
            <a:xfrm>
              <a:off x="1828800" y="2133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8"/>
          <p:cNvGrpSpPr/>
          <p:nvPr/>
        </p:nvGrpSpPr>
        <p:grpSpPr>
          <a:xfrm>
            <a:off x="901800" y="3809880"/>
            <a:ext cx="1993320" cy="1371600"/>
            <a:chOff x="901800" y="3809880"/>
            <a:chExt cx="1993320" cy="1371600"/>
          </a:xfrm>
        </p:grpSpPr>
        <p:sp>
          <p:nvSpPr>
            <p:cNvPr id="434" name="Text Box 19"/>
            <p:cNvSpPr/>
            <p:nvPr/>
          </p:nvSpPr>
          <p:spPr>
            <a:xfrm>
              <a:off x="901800" y="3809880"/>
              <a:ext cx="11552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北    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0"/>
            <p:cNvSpPr/>
            <p:nvPr/>
          </p:nvSpPr>
          <p:spPr>
            <a:xfrm>
              <a:off x="2057040" y="4190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东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AutoShape 21"/>
          <p:cNvSpPr/>
          <p:nvPr/>
        </p:nvSpPr>
        <p:spPr>
          <a:xfrm>
            <a:off x="4343400" y="2895480"/>
            <a:ext cx="99072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22"/>
          <p:cNvGrpSpPr/>
          <p:nvPr/>
        </p:nvGrpSpPr>
        <p:grpSpPr>
          <a:xfrm>
            <a:off x="838080" y="2514600"/>
            <a:ext cx="838080" cy="1221840"/>
            <a:chOff x="838080" y="2514600"/>
            <a:chExt cx="838080" cy="1221840"/>
          </a:xfrm>
        </p:grpSpPr>
        <p:sp>
          <p:nvSpPr>
            <p:cNvPr id="438" name="Text Box 23"/>
            <p:cNvSpPr/>
            <p:nvPr/>
          </p:nvSpPr>
          <p:spPr>
            <a:xfrm>
              <a:off x="838080" y="2514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西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24"/>
            <p:cNvSpPr/>
            <p:nvPr/>
          </p:nvSpPr>
          <p:spPr>
            <a:xfrm>
              <a:off x="838080" y="3276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兴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280" y="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当北宋与辽走向衰落时，东北地区靺鞨族的后代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女真族兴起并建立了国号为金的政权。从此，女真族的金政权和汉族的宋政权之间又形成了错综复杂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3" descr="未命名"/>
          <p:cNvPicPr/>
          <p:nvPr/>
        </p:nvPicPr>
        <p:blipFill>
          <a:blip r:embed="rId1"/>
          <a:stretch/>
        </p:blipFill>
        <p:spPr>
          <a:xfrm>
            <a:off x="250920" y="2492280"/>
            <a:ext cx="2233440" cy="4149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2700360" y="2852640"/>
            <a:ext cx="644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</a:rPr>
              <a:t>女真族的生活有什么特点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2411280" y="4508640"/>
            <a:ext cx="67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66"/>
                </a:solidFill>
                <a:latin typeface="Times New Roman"/>
              </a:rPr>
              <a:t>（生活在寒冷地区，擅长骑马射箭</a:t>
            </a: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勇敢</a:t>
            </a:r>
            <a:r>
              <a:rPr b="0" lang="zh-CN" sz="4200" spc="-1" strike="noStrike">
                <a:solidFill>
                  <a:srgbClr val="ff0066"/>
                </a:solidFill>
                <a:latin typeface="Times New Roman"/>
              </a:rPr>
              <a:t>勤劳。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900000" y="26028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四、</a:t>
            </a: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金和南宋的对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12720" y="1123920"/>
            <a:ext cx="8567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宋体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、金的建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时间：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12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世纪初</a:t>
            </a: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(2)</a:t>
            </a: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建立者：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阿骨打（金太祖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(3)</a:t>
            </a: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都城：会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(4)</a:t>
            </a: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发展过程：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金先灭辽、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127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年灭北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981080" y="411480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692360" y="558972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靺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女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172880" y="1557360"/>
            <a:ext cx="4838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南宋建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时间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27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建立者：赵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都城：临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5" descr="赵构"/>
          <p:cNvPicPr/>
          <p:nvPr/>
        </p:nvPicPr>
        <p:blipFill>
          <a:blip r:embed="rId1"/>
          <a:stretch/>
        </p:blipFill>
        <p:spPr>
          <a:xfrm>
            <a:off x="5219640" y="1557360"/>
            <a:ext cx="392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1600200" y="9399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-145440" y="4046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岳飞抗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1066680" y="1905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a1502"/>
                </a:solidFill>
                <a:latin typeface="宋体"/>
              </a:rPr>
              <a:t>郾城大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6400800" y="13716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6" descr="宋A11"/>
          <p:cNvPicPr/>
          <p:nvPr/>
        </p:nvPicPr>
        <p:blipFill>
          <a:blip r:embed="rId1"/>
          <a:stretch/>
        </p:blipFill>
        <p:spPr>
          <a:xfrm>
            <a:off x="4067280" y="333360"/>
            <a:ext cx="4321080" cy="36720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7"/>
          <p:cNvSpPr/>
          <p:nvPr/>
        </p:nvSpPr>
        <p:spPr>
          <a:xfrm>
            <a:off x="1044720" y="1197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a1502"/>
                </a:solidFill>
                <a:latin typeface="Times New Roman"/>
              </a:rPr>
              <a:t>收复建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826920" y="544500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d4d"/>
                </a:solidFill>
                <a:latin typeface="Times New Roman"/>
              </a:rPr>
              <a:t>思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岳家军打胜仗的原因是什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4500720" y="41497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撼山易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撼岳家军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J6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J7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J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6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4" dur="1" fill="hold"/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beison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280368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476280"/>
            <a:ext cx="26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地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哪几个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并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对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政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岳坟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岳王墓"/>
          <p:cNvPicPr/>
          <p:nvPr/>
        </p:nvPicPr>
        <p:blipFill>
          <a:blip r:embed="rId2"/>
          <a:stretch/>
        </p:blipFill>
        <p:spPr>
          <a:xfrm>
            <a:off x="0" y="0"/>
            <a:ext cx="9144000" cy="58244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4"/>
          <p:cNvSpPr/>
          <p:nvPr/>
        </p:nvSpPr>
        <p:spPr>
          <a:xfrm>
            <a:off x="539640" y="4581360"/>
            <a:ext cx="8048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图中铁铸的跪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杭州西湖边的岳飞墓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你能猜出他们是谁吗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什么让他们跪在那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75320" y="2286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685800" y="792000"/>
            <a:ext cx="8077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杀害岳飞的刽子手</a:t>
            </a:r>
            <a:r>
              <a:rPr b="1" lang="zh-CN" sz="4800" spc="-1" strike="noStrike">
                <a:solidFill>
                  <a:srgbClr val="ca1502"/>
                </a:solidFill>
                <a:latin typeface="Times New Roman"/>
                <a:ea typeface="华文行楷"/>
              </a:rPr>
              <a:t>秦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</a:t>
            </a:r>
            <a:r>
              <a:rPr b="1" lang="zh-CN" sz="4800" spc="-1" strike="noStrike">
                <a:solidFill>
                  <a:srgbClr val="ca1502"/>
                </a:solidFill>
                <a:latin typeface="Times New Roman"/>
                <a:ea typeface="华文行楷"/>
              </a:rPr>
              <a:t>反映了人民爱憎分明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，用这种方式</a:t>
            </a:r>
            <a:r>
              <a:rPr b="1" lang="zh-CN" sz="4800" spc="-1" strike="noStrike">
                <a:solidFill>
                  <a:srgbClr val="ca1502"/>
                </a:solidFill>
                <a:latin typeface="Times New Roman"/>
                <a:ea typeface="华文行楷"/>
              </a:rPr>
              <a:t>称颂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历史上保护人民利益的</a:t>
            </a:r>
            <a:r>
              <a:rPr b="1" lang="zh-CN" sz="4800" spc="-1" strike="noStrike">
                <a:solidFill>
                  <a:srgbClr val="ca1502"/>
                </a:solidFill>
                <a:latin typeface="Times New Roman"/>
                <a:ea typeface="华文行楷"/>
              </a:rPr>
              <a:t>功臣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，强烈</a:t>
            </a:r>
            <a:r>
              <a:rPr b="1" lang="zh-CN" sz="4800" spc="-1" strike="noStrike">
                <a:solidFill>
                  <a:srgbClr val="ca1502"/>
                </a:solidFill>
                <a:latin typeface="Times New Roman"/>
                <a:ea typeface="华文行楷"/>
              </a:rPr>
              <a:t>谴责杀害功臣的罪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还我河山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4360" y="549360"/>
            <a:ext cx="8028000" cy="3144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60"/>
          <p:cNvPicPr/>
          <p:nvPr/>
        </p:nvPicPr>
        <p:blipFill>
          <a:blip r:embed="rId2"/>
          <a:stretch/>
        </p:blipFill>
        <p:spPr>
          <a:xfrm>
            <a:off x="7812000" y="6140520"/>
            <a:ext cx="1332000" cy="717480"/>
          </a:xfrm>
          <a:prstGeom prst="rect">
            <a:avLst/>
          </a:prstGeom>
          <a:ln w="0">
            <a:noFill/>
          </a:ln>
        </p:spPr>
      </p:pic>
      <p:sp>
        <p:nvSpPr>
          <p:cNvPr id="469" name="WordArt 4"/>
          <p:cNvSpPr txBox="1"/>
          <p:nvPr/>
        </p:nvSpPr>
        <p:spPr>
          <a:xfrm>
            <a:off x="250920" y="5132520"/>
            <a:ext cx="8497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说岳飞是抗金名将，也是民族英雄</a:t>
            </a:r>
            <a:endParaRPr b="1" lang="en-US" sz="5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0" name="WordArt 5"/>
          <p:cNvSpPr txBox="1"/>
          <p:nvPr/>
        </p:nvSpPr>
        <p:spPr>
          <a:xfrm>
            <a:off x="250920" y="3789360"/>
            <a:ext cx="252072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历史诊断</a:t>
            </a:r>
            <a:endParaRPr b="1" lang="en-US" sz="5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516720" y="4869000"/>
            <a:ext cx="1368360" cy="1296720"/>
            <a:chOff x="6516720" y="4869000"/>
            <a:chExt cx="1368360" cy="1296720"/>
          </a:xfrm>
        </p:grpSpPr>
        <p:sp>
          <p:nvSpPr>
            <p:cNvPr id="472" name="Line 6"/>
            <p:cNvSpPr/>
            <p:nvPr/>
          </p:nvSpPr>
          <p:spPr>
            <a:xfrm>
              <a:off x="6516720" y="4869000"/>
              <a:ext cx="1368360" cy="1296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6516720" y="4869000"/>
              <a:ext cx="1368360" cy="12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372000" y="4869000"/>
            <a:ext cx="1440000" cy="1224000"/>
            <a:chOff x="6372000" y="4869000"/>
            <a:chExt cx="1440000" cy="1224000"/>
          </a:xfrm>
        </p:grpSpPr>
        <p:sp>
          <p:nvSpPr>
            <p:cNvPr id="475" name="Line 7"/>
            <p:cNvSpPr/>
            <p:nvPr/>
          </p:nvSpPr>
          <p:spPr>
            <a:xfrm flipV="1">
              <a:off x="6372360" y="4869000"/>
              <a:ext cx="1439640" cy="1224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372000" y="486900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-673200" y="404640"/>
            <a:ext cx="56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4.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宋金和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828720" y="1557360"/>
            <a:ext cx="83534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南宋</a:t>
            </a:r>
            <a:r>
              <a:rPr b="1" i="1" lang="zh-CN" sz="40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向金称臣，并给金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“</a:t>
            </a:r>
            <a:r>
              <a:rPr b="1" i="1" lang="zh-CN" sz="40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币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</a:t>
            </a:r>
            <a:r>
              <a:rPr b="1" i="1" lang="zh-CN" sz="40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双方以淮水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至</a:t>
            </a:r>
            <a:r>
              <a:rPr b="1" i="1" lang="zh-CN" sz="40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大散关一线为界，以北归金，以南归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用：</a:t>
            </a:r>
            <a:r>
              <a:rPr b="1" i="1" lang="zh-CN" sz="40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宋金对峙局面形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533520" y="0"/>
            <a:ext cx="8457840" cy="6858000"/>
            <a:chOff x="533520" y="0"/>
            <a:chExt cx="8457840" cy="6858000"/>
          </a:xfrm>
        </p:grpSpPr>
        <p:pic>
          <p:nvPicPr>
            <p:cNvPr id="480" name="Picture 3" descr="金南宋对峙形势z"/>
            <p:cNvPicPr/>
            <p:nvPr/>
          </p:nvPicPr>
          <p:blipFill>
            <a:blip r:embed="rId1"/>
            <a:stretch/>
          </p:blipFill>
          <p:spPr>
            <a:xfrm>
              <a:off x="533520" y="0"/>
              <a:ext cx="845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4"/>
            <p:cNvSpPr/>
            <p:nvPr/>
          </p:nvSpPr>
          <p:spPr>
            <a:xfrm>
              <a:off x="4098600" y="2800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5"/>
            <p:cNvSpPr/>
            <p:nvPr/>
          </p:nvSpPr>
          <p:spPr>
            <a:xfrm>
              <a:off x="3128760" y="49514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南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6"/>
          <p:cNvGrpSpPr/>
          <p:nvPr/>
        </p:nvGrpSpPr>
        <p:grpSpPr>
          <a:xfrm>
            <a:off x="2990520" y="3220920"/>
            <a:ext cx="729360" cy="741240"/>
            <a:chOff x="2990520" y="3220920"/>
            <a:chExt cx="729360" cy="741240"/>
          </a:xfrm>
        </p:grpSpPr>
        <p:grpSp>
          <p:nvGrpSpPr>
            <p:cNvPr id="484" name="Group 7"/>
            <p:cNvGrpSpPr/>
            <p:nvPr/>
          </p:nvGrpSpPr>
          <p:grpSpPr>
            <a:xfrm>
              <a:off x="3047760" y="3657600"/>
              <a:ext cx="304560" cy="304560"/>
              <a:chOff x="3047760" y="3657600"/>
              <a:chExt cx="304560" cy="3045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3047760" y="3733560"/>
                <a:ext cx="304560" cy="228240"/>
                <a:chOff x="3047760" y="3733560"/>
                <a:chExt cx="304560" cy="228240"/>
              </a:xfrm>
            </p:grpSpPr>
            <p:sp>
              <p:nvSpPr>
                <p:cNvPr id="486" name="Line 8"/>
                <p:cNvSpPr/>
                <p:nvPr/>
              </p:nvSpPr>
              <p:spPr>
                <a:xfrm flipH="1">
                  <a:off x="3047760" y="3733560"/>
                  <a:ext cx="304560" cy="228240"/>
                </a:xfrm>
                <a:prstGeom prst="line">
                  <a:avLst/>
                </a:prstGeom>
                <a:ln w="57240">
                  <a:solidFill>
                    <a:srgbClr val="33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>
                  <a:off x="3047760" y="3733560"/>
                  <a:ext cx="3045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123720" y="3657600"/>
                <a:ext cx="151920" cy="304560"/>
                <a:chOff x="3123720" y="3657600"/>
                <a:chExt cx="151920" cy="304560"/>
              </a:xfrm>
            </p:grpSpPr>
            <p:sp>
              <p:nvSpPr>
                <p:cNvPr id="489" name="Line 9"/>
                <p:cNvSpPr/>
                <p:nvPr/>
              </p:nvSpPr>
              <p:spPr>
                <a:xfrm>
                  <a:off x="3123720" y="3657600"/>
                  <a:ext cx="151920" cy="304560"/>
                </a:xfrm>
                <a:prstGeom prst="line">
                  <a:avLst/>
                </a:prstGeom>
                <a:ln w="57240">
                  <a:solidFill>
                    <a:srgbClr val="33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3123720" y="3657600"/>
                  <a:ext cx="151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1" name="Text Box 10"/>
            <p:cNvSpPr/>
            <p:nvPr/>
          </p:nvSpPr>
          <p:spPr>
            <a:xfrm>
              <a:off x="2990520" y="3220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大散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1"/>
          <p:cNvGrpSpPr/>
          <p:nvPr/>
        </p:nvGrpSpPr>
        <p:grpSpPr>
          <a:xfrm>
            <a:off x="2964960" y="3220920"/>
            <a:ext cx="729360" cy="741240"/>
            <a:chOff x="2964960" y="3220920"/>
            <a:chExt cx="729360" cy="741240"/>
          </a:xfrm>
        </p:grpSpPr>
        <p:grpSp>
          <p:nvGrpSpPr>
            <p:cNvPr id="493" name="Group 12"/>
            <p:cNvGrpSpPr/>
            <p:nvPr/>
          </p:nvGrpSpPr>
          <p:grpSpPr>
            <a:xfrm>
              <a:off x="3022200" y="3657600"/>
              <a:ext cx="305280" cy="304560"/>
              <a:chOff x="3022200" y="3657600"/>
              <a:chExt cx="305280" cy="30456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3022200" y="3733560"/>
                <a:ext cx="305280" cy="228240"/>
                <a:chOff x="3022200" y="3733560"/>
                <a:chExt cx="305280" cy="228240"/>
              </a:xfrm>
            </p:grpSpPr>
            <p:sp>
              <p:nvSpPr>
                <p:cNvPr id="495" name="Line 13"/>
                <p:cNvSpPr/>
                <p:nvPr/>
              </p:nvSpPr>
              <p:spPr>
                <a:xfrm flipH="1">
                  <a:off x="3022200" y="3733560"/>
                  <a:ext cx="304920" cy="228240"/>
                </a:xfrm>
                <a:prstGeom prst="line">
                  <a:avLst/>
                </a:prstGeom>
                <a:ln w="57240">
                  <a:solidFill>
                    <a:srgbClr val="33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 txBox="1"/>
                <p:nvPr/>
              </p:nvSpPr>
              <p:spPr>
                <a:xfrm>
                  <a:off x="3022560" y="3733560"/>
                  <a:ext cx="30492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098880" y="3657600"/>
                <a:ext cx="152280" cy="304560"/>
                <a:chOff x="3098880" y="3657600"/>
                <a:chExt cx="152280" cy="304560"/>
              </a:xfrm>
            </p:grpSpPr>
            <p:sp>
              <p:nvSpPr>
                <p:cNvPr id="498" name="Line 14"/>
                <p:cNvSpPr/>
                <p:nvPr/>
              </p:nvSpPr>
              <p:spPr>
                <a:xfrm>
                  <a:off x="3098880" y="3657600"/>
                  <a:ext cx="152280" cy="304560"/>
                </a:xfrm>
                <a:prstGeom prst="line">
                  <a:avLst/>
                </a:prstGeom>
                <a:ln w="57240">
                  <a:solidFill>
                    <a:srgbClr val="33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3098880" y="3657600"/>
                  <a:ext cx="1522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Text Box 15"/>
            <p:cNvSpPr/>
            <p:nvPr/>
          </p:nvSpPr>
          <p:spPr>
            <a:xfrm>
              <a:off x="2964960" y="3220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大散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Picture 16" descr="未标题-1 拷贝"/>
          <p:cNvPicPr/>
          <p:nvPr/>
        </p:nvPicPr>
        <p:blipFill>
          <a:blip r:embed="rId2"/>
          <a:stretch/>
        </p:blipFill>
        <p:spPr>
          <a:xfrm>
            <a:off x="4343400" y="3886200"/>
            <a:ext cx="1270080" cy="411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7" descr="未标题-1 拷贝"/>
          <p:cNvPicPr/>
          <p:nvPr/>
        </p:nvPicPr>
        <p:blipFill>
          <a:blip r:embed="rId3"/>
          <a:stretch/>
        </p:blipFill>
        <p:spPr>
          <a:xfrm>
            <a:off x="4343400" y="3886200"/>
            <a:ext cx="1270080" cy="4111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8"/>
          <p:cNvSpPr/>
          <p:nvPr/>
        </p:nvSpPr>
        <p:spPr>
          <a:xfrm>
            <a:off x="4697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淮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75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150"/>
                            </p:stCondLst>
                            <p:childTnLst>
                              <p:par>
                                <p:cTn id="54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650"/>
                            </p:stCondLst>
                            <p:childTnLst>
                              <p:par>
                                <p:cTn id="54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pic_27495"/>
          <p:cNvPicPr/>
          <p:nvPr/>
        </p:nvPicPr>
        <p:blipFill>
          <a:blip r:embed="rId1"/>
          <a:stretch/>
        </p:blipFill>
        <p:spPr>
          <a:xfrm>
            <a:off x="2232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3748680" y="68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宋金对峙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5364000" y="230832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4572000" y="261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中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979640" y="263700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3492360" y="3141720"/>
            <a:ext cx="6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255600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兴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3203640" y="4991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                   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5292720" y="482292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临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未知"/>
          <p:cNvSpPr/>
          <p:nvPr/>
        </p:nvSpPr>
        <p:spPr>
          <a:xfrm>
            <a:off x="3048120" y="4038480"/>
            <a:ext cx="2811240" cy="441360"/>
          </a:xfrm>
          <a:custGeom>
            <a:avLst/>
            <a:gdLst/>
            <a:ahLst/>
            <a:rect l="l" t="t" r="r" b="b"/>
            <a:pathLst>
              <a:path w="1771" h="278">
                <a:moveTo>
                  <a:pt x="0" y="51"/>
                </a:moveTo>
                <a:cubicBezTo>
                  <a:pt x="18" y="47"/>
                  <a:pt x="39" y="50"/>
                  <a:pt x="54" y="40"/>
                </a:cubicBezTo>
                <a:cubicBezTo>
                  <a:pt x="64" y="34"/>
                  <a:pt x="54" y="9"/>
                  <a:pt x="65" y="7"/>
                </a:cubicBezTo>
                <a:cubicBezTo>
                  <a:pt x="97" y="0"/>
                  <a:pt x="130" y="14"/>
                  <a:pt x="163" y="18"/>
                </a:cubicBezTo>
                <a:cubicBezTo>
                  <a:pt x="259" y="51"/>
                  <a:pt x="198" y="49"/>
                  <a:pt x="260" y="18"/>
                </a:cubicBezTo>
                <a:cubicBezTo>
                  <a:pt x="270" y="13"/>
                  <a:pt x="282" y="11"/>
                  <a:pt x="293" y="7"/>
                </a:cubicBezTo>
                <a:cubicBezTo>
                  <a:pt x="381" y="22"/>
                  <a:pt x="441" y="66"/>
                  <a:pt x="521" y="94"/>
                </a:cubicBezTo>
                <a:cubicBezTo>
                  <a:pt x="554" y="127"/>
                  <a:pt x="575" y="146"/>
                  <a:pt x="619" y="159"/>
                </a:cubicBezTo>
                <a:cubicBezTo>
                  <a:pt x="641" y="156"/>
                  <a:pt x="663" y="156"/>
                  <a:pt x="684" y="149"/>
                </a:cubicBezTo>
                <a:cubicBezTo>
                  <a:pt x="697" y="145"/>
                  <a:pt x="704" y="129"/>
                  <a:pt x="717" y="127"/>
                </a:cubicBezTo>
                <a:cubicBezTo>
                  <a:pt x="735" y="125"/>
                  <a:pt x="753" y="133"/>
                  <a:pt x="771" y="138"/>
                </a:cubicBezTo>
                <a:cubicBezTo>
                  <a:pt x="793" y="144"/>
                  <a:pt x="836" y="159"/>
                  <a:pt x="836" y="159"/>
                </a:cubicBezTo>
                <a:cubicBezTo>
                  <a:pt x="905" y="262"/>
                  <a:pt x="1081" y="251"/>
                  <a:pt x="1184" y="257"/>
                </a:cubicBezTo>
                <a:cubicBezTo>
                  <a:pt x="1246" y="278"/>
                  <a:pt x="1321" y="264"/>
                  <a:pt x="1380" y="235"/>
                </a:cubicBezTo>
                <a:cubicBezTo>
                  <a:pt x="1391" y="229"/>
                  <a:pt x="1400" y="218"/>
                  <a:pt x="1412" y="214"/>
                </a:cubicBezTo>
                <a:cubicBezTo>
                  <a:pt x="1437" y="207"/>
                  <a:pt x="1463" y="207"/>
                  <a:pt x="1489" y="203"/>
                </a:cubicBezTo>
                <a:cubicBezTo>
                  <a:pt x="1562" y="178"/>
                  <a:pt x="1587" y="169"/>
                  <a:pt x="1652" y="127"/>
                </a:cubicBezTo>
                <a:cubicBezTo>
                  <a:pt x="1719" y="83"/>
                  <a:pt x="1698" y="51"/>
                  <a:pt x="1771" y="51"/>
                </a:cubicBezTo>
              </a:path>
            </a:pathLst>
          </a:cu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未知"/>
          <p:cNvSpPr/>
          <p:nvPr/>
        </p:nvSpPr>
        <p:spPr>
          <a:xfrm>
            <a:off x="1511280" y="208080"/>
            <a:ext cx="5799240" cy="5986440"/>
          </a:xfrm>
          <a:custGeom>
            <a:avLst/>
            <a:gdLst/>
            <a:ahLst/>
            <a:rect l="l" t="t" r="r" b="b"/>
            <a:pathLst>
              <a:path w="3653" h="3771">
                <a:moveTo>
                  <a:pt x="1439" y="3771"/>
                </a:moveTo>
                <a:cubicBezTo>
                  <a:pt x="1421" y="3717"/>
                  <a:pt x="1396" y="3716"/>
                  <a:pt x="1341" y="3705"/>
                </a:cubicBezTo>
                <a:cubicBezTo>
                  <a:pt x="1274" y="3661"/>
                  <a:pt x="1235" y="3610"/>
                  <a:pt x="1178" y="3553"/>
                </a:cubicBezTo>
                <a:cubicBezTo>
                  <a:pt x="1170" y="3545"/>
                  <a:pt x="1156" y="3547"/>
                  <a:pt x="1146" y="3542"/>
                </a:cubicBezTo>
                <a:cubicBezTo>
                  <a:pt x="1134" y="3536"/>
                  <a:pt x="1124" y="3528"/>
                  <a:pt x="1113" y="3521"/>
                </a:cubicBezTo>
                <a:cubicBezTo>
                  <a:pt x="1106" y="3510"/>
                  <a:pt x="1093" y="3501"/>
                  <a:pt x="1091" y="3488"/>
                </a:cubicBezTo>
                <a:cubicBezTo>
                  <a:pt x="1087" y="3456"/>
                  <a:pt x="1132" y="3241"/>
                  <a:pt x="1026" y="3227"/>
                </a:cubicBezTo>
                <a:cubicBezTo>
                  <a:pt x="983" y="3221"/>
                  <a:pt x="939" y="3220"/>
                  <a:pt x="896" y="3216"/>
                </a:cubicBezTo>
                <a:cubicBezTo>
                  <a:pt x="907" y="3167"/>
                  <a:pt x="912" y="3145"/>
                  <a:pt x="961" y="3129"/>
                </a:cubicBezTo>
                <a:cubicBezTo>
                  <a:pt x="976" y="3085"/>
                  <a:pt x="984" y="3010"/>
                  <a:pt x="928" y="2988"/>
                </a:cubicBezTo>
                <a:cubicBezTo>
                  <a:pt x="893" y="2975"/>
                  <a:pt x="819" y="2966"/>
                  <a:pt x="819" y="2966"/>
                </a:cubicBezTo>
                <a:cubicBezTo>
                  <a:pt x="812" y="2955"/>
                  <a:pt x="800" y="2947"/>
                  <a:pt x="798" y="2934"/>
                </a:cubicBezTo>
                <a:cubicBezTo>
                  <a:pt x="782" y="2814"/>
                  <a:pt x="967" y="2850"/>
                  <a:pt x="1015" y="2847"/>
                </a:cubicBezTo>
                <a:cubicBezTo>
                  <a:pt x="1011" y="2811"/>
                  <a:pt x="1012" y="2774"/>
                  <a:pt x="1004" y="2738"/>
                </a:cubicBezTo>
                <a:cubicBezTo>
                  <a:pt x="1001" y="2725"/>
                  <a:pt x="979" y="2719"/>
                  <a:pt x="982" y="2706"/>
                </a:cubicBezTo>
                <a:cubicBezTo>
                  <a:pt x="985" y="2693"/>
                  <a:pt x="1004" y="2691"/>
                  <a:pt x="1015" y="2684"/>
                </a:cubicBezTo>
                <a:cubicBezTo>
                  <a:pt x="1077" y="2592"/>
                  <a:pt x="1107" y="2510"/>
                  <a:pt x="993" y="2434"/>
                </a:cubicBezTo>
                <a:cubicBezTo>
                  <a:pt x="973" y="2374"/>
                  <a:pt x="927" y="2331"/>
                  <a:pt x="906" y="2271"/>
                </a:cubicBezTo>
                <a:cubicBezTo>
                  <a:pt x="1000" y="2259"/>
                  <a:pt x="1007" y="2245"/>
                  <a:pt x="1091" y="2216"/>
                </a:cubicBezTo>
                <a:cubicBezTo>
                  <a:pt x="1132" y="2202"/>
                  <a:pt x="1178" y="2209"/>
                  <a:pt x="1222" y="2206"/>
                </a:cubicBezTo>
                <a:cubicBezTo>
                  <a:pt x="1305" y="2079"/>
                  <a:pt x="1239" y="2141"/>
                  <a:pt x="1482" y="2130"/>
                </a:cubicBezTo>
                <a:cubicBezTo>
                  <a:pt x="1523" y="2116"/>
                  <a:pt x="1547" y="2071"/>
                  <a:pt x="1580" y="2064"/>
                </a:cubicBezTo>
                <a:cubicBezTo>
                  <a:pt x="1623" y="2055"/>
                  <a:pt x="1667" y="2057"/>
                  <a:pt x="1711" y="2053"/>
                </a:cubicBezTo>
                <a:cubicBezTo>
                  <a:pt x="1723" y="2018"/>
                  <a:pt x="1710" y="1974"/>
                  <a:pt x="1732" y="1945"/>
                </a:cubicBezTo>
                <a:cubicBezTo>
                  <a:pt x="1743" y="1930"/>
                  <a:pt x="1769" y="1938"/>
                  <a:pt x="1787" y="1934"/>
                </a:cubicBezTo>
                <a:cubicBezTo>
                  <a:pt x="1810" y="1865"/>
                  <a:pt x="1832" y="1873"/>
                  <a:pt x="1808" y="1782"/>
                </a:cubicBezTo>
                <a:cubicBezTo>
                  <a:pt x="1798" y="1745"/>
                  <a:pt x="1722" y="1706"/>
                  <a:pt x="1722" y="1706"/>
                </a:cubicBezTo>
                <a:cubicBezTo>
                  <a:pt x="1698" y="1670"/>
                  <a:pt x="1669" y="1654"/>
                  <a:pt x="1645" y="1619"/>
                </a:cubicBezTo>
                <a:cubicBezTo>
                  <a:pt x="1645" y="1618"/>
                  <a:pt x="1626" y="1555"/>
                  <a:pt x="1624" y="1554"/>
                </a:cubicBezTo>
                <a:cubicBezTo>
                  <a:pt x="1614" y="1549"/>
                  <a:pt x="1602" y="1562"/>
                  <a:pt x="1591" y="1564"/>
                </a:cubicBezTo>
                <a:cubicBezTo>
                  <a:pt x="1570" y="1569"/>
                  <a:pt x="1548" y="1571"/>
                  <a:pt x="1526" y="1575"/>
                </a:cubicBezTo>
                <a:cubicBezTo>
                  <a:pt x="1470" y="1540"/>
                  <a:pt x="1423" y="1564"/>
                  <a:pt x="1363" y="1575"/>
                </a:cubicBezTo>
                <a:cubicBezTo>
                  <a:pt x="1304" y="1586"/>
                  <a:pt x="1247" y="1593"/>
                  <a:pt x="1189" y="1608"/>
                </a:cubicBezTo>
                <a:cubicBezTo>
                  <a:pt x="1149" y="1604"/>
                  <a:pt x="1109" y="1603"/>
                  <a:pt x="1069" y="1597"/>
                </a:cubicBezTo>
                <a:cubicBezTo>
                  <a:pt x="1033" y="1592"/>
                  <a:pt x="1006" y="1565"/>
                  <a:pt x="972" y="1554"/>
                </a:cubicBezTo>
                <a:cubicBezTo>
                  <a:pt x="961" y="1547"/>
                  <a:pt x="951" y="1538"/>
                  <a:pt x="939" y="1532"/>
                </a:cubicBezTo>
                <a:cubicBezTo>
                  <a:pt x="929" y="1527"/>
                  <a:pt x="916" y="1527"/>
                  <a:pt x="906" y="1521"/>
                </a:cubicBezTo>
                <a:cubicBezTo>
                  <a:pt x="791" y="1456"/>
                  <a:pt x="896" y="1483"/>
                  <a:pt x="743" y="1467"/>
                </a:cubicBezTo>
                <a:cubicBezTo>
                  <a:pt x="663" y="1413"/>
                  <a:pt x="671" y="1425"/>
                  <a:pt x="580" y="1401"/>
                </a:cubicBezTo>
                <a:cubicBezTo>
                  <a:pt x="558" y="1395"/>
                  <a:pt x="515" y="1380"/>
                  <a:pt x="515" y="1380"/>
                </a:cubicBezTo>
                <a:cubicBezTo>
                  <a:pt x="459" y="1390"/>
                  <a:pt x="450" y="1375"/>
                  <a:pt x="428" y="1423"/>
                </a:cubicBezTo>
                <a:cubicBezTo>
                  <a:pt x="419" y="1444"/>
                  <a:pt x="428" y="1481"/>
                  <a:pt x="406" y="1488"/>
                </a:cubicBezTo>
                <a:cubicBezTo>
                  <a:pt x="374" y="1499"/>
                  <a:pt x="341" y="1510"/>
                  <a:pt x="309" y="1521"/>
                </a:cubicBezTo>
                <a:cubicBezTo>
                  <a:pt x="298" y="1525"/>
                  <a:pt x="276" y="1532"/>
                  <a:pt x="276" y="1532"/>
                </a:cubicBezTo>
                <a:cubicBezTo>
                  <a:pt x="272" y="1554"/>
                  <a:pt x="270" y="1576"/>
                  <a:pt x="265" y="1597"/>
                </a:cubicBezTo>
                <a:cubicBezTo>
                  <a:pt x="262" y="1608"/>
                  <a:pt x="264" y="1625"/>
                  <a:pt x="254" y="1630"/>
                </a:cubicBezTo>
                <a:cubicBezTo>
                  <a:pt x="244" y="1635"/>
                  <a:pt x="233" y="1623"/>
                  <a:pt x="222" y="1619"/>
                </a:cubicBezTo>
                <a:cubicBezTo>
                  <a:pt x="207" y="1623"/>
                  <a:pt x="193" y="1630"/>
                  <a:pt x="178" y="1630"/>
                </a:cubicBezTo>
                <a:cubicBezTo>
                  <a:pt x="146" y="1630"/>
                  <a:pt x="111" y="1596"/>
                  <a:pt x="80" y="1586"/>
                </a:cubicBezTo>
                <a:cubicBezTo>
                  <a:pt x="28" y="1668"/>
                  <a:pt x="75" y="1570"/>
                  <a:pt x="102" y="1640"/>
                </a:cubicBezTo>
                <a:cubicBezTo>
                  <a:pt x="109" y="1659"/>
                  <a:pt x="55" y="1690"/>
                  <a:pt x="48" y="1695"/>
                </a:cubicBezTo>
                <a:cubicBezTo>
                  <a:pt x="0" y="1764"/>
                  <a:pt x="33" y="1788"/>
                  <a:pt x="70" y="1847"/>
                </a:cubicBezTo>
                <a:cubicBezTo>
                  <a:pt x="111" y="1913"/>
                  <a:pt x="94" y="1911"/>
                  <a:pt x="167" y="1956"/>
                </a:cubicBezTo>
                <a:cubicBezTo>
                  <a:pt x="171" y="1923"/>
                  <a:pt x="146" y="1866"/>
                  <a:pt x="178" y="1858"/>
                </a:cubicBezTo>
                <a:cubicBezTo>
                  <a:pt x="385" y="1806"/>
                  <a:pt x="501" y="1848"/>
                  <a:pt x="646" y="1945"/>
                </a:cubicBezTo>
                <a:cubicBezTo>
                  <a:pt x="678" y="1994"/>
                  <a:pt x="696" y="1986"/>
                  <a:pt x="743" y="2010"/>
                </a:cubicBezTo>
                <a:cubicBezTo>
                  <a:pt x="755" y="2016"/>
                  <a:pt x="764" y="2027"/>
                  <a:pt x="776" y="2032"/>
                </a:cubicBezTo>
                <a:cubicBezTo>
                  <a:pt x="797" y="2041"/>
                  <a:pt x="841" y="2053"/>
                  <a:pt x="841" y="2053"/>
                </a:cubicBezTo>
                <a:cubicBezTo>
                  <a:pt x="852" y="2060"/>
                  <a:pt x="874" y="2062"/>
                  <a:pt x="874" y="2075"/>
                </a:cubicBezTo>
                <a:cubicBezTo>
                  <a:pt x="874" y="2089"/>
                  <a:pt x="817" y="2105"/>
                  <a:pt x="809" y="2108"/>
                </a:cubicBezTo>
                <a:cubicBezTo>
                  <a:pt x="790" y="2163"/>
                  <a:pt x="769" y="2154"/>
                  <a:pt x="787" y="2216"/>
                </a:cubicBezTo>
                <a:cubicBezTo>
                  <a:pt x="790" y="2227"/>
                  <a:pt x="790" y="2241"/>
                  <a:pt x="798" y="2249"/>
                </a:cubicBezTo>
                <a:cubicBezTo>
                  <a:pt x="816" y="2268"/>
                  <a:pt x="863" y="2293"/>
                  <a:pt x="863" y="2293"/>
                </a:cubicBezTo>
                <a:cubicBezTo>
                  <a:pt x="877" y="2289"/>
                  <a:pt x="891" y="2284"/>
                  <a:pt x="906" y="2282"/>
                </a:cubicBezTo>
                <a:cubicBezTo>
                  <a:pt x="957" y="2276"/>
                  <a:pt x="1009" y="2280"/>
                  <a:pt x="1059" y="2271"/>
                </a:cubicBezTo>
                <a:cubicBezTo>
                  <a:pt x="1083" y="2267"/>
                  <a:pt x="1101" y="2246"/>
                  <a:pt x="1124" y="2238"/>
                </a:cubicBezTo>
                <a:cubicBezTo>
                  <a:pt x="1155" y="2148"/>
                  <a:pt x="1112" y="2240"/>
                  <a:pt x="1298" y="2195"/>
                </a:cubicBezTo>
                <a:cubicBezTo>
                  <a:pt x="1323" y="2189"/>
                  <a:pt x="1337" y="2152"/>
                  <a:pt x="1363" y="2151"/>
                </a:cubicBezTo>
                <a:cubicBezTo>
                  <a:pt x="1428" y="2147"/>
                  <a:pt x="1493" y="2144"/>
                  <a:pt x="1558" y="2140"/>
                </a:cubicBezTo>
                <a:cubicBezTo>
                  <a:pt x="1625" y="2075"/>
                  <a:pt x="1631" y="2085"/>
                  <a:pt x="1743" y="2075"/>
                </a:cubicBezTo>
                <a:cubicBezTo>
                  <a:pt x="1761" y="2050"/>
                  <a:pt x="1771" y="2041"/>
                  <a:pt x="1776" y="2010"/>
                </a:cubicBezTo>
                <a:cubicBezTo>
                  <a:pt x="1795" y="1899"/>
                  <a:pt x="1754" y="1923"/>
                  <a:pt x="1819" y="1901"/>
                </a:cubicBezTo>
                <a:cubicBezTo>
                  <a:pt x="1890" y="1832"/>
                  <a:pt x="1907" y="1664"/>
                  <a:pt x="1798" y="1630"/>
                </a:cubicBezTo>
                <a:cubicBezTo>
                  <a:pt x="1773" y="1612"/>
                  <a:pt x="1748" y="1593"/>
                  <a:pt x="1722" y="1575"/>
                </a:cubicBezTo>
                <a:cubicBezTo>
                  <a:pt x="1711" y="1568"/>
                  <a:pt x="1700" y="1561"/>
                  <a:pt x="1689" y="1554"/>
                </a:cubicBezTo>
                <a:cubicBezTo>
                  <a:pt x="1679" y="1548"/>
                  <a:pt x="1644" y="1543"/>
                  <a:pt x="1656" y="1543"/>
                </a:cubicBezTo>
                <a:cubicBezTo>
                  <a:pt x="1685" y="1543"/>
                  <a:pt x="1714" y="1550"/>
                  <a:pt x="1743" y="1554"/>
                </a:cubicBezTo>
                <a:cubicBezTo>
                  <a:pt x="1765" y="1550"/>
                  <a:pt x="1793" y="1559"/>
                  <a:pt x="1808" y="1543"/>
                </a:cubicBezTo>
                <a:cubicBezTo>
                  <a:pt x="1836" y="1515"/>
                  <a:pt x="1801" y="1440"/>
                  <a:pt x="1874" y="1423"/>
                </a:cubicBezTo>
                <a:cubicBezTo>
                  <a:pt x="1909" y="1415"/>
                  <a:pt x="1946" y="1416"/>
                  <a:pt x="1982" y="1412"/>
                </a:cubicBezTo>
                <a:cubicBezTo>
                  <a:pt x="1995" y="1374"/>
                  <a:pt x="1992" y="1294"/>
                  <a:pt x="2015" y="1271"/>
                </a:cubicBezTo>
                <a:cubicBezTo>
                  <a:pt x="2023" y="1263"/>
                  <a:pt x="2037" y="1264"/>
                  <a:pt x="2048" y="1260"/>
                </a:cubicBezTo>
                <a:cubicBezTo>
                  <a:pt x="2063" y="1211"/>
                  <a:pt x="2059" y="1155"/>
                  <a:pt x="2080" y="1108"/>
                </a:cubicBezTo>
                <a:cubicBezTo>
                  <a:pt x="2085" y="1096"/>
                  <a:pt x="2097" y="1087"/>
                  <a:pt x="2102" y="1075"/>
                </a:cubicBezTo>
                <a:cubicBezTo>
                  <a:pt x="2111" y="1054"/>
                  <a:pt x="2117" y="1032"/>
                  <a:pt x="2124" y="1010"/>
                </a:cubicBezTo>
                <a:cubicBezTo>
                  <a:pt x="2125" y="1008"/>
                  <a:pt x="2144" y="946"/>
                  <a:pt x="2145" y="945"/>
                </a:cubicBezTo>
                <a:cubicBezTo>
                  <a:pt x="2222" y="869"/>
                  <a:pt x="2190" y="902"/>
                  <a:pt x="2243" y="847"/>
                </a:cubicBezTo>
                <a:cubicBezTo>
                  <a:pt x="2259" y="831"/>
                  <a:pt x="2289" y="837"/>
                  <a:pt x="2308" y="825"/>
                </a:cubicBezTo>
                <a:cubicBezTo>
                  <a:pt x="2319" y="818"/>
                  <a:pt x="2330" y="811"/>
                  <a:pt x="2341" y="804"/>
                </a:cubicBezTo>
                <a:cubicBezTo>
                  <a:pt x="2360" y="748"/>
                  <a:pt x="2357" y="742"/>
                  <a:pt x="2417" y="728"/>
                </a:cubicBezTo>
                <a:cubicBezTo>
                  <a:pt x="2474" y="741"/>
                  <a:pt x="2499" y="751"/>
                  <a:pt x="2569" y="728"/>
                </a:cubicBezTo>
                <a:cubicBezTo>
                  <a:pt x="2582" y="724"/>
                  <a:pt x="2583" y="705"/>
                  <a:pt x="2591" y="695"/>
                </a:cubicBezTo>
                <a:cubicBezTo>
                  <a:pt x="2621" y="659"/>
                  <a:pt x="2625" y="670"/>
                  <a:pt x="2645" y="630"/>
                </a:cubicBezTo>
                <a:cubicBezTo>
                  <a:pt x="2665" y="588"/>
                  <a:pt x="2670" y="571"/>
                  <a:pt x="2710" y="543"/>
                </a:cubicBezTo>
                <a:cubicBezTo>
                  <a:pt x="2774" y="447"/>
                  <a:pt x="2712" y="326"/>
                  <a:pt x="2808" y="260"/>
                </a:cubicBezTo>
                <a:cubicBezTo>
                  <a:pt x="2828" y="231"/>
                  <a:pt x="2838" y="170"/>
                  <a:pt x="2852" y="152"/>
                </a:cubicBezTo>
                <a:cubicBezTo>
                  <a:pt x="2859" y="143"/>
                  <a:pt x="2873" y="142"/>
                  <a:pt x="2884" y="141"/>
                </a:cubicBezTo>
                <a:cubicBezTo>
                  <a:pt x="2971" y="134"/>
                  <a:pt x="3058" y="134"/>
                  <a:pt x="3145" y="130"/>
                </a:cubicBezTo>
                <a:cubicBezTo>
                  <a:pt x="3152" y="119"/>
                  <a:pt x="3158" y="106"/>
                  <a:pt x="3167" y="97"/>
                </a:cubicBezTo>
                <a:cubicBezTo>
                  <a:pt x="3202" y="62"/>
                  <a:pt x="3220" y="88"/>
                  <a:pt x="3167" y="54"/>
                </a:cubicBezTo>
                <a:cubicBezTo>
                  <a:pt x="3091" y="58"/>
                  <a:pt x="3015" y="56"/>
                  <a:pt x="2939" y="65"/>
                </a:cubicBezTo>
                <a:cubicBezTo>
                  <a:pt x="2926" y="67"/>
                  <a:pt x="2906" y="73"/>
                  <a:pt x="2906" y="86"/>
                </a:cubicBezTo>
                <a:cubicBezTo>
                  <a:pt x="2906" y="98"/>
                  <a:pt x="2927" y="76"/>
                  <a:pt x="2939" y="75"/>
                </a:cubicBezTo>
                <a:cubicBezTo>
                  <a:pt x="3015" y="69"/>
                  <a:pt x="3091" y="68"/>
                  <a:pt x="3167" y="65"/>
                </a:cubicBezTo>
                <a:cubicBezTo>
                  <a:pt x="3264" y="0"/>
                  <a:pt x="3385" y="57"/>
                  <a:pt x="3493" y="21"/>
                </a:cubicBezTo>
                <a:cubicBezTo>
                  <a:pt x="3617" y="32"/>
                  <a:pt x="3653" y="32"/>
                  <a:pt x="3602" y="32"/>
                </a:cubicBezTo>
              </a:path>
            </a:pathLst>
          </a:custGeom>
          <a:noFill/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用图表表示五个政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920" y="1523880"/>
          <a:ext cx="8534160" cy="5267160"/>
        </p:xfrm>
        <a:graphic>
          <a:graphicData uri="http://schemas.openxmlformats.org/drawingml/2006/table">
            <a:tbl>
              <a:tblPr/>
              <a:tblGrid>
                <a:gridCol w="1904760"/>
                <a:gridCol w="1820880"/>
                <a:gridCol w="1684080"/>
                <a:gridCol w="2014560"/>
                <a:gridCol w="1109880"/>
              </a:tblGrid>
              <a:tr h="109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cc"/>
                          </a:solidFill>
                          <a:latin typeface="Times New Roman"/>
                          <a:ea typeface="宋体"/>
                        </a:rPr>
                        <a:t>政权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cc"/>
                          </a:solidFill>
                          <a:latin typeface="Times New Roman"/>
                          <a:ea typeface="宋体"/>
                        </a:rPr>
                        <a:t>建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cc"/>
                          </a:solidFill>
                          <a:latin typeface="Times New Roman"/>
                          <a:ea typeface="宋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cc"/>
                          </a:solidFill>
                          <a:latin typeface="Times New Roman"/>
                          <a:ea typeface="宋体"/>
                        </a:rPr>
                        <a:t>建立民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cc"/>
                          </a:solidFill>
                          <a:latin typeface="Times New Roman"/>
                          <a:ea typeface="宋体"/>
                        </a:rPr>
                        <a:t>建立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cc"/>
                          </a:solidFill>
                          <a:latin typeface="Times New Roman"/>
                          <a:ea typeface="宋体"/>
                        </a:rPr>
                        <a:t>都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Text Box 47"/>
          <p:cNvSpPr/>
          <p:nvPr/>
        </p:nvSpPr>
        <p:spPr>
          <a:xfrm>
            <a:off x="1476360" y="321300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8"/>
          <p:cNvSpPr/>
          <p:nvPr/>
        </p:nvSpPr>
        <p:spPr>
          <a:xfrm>
            <a:off x="990720" y="27432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9"/>
          <p:cNvSpPr/>
          <p:nvPr/>
        </p:nvSpPr>
        <p:spPr>
          <a:xfrm>
            <a:off x="2209680" y="2743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世纪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0"/>
          <p:cNvSpPr/>
          <p:nvPr/>
        </p:nvSpPr>
        <p:spPr>
          <a:xfrm>
            <a:off x="4267080" y="2666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契丹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51"/>
          <p:cNvSpPr/>
          <p:nvPr/>
        </p:nvSpPr>
        <p:spPr>
          <a:xfrm>
            <a:off x="5638680" y="26668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阿保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2"/>
          <p:cNvSpPr/>
          <p:nvPr/>
        </p:nvSpPr>
        <p:spPr>
          <a:xfrm>
            <a:off x="7696080" y="2666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上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3"/>
          <p:cNvSpPr/>
          <p:nvPr/>
        </p:nvSpPr>
        <p:spPr>
          <a:xfrm>
            <a:off x="900000" y="364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北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4"/>
          <p:cNvSpPr/>
          <p:nvPr/>
        </p:nvSpPr>
        <p:spPr>
          <a:xfrm>
            <a:off x="2590920" y="3645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960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5"/>
          <p:cNvSpPr/>
          <p:nvPr/>
        </p:nvSpPr>
        <p:spPr>
          <a:xfrm>
            <a:off x="4429080" y="364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汉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6012000" y="364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赵匡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57"/>
          <p:cNvSpPr/>
          <p:nvPr/>
        </p:nvSpPr>
        <p:spPr>
          <a:xfrm>
            <a:off x="7740720" y="3645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东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971640" y="4365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黑体"/>
              </a:rPr>
              <a:t>西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59"/>
          <p:cNvSpPr/>
          <p:nvPr/>
        </p:nvSpPr>
        <p:spPr>
          <a:xfrm>
            <a:off x="2362320" y="4365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世纪前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0"/>
          <p:cNvSpPr/>
          <p:nvPr/>
        </p:nvSpPr>
        <p:spPr>
          <a:xfrm>
            <a:off x="4213080" y="4365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黑体"/>
              </a:rPr>
              <a:t>党项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1"/>
          <p:cNvSpPr/>
          <p:nvPr/>
        </p:nvSpPr>
        <p:spPr>
          <a:xfrm>
            <a:off x="6156360" y="4365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黑体"/>
              </a:rPr>
              <a:t>元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2"/>
          <p:cNvSpPr/>
          <p:nvPr/>
        </p:nvSpPr>
        <p:spPr>
          <a:xfrm>
            <a:off x="7738920" y="4365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黑体"/>
              </a:rPr>
              <a:t>兴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3"/>
          <p:cNvSpPr/>
          <p:nvPr/>
        </p:nvSpPr>
        <p:spPr>
          <a:xfrm>
            <a:off x="1066680" y="52578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64"/>
          <p:cNvSpPr/>
          <p:nvPr/>
        </p:nvSpPr>
        <p:spPr>
          <a:xfrm>
            <a:off x="2209680" y="5257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世纪初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5"/>
          <p:cNvSpPr/>
          <p:nvPr/>
        </p:nvSpPr>
        <p:spPr>
          <a:xfrm>
            <a:off x="4419720" y="5257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女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6"/>
          <p:cNvSpPr/>
          <p:nvPr/>
        </p:nvSpPr>
        <p:spPr>
          <a:xfrm>
            <a:off x="5715000" y="5257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ahoma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阿骨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7"/>
          <p:cNvSpPr/>
          <p:nvPr/>
        </p:nvSpPr>
        <p:spPr>
          <a:xfrm>
            <a:off x="7740720" y="501336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会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8"/>
          <p:cNvSpPr/>
          <p:nvPr/>
        </p:nvSpPr>
        <p:spPr>
          <a:xfrm>
            <a:off x="91440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ahoma"/>
                <a:ea typeface="黑体"/>
              </a:rPr>
              <a:t>南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9"/>
          <p:cNvSpPr/>
          <p:nvPr/>
        </p:nvSpPr>
        <p:spPr>
          <a:xfrm>
            <a:off x="2438280" y="60958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  <a:ea typeface="黑体"/>
              </a:rPr>
              <a:t>1127</a:t>
            </a:r>
            <a:r>
              <a:rPr b="0" lang="zh-CN" sz="2800" spc="-1" strike="noStrike">
                <a:solidFill>
                  <a:srgbClr val="a50021"/>
                </a:solidFill>
                <a:latin typeface="Tahoma"/>
                <a:ea typeface="黑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70"/>
          <p:cNvSpPr/>
          <p:nvPr/>
        </p:nvSpPr>
        <p:spPr>
          <a:xfrm>
            <a:off x="441972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ahoma"/>
                <a:ea typeface="黑体"/>
              </a:rPr>
              <a:t>汉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1"/>
          <p:cNvSpPr/>
          <p:nvPr/>
        </p:nvSpPr>
        <p:spPr>
          <a:xfrm>
            <a:off x="601992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ahoma"/>
                <a:ea typeface="黑体"/>
              </a:rPr>
              <a:t>赵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2"/>
          <p:cNvSpPr/>
          <p:nvPr/>
        </p:nvSpPr>
        <p:spPr>
          <a:xfrm>
            <a:off x="7696080" y="6019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ahoma"/>
                <a:ea typeface="黑体"/>
              </a:rPr>
              <a:t>临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73"/>
          <p:cNvSpPr/>
          <p:nvPr/>
        </p:nvSpPr>
        <p:spPr>
          <a:xfrm>
            <a:off x="7667640" y="5445000"/>
            <a:ext cx="1447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迁中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75"/>
                            </p:stCondLst>
                            <p:childTnLst>
                              <p:par>
                                <p:cTn id="69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650"/>
                            </p:stCondLst>
                            <p:childTnLst>
                              <p:par>
                                <p:cTn id="69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042560" y="620280"/>
            <a:ext cx="81010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行营到处即为家，一卓穹庐数乘车。千里山川无土著，四时畋猎是生涯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首诗描述的是哪个民族的生活：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契丹族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 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女真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 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汉族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 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匈奴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澶渊之盟发生在哪两个政权之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 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辽和西夏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 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宋和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 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宋和西夏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 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宋和吐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524720" y="2060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959120" y="414972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042920" y="260280"/>
            <a:ext cx="37958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单项选择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6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0"/>
                            </p:stCondLst>
                            <p:childTnLst>
                              <p:par>
                                <p:cTn id="74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B1D-AA90-42E5-9CBF-0A7EEAAD28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11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在会宁称皇帝建立金的是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阿保机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阿骨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元昊　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耶律德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宋金对峙局面形成的标志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堰城大捷　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南宋收复建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南宋开始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宋与金达成和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 flipH="1">
            <a:off x="8100360" y="189000"/>
            <a:ext cx="14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7164360" y="2492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5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9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500"/>
                            </p:stCondLst>
                            <p:childTnLst>
                              <p:par>
                                <p:cTn id="79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nansong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4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87280" y="1700280"/>
            <a:ext cx="71629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个阶段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辽、西夏和北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的并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32000" y="3860640"/>
            <a:ext cx="708660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个阶段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金与南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的对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042920" y="54936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地图：有哪几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并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对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政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258920" y="54936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学习中国历史，我们接触过哪些古老的少数民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258920" y="1844640"/>
            <a:ext cx="612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匈奴、鲜卑、羯、氐、羌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突厥、吐蕃、回鹘、南诏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靺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042920" y="4076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f1d51"/>
                </a:solidFill>
                <a:latin typeface="Times New Roman"/>
              </a:rPr>
              <a:t>契丹  党项  女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5" descr="女真、契、西夏"/>
          <p:cNvPicPr/>
          <p:nvPr/>
        </p:nvPicPr>
        <p:blipFill>
          <a:blip r:embed="rId1"/>
          <a:stretch/>
        </p:blipFill>
        <p:spPr>
          <a:xfrm>
            <a:off x="4533840" y="2868480"/>
            <a:ext cx="4610160" cy="398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4456080" y="1052640"/>
            <a:ext cx="4687920" cy="3240000"/>
            <a:chOff x="4456080" y="1052640"/>
            <a:chExt cx="4687920" cy="3240000"/>
          </a:xfrm>
        </p:grpSpPr>
        <p:pic>
          <p:nvPicPr>
            <p:cNvPr id="279" name="Picture 3" descr="5b11001a"/>
            <p:cNvPicPr/>
            <p:nvPr/>
          </p:nvPicPr>
          <p:blipFill>
            <a:blip r:embed="rId1"/>
            <a:stretch/>
          </p:blipFill>
          <p:spPr>
            <a:xfrm>
              <a:off x="4456080" y="1052640"/>
              <a:ext cx="43394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4"/>
            <p:cNvSpPr/>
            <p:nvPr/>
          </p:nvSpPr>
          <p:spPr>
            <a:xfrm>
              <a:off x="8415000" y="1967040"/>
              <a:ext cx="729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3366"/>
                  </a:solidFill>
                  <a:latin typeface="宋体"/>
                </a:rPr>
                <a:t>契丹人饮马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5"/>
          <p:cNvSpPr/>
          <p:nvPr/>
        </p:nvSpPr>
        <p:spPr>
          <a:xfrm>
            <a:off x="914400" y="228600"/>
            <a:ext cx="57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一、契丹的兴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258920" y="4221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4d4d"/>
                </a:solidFill>
                <a:latin typeface="宋体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契丹的兴起与强大的原因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619280" y="5157720"/>
            <a:ext cx="71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d4d"/>
                </a:solidFill>
                <a:latin typeface="Times New Roman"/>
              </a:rPr>
              <a:t>接受汉族文化，重视农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826920" y="1197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契丹族原为鲜卑族的一支，居住在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辽河上游，以游牧为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契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意为镔铁，表示坚固。由于契丹名声远扬，国外有些民族至今仍把中国称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契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qidan"/>
          <p:cNvPicPr/>
          <p:nvPr/>
        </p:nvPicPr>
        <p:blipFill>
          <a:blip r:embed="rId1"/>
          <a:stretch/>
        </p:blipFill>
        <p:spPr>
          <a:xfrm>
            <a:off x="36360" y="404640"/>
            <a:ext cx="8569440" cy="5816880"/>
          </a:xfrm>
          <a:prstGeom prst="rect">
            <a:avLst/>
          </a:prstGeom>
          <a:ln w="0">
            <a:noFill/>
          </a:ln>
        </p:spPr>
      </p:pic>
      <p:sp>
        <p:nvSpPr>
          <p:cNvPr id="286" name="Oval 3"/>
          <p:cNvSpPr/>
          <p:nvPr/>
        </p:nvSpPr>
        <p:spPr>
          <a:xfrm>
            <a:off x="468360" y="2637000"/>
            <a:ext cx="8351640" cy="453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契丹国（辽）的兴起和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原因：接受汉族文化，重视农耕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受汉族文化，重视农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建立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时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定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12268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419640" y="4437000"/>
            <a:ext cx="47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耶律阿保机（辽太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79600" y="48578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纪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206880" y="530208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上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692360" y="5734080"/>
            <a:ext cx="52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辽太宗时，夺取幽云十六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wudai1"/>
          <p:cNvPicPr/>
          <p:nvPr/>
        </p:nvPicPr>
        <p:blipFill>
          <a:blip r:embed="rId1"/>
          <a:stretch/>
        </p:blipFill>
        <p:spPr>
          <a:xfrm>
            <a:off x="395280" y="189000"/>
            <a:ext cx="7920000" cy="626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2:02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32Z</dcterms:modified>
  <cp:revision>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