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png" ContentType="image/png"/>
  <Override PartName="/ppt/media/image3.gif" ContentType="image/gif"/>
  <Override PartName="/ppt/media/image33.gif" ContentType="image/gif"/>
  <Override PartName="/ppt/media/image25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3.png" ContentType="image/png"/>
  <Override PartName="/ppt/media/image32.jpeg" ContentType="image/jpeg"/>
  <Override PartName="/ppt/media/image8.jpeg" ContentType="image/jpeg"/>
  <Override PartName="/ppt/media/image10.jpeg" ContentType="image/jpeg"/>
  <Override PartName="/ppt/media/image35.png" ContentType="image/png"/>
  <Override PartName="/ppt/media/image5.png" ContentType="image/png"/>
  <Override PartName="/ppt/media/image7.gif" ContentType="image/gif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4.jpeg" ContentType="image/jpeg"/>
  <Override PartName="/ppt/media/image36.png" ContentType="image/png"/>
  <Override PartName="/ppt/media/image37.jpeg" ContentType="image/jpeg"/>
  <Override PartName="/ppt/media/image20.gif" ContentType="image/gif"/>
  <Override PartName="/ppt/media/image13.png" ContentType="image/png"/>
  <Override PartName="/ppt/media/image38.jpeg" ContentType="image/jpeg"/>
  <Override PartName="/ppt/media/image40.jpeg" ContentType="image/jpeg"/>
  <Override PartName="/ppt/media/image6.gif" ContentType="image/gif"/>
  <Override PartName="/ppt/media/image4.png" ContentType="image/png"/>
  <Override PartName="/ppt/media/image27.png" ContentType="image/png"/>
  <Override PartName="/ppt/media/image12.png" ContentType="image/pn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39.gif" ContentType="image/gif"/>
  <Override PartName="/ppt/media/image16.jpeg" ContentType="image/jpeg"/>
  <Override PartName="/ppt/media/image17.gif" ContentType="image/gif"/>
  <Override PartName="/ppt/media/image18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9A05-6CF2-476C-A592-4424F73D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6C00-72BA-4EB4-A6B7-10E8F1CD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A481-AFE5-45B0-B9CA-3B328B5B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3627-FAE7-4153-97D6-49B98D19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A73E-48CC-4583-8846-D6C53687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E907-52C0-4EFC-AA5E-812BEFD7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7F8F-164D-464B-AF25-F83FDFD9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E590-F857-4889-83A7-36F92853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38A6-57C4-444C-99B8-AD8F794B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D836-47BF-4260-9519-E06166E0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4BEB-A453-45A7-A6D4-188B6B8E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0333-CE21-4D15-8282-5EE3AA90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BFEA-E0BB-42E8-920C-C66A5CA6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C64E-3D9A-4865-A8D1-C54B15B9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9CBC-6217-4BB0-8194-3496E88D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0392-1CFC-453F-A606-67AF0A533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74F6-240F-437F-9EC6-4FAD4F19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61EA-6FB5-45DB-A298-B0FE990E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6E20-4377-4CE7-982D-1E302093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4D75-9A30-479E-8815-E0441238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1D95-9354-4AA4-9E2A-DC82BB08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9591-7935-4F68-9539-7351D920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4090-EDA8-48A6-BC53-8B454863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1B1A-5D57-4F3E-BB32-74116D4F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4F78-87F2-4A09-9EC7-DBDC91C89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1D67-2B1C-4514-ACF9-F8C490A66C4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073742702&amp;tn=baiduimagedetail&amp;word=&#27927;&#34915;&#26381;&amp;in=13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539640" y="1125360"/>
            <a:ext cx="648036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-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难报三春晖</a:t>
            </a:r>
            <a:r>
              <a:rPr b="1" lang="en-US" sz="40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课件免费下载</a:t>
            </a:r>
            <a:endParaRPr b="1" lang="en-US" sz="4000" spc="-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46a67bc9b072817ff31fe7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"/>
          <p:cNvSpPr/>
          <p:nvPr/>
        </p:nvSpPr>
        <p:spPr>
          <a:xfrm>
            <a:off x="1692360" y="2565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孝敬父母是中华民族的传统美德，我们要继承和弘扬中华民族孝亲敬长的优良传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GL_033"/>
          <p:cNvPicPr/>
          <p:nvPr/>
        </p:nvPicPr>
        <p:blipFill>
          <a:blip r:embed="rId2"/>
          <a:stretch/>
        </p:blipFill>
        <p:spPr>
          <a:xfrm>
            <a:off x="900000" y="3213000"/>
            <a:ext cx="492120" cy="517680"/>
          </a:xfrm>
          <a:prstGeom prst="rect">
            <a:avLst/>
          </a:prstGeom>
          <a:ln w="0">
            <a:noFill/>
          </a:ln>
        </p:spPr>
      </p:pic>
      <p:sp>
        <p:nvSpPr>
          <p:cNvPr id="127" name="WordArt 7"/>
          <p:cNvSpPr txBox="1"/>
          <p:nvPr/>
        </p:nvSpPr>
        <p:spPr>
          <a:xfrm>
            <a:off x="784080" y="765000"/>
            <a:ext cx="26784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老师告诉你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2066760" y="5176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258920" y="148428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能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使父母得到衣食的温饱，在物质上保证父母的基本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403280" y="26370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弗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不使父母感到屈辱，儿女的行为不让父母难堪、不给父母丢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582560" y="393372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尊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尊重父母、顺乎其心。即不仅要在物质上做到赡养，还要在精神上安慰，使父母愉快、顺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484360" y="54936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Arial"/>
              </a:rPr>
              <a:t>古人这样孝敬父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013"/>
          <p:cNvPicPr/>
          <p:nvPr/>
        </p:nvPicPr>
        <p:blipFill>
          <a:blip r:embed="rId1"/>
          <a:stretch/>
        </p:blipFill>
        <p:spPr>
          <a:xfrm>
            <a:off x="395280" y="6165720"/>
            <a:ext cx="8748720" cy="692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02"/>
          <p:cNvPicPr/>
          <p:nvPr/>
        </p:nvPicPr>
        <p:blipFill>
          <a:blip r:embed="rId2"/>
          <a:stretch/>
        </p:blipFill>
        <p:spPr>
          <a:xfrm>
            <a:off x="0" y="3429000"/>
            <a:ext cx="177156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田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点此在新窗口浏览图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517680" y="5516640"/>
            <a:ext cx="86263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感动中国捐肾救母的田世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68280" y="2503080"/>
            <a:ext cx="8775720" cy="1191240"/>
          </a:xfrm>
          <a:prstGeom prst="rect">
            <a:avLst/>
          </a:prstGeom>
          <a:solidFill>
            <a:srgbClr val="ffffff">
              <a:alpha val="8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谁言寸草心，报得三春晖？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一个被追问了千年的问题。一个儿子在</a:t>
            </a:r>
            <a:r>
              <a:rPr b="1" lang="en-US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04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年用身体做出自己的回答，他把生命的一部分回馈给病危的母亲。田世国，让天下所有的母亲收获慰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        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  <a:ea typeface="楷体_GB2312"/>
              </a:rPr>
              <a:t>——</a:t>
            </a:r>
            <a:r>
              <a:rPr b="1" lang="en-US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2004</a:t>
            </a:r>
            <a:r>
              <a:rPr b="1" lang="zh-CN" sz="36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年感动中国人物田世国的颁奖词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1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488360" cy="44654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"/>
          <p:cNvSpPr/>
          <p:nvPr/>
        </p:nvSpPr>
        <p:spPr>
          <a:xfrm>
            <a:off x="1781280" y="544500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最美女孩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孟佩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2"/>
          <p:cNvSpPr txBox="1"/>
          <p:nvPr/>
        </p:nvSpPr>
        <p:spPr>
          <a:xfrm>
            <a:off x="2050920" y="404640"/>
            <a:ext cx="6096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solidFill>
                  <a:srgbClr val="3333cc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孝亲敬长是我们的天职</a:t>
            </a:r>
            <a:endParaRPr b="1" lang="en-US" sz="4400" spc="-1" strike="noStrike">
              <a:ln w="0">
                <a:noFill/>
              </a:ln>
              <a:solidFill>
                <a:srgbClr val="3333cc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609480" y="2209680"/>
            <a:ext cx="7543800" cy="1080360"/>
          </a:xfrm>
          <a:prstGeom prst="rect">
            <a:avLst/>
          </a:prstGeom>
          <a:noFill/>
          <a:ln w="3816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阅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文字以及相关链接，请你来当法官判断以下说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吴大妈的五个子女认为养不养母亲是自己家里的事情，外人无权插手，即使妇联也管不着。你是如何看待这种说法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96840" y="5084640"/>
            <a:ext cx="8796240" cy="642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错。子女对父母养育之恩的回报，是子女应尽的道德义务，也是法律义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-3627360"/>
            <a:ext cx="91440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0" y="-3627360"/>
            <a:ext cx="91440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0" y="-3627360"/>
            <a:ext cx="9144000" cy="366480"/>
            <a:chOff x="0" y="-3627360"/>
            <a:chExt cx="9144000" cy="366480"/>
          </a:xfrm>
        </p:grpSpPr>
        <p:sp>
          <p:nvSpPr>
            <p:cNvPr id="147" name="Rectangle 9"/>
            <p:cNvSpPr/>
            <p:nvPr/>
          </p:nvSpPr>
          <p:spPr>
            <a:xfrm>
              <a:off x="0" y="-362736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10"/>
            <p:cNvGrpSpPr/>
            <p:nvPr/>
          </p:nvGrpSpPr>
          <p:grpSpPr>
            <a:xfrm>
              <a:off x="0" y="-3627360"/>
              <a:ext cx="9144000" cy="366480"/>
              <a:chOff x="0" y="-3627360"/>
              <a:chExt cx="9144000" cy="366480"/>
            </a:xfrm>
          </p:grpSpPr>
          <p:sp>
            <p:nvSpPr>
              <p:cNvPr id="149" name="Rectangle 11"/>
              <p:cNvSpPr/>
              <p:nvPr/>
            </p:nvSpPr>
            <p:spPr>
              <a:xfrm>
                <a:off x="0" y="-3627360"/>
                <a:ext cx="89917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Group 12"/>
              <p:cNvGrpSpPr/>
              <p:nvPr/>
            </p:nvGrpSpPr>
            <p:grpSpPr>
              <a:xfrm>
                <a:off x="0" y="-3627360"/>
                <a:ext cx="9144000" cy="366480"/>
                <a:chOff x="0" y="-3627360"/>
                <a:chExt cx="9144000" cy="366480"/>
              </a:xfrm>
            </p:grpSpPr>
            <p:sp>
              <p:nvSpPr>
                <p:cNvPr id="151" name="Rectangle 13"/>
                <p:cNvSpPr/>
                <p:nvPr/>
              </p:nvSpPr>
              <p:spPr>
                <a:xfrm>
                  <a:off x="0" y="-3627360"/>
                  <a:ext cx="914400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14"/>
                <p:cNvSpPr/>
                <p:nvPr/>
              </p:nvSpPr>
              <p:spPr>
                <a:xfrm>
                  <a:off x="0" y="-3627360"/>
                  <a:ext cx="914400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53" name="Picture 15" descr="040819125401171"/>
          <p:cNvPicPr/>
          <p:nvPr/>
        </p:nvPicPr>
        <p:blipFill>
          <a:blip r:embed="rId1"/>
          <a:stretch/>
        </p:blipFill>
        <p:spPr>
          <a:xfrm>
            <a:off x="2484360" y="1628640"/>
            <a:ext cx="6019920" cy="158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蝶儿"/>
          <p:cNvPicPr/>
          <p:nvPr/>
        </p:nvPicPr>
        <p:blipFill>
          <a:blip r:embed="rId2"/>
          <a:stretch/>
        </p:blipFill>
        <p:spPr>
          <a:xfrm>
            <a:off x="0" y="260280"/>
            <a:ext cx="18730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609480" y="1143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吴大妈的五个子女相互推卸责任，大儿子叫母亲去二哥家，二儿子又把母亲赶到大姐家里。作为长女的大姐却说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赡养父母是儿子的责任，女儿不用承当这个义务”。你是如何看待这个说法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0" y="3573360"/>
            <a:ext cx="864072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错。孝敬父母、赡养父母是每个成年子女都应尽的义务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成年子女如果不履行赡养扶助父母的义务，不仅要受到舆论的谴责，还要受到法律的惩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040819125505859"/>
          <p:cNvPicPr/>
          <p:nvPr/>
        </p:nvPicPr>
        <p:blipFill>
          <a:blip r:embed="rId2"/>
          <a:stretch/>
        </p:blipFill>
        <p:spPr>
          <a:xfrm>
            <a:off x="685800" y="0"/>
            <a:ext cx="7467480" cy="1096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0002E"/>
          <p:cNvPicPr/>
          <p:nvPr/>
        </p:nvPicPr>
        <p:blipFill>
          <a:blip r:embed="rId3"/>
          <a:stretch/>
        </p:blipFill>
        <p:spPr>
          <a:xfrm>
            <a:off x="4932360" y="5300640"/>
            <a:ext cx="42116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-3787920"/>
            <a:ext cx="9144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3070080"/>
            <a:ext cx="9144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-3787920"/>
            <a:ext cx="9144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5"/>
          <p:cNvGrpSpPr/>
          <p:nvPr/>
        </p:nvGrpSpPr>
        <p:grpSpPr>
          <a:xfrm>
            <a:off x="0" y="-3787920"/>
            <a:ext cx="9144000" cy="366840"/>
            <a:chOff x="0" y="-3787920"/>
            <a:chExt cx="9144000" cy="366840"/>
          </a:xfrm>
        </p:grpSpPr>
        <p:sp>
          <p:nvSpPr>
            <p:cNvPr id="164" name="Rectangle 6"/>
            <p:cNvSpPr/>
            <p:nvPr/>
          </p:nvSpPr>
          <p:spPr>
            <a:xfrm>
              <a:off x="0" y="-378792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7"/>
            <p:cNvGrpSpPr/>
            <p:nvPr/>
          </p:nvGrpSpPr>
          <p:grpSpPr>
            <a:xfrm>
              <a:off x="0" y="-3787920"/>
              <a:ext cx="9144000" cy="366840"/>
              <a:chOff x="0" y="-3787920"/>
              <a:chExt cx="9144000" cy="366840"/>
            </a:xfrm>
          </p:grpSpPr>
          <p:sp>
            <p:nvSpPr>
              <p:cNvPr id="166" name="Rectangle 8"/>
              <p:cNvSpPr/>
              <p:nvPr/>
            </p:nvSpPr>
            <p:spPr>
              <a:xfrm>
                <a:off x="0" y="-3787920"/>
                <a:ext cx="8991720" cy="36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Group 9"/>
              <p:cNvGrpSpPr/>
              <p:nvPr/>
            </p:nvGrpSpPr>
            <p:grpSpPr>
              <a:xfrm>
                <a:off x="0" y="-3787920"/>
                <a:ext cx="9144000" cy="366840"/>
                <a:chOff x="0" y="-3787920"/>
                <a:chExt cx="9144000" cy="366840"/>
              </a:xfrm>
            </p:grpSpPr>
            <p:sp>
              <p:nvSpPr>
                <p:cNvPr id="168" name="Rectangle 10"/>
                <p:cNvSpPr/>
                <p:nvPr/>
              </p:nvSpPr>
              <p:spPr>
                <a:xfrm>
                  <a:off x="0" y="-3787920"/>
                  <a:ext cx="914400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Rectangle 11"/>
                <p:cNvSpPr/>
                <p:nvPr/>
              </p:nvSpPr>
              <p:spPr>
                <a:xfrm>
                  <a:off x="0" y="-3787920"/>
                  <a:ext cx="9144000" cy="366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Rectangle 12"/>
          <p:cNvSpPr/>
          <p:nvPr/>
        </p:nvSpPr>
        <p:spPr>
          <a:xfrm>
            <a:off x="0" y="-3787920"/>
            <a:ext cx="9144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0" y="3070080"/>
            <a:ext cx="9144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0" y="-3787920"/>
            <a:ext cx="9144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5"/>
          <p:cNvGrpSpPr/>
          <p:nvPr/>
        </p:nvGrpSpPr>
        <p:grpSpPr>
          <a:xfrm>
            <a:off x="0" y="-3787920"/>
            <a:ext cx="9144000" cy="366840"/>
            <a:chOff x="0" y="-3787920"/>
            <a:chExt cx="9144000" cy="366840"/>
          </a:xfrm>
        </p:grpSpPr>
        <p:sp>
          <p:nvSpPr>
            <p:cNvPr id="174" name="Rectangle 16"/>
            <p:cNvSpPr/>
            <p:nvPr/>
          </p:nvSpPr>
          <p:spPr>
            <a:xfrm>
              <a:off x="0" y="-378792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7"/>
            <p:cNvGrpSpPr/>
            <p:nvPr/>
          </p:nvGrpSpPr>
          <p:grpSpPr>
            <a:xfrm>
              <a:off x="0" y="-3787920"/>
              <a:ext cx="9144000" cy="366840"/>
              <a:chOff x="0" y="-3787920"/>
              <a:chExt cx="9144000" cy="366840"/>
            </a:xfrm>
          </p:grpSpPr>
          <p:sp>
            <p:nvSpPr>
              <p:cNvPr id="176" name="Rectangle 18"/>
              <p:cNvSpPr/>
              <p:nvPr/>
            </p:nvSpPr>
            <p:spPr>
              <a:xfrm>
                <a:off x="0" y="-3787920"/>
                <a:ext cx="8991720" cy="36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Group 19"/>
              <p:cNvGrpSpPr/>
              <p:nvPr/>
            </p:nvGrpSpPr>
            <p:grpSpPr>
              <a:xfrm>
                <a:off x="0" y="-3787920"/>
                <a:ext cx="9144000" cy="366840"/>
                <a:chOff x="0" y="-3787920"/>
                <a:chExt cx="9144000" cy="366840"/>
              </a:xfrm>
            </p:grpSpPr>
            <p:sp>
              <p:nvSpPr>
                <p:cNvPr id="178" name="Rectangle 20"/>
                <p:cNvSpPr/>
                <p:nvPr/>
              </p:nvSpPr>
              <p:spPr>
                <a:xfrm>
                  <a:off x="0" y="-3787920"/>
                  <a:ext cx="914400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21"/>
                <p:cNvSpPr/>
                <p:nvPr/>
              </p:nvSpPr>
              <p:spPr>
                <a:xfrm>
                  <a:off x="0" y="-3787920"/>
                  <a:ext cx="9144000" cy="3668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0" name="Rectangle 22"/>
          <p:cNvSpPr/>
          <p:nvPr/>
        </p:nvSpPr>
        <p:spPr>
          <a:xfrm>
            <a:off x="0" y="-4076640"/>
            <a:ext cx="91440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4"/>
          <p:cNvSpPr/>
          <p:nvPr/>
        </p:nvSpPr>
        <p:spPr>
          <a:xfrm>
            <a:off x="0" y="-4076640"/>
            <a:ext cx="91440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25"/>
          <p:cNvGrpSpPr/>
          <p:nvPr/>
        </p:nvGrpSpPr>
        <p:grpSpPr>
          <a:xfrm>
            <a:off x="0" y="-4076640"/>
            <a:ext cx="9144000" cy="366480"/>
            <a:chOff x="0" y="-4076640"/>
            <a:chExt cx="9144000" cy="366480"/>
          </a:xfrm>
        </p:grpSpPr>
        <p:sp>
          <p:nvSpPr>
            <p:cNvPr id="184" name="Rectangle 26"/>
            <p:cNvSpPr/>
            <p:nvPr/>
          </p:nvSpPr>
          <p:spPr>
            <a:xfrm>
              <a:off x="0" y="-4076640"/>
              <a:ext cx="914400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27"/>
            <p:cNvGrpSpPr/>
            <p:nvPr/>
          </p:nvGrpSpPr>
          <p:grpSpPr>
            <a:xfrm>
              <a:off x="0" y="-4076640"/>
              <a:ext cx="9144000" cy="366480"/>
              <a:chOff x="0" y="-4076640"/>
              <a:chExt cx="9144000" cy="366480"/>
            </a:xfrm>
          </p:grpSpPr>
          <p:sp>
            <p:nvSpPr>
              <p:cNvPr id="186" name="Rectangle 28"/>
              <p:cNvSpPr/>
              <p:nvPr/>
            </p:nvSpPr>
            <p:spPr>
              <a:xfrm>
                <a:off x="0" y="-4076640"/>
                <a:ext cx="89917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" name="Group 29"/>
              <p:cNvGrpSpPr/>
              <p:nvPr/>
            </p:nvGrpSpPr>
            <p:grpSpPr>
              <a:xfrm>
                <a:off x="0" y="-4076640"/>
                <a:ext cx="9144000" cy="366480"/>
                <a:chOff x="0" y="-4076640"/>
                <a:chExt cx="9144000" cy="366480"/>
              </a:xfrm>
            </p:grpSpPr>
            <p:sp>
              <p:nvSpPr>
                <p:cNvPr id="188" name="Rectangle 30"/>
                <p:cNvSpPr/>
                <p:nvPr/>
              </p:nvSpPr>
              <p:spPr>
                <a:xfrm>
                  <a:off x="0" y="-4076640"/>
                  <a:ext cx="914400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31"/>
                <p:cNvSpPr/>
                <p:nvPr/>
              </p:nvSpPr>
              <p:spPr>
                <a:xfrm>
                  <a:off x="0" y="-4076640"/>
                  <a:ext cx="914400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0" name="Text Box 32"/>
          <p:cNvSpPr/>
          <p:nvPr/>
        </p:nvSpPr>
        <p:spPr>
          <a:xfrm>
            <a:off x="380880" y="17524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吴大妈的五个子女在接受了教育后表示愿意孝敬母亲。但是子女们只是每个月定期给母亲寄生活费，从来不过问老人的生活、身体状况，更别说探望母亲，帮老人家做些家务 。你是如何看待这种做法的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3"/>
          <p:cNvSpPr/>
          <p:nvPr/>
        </p:nvSpPr>
        <p:spPr>
          <a:xfrm>
            <a:off x="0" y="4019400"/>
            <a:ext cx="93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我认为孝敬父母，就是子女对父母的尊敬、侍奉和赡养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其中最重要的是敬重和爱戴父母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吴大妈的子女只是在物质上赡养老人家，但并没有在精神上给予其照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34"/>
          <p:cNvGrpSpPr/>
          <p:nvPr/>
        </p:nvGrpSpPr>
        <p:grpSpPr>
          <a:xfrm>
            <a:off x="-181080" y="0"/>
            <a:ext cx="7238880" cy="6705360"/>
            <a:chOff x="-181080" y="0"/>
            <a:chExt cx="7238880" cy="6705360"/>
          </a:xfrm>
        </p:grpSpPr>
        <p:pic>
          <p:nvPicPr>
            <p:cNvPr id="193" name="Picture 35" descr="12"/>
            <p:cNvPicPr/>
            <p:nvPr/>
          </p:nvPicPr>
          <p:blipFill>
            <a:blip r:embed="rId1"/>
            <a:stretch/>
          </p:blipFill>
          <p:spPr>
            <a:xfrm>
              <a:off x="1545480" y="907200"/>
              <a:ext cx="5446080" cy="54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36" descr="a02"/>
            <p:cNvPicPr/>
            <p:nvPr/>
          </p:nvPicPr>
          <p:blipFill>
            <a:blip r:embed="rId2"/>
            <a:stretch/>
          </p:blipFill>
          <p:spPr>
            <a:xfrm>
              <a:off x="1080720" y="5774040"/>
              <a:ext cx="5977080" cy="93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37" descr="eye11"/>
            <p:cNvPicPr/>
            <p:nvPr/>
          </p:nvPicPr>
          <p:blipFill>
            <a:blip r:embed="rId3"/>
            <a:stretch/>
          </p:blipFill>
          <p:spPr>
            <a:xfrm>
              <a:off x="-181080" y="0"/>
              <a:ext cx="1593720" cy="197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图片5"/>
          <p:cNvPicPr/>
          <p:nvPr/>
        </p:nvPicPr>
        <p:blipFill>
          <a:blip r:embed="rId1"/>
          <a:stretch/>
        </p:blipFill>
        <p:spPr>
          <a:xfrm>
            <a:off x="19080" y="14400"/>
            <a:ext cx="9124920" cy="68436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080" y="45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华文新魏"/>
              </a:rPr>
              <a:t>作为中学生的我们</a:t>
            </a:r>
            <a:br>
              <a:rPr sz="6000"/>
            </a:b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华文新魏"/>
              </a:rPr>
              <a:t>如何孝敬父母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001"/>
          <p:cNvPicPr/>
          <p:nvPr/>
        </p:nvPicPr>
        <p:blipFill>
          <a:blip r:embed="rId1"/>
          <a:stretch/>
        </p:blipFill>
        <p:spPr>
          <a:xfrm>
            <a:off x="0" y="0"/>
            <a:ext cx="3276720" cy="1413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打电话"/>
          <p:cNvPicPr/>
          <p:nvPr/>
        </p:nvPicPr>
        <p:blipFill>
          <a:blip r:embed="rId2"/>
          <a:stretch/>
        </p:blipFill>
        <p:spPr>
          <a:xfrm>
            <a:off x="0" y="1938240"/>
            <a:ext cx="6084720" cy="49197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3"/>
          <p:cNvPicPr/>
          <p:nvPr/>
        </p:nvPicPr>
        <p:blipFill>
          <a:blip r:embed="rId3"/>
          <a:stretch/>
        </p:blipFill>
        <p:spPr>
          <a:xfrm>
            <a:off x="5292720" y="4292640"/>
            <a:ext cx="38512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u=837540380,1650028909&amp;gp=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256360" cy="4805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59r13"/>
          <p:cNvPicPr/>
          <p:nvPr/>
        </p:nvPicPr>
        <p:blipFill>
          <a:blip r:embed="rId3"/>
          <a:stretch/>
        </p:blipFill>
        <p:spPr>
          <a:xfrm>
            <a:off x="4859280" y="2695680"/>
            <a:ext cx="4284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201005040136133667"/>
          <p:cNvPicPr/>
          <p:nvPr/>
        </p:nvPicPr>
        <p:blipFill>
          <a:blip r:embed="rId1"/>
          <a:stretch/>
        </p:blipFill>
        <p:spPr>
          <a:xfrm>
            <a:off x="179280" y="476280"/>
            <a:ext cx="8791560" cy="59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FR8069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"/>
          <p:cNvSpPr/>
          <p:nvPr/>
        </p:nvSpPr>
        <p:spPr>
          <a:xfrm>
            <a:off x="1806480" y="105264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彩云"/>
              </a:rPr>
              <a:t>作为中学生，我们应怎样孝敬父母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547640" y="2637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611280" y="213372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2611"/>
                </a:solidFill>
                <a:latin typeface="Arial"/>
              </a:rPr>
              <a:t>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心里想着父母，理解、关心父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92611"/>
                </a:solidFill>
                <a:latin typeface="Arial"/>
              </a:rPr>
              <a:t>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行动上帮助父母，为父母分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92611"/>
                </a:solidFill>
                <a:latin typeface="Arial"/>
              </a:rPr>
              <a:t>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努力学习，积极上进，让父母高兴（请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1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书本上画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8199"/>
          <p:cNvSpPr/>
          <p:nvPr/>
        </p:nvSpPr>
        <p:spPr>
          <a:xfrm>
            <a:off x="965160" y="395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图片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016000" y="907920"/>
            <a:ext cx="71280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们不一定能做许多伟大的事，但我们可以用我们伟大的爱做每一件小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爱的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十四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郭巨埋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395280" y="3602520"/>
            <a:ext cx="8064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郭巨，晋代人，原本家道殷实。父亲死后，他把家产分作两份，给了两个弟弟，自己供养母亲，对母极孝。后家境逐渐贫困，妻子生一男孩，郭巨担心，养这个孩子，必然影响供养母亲，遂和妻子商议：“儿子可以再有，母亲死了不能复活，不如埋掉儿子，节省些粮食供养母亲。”于是夫妻俩一起去挖坑活埋儿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468360" y="5445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真正的孝顺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6"/>
          <p:cNvGrpSpPr/>
          <p:nvPr/>
        </p:nvGrpSpPr>
        <p:grpSpPr>
          <a:xfrm>
            <a:off x="3708360" y="5445000"/>
            <a:ext cx="4752720" cy="520560"/>
            <a:chOff x="3708360" y="5445000"/>
            <a:chExt cx="4752720" cy="520560"/>
          </a:xfrm>
        </p:grpSpPr>
        <p:grpSp>
          <p:nvGrpSpPr>
            <p:cNvPr id="216" name=""/>
            <p:cNvGrpSpPr/>
            <p:nvPr/>
          </p:nvGrpSpPr>
          <p:grpSpPr>
            <a:xfrm>
              <a:off x="3708360" y="5732280"/>
              <a:ext cx="1152360" cy="360"/>
              <a:chOff x="3708360" y="5732280"/>
              <a:chExt cx="1152360" cy="360"/>
            </a:xfrm>
          </p:grpSpPr>
          <p:sp>
            <p:nvSpPr>
              <p:cNvPr id="217" name="Line 7"/>
              <p:cNvSpPr/>
              <p:nvPr/>
            </p:nvSpPr>
            <p:spPr>
              <a:xfrm>
                <a:off x="3708360" y="5732280"/>
                <a:ext cx="11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>
                <a:off x="3708360" y="5732280"/>
                <a:ext cx="1152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Text Box 8"/>
            <p:cNvSpPr/>
            <p:nvPr/>
          </p:nvSpPr>
          <p:spPr>
            <a:xfrm>
              <a:off x="5005080" y="5445000"/>
              <a:ext cx="34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33"/>
                  </a:solidFill>
                  <a:latin typeface="Arial"/>
                </a:rPr>
                <a:t>愚孝，不是真正的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Picture 9" descr="face47"/>
          <p:cNvPicPr/>
          <p:nvPr/>
        </p:nvPicPr>
        <p:blipFill>
          <a:blip r:embed="rId1"/>
          <a:stretch/>
        </p:blipFill>
        <p:spPr>
          <a:xfrm>
            <a:off x="6877080" y="189000"/>
            <a:ext cx="1871640" cy="1512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face47"/>
          <p:cNvPicPr/>
          <p:nvPr/>
        </p:nvPicPr>
        <p:blipFill>
          <a:blip r:embed="rId2"/>
          <a:stretch/>
        </p:blipFill>
        <p:spPr>
          <a:xfrm>
            <a:off x="179280" y="0"/>
            <a:ext cx="18716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9" descr="下吧动漫卡通壁纸2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700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爱的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539640" y="2421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江涛是某校初二学生，他父亲工作之余喜欢赌博，经常邀请牌友来家打麻将、扑克，有时三缺一，他爸爸还会让放学回家的他顶缺。他想爸爸平时工作够辛苦的，就这么点爱好，我不能在别的地方孝顺他，就陪他打牌散散心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187280" y="4653000"/>
            <a:ext cx="29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324000" y="544500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是真正的孝顺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6"/>
          <p:cNvGrpSpPr/>
          <p:nvPr/>
        </p:nvGrpSpPr>
        <p:grpSpPr>
          <a:xfrm>
            <a:off x="4211640" y="5445000"/>
            <a:ext cx="3743280" cy="520560"/>
            <a:chOff x="4211640" y="5445000"/>
            <a:chExt cx="3743280" cy="520560"/>
          </a:xfrm>
        </p:grpSpPr>
        <p:grpSp>
          <p:nvGrpSpPr>
            <p:cNvPr id="228" name=""/>
            <p:cNvGrpSpPr/>
            <p:nvPr/>
          </p:nvGrpSpPr>
          <p:grpSpPr>
            <a:xfrm>
              <a:off x="4211640" y="5734080"/>
              <a:ext cx="802800" cy="360"/>
              <a:chOff x="4211640" y="5734080"/>
              <a:chExt cx="802800" cy="360"/>
            </a:xfrm>
          </p:grpSpPr>
          <p:sp>
            <p:nvSpPr>
              <p:cNvPr id="229" name="Line 7"/>
              <p:cNvSpPr/>
              <p:nvPr/>
            </p:nvSpPr>
            <p:spPr>
              <a:xfrm>
                <a:off x="4211640" y="5734080"/>
                <a:ext cx="80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 txBox="1"/>
              <p:nvPr/>
            </p:nvSpPr>
            <p:spPr>
              <a:xfrm>
                <a:off x="4211640" y="5734080"/>
                <a:ext cx="802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Text Box 8"/>
            <p:cNvSpPr/>
            <p:nvPr/>
          </p:nvSpPr>
          <p:spPr>
            <a:xfrm>
              <a:off x="4961520" y="5445000"/>
              <a:ext cx="299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33"/>
                  </a:solidFill>
                  <a:latin typeface="Arial"/>
                </a:rPr>
                <a:t>孝顺父母，也不能盲目顺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4"/>
          <p:cNvSpPr/>
          <p:nvPr/>
        </p:nvSpPr>
        <p:spPr>
          <a:xfrm>
            <a:off x="0" y="981000"/>
            <a:ext cx="896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2401"/>
              </a:spcBef>
              <a:buClr>
                <a:srgbClr val="655fd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55fd3"/>
                </a:solidFill>
                <a:latin typeface="黑体"/>
                <a:ea typeface="黑体"/>
              </a:rPr>
              <a:t>如果父母做了不道德的事，我们要勇于批评和制止，这是为了使父母尽早纠正错误，是孝的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401"/>
              </a:spcBef>
              <a:buClr>
                <a:srgbClr val="655fd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如果父母触犯了法律，作为儿女要按法律办事，不能包庇其违法行为，这同样是一种孝的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d065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724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1547280" y="1413000"/>
            <a:ext cx="640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55f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55fd3"/>
                </a:solidFill>
                <a:latin typeface="Arial"/>
              </a:rPr>
              <a:t>我们对父母的孝敬，不是古代的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愚孝</a:t>
            </a:r>
            <a:r>
              <a:rPr b="1" lang="zh-CN" sz="4000" spc="-1" strike="noStrike">
                <a:solidFill>
                  <a:srgbClr val="655fd3"/>
                </a:solidFill>
                <a:latin typeface="Arial"/>
              </a:rPr>
              <a:t>，也不是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盲目的顺从</a:t>
            </a:r>
            <a:r>
              <a:rPr b="1" lang="zh-CN" sz="4000" spc="-1" strike="noStrike">
                <a:solidFill>
                  <a:srgbClr val="655fd3"/>
                </a:solidFill>
                <a:latin typeface="Arial"/>
              </a:rPr>
              <a:t>，孝敬应该是在平等基础上对父母的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尊敬和侍奉</a:t>
            </a:r>
            <a:r>
              <a:rPr b="1" lang="zh-CN" sz="4000" spc="-1" strike="noStrike">
                <a:solidFill>
                  <a:srgbClr val="655fd3"/>
                </a:solidFill>
                <a:latin typeface="Arial"/>
              </a:rPr>
              <a:t>，是在当代道德和法律基础上对父母的报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2" descr="图片3"/>
          <p:cNvPicPr/>
          <p:nvPr/>
        </p:nvPicPr>
        <p:blipFill>
          <a:blip r:embed="rId1"/>
          <a:stretch/>
        </p:blipFill>
        <p:spPr>
          <a:xfrm>
            <a:off x="-47520" y="-380880"/>
            <a:ext cx="9239040" cy="761976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27"/>
          <p:cNvSpPr/>
          <p:nvPr/>
        </p:nvSpPr>
        <p:spPr>
          <a:xfrm>
            <a:off x="3043080" y="3284640"/>
            <a:ext cx="3324240" cy="217440"/>
          </a:xfrm>
          <a:prstGeom prst="rightArrow">
            <a:avLst>
              <a:gd name="adj1" fmla="val 50000"/>
              <a:gd name="adj2" fmla="val 3820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28"/>
          <p:cNvSpPr/>
          <p:nvPr/>
        </p:nvSpPr>
        <p:spPr>
          <a:xfrm>
            <a:off x="2976480" y="3500280"/>
            <a:ext cx="3257640" cy="216000"/>
          </a:xfrm>
          <a:prstGeom prst="leftArrow">
            <a:avLst>
              <a:gd name="adj1" fmla="val 50000"/>
              <a:gd name="adj2" fmla="val 376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9"/>
          <p:cNvSpPr/>
          <p:nvPr/>
        </p:nvSpPr>
        <p:spPr>
          <a:xfrm>
            <a:off x="3441600" y="2708280"/>
            <a:ext cx="2592360" cy="459720"/>
          </a:xfrm>
          <a:prstGeom prst="rect">
            <a:avLst/>
          </a:prstGeom>
          <a:solidFill>
            <a:srgbClr val="203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行养育之恩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0"/>
          <p:cNvSpPr/>
          <p:nvPr/>
        </p:nvSpPr>
        <p:spPr>
          <a:xfrm>
            <a:off x="3508200" y="3789360"/>
            <a:ext cx="2460960" cy="459720"/>
          </a:xfrm>
          <a:prstGeom prst="rect">
            <a:avLst/>
          </a:prstGeom>
          <a:solidFill>
            <a:srgbClr val="203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楷体_GB2312"/>
              </a:rPr>
              <a:t>尽孝敬之天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1"/>
          <p:cNvSpPr/>
          <p:nvPr/>
        </p:nvSpPr>
        <p:spPr>
          <a:xfrm>
            <a:off x="2700360" y="458136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华文行楷"/>
              </a:rPr>
              <a:t>爱的天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5"/>
          <p:cNvSpPr/>
          <p:nvPr/>
        </p:nvSpPr>
        <p:spPr>
          <a:xfrm>
            <a:off x="2179800" y="2637000"/>
            <a:ext cx="863280" cy="1800000"/>
          </a:xfrm>
          <a:prstGeom prst="ellipse">
            <a:avLst/>
          </a:prstGeom>
          <a:gradFill rotWithShape="0">
            <a:gsLst>
              <a:gs pos="0">
                <a:srgbClr val="2f4776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6"/>
          <p:cNvSpPr/>
          <p:nvPr/>
        </p:nvSpPr>
        <p:spPr>
          <a:xfrm>
            <a:off x="6299280" y="2565360"/>
            <a:ext cx="865080" cy="1800360"/>
          </a:xfrm>
          <a:prstGeom prst="ellipse">
            <a:avLst/>
          </a:prstGeom>
          <a:gradFill rotWithShape="0">
            <a:gsLst>
              <a:gs pos="0">
                <a:srgbClr val="2f4776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8"/>
          <p:cNvSpPr/>
          <p:nvPr/>
        </p:nvSpPr>
        <p:spPr>
          <a:xfrm>
            <a:off x="7297560" y="6669000"/>
            <a:ext cx="1846440" cy="189000"/>
          </a:xfrm>
          <a:prstGeom prst="rect">
            <a:avLst/>
          </a:prstGeom>
          <a:solidFill>
            <a:srgbClr val="ffff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9"/>
          <p:cNvSpPr/>
          <p:nvPr/>
        </p:nvSpPr>
        <p:spPr>
          <a:xfrm>
            <a:off x="2844720" y="1125360"/>
            <a:ext cx="1328760" cy="46836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楷体_GB2312"/>
              </a:rPr>
              <a:t>哺育成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0"/>
          <p:cNvSpPr/>
          <p:nvPr/>
        </p:nvSpPr>
        <p:spPr>
          <a:xfrm>
            <a:off x="1447920" y="549360"/>
            <a:ext cx="1328760" cy="46836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楷体_GB2312"/>
              </a:rPr>
              <a:t>赋予生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1"/>
          <p:cNvSpPr/>
          <p:nvPr/>
        </p:nvSpPr>
        <p:spPr>
          <a:xfrm>
            <a:off x="2844720" y="549360"/>
            <a:ext cx="1328760" cy="46836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楷体_GB2312"/>
              </a:rPr>
              <a:t>关爱健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52"/>
          <p:cNvSpPr/>
          <p:nvPr/>
        </p:nvSpPr>
        <p:spPr>
          <a:xfrm>
            <a:off x="1380960" y="1773360"/>
            <a:ext cx="1330560" cy="46836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楷体_GB2312"/>
              </a:rPr>
              <a:t>教给做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3"/>
          <p:cNvSpPr/>
          <p:nvPr/>
        </p:nvSpPr>
        <p:spPr>
          <a:xfrm>
            <a:off x="1447920" y="1197000"/>
            <a:ext cx="1328760" cy="46836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楷体_GB2312"/>
              </a:rPr>
              <a:t>照顾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4"/>
          <p:cNvSpPr/>
          <p:nvPr/>
        </p:nvSpPr>
        <p:spPr>
          <a:xfrm>
            <a:off x="2776680" y="1700280"/>
            <a:ext cx="1328760" cy="46836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楷体_GB2312"/>
              </a:rPr>
              <a:t>关心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5"/>
          <p:cNvSpPr/>
          <p:nvPr/>
        </p:nvSpPr>
        <p:spPr>
          <a:xfrm>
            <a:off x="6831000" y="1197000"/>
            <a:ext cx="1330200" cy="46836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不 愚 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56"/>
          <p:cNvSpPr/>
          <p:nvPr/>
        </p:nvSpPr>
        <p:spPr>
          <a:xfrm>
            <a:off x="5437080" y="620640"/>
            <a:ext cx="1328760" cy="46836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努力成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57"/>
          <p:cNvSpPr/>
          <p:nvPr/>
        </p:nvSpPr>
        <p:spPr>
          <a:xfrm>
            <a:off x="6831000" y="620640"/>
            <a:ext cx="1330200" cy="46836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珍爱生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58"/>
          <p:cNvSpPr/>
          <p:nvPr/>
        </p:nvSpPr>
        <p:spPr>
          <a:xfrm>
            <a:off x="5437080" y="1773360"/>
            <a:ext cx="1328760" cy="46836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身体照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9"/>
          <p:cNvSpPr/>
          <p:nvPr/>
        </p:nvSpPr>
        <p:spPr>
          <a:xfrm>
            <a:off x="5437080" y="1197000"/>
            <a:ext cx="1328760" cy="46836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精神慰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0"/>
          <p:cNvSpPr/>
          <p:nvPr/>
        </p:nvSpPr>
        <p:spPr>
          <a:xfrm>
            <a:off x="6831000" y="1773360"/>
            <a:ext cx="1330200" cy="46836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换位思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4" descr="2007612959265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5"/>
          <p:cNvSpPr/>
          <p:nvPr/>
        </p:nvSpPr>
        <p:spPr>
          <a:xfrm>
            <a:off x="2179800" y="189000"/>
            <a:ext cx="438624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课 堂 小 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6" descr="向日葵"/>
          <p:cNvPicPr/>
          <p:nvPr/>
        </p:nvPicPr>
        <p:blipFill>
          <a:blip r:embed="rId2"/>
          <a:stretch/>
        </p:blipFill>
        <p:spPr>
          <a:xfrm>
            <a:off x="0" y="627696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7"/>
          <p:cNvSpPr/>
          <p:nvPr/>
        </p:nvSpPr>
        <p:spPr>
          <a:xfrm>
            <a:off x="45072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孝敬父母是中华民族的传统美德，我们要继承和弘扬这一光荣传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孝敬父母是道德和法律的要求，是我们的天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孝敬父母要落实到具体行动之中，要从小事做起，要正确区分孝敬在不同场合的具体要求，并按要求去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孝敬父母表现在各个方面：爱父母，心里想着父母，理解、关心父母；行动上帮助父母，为父母分忧；努力学习、积极上进，让父母高兴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孝敬父母需要付出，得到的却是甜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孝敬父母是在平等的基础上对父母的尊敬和侍奉，是在当代道德和法律基础上对父母劳动和养育之恩的报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我们不仅要孝敬父母，还要孝敬父母的长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23C2-ECB0-46EF-A5B5-DC5C084482F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765000" y="45720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50920" y="189000"/>
            <a:ext cx="8532720" cy="3018600"/>
          </a:xfrm>
          <a:prstGeom prst="rect">
            <a:avLst/>
          </a:prstGeom>
          <a:solidFill>
            <a:srgbClr val="ffffff">
              <a:alpha val="8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妈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我帮你刷碗</a:t>
            </a:r>
            <a:r>
              <a:rPr b="1" lang="en-US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次，</a:t>
            </a:r>
            <a:r>
              <a:rPr b="1" lang="en-US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帮你叠被两周，</a:t>
            </a:r>
            <a:r>
              <a:rPr b="1" lang="en-US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我被评为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三好学生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你一共欠我</a:t>
            </a:r>
            <a:r>
              <a:rPr b="1" lang="en-US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50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请你尽快还给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79280" y="4319640"/>
            <a:ext cx="8640720" cy="2531160"/>
          </a:xfrm>
          <a:prstGeom prst="rect">
            <a:avLst/>
          </a:prstGeom>
          <a:solidFill>
            <a:srgbClr val="ffffff">
              <a:alpha val="8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孩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我</a:t>
            </a:r>
            <a:r>
              <a:rPr b="1" lang="en-US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10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多年如一日供你吃穿用</a:t>
            </a:r>
            <a:r>
              <a:rPr b="1" lang="en-US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我对你无微不至的照顾</a:t>
            </a:r>
            <a:r>
              <a:rPr b="1" lang="en-US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我被评为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优秀家长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我永远都不要你还给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21"/>
          <p:cNvSpPr txBox="1"/>
          <p:nvPr/>
        </p:nvSpPr>
        <p:spPr>
          <a:xfrm>
            <a:off x="0" y="3213000"/>
            <a:ext cx="8532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993300"/>
                  </a:solidFill>
                  <a:round/>
                </a:ln>
                <a:solidFill>
                  <a:srgbClr val="ff3399"/>
                </a:solidFill>
                <a:latin typeface="华文行楷"/>
              </a:rPr>
              <a:t>爱的清单</a:t>
            </a:r>
            <a:endParaRPr b="1" i="1" lang="en-US" sz="1800" spc="1" strike="noStrike">
              <a:ln w="9360">
                <a:solidFill>
                  <a:srgbClr val="993300"/>
                </a:solidFill>
                <a:round/>
              </a:ln>
              <a:solidFill>
                <a:srgbClr val="ff3399"/>
              </a:solidFill>
              <a:latin typeface="华文行楷"/>
              <a:ea typeface="华文行楷"/>
            </a:endParaRPr>
          </a:p>
        </p:txBody>
      </p:sp>
    </p:spTree>
  </p:cSld>
  <p:transition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24000" y="259920"/>
            <a:ext cx="8640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为什么要孝敬父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父母不仅赋予我们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而且含辛茹苦地哺育我们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教我们做人。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父母为家庭作出了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为我们付出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他们应当得到爱的回报，理应受到我们的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我们要继承和弘扬中华民族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优良传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孝敬父母是子女应尽的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什么是孝敬父母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孝敬父母就是子女对父母的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侍奉和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其中最重要的是敬重和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父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这是子女对父母养育之恩的回报，是子女对父母应尽的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成年子女如果不履行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父母的义务，不仅要受到舆论的谴责，还要受到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处罚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孝敬父母的具体表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什么？（怎样孝敬父母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孝敬父母，要从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做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孝敬父母表现在各个方面：①爱父母，心里想着父母，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父母；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②帮助父母，为父母分忧；③努力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积极上进，让父母高兴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3"/>
          <p:cNvSpPr txBox="1"/>
          <p:nvPr/>
        </p:nvSpPr>
        <p:spPr>
          <a:xfrm>
            <a:off x="0" y="189000"/>
            <a:ext cx="2259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993300"/>
                  </a:solidFill>
                  <a:round/>
                </a:ln>
                <a:solidFill>
                  <a:srgbClr val="ff3399"/>
                </a:solidFill>
                <a:latin typeface="华文行楷"/>
              </a:rPr>
              <a:t>爱的清单</a:t>
            </a:r>
            <a:endParaRPr b="1" i="1" lang="en-US" sz="1800" spc="1" strike="noStrike">
              <a:ln w="9360">
                <a:solidFill>
                  <a:srgbClr val="993300"/>
                </a:solidFill>
                <a:round/>
              </a:ln>
              <a:solidFill>
                <a:srgbClr val="ff3399"/>
              </a:solidFill>
              <a:latin typeface="华文行楷"/>
              <a:ea typeface="华文行楷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2556000" y="33300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父母为我们的付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0" y="5300640"/>
            <a:ext cx="421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我的回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3"/>
          <p:cNvSpPr/>
          <p:nvPr/>
        </p:nvSpPr>
        <p:spPr>
          <a:xfrm>
            <a:off x="0" y="3500280"/>
            <a:ext cx="2629080" cy="115416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楷体_GB2312"/>
              </a:rPr>
              <a:t>哺育成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4"/>
          <p:cNvSpPr/>
          <p:nvPr/>
        </p:nvSpPr>
        <p:spPr>
          <a:xfrm>
            <a:off x="0" y="1484280"/>
            <a:ext cx="2664000" cy="122400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楷体_GB2312"/>
              </a:rPr>
              <a:t>赋予生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5"/>
          <p:cNvSpPr/>
          <p:nvPr/>
        </p:nvSpPr>
        <p:spPr>
          <a:xfrm>
            <a:off x="2700360" y="1484280"/>
            <a:ext cx="2736720" cy="129708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楷体_GB2312"/>
              </a:rPr>
              <a:t>关爱健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2484360" y="3429000"/>
            <a:ext cx="2951280" cy="122400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楷体_GB2312"/>
              </a:rPr>
              <a:t>教我做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7"/>
          <p:cNvSpPr/>
          <p:nvPr/>
        </p:nvSpPr>
        <p:spPr>
          <a:xfrm>
            <a:off x="5508720" y="1484280"/>
            <a:ext cx="2808360" cy="136836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楷体_GB2312"/>
              </a:rPr>
              <a:t>照顾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8"/>
          <p:cNvSpPr/>
          <p:nvPr/>
        </p:nvSpPr>
        <p:spPr>
          <a:xfrm>
            <a:off x="5435640" y="3357720"/>
            <a:ext cx="2952720" cy="136656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Arial"/>
                <a:ea typeface="楷体_GB2312"/>
              </a:rPr>
              <a:t>关心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8" descr="虫"/>
          <p:cNvPicPr/>
          <p:nvPr/>
        </p:nvPicPr>
        <p:blipFill>
          <a:blip r:embed="rId1"/>
          <a:stretch/>
        </p:blipFill>
        <p:spPr>
          <a:xfrm>
            <a:off x="2843280" y="4941720"/>
            <a:ext cx="388944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002"/>
          <p:cNvPicPr/>
          <p:nvPr/>
        </p:nvPicPr>
        <p:blipFill>
          <a:blip r:embed="rId1"/>
          <a:stretch/>
        </p:blipFill>
        <p:spPr>
          <a:xfrm>
            <a:off x="0" y="-55440"/>
            <a:ext cx="9144000" cy="6913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18-01"/>
          <p:cNvPicPr/>
          <p:nvPr/>
        </p:nvPicPr>
        <p:blipFill>
          <a:blip r:embed="rId2"/>
          <a:stretch/>
        </p:blipFill>
        <p:spPr>
          <a:xfrm>
            <a:off x="1908000" y="1557360"/>
            <a:ext cx="4186440" cy="4272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788000" y="4365720"/>
            <a:ext cx="206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父母为我做的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619280" y="2997360"/>
            <a:ext cx="217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行楷"/>
              </a:rPr>
              <a:t>我为父母做的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6"/>
          <p:cNvSpPr txBox="1"/>
          <p:nvPr/>
        </p:nvSpPr>
        <p:spPr>
          <a:xfrm>
            <a:off x="1476360" y="476280"/>
            <a:ext cx="604836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爱的天平</a:t>
            </a:r>
            <a:endParaRPr b="1" lang="en-US" sz="5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826920" y="2421000"/>
            <a:ext cx="83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父母的付出应该得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GL_033"/>
          <p:cNvPicPr/>
          <p:nvPr/>
        </p:nvPicPr>
        <p:blipFill>
          <a:blip r:embed="rId1"/>
          <a:stretch/>
        </p:blipFill>
        <p:spPr>
          <a:xfrm>
            <a:off x="250920" y="2708280"/>
            <a:ext cx="492120" cy="517680"/>
          </a:xfrm>
          <a:prstGeom prst="rect">
            <a:avLst/>
          </a:prstGeom>
          <a:ln w="0">
            <a:noFill/>
          </a:ln>
        </p:spPr>
      </p:pic>
      <p:sp>
        <p:nvSpPr>
          <p:cNvPr id="106" name="WordArt 7"/>
          <p:cNvSpPr txBox="1"/>
          <p:nvPr/>
        </p:nvSpPr>
        <p:spPr>
          <a:xfrm>
            <a:off x="900000" y="981000"/>
            <a:ext cx="26784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老师告诉你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066760" y="5176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8" descr="11"/>
          <p:cNvPicPr/>
          <p:nvPr/>
        </p:nvPicPr>
        <p:blipFill>
          <a:blip r:embed="rId2"/>
          <a:stretch/>
        </p:blipFill>
        <p:spPr>
          <a:xfrm>
            <a:off x="2484360" y="4653000"/>
            <a:ext cx="2664000" cy="1944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9"/>
          <p:cNvSpPr/>
          <p:nvPr/>
        </p:nvSpPr>
        <p:spPr>
          <a:xfrm>
            <a:off x="5435640" y="227664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爱的回报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002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5"/>
          <p:cNvSpPr txBox="1"/>
          <p:nvPr/>
        </p:nvSpPr>
        <p:spPr>
          <a:xfrm>
            <a:off x="250920" y="189000"/>
            <a:ext cx="676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ffcc"/>
                  </a:solidFill>
                  <a:round/>
                </a:ln>
                <a:gradFill rotWithShape="0">
                  <a:gsLst>
                    <a:gs pos="0">
                      <a:srgbClr val="000082"/>
                    </a:gs>
                    <a:gs pos="50000">
                      <a:srgbClr val="ff8200"/>
                    </a:gs>
                    <a:gs pos="100000">
                      <a:srgbClr val="000082"/>
                    </a:gs>
                  </a:gsLst>
                  <a:lin ang="18900000"/>
                </a:gradFill>
                <a:latin typeface="华文行楷"/>
              </a:rPr>
              <a:t>我们为什么要孝敬父母？</a:t>
            </a:r>
            <a:endParaRPr b="1" lang="en-US" sz="1800" spc="1" strike="noStrike">
              <a:ln w="9360">
                <a:solidFill>
                  <a:srgbClr val="ccffcc"/>
                </a:solidFill>
                <a:round/>
              </a:ln>
              <a:gradFill rotWithShape="0">
                <a:gsLst>
                  <a:gs pos="0">
                    <a:srgbClr val="000082"/>
                  </a:gs>
                  <a:gs pos="50000">
                    <a:srgbClr val="ff8200"/>
                  </a:gs>
                  <a:gs pos="100000">
                    <a:srgbClr val="000082"/>
                  </a:gs>
                </a:gsLst>
                <a:lin ang="18900000"/>
              </a:gradFill>
              <a:latin typeface="华文行楷"/>
              <a:ea typeface="华文行楷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24000" y="5877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感恩、报恩、传统、义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395280" y="177336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1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）父母不仅赋予我们</a:t>
            </a:r>
            <a:r>
              <a:rPr b="1" lang="zh-CN" sz="2800" spc="-1" strike="noStrike" u="sng">
                <a:solidFill>
                  <a:srgbClr val="cc0099"/>
                </a:solidFill>
                <a:uFillTx/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  ，而且含辛茹苦地哺育我们   </a:t>
            </a:r>
            <a:r>
              <a:rPr b="1" lang="zh-CN" sz="2800" spc="-1" strike="noStrike" u="sng">
                <a:solidFill>
                  <a:srgbClr val="cc0099"/>
                </a:solidFill>
                <a:uFillTx/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   ，教我们</a:t>
            </a:r>
            <a:r>
              <a:rPr b="1" lang="zh-CN" sz="2800" spc="-1" strike="noStrike" u="sng">
                <a:solidFill>
                  <a:srgbClr val="cc0099"/>
                </a:solidFill>
                <a:uFillTx/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   。（感恩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0" y="126828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99"/>
                </a:solidFill>
                <a:latin typeface="Arial"/>
              </a:rPr>
              <a:t>参考答案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165240" y="2924280"/>
            <a:ext cx="897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）父母为家庭作出了</a:t>
            </a:r>
            <a:r>
              <a:rPr b="1" lang="zh-CN" sz="2800" spc="-1" strike="noStrike" u="sng">
                <a:solidFill>
                  <a:srgbClr val="cc0099"/>
                </a:solidFill>
                <a:uFillTx/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为我们付出</a:t>
            </a:r>
            <a:r>
              <a:rPr b="1" lang="zh-CN" sz="2800" spc="-1" strike="noStrike" u="sng">
                <a:solidFill>
                  <a:srgbClr val="cc0099"/>
                </a:solidFill>
                <a:uFillTx/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他们应当得到  </a:t>
            </a:r>
            <a:r>
              <a:rPr b="1" lang="zh-CN" sz="2800" spc="-1" strike="noStrike" u="sng">
                <a:solidFill>
                  <a:srgbClr val="cc0099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理应受到我们的 </a:t>
            </a:r>
            <a:r>
              <a:rPr b="1" lang="zh-CN" sz="2800" spc="-1" strike="noStrike" u="sng">
                <a:solidFill>
                  <a:srgbClr val="cc0099"/>
                </a:solidFill>
                <a:uFillTx/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    。（报恩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1877040" y="4268880"/>
            <a:ext cx="508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）我们要继承和弘扬中华民族</a:t>
            </a:r>
            <a:r>
              <a:rPr b="1" lang="zh-CN" sz="2800" spc="-1" strike="noStrike" u="sng">
                <a:solidFill>
                  <a:srgbClr val="cc0099"/>
                </a:solidFill>
                <a:uFillTx/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  的优良传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传统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1813680" y="5229360"/>
            <a:ext cx="558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）孝敬父母是子女应尽的</a:t>
            </a:r>
            <a:r>
              <a:rPr b="1" lang="zh-CN" sz="2800" spc="-1" strike="noStrike" u="sng">
                <a:solidFill>
                  <a:srgbClr val="cc0099"/>
                </a:solidFill>
                <a:uFillTx/>
                <a:latin typeface="Arial"/>
              </a:rPr>
              <a:t>          、            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。（义务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图片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2"/>
          <p:cNvSpPr txBox="1"/>
          <p:nvPr/>
        </p:nvSpPr>
        <p:spPr>
          <a:xfrm>
            <a:off x="1200240" y="5734080"/>
            <a:ext cx="79437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看故事，悟道理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50920" y="47628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春秋时期，有个叫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[ying]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考叔的小官去见郑庄公。郑庄公赏赐他饭食，他把肉片放在一边舍不得吃。庄公很奇怪，颍考叔说：“我的母亲从来没吃过这么美味的肉食，请允许我拿回家孝敬我的母亲。”庄公听后十分感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8199"/>
          <p:cNvSpPr/>
          <p:nvPr/>
        </p:nvSpPr>
        <p:spPr>
          <a:xfrm>
            <a:off x="2303640" y="4500720"/>
            <a:ext cx="4536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"/>
          <p:cNvSpPr/>
          <p:nvPr/>
        </p:nvSpPr>
        <p:spPr>
          <a:xfrm>
            <a:off x="7979400" y="2103120"/>
            <a:ext cx="789840" cy="493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Arial"/>
                <a:ea typeface="华文新魏"/>
              </a:rPr>
              <a:t>花木兰替父从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1:51:0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3:06Z</dcterms:modified>
  <cp:revision>3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