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wmf" ContentType="image/x-wmf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1.gif" ContentType="image/gif"/>
  <Override PartName="/ppt/media/image22.png" ContentType="image/png"/>
  <Override PartName="/ppt/media/image21.jpeg" ContentType="image/jpeg"/>
  <Override PartName="/ppt/media/image19.png" ContentType="image/png"/>
  <Override PartName="/ppt/media/image17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16.jpeg" ContentType="image/jpeg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385D-5DB3-4277-9978-65D22DAA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87D2-45FC-4160-86D0-62B6291D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3C7A-A30E-4BC7-A956-64D8E50E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FD16-D3BD-40EB-A525-F44A51CD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A53E-3096-4DDE-A436-9FFFFD53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1268-25DE-43EC-886F-8CA9811D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1222-2073-4450-9984-F584844A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4821-87C3-4215-B8BC-0008728D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83F4-F008-4EA3-BB43-9C524B08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7DC2-20E0-4A04-A029-DC718CFA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E4C8-9543-4CC4-9430-5FB5CBBDA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295A-586E-4D93-820C-57DAF583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tmp/home/.config/libreoffice/4/user/gallery/projctor.wav" TargetMode="External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787320"/>
            <a:ext cx="9144000" cy="360"/>
            <a:chOff x="0" y="787320"/>
            <a:chExt cx="9144000" cy="360"/>
          </a:xfrm>
        </p:grpSpPr>
        <p:sp>
          <p:nvSpPr>
            <p:cNvPr id="1" name="Line 9"/>
            <p:cNvSpPr/>
            <p:nvPr/>
          </p:nvSpPr>
          <p:spPr>
            <a:xfrm>
              <a:off x="0" y="787320"/>
              <a:ext cx="9144000" cy="0"/>
            </a:xfrm>
            <a:prstGeom prst="line">
              <a:avLst/>
            </a:prstGeom>
            <a:ln w="572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0" y="7873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" name="Picture 39" descr="主页2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04360" y="6318360"/>
            <a:ext cx="539640" cy="539640"/>
          </a:xfrm>
          <a:prstGeom prst="rect">
            <a:avLst/>
          </a:prstGeom>
          <a:ln w="0">
            <a:noFill/>
          </a:ln>
        </p:spPr>
      </p:pic>
      <p:grpSp>
        <p:nvGrpSpPr>
          <p:cNvPr id="4" name="Group 69"/>
          <p:cNvGrpSpPr/>
          <p:nvPr/>
        </p:nvGrpSpPr>
        <p:grpSpPr>
          <a:xfrm>
            <a:off x="6477120" y="101520"/>
            <a:ext cx="2590200" cy="668160"/>
            <a:chOff x="6477120" y="101520"/>
            <a:chExt cx="2590200" cy="668160"/>
          </a:xfrm>
        </p:grpSpPr>
        <p:sp>
          <p:nvSpPr>
            <p:cNvPr id="5" name="Rectangle 22"/>
            <p:cNvSpPr/>
            <p:nvPr/>
          </p:nvSpPr>
          <p:spPr>
            <a:xfrm>
              <a:off x="6851880" y="534240"/>
              <a:ext cx="1793880" cy="226440"/>
            </a:xfrm>
            <a:prstGeom prst="rect">
              <a:avLst/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3"/>
            <p:cNvSpPr/>
            <p:nvPr/>
          </p:nvSpPr>
          <p:spPr>
            <a:xfrm>
              <a:off x="8561520" y="534240"/>
              <a:ext cx="505800" cy="226440"/>
            </a:xfrm>
            <a:prstGeom prst="rect">
              <a:avLst/>
            </a:prstGeom>
            <a:gradFill rotWithShape="0">
              <a:gsLst>
                <a:gs pos="0">
                  <a:srgbClr val="00ba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24"/>
            <p:cNvGrpSpPr/>
            <p:nvPr/>
          </p:nvGrpSpPr>
          <p:grpSpPr>
            <a:xfrm>
              <a:off x="6477120" y="101520"/>
              <a:ext cx="559800" cy="650520"/>
              <a:chOff x="6477120" y="101520"/>
              <a:chExt cx="559800" cy="650520"/>
            </a:xfrm>
          </p:grpSpPr>
          <p:sp>
            <p:nvSpPr>
              <p:cNvPr id="8" name="Rectangle 25"/>
              <p:cNvSpPr/>
              <p:nvPr/>
            </p:nvSpPr>
            <p:spPr>
              <a:xfrm>
                <a:off x="6477120" y="340560"/>
                <a:ext cx="388080" cy="411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26"/>
              <p:cNvSpPr/>
              <p:nvPr/>
            </p:nvSpPr>
            <p:spPr>
              <a:xfrm>
                <a:off x="6495480" y="362880"/>
                <a:ext cx="351000" cy="368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27"/>
              <p:cNvSpPr/>
              <p:nvPr/>
            </p:nvSpPr>
            <p:spPr>
              <a:xfrm>
                <a:off x="6477120" y="383760"/>
                <a:ext cx="330120" cy="345960"/>
              </a:xfrm>
              <a:prstGeom prst="rect">
                <a:avLst/>
              </a:prstGeom>
              <a:solidFill>
                <a:srgbClr val="00ba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66"/>
                    </a:solidFill>
                    <a:latin typeface="Times New Roman"/>
                    <a:ea typeface="Arial Unicode MS"/>
                  </a:rPr>
                  <a:t>八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28"/>
              <p:cNvSpPr/>
              <p:nvPr/>
            </p:nvSpPr>
            <p:spPr>
              <a:xfrm>
                <a:off x="6477120" y="101520"/>
                <a:ext cx="178920" cy="216720"/>
              </a:xfrm>
              <a:custGeom>
                <a:avLst/>
                <a:gdLst/>
                <a:ahLst/>
                <a:rect l="l" t="t" r="r" b="b"/>
                <a:pathLst>
                  <a:path w="817" h="1089">
                    <a:moveTo>
                      <a:pt x="0" y="1089"/>
                    </a:moveTo>
                    <a:lnTo>
                      <a:pt x="136" y="1089"/>
                    </a:lnTo>
                    <a:lnTo>
                      <a:pt x="817" y="0"/>
                    </a:lnTo>
                    <a:lnTo>
                      <a:pt x="0" y="1089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29"/>
              <p:cNvSpPr/>
              <p:nvPr/>
            </p:nvSpPr>
            <p:spPr>
              <a:xfrm>
                <a:off x="6517440" y="101520"/>
                <a:ext cx="179280" cy="216720"/>
              </a:xfrm>
              <a:custGeom>
                <a:avLst/>
                <a:gdLst/>
                <a:ahLst/>
                <a:rect l="l" t="t" r="r" b="b"/>
                <a:pathLst>
                  <a:path w="817" h="1089">
                    <a:moveTo>
                      <a:pt x="0" y="1089"/>
                    </a:moveTo>
                    <a:lnTo>
                      <a:pt x="136" y="1089"/>
                    </a:lnTo>
                    <a:lnTo>
                      <a:pt x="817" y="0"/>
                    </a:lnTo>
                    <a:lnTo>
                      <a:pt x="0" y="1089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30"/>
              <p:cNvSpPr/>
              <p:nvPr/>
            </p:nvSpPr>
            <p:spPr>
              <a:xfrm>
                <a:off x="6559560" y="101520"/>
                <a:ext cx="177840" cy="216720"/>
              </a:xfrm>
              <a:custGeom>
                <a:avLst/>
                <a:gdLst/>
                <a:ahLst/>
                <a:rect l="l" t="t" r="r" b="b"/>
                <a:pathLst>
                  <a:path w="817" h="1089">
                    <a:moveTo>
                      <a:pt x="0" y="1089"/>
                    </a:moveTo>
                    <a:lnTo>
                      <a:pt x="136" y="1089"/>
                    </a:lnTo>
                    <a:lnTo>
                      <a:pt x="817" y="0"/>
                    </a:lnTo>
                    <a:lnTo>
                      <a:pt x="0" y="1089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31"/>
              <p:cNvSpPr/>
              <p:nvPr/>
            </p:nvSpPr>
            <p:spPr>
              <a:xfrm>
                <a:off x="6600600" y="101520"/>
                <a:ext cx="177840" cy="216720"/>
              </a:xfrm>
              <a:custGeom>
                <a:avLst/>
                <a:gdLst/>
                <a:ahLst/>
                <a:rect l="l" t="t" r="r" b="b"/>
                <a:pathLst>
                  <a:path w="817" h="1089">
                    <a:moveTo>
                      <a:pt x="0" y="1089"/>
                    </a:moveTo>
                    <a:lnTo>
                      <a:pt x="136" y="1089"/>
                    </a:lnTo>
                    <a:lnTo>
                      <a:pt x="817" y="0"/>
                    </a:lnTo>
                    <a:lnTo>
                      <a:pt x="0" y="1089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32"/>
              <p:cNvSpPr/>
              <p:nvPr/>
            </p:nvSpPr>
            <p:spPr>
              <a:xfrm>
                <a:off x="6641280" y="101520"/>
                <a:ext cx="179280" cy="216720"/>
              </a:xfrm>
              <a:custGeom>
                <a:avLst/>
                <a:gdLst/>
                <a:ahLst/>
                <a:rect l="l" t="t" r="r" b="b"/>
                <a:pathLst>
                  <a:path w="817" h="1089">
                    <a:moveTo>
                      <a:pt x="0" y="1089"/>
                    </a:moveTo>
                    <a:lnTo>
                      <a:pt x="136" y="1089"/>
                    </a:lnTo>
                    <a:lnTo>
                      <a:pt x="817" y="0"/>
                    </a:lnTo>
                    <a:lnTo>
                      <a:pt x="0" y="1089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33"/>
              <p:cNvSpPr/>
              <p:nvPr/>
            </p:nvSpPr>
            <p:spPr>
              <a:xfrm>
                <a:off x="6682320" y="101520"/>
                <a:ext cx="180360" cy="216720"/>
              </a:xfrm>
              <a:custGeom>
                <a:avLst/>
                <a:gdLst/>
                <a:ahLst/>
                <a:rect l="l" t="t" r="r" b="b"/>
                <a:pathLst>
                  <a:path w="817" h="1089">
                    <a:moveTo>
                      <a:pt x="0" y="1089"/>
                    </a:moveTo>
                    <a:lnTo>
                      <a:pt x="136" y="1089"/>
                    </a:lnTo>
                    <a:lnTo>
                      <a:pt x="817" y="0"/>
                    </a:lnTo>
                    <a:lnTo>
                      <a:pt x="0" y="1089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34"/>
              <p:cNvSpPr/>
              <p:nvPr/>
            </p:nvSpPr>
            <p:spPr>
              <a:xfrm>
                <a:off x="6723000" y="101520"/>
                <a:ext cx="180360" cy="216720"/>
              </a:xfrm>
              <a:custGeom>
                <a:avLst/>
                <a:gdLst/>
                <a:ahLst/>
                <a:rect l="l" t="t" r="r" b="b"/>
                <a:pathLst>
                  <a:path w="817" h="1089">
                    <a:moveTo>
                      <a:pt x="0" y="1089"/>
                    </a:moveTo>
                    <a:lnTo>
                      <a:pt x="136" y="1089"/>
                    </a:lnTo>
                    <a:lnTo>
                      <a:pt x="817" y="0"/>
                    </a:lnTo>
                    <a:lnTo>
                      <a:pt x="0" y="1089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35"/>
              <p:cNvSpPr/>
              <p:nvPr/>
            </p:nvSpPr>
            <p:spPr>
              <a:xfrm>
                <a:off x="6766560" y="101520"/>
                <a:ext cx="178920" cy="216720"/>
              </a:xfrm>
              <a:custGeom>
                <a:avLst/>
                <a:gdLst/>
                <a:ahLst/>
                <a:rect l="l" t="t" r="r" b="b"/>
                <a:pathLst>
                  <a:path w="817" h="1089">
                    <a:moveTo>
                      <a:pt x="0" y="1089"/>
                    </a:moveTo>
                    <a:lnTo>
                      <a:pt x="136" y="1089"/>
                    </a:lnTo>
                    <a:lnTo>
                      <a:pt x="817" y="0"/>
                    </a:lnTo>
                    <a:lnTo>
                      <a:pt x="0" y="1089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36"/>
              <p:cNvSpPr/>
              <p:nvPr/>
            </p:nvSpPr>
            <p:spPr>
              <a:xfrm>
                <a:off x="6807240" y="101520"/>
                <a:ext cx="179280" cy="216720"/>
              </a:xfrm>
              <a:custGeom>
                <a:avLst/>
                <a:gdLst/>
                <a:ahLst/>
                <a:rect l="l" t="t" r="r" b="b"/>
                <a:pathLst>
                  <a:path w="817" h="1089">
                    <a:moveTo>
                      <a:pt x="0" y="1089"/>
                    </a:moveTo>
                    <a:lnTo>
                      <a:pt x="136" y="1089"/>
                    </a:lnTo>
                    <a:lnTo>
                      <a:pt x="817" y="0"/>
                    </a:lnTo>
                    <a:lnTo>
                      <a:pt x="0" y="1089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37"/>
              <p:cNvSpPr/>
              <p:nvPr/>
            </p:nvSpPr>
            <p:spPr>
              <a:xfrm>
                <a:off x="6846840" y="101520"/>
                <a:ext cx="177840" cy="216720"/>
              </a:xfrm>
              <a:custGeom>
                <a:avLst/>
                <a:gdLst/>
                <a:ahLst/>
                <a:rect l="l" t="t" r="r" b="b"/>
                <a:pathLst>
                  <a:path w="817" h="1089">
                    <a:moveTo>
                      <a:pt x="0" y="1089"/>
                    </a:moveTo>
                    <a:lnTo>
                      <a:pt x="136" y="1089"/>
                    </a:lnTo>
                    <a:lnTo>
                      <a:pt x="817" y="0"/>
                    </a:lnTo>
                    <a:lnTo>
                      <a:pt x="0" y="1089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38"/>
              <p:cNvSpPr/>
              <p:nvPr/>
            </p:nvSpPr>
            <p:spPr>
              <a:xfrm>
                <a:off x="6887520" y="145800"/>
                <a:ext cx="149400" cy="216720"/>
              </a:xfrm>
              <a:custGeom>
                <a:avLst/>
                <a:gdLst/>
                <a:ahLst/>
                <a:rect l="l" t="t" r="r" b="b"/>
                <a:pathLst>
                  <a:path w="726" h="998">
                    <a:moveTo>
                      <a:pt x="726" y="0"/>
                    </a:moveTo>
                    <a:lnTo>
                      <a:pt x="0" y="998"/>
                    </a:lnTo>
                    <a:lnTo>
                      <a:pt x="0" y="816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39"/>
              <p:cNvSpPr/>
              <p:nvPr/>
            </p:nvSpPr>
            <p:spPr>
              <a:xfrm>
                <a:off x="6887520" y="189000"/>
                <a:ext cx="149400" cy="216720"/>
              </a:xfrm>
              <a:custGeom>
                <a:avLst/>
                <a:gdLst/>
                <a:ahLst/>
                <a:rect l="l" t="t" r="r" b="b"/>
                <a:pathLst>
                  <a:path w="726" h="998">
                    <a:moveTo>
                      <a:pt x="726" y="0"/>
                    </a:moveTo>
                    <a:lnTo>
                      <a:pt x="0" y="998"/>
                    </a:lnTo>
                    <a:lnTo>
                      <a:pt x="0" y="816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40"/>
              <p:cNvSpPr/>
              <p:nvPr/>
            </p:nvSpPr>
            <p:spPr>
              <a:xfrm>
                <a:off x="6887520" y="232200"/>
                <a:ext cx="149400" cy="216720"/>
              </a:xfrm>
              <a:custGeom>
                <a:avLst/>
                <a:gdLst/>
                <a:ahLst/>
                <a:rect l="l" t="t" r="r" b="b"/>
                <a:pathLst>
                  <a:path w="726" h="998">
                    <a:moveTo>
                      <a:pt x="726" y="0"/>
                    </a:moveTo>
                    <a:lnTo>
                      <a:pt x="0" y="998"/>
                    </a:lnTo>
                    <a:lnTo>
                      <a:pt x="0" y="816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41"/>
              <p:cNvSpPr/>
              <p:nvPr/>
            </p:nvSpPr>
            <p:spPr>
              <a:xfrm>
                <a:off x="6887520" y="273960"/>
                <a:ext cx="149400" cy="219600"/>
              </a:xfrm>
              <a:custGeom>
                <a:avLst/>
                <a:gdLst/>
                <a:ahLst/>
                <a:rect l="l" t="t" r="r" b="b"/>
                <a:pathLst>
                  <a:path w="726" h="998">
                    <a:moveTo>
                      <a:pt x="726" y="0"/>
                    </a:moveTo>
                    <a:lnTo>
                      <a:pt x="0" y="998"/>
                    </a:lnTo>
                    <a:lnTo>
                      <a:pt x="0" y="816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42"/>
              <p:cNvSpPr/>
              <p:nvPr/>
            </p:nvSpPr>
            <p:spPr>
              <a:xfrm>
                <a:off x="6887520" y="318240"/>
                <a:ext cx="149400" cy="216720"/>
              </a:xfrm>
              <a:custGeom>
                <a:avLst/>
                <a:gdLst/>
                <a:ahLst/>
                <a:rect l="l" t="t" r="r" b="b"/>
                <a:pathLst>
                  <a:path w="726" h="998">
                    <a:moveTo>
                      <a:pt x="726" y="0"/>
                    </a:moveTo>
                    <a:lnTo>
                      <a:pt x="0" y="998"/>
                    </a:lnTo>
                    <a:lnTo>
                      <a:pt x="0" y="816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43"/>
              <p:cNvSpPr/>
              <p:nvPr/>
            </p:nvSpPr>
            <p:spPr>
              <a:xfrm>
                <a:off x="6887520" y="362880"/>
                <a:ext cx="149400" cy="216720"/>
              </a:xfrm>
              <a:custGeom>
                <a:avLst/>
                <a:gdLst/>
                <a:ahLst/>
                <a:rect l="l" t="t" r="r" b="b"/>
                <a:pathLst>
                  <a:path w="726" h="998">
                    <a:moveTo>
                      <a:pt x="726" y="0"/>
                    </a:moveTo>
                    <a:lnTo>
                      <a:pt x="0" y="998"/>
                    </a:lnTo>
                    <a:lnTo>
                      <a:pt x="0" y="816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44"/>
              <p:cNvSpPr/>
              <p:nvPr/>
            </p:nvSpPr>
            <p:spPr>
              <a:xfrm>
                <a:off x="6887520" y="406080"/>
                <a:ext cx="149400" cy="216720"/>
              </a:xfrm>
              <a:custGeom>
                <a:avLst/>
                <a:gdLst/>
                <a:ahLst/>
                <a:rect l="l" t="t" r="r" b="b"/>
                <a:pathLst>
                  <a:path w="726" h="998">
                    <a:moveTo>
                      <a:pt x="726" y="0"/>
                    </a:moveTo>
                    <a:lnTo>
                      <a:pt x="0" y="998"/>
                    </a:lnTo>
                    <a:lnTo>
                      <a:pt x="0" y="816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45"/>
              <p:cNvSpPr/>
              <p:nvPr/>
            </p:nvSpPr>
            <p:spPr>
              <a:xfrm>
                <a:off x="6887520" y="447840"/>
                <a:ext cx="149400" cy="216720"/>
              </a:xfrm>
              <a:custGeom>
                <a:avLst/>
                <a:gdLst/>
                <a:ahLst/>
                <a:rect l="l" t="t" r="r" b="b"/>
                <a:pathLst>
                  <a:path w="726" h="998">
                    <a:moveTo>
                      <a:pt x="726" y="0"/>
                    </a:moveTo>
                    <a:lnTo>
                      <a:pt x="0" y="998"/>
                    </a:lnTo>
                    <a:lnTo>
                      <a:pt x="0" y="816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46"/>
              <p:cNvSpPr/>
              <p:nvPr/>
            </p:nvSpPr>
            <p:spPr>
              <a:xfrm>
                <a:off x="6887520" y="490680"/>
                <a:ext cx="149400" cy="216720"/>
              </a:xfrm>
              <a:custGeom>
                <a:avLst/>
                <a:gdLst/>
                <a:ahLst/>
                <a:rect l="l" t="t" r="r" b="b"/>
                <a:pathLst>
                  <a:path w="726" h="998">
                    <a:moveTo>
                      <a:pt x="726" y="0"/>
                    </a:moveTo>
                    <a:lnTo>
                      <a:pt x="0" y="998"/>
                    </a:lnTo>
                    <a:lnTo>
                      <a:pt x="0" y="816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47"/>
              <p:cNvSpPr/>
              <p:nvPr/>
            </p:nvSpPr>
            <p:spPr>
              <a:xfrm>
                <a:off x="6887520" y="535320"/>
                <a:ext cx="149400" cy="215640"/>
              </a:xfrm>
              <a:custGeom>
                <a:avLst/>
                <a:gdLst/>
                <a:ahLst/>
                <a:rect l="l" t="t" r="r" b="b"/>
                <a:pathLst>
                  <a:path w="726" h="998">
                    <a:moveTo>
                      <a:pt x="726" y="0"/>
                    </a:moveTo>
                    <a:lnTo>
                      <a:pt x="0" y="998"/>
                    </a:lnTo>
                    <a:lnTo>
                      <a:pt x="0" y="816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0093dc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" name="Text Box 48"/>
            <p:cNvSpPr/>
            <p:nvPr/>
          </p:nvSpPr>
          <p:spPr>
            <a:xfrm>
              <a:off x="7025040" y="127080"/>
              <a:ext cx="180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物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B88B-7B3A-4D1F-9514-21567CCC801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&#36710;&#21551;&#21160;&#21049;&#36710;.Avi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&#38081;&#38201;&#36865;&#29289;&#65292;&#40481;&#34507;&#25481;&#29942;&#20013;.Avi" TargetMode="External"/><Relationship Id="rId2" Type="http://schemas.openxmlformats.org/officeDocument/2006/relationships/hyperlink" Target="&#20154;&#25684;.Avi" TargetMode="External"/><Relationship Id="rId3" Type="http://schemas.openxmlformats.org/officeDocument/2006/relationships/hyperlink" Target="&#25171;&#20987;&#26827;&#23376;.Avi" TargetMode="External"/><Relationship Id="rId4" Type="http://schemas.openxmlformats.org/officeDocument/2006/relationships/hyperlink" Target="&#36339;&#36828;.Avi" TargetMode="External"/><Relationship Id="rId5" Type="http://schemas.openxmlformats.org/officeDocument/2006/relationships/hyperlink" Target="&#36339;&#36828;.Avi" TargetMode="External"/><Relationship Id="rId6" Type="http://schemas.openxmlformats.org/officeDocument/2006/relationships/hyperlink" Target="&#36710;&#21551;&#21160;&#21049;&#36710;.Avi" TargetMode="External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4"/>
          <p:cNvSpPr txBox="1"/>
          <p:nvPr/>
        </p:nvSpPr>
        <p:spPr>
          <a:xfrm>
            <a:off x="1371600" y="1981080"/>
            <a:ext cx="65530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汉真广标"/>
              </a:rPr>
              <a:t>第一节  牛顿第一定律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汉真广标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汉真广标"/>
              </a:rPr>
              <a:t>课件免费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汉真广标"/>
              <a:ea typeface="汉真广标"/>
            </a:endParaRPr>
          </a:p>
        </p:txBody>
      </p:sp>
      <p:sp>
        <p:nvSpPr>
          <p:cNvPr id="11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971640" y="253836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457200" y="528624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验中让小车从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同一高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滑下，目的是让小车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到达水平面时的速度相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228600" y="914400"/>
            <a:ext cx="700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实验探究：阻力对物体运动的影响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0" name="ShockwaveFlash1" descr=""/>
          <p:cNvPicPr/>
          <p:nvPr/>
        </p:nvPicPr>
        <p:blipFill>
          <a:blip r:embed="rId1"/>
          <a:stretch/>
        </p:blipFill>
        <p:spPr>
          <a:xfrm>
            <a:off x="990720" y="1552680"/>
            <a:ext cx="67816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685800" y="3914640"/>
          <a:ext cx="7924680" cy="279072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2133360"/>
              </a:tblGrid>
              <a:tr h="5810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实验次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表面材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阻力大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滑行距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速度变化快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毛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棉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推理想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理想平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2" name="Group 45"/>
          <p:cNvGrpSpPr/>
          <p:nvPr/>
        </p:nvGrpSpPr>
        <p:grpSpPr>
          <a:xfrm>
            <a:off x="3581280" y="4448160"/>
            <a:ext cx="1371600" cy="1602720"/>
            <a:chOff x="3581280" y="4448160"/>
            <a:chExt cx="1371600" cy="1602720"/>
          </a:xfrm>
        </p:grpSpPr>
        <p:sp>
          <p:nvSpPr>
            <p:cNvPr id="163" name="Text Box 46"/>
            <p:cNvSpPr/>
            <p:nvPr/>
          </p:nvSpPr>
          <p:spPr>
            <a:xfrm>
              <a:off x="3657600" y="44481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最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47"/>
            <p:cNvSpPr/>
            <p:nvPr/>
          </p:nvSpPr>
          <p:spPr>
            <a:xfrm>
              <a:off x="3733560" y="50576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较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8"/>
            <p:cNvSpPr/>
            <p:nvPr/>
          </p:nvSpPr>
          <p:spPr>
            <a:xfrm>
              <a:off x="3581280" y="559116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较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49"/>
          <p:cNvGrpSpPr/>
          <p:nvPr/>
        </p:nvGrpSpPr>
        <p:grpSpPr>
          <a:xfrm>
            <a:off x="6858000" y="4448160"/>
            <a:ext cx="1447560" cy="1602720"/>
            <a:chOff x="6858000" y="4448160"/>
            <a:chExt cx="1447560" cy="1602720"/>
          </a:xfrm>
        </p:grpSpPr>
        <p:sp>
          <p:nvSpPr>
            <p:cNvPr id="167" name="Text Box 50"/>
            <p:cNvSpPr/>
            <p:nvPr/>
          </p:nvSpPr>
          <p:spPr>
            <a:xfrm>
              <a:off x="6858000" y="444816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最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6858000" y="505764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较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52"/>
            <p:cNvSpPr/>
            <p:nvPr/>
          </p:nvSpPr>
          <p:spPr>
            <a:xfrm>
              <a:off x="6933960" y="559116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较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53"/>
          <p:cNvSpPr/>
          <p:nvPr/>
        </p:nvSpPr>
        <p:spPr>
          <a:xfrm>
            <a:off x="3733920" y="6124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无阻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4"/>
          <p:cNvSpPr/>
          <p:nvPr/>
        </p:nvSpPr>
        <p:spPr>
          <a:xfrm>
            <a:off x="5181480" y="6124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无限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5"/>
          <p:cNvSpPr/>
          <p:nvPr/>
        </p:nvSpPr>
        <p:spPr>
          <a:xfrm>
            <a:off x="6781680" y="6124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56"/>
          <p:cNvGrpSpPr/>
          <p:nvPr/>
        </p:nvGrpSpPr>
        <p:grpSpPr>
          <a:xfrm>
            <a:off x="4724280" y="4448160"/>
            <a:ext cx="1828800" cy="1602720"/>
            <a:chOff x="4724280" y="4448160"/>
            <a:chExt cx="1828800" cy="1602720"/>
          </a:xfrm>
        </p:grpSpPr>
        <p:sp>
          <p:nvSpPr>
            <p:cNvPr id="174" name="Text Box 57"/>
            <p:cNvSpPr/>
            <p:nvPr/>
          </p:nvSpPr>
          <p:spPr>
            <a:xfrm>
              <a:off x="4724280" y="510516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较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58"/>
            <p:cNvSpPr/>
            <p:nvPr/>
          </p:nvSpPr>
          <p:spPr>
            <a:xfrm>
              <a:off x="5105160" y="559116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59"/>
            <p:cNvSpPr/>
            <p:nvPr/>
          </p:nvSpPr>
          <p:spPr>
            <a:xfrm>
              <a:off x="5181480" y="44481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最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ShockwaveFlash1" descr=""/>
          <p:cNvPicPr/>
          <p:nvPr/>
        </p:nvPicPr>
        <p:blipFill>
          <a:blip r:embed="rId1"/>
          <a:stretch/>
        </p:blipFill>
        <p:spPr>
          <a:xfrm>
            <a:off x="1295280" y="825480"/>
            <a:ext cx="6782040" cy="3048120"/>
          </a:xfrm>
          <a:prstGeom prst="rect">
            <a:avLst/>
          </a:prstGeom>
          <a:ln w="0">
            <a:noFill/>
          </a:ln>
        </p:spPr>
      </p:pic>
      <p:sp>
        <p:nvSpPr>
          <p:cNvPr id="178" name="文本框 8199"/>
          <p:cNvSpPr/>
          <p:nvPr/>
        </p:nvSpPr>
        <p:spPr>
          <a:xfrm>
            <a:off x="1295280" y="490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1295280"/>
            <a:ext cx="85345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实验结论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平面越光滑，小车受到的阻力越小，运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动的距离越大，也就是说小车受到的阻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越小，速度减小得越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920" y="2971440"/>
            <a:ext cx="85341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以上实验进一步推理得出：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如果表面绝对光滑，物体受到的阻力为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，将以恒定不变的速度永远运动下去。本实验可以得出伽利略的说法是正确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物体的运动不需要力来维持，亚里士多德认为需要加的力，其实是用来平衡阻力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1663560" y="556740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足球在空中飞行时，不需要力来维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727200" y="1000080"/>
            <a:ext cx="7688160" cy="44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682560" y="885960"/>
            <a:ext cx="7777080" cy="4752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1468440" y="5651640"/>
            <a:ext cx="64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自行车向前滑行时，不需要力来维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539640" y="191628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于伽利略理想实验，以下说法正确的是（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完全是理想的，没有事实为基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是以可靠事实为基础的，经科学抽象深刻反映自然规律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没有事实为基础，只是理想推理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以上说法都不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979640" y="2421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4"/>
          <p:cNvSpPr txBox="1"/>
          <p:nvPr/>
        </p:nvSpPr>
        <p:spPr>
          <a:xfrm>
            <a:off x="539640" y="91440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习题小练笔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457200" y="98424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伽利略的斜面实验证明了（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要物体运动必须有力的作用，没有力的作用的物体将静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要物体静止必须有力的作用，没有力的作用的物体就运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物体不受外力作用时，一定处于静止状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物体不受外力作用时总保持原来的匀速直线运动状态或静止状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470640" y="9111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49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首先得出“一切物体不受外力时，其速度保持不变”这一正确结论的科学家是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28195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阿基米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笛卡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伽利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牛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6870600" y="191772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1473120" y="2895480"/>
            <a:ext cx="5981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方正风雅宋简体"/>
              </a:rPr>
              <a:t>知识点二：牛顿第一定律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方正风雅宋简体"/>
              <a:ea typeface="方正风雅宋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254160" y="83808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牛顿第一定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80880" y="182880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内容：一切物体在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不受外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作用时，总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保持静止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或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匀速直线运动状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牛顿"/>
          <p:cNvPicPr/>
          <p:nvPr/>
        </p:nvPicPr>
        <p:blipFill>
          <a:blip r:embed="rId1"/>
          <a:stretch/>
        </p:blipFill>
        <p:spPr>
          <a:xfrm>
            <a:off x="4800600" y="1447920"/>
            <a:ext cx="2743200" cy="32004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4495680" y="502920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牛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ewton,1642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685800" y="8380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堂回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762120" y="1447920"/>
            <a:ext cx="761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力的作用效果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838080" y="228600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力可以改变物体的形状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力可以改变物体的运动状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762120" y="33829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状态是指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1050840" y="4213080"/>
            <a:ext cx="740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762120" y="3962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由静止变为运动；由运动变为静止；运动方向改变；运动速度改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8380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状态不变是指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762120" y="57150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物体总保持静止状态或匀速直线运动状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0" y="86832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该定律研究方法：实验加理论推导，不能做实验证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80880" y="429732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运动的物体，不受力时，最终都做匀速直线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静止的物体，不受力时，最终都是静止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0" y="19350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962520" y="1935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静者恒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038480" y="3154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动者恒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3581280" y="2163600"/>
            <a:ext cx="457200" cy="1447920"/>
          </a:xfrm>
          <a:custGeom>
            <a:avLst/>
            <a:gdLst>
              <a:gd name="textAreaLeft" fmla="*/ 292320 w 457200"/>
              <a:gd name="textAreaRight" fmla="*/ 457560 w 4572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676520" y="26208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受力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571680" y="1324080"/>
            <a:ext cx="8089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一切物体在没有受到外力的作用时，总保持匀速直线运动状态或静止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698400" y="2438280"/>
            <a:ext cx="53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适用于所有物体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698400" y="2895480"/>
            <a:ext cx="792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没有受到外力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是定律成立的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698400" y="3257640"/>
            <a:ext cx="7863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总保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是指物体在不受外力作用时，只有静止或匀速直线运动两种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698400" y="4232160"/>
            <a:ext cx="73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指两种状态必有其一，不同时存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698400" y="4694400"/>
            <a:ext cx="7836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牛顿第一定律不是通过实验直接得出的，而是在大量实验的基础上用推理的方法概括出来的。不能用实验直接证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615960" y="295272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原来的小车和小球都处于什么状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84280" y="3538440"/>
            <a:ext cx="813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后来小车遇到障碍物受力停下来，小球仍保持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971640" y="2309760"/>
            <a:ext cx="5833800" cy="1800"/>
            <a:chOff x="971640" y="2309760"/>
            <a:chExt cx="5833800" cy="1800"/>
          </a:xfrm>
        </p:grpSpPr>
        <p:sp>
          <p:nvSpPr>
            <p:cNvPr id="214" name="Line 4"/>
            <p:cNvSpPr/>
            <p:nvPr/>
          </p:nvSpPr>
          <p:spPr>
            <a:xfrm>
              <a:off x="971640" y="2309760"/>
              <a:ext cx="5833800" cy="18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971640" y="2309760"/>
              <a:ext cx="5833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Rectangle 5"/>
          <p:cNvSpPr/>
          <p:nvPr/>
        </p:nvSpPr>
        <p:spPr>
          <a:xfrm>
            <a:off x="5508720" y="2021040"/>
            <a:ext cx="576000" cy="28872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6"/>
          <p:cNvGrpSpPr/>
          <p:nvPr/>
        </p:nvGrpSpPr>
        <p:grpSpPr>
          <a:xfrm>
            <a:off x="971640" y="1878120"/>
            <a:ext cx="792000" cy="431640"/>
            <a:chOff x="971640" y="1878120"/>
            <a:chExt cx="792000" cy="431640"/>
          </a:xfrm>
        </p:grpSpPr>
        <p:sp>
          <p:nvSpPr>
            <p:cNvPr id="218" name="Rectangle 13"/>
            <p:cNvSpPr/>
            <p:nvPr/>
          </p:nvSpPr>
          <p:spPr>
            <a:xfrm>
              <a:off x="971640" y="1878120"/>
              <a:ext cx="792000" cy="289080"/>
            </a:xfrm>
            <a:prstGeom prst="rect">
              <a:avLst/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4"/>
            <p:cNvSpPr/>
            <p:nvPr/>
          </p:nvSpPr>
          <p:spPr>
            <a:xfrm>
              <a:off x="1116000" y="2165400"/>
              <a:ext cx="144720" cy="14436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5"/>
            <p:cNvSpPr/>
            <p:nvPr/>
          </p:nvSpPr>
          <p:spPr>
            <a:xfrm>
              <a:off x="1476360" y="2165400"/>
              <a:ext cx="144720" cy="144360"/>
            </a:xfrm>
            <a:prstGeom prst="ellipse">
              <a:avLst/>
            </a:prstGeom>
            <a:solidFill>
              <a:srgbClr val="bbe0e3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Oval 16"/>
          <p:cNvSpPr/>
          <p:nvPr/>
        </p:nvSpPr>
        <p:spPr>
          <a:xfrm>
            <a:off x="1189080" y="1446120"/>
            <a:ext cx="431640" cy="4320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74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5749920" y="29574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运动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6848640" y="357516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运动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512640" y="4313160"/>
            <a:ext cx="82296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小球没有停止，仍然保持原来的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状态不变。这说明原来运动的小球在不受外力作用时仍保持运动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4978440" y="44067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运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4911840" y="1424160"/>
            <a:ext cx="4442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11111E-006 L 0.40729 -0.00324 E">
                                      <p:cBhvr>
                                        <p:cTn id="272" dur="5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0.40972 -0.00162 E">
                                      <p:cBhvr>
                                        <p:cTn id="274" dur="5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93 L 0.03229 -0.00093 C 0.04687 -0.00093 0.06545 0.01273 0.06545 0.01851 L 0.12639 0.02824 L 0.14826 0.0625 L 0.19705 0.06412 L 0.24219 0.06898 E">
                                      <p:cBhvr>
                                        <p:cTn id="286" dur="5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0" y="1143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绳子栓住一个小球在光滑的水平面上作圆周运动，当绳子突然断裂，小球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    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保持原来的圆周运动状态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保持绳断时的速度作匀速直线运动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小球运动速度减小，但保持直线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以上三种都有可能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0" y="3809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分析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来小球受绳拉力作用在作圆周运动，当绳子突然断裂，小球在光滑水平方向上就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没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再受到力了，因此小球将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保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绳断时刻的速度大小和方向而运动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152280" y="54864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解答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】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01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772400" y="0"/>
            <a:ext cx="1371600" cy="11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04920" y="10666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列说法正确的是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     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物体不受力作用就一定静止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物体不受力作用就一定是匀速直线运动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物体受力才能运动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以上说法都是错误的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228600" y="32767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分析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牛顿第一定律指出，物体不受外力作用时，物体将保持静止或匀速直线运动．说明物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可以有两种表现状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同时也说明物体不受力时也能运动，</a:t>
            </a:r>
            <a:r>
              <a:rPr b="1" lang="zh-CN" sz="2400" spc="-1" strike="noStrike">
                <a:solidFill>
                  <a:srgbClr val="f80035"/>
                </a:solidFill>
                <a:latin typeface="Times New Roman"/>
              </a:rPr>
              <a:t>力不是维持物体运动的原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304920" y="5257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解答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】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01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772400" y="0"/>
            <a:ext cx="1371600" cy="11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04920" y="172404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于牛顿第一定律的说法中正确的是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93880" indent="-89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物体在任何情况下始终处于静止状态或匀速直线运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93880" indent="-89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物体运动需要靠力来维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93880" indent="-89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牛顿第一定律既揭示了物体保持原有运动状态的原因，又揭示了运动速度改变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93880" indent="-89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牛顿第一定律反映物体不受外力作用时的运动规律，即始终处于匀速直线运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7721640" y="17971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4"/>
          <p:cNvSpPr txBox="1"/>
          <p:nvPr/>
        </p:nvSpPr>
        <p:spPr>
          <a:xfrm>
            <a:off x="228600" y="91440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习题小练笔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2743200" y="2971800"/>
            <a:ext cx="3695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知识点三  惯性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2"/>
          <p:cNvSpPr txBox="1"/>
          <p:nvPr/>
        </p:nvSpPr>
        <p:spPr>
          <a:xfrm>
            <a:off x="457200" y="884160"/>
            <a:ext cx="3352680" cy="9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说说你坐车的感觉</a:t>
            </a:r>
            <a:endParaRPr b="1" i="1" lang="en-US" sz="32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0" name="Text Box 3">
            <a:hlinkClick r:id="rId1"/>
          </p:cNvPr>
          <p:cNvSpPr/>
          <p:nvPr/>
        </p:nvSpPr>
        <p:spPr>
          <a:xfrm>
            <a:off x="609480" y="202716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车启动或加速时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609480" y="263700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车刹车或减速时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4343400" y="202716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后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4419720" y="27129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前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380880" y="35751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惯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609480" y="44658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定义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物体保持静止或匀速直线运动状态的性质，叫做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惯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143000" y="1262160"/>
            <a:ext cx="6546960" cy="34621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1523880" y="685800"/>
            <a:ext cx="461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用惯性知识解释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457200" y="48769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仿宋_GB2312"/>
              </a:rPr>
              <a:t>当汽车刹车时，人的脚底由于摩擦而随之静止，人的上身由于惯性，会保持继续向前运动的状态，所以</a:t>
            </a: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仿宋_GB2312"/>
              </a:rPr>
              <a:t>刹车或减速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仿宋_GB2312"/>
              </a:rPr>
              <a:t>时，人会</a:t>
            </a: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仿宋_GB2312"/>
              </a:rPr>
              <a:t>前倾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仿宋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png-0650"/>
          <p:cNvPicPr/>
          <p:nvPr/>
        </p:nvPicPr>
        <p:blipFill>
          <a:blip r:embed="rId2"/>
          <a:stretch/>
        </p:blipFill>
        <p:spPr>
          <a:xfrm>
            <a:off x="6934320" y="3049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250" name="文本框 8199"/>
          <p:cNvSpPr/>
          <p:nvPr/>
        </p:nvSpPr>
        <p:spPr>
          <a:xfrm>
            <a:off x="1023840" y="351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车的启动"/>
          <p:cNvPicPr/>
          <p:nvPr/>
        </p:nvPicPr>
        <p:blipFill>
          <a:blip r:embed="rId1"/>
          <a:stretch/>
        </p:blipFill>
        <p:spPr>
          <a:xfrm>
            <a:off x="533520" y="1523880"/>
            <a:ext cx="6019560" cy="32338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457200" y="48769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仿宋_GB2312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仿宋_GB2312"/>
              </a:rPr>
              <a:t>当汽车加速时，人的脚底由于摩擦而随之静止，人的上身由于惯性，仍保持原来慢速行驶的运动状态，所以</a:t>
            </a: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仿宋_GB2312"/>
              </a:rPr>
              <a:t>加速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仿宋_GB2312"/>
              </a:rPr>
              <a:t>时，人会</a:t>
            </a: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仿宋_GB2312"/>
              </a:rPr>
              <a:t>后仰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仿宋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1295280" y="8380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下图中，汽车做什么运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6629400" y="4267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仿宋_GB2312"/>
              </a:rPr>
              <a:t>汽车加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png-0650"/>
          <p:cNvPicPr/>
          <p:nvPr/>
        </p:nvPicPr>
        <p:blipFill>
          <a:blip r:embed="rId2"/>
          <a:stretch/>
        </p:blipFill>
        <p:spPr>
          <a:xfrm>
            <a:off x="7315200" y="3049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1071720" y="2895480"/>
            <a:ext cx="70815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知识点一：阻力对物体运动的影响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0" y="7333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惯性的三点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5638680" y="3019320"/>
            <a:ext cx="2590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228600" y="1419120"/>
            <a:ext cx="861048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惯性是物体本身的一种属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切物体都有惯性，与外界条件无关。与物体的状态，与物体是运动还是静止，与物体是否受力，速度的大小等外界条件无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2)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惯性不是力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力是物体对物体的作用，而惯性是物体本身固有的一种属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惯性只有大小，没有方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3"/>
          <p:cNvSpPr/>
          <p:nvPr/>
        </p:nvSpPr>
        <p:spPr>
          <a:xfrm>
            <a:off x="5638680" y="3094200"/>
            <a:ext cx="2590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533520" y="233208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物体的惯性只与物体的质量有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有的物体都有惯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但不同物体的惯性大小是不同的，物体的质量越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惯性越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物体的质量越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惯性越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>
            <a:hlinkClick r:id="rId1"/>
          </p:cNvPr>
          <p:cNvSpPr/>
          <p:nvPr/>
        </p:nvSpPr>
        <p:spPr>
          <a:xfrm>
            <a:off x="1523880" y="17208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铁锹送物  鸡蛋掉瓶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">
            <a:hlinkClick r:id="rId2"/>
          </p:cNvPr>
          <p:cNvSpPr/>
          <p:nvPr/>
        </p:nvSpPr>
        <p:spPr>
          <a:xfrm>
            <a:off x="1447920" y="37782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被石头绊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>
            <a:hlinkClick r:id="rId3"/>
          </p:cNvPr>
          <p:cNvSpPr/>
          <p:nvPr/>
        </p:nvSpPr>
        <p:spPr>
          <a:xfrm>
            <a:off x="1523880" y="27115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打击棋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>
            <a:hlinkClick r:id="rId4"/>
          </p:cNvPr>
          <p:cNvSpPr/>
          <p:nvPr/>
        </p:nvSpPr>
        <p:spPr>
          <a:xfrm>
            <a:off x="3657600" y="27115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跳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>
            <a:hlinkClick r:id="rId5"/>
          </p:cNvPr>
          <p:cNvSpPr/>
          <p:nvPr/>
        </p:nvSpPr>
        <p:spPr>
          <a:xfrm>
            <a:off x="304920" y="1644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52280" y="7300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惯性现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>
            <a:hlinkClick r:id="rId6"/>
          </p:cNvPr>
          <p:cNvSpPr/>
          <p:nvPr/>
        </p:nvSpPr>
        <p:spPr>
          <a:xfrm>
            <a:off x="609480" y="438768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车启动或加速时往后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685800" y="53020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车刹车或减速时往前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609480" y="621648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竖直跳起后落回原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4648320" y="37782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洗衣脱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5638680" y="3016080"/>
            <a:ext cx="2590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4876920" y="27115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抖落衣服上的灰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6400800" y="1720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投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"/>
          <p:cNvSpPr/>
          <p:nvPr/>
        </p:nvSpPr>
        <p:spPr>
          <a:xfrm>
            <a:off x="152280" y="9284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问题一：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运动的物体有惯性，静止的物体没有惯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1661400" y="175176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问题二：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运动速度大的物体惯性就大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1"/>
          <p:cNvSpPr/>
          <p:nvPr/>
        </p:nvSpPr>
        <p:spPr>
          <a:xfrm>
            <a:off x="76320" y="316692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228600" y="29718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问题三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惯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不是就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惯性定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6"/>
          <p:cNvSpPr/>
          <p:nvPr/>
        </p:nvSpPr>
        <p:spPr>
          <a:xfrm>
            <a:off x="0" y="34290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00e2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3b00e2"/>
                </a:solidFill>
                <a:latin typeface="黑体"/>
                <a:ea typeface="黑体"/>
              </a:rPr>
              <a:t>不是</a:t>
            </a:r>
            <a:r>
              <a:rPr b="0" lang="en-US" sz="3200" spc="-1" strike="noStrike">
                <a:solidFill>
                  <a:srgbClr val="3b00e2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3b00e2"/>
                </a:solidFill>
                <a:latin typeface="黑体"/>
                <a:ea typeface="黑体"/>
              </a:rPr>
              <a:t>惯性是物体本身固有的一种属性，它跟物体受不受外力无关。惯性定律是物体在某个特定的环境（不受外力）下具有惯性的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057400" y="11430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b00e2"/>
                </a:solidFill>
                <a:latin typeface="黑体"/>
                <a:ea typeface="黑体"/>
              </a:rPr>
              <a:t>错</a:t>
            </a:r>
            <a:r>
              <a:rPr b="0" lang="en-US" sz="3200" spc="-1" strike="noStrike">
                <a:solidFill>
                  <a:srgbClr val="3b00e2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3b00e2"/>
                </a:solidFill>
                <a:latin typeface="黑体"/>
                <a:ea typeface="黑体"/>
              </a:rPr>
              <a:t>惯性与物体的运动状态无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914400" y="23623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b00e2"/>
                </a:solidFill>
                <a:latin typeface="黑体"/>
                <a:ea typeface="黑体"/>
              </a:rPr>
              <a:t>错</a:t>
            </a:r>
            <a:r>
              <a:rPr b="0" lang="en-US" sz="3200" spc="-1" strike="noStrike">
                <a:solidFill>
                  <a:srgbClr val="3b00e2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3b00e2"/>
                </a:solidFill>
                <a:latin typeface="黑体"/>
                <a:ea typeface="黑体"/>
              </a:rPr>
              <a:t>决定惯性的唯一量度就是质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0" y="502884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问题四：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惯性是一种特殊的力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8"/>
          <p:cNvSpPr/>
          <p:nvPr/>
        </p:nvSpPr>
        <p:spPr>
          <a:xfrm>
            <a:off x="76320" y="56386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00e2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3b00e2"/>
                </a:solidFill>
                <a:latin typeface="黑体"/>
                <a:ea typeface="黑体"/>
              </a:rPr>
              <a:t>不是</a:t>
            </a:r>
            <a:r>
              <a:rPr b="0" lang="en-US" sz="3200" spc="-1" strike="noStrike">
                <a:solidFill>
                  <a:srgbClr val="3b00e2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3b00e2"/>
                </a:solidFill>
                <a:latin typeface="黑体"/>
                <a:ea typeface="黑体"/>
              </a:rPr>
              <a:t>惯性是物体本身固有的一种属性，而力是物体之间的相互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11"/>
          <p:cNvPicPr/>
          <p:nvPr/>
        </p:nvPicPr>
        <p:blipFill>
          <a:blip r:embed="rId1"/>
          <a:stretch/>
        </p:blipFill>
        <p:spPr>
          <a:xfrm>
            <a:off x="762120" y="3103560"/>
            <a:ext cx="3744720" cy="223200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"/>
          <p:cNvSpPr/>
          <p:nvPr/>
        </p:nvSpPr>
        <p:spPr>
          <a:xfrm>
            <a:off x="457200" y="1426680"/>
            <a:ext cx="705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交待研究对象原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物理过程（突然发生的情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研究对象由于惯性要保持原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4876920" y="448488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甲图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静止的小车和木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突然受到拉力时，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小车和木块的底部一起向前运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木块上部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由于惯性仍保持静止状态，所以会向后倾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2289960" y="540648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乙图：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运动的小车和木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遇到障碍物，小车和木块底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突然停止，木块上部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由于惯性仍然保持运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所以小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块会向前倾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457200" y="7920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解释惯性现象的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685800" y="91440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防止惯性带来的危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600200" y="18288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车限载限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600200" y="31240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保持车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1600200" y="43434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系安全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395280" y="68580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惯性现象在日常生活中普遍存在</a:t>
            </a:r>
            <a:r>
              <a:rPr b="1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应该注意防止和利用</a:t>
            </a:r>
            <a:r>
              <a:rPr b="1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请分别举二例</a:t>
            </a:r>
            <a:r>
              <a:rPr b="1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:          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利用</a:t>
            </a:r>
            <a:r>
              <a:rPr b="1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(1)_________________________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　</a:t>
            </a:r>
            <a:r>
              <a:rPr b="1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(2)_____________________________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防止</a:t>
            </a:r>
            <a:r>
              <a:rPr b="1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(1)_________________   (2)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66560" y="3925800"/>
            <a:ext cx="856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许多交通事故造成的损失与伤害</a:t>
            </a:r>
            <a:r>
              <a:rPr b="1" lang="en-US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是与物体的惯性有关的</a:t>
            </a:r>
            <a:r>
              <a:rPr b="1" lang="en-US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为了减小此类事故的再发生</a:t>
            </a:r>
            <a:r>
              <a:rPr b="1" lang="en-US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在公路交通管理中有许多要求和措施</a:t>
            </a:r>
            <a:r>
              <a:rPr b="1" lang="en-US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就你所知</a:t>
            </a:r>
            <a:r>
              <a:rPr b="1" lang="en-US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填写二条</a:t>
            </a:r>
            <a:r>
              <a:rPr b="1" lang="en-US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(1)_____________________________                      (2)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814400" y="16048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汽车进站时，关闭油门节省汽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981000" y="2108160"/>
            <a:ext cx="19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挥盆泼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908000" y="284148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小汽车司机佩带安全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116000" y="33465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跑道的终点处留有一块空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2124000" y="536580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限速行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073160" y="587052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禁止超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2946240" y="58737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拐弯时要减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3924360" y="53658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保持适当的车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5562720" y="59310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车未停稳、禁止下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2454120" y="209376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（投掷物体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685800" y="906480"/>
            <a:ext cx="8153280" cy="44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、牛顿第一定律的内容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切物体在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不受外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用时，总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保持静止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匀速直线运动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、惯性：物体保持运动状态的性质叫做惯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切物体在任何情况下都具有惯性，惯性是物体固有的属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切物体任何情况下：是否受力、是否运动、运动快慢、匀速变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、   惯性现象及解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惯性与牛顿第一运动定律的</a:t>
            </a:r>
            <a:r>
              <a:rPr b="1" i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区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惯性：物体的性质．没有任何条件，一切物体都有惯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牛顿第一定律：在不受力条件下，物体的运动规律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WordArt 3"/>
          <p:cNvSpPr txBox="1"/>
          <p:nvPr/>
        </p:nvSpPr>
        <p:spPr>
          <a:xfrm rot="5400000">
            <a:off x="-419040" y="2933640"/>
            <a:ext cx="175284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小结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685800" y="190656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关于牛顿第一定律的下列说法中，正确的是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牛顿第一定律是实验定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牛顿第一定律说明力是改变物体运动状   态的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惯性定律与惯性的实质是相同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物体的运动不需要力来维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1461600" y="236520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B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9" descr="课堂练习"/>
          <p:cNvPicPr/>
          <p:nvPr/>
        </p:nvPicPr>
        <p:blipFill>
          <a:blip r:embed="rId1"/>
          <a:stretch/>
        </p:blipFill>
        <p:spPr>
          <a:xfrm>
            <a:off x="2281320" y="914400"/>
            <a:ext cx="4195800" cy="92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77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6" dur="770" fill="hold"/>
                                        <p:tgtEl>
                                          <p:spTgt spid="3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8" dur="77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0" dur="77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304920" y="169380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关于伽利略的理想实验，说法正确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只要接触面比较光滑，物体在水平面上就能匀速运动下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这个实验实际上是永远无法做到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利用先进仪器就能使实验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虽然是想象中的实验，但它是建立在可靠的实验基础上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7950240" y="1676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B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77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770" fill="hold"/>
                                        <p:tgtEl>
                                          <p:spTgt spid="3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1" dur="77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3" dur="77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12600" y="824040"/>
            <a:ext cx="3600720" cy="3240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762120" y="205740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观察并思考下列现象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581280" y="98892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对静止的木箱施加一个水平方向的推力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木箱沿着水平方向运动。撤去推力后，木箱停了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6-1"/>
          <p:cNvPicPr/>
          <p:nvPr/>
        </p:nvPicPr>
        <p:blipFill>
          <a:blip r:embed="rId1"/>
          <a:stretch/>
        </p:blipFill>
        <p:spPr>
          <a:xfrm>
            <a:off x="3124080" y="2971800"/>
            <a:ext cx="5181840" cy="35812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685800" y="57913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推木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228600" y="1065240"/>
            <a:ext cx="83059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列关于惯性的说法中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确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物体只有在静止时才具有惯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物体运动速度越大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其惯性也越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太空中的物体没有惯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论物体运动与否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受力与否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物体都具有惯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238880" y="10350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539640" y="1413360"/>
            <a:ext cx="820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下列哪些现象是利用惯性的（     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拍打衣服时，灰尘脱离衣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司机和前排的乘客要系安全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洗完手后，用力甩掉手的水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跳远运动员起跳前要尽力助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7391520" y="1123560"/>
            <a:ext cx="106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4646"/>
                </a:solidFill>
                <a:latin typeface="Arial"/>
                <a:ea typeface="黑体"/>
              </a:rPr>
              <a:t>A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152280" y="9478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关于惯性的说法正确的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惯性是指物体原来静止的总有保持静止，原来运动的总有保持匀速直线运动的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要使物体开始运动必须有力的作用，而保持物体运动是不需要力的，故静止的物体有惯性，而运动的物体没有惯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刹车时，乘客向前倾，说明乘客上半身有惯性，而下半身无惯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某人推不动原来静止的小车，而另外一人能推动，说明惯性与外界条件有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5638680" y="915840"/>
            <a:ext cx="19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A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77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8" dur="770" fill="hold"/>
                                        <p:tgtEl>
                                          <p:spTgt spid="3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0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2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76320" y="13050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火车在平直轨道上匀速前进，在密闭没有空气流动的车厢内点燃一支香，则车里乘客看到香所冒出的烟的运动情况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一边上升一边向前飘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一边上升一边向后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只是上升，不向任何一边飘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无法确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7238880" y="241920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C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77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1" dur="770" fill="hold"/>
                                        <p:tgtEl>
                                          <p:spTgt spid="3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3" dur="77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5" dur="77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27000" y="122868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长直轨道上匀速行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坐在门窗密闭的车厢内的一人将手中的钥匙相对车竖直上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钥匙将落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手的后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手的前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落在手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无法确定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6504120" y="2525760"/>
            <a:ext cx="215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C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77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4" dur="77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6" dur="77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8" dur="77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392040" y="836640"/>
            <a:ext cx="806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果物体不受外力作用，下列说法中正确的是（   ）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静止的物体永远保持静止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 运动的物体是不会停下来的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物体的运动状态将保持不变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物体将保持匀速直线运动或静止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916560" y="1295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380880" y="3670200"/>
            <a:ext cx="860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9.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正在运动的物体，如果受到的外力突然消失，则它将（   ）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 立即停止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 速度减小，最后停止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 运动方向变为与原来相反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 做匀速直线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066680" y="4114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287280" y="855720"/>
            <a:ext cx="885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下列不属于惯性现象的是 　　　　　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)                                          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在草地上滚动的足球越滚越慢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人走路时被石头绊倒会向前倒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子弹从枪膛射出后继续在空中飞行一段距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地球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0m/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速度自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人使劲一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总是落回原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324000" y="4024440"/>
            <a:ext cx="837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下列现象中，利用物体惯性的是   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运动员百米赛跑结束后不能立即停下来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中小型汽车司机必须带上安全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锤头松了，将锤柄在地上撞击几下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熟了的苹果从树上落向地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427960" y="843120"/>
            <a:ext cx="5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7718400" y="396864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324000" y="3027240"/>
            <a:ext cx="86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一杯水放在列车内的水平桌面上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果水面突然发生了如图所示的变化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则列车的运动状态可能发生的变化是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)(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双选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)                                                        A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列车突然向右启动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列车突然向左启动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列车向右运动时突然刹车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列车向左运动是突然刹车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3"/>
          <p:cNvGrpSpPr/>
          <p:nvPr/>
        </p:nvGrpSpPr>
        <p:grpSpPr>
          <a:xfrm>
            <a:off x="6012000" y="4540320"/>
            <a:ext cx="2447640" cy="2089080"/>
            <a:chOff x="6012000" y="4540320"/>
            <a:chExt cx="2447640" cy="2089080"/>
          </a:xfrm>
        </p:grpSpPr>
        <p:sp>
          <p:nvSpPr>
            <p:cNvPr id="331" name="Oval 4"/>
            <p:cNvSpPr/>
            <p:nvPr/>
          </p:nvSpPr>
          <p:spPr>
            <a:xfrm>
              <a:off x="6372000" y="6126120"/>
              <a:ext cx="502920" cy="503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5"/>
            <p:cNvSpPr/>
            <p:nvPr/>
          </p:nvSpPr>
          <p:spPr>
            <a:xfrm>
              <a:off x="7524720" y="6126120"/>
              <a:ext cx="502920" cy="503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6"/>
            <p:cNvSpPr/>
            <p:nvPr/>
          </p:nvSpPr>
          <p:spPr>
            <a:xfrm>
              <a:off x="6012000" y="4540320"/>
              <a:ext cx="2447640" cy="1584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7"/>
            <p:cNvSpPr/>
            <p:nvPr/>
          </p:nvSpPr>
          <p:spPr>
            <a:xfrm>
              <a:off x="6732360" y="5549760"/>
              <a:ext cx="1079280" cy="142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8"/>
            <p:cNvSpPr/>
            <p:nvPr/>
          </p:nvSpPr>
          <p:spPr>
            <a:xfrm>
              <a:off x="6875280" y="5692680"/>
              <a:ext cx="72720" cy="43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9"/>
            <p:cNvSpPr/>
            <p:nvPr/>
          </p:nvSpPr>
          <p:spPr>
            <a:xfrm>
              <a:off x="7594560" y="5692680"/>
              <a:ext cx="72720" cy="43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6948360" y="5908680"/>
              <a:ext cx="647280" cy="360"/>
              <a:chOff x="6948360" y="5908680"/>
              <a:chExt cx="647280" cy="360"/>
            </a:xfrm>
          </p:grpSpPr>
          <p:sp>
            <p:nvSpPr>
              <p:cNvPr id="338" name="Line 10"/>
              <p:cNvSpPr/>
              <p:nvPr/>
            </p:nvSpPr>
            <p:spPr>
              <a:xfrm>
                <a:off x="6948360" y="5908680"/>
                <a:ext cx="64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 txBox="1"/>
              <p:nvPr/>
            </p:nvSpPr>
            <p:spPr>
              <a:xfrm>
                <a:off x="6948360" y="5908680"/>
                <a:ext cx="64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6948360" y="4829040"/>
              <a:ext cx="360" cy="719280"/>
              <a:chOff x="6948360" y="4829040"/>
              <a:chExt cx="360" cy="719280"/>
            </a:xfrm>
          </p:grpSpPr>
          <p:sp>
            <p:nvSpPr>
              <p:cNvPr id="341" name="Line 11"/>
              <p:cNvSpPr/>
              <p:nvPr/>
            </p:nvSpPr>
            <p:spPr>
              <a:xfrm>
                <a:off x="6948360" y="4829040"/>
                <a:ext cx="0" cy="7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 txBox="1"/>
              <p:nvPr/>
            </p:nvSpPr>
            <p:spPr>
              <a:xfrm>
                <a:off x="6948360" y="4829040"/>
                <a:ext cx="360" cy="71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7596000" y="4829040"/>
              <a:ext cx="360" cy="719280"/>
              <a:chOff x="7596000" y="4829040"/>
              <a:chExt cx="360" cy="719280"/>
            </a:xfrm>
          </p:grpSpPr>
          <p:sp>
            <p:nvSpPr>
              <p:cNvPr id="344" name="Line 12"/>
              <p:cNvSpPr/>
              <p:nvPr/>
            </p:nvSpPr>
            <p:spPr>
              <a:xfrm>
                <a:off x="7596000" y="4829040"/>
                <a:ext cx="0" cy="7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 txBox="1"/>
              <p:nvPr/>
            </p:nvSpPr>
            <p:spPr>
              <a:xfrm>
                <a:off x="7596000" y="4829040"/>
                <a:ext cx="360" cy="71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6948360" y="4973040"/>
              <a:ext cx="647280" cy="287640"/>
              <a:chOff x="6948360" y="4973040"/>
              <a:chExt cx="647280" cy="287640"/>
            </a:xfrm>
          </p:grpSpPr>
          <p:sp>
            <p:nvSpPr>
              <p:cNvPr id="347" name="Line 13"/>
              <p:cNvSpPr/>
              <p:nvPr/>
            </p:nvSpPr>
            <p:spPr>
              <a:xfrm flipV="1">
                <a:off x="6948360" y="4973040"/>
                <a:ext cx="647280" cy="28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 txBox="1"/>
              <p:nvPr/>
            </p:nvSpPr>
            <p:spPr>
              <a:xfrm rot="10800000">
                <a:off x="6948360" y="4973040"/>
                <a:ext cx="647280" cy="28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6948360" y="5476680"/>
              <a:ext cx="647280" cy="360"/>
              <a:chOff x="6948360" y="5476680"/>
              <a:chExt cx="647280" cy="360"/>
            </a:xfrm>
          </p:grpSpPr>
          <p:sp>
            <p:nvSpPr>
              <p:cNvPr id="350" name="Line 14"/>
              <p:cNvSpPr/>
              <p:nvPr/>
            </p:nvSpPr>
            <p:spPr>
              <a:xfrm>
                <a:off x="6948360" y="5476680"/>
                <a:ext cx="64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 txBox="1"/>
              <p:nvPr/>
            </p:nvSpPr>
            <p:spPr>
              <a:xfrm>
                <a:off x="6948360" y="5476680"/>
                <a:ext cx="64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7235640" y="5154480"/>
              <a:ext cx="360000" cy="360"/>
              <a:chOff x="7235640" y="5154480"/>
              <a:chExt cx="360000" cy="360"/>
            </a:xfrm>
          </p:grpSpPr>
          <p:sp>
            <p:nvSpPr>
              <p:cNvPr id="353" name="Line 15"/>
              <p:cNvSpPr/>
              <p:nvPr/>
            </p:nvSpPr>
            <p:spPr>
              <a:xfrm>
                <a:off x="7235640" y="5154480"/>
                <a:ext cx="36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 txBox="1"/>
              <p:nvPr/>
            </p:nvSpPr>
            <p:spPr>
              <a:xfrm>
                <a:off x="7235640" y="5154480"/>
                <a:ext cx="36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7048440" y="5246640"/>
              <a:ext cx="504360" cy="360"/>
              <a:chOff x="7048440" y="5246640"/>
              <a:chExt cx="504360" cy="360"/>
            </a:xfrm>
          </p:grpSpPr>
          <p:sp>
            <p:nvSpPr>
              <p:cNvPr id="356" name="Line 16"/>
              <p:cNvSpPr/>
              <p:nvPr/>
            </p:nvSpPr>
            <p:spPr>
              <a:xfrm>
                <a:off x="7048440" y="5246640"/>
                <a:ext cx="50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 txBox="1"/>
              <p:nvPr/>
            </p:nvSpPr>
            <p:spPr>
              <a:xfrm>
                <a:off x="7048440" y="5246640"/>
                <a:ext cx="50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948360" y="5360760"/>
              <a:ext cx="647280" cy="360"/>
              <a:chOff x="6948360" y="5360760"/>
              <a:chExt cx="647280" cy="360"/>
            </a:xfrm>
          </p:grpSpPr>
          <p:sp>
            <p:nvSpPr>
              <p:cNvPr id="359" name="Line 17"/>
              <p:cNvSpPr/>
              <p:nvPr/>
            </p:nvSpPr>
            <p:spPr>
              <a:xfrm>
                <a:off x="6948360" y="5360760"/>
                <a:ext cx="64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 txBox="1"/>
              <p:nvPr/>
            </p:nvSpPr>
            <p:spPr>
              <a:xfrm>
                <a:off x="6948360" y="5360760"/>
                <a:ext cx="64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Oval 18"/>
            <p:cNvSpPr/>
            <p:nvPr/>
          </p:nvSpPr>
          <p:spPr>
            <a:xfrm>
              <a:off x="6514920" y="6269040"/>
              <a:ext cx="21564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9"/>
            <p:cNvSpPr/>
            <p:nvPr/>
          </p:nvSpPr>
          <p:spPr>
            <a:xfrm>
              <a:off x="7667640" y="6269040"/>
              <a:ext cx="21564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Text Box 20"/>
          <p:cNvSpPr/>
          <p:nvPr/>
        </p:nvSpPr>
        <p:spPr>
          <a:xfrm>
            <a:off x="250920" y="86832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坐在汽车里的乘客若身体突然向前倾，则可能是汽车正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乘客的身体突然向后仰，则可能是汽车正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汽车向左拐弯，乘客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2987640" y="137160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减速（或刹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5651640" y="18763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加速（或启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4140360" y="237960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向右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3851280" y="41083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8199"/>
          <p:cNvSpPr/>
          <p:nvPr/>
        </p:nvSpPr>
        <p:spPr>
          <a:xfrm>
            <a:off x="574560" y="291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250920" y="669960"/>
            <a:ext cx="871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人面向前方站在一艘匀速航行的轮船的甲板上的某处竖直上跳，当他下落时应落在（   ）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原处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处的前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处的后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能确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3"/>
          <p:cNvGrpSpPr/>
          <p:nvPr/>
        </p:nvGrpSpPr>
        <p:grpSpPr>
          <a:xfrm>
            <a:off x="4716360" y="1677960"/>
            <a:ext cx="3710160" cy="1714320"/>
            <a:chOff x="4716360" y="1677960"/>
            <a:chExt cx="3710160" cy="1714320"/>
          </a:xfrm>
        </p:grpSpPr>
        <p:sp>
          <p:nvSpPr>
            <p:cNvPr id="371" name="Freeform 4"/>
            <p:cNvSpPr/>
            <p:nvPr/>
          </p:nvSpPr>
          <p:spPr>
            <a:xfrm>
              <a:off x="5340240" y="2654640"/>
              <a:ext cx="2555280" cy="400320"/>
            </a:xfrm>
            <a:custGeom>
              <a:avLst/>
              <a:gdLst/>
              <a:ahLst/>
              <a:rect l="l" t="t" r="r" b="b"/>
              <a:pathLst>
                <a:path w="1859" h="409">
                  <a:moveTo>
                    <a:pt x="0" y="0"/>
                  </a:moveTo>
                  <a:lnTo>
                    <a:pt x="1859" y="0"/>
                  </a:lnTo>
                  <a:lnTo>
                    <a:pt x="1542" y="409"/>
                  </a:lnTo>
                  <a:lnTo>
                    <a:pt x="272" y="4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6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5"/>
            <p:cNvSpPr/>
            <p:nvPr/>
          </p:nvSpPr>
          <p:spPr>
            <a:xfrm>
              <a:off x="4716360" y="2876760"/>
              <a:ext cx="3710160" cy="515520"/>
            </a:xfrm>
            <a:prstGeom prst="rect">
              <a:avLst/>
            </a:prstGeom>
            <a:solidFill>
              <a:srgbClr val="0000ec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utoShape 6"/>
            <p:cNvSpPr/>
            <p:nvPr/>
          </p:nvSpPr>
          <p:spPr>
            <a:xfrm>
              <a:off x="6650640" y="1722960"/>
              <a:ext cx="1183320" cy="87840"/>
            </a:xfrm>
            <a:prstGeom prst="rightArrow">
              <a:avLst>
                <a:gd name="adj1" fmla="val 50000"/>
                <a:gd name="adj2" fmla="val 336596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Picture 7" descr="J0285698"/>
            <p:cNvPicPr/>
            <p:nvPr/>
          </p:nvPicPr>
          <p:blipFill>
            <a:blip r:embed="rId1"/>
            <a:stretch/>
          </p:blipFill>
          <p:spPr>
            <a:xfrm>
              <a:off x="5465160" y="1677960"/>
              <a:ext cx="1242720" cy="94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Rectangle 8"/>
          <p:cNvSpPr/>
          <p:nvPr/>
        </p:nvSpPr>
        <p:spPr>
          <a:xfrm>
            <a:off x="250920" y="36226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飞机水平匀速向西飞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飞机上先后落下三个小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若不计空气阻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地面上的人看到三个小球在空中的排列位置应该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1476360" y="5133960"/>
            <a:ext cx="5976720" cy="1725120"/>
            <a:chOff x="1476360" y="5133960"/>
            <a:chExt cx="5976720" cy="1725120"/>
          </a:xfrm>
        </p:grpSpPr>
        <p:sp>
          <p:nvSpPr>
            <p:cNvPr id="377" name="Oval 10"/>
            <p:cNvSpPr/>
            <p:nvPr/>
          </p:nvSpPr>
          <p:spPr>
            <a:xfrm>
              <a:off x="1662480" y="5133960"/>
              <a:ext cx="123480" cy="10944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1"/>
            <p:cNvSpPr/>
            <p:nvPr/>
          </p:nvSpPr>
          <p:spPr>
            <a:xfrm>
              <a:off x="1664280" y="5517720"/>
              <a:ext cx="123480" cy="10944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"/>
            <p:cNvSpPr/>
            <p:nvPr/>
          </p:nvSpPr>
          <p:spPr>
            <a:xfrm>
              <a:off x="1664280" y="6010200"/>
              <a:ext cx="123480" cy="10944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3"/>
            <p:cNvSpPr/>
            <p:nvPr/>
          </p:nvSpPr>
          <p:spPr>
            <a:xfrm>
              <a:off x="3967560" y="5626440"/>
              <a:ext cx="123480" cy="10944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4"/>
            <p:cNvSpPr/>
            <p:nvPr/>
          </p:nvSpPr>
          <p:spPr>
            <a:xfrm>
              <a:off x="3407400" y="5626440"/>
              <a:ext cx="123480" cy="10944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5"/>
            <p:cNvSpPr/>
            <p:nvPr/>
          </p:nvSpPr>
          <p:spPr>
            <a:xfrm>
              <a:off x="2785680" y="5626440"/>
              <a:ext cx="123480" cy="10944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6"/>
            <p:cNvSpPr/>
            <p:nvPr/>
          </p:nvSpPr>
          <p:spPr>
            <a:xfrm>
              <a:off x="5025960" y="5243400"/>
              <a:ext cx="123480" cy="10944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7"/>
            <p:cNvSpPr/>
            <p:nvPr/>
          </p:nvSpPr>
          <p:spPr>
            <a:xfrm>
              <a:off x="5274360" y="5626440"/>
              <a:ext cx="123480" cy="10944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8"/>
            <p:cNvSpPr/>
            <p:nvPr/>
          </p:nvSpPr>
          <p:spPr>
            <a:xfrm>
              <a:off x="5524560" y="6064560"/>
              <a:ext cx="123480" cy="10980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9"/>
            <p:cNvSpPr/>
            <p:nvPr/>
          </p:nvSpPr>
          <p:spPr>
            <a:xfrm>
              <a:off x="7329600" y="5189040"/>
              <a:ext cx="123480" cy="10980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0"/>
            <p:cNvSpPr/>
            <p:nvPr/>
          </p:nvSpPr>
          <p:spPr>
            <a:xfrm>
              <a:off x="7079760" y="5627520"/>
              <a:ext cx="123480" cy="10944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1"/>
            <p:cNvSpPr/>
            <p:nvPr/>
          </p:nvSpPr>
          <p:spPr>
            <a:xfrm>
              <a:off x="6831360" y="6065640"/>
              <a:ext cx="123480" cy="10944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2"/>
            <p:cNvSpPr/>
            <p:nvPr/>
          </p:nvSpPr>
          <p:spPr>
            <a:xfrm>
              <a:off x="1476360" y="6338520"/>
              <a:ext cx="37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3"/>
            <p:cNvSpPr/>
            <p:nvPr/>
          </p:nvSpPr>
          <p:spPr>
            <a:xfrm>
              <a:off x="7079760" y="6338520"/>
              <a:ext cx="37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24"/>
            <p:cNvSpPr/>
            <p:nvPr/>
          </p:nvSpPr>
          <p:spPr>
            <a:xfrm>
              <a:off x="5212800" y="6338520"/>
              <a:ext cx="37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25"/>
            <p:cNvSpPr/>
            <p:nvPr/>
          </p:nvSpPr>
          <p:spPr>
            <a:xfrm>
              <a:off x="3157920" y="6338520"/>
              <a:ext cx="37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Text Box 26"/>
          <p:cNvSpPr/>
          <p:nvPr/>
        </p:nvSpPr>
        <p:spPr>
          <a:xfrm>
            <a:off x="8456760" y="1109520"/>
            <a:ext cx="4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7"/>
          <p:cNvSpPr/>
          <p:nvPr/>
        </p:nvSpPr>
        <p:spPr>
          <a:xfrm>
            <a:off x="6967440" y="45576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2" dur="3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250920" y="758880"/>
            <a:ext cx="869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图所示的各种现象中，物体运动状态没有改变的是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3" descr="1"/>
          <p:cNvPicPr/>
          <p:nvPr/>
        </p:nvPicPr>
        <p:blipFill>
          <a:blip r:embed="rId1"/>
          <a:stretch/>
        </p:blipFill>
        <p:spPr>
          <a:xfrm>
            <a:off x="0" y="1839960"/>
            <a:ext cx="8785080" cy="242712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4"/>
          <p:cNvSpPr/>
          <p:nvPr/>
        </p:nvSpPr>
        <p:spPr>
          <a:xfrm>
            <a:off x="395280" y="437184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节日放飞的气球下吊一物体在空中竖直向上运动的过程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气球突然破裂的瞬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体将向上运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是由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体向上运动一段距离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向下运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又是因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2344680" y="12193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1905120" y="514836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物体具有惯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4191120" y="552924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受重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7330_ss7e"/>
          <p:cNvPicPr/>
          <p:nvPr/>
        </p:nvPicPr>
        <p:blipFill>
          <a:blip r:embed="rId1"/>
          <a:stretch/>
        </p:blipFill>
        <p:spPr>
          <a:xfrm>
            <a:off x="762120" y="2514600"/>
            <a:ext cx="7696080" cy="3429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4038480" y="586728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火车进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371600" y="2849400"/>
            <a:ext cx="6112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838080" y="89856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关闭了发动机的火车，虽然继续运行，但是最后它也将停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D448-B454-4447-A9FB-2A30DE60C22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50760" y="785880"/>
            <a:ext cx="9093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小刚同学放学回家的路上，脚被石块绊了一下，身体向前跌倒（图甲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过了一会儿不小心脚踩到一块西瓜皮，身体向后摔倒（图乙），对这两种情景，下列解释合理的是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二者脚的运动状态改变，而上身由于惯性仍保持原来运动状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二者上身的运动状态改变，而脚由于惯性仍保持原来运动状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前者上身的运动状态改变，而脚由于惯性仍保持原来运动状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后者脚的运动状态改变，而上身由于惯性仍保持原来运动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前者脚的运动状态改变，而上身由于惯性仍保持原来运动状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后者上身运动状态的改变，而脚由于惯性仍保持原来的运动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3" descr="1"/>
          <p:cNvPicPr/>
          <p:nvPr/>
        </p:nvPicPr>
        <p:blipFill>
          <a:blip r:embed="rId1"/>
          <a:stretch/>
        </p:blipFill>
        <p:spPr>
          <a:xfrm>
            <a:off x="2743200" y="4572000"/>
            <a:ext cx="3505320" cy="198108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4"/>
          <p:cNvSpPr/>
          <p:nvPr/>
        </p:nvSpPr>
        <p:spPr>
          <a:xfrm>
            <a:off x="6459480" y="13716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aristotle"/>
          <p:cNvPicPr/>
          <p:nvPr/>
        </p:nvPicPr>
        <p:blipFill>
          <a:blip r:embed="rId1"/>
          <a:stretch/>
        </p:blipFill>
        <p:spPr>
          <a:xfrm>
            <a:off x="1042920" y="1020600"/>
            <a:ext cx="2681280" cy="3240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5219640" y="116532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亚里士多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826920" y="498168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力是维持物体运动的原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（没有力作用，物体就不能运动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4356000" y="2173320"/>
            <a:ext cx="43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必须有力作用在物体上，物体才能运动。不受力而一直运动的物体是不存在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6324480" y="58212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伽利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838080" y="127620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伽利略却对这种观点提出了质疑，他通过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理想实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来反驳这一观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伽利略"/>
          <p:cNvPicPr/>
          <p:nvPr/>
        </p:nvPicPr>
        <p:blipFill>
          <a:blip r:embed="rId1"/>
          <a:stretch/>
        </p:blipFill>
        <p:spPr>
          <a:xfrm>
            <a:off x="5181480" y="1020600"/>
            <a:ext cx="37134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reeform 2"/>
          <p:cNvSpPr/>
          <p:nvPr/>
        </p:nvSpPr>
        <p:spPr>
          <a:xfrm>
            <a:off x="468360" y="2189160"/>
            <a:ext cx="4386240" cy="2505240"/>
          </a:xfrm>
          <a:custGeom>
            <a:avLst/>
            <a:gdLst/>
            <a:ahLst/>
            <a:rect l="l" t="t" r="r" b="b"/>
            <a:pathLst>
              <a:path w="2763" h="1578">
                <a:moveTo>
                  <a:pt x="0" y="0"/>
                </a:moveTo>
                <a:cubicBezTo>
                  <a:pt x="229" y="262"/>
                  <a:pt x="916" y="1568"/>
                  <a:pt x="1376" y="1573"/>
                </a:cubicBezTo>
                <a:cubicBezTo>
                  <a:pt x="1836" y="1578"/>
                  <a:pt x="2474" y="350"/>
                  <a:pt x="2763" y="2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30040" y="2197080"/>
            <a:ext cx="8533080" cy="73080"/>
            <a:chOff x="230040" y="2197080"/>
            <a:chExt cx="8533080" cy="73080"/>
          </a:xfrm>
        </p:grpSpPr>
        <p:sp>
          <p:nvSpPr>
            <p:cNvPr id="138" name="Line 3"/>
            <p:cNvSpPr/>
            <p:nvPr/>
          </p:nvSpPr>
          <p:spPr>
            <a:xfrm>
              <a:off x="230040" y="2197080"/>
              <a:ext cx="8533080" cy="7308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230040" y="2197080"/>
              <a:ext cx="853308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Freeform 4"/>
          <p:cNvSpPr/>
          <p:nvPr/>
        </p:nvSpPr>
        <p:spPr>
          <a:xfrm>
            <a:off x="2700360" y="2262240"/>
            <a:ext cx="3159000" cy="2430360"/>
          </a:xfrm>
          <a:custGeom>
            <a:avLst/>
            <a:gdLst/>
            <a:ahLst/>
            <a:rect l="l" t="t" r="r" b="b"/>
            <a:pathLst>
              <a:path w="1990" h="1531">
                <a:moveTo>
                  <a:pt x="0" y="1531"/>
                </a:moveTo>
                <a:cubicBezTo>
                  <a:pt x="37" y="1525"/>
                  <a:pt x="115" y="1516"/>
                  <a:pt x="209" y="1479"/>
                </a:cubicBezTo>
                <a:cubicBezTo>
                  <a:pt x="303" y="1442"/>
                  <a:pt x="439" y="1381"/>
                  <a:pt x="563" y="1309"/>
                </a:cubicBezTo>
                <a:cubicBezTo>
                  <a:pt x="687" y="1237"/>
                  <a:pt x="792" y="1174"/>
                  <a:pt x="956" y="1047"/>
                </a:cubicBezTo>
                <a:cubicBezTo>
                  <a:pt x="1120" y="920"/>
                  <a:pt x="1346" y="710"/>
                  <a:pt x="1518" y="536"/>
                </a:cubicBezTo>
                <a:cubicBezTo>
                  <a:pt x="1690" y="362"/>
                  <a:pt x="1892" y="112"/>
                  <a:pt x="1990" y="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5"/>
          <p:cNvSpPr/>
          <p:nvPr/>
        </p:nvSpPr>
        <p:spPr>
          <a:xfrm>
            <a:off x="2722680" y="2297160"/>
            <a:ext cx="4738680" cy="2409840"/>
          </a:xfrm>
          <a:custGeom>
            <a:avLst/>
            <a:gdLst/>
            <a:ahLst/>
            <a:rect l="l" t="t" r="r" b="b"/>
            <a:pathLst>
              <a:path w="2985" h="1518">
                <a:moveTo>
                  <a:pt x="0" y="1518"/>
                </a:moveTo>
                <a:cubicBezTo>
                  <a:pt x="85" y="1505"/>
                  <a:pt x="335" y="1484"/>
                  <a:pt x="510" y="1440"/>
                </a:cubicBezTo>
                <a:cubicBezTo>
                  <a:pt x="685" y="1396"/>
                  <a:pt x="641" y="1413"/>
                  <a:pt x="1047" y="1256"/>
                </a:cubicBezTo>
                <a:cubicBezTo>
                  <a:pt x="1453" y="1099"/>
                  <a:pt x="1826" y="861"/>
                  <a:pt x="2147" y="654"/>
                </a:cubicBezTo>
                <a:cubicBezTo>
                  <a:pt x="2470" y="445"/>
                  <a:pt x="2811" y="136"/>
                  <a:pt x="2985" y="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6"/>
          <p:cNvSpPr/>
          <p:nvPr/>
        </p:nvSpPr>
        <p:spPr>
          <a:xfrm>
            <a:off x="2825640" y="4708440"/>
            <a:ext cx="6318360" cy="63720"/>
          </a:xfrm>
          <a:custGeom>
            <a:avLst/>
            <a:gdLst/>
            <a:ahLst/>
            <a:rect l="l" t="t" r="r" b="b"/>
            <a:pathLst>
              <a:path w="3980" h="40">
                <a:moveTo>
                  <a:pt x="0" y="0"/>
                </a:moveTo>
                <a:cubicBezTo>
                  <a:pt x="185" y="1"/>
                  <a:pt x="728" y="4"/>
                  <a:pt x="1124" y="8"/>
                </a:cubicBezTo>
                <a:cubicBezTo>
                  <a:pt x="1545" y="12"/>
                  <a:pt x="1941" y="17"/>
                  <a:pt x="2375" y="23"/>
                </a:cubicBezTo>
                <a:cubicBezTo>
                  <a:pt x="2851" y="28"/>
                  <a:pt x="3646" y="37"/>
                  <a:pt x="3980" y="4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539640" y="1901880"/>
            <a:ext cx="503280" cy="504720"/>
          </a:xfrm>
          <a:prstGeom prst="ellipse">
            <a:avLst/>
          </a:prstGeom>
          <a:solidFill>
            <a:srgbClr val="00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539640" y="1901880"/>
            <a:ext cx="503280" cy="504720"/>
          </a:xfrm>
          <a:prstGeom prst="ellipse">
            <a:avLst/>
          </a:prstGeom>
          <a:solidFill>
            <a:srgbClr val="00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539640" y="1901880"/>
            <a:ext cx="503280" cy="504720"/>
          </a:xfrm>
          <a:prstGeom prst="ellipse">
            <a:avLst/>
          </a:prstGeom>
          <a:solidFill>
            <a:srgbClr val="00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0"/>
          <p:cNvSpPr/>
          <p:nvPr/>
        </p:nvSpPr>
        <p:spPr>
          <a:xfrm>
            <a:off x="539640" y="1901880"/>
            <a:ext cx="503280" cy="504720"/>
          </a:xfrm>
          <a:prstGeom prst="ellipse">
            <a:avLst/>
          </a:prstGeom>
          <a:solidFill>
            <a:srgbClr val="00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250920" y="182880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1676520" y="4784760"/>
            <a:ext cx="51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物体的运动不需要力来维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1835280" y="1219320"/>
            <a:ext cx="62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伽利略理想斜面实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152280" y="71604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伽利略的观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685800" y="53341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运动物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如果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不受其它物体的作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其运动会是匀速的，而且将会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永远运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下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44444E-006 L 0.01354 0.0456 L 0.06354 0.13287 L 0.10451 0.20856 L 0.16128 0.29953 L 0.20677 0.33287 L 0.25226 0.31481 L 0.28628 0.26319 L 0.32257 0.19953 L 0.36128 0.12384 L 0.39982 0.05115 L 0.42031 0.01157 E">
                                      <p:cBhvr>
                                        <p:cTn id="66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44444E-006 L 0.01805 0.05717 L 0.0908 0.19652 L 0.17482 0.31481 L 0.22031 0.33287 L 0.25226 0.33287 L 0.32257 0.27824 L 0.38403 0.21481 L 0.42951 0.16319 L 0.47031 0.09953 L 0.50677 0.0449 L 0.52951 0.00856 E">
                                      <p:cBhvr>
                                        <p:cTn id="75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44444E-006 L 0.02726 0.08194 L 0.08871 0.18796 L 0.15694 0.28796 L 0.21771 0.33888 L 0.25903 0.34189 L 0.34982 0.30856 L 0.42257 0.27222 L 0.54739 0.1662 L 0.62239 0.09351 L 0.69305 0.01157 E">
                                      <p:cBhvr>
                                        <p:cTn id="84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7037E-007 L 0.01372 0.06968 L 0.07274 0.16991 L 0.125 0.25185 L 0.19323 0.32176 L 0.25677 0.34236 L 0.3974 0.34537 L 0.78629 0.34861 L 0.9658 0.35463 E">
                                      <p:cBhvr>
                                        <p:cTn id="93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/>
          <p:cNvSpPr/>
          <p:nvPr/>
        </p:nvSpPr>
        <p:spPr>
          <a:xfrm>
            <a:off x="5364000" y="1143000"/>
            <a:ext cx="3313440" cy="1494000"/>
          </a:xfrm>
          <a:prstGeom prst="cloudCallout">
            <a:avLst>
              <a:gd name="adj1" fmla="val 41949"/>
              <a:gd name="adj2" fmla="val 96333"/>
            </a:avLst>
          </a:prstGeom>
          <a:solidFill>
            <a:srgbClr val="08080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黑体"/>
              </a:rPr>
              <a:t>物体的运动不需要靠力来维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xin_a4dc8694fcaf46289df5f9251cb40399"/>
          <p:cNvPicPr/>
          <p:nvPr/>
        </p:nvPicPr>
        <p:blipFill>
          <a:blip r:embed="rId1"/>
          <a:stretch/>
        </p:blipFill>
        <p:spPr>
          <a:xfrm>
            <a:off x="6443640" y="3213000"/>
            <a:ext cx="2700360" cy="31687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3429000" y="3809880"/>
            <a:ext cx="28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Verdana"/>
                <a:ea typeface="隶书"/>
              </a:rPr>
              <a:t>两种说法哪个是正确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006"/>
          <p:cNvPicPr/>
          <p:nvPr/>
        </p:nvPicPr>
        <p:blipFill>
          <a:blip r:embed="rId2"/>
          <a:stretch/>
        </p:blipFill>
        <p:spPr>
          <a:xfrm>
            <a:off x="468360" y="3186000"/>
            <a:ext cx="2833560" cy="36720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6"/>
          <p:cNvSpPr/>
          <p:nvPr/>
        </p:nvSpPr>
        <p:spPr>
          <a:xfrm>
            <a:off x="457200" y="990720"/>
            <a:ext cx="4105440" cy="1757160"/>
          </a:xfrm>
          <a:prstGeom prst="cloudCallout">
            <a:avLst>
              <a:gd name="adj1" fmla="val -268"/>
              <a:gd name="adj2" fmla="val 91101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华文行楷"/>
              </a:rPr>
              <a:t>力是维持物体运动的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2T09:25:3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6:20Z</dcterms:modified>
  <cp:revision>3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