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23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7.wmf" ContentType="image/x-wmf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2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8362950" cy="12341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6509-9AFC-4A71-8D19-EEDCEB878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6BC9-E1C9-4BD8-AFEC-F50FA4799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042C-9BC3-4068-A6C7-5B636AA5B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4B48-AADA-44BD-BA17-8D0E6FF8D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1969-9545-4566-9780-F45495F50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A3CA-0533-4556-8148-964B2D2E4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B08E-3DAD-42D2-9DD6-350E0891F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F395-ED48-4474-808C-BA7EB0D0F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7A04-51CB-46AD-98B5-12DA53C5E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F0E5-52A4-4DE5-A6F6-A6050A37E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6ED4-97F6-47BE-8188-30AF0D87D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C5DE-D4C5-40CF-9A76-85827E6D3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hyperlink" Target="../../../&#20154;&#25945;&#20061;&#29289;&#65288;&#20840;&#65289;&#30446;&#24405;&#65314;.ppt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按扭5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8464680" y="6581880"/>
            <a:ext cx="679320" cy="2761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按扭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097680" y="6581880"/>
            <a:ext cx="679320" cy="27612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1" descr="按扭3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7664400" y="6581880"/>
            <a:ext cx="679680" cy="276120"/>
          </a:xfrm>
          <a:prstGeom prst="rect">
            <a:avLst/>
          </a:prstGeom>
          <a:ln w="0">
            <a:noFill/>
          </a:ln>
        </p:spPr>
      </p:pic>
      <p:pic>
        <p:nvPicPr>
          <p:cNvPr id="3" name="Picture 23" descr="按扭2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6877080" y="6581880"/>
            <a:ext cx="681120" cy="276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F2360-B908-489D-90BA-DCB880C07DB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.png"/><Relationship Id="rId4" Type="http://schemas.openxmlformats.org/officeDocument/2006/relationships/hyperlink" Target="../../../&#20154;&#25945;&#20061;&#29289;&#65288;&#20840;&#65289;&#30446;&#24405;&#65314;.ppt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WordArt 2"/>
          <p:cNvSpPr txBox="1"/>
          <p:nvPr/>
        </p:nvSpPr>
        <p:spPr>
          <a:xfrm>
            <a:off x="1209600" y="1844640"/>
            <a:ext cx="6912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第三节 能量的转化和守恒</a:t>
            </a:r>
            <a:r>
              <a:rPr b="1" lang="en-US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PPT</a:t>
            </a: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课件打包下载</a:t>
            </a:r>
            <a:endParaRPr b="1" lang="en-US" sz="4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2" name="文本框 6155"/>
          <p:cNvSpPr/>
          <p:nvPr/>
        </p:nvSpPr>
        <p:spPr>
          <a:xfrm>
            <a:off x="81000" y="598644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2093760" y="692280"/>
            <a:ext cx="43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掉在地上的弹性小球为什么越跳越低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1187280" y="5589720"/>
            <a:ext cx="51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提示：点击按钮开始实验演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ShockwaveFlash1" descr=""/>
          <p:cNvPicPr/>
          <p:nvPr/>
        </p:nvPicPr>
        <p:blipFill>
          <a:blip r:embed="rId1"/>
          <a:stretch/>
        </p:blipFill>
        <p:spPr>
          <a:xfrm>
            <a:off x="971640" y="1484280"/>
            <a:ext cx="712764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468360" y="2422440"/>
            <a:ext cx="820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杯放在桌上的热水冷却，此过程有能的转化吗？热水的热能消失了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WordArt 3"/>
          <p:cNvSpPr txBox="1"/>
          <p:nvPr/>
        </p:nvSpPr>
        <p:spPr>
          <a:xfrm>
            <a:off x="539640" y="1773360"/>
            <a:ext cx="1511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行楷"/>
              </a:rPr>
              <a:t>分析思考：</a:t>
            </a:r>
            <a:endParaRPr b="1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468360" y="365904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电风扇工作时，消耗的电能与电动机获得的机械能相等吗？那其余的电能哪里去了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468360" y="4883040"/>
            <a:ext cx="820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国有句俗语：“既要马儿跑，又要马儿不吃草。”你认为这可能吗？为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WordArt 6"/>
          <p:cNvSpPr txBox="1"/>
          <p:nvPr/>
        </p:nvSpPr>
        <p:spPr>
          <a:xfrm>
            <a:off x="539640" y="907920"/>
            <a:ext cx="7632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华文行楷"/>
              </a:rPr>
              <a:t>你能告诉我小球的机械能哪儿去了吗？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华文行楷"/>
              <a:ea typeface="华文行楷"/>
            </a:endParaRPr>
          </a:p>
        </p:txBody>
      </p:sp>
      <p:sp>
        <p:nvSpPr>
          <p:cNvPr id="121" name="文本框 8199"/>
          <p:cNvSpPr/>
          <p:nvPr/>
        </p:nvSpPr>
        <p:spPr>
          <a:xfrm>
            <a:off x="2303640" y="1928880"/>
            <a:ext cx="4536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4244760" y="578520"/>
            <a:ext cx="58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二、能量守恒定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395280" y="2076120"/>
            <a:ext cx="81979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能量既不会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消灭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也不会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创生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它只会从一种形式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转化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为其他形式，或者从一个物体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转移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到另一个物体，而在转化和转移的过程中，能量的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总量保持不变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324000" y="3174840"/>
            <a:ext cx="8351640" cy="17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种能增加，总伴随着另一种形式能减少或者另一物体转移而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该定律是大量实验事实得出，是人们对自然现象长期观察和研究的科学总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是自然界最普遍、最重要的基本定律之一，是人们认识自然和改造自然的重要科学依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826920" y="2685600"/>
            <a:ext cx="75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933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年意大利科学家费米，在研究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衰变的过程中发现，能量不守恒。于是他根据能量守恒定律大胆预言了还有一种未发现的粒子，这就是现在已被科学界公认的中微子。这一事例说明了能明守恒定律已成为人类认识自然的重要依据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987280" y="620280"/>
            <a:ext cx="237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永动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3" descr="永动机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1835280" y="1557360"/>
            <a:ext cx="6049800" cy="38163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8"/>
          <p:cNvSpPr/>
          <p:nvPr/>
        </p:nvSpPr>
        <p:spPr>
          <a:xfrm>
            <a:off x="2843280" y="5502240"/>
            <a:ext cx="37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芬奇的永动机模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三、无法实现的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永动机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永动机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：不消耗任何能量和燃料，却源源不断对外做功的机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由能量守恒定律知：无法实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工程技术的任务，在于设法找出合理利用能源的途径，并减少机器运转过程中不必要的能量损耗，而不是去研制永远无法实现的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永动机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1549440" y="1628640"/>
            <a:ext cx="500544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指出下列现象中能量的转化或转移情况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植物的光合作用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雨天时发生雷电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人在跑步时，身体发热出汗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4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手摇发电机发电使灯泡发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4718880" y="249228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光能转化为化学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4728960" y="2924280"/>
            <a:ext cx="237528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电能变为声能和光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6360480" y="38606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化学能转化为内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1951200" y="5111640"/>
            <a:ext cx="505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机械能转化为电能，电能又转化为内能、光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203640" y="765000"/>
            <a:ext cx="23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练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181080" y="1557360"/>
            <a:ext cx="8820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牛顿第一运动定律是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基础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经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而得出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能的转化与守恒定律是在人们大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基础上得出归纳总结出来的一个普遍适用的规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0" y="3630600"/>
            <a:ext cx="914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地热是一种新能源，怎样利用地热，还是下在探索的一个重大课题。地热发电过程中的能量转化可用下图表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           ）能            （          ）能         （          ）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4"/>
          <p:cNvGrpSpPr/>
          <p:nvPr/>
        </p:nvGrpSpPr>
        <p:grpSpPr>
          <a:xfrm>
            <a:off x="2340000" y="4653000"/>
            <a:ext cx="1582560" cy="432000"/>
            <a:chOff x="2340000" y="4653000"/>
            <a:chExt cx="1582560" cy="432000"/>
          </a:xfrm>
        </p:grpSpPr>
        <p:grpSp>
          <p:nvGrpSpPr>
            <p:cNvPr id="139" name=""/>
            <p:cNvGrpSpPr/>
            <p:nvPr/>
          </p:nvGrpSpPr>
          <p:grpSpPr>
            <a:xfrm>
              <a:off x="2410920" y="5084640"/>
              <a:ext cx="1008000" cy="360"/>
              <a:chOff x="2410920" y="5084640"/>
              <a:chExt cx="1008000" cy="360"/>
            </a:xfrm>
          </p:grpSpPr>
          <p:sp>
            <p:nvSpPr>
              <p:cNvPr id="140" name="Line 5"/>
              <p:cNvSpPr/>
              <p:nvPr/>
            </p:nvSpPr>
            <p:spPr>
              <a:xfrm>
                <a:off x="2410920" y="5084640"/>
                <a:ext cx="1008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 txBox="1"/>
              <p:nvPr/>
            </p:nvSpPr>
            <p:spPr>
              <a:xfrm>
                <a:off x="2410920" y="5084640"/>
                <a:ext cx="1008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Text Box 6"/>
            <p:cNvSpPr/>
            <p:nvPr/>
          </p:nvSpPr>
          <p:spPr>
            <a:xfrm>
              <a:off x="2340000" y="4653000"/>
              <a:ext cx="158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汽轮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Group 7"/>
          <p:cNvGrpSpPr/>
          <p:nvPr/>
        </p:nvGrpSpPr>
        <p:grpSpPr>
          <a:xfrm>
            <a:off x="5580000" y="4724280"/>
            <a:ext cx="1079640" cy="368280"/>
            <a:chOff x="5580000" y="4724280"/>
            <a:chExt cx="1079640" cy="368280"/>
          </a:xfrm>
        </p:grpSpPr>
        <p:sp>
          <p:nvSpPr>
            <p:cNvPr id="144" name="Text Box 8"/>
            <p:cNvSpPr/>
            <p:nvPr/>
          </p:nvSpPr>
          <p:spPr>
            <a:xfrm>
              <a:off x="5580000" y="4724280"/>
              <a:ext cx="107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发电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"/>
            <p:cNvGrpSpPr/>
            <p:nvPr/>
          </p:nvGrpSpPr>
          <p:grpSpPr>
            <a:xfrm>
              <a:off x="5633640" y="5084640"/>
              <a:ext cx="593640" cy="360"/>
              <a:chOff x="5633640" y="5084640"/>
              <a:chExt cx="593640" cy="360"/>
            </a:xfrm>
          </p:grpSpPr>
          <p:sp>
            <p:nvSpPr>
              <p:cNvPr id="146" name="Line 9"/>
              <p:cNvSpPr/>
              <p:nvPr/>
            </p:nvSpPr>
            <p:spPr>
              <a:xfrm>
                <a:off x="5633640" y="5084640"/>
                <a:ext cx="593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 txBox="1"/>
              <p:nvPr/>
            </p:nvSpPr>
            <p:spPr>
              <a:xfrm>
                <a:off x="5633640" y="5084640"/>
                <a:ext cx="593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8" name="Text Box 10"/>
          <p:cNvSpPr/>
          <p:nvPr/>
        </p:nvSpPr>
        <p:spPr>
          <a:xfrm>
            <a:off x="4213080" y="1484280"/>
            <a:ext cx="115272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实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1"/>
          <p:cNvSpPr/>
          <p:nvPr/>
        </p:nvSpPr>
        <p:spPr>
          <a:xfrm>
            <a:off x="108000" y="2011320"/>
            <a:ext cx="2376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概括、推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2"/>
          <p:cNvSpPr/>
          <p:nvPr/>
        </p:nvSpPr>
        <p:spPr>
          <a:xfrm>
            <a:off x="757080" y="2587680"/>
            <a:ext cx="18734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事实证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3"/>
          <p:cNvSpPr/>
          <p:nvPr/>
        </p:nvSpPr>
        <p:spPr>
          <a:xfrm>
            <a:off x="611280" y="47242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地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4"/>
          <p:cNvSpPr/>
          <p:nvPr/>
        </p:nvSpPr>
        <p:spPr>
          <a:xfrm>
            <a:off x="3851280" y="465300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机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5"/>
          <p:cNvSpPr/>
          <p:nvPr/>
        </p:nvSpPr>
        <p:spPr>
          <a:xfrm>
            <a:off x="6804000" y="472428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0"/>
          <p:cNvSpPr/>
          <p:nvPr/>
        </p:nvSpPr>
        <p:spPr>
          <a:xfrm>
            <a:off x="3348000" y="692280"/>
            <a:ext cx="230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练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1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读图：讲述能量的故事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179280" y="4578480"/>
            <a:ext cx="8640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各图名称的顺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太阳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—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树木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—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燃煤电厂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—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剃须刀（正在充电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能量转化的顺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光能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—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化学能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—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内能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—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电能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—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化学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9" descr="图片1"/>
          <p:cNvPicPr/>
          <p:nvPr/>
        </p:nvPicPr>
        <p:blipFill>
          <a:blip r:embed="rId1"/>
          <a:stretch/>
        </p:blipFill>
        <p:spPr>
          <a:xfrm>
            <a:off x="264960" y="1557360"/>
            <a:ext cx="8614080" cy="28796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10"/>
          <p:cNvSpPr/>
          <p:nvPr/>
        </p:nvSpPr>
        <p:spPr>
          <a:xfrm>
            <a:off x="826920" y="400536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树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1"/>
          <p:cNvSpPr/>
          <p:nvPr/>
        </p:nvSpPr>
        <p:spPr>
          <a:xfrm>
            <a:off x="2914560" y="400536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太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2"/>
          <p:cNvSpPr/>
          <p:nvPr/>
        </p:nvSpPr>
        <p:spPr>
          <a:xfrm>
            <a:off x="5219640" y="386064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燃煤电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3"/>
          <p:cNvSpPr/>
          <p:nvPr/>
        </p:nvSpPr>
        <p:spPr>
          <a:xfrm>
            <a:off x="6877080" y="3789360"/>
            <a:ext cx="2087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剃须刀（正在充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读图：讲述能量的故事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324000" y="5003640"/>
            <a:ext cx="860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各图名称的顺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太阳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—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小麦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—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人（进食）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—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自行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能量转化的顺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光能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—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化学能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—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生物能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—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机械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10" descr="图片2"/>
          <p:cNvPicPr/>
          <p:nvPr/>
        </p:nvPicPr>
        <p:blipFill>
          <a:blip r:embed="rId1"/>
          <a:stretch/>
        </p:blipFill>
        <p:spPr>
          <a:xfrm>
            <a:off x="388800" y="1557360"/>
            <a:ext cx="8575920" cy="309564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11"/>
          <p:cNvSpPr/>
          <p:nvPr/>
        </p:nvSpPr>
        <p:spPr>
          <a:xfrm>
            <a:off x="971640" y="4292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小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2"/>
          <p:cNvSpPr/>
          <p:nvPr/>
        </p:nvSpPr>
        <p:spPr>
          <a:xfrm>
            <a:off x="3132000" y="42861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人（进食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3"/>
          <p:cNvSpPr/>
          <p:nvPr/>
        </p:nvSpPr>
        <p:spPr>
          <a:xfrm>
            <a:off x="5869080" y="414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太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7813800" y="407664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自行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VIEW-jpg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4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99F77-29EE-4D43-A862-6A7450FA12D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9" descr="蝶"/>
          <p:cNvPicPr/>
          <p:nvPr/>
        </p:nvPicPr>
        <p:blipFill>
          <a:blip r:embed="rId1"/>
          <a:stretch/>
        </p:blipFill>
        <p:spPr>
          <a:xfrm>
            <a:off x="0" y="0"/>
            <a:ext cx="9144000" cy="6308640"/>
          </a:xfrm>
          <a:prstGeom prst="rect">
            <a:avLst/>
          </a:prstGeom>
          <a:ln w="0">
            <a:noFill/>
          </a:ln>
        </p:spPr>
      </p:pic>
      <p:sp>
        <p:nvSpPr>
          <p:cNvPr id="175" name="WordArt 10"/>
          <p:cNvSpPr txBox="1"/>
          <p:nvPr/>
        </p:nvSpPr>
        <p:spPr>
          <a:xfrm>
            <a:off x="3203640" y="1557360"/>
            <a:ext cx="367200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cap="sq"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再　见！</a:t>
            </a:r>
            <a:endParaRPr b="0" lang="en-US" sz="5400" spc="1" strike="noStrike">
              <a:ln cap="sq"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76" name="听海.wma" descr=""/>
          <p:cNvPicPr/>
          <p:nvPr/>
        </p:nvPicPr>
        <p:blipFill>
          <a:blip r:embed="rId2"/>
          <a:stretch/>
        </p:blipFill>
        <p:spPr>
          <a:xfrm>
            <a:off x="8228160" y="57164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按扭5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8464680" y="6581880"/>
            <a:ext cx="679320" cy="2761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0" descr="按扭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856560" y="6581880"/>
            <a:ext cx="679320" cy="2761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3" descr="按扭2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7635960" y="6581880"/>
            <a:ext cx="681120" cy="2761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8" dur="500" autoRev="1" fill="hold"/>
                                        <p:tgtEl>
                                          <p:spTgt spid="1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59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0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1" dur="1000" autoRev="1" fill="hold"/>
                                        <p:tgtEl>
                                          <p:spTgt spid="1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62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3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4" dur="1000" autoRev="1" fill="hold"/>
                                        <p:tgtEl>
                                          <p:spTgt spid="1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6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7" dur="307223" fill="hold"/>
                                        <p:tgtEl>
                                          <p:spTgt spid="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1568160" y="2133000"/>
            <a:ext cx="393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自然界中能量的各种形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1892160" y="4155480"/>
            <a:ext cx="560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问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各种形式的能之间是否可以相互转化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579960" y="30751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电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2111040" y="30751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机械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3964320" y="31478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内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5548680" y="31478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光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7295760" y="31478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化学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3"/>
          <p:cNvSpPr/>
          <p:nvPr/>
        </p:nvSpPr>
        <p:spPr>
          <a:xfrm>
            <a:off x="2771640" y="836640"/>
            <a:ext cx="367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一、能的转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7"/>
          <p:cNvPicPr/>
          <p:nvPr/>
        </p:nvPicPr>
        <p:blipFill>
          <a:blip r:embed="rId1"/>
          <a:stretch/>
        </p:blipFill>
        <p:spPr>
          <a:xfrm>
            <a:off x="250920" y="907920"/>
            <a:ext cx="4311720" cy="4248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图片1"/>
          <p:cNvPicPr/>
          <p:nvPr/>
        </p:nvPicPr>
        <p:blipFill>
          <a:blip r:embed="rId2"/>
          <a:stretch/>
        </p:blipFill>
        <p:spPr>
          <a:xfrm>
            <a:off x="4716360" y="907920"/>
            <a:ext cx="4229280" cy="4608720"/>
          </a:xfrm>
          <a:prstGeom prst="rect">
            <a:avLst/>
          </a:prstGeom>
          <a:ln w="0">
            <a:noFill/>
          </a:ln>
        </p:spPr>
      </p:pic>
      <p:sp>
        <p:nvSpPr>
          <p:cNvPr id="94" name="Text Box 9"/>
          <p:cNvSpPr/>
          <p:nvPr/>
        </p:nvSpPr>
        <p:spPr>
          <a:xfrm>
            <a:off x="2556000" y="537372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人的化学能转化为机械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8199"/>
          <p:cNvSpPr/>
          <p:nvPr/>
        </p:nvSpPr>
        <p:spPr>
          <a:xfrm>
            <a:off x="1536840" y="5731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VIEW-jpg2"/>
          <p:cNvPicPr/>
          <p:nvPr/>
        </p:nvPicPr>
        <p:blipFill>
          <a:blip r:embed="rId1"/>
          <a:stretch/>
        </p:blipFill>
        <p:spPr>
          <a:xfrm>
            <a:off x="3780000" y="549360"/>
            <a:ext cx="4895640" cy="27144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VIEW-jpg4"/>
          <p:cNvPicPr/>
          <p:nvPr/>
        </p:nvPicPr>
        <p:blipFill>
          <a:blip r:embed="rId2"/>
          <a:stretch/>
        </p:blipFill>
        <p:spPr>
          <a:xfrm>
            <a:off x="3924360" y="3357720"/>
            <a:ext cx="4751280" cy="2763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图片1"/>
          <p:cNvPicPr/>
          <p:nvPr/>
        </p:nvPicPr>
        <p:blipFill>
          <a:blip r:embed="rId3"/>
          <a:stretch/>
        </p:blipFill>
        <p:spPr>
          <a:xfrm>
            <a:off x="0" y="549360"/>
            <a:ext cx="3780000" cy="5759280"/>
          </a:xfrm>
          <a:prstGeom prst="rect">
            <a:avLst/>
          </a:prstGeom>
          <a:ln w="0">
            <a:noFill/>
          </a:ln>
        </p:spPr>
      </p:pic>
      <p:sp>
        <p:nvSpPr>
          <p:cNvPr id="99" name="Text Box 10"/>
          <p:cNvSpPr/>
          <p:nvPr/>
        </p:nvSpPr>
        <p:spPr>
          <a:xfrm>
            <a:off x="0" y="5589720"/>
            <a:ext cx="38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来自太阳的能被转化，储存在煤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3" descr="VIEW-jpg5"/>
          <p:cNvPicPr/>
          <p:nvPr/>
        </p:nvPicPr>
        <p:blipFill>
          <a:blip r:embed="rId1"/>
          <a:stretch/>
        </p:blipFill>
        <p:spPr>
          <a:xfrm>
            <a:off x="250920" y="1628640"/>
            <a:ext cx="4356000" cy="3745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图片1"/>
          <p:cNvPicPr/>
          <p:nvPr/>
        </p:nvPicPr>
        <p:blipFill>
          <a:blip r:embed="rId2"/>
          <a:stretch/>
        </p:blipFill>
        <p:spPr>
          <a:xfrm>
            <a:off x="4643280" y="1700280"/>
            <a:ext cx="4500720" cy="432108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1"/>
          <p:cNvSpPr/>
          <p:nvPr/>
        </p:nvSpPr>
        <p:spPr>
          <a:xfrm>
            <a:off x="2987640" y="83664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内能转化成机械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VIEW-jpg"/>
          <p:cNvPicPr/>
          <p:nvPr/>
        </p:nvPicPr>
        <p:blipFill>
          <a:blip r:embed="rId1"/>
          <a:stretch/>
        </p:blipFill>
        <p:spPr>
          <a:xfrm>
            <a:off x="468360" y="1557360"/>
            <a:ext cx="4248000" cy="3860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图片2"/>
          <p:cNvPicPr/>
          <p:nvPr/>
        </p:nvPicPr>
        <p:blipFill>
          <a:blip r:embed="rId2"/>
          <a:stretch/>
        </p:blipFill>
        <p:spPr>
          <a:xfrm>
            <a:off x="4788000" y="1557360"/>
            <a:ext cx="3986280" cy="43196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0"/>
          <p:cNvSpPr/>
          <p:nvPr/>
        </p:nvSpPr>
        <p:spPr>
          <a:xfrm>
            <a:off x="1763640" y="76500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快速的化学反应能使烟火冲上天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541440" y="54936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各种形式的能之间可以相互转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68360" y="1125360"/>
            <a:ext cx="49068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锯木头，锯条发热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气体膨胀做功，温度降低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水轮机带动发电机发电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电动机带动水泵转动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电流通过灯丝使灯丝发光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煤燃烧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光合作用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原子能发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压缩气体做功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给蓄电池充电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5148360" y="1052640"/>
            <a:ext cx="39956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（机械能         内能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（内能        机械能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（机械能        电能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（电能         机械能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（电能    内能   光能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（化学能      内能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（光能        化学能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（核能   内能   电能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（机械能        内能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（电能           化学能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3380040" y="691560"/>
            <a:ext cx="170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能量可以从一个物体转移到另一个物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287280" y="1419840"/>
            <a:ext cx="8856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机械能从一个物体转移到另一个物体的实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两小球相撞，使静止的小球具有了初速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电能从一个物体转移到另一个物体的实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发电机发电使电灯发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内能从一个物体转移到另一个物体的实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靠近火炉取暖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179280" y="5296680"/>
            <a:ext cx="87138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一定条件下，各种形式的能量可以相互转化和转移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245520" y="4456080"/>
            <a:ext cx="9122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结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0T23:49:45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9:00:06Z</dcterms:modified>
  <cp:revision>13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