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6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17.png" ContentType="image/png"/>
  <Override PartName="/ppt/media/type.wav" ContentType="audio/x-wav"/>
  <Override PartName="/ppt/media/image16.png" ContentType="image/png"/>
  <Override PartName="/ppt/media/whoosh.wav" ContentType="audio/x-wav"/>
  <Override PartName="/ppt/media/image8.png" ContentType="image/png"/>
  <Override PartName="/ppt/media/image13.png" ContentType="image/png"/>
  <Override PartName="/ppt/media/image10.gif" ContentType="image/gif"/>
  <Override PartName="/ppt/media/image24.jpeg" ContentType="image/jpeg"/>
  <Override PartName="/ppt/media/image25.jpeg" ContentType="image/jpeg"/>
  <Override PartName="/ppt/media/image26.jpeg" ContentType="image/jpeg"/>
  <Override PartName="/ppt/media/image3.gif" ContentType="image/gif"/>
  <Override PartName="/ppt/media/music.wav" ContentType="audio/x-wav"/>
  <Override PartName="/ppt/media/image14.png" ContentType="image/png"/>
  <Override PartName="/ppt/media/image9.jpeg" ContentType="image/jpeg"/>
  <Override PartName="/ppt/media/image11.png" ContentType="image/png"/>
  <Override PartName="/ppt/media/image23.jpeg" ContentType="image/jpeg"/>
  <Override PartName="/ppt/media/image12.png" ContentType="image/png"/>
  <Override PartName="/ppt/media/image15.jpeg" ContentType="image/jpeg"/>
  <Override PartName="/ppt/media/image18.gif" ContentType="image/gif"/>
  <Override PartName="/ppt/media/image19.gif" ContentType="image/gif"/>
  <Override PartName="/ppt/media/click.wav" ContentType="audio/x-wav"/>
  <Override PartName="/ppt/media/image5.png" ContentType="image/png"/>
  <Override PartName="/ppt/media/applause.wav" ContentType="audio/x-wav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BA2-562E-40F0-9203-D54D68C2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47A-097F-41C6-BBA9-94CB75C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7E3-E0C4-4B20-B8F8-EFC89C19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81F-18C4-4954-B0E8-F057F48E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4599-D414-4404-A854-FC38BBAD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B3EE-CED9-4A25-A827-DC70F8B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894-31A8-4F06-B0E8-16E5DC7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4E7-F536-4834-9E40-402A970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9503-1121-4103-85D7-F5B8B1B2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90CA-4896-4DD8-9931-C775CC02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2BA-8FDF-40CB-92B0-CFC8263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AE9-78D9-4784-AF17-BB8A2B09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CCA-E6B2-4700-B800-ED0950F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5898-C515-48C5-99BB-2923D81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997-135B-4BE6-875B-1382164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915-5BC0-46EA-BBDD-55179793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6B0A-32BF-4FA7-B8C3-F4FCF0CF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BD3-1784-4D7A-9A1D-62FDA09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8DC-C1FF-486B-9CCF-6E69C95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882-986B-4F42-8785-C46A5744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601-3CA3-4906-A8D9-8CBC0499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7CD-63FD-4AE1-85D5-9FBABE4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983-95FB-45D2-9966-8EECD63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805-FDD5-40E7-A8D2-6480B34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1D65-0FE1-431F-B884-AF8BB355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AE96-D15F-4B54-A1E7-DCC6443C25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724040" y="2205000"/>
            <a:ext cx="51292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内能课件</a:t>
            </a:r>
            <a:r>
              <a:rPr b="0" lang="en-US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模板免费下载</a:t>
            </a:r>
            <a:endParaRPr b="0" lang="en-US" sz="4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413712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十三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538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切物体都有内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443640" cy="468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北极海域上的冰山"/>
          <p:cNvPicPr/>
          <p:nvPr/>
        </p:nvPicPr>
        <p:blipFill>
          <a:blip r:embed="rId2"/>
          <a:stretch/>
        </p:blipFill>
        <p:spPr>
          <a:xfrm>
            <a:off x="1662120" y="1052640"/>
            <a:ext cx="7086600" cy="403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9"/>
          <p:cNvSpPr/>
          <p:nvPr/>
        </p:nvSpPr>
        <p:spPr>
          <a:xfrm>
            <a:off x="-116640" y="1197000"/>
            <a:ext cx="1399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物体具有内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684360" y="602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猜一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内能的大小可能跟哪些因素有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判断下列说法是否正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213336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物体温度升高，内能增加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小杯水和一大桶水，温度相同，内能相同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一定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内能小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体的内能也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在地面上静止的物体，它不具有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形式的能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物体运动的速度越快，内能越大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588000" y="206064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84360" y="3213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7020000" y="37162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5435640" y="4365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203640" y="55166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6948360" y="60958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2700360" y="189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兔  类 6"/>
          <p:cNvPicPr/>
          <p:nvPr/>
        </p:nvPicPr>
        <p:blipFill>
          <a:blip r:embed="rId1"/>
          <a:stretch/>
        </p:blipFill>
        <p:spPr>
          <a:xfrm>
            <a:off x="0" y="0"/>
            <a:ext cx="1143000" cy="170352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>
            <a:off x="1187280" y="0"/>
            <a:ext cx="1152720" cy="765000"/>
          </a:xfrm>
          <a:prstGeom prst="wedgeEllipseCallout">
            <a:avLst>
              <a:gd name="adj1" fmla="val -56273"/>
              <a:gd name="adj2" fmla="val 798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请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8200"/>
          <p:cNvSpPr/>
          <p:nvPr/>
        </p:nvSpPr>
        <p:spPr>
          <a:xfrm>
            <a:off x="2355840" y="861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想想议议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395280" y="2924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来改变物体的内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0" y="371628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温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内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实例有哪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250920" y="4762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物体内能的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304920" y="9144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一根铁丝，你能通过哪些方法使它的温度升高？（使它的内能增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395280" y="0"/>
            <a:ext cx="3567240" cy="98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　　想一想</a:t>
            </a:r>
            <a:r>
              <a:rPr b="1" lang="en-US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做一做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835280" y="5661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热传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76360" y="4797360"/>
            <a:ext cx="63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改变内能的方式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5724360" y="5661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做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0" y="4724280"/>
            <a:ext cx="1676520" cy="1219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826920" y="234936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太阳下晒；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石头上摩擦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热水中烫；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火上烧；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锤子敲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手中捂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反复弯折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；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通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104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传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温度不同的两个物体互相接触，低温物体温度升高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高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体温度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降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个过程叫做热传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2276640"/>
            <a:ext cx="82296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71640" y="285264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6300720" y="270828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4356000" y="5229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度升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能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71640" y="2924280"/>
            <a:ext cx="360" cy="2376360"/>
            <a:chOff x="971640" y="2924280"/>
            <a:chExt cx="360" cy="2376360"/>
          </a:xfrm>
        </p:grpSpPr>
        <p:sp>
          <p:nvSpPr>
            <p:cNvPr id="407" name="Line 14"/>
            <p:cNvSpPr/>
            <p:nvPr/>
          </p:nvSpPr>
          <p:spPr>
            <a:xfrm>
              <a:off x="971640" y="2924280"/>
              <a:ext cx="0" cy="23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971640" y="2924280"/>
              <a:ext cx="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971640" y="2781360"/>
            <a:ext cx="648000" cy="2519280"/>
            <a:chOff x="971640" y="2781360"/>
            <a:chExt cx="648000" cy="2519280"/>
          </a:xfrm>
        </p:grpSpPr>
        <p:grpSp>
          <p:nvGrpSpPr>
            <p:cNvPr id="410" name=""/>
            <p:cNvGrpSpPr/>
            <p:nvPr/>
          </p:nvGrpSpPr>
          <p:grpSpPr>
            <a:xfrm>
              <a:off x="1619280" y="2781360"/>
              <a:ext cx="360" cy="2518920"/>
              <a:chOff x="1619280" y="2781360"/>
              <a:chExt cx="360" cy="2518920"/>
            </a:xfrm>
          </p:grpSpPr>
          <p:sp>
            <p:nvSpPr>
              <p:cNvPr id="411" name="Line 15"/>
              <p:cNvSpPr/>
              <p:nvPr/>
            </p:nvSpPr>
            <p:spPr>
              <a:xfrm>
                <a:off x="1619280" y="2781360"/>
                <a:ext cx="0" cy="25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>
                <a:off x="1619280" y="2781360"/>
                <a:ext cx="360" cy="251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971640" y="2781360"/>
              <a:ext cx="647640" cy="360"/>
              <a:chOff x="971640" y="2781360"/>
              <a:chExt cx="647640" cy="360"/>
            </a:xfrm>
          </p:grpSpPr>
          <p:sp>
            <p:nvSpPr>
              <p:cNvPr id="414" name="Line 18"/>
              <p:cNvSpPr/>
              <p:nvPr/>
            </p:nvSpPr>
            <p:spPr>
              <a:xfrm>
                <a:off x="971640" y="27813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971640" y="278136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971640" y="5300280"/>
              <a:ext cx="647640" cy="360"/>
              <a:chOff x="971640" y="5300280"/>
              <a:chExt cx="647640" cy="360"/>
            </a:xfrm>
          </p:grpSpPr>
          <p:sp>
            <p:nvSpPr>
              <p:cNvPr id="417" name="Line 19"/>
              <p:cNvSpPr/>
              <p:nvPr/>
            </p:nvSpPr>
            <p:spPr>
              <a:xfrm>
                <a:off x="971640" y="53002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971640" y="53002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45"/>
          <p:cNvGrpSpPr/>
          <p:nvPr/>
        </p:nvGrpSpPr>
        <p:grpSpPr>
          <a:xfrm>
            <a:off x="6300720" y="2781360"/>
            <a:ext cx="576720" cy="2376720"/>
            <a:chOff x="6300720" y="2781360"/>
            <a:chExt cx="576720" cy="2376720"/>
          </a:xfrm>
        </p:grpSpPr>
        <p:grpSp>
          <p:nvGrpSpPr>
            <p:cNvPr id="420" name=""/>
            <p:cNvGrpSpPr/>
            <p:nvPr/>
          </p:nvGrpSpPr>
          <p:grpSpPr>
            <a:xfrm>
              <a:off x="6300720" y="2781360"/>
              <a:ext cx="360" cy="2376360"/>
              <a:chOff x="6300720" y="2781360"/>
              <a:chExt cx="360" cy="2376360"/>
            </a:xfrm>
          </p:grpSpPr>
          <p:sp>
            <p:nvSpPr>
              <p:cNvPr id="421" name="Line 16"/>
              <p:cNvSpPr/>
              <p:nvPr/>
            </p:nvSpPr>
            <p:spPr>
              <a:xfrm>
                <a:off x="6300720" y="278136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300720" y="2781360"/>
                <a:ext cx="360" cy="23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77080" y="2781360"/>
              <a:ext cx="360" cy="2376360"/>
              <a:chOff x="6877080" y="2781360"/>
              <a:chExt cx="360" cy="2376360"/>
            </a:xfrm>
          </p:grpSpPr>
          <p:sp>
            <p:nvSpPr>
              <p:cNvPr id="424" name="Line 17"/>
              <p:cNvSpPr/>
              <p:nvPr/>
            </p:nvSpPr>
            <p:spPr>
              <a:xfrm>
                <a:off x="6877080" y="278136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6877080" y="2781360"/>
                <a:ext cx="360" cy="23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300720" y="2781360"/>
              <a:ext cx="576360" cy="360"/>
              <a:chOff x="6300720" y="2781360"/>
              <a:chExt cx="576360" cy="360"/>
            </a:xfrm>
          </p:grpSpPr>
          <p:sp>
            <p:nvSpPr>
              <p:cNvPr id="427" name="Line 20"/>
              <p:cNvSpPr/>
              <p:nvPr/>
            </p:nvSpPr>
            <p:spPr>
              <a:xfrm>
                <a:off x="6300720" y="2781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300720" y="27813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00720" y="5157720"/>
              <a:ext cx="576360" cy="360"/>
              <a:chOff x="6300720" y="5157720"/>
              <a:chExt cx="576360" cy="360"/>
            </a:xfrm>
          </p:grpSpPr>
          <p:sp>
            <p:nvSpPr>
              <p:cNvPr id="430" name="Line 21"/>
              <p:cNvSpPr/>
              <p:nvPr/>
            </p:nvSpPr>
            <p:spPr>
              <a:xfrm>
                <a:off x="6300720" y="51577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300720" y="5157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30"/>
          <p:cNvSpPr/>
          <p:nvPr/>
        </p:nvSpPr>
        <p:spPr>
          <a:xfrm>
            <a:off x="250920" y="2205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度降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能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8"/>
          <p:cNvSpPr/>
          <p:nvPr/>
        </p:nvSpPr>
        <p:spPr>
          <a:xfrm>
            <a:off x="1692360" y="3213000"/>
            <a:ext cx="4535280" cy="1513080"/>
          </a:xfrm>
          <a:prstGeom prst="rightArrow">
            <a:avLst>
              <a:gd name="adj1" fmla="val 50000"/>
              <a:gd name="adj2" fmla="val 74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0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1"/>
          <p:cNvSpPr/>
          <p:nvPr/>
        </p:nvSpPr>
        <p:spPr>
          <a:xfrm>
            <a:off x="20509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内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84360" y="476280"/>
            <a:ext cx="7697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量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热传递过  程中，传递内能的多少叫做热量（符号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755640" y="2708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单位：焦耳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25092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热传递的条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有温度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1413000"/>
            <a:ext cx="997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生热传递时，高温物体内能减少，低温物体内能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24000" y="2421000"/>
            <a:ext cx="882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物体吸收热量，内能增加；物体放出热量，内能减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250920" y="39337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强调：物体内能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，温度不一定升高（比如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冰变成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水）；但温度升高，内能一定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传递的方式：传导、对流、辐射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1680" y="1600200"/>
            <a:ext cx="3333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条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50920" y="2637000"/>
            <a:ext cx="410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递实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24000" y="3716280"/>
            <a:ext cx="367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平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24000" y="4869000"/>
            <a:ext cx="43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平衡原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492360" y="1628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之间存在温度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708360" y="2708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传递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364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共同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4356000" y="486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csqn"/>
          <p:cNvPicPr/>
          <p:nvPr/>
        </p:nvPicPr>
        <p:blipFill>
          <a:blip r:embed="rId1"/>
          <a:stretch/>
        </p:blipFill>
        <p:spPr>
          <a:xfrm>
            <a:off x="1295280" y="838080"/>
            <a:ext cx="2075040" cy="3048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"/>
          <p:cNvPicPr/>
          <p:nvPr/>
        </p:nvPicPr>
        <p:blipFill>
          <a:blip r:embed="rId2"/>
          <a:stretch/>
        </p:blipFill>
        <p:spPr>
          <a:xfrm>
            <a:off x="3618000" y="1066680"/>
            <a:ext cx="190656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zmqh"/>
          <p:cNvPicPr/>
          <p:nvPr/>
        </p:nvPicPr>
        <p:blipFill>
          <a:blip r:embed="rId3"/>
          <a:stretch/>
        </p:blipFill>
        <p:spPr>
          <a:xfrm>
            <a:off x="5791320" y="1143000"/>
            <a:ext cx="2590560" cy="27874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6"/>
          <p:cNvSpPr/>
          <p:nvPr/>
        </p:nvSpPr>
        <p:spPr>
          <a:xfrm>
            <a:off x="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336600"/>
                </a:solidFill>
                <a:latin typeface="Times New Roman"/>
              </a:rPr>
              <a:t>做功改变内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13"/>
          <p:cNvSpPr txBox="1"/>
          <p:nvPr/>
        </p:nvSpPr>
        <p:spPr>
          <a:xfrm>
            <a:off x="1042920" y="573408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A.</a:t>
            </a: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对物体做功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3962520" y="5791320"/>
            <a:ext cx="952560" cy="228600"/>
          </a:xfrm>
          <a:prstGeom prst="rightArrow">
            <a:avLst>
              <a:gd name="adj1" fmla="val 50000"/>
              <a:gd name="adj2" fmla="val 104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1143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搓手时手变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429000" y="39625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滑下时摩擦发烫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5943600" y="4038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钻木取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979640" y="4797360"/>
            <a:ext cx="2209680" cy="304920"/>
            <a:chOff x="1979640" y="4797360"/>
            <a:chExt cx="2209680" cy="304920"/>
          </a:xfrm>
        </p:grpSpPr>
        <p:sp>
          <p:nvSpPr>
            <p:cNvPr id="461" name="Line 18"/>
            <p:cNvSpPr/>
            <p:nvPr/>
          </p:nvSpPr>
          <p:spPr>
            <a:xfrm>
              <a:off x="1979640" y="4797360"/>
              <a:ext cx="2209680" cy="30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979640" y="4797360"/>
              <a:ext cx="2209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WordArt 25"/>
          <p:cNvSpPr txBox="1"/>
          <p:nvPr/>
        </p:nvSpPr>
        <p:spPr>
          <a:xfrm>
            <a:off x="5148360" y="573408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物体内能增加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物理学术语解释“摩擦起热”和“钻木取火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]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压缩空气引火仪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研究的对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为什么要放入易燃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换法，显示空气温度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实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缩空气做功，空气内能会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12-图片-24"/>
          <p:cNvPicPr/>
          <p:nvPr/>
        </p:nvPicPr>
        <p:blipFill>
          <a:blip r:embed="rId1"/>
          <a:stretch/>
        </p:blipFill>
        <p:spPr>
          <a:xfrm>
            <a:off x="7020000" y="1268280"/>
            <a:ext cx="1508040" cy="2016360"/>
          </a:xfrm>
          <a:prstGeom prst="rect">
            <a:avLst/>
          </a:prstGeom>
          <a:ln w="0">
            <a:noFill/>
          </a:ln>
        </p:spPr>
      </p:pic>
      <p:sp>
        <p:nvSpPr>
          <p:cNvPr id="468" name="WordArt 8"/>
          <p:cNvSpPr txBox="1"/>
          <p:nvPr/>
        </p:nvSpPr>
        <p:spPr>
          <a:xfrm>
            <a:off x="1042920" y="5661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.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外界对物体做功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140360" y="573408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5435640" y="566100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身内能增加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79280" y="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复习提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什么是动能？什么是重力势能？什么叫弹性势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206064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350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上一节所举的扩散现象的几个例子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8360" y="19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由于运动而具有的能叫动能。高处的物体由于有重力而具有重力势能。物体由于发生弹性形变而具有的能叫弹性势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8360" y="4221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了一切物质的分子都在不停的做无规则的运动。分子间有间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9280" y="51577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分子的无规则运动的快慢与温度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8360" y="5734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越高，分子的无规则运动越剧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]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自制的热功互换器实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到的现象有哪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打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瓶塞跳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出现水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瓶塞跳起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获得了动能，瓶内空气对瓶塞做了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出现了水雾是什么现象？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水蒸气液化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空气温度降低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水雾起了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转换法，显示空气的温度降低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这个实验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空气膨胀对瓶塞做功，空气温度降低，内能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烧瓶中的白雾.mpg" descr=""/>
          <p:cNvPicPr/>
          <p:nvPr/>
        </p:nvPicPr>
        <p:blipFill>
          <a:blip r:embed="rId1"/>
          <a:stretch/>
        </p:blipFill>
        <p:spPr>
          <a:xfrm>
            <a:off x="5724360" y="1436760"/>
            <a:ext cx="2814840" cy="2111400"/>
          </a:xfrm>
          <a:prstGeom prst="rect">
            <a:avLst/>
          </a:prstGeom>
          <a:ln w="0">
            <a:noFill/>
          </a:ln>
        </p:spPr>
      </p:pic>
      <p:sp>
        <p:nvSpPr>
          <p:cNvPr id="474" name="WordArt 4"/>
          <p:cNvSpPr txBox="1"/>
          <p:nvPr/>
        </p:nvSpPr>
        <p:spPr>
          <a:xfrm>
            <a:off x="5448240" y="40924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.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对外做功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5076720" y="573408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6"/>
          <p:cNvSpPr txBox="1"/>
          <p:nvPr/>
        </p:nvSpPr>
        <p:spPr>
          <a:xfrm>
            <a:off x="6300720" y="566100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身内能减少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文本框 8200"/>
          <p:cNvSpPr/>
          <p:nvPr/>
        </p:nvSpPr>
        <p:spPr>
          <a:xfrm>
            <a:off x="2354400" y="1036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5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7" dur="1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2"/>
          <p:cNvSpPr txBox="1"/>
          <p:nvPr/>
        </p:nvSpPr>
        <p:spPr>
          <a:xfrm>
            <a:off x="1371600" y="1447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物体做功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WordArt 3"/>
          <p:cNvSpPr txBox="1"/>
          <p:nvPr/>
        </p:nvSpPr>
        <p:spPr>
          <a:xfrm>
            <a:off x="4419720" y="1447920"/>
            <a:ext cx="449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WordArt 6"/>
          <p:cNvSpPr txBox="1"/>
          <p:nvPr/>
        </p:nvSpPr>
        <p:spPr>
          <a:xfrm>
            <a:off x="1295280" y="32004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对外做功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1" name="WordArt 7"/>
          <p:cNvSpPr txBox="1"/>
          <p:nvPr/>
        </p:nvSpPr>
        <p:spPr>
          <a:xfrm>
            <a:off x="4800600" y="3276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能减少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WordArt 8"/>
          <p:cNvSpPr txBox="1"/>
          <p:nvPr/>
        </p:nvSpPr>
        <p:spPr>
          <a:xfrm>
            <a:off x="4927680" y="144792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体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3" name="WordArt 9"/>
          <p:cNvSpPr txBox="1"/>
          <p:nvPr/>
        </p:nvSpPr>
        <p:spPr>
          <a:xfrm>
            <a:off x="5403960" y="1447920"/>
            <a:ext cx="296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WordArt 10"/>
          <p:cNvSpPr txBox="1"/>
          <p:nvPr/>
        </p:nvSpPr>
        <p:spPr>
          <a:xfrm>
            <a:off x="5818320" y="144792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能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5" name="WordArt 11"/>
          <p:cNvSpPr txBox="1"/>
          <p:nvPr/>
        </p:nvSpPr>
        <p:spPr>
          <a:xfrm>
            <a:off x="6294600" y="1447920"/>
            <a:ext cx="35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增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6" name="WordArt 12"/>
          <p:cNvSpPr txBox="1"/>
          <p:nvPr/>
        </p:nvSpPr>
        <p:spPr>
          <a:xfrm>
            <a:off x="6769080" y="144792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加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684360" y="1413000"/>
          <a:ext cx="7813440" cy="3803400"/>
        </p:xfrm>
        <a:graphic>
          <a:graphicData uri="http://schemas.openxmlformats.org/drawingml/2006/table">
            <a:tbl>
              <a:tblPr/>
              <a:tblGrid>
                <a:gridCol w="468000"/>
                <a:gridCol w="963720"/>
                <a:gridCol w="2923920"/>
                <a:gridCol w="3457800"/>
              </a:tblGrid>
              <a:tr h="518760">
                <a:tc gridSpan="2"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热传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改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外界对物体做功，物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1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增加；物体对外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1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，物体内能减小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体吸收热量，内能增加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体放出热量，内能减小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热传递条件：有温度差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实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和其他形式的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6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相互转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的转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联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361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和热传递改变物体内能的效果相同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8" name="Text Box 45"/>
          <p:cNvSpPr/>
          <p:nvPr/>
        </p:nvSpPr>
        <p:spPr>
          <a:xfrm>
            <a:off x="2789280" y="333360"/>
            <a:ext cx="21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功和热传递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 rot="5400000">
            <a:off x="1690560" y="3608280"/>
            <a:ext cx="3733560" cy="1574640"/>
          </a:xfrm>
          <a:prstGeom prst="cube">
            <a:avLst>
              <a:gd name="adj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771640" y="2492280"/>
            <a:ext cx="675000" cy="279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4" descr=""/>
          <p:cNvPicPr/>
          <p:nvPr/>
        </p:nvPicPr>
        <p:blipFill>
          <a:blip r:embed="rId1"/>
          <a:stretch/>
        </p:blipFill>
        <p:spPr>
          <a:xfrm>
            <a:off x="3205080" y="3348000"/>
            <a:ext cx="1328760" cy="204804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5"/>
          <p:cNvGrpSpPr/>
          <p:nvPr/>
        </p:nvGrpSpPr>
        <p:grpSpPr>
          <a:xfrm>
            <a:off x="476280" y="4689360"/>
            <a:ext cx="2700000" cy="271440"/>
            <a:chOff x="476280" y="4689360"/>
            <a:chExt cx="2700000" cy="271440"/>
          </a:xfrm>
        </p:grpSpPr>
        <p:sp>
          <p:nvSpPr>
            <p:cNvPr id="493" name="AutoShape 6"/>
            <p:cNvSpPr/>
            <p:nvPr/>
          </p:nvSpPr>
          <p:spPr>
            <a:xfrm>
              <a:off x="476280" y="4744440"/>
              <a:ext cx="2401560" cy="1353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 rot="16200000">
              <a:off x="2757240" y="4541760"/>
              <a:ext cx="271440" cy="566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8" descr="ZQ_003"/>
          <p:cNvPicPr/>
          <p:nvPr/>
        </p:nvPicPr>
        <p:blipFill>
          <a:blip r:embed="rId2"/>
          <a:stretch/>
        </p:blipFill>
        <p:spPr>
          <a:xfrm>
            <a:off x="2457360" y="907920"/>
            <a:ext cx="900360" cy="12589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4788000" y="285264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柴在火柴盒上移动是一个作功的过程，火柴头内能增加，温度升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5076720" y="83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柴为什么可以擦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1"/>
          <p:cNvGrpSpPr/>
          <p:nvPr/>
        </p:nvGrpSpPr>
        <p:grpSpPr>
          <a:xfrm>
            <a:off x="0" y="0"/>
            <a:ext cx="3564000" cy="676440"/>
            <a:chOff x="0" y="0"/>
            <a:chExt cx="3564000" cy="676440"/>
          </a:xfrm>
        </p:grpSpPr>
        <p:pic>
          <p:nvPicPr>
            <p:cNvPr id="499" name="Picture 12" descr="eye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13"/>
            <p:cNvSpPr/>
            <p:nvPr/>
          </p:nvSpPr>
          <p:spPr>
            <a:xfrm>
              <a:off x="755640" y="475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cc00"/>
                  </a:solidFill>
                  <a:latin typeface="Arial"/>
                  <a:ea typeface="华文行楷"/>
                </a:rPr>
                <a:t>观察与思考</a:t>
              </a:r>
              <a:r>
                <a:rPr b="0" lang="en-US" sz="2800" spc="-1" strike="noStrike">
                  <a:solidFill>
                    <a:srgbClr val="99cc00"/>
                  </a:solidFill>
                  <a:latin typeface="Arial"/>
                  <a:ea typeface="华文行楷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00018 -0.42014 E">
                                      <p:cBhvr>
                                        <p:cTn id="934" dur="5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的温室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阅读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29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１）什么是地球的温室效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２）温室效应是由于什么原因产生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３）温室效应会造成哪些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４）为了减少温室效应应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同学们课后再到网络中去查找更多的内容， 收集到一起，进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1116000" y="1628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物体内能的方式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93236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热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6659640" y="1557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做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116000" y="24922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内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总和叫做物体的内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3348000" y="2349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所有分子热运动的动能 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1835280" y="29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分子势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1116000" y="378936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嘴对手呵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会暖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法增加了手的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它的实质是内能在物体之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手摩擦也能使手暖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的方法增加手的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过程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转化为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2195640" y="4581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转   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694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热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1979640" y="50133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做   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124000" y="54450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机械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900000" y="549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空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3"/>
          <p:cNvSpPr/>
          <p:nvPr/>
        </p:nvSpPr>
        <p:spPr>
          <a:xfrm>
            <a:off x="755640" y="9079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小杯水和一大桶水，它们的温度相同，它们的内能是否相同？如果不同，哪一个的内能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116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746280" y="306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物体的内能多少还与它的质量的大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50600" y="2004840"/>
            <a:ext cx="168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654360" y="33336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846360" y="83664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5597640" y="83664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剧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013280" y="126828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339920" y="1916280"/>
            <a:ext cx="532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与温度有关，在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7092720" y="2276640"/>
            <a:ext cx="3391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0" y="2781360"/>
            <a:ext cx="91440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物体的内能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的运动速度和物体的内能均不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不为零，分子的势能为零，物体的内能  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一切物体，不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低，都具有内能．同一物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高，分子热运动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内能越大．物体温度降低时，内能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3"/>
          <p:cNvSpPr txBox="1"/>
          <p:nvPr/>
        </p:nvSpPr>
        <p:spPr>
          <a:xfrm>
            <a:off x="1619280" y="2057400"/>
            <a:ext cx="605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哪个事例说明做功改变物体的内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955960" y="2895480"/>
            <a:ext cx="33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热水袋给予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9" name="WordArt 5"/>
          <p:cNvSpPr txBox="1"/>
          <p:nvPr/>
        </p:nvSpPr>
        <p:spPr>
          <a:xfrm>
            <a:off x="3048120" y="373392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双手磨擦给手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3048120" y="457200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嘴对手呵气给手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1" name="WordArt 7"/>
          <p:cNvSpPr txBox="1"/>
          <p:nvPr/>
        </p:nvSpPr>
        <p:spPr>
          <a:xfrm>
            <a:off x="3124080" y="533412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把手放在炉火旁边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532" name="Group 9"/>
          <p:cNvGrpSpPr/>
          <p:nvPr/>
        </p:nvGrpSpPr>
        <p:grpSpPr>
          <a:xfrm>
            <a:off x="7010280" y="3467160"/>
            <a:ext cx="685800" cy="533520"/>
            <a:chOff x="7010280" y="3467160"/>
            <a:chExt cx="685800" cy="533520"/>
          </a:xfrm>
        </p:grpSpPr>
        <p:grpSp>
          <p:nvGrpSpPr>
            <p:cNvPr id="533" name=""/>
            <p:cNvGrpSpPr/>
            <p:nvPr/>
          </p:nvGrpSpPr>
          <p:grpSpPr>
            <a:xfrm>
              <a:off x="7010280" y="3848040"/>
              <a:ext cx="228600" cy="152640"/>
              <a:chOff x="7010280" y="3848040"/>
              <a:chExt cx="228600" cy="152640"/>
            </a:xfrm>
          </p:grpSpPr>
          <p:sp>
            <p:nvSpPr>
              <p:cNvPr id="534" name="Line 10"/>
              <p:cNvSpPr/>
              <p:nvPr/>
            </p:nvSpPr>
            <p:spPr>
              <a:xfrm>
                <a:off x="7010280" y="3848040"/>
                <a:ext cx="228600" cy="152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7010280" y="384804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238880" y="3467160"/>
              <a:ext cx="457200" cy="533520"/>
              <a:chOff x="7238880" y="3467160"/>
              <a:chExt cx="457200" cy="533520"/>
            </a:xfrm>
          </p:grpSpPr>
          <p:sp>
            <p:nvSpPr>
              <p:cNvPr id="537" name="Line 11"/>
              <p:cNvSpPr/>
              <p:nvPr/>
            </p:nvSpPr>
            <p:spPr>
              <a:xfrm flipV="1">
                <a:off x="7238880" y="3467160"/>
                <a:ext cx="45720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 rot="10800000">
                <a:off x="7238880" y="34671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2"/>
          <p:cNvSpPr txBox="1"/>
          <p:nvPr/>
        </p:nvSpPr>
        <p:spPr>
          <a:xfrm>
            <a:off x="1128600" y="838080"/>
            <a:ext cx="784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打气筒打气时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过一会筒壁会热起来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这是为什么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0" name="WordArt 3" descr=""/>
          <p:cNvPicPr/>
          <p:nvPr/>
        </p:nvPicPr>
        <p:blipFill>
          <a:blip r:embed="rId1"/>
          <a:stretch/>
        </p:blipFill>
        <p:spPr>
          <a:xfrm>
            <a:off x="1657440" y="1824120"/>
            <a:ext cx="6600600" cy="3082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兔  类 6"/>
          <p:cNvPicPr/>
          <p:nvPr/>
        </p:nvPicPr>
        <p:blipFill>
          <a:blip r:embed="rId2"/>
          <a:stretch/>
        </p:blipFill>
        <p:spPr>
          <a:xfrm>
            <a:off x="0" y="4267080"/>
            <a:ext cx="1143000" cy="170352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"/>
          <p:cNvSpPr/>
          <p:nvPr/>
        </p:nvSpPr>
        <p:spPr>
          <a:xfrm>
            <a:off x="990720" y="2209680"/>
            <a:ext cx="609480" cy="1295640"/>
          </a:xfrm>
          <a:prstGeom prst="wedgeRoundRectCallout">
            <a:avLst>
              <a:gd name="adj1" fmla="val -43750"/>
              <a:gd name="adj2" fmla="val 152328"/>
              <a:gd name="adj3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332000" y="2060640"/>
            <a:ext cx="6985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物体的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热传递可以改变物体的 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做功要以改变物体的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A8X2FC5"/>
          <p:cNvPicPr/>
          <p:nvPr/>
        </p:nvPicPr>
        <p:blipFill>
          <a:blip r:embed="rId1"/>
          <a:stretch/>
        </p:blipFill>
        <p:spPr>
          <a:xfrm>
            <a:off x="1763640" y="501336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CAI70PAN"/>
          <p:cNvPicPr/>
          <p:nvPr/>
        </p:nvPicPr>
        <p:blipFill>
          <a:blip r:embed="rId2"/>
          <a:stretch/>
        </p:blipFill>
        <p:spPr>
          <a:xfrm>
            <a:off x="3995640" y="4797360"/>
            <a:ext cx="723960" cy="1524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AO9UPQ9"/>
          <p:cNvPicPr/>
          <p:nvPr/>
        </p:nvPicPr>
        <p:blipFill>
          <a:blip r:embed="rId3"/>
          <a:stretch/>
        </p:blipFill>
        <p:spPr>
          <a:xfrm>
            <a:off x="4788000" y="48690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CAQ58Z65"/>
          <p:cNvPicPr/>
          <p:nvPr/>
        </p:nvPicPr>
        <p:blipFill>
          <a:blip r:embed="rId4"/>
          <a:stretch/>
        </p:blipFill>
        <p:spPr>
          <a:xfrm>
            <a:off x="755640" y="4869000"/>
            <a:ext cx="482760" cy="1447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AKH2RCD"/>
          <p:cNvPicPr/>
          <p:nvPr/>
        </p:nvPicPr>
        <p:blipFill>
          <a:blip r:embed="rId5"/>
          <a:stretch/>
        </p:blipFill>
        <p:spPr>
          <a:xfrm>
            <a:off x="7093080" y="4724280"/>
            <a:ext cx="1466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7"/>
          <p:cNvGrpSpPr/>
          <p:nvPr/>
        </p:nvGrpSpPr>
        <p:grpSpPr>
          <a:xfrm>
            <a:off x="755640" y="0"/>
            <a:ext cx="7921440" cy="5033160"/>
            <a:chOff x="755640" y="0"/>
            <a:chExt cx="7921440" cy="5033160"/>
          </a:xfrm>
        </p:grpSpPr>
        <p:sp>
          <p:nvSpPr>
            <p:cNvPr id="549" name="Text Box 8"/>
            <p:cNvSpPr/>
            <p:nvPr/>
          </p:nvSpPr>
          <p:spPr>
            <a:xfrm>
              <a:off x="755640" y="743760"/>
              <a:ext cx="792144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以下的日常生活事例，通过做功来增加物体内能的是（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给自行车车胎打气，气筒发烫　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放进太阳能热水器中的水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温度升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点燃的爆竹腾空而起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用水壶烧水，水蒸气将壶盖顶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"/>
            <p:cNvSpPr/>
            <p:nvPr/>
          </p:nvSpPr>
          <p:spPr>
            <a:xfrm>
              <a:off x="915840" y="0"/>
              <a:ext cx="4960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10"/>
          <p:cNvSpPr/>
          <p:nvPr/>
        </p:nvSpPr>
        <p:spPr>
          <a:xfrm>
            <a:off x="3924360" y="134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555640" y="1468440"/>
            <a:ext cx="4489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典例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]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列说法中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7308360" y="1484280"/>
            <a:ext cx="331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2084040" y="2084400"/>
            <a:ext cx="50738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温度越高的物体，它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温度越高的物体，它放出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质量越大的物体，它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物体温度降低时要放出热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8200"/>
          <p:cNvSpPr/>
          <p:nvPr/>
        </p:nvSpPr>
        <p:spPr>
          <a:xfrm>
            <a:off x="2355840" y="60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682640" y="1557360"/>
            <a:ext cx="48531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现象中，通过热传递改变物体内能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956360" y="1557360"/>
            <a:ext cx="3056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128680" y="2395440"/>
            <a:ext cx="333504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两手相互摩擦，手发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火炉烧水，水的温度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锯锯木头，锯条发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砂轮磨菜刀，菜刀温度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2"/>
          <p:cNvSpPr txBox="1"/>
          <p:nvPr/>
        </p:nvSpPr>
        <p:spPr>
          <a:xfrm>
            <a:off x="1603440" y="685800"/>
            <a:ext cx="605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哪个事例说明做功改变物体的内能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0" name="WordArt 3"/>
          <p:cNvSpPr txBox="1"/>
          <p:nvPr/>
        </p:nvSpPr>
        <p:spPr>
          <a:xfrm>
            <a:off x="1722600" y="1600200"/>
            <a:ext cx="33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热水袋给予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1" name="WordArt 4"/>
          <p:cNvSpPr txBox="1"/>
          <p:nvPr/>
        </p:nvSpPr>
        <p:spPr>
          <a:xfrm>
            <a:off x="1722600" y="251460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右手磨擦给左手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2" name="WordArt 5"/>
          <p:cNvSpPr txBox="1"/>
          <p:nvPr/>
        </p:nvSpPr>
        <p:spPr>
          <a:xfrm>
            <a:off x="1722600" y="320040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嘴对手呵气给手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1722600" y="403848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D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把手放在炉火旁边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8102520" y="54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2"/>
          <p:cNvSpPr txBox="1"/>
          <p:nvPr/>
        </p:nvSpPr>
        <p:spPr>
          <a:xfrm>
            <a:off x="1258920" y="765000"/>
            <a:ext cx="676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事例中，属于做功来增加物体内能的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6" name="WordArt 3"/>
          <p:cNvSpPr txBox="1"/>
          <p:nvPr/>
        </p:nvSpPr>
        <p:spPr>
          <a:xfrm>
            <a:off x="2552760" y="2057400"/>
            <a:ext cx="4097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铁棒放在炉子里被烧红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7" name="WordArt 4"/>
          <p:cNvSpPr txBox="1"/>
          <p:nvPr/>
        </p:nvSpPr>
        <p:spPr>
          <a:xfrm>
            <a:off x="2671920" y="335268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锯条锯木头时会发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2494080" y="4876920"/>
            <a:ext cx="4097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古时候的猿人钻木取火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8102520" y="692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1187280" y="762120"/>
            <a:ext cx="712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列现象属于用做功的方法改变物体内能的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1" name="WordArt 3"/>
          <p:cNvSpPr txBox="1"/>
          <p:nvPr/>
        </p:nvSpPr>
        <p:spPr>
          <a:xfrm>
            <a:off x="1246320" y="1600200"/>
            <a:ext cx="552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放在火炉边的物体温度升高了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1246320" y="2286000"/>
            <a:ext cx="516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把一杯热水放在冷水中冷却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3" name="WordArt 5"/>
          <p:cNvSpPr txBox="1"/>
          <p:nvPr/>
        </p:nvSpPr>
        <p:spPr>
          <a:xfrm>
            <a:off x="1128600" y="3124080"/>
            <a:ext cx="552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用铁锤锻打工件，工件会变热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WordArt 6"/>
          <p:cNvSpPr txBox="1"/>
          <p:nvPr/>
        </p:nvSpPr>
        <p:spPr>
          <a:xfrm>
            <a:off x="1187280" y="3886200"/>
            <a:ext cx="4097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拉弯的弓把箭射出去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8389800" y="6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892C-F9C5-40A5-A749-2EDE74DB15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4062240" y="1052640"/>
            <a:ext cx="12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温度、热量、内能，以下说法正确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450800" y="1916280"/>
            <a:ext cx="4851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物体的温度越高，所含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冰没有内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一个物体吸收热量时，温度不一定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物体做功，物体的温度一定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73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8461080" y="836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8000" y="856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一、</a:t>
            </a: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内 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836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对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0" y="5157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动着的篮球具有动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95640" y="429264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运动着的分子呢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6948360" y="3573360"/>
            <a:ext cx="1515960" cy="2568600"/>
            <a:chOff x="6948360" y="3573360"/>
            <a:chExt cx="1515960" cy="2568600"/>
          </a:xfrm>
        </p:grpSpPr>
        <p:pic>
          <p:nvPicPr>
            <p:cNvPr id="100" name="Picture 9" descr="米老鼠1"/>
            <p:cNvPicPr/>
            <p:nvPr/>
          </p:nvPicPr>
          <p:blipFill>
            <a:blip r:embed="rId1"/>
            <a:stretch/>
          </p:blipFill>
          <p:spPr>
            <a:xfrm>
              <a:off x="6948360" y="4335480"/>
              <a:ext cx="143172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10"/>
            <p:cNvSpPr/>
            <p:nvPr/>
          </p:nvSpPr>
          <p:spPr>
            <a:xfrm>
              <a:off x="7537680" y="3573360"/>
              <a:ext cx="926640" cy="762120"/>
            </a:xfrm>
            <a:prstGeom prst="cloudCallout">
              <a:avLst>
                <a:gd name="adj1" fmla="val -72726"/>
                <a:gd name="adj2" fmla="val 83958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7236000" y="2924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4427640" y="2205000"/>
            <a:ext cx="575280" cy="502560"/>
            <a:chOff x="4427640" y="2205000"/>
            <a:chExt cx="575280" cy="502560"/>
          </a:xfrm>
        </p:grpSpPr>
        <p:sp>
          <p:nvSpPr>
            <p:cNvPr id="104" name="Oval 13"/>
            <p:cNvSpPr/>
            <p:nvPr/>
          </p:nvSpPr>
          <p:spPr>
            <a:xfrm>
              <a:off x="4427640" y="2405880"/>
              <a:ext cx="287640" cy="301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714920" y="2205000"/>
              <a:ext cx="288000" cy="200880"/>
              <a:chOff x="4714920" y="2205000"/>
              <a:chExt cx="288000" cy="200880"/>
            </a:xfrm>
          </p:grpSpPr>
          <p:sp>
            <p:nvSpPr>
              <p:cNvPr id="106" name="Line 14"/>
              <p:cNvSpPr/>
              <p:nvPr/>
            </p:nvSpPr>
            <p:spPr>
              <a:xfrm flipV="1">
                <a:off x="4715280" y="2205000"/>
                <a:ext cx="2876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 rot="10800000">
                <a:off x="4714920" y="2205000"/>
                <a:ext cx="287640" cy="20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5"/>
          <p:cNvGrpSpPr/>
          <p:nvPr/>
        </p:nvGrpSpPr>
        <p:grpSpPr>
          <a:xfrm>
            <a:off x="5223960" y="2644560"/>
            <a:ext cx="613440" cy="516960"/>
            <a:chOff x="5223960" y="2644560"/>
            <a:chExt cx="613440" cy="516960"/>
          </a:xfrm>
        </p:grpSpPr>
        <p:sp>
          <p:nvSpPr>
            <p:cNvPr id="109" name="Oval 16"/>
            <p:cNvSpPr/>
            <p:nvPr/>
          </p:nvSpPr>
          <p:spPr>
            <a:xfrm rot="4360200">
              <a:off x="5264280" y="2674080"/>
              <a:ext cx="271080" cy="284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76400" y="2846520"/>
              <a:ext cx="261000" cy="315000"/>
              <a:chOff x="5576400" y="2846520"/>
              <a:chExt cx="261000" cy="315000"/>
            </a:xfrm>
          </p:grpSpPr>
          <p:sp>
            <p:nvSpPr>
              <p:cNvPr id="111" name="Line 17"/>
              <p:cNvSpPr/>
              <p:nvPr/>
            </p:nvSpPr>
            <p:spPr>
              <a:xfrm>
                <a:off x="5576400" y="2903040"/>
                <a:ext cx="26100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 rot="15160200">
                <a:off x="5571000" y="2909160"/>
                <a:ext cx="271080" cy="18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8"/>
          <p:cNvGrpSpPr/>
          <p:nvPr/>
        </p:nvGrpSpPr>
        <p:grpSpPr>
          <a:xfrm>
            <a:off x="4881600" y="1598400"/>
            <a:ext cx="743400" cy="398160"/>
            <a:chOff x="4881600" y="1598400"/>
            <a:chExt cx="743400" cy="398160"/>
          </a:xfrm>
        </p:grpSpPr>
        <p:sp>
          <p:nvSpPr>
            <p:cNvPr id="114" name="Oval 19"/>
            <p:cNvSpPr/>
            <p:nvPr/>
          </p:nvSpPr>
          <p:spPr>
            <a:xfrm rot="13060200">
              <a:off x="5279400" y="1657800"/>
              <a:ext cx="290160" cy="27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881600" y="1641960"/>
              <a:ext cx="343080" cy="324360"/>
              <a:chOff x="4881600" y="1641960"/>
              <a:chExt cx="343080" cy="324360"/>
            </a:xfrm>
          </p:grpSpPr>
          <p:sp>
            <p:nvSpPr>
              <p:cNvPr id="116" name="Line 20"/>
              <p:cNvSpPr/>
              <p:nvPr/>
            </p:nvSpPr>
            <p:spPr>
              <a:xfrm flipH="1" flipV="1">
                <a:off x="4881600" y="1788840"/>
                <a:ext cx="34308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 rot="2260200">
                <a:off x="4907880" y="1711080"/>
                <a:ext cx="2901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Text Box 21"/>
          <p:cNvSpPr/>
          <p:nvPr/>
        </p:nvSpPr>
        <p:spPr>
          <a:xfrm>
            <a:off x="250920" y="5805360"/>
            <a:ext cx="83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结论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运动着的分子也有动能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5661720" y="375480"/>
            <a:ext cx="2870280" cy="2438280"/>
            <a:chOff x="5661720" y="375480"/>
            <a:chExt cx="2870280" cy="2438280"/>
          </a:xfrm>
        </p:grpSpPr>
        <p:sp>
          <p:nvSpPr>
            <p:cNvPr id="120" name="AutoShape 23"/>
            <p:cNvSpPr/>
            <p:nvPr/>
          </p:nvSpPr>
          <p:spPr>
            <a:xfrm rot="18359400">
              <a:off x="6292080" y="465120"/>
              <a:ext cx="1373040" cy="2258640"/>
            </a:xfrm>
            <a:prstGeom prst="wedgeEllipseCallout">
              <a:avLst>
                <a:gd name="adj1" fmla="val -46347"/>
                <a:gd name="adj2" fmla="val 64990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5708520" y="106992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我在动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也有动能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0" y="1557360"/>
            <a:ext cx="3564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未命名"/>
          <p:cNvPicPr/>
          <p:nvPr/>
        </p:nvPicPr>
        <p:blipFill>
          <a:blip r:embed="rId1"/>
          <a:stretch/>
        </p:blipFill>
        <p:spPr>
          <a:xfrm>
            <a:off x="1403280" y="18900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未命名"/>
          <p:cNvPicPr/>
          <p:nvPr/>
        </p:nvPicPr>
        <p:blipFill>
          <a:blip r:embed="rId2"/>
          <a:stretch/>
        </p:blipFill>
        <p:spPr>
          <a:xfrm>
            <a:off x="1403280" y="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未命名"/>
          <p:cNvPicPr/>
          <p:nvPr/>
        </p:nvPicPr>
        <p:blipFill>
          <a:blip r:embed="rId3"/>
          <a:stretch/>
        </p:blipFill>
        <p:spPr>
          <a:xfrm>
            <a:off x="1403280" y="26028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未命名"/>
          <p:cNvPicPr/>
          <p:nvPr/>
        </p:nvPicPr>
        <p:blipFill>
          <a:blip r:embed="rId4"/>
          <a:stretch/>
        </p:blipFill>
        <p:spPr>
          <a:xfrm>
            <a:off x="1403280" y="549360"/>
            <a:ext cx="1467000" cy="149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未命名"/>
          <p:cNvPicPr/>
          <p:nvPr/>
        </p:nvPicPr>
        <p:blipFill>
          <a:blip r:embed="rId5"/>
          <a:stretch/>
        </p:blipFill>
        <p:spPr>
          <a:xfrm>
            <a:off x="1403280" y="9079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未命名"/>
          <p:cNvPicPr/>
          <p:nvPr/>
        </p:nvPicPr>
        <p:blipFill>
          <a:blip r:embed="rId6"/>
          <a:stretch/>
        </p:blipFill>
        <p:spPr>
          <a:xfrm>
            <a:off x="1403280" y="126828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129" name="Oval 9"/>
          <p:cNvSpPr/>
          <p:nvPr/>
        </p:nvSpPr>
        <p:spPr>
          <a:xfrm>
            <a:off x="395280" y="3500280"/>
            <a:ext cx="2971800" cy="2971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未命名"/>
          <p:cNvPicPr/>
          <p:nvPr/>
        </p:nvPicPr>
        <p:blipFill>
          <a:blip r:embed="rId7"/>
          <a:stretch/>
        </p:blipFill>
        <p:spPr>
          <a:xfrm>
            <a:off x="1403280" y="155736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未命名"/>
          <p:cNvPicPr/>
          <p:nvPr/>
        </p:nvPicPr>
        <p:blipFill>
          <a:blip r:embed="rId8"/>
          <a:stretch/>
        </p:blipFill>
        <p:spPr>
          <a:xfrm>
            <a:off x="1403280" y="18446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未命名"/>
          <p:cNvPicPr/>
          <p:nvPr/>
        </p:nvPicPr>
        <p:blipFill>
          <a:blip r:embed="rId9"/>
          <a:stretch/>
        </p:blipFill>
        <p:spPr>
          <a:xfrm>
            <a:off x="1332000" y="2205000"/>
            <a:ext cx="14666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3"/>
          <p:cNvGrpSpPr/>
          <p:nvPr/>
        </p:nvGrpSpPr>
        <p:grpSpPr>
          <a:xfrm>
            <a:off x="324000" y="4292640"/>
            <a:ext cx="2971800" cy="1942560"/>
            <a:chOff x="324000" y="4292640"/>
            <a:chExt cx="2971800" cy="1942560"/>
          </a:xfrm>
        </p:grpSpPr>
        <p:sp>
          <p:nvSpPr>
            <p:cNvPr id="134" name="Oval 14"/>
            <p:cNvSpPr/>
            <p:nvPr/>
          </p:nvSpPr>
          <p:spPr>
            <a:xfrm>
              <a:off x="324000" y="5054400"/>
              <a:ext cx="2971800" cy="2282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5" descr="老鼠5"/>
            <p:cNvPicPr/>
            <p:nvPr/>
          </p:nvPicPr>
          <p:blipFill>
            <a:blip r:embed="rId10"/>
            <a:stretch/>
          </p:blipFill>
          <p:spPr>
            <a:xfrm>
              <a:off x="1390680" y="5435280"/>
              <a:ext cx="68580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16"/>
            <p:cNvSpPr/>
            <p:nvPr/>
          </p:nvSpPr>
          <p:spPr>
            <a:xfrm>
              <a:off x="1847880" y="4292640"/>
              <a:ext cx="1143000" cy="990360"/>
            </a:xfrm>
            <a:prstGeom prst="cloudCallout">
              <a:avLst>
                <a:gd name="adj1" fmla="val -45000"/>
                <a:gd name="adj2" fmla="val 6538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我是地球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把你拉下来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>
            <a:off x="3561840" y="476280"/>
            <a:ext cx="911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石块和地球互相吸引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7665480" y="47628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互相吸引的分子有没有势能呢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6732720" y="480960"/>
            <a:ext cx="304560" cy="685800"/>
            <a:chOff x="6732720" y="480960"/>
            <a:chExt cx="304560" cy="685800"/>
          </a:xfrm>
        </p:grpSpPr>
        <p:sp>
          <p:nvSpPr>
            <p:cNvPr id="140" name="Oval 20"/>
            <p:cNvSpPr/>
            <p:nvPr/>
          </p:nvSpPr>
          <p:spPr>
            <a:xfrm>
              <a:off x="6732720" y="4809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884640" y="861840"/>
              <a:ext cx="360" cy="304920"/>
              <a:chOff x="6884640" y="861840"/>
              <a:chExt cx="360" cy="304920"/>
            </a:xfrm>
          </p:grpSpPr>
          <p:sp>
            <p:nvSpPr>
              <p:cNvPr id="142" name="Line 21"/>
              <p:cNvSpPr/>
              <p:nvPr/>
            </p:nvSpPr>
            <p:spPr>
              <a:xfrm>
                <a:off x="6884640" y="8618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6884640" y="8618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22"/>
          <p:cNvGrpSpPr/>
          <p:nvPr/>
        </p:nvGrpSpPr>
        <p:grpSpPr>
          <a:xfrm>
            <a:off x="6725880" y="4076280"/>
            <a:ext cx="310680" cy="688680"/>
            <a:chOff x="6725880" y="4076280"/>
            <a:chExt cx="310680" cy="688680"/>
          </a:xfrm>
        </p:grpSpPr>
        <p:sp>
          <p:nvSpPr>
            <p:cNvPr id="145" name="Oval 23"/>
            <p:cNvSpPr/>
            <p:nvPr/>
          </p:nvSpPr>
          <p:spPr>
            <a:xfrm rot="10867200">
              <a:off x="6728760" y="44568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885720" y="4076280"/>
              <a:ext cx="6480" cy="304920"/>
              <a:chOff x="6885720" y="4076280"/>
              <a:chExt cx="6480" cy="304920"/>
            </a:xfrm>
          </p:grpSpPr>
          <p:sp>
            <p:nvSpPr>
              <p:cNvPr id="147" name="Line 24"/>
              <p:cNvSpPr/>
              <p:nvPr/>
            </p:nvSpPr>
            <p:spPr>
              <a:xfrm flipV="1">
                <a:off x="6886080" y="407628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 rot="10867200">
                <a:off x="6888600" y="4076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5"/>
          <p:cNvGrpSpPr/>
          <p:nvPr/>
        </p:nvGrpSpPr>
        <p:grpSpPr>
          <a:xfrm>
            <a:off x="6732720" y="709560"/>
            <a:ext cx="304560" cy="685800"/>
            <a:chOff x="6732720" y="709560"/>
            <a:chExt cx="304560" cy="685800"/>
          </a:xfrm>
        </p:grpSpPr>
        <p:sp>
          <p:nvSpPr>
            <p:cNvPr id="150" name="Oval 26"/>
            <p:cNvSpPr/>
            <p:nvPr/>
          </p:nvSpPr>
          <p:spPr>
            <a:xfrm>
              <a:off x="6732720" y="7095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884640" y="1090440"/>
              <a:ext cx="360" cy="304920"/>
              <a:chOff x="6884640" y="1090440"/>
              <a:chExt cx="360" cy="30492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6884640" y="1090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884640" y="1090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8"/>
          <p:cNvGrpSpPr/>
          <p:nvPr/>
        </p:nvGrpSpPr>
        <p:grpSpPr>
          <a:xfrm>
            <a:off x="6725880" y="3933360"/>
            <a:ext cx="310680" cy="688680"/>
            <a:chOff x="6725880" y="3933360"/>
            <a:chExt cx="310680" cy="688680"/>
          </a:xfrm>
        </p:grpSpPr>
        <p:sp>
          <p:nvSpPr>
            <p:cNvPr id="155" name="Oval 29"/>
            <p:cNvSpPr/>
            <p:nvPr/>
          </p:nvSpPr>
          <p:spPr>
            <a:xfrm rot="10867200">
              <a:off x="6728760" y="4313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85720" y="3933360"/>
              <a:ext cx="6480" cy="304920"/>
              <a:chOff x="6885720" y="3933360"/>
              <a:chExt cx="6480" cy="304920"/>
            </a:xfrm>
          </p:grpSpPr>
          <p:sp>
            <p:nvSpPr>
              <p:cNvPr id="157" name="Line 30"/>
              <p:cNvSpPr/>
              <p:nvPr/>
            </p:nvSpPr>
            <p:spPr>
              <a:xfrm flipV="1">
                <a:off x="6886080" y="3933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67200">
                <a:off x="6888600" y="3933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1"/>
          <p:cNvGrpSpPr/>
          <p:nvPr/>
        </p:nvGrpSpPr>
        <p:grpSpPr>
          <a:xfrm>
            <a:off x="6732720" y="861840"/>
            <a:ext cx="304560" cy="685800"/>
            <a:chOff x="6732720" y="861840"/>
            <a:chExt cx="304560" cy="685800"/>
          </a:xfrm>
        </p:grpSpPr>
        <p:sp>
          <p:nvSpPr>
            <p:cNvPr id="160" name="Oval 32"/>
            <p:cNvSpPr/>
            <p:nvPr/>
          </p:nvSpPr>
          <p:spPr>
            <a:xfrm>
              <a:off x="6732720" y="8618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884640" y="1242720"/>
              <a:ext cx="360" cy="304920"/>
              <a:chOff x="6884640" y="1242720"/>
              <a:chExt cx="360" cy="304920"/>
            </a:xfrm>
          </p:grpSpPr>
          <p:sp>
            <p:nvSpPr>
              <p:cNvPr id="162" name="Line 33"/>
              <p:cNvSpPr/>
              <p:nvPr/>
            </p:nvSpPr>
            <p:spPr>
              <a:xfrm>
                <a:off x="6884640" y="1242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6884640" y="1242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34"/>
          <p:cNvGrpSpPr/>
          <p:nvPr/>
        </p:nvGrpSpPr>
        <p:grpSpPr>
          <a:xfrm>
            <a:off x="6725880" y="3715920"/>
            <a:ext cx="310680" cy="688680"/>
            <a:chOff x="6725880" y="3715920"/>
            <a:chExt cx="310680" cy="688680"/>
          </a:xfrm>
        </p:grpSpPr>
        <p:sp>
          <p:nvSpPr>
            <p:cNvPr id="165" name="Oval 35"/>
            <p:cNvSpPr/>
            <p:nvPr/>
          </p:nvSpPr>
          <p:spPr>
            <a:xfrm rot="10867200">
              <a:off x="6728760" y="40964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885720" y="3715920"/>
              <a:ext cx="6480" cy="304920"/>
              <a:chOff x="6885720" y="3715920"/>
              <a:chExt cx="6480" cy="304920"/>
            </a:xfrm>
          </p:grpSpPr>
          <p:sp>
            <p:nvSpPr>
              <p:cNvPr id="167" name="Line 36"/>
              <p:cNvSpPr/>
              <p:nvPr/>
            </p:nvSpPr>
            <p:spPr>
              <a:xfrm flipV="1">
                <a:off x="6886080" y="371592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 rot="10867200">
                <a:off x="6888600" y="37159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6732720" y="1052640"/>
            <a:ext cx="304560" cy="685800"/>
            <a:chOff x="6732720" y="1052640"/>
            <a:chExt cx="304560" cy="685800"/>
          </a:xfrm>
        </p:grpSpPr>
        <p:sp>
          <p:nvSpPr>
            <p:cNvPr id="170" name="Oval 38"/>
            <p:cNvSpPr/>
            <p:nvPr/>
          </p:nvSpPr>
          <p:spPr>
            <a:xfrm>
              <a:off x="6732720" y="10526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884640" y="1433520"/>
              <a:ext cx="360" cy="304920"/>
              <a:chOff x="6884640" y="1433520"/>
              <a:chExt cx="360" cy="304920"/>
            </a:xfrm>
          </p:grpSpPr>
          <p:sp>
            <p:nvSpPr>
              <p:cNvPr id="172" name="Line 39"/>
              <p:cNvSpPr/>
              <p:nvPr/>
            </p:nvSpPr>
            <p:spPr>
              <a:xfrm>
                <a:off x="6884640" y="1433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6884640" y="1433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40"/>
          <p:cNvGrpSpPr/>
          <p:nvPr/>
        </p:nvGrpSpPr>
        <p:grpSpPr>
          <a:xfrm>
            <a:off x="6725880" y="3428640"/>
            <a:ext cx="310680" cy="688680"/>
            <a:chOff x="6725880" y="3428640"/>
            <a:chExt cx="310680" cy="688680"/>
          </a:xfrm>
        </p:grpSpPr>
        <p:sp>
          <p:nvSpPr>
            <p:cNvPr id="175" name="Oval 41"/>
            <p:cNvSpPr/>
            <p:nvPr/>
          </p:nvSpPr>
          <p:spPr>
            <a:xfrm rot="10867200">
              <a:off x="6728760" y="38091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885720" y="3428640"/>
              <a:ext cx="6480" cy="304920"/>
              <a:chOff x="6885720" y="3428640"/>
              <a:chExt cx="6480" cy="304920"/>
            </a:xfrm>
          </p:grpSpPr>
          <p:sp>
            <p:nvSpPr>
              <p:cNvPr id="177" name="Line 42"/>
              <p:cNvSpPr/>
              <p:nvPr/>
            </p:nvSpPr>
            <p:spPr>
              <a:xfrm flipV="1">
                <a:off x="6886080" y="342864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10867200">
                <a:off x="6888600" y="34286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43"/>
          <p:cNvGrpSpPr/>
          <p:nvPr/>
        </p:nvGrpSpPr>
        <p:grpSpPr>
          <a:xfrm>
            <a:off x="6732720" y="1243080"/>
            <a:ext cx="304560" cy="685800"/>
            <a:chOff x="6732720" y="1243080"/>
            <a:chExt cx="304560" cy="685800"/>
          </a:xfrm>
        </p:grpSpPr>
        <p:sp>
          <p:nvSpPr>
            <p:cNvPr id="180" name="Oval 44"/>
            <p:cNvSpPr/>
            <p:nvPr/>
          </p:nvSpPr>
          <p:spPr>
            <a:xfrm>
              <a:off x="6732720" y="12430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884640" y="1623960"/>
              <a:ext cx="360" cy="304920"/>
              <a:chOff x="6884640" y="1623960"/>
              <a:chExt cx="360" cy="304920"/>
            </a:xfrm>
          </p:grpSpPr>
          <p:sp>
            <p:nvSpPr>
              <p:cNvPr id="182" name="Line 45"/>
              <p:cNvSpPr/>
              <p:nvPr/>
            </p:nvSpPr>
            <p:spPr>
              <a:xfrm>
                <a:off x="6884640" y="16239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884640" y="16239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6"/>
          <p:cNvGrpSpPr/>
          <p:nvPr/>
        </p:nvGrpSpPr>
        <p:grpSpPr>
          <a:xfrm>
            <a:off x="6725880" y="3357360"/>
            <a:ext cx="310680" cy="688680"/>
            <a:chOff x="6725880" y="3357360"/>
            <a:chExt cx="310680" cy="688680"/>
          </a:xfrm>
        </p:grpSpPr>
        <p:sp>
          <p:nvSpPr>
            <p:cNvPr id="185" name="Oval 47"/>
            <p:cNvSpPr/>
            <p:nvPr/>
          </p:nvSpPr>
          <p:spPr>
            <a:xfrm rot="10867200">
              <a:off x="6728760" y="3737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85720" y="3357360"/>
              <a:ext cx="6480" cy="304920"/>
              <a:chOff x="6885720" y="3357360"/>
              <a:chExt cx="6480" cy="304920"/>
            </a:xfrm>
          </p:grpSpPr>
          <p:sp>
            <p:nvSpPr>
              <p:cNvPr id="187" name="Line 48"/>
              <p:cNvSpPr/>
              <p:nvPr/>
            </p:nvSpPr>
            <p:spPr>
              <a:xfrm flipV="1">
                <a:off x="6886080" y="3357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 rot="10867200">
                <a:off x="6888600" y="3357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9"/>
          <p:cNvGrpSpPr/>
          <p:nvPr/>
        </p:nvGrpSpPr>
        <p:grpSpPr>
          <a:xfrm>
            <a:off x="6732720" y="1413000"/>
            <a:ext cx="304560" cy="685800"/>
            <a:chOff x="6732720" y="1413000"/>
            <a:chExt cx="304560" cy="685800"/>
          </a:xfrm>
        </p:grpSpPr>
        <p:sp>
          <p:nvSpPr>
            <p:cNvPr id="190" name="Oval 50"/>
            <p:cNvSpPr/>
            <p:nvPr/>
          </p:nvSpPr>
          <p:spPr>
            <a:xfrm>
              <a:off x="6732720" y="14130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84640" y="1793880"/>
              <a:ext cx="360" cy="304920"/>
              <a:chOff x="6884640" y="1793880"/>
              <a:chExt cx="360" cy="304920"/>
            </a:xfrm>
          </p:grpSpPr>
          <p:sp>
            <p:nvSpPr>
              <p:cNvPr id="192" name="Line 51"/>
              <p:cNvSpPr/>
              <p:nvPr/>
            </p:nvSpPr>
            <p:spPr>
              <a:xfrm>
                <a:off x="6884640" y="1793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6884640" y="1793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52"/>
          <p:cNvGrpSpPr/>
          <p:nvPr/>
        </p:nvGrpSpPr>
        <p:grpSpPr>
          <a:xfrm>
            <a:off x="6725880" y="3141360"/>
            <a:ext cx="310680" cy="688680"/>
            <a:chOff x="6725880" y="3141360"/>
            <a:chExt cx="310680" cy="688680"/>
          </a:xfrm>
        </p:grpSpPr>
        <p:sp>
          <p:nvSpPr>
            <p:cNvPr id="195" name="Oval 53"/>
            <p:cNvSpPr/>
            <p:nvPr/>
          </p:nvSpPr>
          <p:spPr>
            <a:xfrm rot="10867200">
              <a:off x="6728760" y="3521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85720" y="3141360"/>
              <a:ext cx="6480" cy="304920"/>
              <a:chOff x="6885720" y="3141360"/>
              <a:chExt cx="6480" cy="304920"/>
            </a:xfrm>
          </p:grpSpPr>
          <p:sp>
            <p:nvSpPr>
              <p:cNvPr id="197" name="Line 54"/>
              <p:cNvSpPr/>
              <p:nvPr/>
            </p:nvSpPr>
            <p:spPr>
              <a:xfrm flipV="1">
                <a:off x="6886080" y="3141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67200">
                <a:off x="6888600" y="3141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Group 55"/>
          <p:cNvGrpSpPr/>
          <p:nvPr/>
        </p:nvGrpSpPr>
        <p:grpSpPr>
          <a:xfrm>
            <a:off x="6732720" y="1547640"/>
            <a:ext cx="304560" cy="685800"/>
            <a:chOff x="6732720" y="1547640"/>
            <a:chExt cx="304560" cy="685800"/>
          </a:xfrm>
        </p:grpSpPr>
        <p:sp>
          <p:nvSpPr>
            <p:cNvPr id="200" name="Oval 56"/>
            <p:cNvSpPr/>
            <p:nvPr/>
          </p:nvSpPr>
          <p:spPr>
            <a:xfrm>
              <a:off x="6732720" y="15476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884640" y="1928520"/>
              <a:ext cx="360" cy="304920"/>
              <a:chOff x="6884640" y="1928520"/>
              <a:chExt cx="360" cy="304920"/>
            </a:xfrm>
          </p:grpSpPr>
          <p:sp>
            <p:nvSpPr>
              <p:cNvPr id="202" name="Line 57"/>
              <p:cNvSpPr/>
              <p:nvPr/>
            </p:nvSpPr>
            <p:spPr>
              <a:xfrm>
                <a:off x="6884640" y="1928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6884640" y="1928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58"/>
          <p:cNvGrpSpPr/>
          <p:nvPr/>
        </p:nvGrpSpPr>
        <p:grpSpPr>
          <a:xfrm>
            <a:off x="6725880" y="2997000"/>
            <a:ext cx="310680" cy="688680"/>
            <a:chOff x="6725880" y="2997000"/>
            <a:chExt cx="310680" cy="688680"/>
          </a:xfrm>
        </p:grpSpPr>
        <p:sp>
          <p:nvSpPr>
            <p:cNvPr id="205" name="Oval 59"/>
            <p:cNvSpPr/>
            <p:nvPr/>
          </p:nvSpPr>
          <p:spPr>
            <a:xfrm rot="10867200">
              <a:off x="6728760" y="337752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885720" y="2997000"/>
              <a:ext cx="6480" cy="304920"/>
              <a:chOff x="6885720" y="2997000"/>
              <a:chExt cx="6480" cy="304920"/>
            </a:xfrm>
          </p:grpSpPr>
          <p:sp>
            <p:nvSpPr>
              <p:cNvPr id="207" name="Line 60"/>
              <p:cNvSpPr/>
              <p:nvPr/>
            </p:nvSpPr>
            <p:spPr>
              <a:xfrm flipV="1">
                <a:off x="6886080" y="299700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 rot="10867200">
                <a:off x="6888600" y="2997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61"/>
          <p:cNvGrpSpPr/>
          <p:nvPr/>
        </p:nvGrpSpPr>
        <p:grpSpPr>
          <a:xfrm>
            <a:off x="6732720" y="1700280"/>
            <a:ext cx="304560" cy="685800"/>
            <a:chOff x="6732720" y="1700280"/>
            <a:chExt cx="304560" cy="685800"/>
          </a:xfrm>
        </p:grpSpPr>
        <p:sp>
          <p:nvSpPr>
            <p:cNvPr id="210" name="Oval 62"/>
            <p:cNvSpPr/>
            <p:nvPr/>
          </p:nvSpPr>
          <p:spPr>
            <a:xfrm>
              <a:off x="6732720" y="17002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884640" y="2081160"/>
              <a:ext cx="360" cy="304920"/>
              <a:chOff x="6884640" y="2081160"/>
              <a:chExt cx="360" cy="304920"/>
            </a:xfrm>
          </p:grpSpPr>
          <p:sp>
            <p:nvSpPr>
              <p:cNvPr id="212" name="Line 63"/>
              <p:cNvSpPr/>
              <p:nvPr/>
            </p:nvSpPr>
            <p:spPr>
              <a:xfrm>
                <a:off x="6884640" y="2081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6884640" y="20811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64"/>
          <p:cNvGrpSpPr/>
          <p:nvPr/>
        </p:nvGrpSpPr>
        <p:grpSpPr>
          <a:xfrm>
            <a:off x="6734160" y="2852640"/>
            <a:ext cx="315000" cy="690480"/>
            <a:chOff x="6734160" y="2852640"/>
            <a:chExt cx="315000" cy="690480"/>
          </a:xfrm>
        </p:grpSpPr>
        <p:sp>
          <p:nvSpPr>
            <p:cNvPr id="215" name="Oval 65"/>
            <p:cNvSpPr/>
            <p:nvPr/>
          </p:nvSpPr>
          <p:spPr>
            <a:xfrm rot="10678800">
              <a:off x="6739200" y="32328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872760" y="2852640"/>
              <a:ext cx="11160" cy="304560"/>
              <a:chOff x="6872760" y="2852640"/>
              <a:chExt cx="11160" cy="304560"/>
            </a:xfrm>
          </p:grpSpPr>
          <p:sp>
            <p:nvSpPr>
              <p:cNvPr id="217" name="Line 66"/>
              <p:cNvSpPr/>
              <p:nvPr/>
            </p:nvSpPr>
            <p:spPr>
              <a:xfrm flipH="1" flipV="1">
                <a:off x="6873120" y="2852640"/>
                <a:ext cx="108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0678800">
                <a:off x="6878160" y="2852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68"/>
          <p:cNvSpPr/>
          <p:nvPr/>
        </p:nvSpPr>
        <p:spPr>
          <a:xfrm>
            <a:off x="-111600" y="476280"/>
            <a:ext cx="91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石块由于地球吸引而下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924360" y="501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：互相吸引的分子也具有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75"/>
                            </p:stCondLst>
                            <p:childTnLst>
                              <p:par>
                                <p:cTn id="1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"/>
                            </p:stCondLst>
                            <p:childTnLst>
                              <p:par>
                                <p:cTn id="12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25"/>
                            </p:stCondLst>
                            <p:childTnLst>
                              <p:par>
                                <p:cTn id="12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"/>
                            </p:stCondLst>
                            <p:childTnLst>
                              <p:par>
                                <p:cTn id="1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5"/>
                            </p:stCondLst>
                            <p:childTnLst>
                              <p:par>
                                <p:cTn id="13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25"/>
                            </p:stCondLst>
                            <p:childTnLst>
                              <p:par>
                                <p:cTn id="13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5"/>
                            </p:stCondLst>
                            <p:childTnLst>
                              <p:par>
                                <p:cTn id="15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"/>
                            </p:stCondLst>
                            <p:childTnLst>
                              <p:par>
                                <p:cTn id="1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"/>
                            </p:stCondLst>
                            <p:childTnLst>
                              <p:par>
                                <p:cTn id="15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"/>
                            </p:stCondLst>
                            <p:childTnLst>
                              <p:par>
                                <p:cTn id="16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75"/>
                            </p:stCondLst>
                            <p:childTnLst>
                              <p:par>
                                <p:cTn id="16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"/>
                            </p:stCondLst>
                            <p:childTnLst>
                              <p:par>
                                <p:cTn id="16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25"/>
                            </p:stCondLst>
                            <p:childTnLst>
                              <p:par>
                                <p:cTn id="16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"/>
                            </p:stCondLst>
                            <p:childTnLst>
                              <p:par>
                                <p:cTn id="17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5"/>
                            </p:stCondLst>
                            <p:childTnLst>
                              <p:par>
                                <p:cTn id="17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"/>
                            </p:stCondLst>
                            <p:childTnLst>
                              <p:par>
                                <p:cTn id="17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25"/>
                            </p:stCondLst>
                            <p:childTnLst>
                              <p:par>
                                <p:cTn id="18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"/>
                            </p:stCondLst>
                            <p:childTnLst>
                              <p:par>
                                <p:cTn id="1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75"/>
                            </p:stCondLst>
                            <p:childTnLst>
                              <p:par>
                                <p:cTn id="1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50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5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468360" y="333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被压缩的弹簧的各部分互相排斥而具有势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未"/>
          <p:cNvPicPr/>
          <p:nvPr/>
        </p:nvPicPr>
        <p:blipFill>
          <a:blip r:embed="rId1"/>
          <a:stretch/>
        </p:blipFill>
        <p:spPr>
          <a:xfrm>
            <a:off x="914400" y="3733920"/>
            <a:ext cx="20811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"/>
          <p:cNvGrpSpPr/>
          <p:nvPr/>
        </p:nvGrpSpPr>
        <p:grpSpPr>
          <a:xfrm>
            <a:off x="914400" y="3733920"/>
            <a:ext cx="2081160" cy="1876320"/>
            <a:chOff x="914400" y="3733920"/>
            <a:chExt cx="2081160" cy="1876320"/>
          </a:xfrm>
        </p:grpSpPr>
        <p:pic>
          <p:nvPicPr>
            <p:cNvPr id="224" name="Picture 6" descr="未"/>
            <p:cNvPicPr/>
            <p:nvPr/>
          </p:nvPicPr>
          <p:blipFill>
            <a:blip r:embed="rId2"/>
            <a:stretch/>
          </p:blipFill>
          <p:spPr>
            <a:xfrm>
              <a:off x="914400" y="3733920"/>
              <a:ext cx="2081160" cy="187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2438280" y="4114800"/>
              <a:ext cx="360" cy="1143000"/>
              <a:chOff x="2438280" y="4114800"/>
              <a:chExt cx="360" cy="1143000"/>
            </a:xfrm>
          </p:grpSpPr>
          <p:sp>
            <p:nvSpPr>
              <p:cNvPr id="226" name="Line 7"/>
              <p:cNvSpPr/>
              <p:nvPr/>
            </p:nvSpPr>
            <p:spPr>
              <a:xfrm>
                <a:off x="2438280" y="4114800"/>
                <a:ext cx="0" cy="11430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2438280" y="4114800"/>
                <a:ext cx="36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8" name="Picture 8" descr="未"/>
          <p:cNvPicPr/>
          <p:nvPr/>
        </p:nvPicPr>
        <p:blipFill>
          <a:blip r:embed="rId3"/>
          <a:stretch/>
        </p:blipFill>
        <p:spPr>
          <a:xfrm>
            <a:off x="914400" y="3276720"/>
            <a:ext cx="2081160" cy="2409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未"/>
          <p:cNvPicPr/>
          <p:nvPr/>
        </p:nvPicPr>
        <p:blipFill>
          <a:blip r:embed="rId4"/>
          <a:stretch/>
        </p:blipFill>
        <p:spPr>
          <a:xfrm>
            <a:off x="914400" y="3200400"/>
            <a:ext cx="2081160" cy="2486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未"/>
          <p:cNvPicPr/>
          <p:nvPr/>
        </p:nvPicPr>
        <p:blipFill>
          <a:blip r:embed="rId5"/>
          <a:stretch/>
        </p:blipFill>
        <p:spPr>
          <a:xfrm>
            <a:off x="914400" y="3048120"/>
            <a:ext cx="2081160" cy="263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未"/>
          <p:cNvPicPr/>
          <p:nvPr/>
        </p:nvPicPr>
        <p:blipFill>
          <a:blip r:embed="rId6"/>
          <a:stretch/>
        </p:blipFill>
        <p:spPr>
          <a:xfrm>
            <a:off x="914400" y="2743200"/>
            <a:ext cx="2081160" cy="2943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未"/>
          <p:cNvPicPr/>
          <p:nvPr/>
        </p:nvPicPr>
        <p:blipFill>
          <a:blip r:embed="rId7"/>
          <a:stretch/>
        </p:blipFill>
        <p:spPr>
          <a:xfrm>
            <a:off x="914400" y="2590920"/>
            <a:ext cx="2081160" cy="3171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未"/>
          <p:cNvPicPr/>
          <p:nvPr/>
        </p:nvPicPr>
        <p:blipFill>
          <a:blip r:embed="rId8"/>
          <a:stretch/>
        </p:blipFill>
        <p:spPr>
          <a:xfrm>
            <a:off x="914400" y="2438280"/>
            <a:ext cx="2081160" cy="3324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未"/>
          <p:cNvPicPr/>
          <p:nvPr/>
        </p:nvPicPr>
        <p:blipFill>
          <a:blip r:embed="rId9"/>
          <a:stretch/>
        </p:blipFill>
        <p:spPr>
          <a:xfrm>
            <a:off x="914400" y="2209680"/>
            <a:ext cx="208116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未"/>
          <p:cNvPicPr/>
          <p:nvPr/>
        </p:nvPicPr>
        <p:blipFill>
          <a:blip r:embed="rId10"/>
          <a:stretch/>
        </p:blipFill>
        <p:spPr>
          <a:xfrm>
            <a:off x="539640" y="1413000"/>
            <a:ext cx="2081160" cy="38574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6"/>
          <p:cNvSpPr/>
          <p:nvPr/>
        </p:nvSpPr>
        <p:spPr>
          <a:xfrm>
            <a:off x="3048120" y="1523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互相排斥的分子之间有没有势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7"/>
          <p:cNvGrpSpPr/>
          <p:nvPr/>
        </p:nvGrpSpPr>
        <p:grpSpPr>
          <a:xfrm>
            <a:off x="4495320" y="3505320"/>
            <a:ext cx="686160" cy="380880"/>
            <a:chOff x="4495320" y="3505320"/>
            <a:chExt cx="686160" cy="380880"/>
          </a:xfrm>
        </p:grpSpPr>
        <p:sp>
          <p:nvSpPr>
            <p:cNvPr id="238" name="Oval 18"/>
            <p:cNvSpPr/>
            <p:nvPr/>
          </p:nvSpPr>
          <p:spPr>
            <a:xfrm>
              <a:off x="480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95320" y="3733920"/>
              <a:ext cx="305280" cy="360"/>
              <a:chOff x="4495320" y="3733920"/>
              <a:chExt cx="305280" cy="360"/>
            </a:xfrm>
          </p:grpSpPr>
          <p:sp>
            <p:nvSpPr>
              <p:cNvPr id="240" name="Line 19"/>
              <p:cNvSpPr/>
              <p:nvPr/>
            </p:nvSpPr>
            <p:spPr>
              <a:xfrm flipH="1">
                <a:off x="44953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44956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20"/>
          <p:cNvGrpSpPr/>
          <p:nvPr/>
        </p:nvGrpSpPr>
        <p:grpSpPr>
          <a:xfrm>
            <a:off x="5637960" y="3505320"/>
            <a:ext cx="686520" cy="381240"/>
            <a:chOff x="5637960" y="3505320"/>
            <a:chExt cx="686520" cy="381240"/>
          </a:xfrm>
        </p:grpSpPr>
        <p:sp>
          <p:nvSpPr>
            <p:cNvPr id="243" name="Oval 21"/>
            <p:cNvSpPr/>
            <p:nvPr/>
          </p:nvSpPr>
          <p:spPr>
            <a:xfrm rot="10797600">
              <a:off x="56379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019200" y="3656880"/>
              <a:ext cx="305280" cy="720"/>
              <a:chOff x="6019200" y="3656880"/>
              <a:chExt cx="305280" cy="720"/>
            </a:xfrm>
          </p:grpSpPr>
          <p:sp>
            <p:nvSpPr>
              <p:cNvPr id="245" name="Line 22"/>
              <p:cNvSpPr/>
              <p:nvPr/>
            </p:nvSpPr>
            <p:spPr>
              <a:xfrm flipV="1">
                <a:off x="60195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0797600">
                <a:off x="60188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3"/>
          <p:cNvGrpSpPr/>
          <p:nvPr/>
        </p:nvGrpSpPr>
        <p:grpSpPr>
          <a:xfrm>
            <a:off x="4419360" y="3505320"/>
            <a:ext cx="686160" cy="380880"/>
            <a:chOff x="4419360" y="3505320"/>
            <a:chExt cx="686160" cy="380880"/>
          </a:xfrm>
        </p:grpSpPr>
        <p:sp>
          <p:nvSpPr>
            <p:cNvPr id="248" name="Oval 24"/>
            <p:cNvSpPr/>
            <p:nvPr/>
          </p:nvSpPr>
          <p:spPr>
            <a:xfrm>
              <a:off x="47246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419360" y="3733920"/>
              <a:ext cx="305280" cy="360"/>
              <a:chOff x="4419360" y="3733920"/>
              <a:chExt cx="305280" cy="360"/>
            </a:xfrm>
          </p:grpSpPr>
          <p:sp>
            <p:nvSpPr>
              <p:cNvPr id="250" name="Line 25"/>
              <p:cNvSpPr/>
              <p:nvPr/>
            </p:nvSpPr>
            <p:spPr>
              <a:xfrm flipH="1">
                <a:off x="44193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44197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26"/>
          <p:cNvGrpSpPr/>
          <p:nvPr/>
        </p:nvGrpSpPr>
        <p:grpSpPr>
          <a:xfrm>
            <a:off x="5790600" y="3505320"/>
            <a:ext cx="686520" cy="381240"/>
            <a:chOff x="5790600" y="3505320"/>
            <a:chExt cx="686520" cy="381240"/>
          </a:xfrm>
        </p:grpSpPr>
        <p:sp>
          <p:nvSpPr>
            <p:cNvPr id="253" name="Oval 27"/>
            <p:cNvSpPr/>
            <p:nvPr/>
          </p:nvSpPr>
          <p:spPr>
            <a:xfrm rot="10797600">
              <a:off x="579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171840" y="3656880"/>
              <a:ext cx="305280" cy="720"/>
              <a:chOff x="6171840" y="3656880"/>
              <a:chExt cx="305280" cy="720"/>
            </a:xfrm>
          </p:grpSpPr>
          <p:sp>
            <p:nvSpPr>
              <p:cNvPr id="255" name="Line 28"/>
              <p:cNvSpPr/>
              <p:nvPr/>
            </p:nvSpPr>
            <p:spPr>
              <a:xfrm flipV="1">
                <a:off x="61722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797600">
                <a:off x="61714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9"/>
          <p:cNvGrpSpPr/>
          <p:nvPr/>
        </p:nvGrpSpPr>
        <p:grpSpPr>
          <a:xfrm>
            <a:off x="4343040" y="3505320"/>
            <a:ext cx="686160" cy="380880"/>
            <a:chOff x="4343040" y="3505320"/>
            <a:chExt cx="686160" cy="380880"/>
          </a:xfrm>
        </p:grpSpPr>
        <p:sp>
          <p:nvSpPr>
            <p:cNvPr id="258" name="Oval 30"/>
            <p:cNvSpPr/>
            <p:nvPr/>
          </p:nvSpPr>
          <p:spPr>
            <a:xfrm>
              <a:off x="46483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43040" y="3733920"/>
              <a:ext cx="305280" cy="360"/>
              <a:chOff x="4343040" y="3733920"/>
              <a:chExt cx="305280" cy="360"/>
            </a:xfrm>
          </p:grpSpPr>
          <p:sp>
            <p:nvSpPr>
              <p:cNvPr id="260" name="Line 31"/>
              <p:cNvSpPr/>
              <p:nvPr/>
            </p:nvSpPr>
            <p:spPr>
              <a:xfrm flipH="1">
                <a:off x="434304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434340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32"/>
          <p:cNvGrpSpPr/>
          <p:nvPr/>
        </p:nvGrpSpPr>
        <p:grpSpPr>
          <a:xfrm>
            <a:off x="5866560" y="3505320"/>
            <a:ext cx="686520" cy="381240"/>
            <a:chOff x="5866560" y="3505320"/>
            <a:chExt cx="686520" cy="381240"/>
          </a:xfrm>
        </p:grpSpPr>
        <p:sp>
          <p:nvSpPr>
            <p:cNvPr id="263" name="Oval 33"/>
            <p:cNvSpPr/>
            <p:nvPr/>
          </p:nvSpPr>
          <p:spPr>
            <a:xfrm rot="10797600">
              <a:off x="58665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247800" y="3656880"/>
              <a:ext cx="305280" cy="720"/>
              <a:chOff x="6247800" y="3656880"/>
              <a:chExt cx="305280" cy="720"/>
            </a:xfrm>
          </p:grpSpPr>
          <p:sp>
            <p:nvSpPr>
              <p:cNvPr id="265" name="Line 34"/>
              <p:cNvSpPr/>
              <p:nvPr/>
            </p:nvSpPr>
            <p:spPr>
              <a:xfrm flipV="1">
                <a:off x="62481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 rot="10797600">
                <a:off x="62474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35"/>
          <p:cNvGrpSpPr/>
          <p:nvPr/>
        </p:nvGrpSpPr>
        <p:grpSpPr>
          <a:xfrm>
            <a:off x="4266720" y="3505320"/>
            <a:ext cx="686160" cy="380880"/>
            <a:chOff x="4266720" y="3505320"/>
            <a:chExt cx="686160" cy="380880"/>
          </a:xfrm>
        </p:grpSpPr>
        <p:sp>
          <p:nvSpPr>
            <p:cNvPr id="268" name="Oval 36"/>
            <p:cNvSpPr/>
            <p:nvPr/>
          </p:nvSpPr>
          <p:spPr>
            <a:xfrm>
              <a:off x="45720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266720" y="3733920"/>
              <a:ext cx="305280" cy="360"/>
              <a:chOff x="4266720" y="3733920"/>
              <a:chExt cx="305280" cy="360"/>
            </a:xfrm>
          </p:grpSpPr>
          <p:sp>
            <p:nvSpPr>
              <p:cNvPr id="270" name="Line 37"/>
              <p:cNvSpPr/>
              <p:nvPr/>
            </p:nvSpPr>
            <p:spPr>
              <a:xfrm flipH="1">
                <a:off x="42667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42670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38"/>
          <p:cNvGrpSpPr/>
          <p:nvPr/>
        </p:nvGrpSpPr>
        <p:grpSpPr>
          <a:xfrm>
            <a:off x="5942880" y="3505320"/>
            <a:ext cx="686520" cy="381240"/>
            <a:chOff x="5942880" y="3505320"/>
            <a:chExt cx="686520" cy="381240"/>
          </a:xfrm>
        </p:grpSpPr>
        <p:sp>
          <p:nvSpPr>
            <p:cNvPr id="273" name="Oval 39"/>
            <p:cNvSpPr/>
            <p:nvPr/>
          </p:nvSpPr>
          <p:spPr>
            <a:xfrm rot="10797600">
              <a:off x="59428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6324120" y="3656880"/>
              <a:ext cx="305280" cy="720"/>
              <a:chOff x="6324120" y="3656880"/>
              <a:chExt cx="305280" cy="720"/>
            </a:xfrm>
          </p:grpSpPr>
          <p:sp>
            <p:nvSpPr>
              <p:cNvPr id="275" name="Line 40"/>
              <p:cNvSpPr/>
              <p:nvPr/>
            </p:nvSpPr>
            <p:spPr>
              <a:xfrm flipV="1">
                <a:off x="632448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 rot="10797600">
                <a:off x="632376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1"/>
          <p:cNvGrpSpPr/>
          <p:nvPr/>
        </p:nvGrpSpPr>
        <p:grpSpPr>
          <a:xfrm>
            <a:off x="4190760" y="3505320"/>
            <a:ext cx="686160" cy="380880"/>
            <a:chOff x="4190760" y="3505320"/>
            <a:chExt cx="686160" cy="380880"/>
          </a:xfrm>
        </p:grpSpPr>
        <p:sp>
          <p:nvSpPr>
            <p:cNvPr id="278" name="Oval 42"/>
            <p:cNvSpPr/>
            <p:nvPr/>
          </p:nvSpPr>
          <p:spPr>
            <a:xfrm>
              <a:off x="44960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190760" y="3733920"/>
              <a:ext cx="305280" cy="360"/>
              <a:chOff x="4190760" y="3733920"/>
              <a:chExt cx="305280" cy="360"/>
            </a:xfrm>
          </p:grpSpPr>
          <p:sp>
            <p:nvSpPr>
              <p:cNvPr id="280" name="Line 43"/>
              <p:cNvSpPr/>
              <p:nvPr/>
            </p:nvSpPr>
            <p:spPr>
              <a:xfrm flipH="1">
                <a:off x="41907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1911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44"/>
          <p:cNvGrpSpPr/>
          <p:nvPr/>
        </p:nvGrpSpPr>
        <p:grpSpPr>
          <a:xfrm>
            <a:off x="6019200" y="3505320"/>
            <a:ext cx="686520" cy="381240"/>
            <a:chOff x="6019200" y="3505320"/>
            <a:chExt cx="686520" cy="381240"/>
          </a:xfrm>
        </p:grpSpPr>
        <p:sp>
          <p:nvSpPr>
            <p:cNvPr id="283" name="Oval 45"/>
            <p:cNvSpPr/>
            <p:nvPr/>
          </p:nvSpPr>
          <p:spPr>
            <a:xfrm rot="10797600">
              <a:off x="60192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6400440" y="3656880"/>
              <a:ext cx="305280" cy="720"/>
              <a:chOff x="6400440" y="3656880"/>
              <a:chExt cx="305280" cy="720"/>
            </a:xfrm>
          </p:grpSpPr>
          <p:sp>
            <p:nvSpPr>
              <p:cNvPr id="285" name="Line 46"/>
              <p:cNvSpPr/>
              <p:nvPr/>
            </p:nvSpPr>
            <p:spPr>
              <a:xfrm flipV="1">
                <a:off x="64008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 rot="10797600">
                <a:off x="64000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47"/>
          <p:cNvGrpSpPr/>
          <p:nvPr/>
        </p:nvGrpSpPr>
        <p:grpSpPr>
          <a:xfrm>
            <a:off x="4114440" y="3505320"/>
            <a:ext cx="686160" cy="380880"/>
            <a:chOff x="4114440" y="3505320"/>
            <a:chExt cx="686160" cy="380880"/>
          </a:xfrm>
        </p:grpSpPr>
        <p:sp>
          <p:nvSpPr>
            <p:cNvPr id="288" name="Oval 48"/>
            <p:cNvSpPr/>
            <p:nvPr/>
          </p:nvSpPr>
          <p:spPr>
            <a:xfrm>
              <a:off x="44197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114440" y="3733920"/>
              <a:ext cx="305280" cy="360"/>
              <a:chOff x="4114440" y="3733920"/>
              <a:chExt cx="305280" cy="360"/>
            </a:xfrm>
          </p:grpSpPr>
          <p:sp>
            <p:nvSpPr>
              <p:cNvPr id="290" name="Line 49"/>
              <p:cNvSpPr/>
              <p:nvPr/>
            </p:nvSpPr>
            <p:spPr>
              <a:xfrm flipH="1">
                <a:off x="411444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411480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50"/>
          <p:cNvGrpSpPr/>
          <p:nvPr/>
        </p:nvGrpSpPr>
        <p:grpSpPr>
          <a:xfrm>
            <a:off x="6095160" y="3505320"/>
            <a:ext cx="686520" cy="381240"/>
            <a:chOff x="6095160" y="3505320"/>
            <a:chExt cx="686520" cy="381240"/>
          </a:xfrm>
        </p:grpSpPr>
        <p:sp>
          <p:nvSpPr>
            <p:cNvPr id="293" name="Oval 51"/>
            <p:cNvSpPr/>
            <p:nvPr/>
          </p:nvSpPr>
          <p:spPr>
            <a:xfrm rot="10797600">
              <a:off x="60951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476400" y="3656880"/>
              <a:ext cx="305280" cy="720"/>
              <a:chOff x="6476400" y="3656880"/>
              <a:chExt cx="305280" cy="720"/>
            </a:xfrm>
          </p:grpSpPr>
          <p:sp>
            <p:nvSpPr>
              <p:cNvPr id="295" name="Line 52"/>
              <p:cNvSpPr/>
              <p:nvPr/>
            </p:nvSpPr>
            <p:spPr>
              <a:xfrm flipV="1">
                <a:off x="64767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797600">
                <a:off x="64760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53"/>
          <p:cNvGrpSpPr/>
          <p:nvPr/>
        </p:nvGrpSpPr>
        <p:grpSpPr>
          <a:xfrm>
            <a:off x="4038120" y="3505320"/>
            <a:ext cx="686160" cy="380880"/>
            <a:chOff x="4038120" y="3505320"/>
            <a:chExt cx="686160" cy="380880"/>
          </a:xfrm>
        </p:grpSpPr>
        <p:sp>
          <p:nvSpPr>
            <p:cNvPr id="298" name="Oval 54"/>
            <p:cNvSpPr/>
            <p:nvPr/>
          </p:nvSpPr>
          <p:spPr>
            <a:xfrm>
              <a:off x="43434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038120" y="3733920"/>
              <a:ext cx="305280" cy="360"/>
              <a:chOff x="4038120" y="3733920"/>
              <a:chExt cx="305280" cy="360"/>
            </a:xfrm>
          </p:grpSpPr>
          <p:sp>
            <p:nvSpPr>
              <p:cNvPr id="300" name="Line 55"/>
              <p:cNvSpPr/>
              <p:nvPr/>
            </p:nvSpPr>
            <p:spPr>
              <a:xfrm flipH="1">
                <a:off x="40381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40384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56"/>
          <p:cNvGrpSpPr/>
          <p:nvPr/>
        </p:nvGrpSpPr>
        <p:grpSpPr>
          <a:xfrm>
            <a:off x="6171480" y="3505320"/>
            <a:ext cx="686520" cy="381240"/>
            <a:chOff x="6171480" y="3505320"/>
            <a:chExt cx="686520" cy="381240"/>
          </a:xfrm>
        </p:grpSpPr>
        <p:sp>
          <p:nvSpPr>
            <p:cNvPr id="303" name="Oval 57"/>
            <p:cNvSpPr/>
            <p:nvPr/>
          </p:nvSpPr>
          <p:spPr>
            <a:xfrm rot="10797600">
              <a:off x="61714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552720" y="3656880"/>
              <a:ext cx="305280" cy="720"/>
              <a:chOff x="6552720" y="3656880"/>
              <a:chExt cx="305280" cy="720"/>
            </a:xfrm>
          </p:grpSpPr>
          <p:sp>
            <p:nvSpPr>
              <p:cNvPr id="305" name="Line 58"/>
              <p:cNvSpPr/>
              <p:nvPr/>
            </p:nvSpPr>
            <p:spPr>
              <a:xfrm flipV="1">
                <a:off x="655308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10797600">
                <a:off x="655236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59"/>
          <p:cNvGrpSpPr/>
          <p:nvPr/>
        </p:nvGrpSpPr>
        <p:grpSpPr>
          <a:xfrm>
            <a:off x="3962160" y="3505320"/>
            <a:ext cx="686160" cy="380880"/>
            <a:chOff x="3962160" y="3505320"/>
            <a:chExt cx="686160" cy="380880"/>
          </a:xfrm>
        </p:grpSpPr>
        <p:sp>
          <p:nvSpPr>
            <p:cNvPr id="308" name="Oval 60"/>
            <p:cNvSpPr/>
            <p:nvPr/>
          </p:nvSpPr>
          <p:spPr>
            <a:xfrm>
              <a:off x="42674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2160" y="3733920"/>
              <a:ext cx="305280" cy="360"/>
              <a:chOff x="3962160" y="3733920"/>
              <a:chExt cx="305280" cy="360"/>
            </a:xfrm>
          </p:grpSpPr>
          <p:sp>
            <p:nvSpPr>
              <p:cNvPr id="310" name="Line 61"/>
              <p:cNvSpPr/>
              <p:nvPr/>
            </p:nvSpPr>
            <p:spPr>
              <a:xfrm flipH="1">
                <a:off x="39621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39625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62"/>
          <p:cNvGrpSpPr/>
          <p:nvPr/>
        </p:nvGrpSpPr>
        <p:grpSpPr>
          <a:xfrm>
            <a:off x="6247800" y="3505320"/>
            <a:ext cx="686520" cy="381240"/>
            <a:chOff x="6247800" y="3505320"/>
            <a:chExt cx="686520" cy="381240"/>
          </a:xfrm>
        </p:grpSpPr>
        <p:sp>
          <p:nvSpPr>
            <p:cNvPr id="313" name="Oval 63"/>
            <p:cNvSpPr/>
            <p:nvPr/>
          </p:nvSpPr>
          <p:spPr>
            <a:xfrm rot="10797600">
              <a:off x="62478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629040" y="3656880"/>
              <a:ext cx="305280" cy="720"/>
              <a:chOff x="6629040" y="3656880"/>
              <a:chExt cx="305280" cy="720"/>
            </a:xfrm>
          </p:grpSpPr>
          <p:sp>
            <p:nvSpPr>
              <p:cNvPr id="315" name="Line 64"/>
              <p:cNvSpPr/>
              <p:nvPr/>
            </p:nvSpPr>
            <p:spPr>
              <a:xfrm flipV="1">
                <a:off x="66294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10797600">
                <a:off x="66286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Text Box 65"/>
          <p:cNvSpPr/>
          <p:nvPr/>
        </p:nvSpPr>
        <p:spPr>
          <a:xfrm>
            <a:off x="2987640" y="47973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互相排斥的分子也具有势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5"/>
                            </p:stCondLst>
                            <p:childTnLst>
                              <p:par>
                                <p:cTn id="24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"/>
                            </p:stCondLst>
                            <p:childTnLst>
                              <p:par>
                                <p:cTn id="24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5"/>
                            </p:stCondLst>
                            <p:childTnLst>
                              <p:par>
                                <p:cTn id="25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"/>
                            </p:stCondLst>
                            <p:childTnLst>
                              <p:par>
                                <p:cTn id="25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75"/>
                            </p:stCondLst>
                            <p:childTnLst>
                              <p:par>
                                <p:cTn id="25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"/>
                            </p:stCondLst>
                            <p:childTnLst>
                              <p:par>
                                <p:cTn id="25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25"/>
                            </p:stCondLst>
                            <p:childTnLst>
                              <p:par>
                                <p:cTn id="2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75"/>
                            </p:stCondLst>
                            <p:childTnLst>
                              <p:par>
                                <p:cTn id="26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50"/>
                            </p:stCondLst>
                            <p:childTnLst>
                              <p:par>
                                <p:cTn id="27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25"/>
                            </p:stCondLst>
                            <p:childTnLst>
                              <p:par>
                                <p:cTn id="27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00"/>
                            </p:stCondLst>
                            <p:childTnLst>
                              <p:par>
                                <p:cTn id="2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75"/>
                            </p:stCondLst>
                            <p:childTnLst>
                              <p:par>
                                <p:cTn id="28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5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50"/>
                            </p:stCondLst>
                            <p:childTnLst>
                              <p:par>
                                <p:cTn id="2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84360" y="1628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内部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所有分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热运动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子势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总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物体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0" y="476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内能定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11280" y="49417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单位：焦耳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95280" y="1989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二）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内能跟温度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0" y="256536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、温度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411280" y="285264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26920" y="38606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无规则运动越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4211640" y="407664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258920" y="501336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成这个物体的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的动能总和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4356000" y="537372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4067280" y="515772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364000" y="501336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这个物体的内能也就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059280" y="256536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的无规则运动就越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4932360" y="3860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子动能就越大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64360" y="3213000"/>
            <a:ext cx="838080" cy="360"/>
            <a:chOff x="7164360" y="3213000"/>
            <a:chExt cx="838080" cy="360"/>
          </a:xfrm>
        </p:grpSpPr>
        <p:sp>
          <p:nvSpPr>
            <p:cNvPr id="333" name="Line 13"/>
            <p:cNvSpPr/>
            <p:nvPr/>
          </p:nvSpPr>
          <p:spPr>
            <a:xfrm>
              <a:off x="7164360" y="321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7164360" y="3213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028000" y="3213000"/>
            <a:ext cx="360" cy="457200"/>
            <a:chOff x="8028000" y="3213000"/>
            <a:chExt cx="360" cy="457200"/>
          </a:xfrm>
        </p:grpSpPr>
        <p:sp>
          <p:nvSpPr>
            <p:cNvPr id="336" name="Line 14"/>
            <p:cNvSpPr/>
            <p:nvPr/>
          </p:nvSpPr>
          <p:spPr>
            <a:xfrm>
              <a:off x="8028000" y="3213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8028000" y="3213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4920" y="3716280"/>
            <a:ext cx="7620480" cy="360"/>
            <a:chOff x="394920" y="3716280"/>
            <a:chExt cx="7620480" cy="360"/>
          </a:xfrm>
        </p:grpSpPr>
        <p:sp>
          <p:nvSpPr>
            <p:cNvPr id="339" name="Line 15"/>
            <p:cNvSpPr/>
            <p:nvPr/>
          </p:nvSpPr>
          <p:spPr>
            <a:xfrm flipH="1">
              <a:off x="394920" y="37162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95280" y="371628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95280" y="3716280"/>
            <a:ext cx="360" cy="685800"/>
            <a:chOff x="395280" y="3716280"/>
            <a:chExt cx="360" cy="685800"/>
          </a:xfrm>
        </p:grpSpPr>
        <p:sp>
          <p:nvSpPr>
            <p:cNvPr id="342" name="Line 16"/>
            <p:cNvSpPr/>
            <p:nvPr/>
          </p:nvSpPr>
          <p:spPr>
            <a:xfrm>
              <a:off x="395280" y="3716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95280" y="3716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95280" y="4360680"/>
            <a:ext cx="533520" cy="11160"/>
            <a:chOff x="395280" y="4360680"/>
            <a:chExt cx="533520" cy="11160"/>
          </a:xfrm>
        </p:grpSpPr>
        <p:sp>
          <p:nvSpPr>
            <p:cNvPr id="345" name="Line 17"/>
            <p:cNvSpPr/>
            <p:nvPr/>
          </p:nvSpPr>
          <p:spPr>
            <a:xfrm>
              <a:off x="395280" y="4362480"/>
              <a:ext cx="533520" cy="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 rot="10861800">
              <a:off x="395280" y="4365360"/>
              <a:ext cx="533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451640" y="4437000"/>
            <a:ext cx="609840" cy="360"/>
            <a:chOff x="7451640" y="4437000"/>
            <a:chExt cx="609840" cy="360"/>
          </a:xfrm>
        </p:grpSpPr>
        <p:sp>
          <p:nvSpPr>
            <p:cNvPr id="348" name="Line 18"/>
            <p:cNvSpPr/>
            <p:nvPr/>
          </p:nvSpPr>
          <p:spPr>
            <a:xfrm>
              <a:off x="7451640" y="4437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7451640" y="44370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8028000" y="4437000"/>
            <a:ext cx="360" cy="457200"/>
            <a:chOff x="8028000" y="4437000"/>
            <a:chExt cx="360" cy="457200"/>
          </a:xfrm>
        </p:grpSpPr>
        <p:sp>
          <p:nvSpPr>
            <p:cNvPr id="351" name="Line 19"/>
            <p:cNvSpPr/>
            <p:nvPr/>
          </p:nvSpPr>
          <p:spPr>
            <a:xfrm>
              <a:off x="8028000" y="4437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8028000" y="4437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000" y="4797360"/>
            <a:ext cx="7620480" cy="360"/>
            <a:chOff x="468000" y="4797360"/>
            <a:chExt cx="7620480" cy="360"/>
          </a:xfrm>
        </p:grpSpPr>
        <p:sp>
          <p:nvSpPr>
            <p:cNvPr id="354" name="Line 20"/>
            <p:cNvSpPr/>
            <p:nvPr/>
          </p:nvSpPr>
          <p:spPr>
            <a:xfrm flipH="1">
              <a:off x="468000" y="479736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68360" y="479736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8360" y="4724280"/>
            <a:ext cx="360" cy="762120"/>
            <a:chOff x="468360" y="4724280"/>
            <a:chExt cx="360" cy="762120"/>
          </a:xfrm>
        </p:grpSpPr>
        <p:sp>
          <p:nvSpPr>
            <p:cNvPr id="357" name="Line 21"/>
            <p:cNvSpPr/>
            <p:nvPr/>
          </p:nvSpPr>
          <p:spPr>
            <a:xfrm>
              <a:off x="468360" y="4724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468360" y="47242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68360" y="5589720"/>
            <a:ext cx="762120" cy="360"/>
            <a:chOff x="468360" y="5589720"/>
            <a:chExt cx="762120" cy="360"/>
          </a:xfrm>
        </p:grpSpPr>
        <p:sp>
          <p:nvSpPr>
            <p:cNvPr id="360" name="Line 22"/>
            <p:cNvSpPr/>
            <p:nvPr/>
          </p:nvSpPr>
          <p:spPr>
            <a:xfrm>
              <a:off x="468360" y="5589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468360" y="558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3"/>
          <p:cNvSpPr/>
          <p:nvPr/>
        </p:nvSpPr>
        <p:spPr>
          <a:xfrm>
            <a:off x="17928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一）、哪些物体有内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468360" y="76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都有内能。因为一切物体的分子都在不停的做无规则运动，因而具有动能。分子之间有相互作用的力，因而具有势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250920" y="609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影响内能的因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温度、体积、质量、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755640" y="260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三）、内能和机械能有什么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22200" y="692280"/>
            <a:ext cx="882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能是物体内部所有分子做无规则运动的动能和分子势能的总和，跟物体整体的运动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机械能与整个物体的机械运动有关。例如，抛到空中的球，离开地面具有重力势能，它在空中飞行，具有动能，球的动能和重力势能构成球的机械能。同时，球内部的分子也在做无规则的热运动，而且分子这间有相互作用力，因此球在具有机械能的同时还具有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22200" y="436572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地面上静止的小木块有没有机械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116000" y="494172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2200" y="544500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地面上静止的小木块有没有内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55640" y="59500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内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7:15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8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