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4.png" ContentType="image/png"/>
  <Override PartName="/ppt/media/image16.gif" ContentType="image/gif"/>
  <Override PartName="/ppt/media/image15.jpeg" ContentType="image/jpeg"/>
  <Override PartName="/ppt/media/image7.jpeg" ContentType="image/jpeg"/>
  <Override PartName="/ppt/media/image4.jpeg" ContentType="image/jpeg"/>
  <Override PartName="/ppt/media/image13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7E6-E111-45CF-8EFD-B5756FEB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F8A8-EB1F-4448-8B27-BE25E35A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2C0-C11F-4518-BA07-6903B27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041-40F6-4F95-9265-7BCEB86A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A180-EAEA-4892-BE27-6C5B848A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9097-F72B-4FD9-9096-08884B27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7BFF-42B7-40B5-A7CD-88ABE62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09AF-3D08-46AC-8767-00AB3791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358A-403A-42B2-92A6-5286C710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749-BCAA-4EF3-8088-1671E02B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05A5-8829-4E02-AEBA-ACA71CB3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77A-B17C-4D7C-90EB-366A8C00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D62C-BCEC-410D-99F3-268D0AB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7D60-EF37-4AE4-8DDB-0ADD784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40A-FC60-4C0D-BAE7-102FB894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BFA5-0152-4CF8-87CF-A39F9343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F26-7E60-4C74-9D9F-A2B00311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BEE-4F31-40C0-8D4D-3F70F864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B34-34CE-4FEB-B202-08825D40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222-CD72-4C84-B13E-15112CEB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58E-26DC-4ED5-8C61-F03EE81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8EA-5D28-4444-9BCD-573C1D3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B1A-60EB-4C5C-900C-3A70316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869-5D83-4BD1-8EA1-8584B44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2E9-5FC5-44CF-9F1F-7AD8B1D6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C5F-903B-44FB-94CC-77770737FA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0"/>
          <p:cNvPicPr/>
          <p:nvPr/>
        </p:nvPicPr>
        <p:blipFill>
          <a:blip r:embed="rId2"/>
          <a:stretch/>
        </p:blipFill>
        <p:spPr>
          <a:xfrm>
            <a:off x="52560" y="4508640"/>
            <a:ext cx="1201680" cy="1420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42"/>
          <p:cNvPicPr/>
          <p:nvPr/>
        </p:nvPicPr>
        <p:blipFill>
          <a:blip r:embed="rId3"/>
          <a:stretch/>
        </p:blipFill>
        <p:spPr>
          <a:xfrm>
            <a:off x="4670280" y="5334120"/>
            <a:ext cx="127008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6"/>
          <p:cNvSpPr/>
          <p:nvPr/>
        </p:nvSpPr>
        <p:spPr>
          <a:xfrm>
            <a:off x="539640" y="8269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 六年级品德与社会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8"/>
          <p:cNvSpPr txBox="1"/>
          <p:nvPr/>
        </p:nvSpPr>
        <p:spPr>
          <a:xfrm>
            <a:off x="1224000" y="2479680"/>
            <a:ext cx="684036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男生和女生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1906560" y="155736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单元   你我同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1763640" y="620640"/>
            <a:ext cx="738036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男孩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男孩是土地，坚定中充满锐利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女孩是春雨，善感而美丽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男孩爱在绿茵场上驰骋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女孩喜在阳光下嬉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男孩会自我鼓励说：我要坚强，我要执著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女孩常对潮流讲：我会欣赏，我能把握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男孩的目光在网络中穿梭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女孩的手指在键盘上流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如今的男孩女孩呀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共撑一片蓝天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457200" y="304920"/>
            <a:ext cx="22096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歌朗诵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18" name="Picture 5" descr="B_023"/>
          <p:cNvPicPr/>
          <p:nvPr/>
        </p:nvPicPr>
        <p:blipFill>
          <a:blip r:embed="rId2"/>
          <a:stretch/>
        </p:blipFill>
        <p:spPr>
          <a:xfrm>
            <a:off x="6551640" y="404640"/>
            <a:ext cx="2592360" cy="2530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332000" y="5803920"/>
            <a:ext cx="75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希望我们班的男生、女生携起手来，共同构筑温暖、友爱的大集体。愿我们的友谊地久天长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7"/>
          <p:cNvSpPr/>
          <p:nvPr/>
        </p:nvSpPr>
        <p:spPr>
          <a:xfrm>
            <a:off x="5562720" y="73008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1332000" y="1557360"/>
            <a:ext cx="669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同桌，我想对你说：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4000" y="378936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句真诚的赞美，一份由衷的关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点善意的忠告，增进彼此的友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1461-3B72-4D38-914F-07403F74F5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694320" y="2140560"/>
            <a:ext cx="18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自己的语言来赞美班里的异性同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一个充满个性的男孩或女孩形象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 rot="316800">
            <a:off x="831600" y="130320"/>
            <a:ext cx="2374920" cy="17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efafe6"/>
                </a:solidFill>
                <a:latin typeface="宋体"/>
              </a:rPr>
              <a:t>作业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efafe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6"/>
          <p:cNvSpPr txBox="1"/>
          <p:nvPr/>
        </p:nvSpPr>
        <p:spPr>
          <a:xfrm rot="344400">
            <a:off x="324000" y="1557360"/>
            <a:ext cx="3384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98000"/>
                </a:gradFill>
                <a:latin typeface="宋体"/>
              </a:rPr>
              <a:t>我是女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98000"/>
              </a:gradFill>
              <a:latin typeface="宋体"/>
              <a:ea typeface="宋体"/>
            </a:endParaRPr>
          </a:p>
        </p:txBody>
      </p:sp>
      <p:sp>
        <p:nvSpPr>
          <p:cNvPr id="89" name="WordArt 7"/>
          <p:cNvSpPr txBox="1"/>
          <p:nvPr/>
        </p:nvSpPr>
        <p:spPr>
          <a:xfrm rot="186000">
            <a:off x="826560" y="4149720"/>
            <a:ext cx="3384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74000"/>
                </a:gradFill>
                <a:latin typeface="宋体"/>
              </a:rPr>
              <a:t>我是男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74000"/>
              </a:gradFill>
              <a:latin typeface="宋体"/>
              <a:ea typeface="宋体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5364000" y="1268280"/>
            <a:ext cx="2880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我有优势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91" name="WordArt 11"/>
          <p:cNvSpPr txBox="1"/>
          <p:nvPr/>
        </p:nvSpPr>
        <p:spPr>
          <a:xfrm>
            <a:off x="5508720" y="3716280"/>
            <a:ext cx="2808360" cy="151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我有优势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50920" y="2349360"/>
            <a:ext cx="523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女孩子温柔、细腻，善于关心他人，乐于奉献，勤奋刻苦、专心用功、责任心比较强，认真踏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 rot="492600">
            <a:off x="0" y="189000"/>
            <a:ext cx="453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368000"/>
                </a:gradFill>
                <a:latin typeface="宋体"/>
              </a:rPr>
              <a:t>女生的优势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368000"/>
              </a:gradFill>
              <a:latin typeface="宋体"/>
              <a:ea typeface="宋体"/>
            </a:endParaRPr>
          </a:p>
        </p:txBody>
      </p:sp>
      <p:sp>
        <p:nvSpPr>
          <p:cNvPr id="95" name="文本框 8199"/>
          <p:cNvSpPr/>
          <p:nvPr/>
        </p:nvSpPr>
        <p:spPr>
          <a:xfrm>
            <a:off x="1397160" y="2014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31"/>
          <p:cNvPicPr/>
          <p:nvPr/>
        </p:nvPicPr>
        <p:blipFill>
          <a:blip r:embed="rId1"/>
          <a:stretch/>
        </p:blipFill>
        <p:spPr>
          <a:xfrm>
            <a:off x="0" y="690480"/>
            <a:ext cx="9144000" cy="616608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546120" y="333360"/>
            <a:ext cx="4876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男生的优势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95280" y="2057400"/>
            <a:ext cx="70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开朗、坚强、勇敢、富有责任感，好问好想。在女孩子遇到困难的时候，愿意挺身而出，帮助女孩子解决她们所不能解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755640" y="692280"/>
            <a:ext cx="7667640" cy="49950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99"/>
                </a:solidFill>
                <a:latin typeface="Times New Roman"/>
                <a:ea typeface="华文彩云"/>
              </a:rPr>
              <a:t>大家写一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你欣赏怎样的男生或女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欣赏这样的男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不喜欢这样的男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欣赏这样的女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我不喜欢这样的女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28"/>
          <p:cNvPicPr/>
          <p:nvPr/>
        </p:nvPicPr>
        <p:blipFill>
          <a:blip r:embed="rId2"/>
          <a:stretch/>
        </p:blipFill>
        <p:spPr>
          <a:xfrm>
            <a:off x="7696080" y="135576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101" name="WordArt 8"/>
          <p:cNvSpPr txBox="1"/>
          <p:nvPr/>
        </p:nvSpPr>
        <p:spPr>
          <a:xfrm>
            <a:off x="539640" y="450720"/>
            <a:ext cx="381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7929720" y="4292640"/>
            <a:ext cx="458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524720" y="4869000"/>
            <a:ext cx="16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476360" y="306864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4000" y="2492280"/>
            <a:ext cx="8820000" cy="1312920"/>
          </a:xfrm>
          <a:prstGeom prst="rect">
            <a:avLst/>
          </a:prstGeom>
          <a:solidFill>
            <a:srgbClr val="efa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实生活中人们对男孩和女孩在要求或态度上有什么不同，产生这些不同的原因是什么呢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00" y="549360"/>
            <a:ext cx="8497800" cy="1473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议一议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才能做一个让别人喜欢的好男孩或好女孩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3068640"/>
            <a:ext cx="7999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生女生正常交往：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有利于班集体的团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有利于少男少女身心健康和发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9907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755640" y="404640"/>
            <a:ext cx="4495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男生和女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50920" y="1989000"/>
            <a:ext cx="63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女同学之间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正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往，可以增进我们对异性的了解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优势互补，取长补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完善自己的个性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促进自己个性的充分发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扩大交往范围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锻炼交往能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学习如何适应社会对不同性别的要求，增进自己的性别意识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培养健康的性心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1916280"/>
            <a:ext cx="8839080" cy="1556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同学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在青春这个美丽的季节里，总有一种关怀让我们心存感激， 如果把男生比做热情的红色，坦率的蓝色，那么女生就是活泼的黄色，纯洁的白色，让我们用青春的调色板调出和谐的颜色，为我们的校园描绘出最精彩绚丽的画卷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295280" y="54864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        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2004dxl0024"/>
          <p:cNvPicPr/>
          <p:nvPr/>
        </p:nvPicPr>
        <p:blipFill>
          <a:blip r:embed="rId1"/>
          <a:stretch/>
        </p:blipFill>
        <p:spPr>
          <a:xfrm>
            <a:off x="2286000" y="5105520"/>
            <a:ext cx="1654200" cy="17524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2627280" y="836640"/>
            <a:ext cx="343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师的祝福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文本框 8199"/>
          <p:cNvSpPr/>
          <p:nvPr/>
        </p:nvSpPr>
        <p:spPr>
          <a:xfrm>
            <a:off x="2481120" y="2017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5:2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4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