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5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B8E-D687-48B7-9804-A90B6A32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362320" y="349092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97D-4689-4789-973C-2C0728C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0340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91C-D3DB-4842-9D5A-D54C4F37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007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91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3623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007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91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DFC-47D2-4A67-B70E-7304C08A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35F-EDD4-4A19-BAA5-82FA6600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BF9C-715D-4F7C-BDFE-F7409ABA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F964-6001-4C1F-8CB9-2E2D9E56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643-0FEE-4BCD-A56A-7BC99C2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4841-8EE9-4480-B271-003FD4D7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4C6-2E55-4B03-AE13-232EB4A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9AAD-791C-4649-9190-4F10068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783-7018-4033-98B8-8CA037B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0340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1A85-3E05-44C6-92BA-CD67CF7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C6CC-2613-4F06-A333-E6DAF92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62320" y="349092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533-AC17-4E4A-A19C-69C0D9C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0340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C5C-37F4-467F-92A7-12318591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07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120" y="60948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3623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007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120" y="3490920"/>
            <a:ext cx="203616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CA8-A24D-47DC-A631-CE55E166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834-485F-437A-8BF0-3448EDE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734-B0F5-4E41-9B63-C8C8F140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631-6940-413F-BDAE-41CD7623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CF1-4E2A-4D09-8824-C4DFF74C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07E-8403-4721-AEB6-7DD956A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03400" y="349092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5A1-00BD-4679-B9F4-2C281D6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03400" y="609480"/>
            <a:ext cx="30862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2320" y="3490920"/>
            <a:ext cx="632448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536-38A2-44DE-B14A-EDEF3CE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E30-B92E-4D62-A1C7-7ABB8765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ED0-E53A-4C6F-AD49-DAFA55ADE2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35760"/>
          </a:xfrm>
          <a:prstGeom prst="rect">
            <a:avLst/>
          </a:prstGeom>
          <a:ln w="0">
            <a:noFill/>
          </a:ln>
        </p:spPr>
      </p:pic>
      <p:pic>
        <p:nvPicPr>
          <p:cNvPr id="82" name="矩形 1" descr=""/>
          <p:cNvPicPr/>
          <p:nvPr/>
        </p:nvPicPr>
        <p:blipFill>
          <a:blip r:embed="rId2"/>
          <a:stretch/>
        </p:blipFill>
        <p:spPr>
          <a:xfrm>
            <a:off x="1501920" y="3733920"/>
            <a:ext cx="6302160" cy="699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男生女生，各有所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36232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男生优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开朗、坚强、勇敢、富有责任感，在女孩子遇到困难的时候，愿意挺身而出，帮助女孩子解决她们所不能解决的问题，好问好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女生优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温柔、细腻、善于关心他人、乐于倾听、乐于奉献、勤奋刻苦、专心用功、认真踏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 rot="5400000">
            <a:off x="-329040" y="3376440"/>
            <a:ext cx="28386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起来写写</a:t>
            </a:r>
            <a:r>
              <a:rPr b="1" lang="en-US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4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1460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生写出你最欣赏的五种女生类型以及最讨厌的五种女生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生写出你最欣赏的五种男生类型以及最讨厌的五种男生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这是不记名小调查，所以大家可以各抒己见，请在三分钟内写完之后由每组最后一位同学收上来交到讲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362320" y="609480"/>
            <a:ext cx="308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女生最欣赏怎样的男生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女生最讨厌怎样的男生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00880" y="609480"/>
            <a:ext cx="308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男生最欣赏的怎样的女生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男生最讨厌怎样的女生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5400000">
            <a:off x="-329040" y="3376440"/>
            <a:ext cx="28386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起来写写</a:t>
            </a:r>
            <a:r>
              <a:rPr b="1" lang="en-US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~</a:t>
            </a:r>
            <a:endParaRPr b="1" lang="en-US" sz="4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19320" y="685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&lt;&lt;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少男少女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&gt;&gt;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杂志对全国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60000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名中学生进行了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295280" y="1600200"/>
            <a:ext cx="723924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99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脸上经常有微笑，温柔大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泼而不疯癫，稳重而不呆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沌秀丽，笑起来甜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直口快，朴素善良，随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聪颖，善解人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真不做作，有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听取别人意见，自己又有主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坦然，充满信心和朝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和男生打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头发，大眼睛，说话斯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12120" y="1447920"/>
            <a:ext cx="22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男孩最欣赏的女孩</a:t>
            </a: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7744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男孩最讨厌的女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43000" y="1701720"/>
            <a:ext cx="7207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打扮成一副老谋深算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舌头，对小道消息津津乐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以为是，骄傲自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罗嗦嗦，做事慢慢吞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心眼，爱大惊小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疯疯癫癫，不懂自重自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喜欢和男孩找碴儿吵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容易悲观，动不动就流眼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打扮和传播别人小事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以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姐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笑起来鬼叫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3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女孩最欣赏的男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82480" y="138888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胆，勇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幽默，诙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维敏捷，善于变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学，敏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集体荣誉感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团结同学，重友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主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热心助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强烈上进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勇于承担责任，有魄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03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女孩最讨厌的男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1599840"/>
            <a:ext cx="6858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满口粗言滥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吹牛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气，心胸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心大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于贪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喜欢花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小成功便沾沾自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时过于随便，得过且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遇突发事件易鲁莽冲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5040" indent="-90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做家务，说做家务是女生的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阅读课本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P39-40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回答男女生为什么需要交往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男女生正常交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1760" y="198108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增进对异性的了解，学习对方的长处，完善自己的个性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促进身心健康发展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益于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团结上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班集体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女生之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友善相处，相互学习、相互进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以给我们的学习和生活带来快乐、美好的感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2455920" y="1514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362320" y="1828440"/>
            <a:ext cx="6324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有利于形成团结向上的集体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有益于我们身心的健康发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678960"/>
            <a:ext cx="63244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自然快乐，健康交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29000" y="4648320"/>
            <a:ext cx="4800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12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学期开学，我们班要完成以下任务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搬运书本、分发课本、擦玻璃、擦电风扇、搬课桌、统计在校吃饭人数及收费、打扫本班卫生区的落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如何分配呢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为什么这样分配工作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阅读课本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P40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回答男生女生交往的恰当方式是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142640" y="609480"/>
            <a:ext cx="754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课本中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P37-38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探究园列举的男女生之间交往的例子，结合以下的几幅漫画，全班讨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男女生应该怎样交往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他们的交往合适吗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IMG_1122"/>
          <p:cNvPicPr/>
          <p:nvPr/>
        </p:nvPicPr>
        <p:blipFill>
          <a:blip r:embed="rId1"/>
          <a:stretch/>
        </p:blipFill>
        <p:spPr>
          <a:xfrm>
            <a:off x="609480" y="1523880"/>
            <a:ext cx="24433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900000" y="4797360"/>
            <a:ext cx="7848720" cy="1832040"/>
          </a:xfrm>
          <a:prstGeom prst="wedgeRectCallout">
            <a:avLst>
              <a:gd name="adj1" fmla="val -39601"/>
              <a:gd name="adj2" fmla="val -84662"/>
            </a:avLst>
          </a:prstGeom>
          <a:solidFill>
            <a:srgbClr val="ffffcc"/>
          </a:solidFill>
          <a:ln w="9360">
            <a:solidFill>
              <a:srgbClr val="7fa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们的交往范围只限于同性，而且是两位同学之间，交往范围过于狭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851280" y="1844640"/>
            <a:ext cx="396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851280" y="2205000"/>
            <a:ext cx="468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小米和小魏两家是邻居，他们经常在一起，很少参加班里的集体活动。连集体春游，他俩都是悄悄远离大家，单独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他们的交往合适吗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995640" y="1844640"/>
            <a:ext cx="36734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95640" y="2349360"/>
            <a:ext cx="453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小雯的朋友很多，女生有看电影等活动一定会叫上她，男生骑单车郊游也少不了她，大家都羡慕她的好人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MG_1123"/>
          <p:cNvPicPr/>
          <p:nvPr/>
        </p:nvPicPr>
        <p:blipFill>
          <a:blip r:embed="rId1"/>
          <a:stretch/>
        </p:blipFill>
        <p:spPr>
          <a:xfrm>
            <a:off x="457200" y="1447920"/>
            <a:ext cx="2568600" cy="33861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6"/>
          <p:cNvSpPr/>
          <p:nvPr/>
        </p:nvSpPr>
        <p:spPr>
          <a:xfrm>
            <a:off x="900000" y="4797360"/>
            <a:ext cx="7848720" cy="1944720"/>
          </a:xfrm>
          <a:prstGeom prst="wedgeRectCallout">
            <a:avLst>
              <a:gd name="adj1" fmla="val -34990"/>
              <a:gd name="adj2" fmla="val -76856"/>
            </a:avLst>
          </a:prstGeom>
          <a:solidFill>
            <a:srgbClr val="ffffcc"/>
          </a:solidFill>
          <a:ln w="9360">
            <a:solidFill>
              <a:srgbClr val="7fa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与同性和与异性交往都能正常交往，交往范围广，形成融洽的人际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他们的交往合适吗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24360" y="1844640"/>
            <a:ext cx="38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22560" y="2205000"/>
            <a:ext cx="489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小颖开朗活泼，她和男生的关系很好，经常在一起说说笑笑；而同桌的小雅却不好意思和男生说话，每次向男生借东西都请要小颖出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IMG_1124"/>
          <p:cNvPicPr/>
          <p:nvPr/>
        </p:nvPicPr>
        <p:blipFill>
          <a:blip r:embed="rId1"/>
          <a:stretch/>
        </p:blipFill>
        <p:spPr>
          <a:xfrm>
            <a:off x="304920" y="2349360"/>
            <a:ext cx="3619440" cy="19526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900000" y="5157720"/>
            <a:ext cx="7848720" cy="1584360"/>
          </a:xfrm>
          <a:prstGeom prst="wedgeRectCallout">
            <a:avLst>
              <a:gd name="adj1" fmla="val -39601"/>
              <a:gd name="adj2" fmla="val -112824"/>
            </a:avLst>
          </a:prstGeom>
          <a:solidFill>
            <a:srgbClr val="ffffcc"/>
          </a:solidFill>
          <a:ln w="9360">
            <a:solidFill>
              <a:srgbClr val="7fa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雅不善于与男生交往，需要向小颖学习同异性交往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cc00"/>
                </a:solidFill>
                <a:latin typeface="Arial"/>
                <a:ea typeface="隶书"/>
              </a:rPr>
              <a:t>他们的交往合适吗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067280" y="2421000"/>
            <a:ext cx="475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a006d6"/>
                </a:solidFill>
                <a:latin typeface="Arial"/>
                <a:ea typeface="楷体_GB2312"/>
              </a:rPr>
              <a:t>八年级二班的女生、男生彼此喜欢用“那帮男生”、“那帮女生”来称呼对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IMG_1125"/>
          <p:cNvPicPr/>
          <p:nvPr/>
        </p:nvPicPr>
        <p:blipFill>
          <a:blip r:embed="rId1"/>
          <a:stretch/>
        </p:blipFill>
        <p:spPr>
          <a:xfrm>
            <a:off x="117360" y="2421000"/>
            <a:ext cx="3878280" cy="18111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900000" y="4869000"/>
            <a:ext cx="7848720" cy="1873080"/>
          </a:xfrm>
          <a:prstGeom prst="wedgeRectCallout">
            <a:avLst>
              <a:gd name="adj1" fmla="val -40231"/>
              <a:gd name="adj2" fmla="val -111101"/>
            </a:avLst>
          </a:prstGeom>
          <a:solidFill>
            <a:srgbClr val="ffffcc"/>
          </a:solidFill>
          <a:ln w="9360">
            <a:solidFill>
              <a:srgbClr val="7fa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交往仅局限于男生之间和女生之间，男生女生之间产生隔阂，不利于异性之间的正常交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85800" y="2133720"/>
            <a:ext cx="78422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互相尊重   自重自爱   自然大方 不拘谨       保持距离   把握尺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762120" y="4952880"/>
            <a:ext cx="77724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过分拘谨   过分冷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过分随便   过分亲昵   粗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3124080" y="685800"/>
            <a:ext cx="48006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男女生恰当的交往方式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2819520" y="3809880"/>
            <a:ext cx="480060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男女生不恰当的交往方式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362320" y="1752120"/>
            <a:ext cx="6324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言行恰当，自然大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互相尊重，平等待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爱自重，爱惜自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09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正确交往，把握分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黄色圈圈1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（    ）下列不属于男孩子鲜明特点的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坚强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勇敢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温柔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富有责任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（    ）下列不属于女孩子鲜明特点的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温柔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细腻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冒险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富有同情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3429000" y="4572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C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3581280" y="281952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C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黄色圈圈1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4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    ）在男女同学交往中，以下哪种是正确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嬉笑打闹，亲密无间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自然大方，不过分拘谨、冷淡，也不过分随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在异性面前卖弄，摆阔气，以赢得对方注意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既然是同学，无所谓，怎样做都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    ）教育部组织创编“第一套全国中小学校园集体舞”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日起在全国中小学校全面推广，你认为，中小学生学跳集体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会导致男女同学过分亲密，影响学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容易催社工“早恋”现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有利于促进男女同学的正常交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有利于全面提高学习成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3352680" y="53352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3429000" y="27432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C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0" name="文本框 8199"/>
          <p:cNvSpPr/>
          <p:nvPr/>
        </p:nvSpPr>
        <p:spPr>
          <a:xfrm>
            <a:off x="2190600" y="5654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蓝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68480" cy="158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解男生女生各自的优势和特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确认识异性同学之间的交往与友谊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黄色圈圈1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（    ）七年级某班同学在讨论男女同学交往的话题时，形成以下几种观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你最不认同或不准确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女同学不要交往，以避免早恋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女同学要适度交往，取长补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女同学要正确交往，互帮互助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女同学适度交往有利于营造一种和谐气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（    ）下列属于男女同学正常交往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春游时男生帮女生提行李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生女生划清界限，互不理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生女生经常单独相处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女生常在背后议论男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3429000" y="4572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3581280" y="32004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黄色圈圈1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4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    ）男女同学之间的正常恰当的交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妨碍学习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与自己的成长和成才无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容易形成早恋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有助于完善个性，共同进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    ）关于男生女生交往，下面说法错误的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应采取抑制、回避的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男女生性格互为补充，互为映衬，构成亮丽的青春风景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有利于少男少女身心健康发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有利于班集体的团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    ）男女生交往的前提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自然适度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尊重真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平等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广泛交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3429000" y="53352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3352680" y="25146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3200400" y="50292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F63-6F90-49C0-AD4F-D62A87C73A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8" descr="课堂小结"/>
          <p:cNvPicPr/>
          <p:nvPr/>
        </p:nvPicPr>
        <p:blipFill>
          <a:blip r:embed="rId1"/>
          <a:stretch/>
        </p:blipFill>
        <p:spPr>
          <a:xfrm>
            <a:off x="2819520" y="533520"/>
            <a:ext cx="3771720" cy="71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黄色圈圈"/>
          <p:cNvPicPr/>
          <p:nvPr/>
        </p:nvPicPr>
        <p:blipFill>
          <a:blip r:embed="rId1"/>
          <a:stretch/>
        </p:blipFill>
        <p:spPr>
          <a:xfrm>
            <a:off x="330120" y="431640"/>
            <a:ext cx="1955880" cy="154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重点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男女生应当如何以恰当的方式正常交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难点：男女生应当如何以恰当的方式正常交往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阅读课本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P39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回答男生有哪些优势？女生有哪些优势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2590920" y="533520"/>
            <a:ext cx="6033960" cy="17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Boy  PK  Girl  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1219320" y="3124080"/>
            <a:ext cx="754380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Who  is  the  winner  ?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返回主页按钮"/>
          <p:cNvPicPr/>
          <p:nvPr/>
        </p:nvPicPr>
        <p:blipFill>
          <a:blip r:embed="rId2"/>
          <a:stretch/>
        </p:blipFill>
        <p:spPr>
          <a:xfrm>
            <a:off x="533520" y="52578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世界伟人名录中男子远远超过女子，这是因为男子有优秀的能力，有成为伟人的素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要岗位中从事第一线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男子。如：医院院长、飞行员、银行行长，男子更能通过独立的智力活动来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事智力活动的艺术创作和科学研究中，男子人数遥遥领先于女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时代男生比女生爱动脑子，学习成绩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762120" y="2438280"/>
            <a:ext cx="7924680" cy="22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O , BOYS ARE THE WINNERS!?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762120" y="2133720"/>
            <a:ext cx="7924680" cy="22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NOT SURE !!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文本框 8199"/>
          <p:cNvSpPr/>
          <p:nvPr/>
        </p:nvSpPr>
        <p:spPr>
          <a:xfrm>
            <a:off x="2867040" y="1339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粉色圈圈"/>
          <p:cNvPicPr/>
          <p:nvPr/>
        </p:nvPicPr>
        <p:blipFill>
          <a:blip r:embed="rId1"/>
          <a:stretch/>
        </p:blipFill>
        <p:spPr>
          <a:xfrm>
            <a:off x="304920" y="457200"/>
            <a:ext cx="1955520" cy="158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返回主页按钮"/>
          <p:cNvPicPr/>
          <p:nvPr/>
        </p:nvPicPr>
        <p:blipFill>
          <a:blip r:embed="rId2"/>
          <a:stretch/>
        </p:blipFill>
        <p:spPr>
          <a:xfrm>
            <a:off x="878040" y="5486400"/>
            <a:ext cx="1179360" cy="106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362320" y="609480"/>
            <a:ext cx="6324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生比男生更早地学会说话，更善于表达自己的思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生的想象能力比男子更丰富，更富有创造力，思维灵活，不受常规束缚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子普遍观察敏锐，发现问题和解决问题的直觉力较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妇女从事的培养儿童的工作是智力最高的活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762120" y="2133720"/>
            <a:ext cx="7924680" cy="22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所以，男女各有所长！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6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5Z</dcterms:modified>
  <cp:revision>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