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76F2-6DE0-41C4-8E70-BC33B557B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DF7C0-2324-45BC-A316-B52B2FF13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3DC-F455-4405-897D-1624A81CF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A3E8-4760-40A2-8AF9-DED1A14E5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A197A-E2BE-4EF7-B13D-6EDAAAE4A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854AC-CF3B-4CC1-BAF2-395944AC4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79DC7-F164-4D7E-A58E-502A7063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54C06E-3768-4456-AD5B-85088EA6A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AEC41-93D7-441D-BA1F-9A9EF68B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1E455-018E-47F6-A00B-5604E219D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467EA-DB7D-4DF9-B0FC-847DFC116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C488-AE69-4CDD-B022-1729C76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93183-ED12-4C81-9DBE-45A3CEDB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088D9-557A-4EDC-AF5C-331717973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850F9-7EB7-458F-9EA8-6056B596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1E3B2-F828-4085-9A98-D36985B90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10BCF-FA24-4DD2-B934-C1D070FB69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0970D-EFCB-4E31-9AA3-BA4BF42E8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5E18-434C-46E9-8EC6-5EF227681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8F7E2-33B9-4379-94BC-3B2E7AF7B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1E7B-9A86-444F-B38F-88E8D09E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09D2-F570-454C-B8E9-6B50FBA0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66D1-AA30-40E2-A78C-CDA924FE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1DA-B226-4EF5-8403-96338AE6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16015-775F-4BF4-8614-14477CB47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5C742-FB03-4045-A37C-7DE792A2AEA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WordArt 2"/>
          <p:cNvSpPr txBox="1"/>
          <p:nvPr/>
        </p:nvSpPr>
        <p:spPr>
          <a:xfrm>
            <a:off x="1174680" y="1417680"/>
            <a:ext cx="6319800" cy="63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cap="sq" w="1260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第一节 能源课件</a:t>
            </a:r>
            <a:r>
              <a:rPr b="1" lang="en-US" sz="4000" spc="1" strike="noStrike">
                <a:ln cap="sq" w="1260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cap="sq" w="12600">
                  <a:solidFill>
                    <a:srgbClr val="0000ff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模板免费下载</a:t>
            </a:r>
            <a:endParaRPr b="1" lang="en-US" sz="4000" spc="1" strike="noStrike">
              <a:ln cap="sq" w="12600">
                <a:solidFill>
                  <a:srgbClr val="0000ff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1285920" y="838080"/>
            <a:ext cx="609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第二十二章  能源与可持续发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人们的生活、生产、科研都离不开能源。那么能源包括哪些种，我们应该怎样来开发和有效地利用它们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54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自主阅读课本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6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到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67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页，给能源进行分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8199"/>
          <p:cNvSpPr/>
          <p:nvPr/>
        </p:nvSpPr>
        <p:spPr>
          <a:xfrm>
            <a:off x="1198440" y="22017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28600" y="1077840"/>
            <a:ext cx="3352680" cy="1368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9080">
                  <a:solidFill>
                    <a:srgbClr val="000000"/>
                  </a:solidFill>
                  <a:round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二、能源的分类</a:t>
            </a:r>
            <a:endParaRPr b="1" lang="en-US" sz="1800" spc="1" strike="noStrike">
              <a:ln cap="sq" w="19080">
                <a:solidFill>
                  <a:srgbClr val="000000"/>
                </a:solidFill>
                <a:round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3657600" y="914400"/>
            <a:ext cx="432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按能源的来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3581280" y="2133720"/>
            <a:ext cx="50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按是否可以再生来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3600360" y="3657600"/>
            <a:ext cx="554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按提供能源的物质来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3657600" y="4952880"/>
            <a:ext cx="502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按使用情况来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454560" y="404640"/>
            <a:ext cx="5689440" cy="120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一次能源和二次能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250920" y="260280"/>
            <a:ext cx="28810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333399"/>
                  </a:solidFill>
                  <a:round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按能源的来源分：</a:t>
            </a:r>
            <a:endParaRPr b="1" lang="en-US" sz="1800" spc="1" strike="noStrike">
              <a:ln cap="sq" w="12600">
                <a:solidFill>
                  <a:srgbClr val="333399"/>
                </a:solidFill>
                <a:round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1378440" y="17524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常见的一次能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3377880" y="2590920"/>
            <a:ext cx="12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煤、石油、天然气、风能、水能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地热能、核能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957240" y="37339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常见的二次能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8"/>
          <p:cNvSpPr/>
          <p:nvPr/>
        </p:nvSpPr>
        <p:spPr>
          <a:xfrm flipV="1" rot="10800000">
            <a:off x="761760" y="4418640"/>
            <a:ext cx="23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电能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0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5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2"/>
          <p:cNvSpPr txBox="1"/>
          <p:nvPr/>
        </p:nvSpPr>
        <p:spPr>
          <a:xfrm>
            <a:off x="539640" y="620640"/>
            <a:ext cx="441036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333399"/>
                  </a:solidFill>
                  <a:round/>
                </a:ln>
                <a:solidFill>
                  <a:srgbClr val="333399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按是否可以再生来分：</a:t>
            </a:r>
            <a:endParaRPr b="1" lang="en-US" sz="1800" spc="1" strike="noStrike">
              <a:ln cap="sq" w="12600">
                <a:solidFill>
                  <a:srgbClr val="333399"/>
                </a:solidFill>
                <a:round/>
              </a:ln>
              <a:solidFill>
                <a:srgbClr val="333399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1507320" y="1700280"/>
            <a:ext cx="553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不可再生能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不可能在短期内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自然界得到补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2220480" y="3860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可再生能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：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可以在自然界里源源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                      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断地得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5952600" y="2997360"/>
            <a:ext cx="38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如：化石能源、核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541400" y="5013360"/>
            <a:ext cx="80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如：水能、风能、太阳能、生物质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WordArt 2"/>
          <p:cNvSpPr txBox="1"/>
          <p:nvPr/>
        </p:nvSpPr>
        <p:spPr>
          <a:xfrm>
            <a:off x="457200" y="457200"/>
            <a:ext cx="58849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3366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按提供能源的物质来分：</a:t>
            </a:r>
            <a:endParaRPr b="1" lang="en-US" sz="1800" spc="1" strike="noStrike">
              <a:ln cap="sq" w="12600">
                <a:solidFill>
                  <a:srgbClr val="3366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5" name="Text Box 3"/>
          <p:cNvSpPr/>
          <p:nvPr/>
        </p:nvSpPr>
        <p:spPr>
          <a:xfrm>
            <a:off x="1447920" y="2514600"/>
            <a:ext cx="6476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生物质能、化石能源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核能、风能、太阳能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</a:rPr>
              <a:t>地热能、海洋能等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WordArt 2"/>
          <p:cNvSpPr txBox="1"/>
          <p:nvPr/>
        </p:nvSpPr>
        <p:spPr>
          <a:xfrm>
            <a:off x="826920" y="1628640"/>
            <a:ext cx="5884920" cy="80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cap="sq" w="12600">
                  <a:solidFill>
                    <a:srgbClr val="3366ff"/>
                  </a:solidFill>
                  <a:round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按利用状况来分：</a:t>
            </a:r>
            <a:endParaRPr b="1" lang="en-US" sz="1800" spc="1" strike="noStrike">
              <a:ln cap="sq" w="12600">
                <a:solidFill>
                  <a:srgbClr val="3366ff"/>
                </a:solidFill>
                <a:round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27" name="Text Box 3"/>
          <p:cNvSpPr/>
          <p:nvPr/>
        </p:nvSpPr>
        <p:spPr>
          <a:xfrm>
            <a:off x="1854360" y="320040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常规能源：如化石能源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914400" y="3962520"/>
            <a:ext cx="8893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新能源：  如太阳能、风能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潮汐能、核能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2"/>
          <p:cNvSpPr/>
          <p:nvPr/>
        </p:nvSpPr>
        <p:spPr>
          <a:xfrm>
            <a:off x="2743200" y="609588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世界能源消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Object 3" descr=""/>
          <p:cNvPicPr/>
          <p:nvPr/>
        </p:nvPicPr>
        <p:blipFill>
          <a:blip r:embed="rId1"/>
          <a:stretch/>
        </p:blipFill>
        <p:spPr>
          <a:xfrm>
            <a:off x="430200" y="1143000"/>
            <a:ext cx="8153280" cy="4846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304920" y="304920"/>
            <a:ext cx="82296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世纪的能源趋势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1026"/>
          <p:cNvSpPr/>
          <p:nvPr/>
        </p:nvSpPr>
        <p:spPr>
          <a:xfrm>
            <a:off x="755640" y="907920"/>
            <a:ext cx="770400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科学家对全球化石燃料何时会被耗尽作了估算，其预测结果是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煤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22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油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4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然气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---6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1027"/>
          <p:cNvSpPr/>
          <p:nvPr/>
        </p:nvSpPr>
        <p:spPr>
          <a:xfrm rot="6679800">
            <a:off x="8243640" y="188640"/>
            <a:ext cx="360360" cy="79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5039" y="1521"/>
                  <a:pt x="8478" y="5080"/>
                  <a:pt x="8478" y="10800"/>
                </a:cubicBezTo>
                <a:cubicBezTo>
                  <a:pt x="8478" y="16520"/>
                  <a:pt x="15039" y="2007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1" descr=""/>
          <p:cNvPicPr/>
          <p:nvPr/>
        </p:nvPicPr>
        <p:blipFill>
          <a:blip r:embed="rId1"/>
          <a:stretch/>
        </p:blipFill>
        <p:spPr>
          <a:xfrm>
            <a:off x="295200" y="1371600"/>
            <a:ext cx="86137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学习目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记住什么是能源以及能源的种类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．常识性了解什么是不可再生能源，什么是可再生能源．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5"/>
          <p:cNvSpPr/>
          <p:nvPr/>
        </p:nvSpPr>
        <p:spPr>
          <a:xfrm>
            <a:off x="684360" y="2286000"/>
            <a:ext cx="23749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石燃料的储量有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71400" y="3581280"/>
            <a:ext cx="237672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化石燃料的环境污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3635280" y="2616120"/>
            <a:ext cx="1008000" cy="432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0"/>
          <p:cNvSpPr/>
          <p:nvPr/>
        </p:nvSpPr>
        <p:spPr>
          <a:xfrm>
            <a:off x="4861080" y="2286000"/>
            <a:ext cx="3527280" cy="5814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开发和利用清洁、高效的新能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11"/>
          <p:cNvSpPr/>
          <p:nvPr/>
        </p:nvSpPr>
        <p:spPr>
          <a:xfrm>
            <a:off x="3060720" y="1341360"/>
            <a:ext cx="431640" cy="2925720"/>
          </a:xfrm>
          <a:custGeom>
            <a:avLst/>
            <a:gdLst>
              <a:gd name="textAreaLeft" fmla="*/ 0 w 431640"/>
              <a:gd name="textAreaRight" fmla="*/ 155880 w 431640"/>
              <a:gd name="textAreaTop" fmla="*/ 75960 h 2925720"/>
              <a:gd name="textAreaBottom" fmla="*/ 2849760 h 292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Oval 13"/>
          <p:cNvSpPr/>
          <p:nvPr/>
        </p:nvSpPr>
        <p:spPr>
          <a:xfrm>
            <a:off x="7812000" y="333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4"/>
          <p:cNvSpPr/>
          <p:nvPr/>
        </p:nvSpPr>
        <p:spPr>
          <a:xfrm>
            <a:off x="685800" y="533520"/>
            <a:ext cx="2374920" cy="10688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消耗以化石燃料为主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8199"/>
          <p:cNvSpPr/>
          <p:nvPr/>
        </p:nvSpPr>
        <p:spPr>
          <a:xfrm>
            <a:off x="349236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1219320" y="3627360"/>
            <a:ext cx="693396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一般指太阳能、风能、生物质能、地热能、海洋能等可再生能源，以及氢能、核能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Oval 3"/>
          <p:cNvSpPr/>
          <p:nvPr/>
        </p:nvSpPr>
        <p:spPr>
          <a:xfrm>
            <a:off x="7812000" y="333360"/>
            <a:ext cx="792360" cy="792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4"/>
          <p:cNvSpPr/>
          <p:nvPr/>
        </p:nvSpPr>
        <p:spPr>
          <a:xfrm>
            <a:off x="457200" y="685800"/>
            <a:ext cx="3106800" cy="990720"/>
          </a:xfrm>
          <a:prstGeom prst="wedgeEllipseCallout">
            <a:avLst>
              <a:gd name="adj1" fmla="val 42333"/>
              <a:gd name="adj2" fmla="val 9615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你知道吗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5"/>
          <p:cNvSpPr/>
          <p:nvPr/>
        </p:nvSpPr>
        <p:spPr>
          <a:xfrm>
            <a:off x="1219320" y="2468520"/>
            <a:ext cx="67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哪些能源是通常所说的新能源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当堂检测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学习过了很多种能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就是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比如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的分类方式有多种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能否从自然界直接获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们可将能源分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能源的物质来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将能源分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根据人们对能源利用时间的长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将能源分为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能源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15C7-AB90-426D-9BFF-7B2DB84B6D4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228600" y="9907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能源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属于一次能源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电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核能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能源中，属于化石能源的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柴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树木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石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地热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能源中，不属于可再生能源的是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天然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风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太阳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水的动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  <a:ea typeface="黑体"/>
              </a:rPr>
              <a:t>一、什么是能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19040" y="1523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们每天要吃饭、喝水，用什么来煮饭、烧水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4"/>
          <p:cNvSpPr/>
          <p:nvPr/>
        </p:nvSpPr>
        <p:spPr>
          <a:xfrm>
            <a:off x="533520" y="4114800"/>
            <a:ext cx="8001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煤，煤气，柴草、天然气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要开动汽车、火车、飞机等交通工具需要消耗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回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汽油或者柴油、煤油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煤，煤气，柴草、天然气、汽油、煤油或者柴油等它们在起什么作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答案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它们在以上工作的作用就是提供能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38052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问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你知道还有什么可以提供能量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答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江河里的水流、流动的空气、电、太阳光</a:t>
            </a: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3851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什么是能源</a:t>
            </a:r>
            <a:r>
              <a:rPr b="0" lang="en-US" sz="4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981080"/>
            <a:ext cx="8229600" cy="346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74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300" spc="-1" strike="noStrike">
                <a:solidFill>
                  <a:srgbClr val="333399"/>
                </a:solidFill>
                <a:latin typeface="Arial"/>
              </a:rPr>
              <a:t>像煤、天然气、汽油、水流、风、电、太阳光等</a:t>
            </a:r>
            <a:r>
              <a:rPr b="0" lang="zh-CN" sz="4300" spc="-1" strike="noStrike">
                <a:solidFill>
                  <a:srgbClr val="ff0000"/>
                </a:solidFill>
                <a:latin typeface="Arial"/>
              </a:rPr>
              <a:t>能够提供能量的物质资源，我们把它们都叫做能源</a:t>
            </a:r>
            <a:r>
              <a:rPr b="0" lang="en-US" sz="43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3"/>
          <p:cNvSpPr/>
          <p:nvPr/>
        </p:nvSpPr>
        <p:spPr>
          <a:xfrm>
            <a:off x="134640" y="22860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4191120" y="304920"/>
            <a:ext cx="45720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化石能源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：我们今天使用的煤、石油、天然气，是千百万年前埋在地下的动植物经过漫长的地质年代形成的，所以称为化石能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5" descr="大庆油田"/>
          <p:cNvPicPr/>
          <p:nvPr/>
        </p:nvPicPr>
        <p:blipFill>
          <a:blip r:embed="rId1"/>
          <a:stretch/>
        </p:blipFill>
        <p:spPr>
          <a:xfrm>
            <a:off x="304920" y="1143000"/>
            <a:ext cx="30528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Text Box 3"/>
          <p:cNvSpPr/>
          <p:nvPr/>
        </p:nvSpPr>
        <p:spPr>
          <a:xfrm>
            <a:off x="1125360" y="15238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09480" y="457200"/>
            <a:ext cx="83822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生物质能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人类生活中还广泛的利用食物等生命物质中储存的化学能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这类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由生命物质提供的能量称为生物质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动物性食物 "/>
          <p:cNvPicPr/>
          <p:nvPr/>
        </p:nvPicPr>
        <p:blipFill>
          <a:blip r:embed="rId1"/>
          <a:stretch/>
        </p:blipFill>
        <p:spPr>
          <a:xfrm>
            <a:off x="609480" y="2362320"/>
            <a:ext cx="8077320" cy="33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22T09:24:55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9:00:05Z</dcterms:modified>
  <cp:revision>18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Version">
    <vt:r8>1</vt:r8>
  </property>
</Properties>
</file>