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1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14.jpeg" ContentType="image/jpeg"/>
  <Override PartName="/ppt/media/image38.png" ContentType="image/pn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37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311-AAC6-470E-BB4A-C4901E4C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362-B07A-4F5F-A929-E07BCEB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CB7-1779-419E-9008-E93B1A50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021-0BE0-4AEA-ACDE-74AFE35D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EC9A-6A94-4864-A4F9-F0235A9A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1581-B436-49E5-BFDC-2CB276FD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77B-E496-423F-A7C0-778F558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A085-1D0A-46F7-ADBA-97262EC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34F2-37AD-4A07-9B10-3B9A66CE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F888-5F30-4072-AF8B-6C7074C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15A-683B-4EF1-B747-F0FDD2C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FF1-FF11-48DE-9256-F06CA17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E3B6-D487-4C8F-9EBA-DDBF88C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E2F-09AA-4DB1-A6BA-C313AF0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B15-983E-4978-8DD7-ADBD483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A16-B617-490A-89C2-CB79D450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50B-965E-4657-86A9-82800A3F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D4B-FDB0-4286-AC76-23991EE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E90-34E2-43BC-BEEF-A7A5C00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1AB-8EBF-430F-A792-DBEE611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8BE-1043-43FC-B9CB-01B3435D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7FA-1FA3-4E36-AF53-1AF6F8F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EFD-A1E4-4289-85E5-18571AB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A30-3903-4459-B5DA-322FCA2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973-ED57-47E6-8CE0-441CEEC96B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7E70-D166-48E9-AD3E-7F59E5BA56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1459080" y="2139840"/>
            <a:ext cx="634968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498600" y="1133640"/>
            <a:ext cx="85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能源与可持续发展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26920" y="47952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二十二章 第４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31640" y="1773360"/>
            <a:ext cx="853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下表中，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大量耗用该类能源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会有明显破坏，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对环境不会造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显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31640" y="126828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　　在耗用各种能源时，对环境是否会造成破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376360" y="2816280"/>
            <a:ext cx="5832720" cy="380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7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76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9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议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4" descr="C:\Users\John\Desktop\0025116bbe5b1138ec1d1a.jpg"/>
          <p:cNvPicPr/>
          <p:nvPr/>
        </p:nvPicPr>
        <p:blipFill>
          <a:blip r:embed="rId1"/>
          <a:stretch/>
        </p:blipFill>
        <p:spPr>
          <a:xfrm>
            <a:off x="395280" y="2241720"/>
            <a:ext cx="5796000" cy="4140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431640" y="1268280"/>
            <a:ext cx="84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提高能源的利用率，减少在能源使用中对环境的破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6300720" y="2516040"/>
            <a:ext cx="2232000" cy="50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自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2012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年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月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日起，北京的机动车燃油进行了最新一轮的升级，升级后的燃油更加环保，可以改善大气质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238500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能源与可持续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2201760" y="17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431640" y="3500280"/>
            <a:ext cx="403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可再生能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能、风能、水能等可以在自然界里源源不断地得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:\Users\John\AppData\Roaming\Tencent\Users\76476908\QQ\WinTemp\RichOle\QCBBH~WFXXE)UOJ_O3G545Y.jpg"/>
          <p:cNvPicPr/>
          <p:nvPr/>
        </p:nvPicPr>
        <p:blipFill>
          <a:blip r:embed="rId2"/>
          <a:stretch/>
        </p:blipFill>
        <p:spPr>
          <a:xfrm>
            <a:off x="4751280" y="4581360"/>
            <a:ext cx="3706920" cy="216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John\AppData\Roaming\Tencent\Users\76476908\QQ\WinTemp\RichOle\G0F0ZQ1ATW3TH1UTRHT18ZC.jpg"/>
          <p:cNvPicPr/>
          <p:nvPr/>
        </p:nvPicPr>
        <p:blipFill>
          <a:blip r:embed="rId3"/>
          <a:stretch/>
        </p:blipFill>
        <p:spPr>
          <a:xfrm>
            <a:off x="4751280" y="2457360"/>
            <a:ext cx="3706920" cy="21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John\AppData\Roaming\Tencent\Users\76476908\QQ\WinTemp\RichOle\OK06IITAT)T`K8W_[W~2YEG.jpg"/>
          <p:cNvPicPr/>
          <p:nvPr/>
        </p:nvPicPr>
        <p:blipFill>
          <a:blip r:embed="rId4"/>
          <a:stretch/>
        </p:blipFill>
        <p:spPr>
          <a:xfrm>
            <a:off x="4751280" y="297000"/>
            <a:ext cx="3700440" cy="21952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1037880" y="74916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发展新的理想能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31640" y="1268280"/>
            <a:ext cx="388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可再生能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石能源、核能等能源会越用越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31640" y="3429000"/>
            <a:ext cx="817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你认为风能、太阳能、核能以及你所想到的可能的能源，哪些有可能成为未来的理想能源，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31640" y="1268280"/>
            <a:ext cx="82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能源家族中，有木柴、煤炭、石油、天然气、水能、风能、太阳能、核能等，哪 些属于不可再生能源？哪些属于可再生能源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95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议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43D0-89F2-4790-A0DB-EA005D927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03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6"/>
          <p:cNvGrpSpPr/>
          <p:nvPr/>
        </p:nvGrpSpPr>
        <p:grpSpPr>
          <a:xfrm>
            <a:off x="431640" y="2735280"/>
            <a:ext cx="2657520" cy="2468520"/>
            <a:chOff x="431640" y="2735280"/>
            <a:chExt cx="2657520" cy="2468520"/>
          </a:xfrm>
        </p:grpSpPr>
        <p:pic>
          <p:nvPicPr>
            <p:cNvPr id="206" name="单圆角矩形 2" descr=""/>
            <p:cNvPicPr/>
            <p:nvPr/>
          </p:nvPicPr>
          <p:blipFill>
            <a:blip r:embed="rId3"/>
            <a:stretch/>
          </p:blipFill>
          <p:spPr>
            <a:xfrm>
              <a:off x="431640" y="2735280"/>
              <a:ext cx="26575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8"/>
            <p:cNvSpPr/>
            <p:nvPr/>
          </p:nvSpPr>
          <p:spPr>
            <a:xfrm>
              <a:off x="615960" y="2840040"/>
              <a:ext cx="148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量转移和能量转化的方向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9"/>
          <p:cNvGrpSpPr/>
          <p:nvPr/>
        </p:nvGrpSpPr>
        <p:grpSpPr>
          <a:xfrm>
            <a:off x="3382920" y="2664000"/>
            <a:ext cx="1999800" cy="2468520"/>
            <a:chOff x="3382920" y="2664000"/>
            <a:chExt cx="1999800" cy="2468520"/>
          </a:xfrm>
        </p:grpSpPr>
        <p:pic>
          <p:nvPicPr>
            <p:cNvPr id="209" name="单圆角矩形 3" descr=""/>
            <p:cNvPicPr/>
            <p:nvPr/>
          </p:nvPicPr>
          <p:blipFill>
            <a:blip r:embed="rId4"/>
            <a:stretch/>
          </p:blipFill>
          <p:spPr>
            <a:xfrm>
              <a:off x="3382920" y="2664000"/>
              <a:ext cx="1999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21"/>
            <p:cNvSpPr/>
            <p:nvPr/>
          </p:nvSpPr>
          <p:spPr>
            <a:xfrm>
              <a:off x="3542760" y="2786400"/>
              <a:ext cx="162684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源消耗对环境的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2"/>
          <p:cNvGrpSpPr/>
          <p:nvPr/>
        </p:nvGrpSpPr>
        <p:grpSpPr>
          <a:xfrm>
            <a:off x="2590920" y="3311640"/>
            <a:ext cx="615960" cy="1322280"/>
            <a:chOff x="2590920" y="3311640"/>
            <a:chExt cx="615960" cy="1322280"/>
          </a:xfrm>
        </p:grpSpPr>
        <p:pic>
          <p:nvPicPr>
            <p:cNvPr id="212" name="燕尾形 5" descr=""/>
            <p:cNvPicPr/>
            <p:nvPr/>
          </p:nvPicPr>
          <p:blipFill>
            <a:blip r:embed="rId5"/>
            <a:stretch/>
          </p:blipFill>
          <p:spPr>
            <a:xfrm>
              <a:off x="2590920" y="331164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2652840" y="334800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5"/>
          <p:cNvGrpSpPr/>
          <p:nvPr/>
        </p:nvGrpSpPr>
        <p:grpSpPr>
          <a:xfrm>
            <a:off x="5616720" y="2687760"/>
            <a:ext cx="3168000" cy="2469960"/>
            <a:chOff x="5616720" y="2687760"/>
            <a:chExt cx="3168000" cy="2469960"/>
          </a:xfrm>
        </p:grpSpPr>
        <p:grpSp>
          <p:nvGrpSpPr>
            <p:cNvPr id="215" name="Group 26"/>
            <p:cNvGrpSpPr/>
            <p:nvPr/>
          </p:nvGrpSpPr>
          <p:grpSpPr>
            <a:xfrm>
              <a:off x="5616720" y="2687760"/>
              <a:ext cx="3168000" cy="2469960"/>
              <a:chOff x="5616720" y="2687760"/>
              <a:chExt cx="3168000" cy="2469960"/>
            </a:xfrm>
          </p:grpSpPr>
          <p:pic>
            <p:nvPicPr>
              <p:cNvPr id="216" name="单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616720" y="2687760"/>
                <a:ext cx="3168000" cy="24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28"/>
              <p:cNvSpPr/>
              <p:nvPr/>
            </p:nvSpPr>
            <p:spPr>
              <a:xfrm>
                <a:off x="6741360" y="2790720"/>
                <a:ext cx="1764720" cy="22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能源与可持续发展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29"/>
            <p:cNvGrpSpPr/>
            <p:nvPr/>
          </p:nvGrpSpPr>
          <p:grpSpPr>
            <a:xfrm>
              <a:off x="5686560" y="3321000"/>
              <a:ext cx="614160" cy="1328760"/>
              <a:chOff x="5686560" y="3321000"/>
              <a:chExt cx="614160" cy="1328760"/>
            </a:xfrm>
          </p:grpSpPr>
          <p:pic>
            <p:nvPicPr>
              <p:cNvPr id="219" name="燕尾形 6" descr=""/>
              <p:cNvPicPr/>
              <p:nvPr/>
            </p:nvPicPr>
            <p:blipFill>
              <a:blip r:embed="rId7"/>
              <a:stretch/>
            </p:blipFill>
            <p:spPr>
              <a:xfrm>
                <a:off x="5686560" y="3321000"/>
                <a:ext cx="614160" cy="13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1"/>
              <p:cNvSpPr/>
              <p:nvPr/>
            </p:nvSpPr>
            <p:spPr>
              <a:xfrm>
                <a:off x="5743440" y="3359160"/>
                <a:ext cx="499680" cy="12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C:\Users\John\Desktop\stock-photo-model-of-earth-21955486.jpg"/>
          <p:cNvPicPr/>
          <p:nvPr/>
        </p:nvPicPr>
        <p:blipFill>
          <a:blip r:embed="rId1"/>
          <a:stretch/>
        </p:blipFill>
        <p:spPr>
          <a:xfrm>
            <a:off x="4248000" y="1874880"/>
            <a:ext cx="4716720" cy="4830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431640" y="2168640"/>
            <a:ext cx="60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既然能量是守恒的，那地球上的能量就不会减少了，为什么还需要节约能源？</a:t>
            </a:r>
            <a:r>
              <a:rPr b="1" lang="en-US" sz="2800" spc="-1" strike="noStrike">
                <a:solidFill>
                  <a:srgbClr val="0066cc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想议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31640" y="411120"/>
            <a:ext cx="6804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能量转移和能量转化的方向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2"/>
          <p:cNvSpPr/>
          <p:nvPr/>
        </p:nvSpPr>
        <p:spPr>
          <a:xfrm>
            <a:off x="431640" y="12682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我们从石油中提炼出汽油，内燃机把能源中储备的化学能转化为汽车的机械能、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E:\电子课件编制\1339460427586.jpg"/>
          <p:cNvPicPr/>
          <p:nvPr/>
        </p:nvPicPr>
        <p:blipFill>
          <a:blip r:embed="rId1"/>
          <a:stretch/>
        </p:blipFill>
        <p:spPr>
          <a:xfrm>
            <a:off x="900000" y="2384280"/>
            <a:ext cx="27370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3852720" y="2554200"/>
            <a:ext cx="4464360" cy="1816200"/>
            <a:chOff x="3852720" y="2554200"/>
            <a:chExt cx="4464360" cy="1816200"/>
          </a:xfrm>
        </p:grpSpPr>
        <p:pic>
          <p:nvPicPr>
            <p:cNvPr id="94" name="Picture 3" descr="C:\Users\John\Desktop\20101208082812960646.jpg"/>
            <p:cNvPicPr/>
            <p:nvPr/>
          </p:nvPicPr>
          <p:blipFill>
            <a:blip r:embed="rId2"/>
            <a:stretch/>
          </p:blipFill>
          <p:spPr>
            <a:xfrm>
              <a:off x="5221080" y="2554200"/>
              <a:ext cx="309600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右箭头 6"/>
            <p:cNvSpPr/>
            <p:nvPr/>
          </p:nvSpPr>
          <p:spPr>
            <a:xfrm>
              <a:off x="3852720" y="3274920"/>
              <a:ext cx="1152360" cy="431640"/>
            </a:xfrm>
            <a:prstGeom prst="rightArrow">
              <a:avLst>
                <a:gd name="adj1" fmla="val 50000"/>
                <a:gd name="adj2" fmla="val 4997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12"/>
          <p:cNvSpPr/>
          <p:nvPr/>
        </p:nvSpPr>
        <p:spPr>
          <a:xfrm>
            <a:off x="431640" y="598500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机械能、内能无法再转化回可以被利用的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31640" y="7491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1063800" y="4354560"/>
            <a:ext cx="7110360" cy="1519200"/>
            <a:chOff x="1063800" y="4354560"/>
            <a:chExt cx="7110360" cy="1519200"/>
          </a:xfrm>
        </p:grpSpPr>
        <p:cxnSp>
          <p:nvCxnSpPr>
            <p:cNvPr id="99" name="直接箭头连接符 8"/>
            <p:cNvCxnSpPr/>
            <p:nvPr/>
          </p:nvCxnSpPr>
          <p:spPr>
            <a:xfrm>
              <a:off x="2773080" y="4785840"/>
              <a:ext cx="1189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00" name="Group 11"/>
            <p:cNvGrpSpPr/>
            <p:nvPr/>
          </p:nvGrpSpPr>
          <p:grpSpPr>
            <a:xfrm>
              <a:off x="1063800" y="4363920"/>
              <a:ext cx="1746360" cy="763560"/>
              <a:chOff x="1063800" y="4363920"/>
              <a:chExt cx="1746360" cy="763560"/>
            </a:xfrm>
          </p:grpSpPr>
          <p:pic>
            <p:nvPicPr>
              <p:cNvPr id="101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3800" y="4363920"/>
                <a:ext cx="1746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13"/>
              <p:cNvSpPr/>
              <p:nvPr/>
            </p:nvSpPr>
            <p:spPr>
              <a:xfrm>
                <a:off x="1103760" y="4498920"/>
                <a:ext cx="16722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化学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14"/>
            <p:cNvGrpSpPr/>
            <p:nvPr/>
          </p:nvGrpSpPr>
          <p:grpSpPr>
            <a:xfrm>
              <a:off x="3961080" y="5110200"/>
              <a:ext cx="1584360" cy="763560"/>
              <a:chOff x="3961080" y="5110200"/>
              <a:chExt cx="1584360" cy="763560"/>
            </a:xfrm>
          </p:grpSpPr>
          <p:pic>
            <p:nvPicPr>
              <p:cNvPr id="104" name="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1080" y="5110200"/>
                <a:ext cx="1584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6"/>
              <p:cNvSpPr/>
              <p:nvPr/>
            </p:nvSpPr>
            <p:spPr>
              <a:xfrm>
                <a:off x="3996360" y="5245200"/>
                <a:ext cx="15177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6589800" y="4354560"/>
              <a:ext cx="1584360" cy="763560"/>
              <a:chOff x="6589800" y="4354560"/>
              <a:chExt cx="1584360" cy="763560"/>
            </a:xfrm>
          </p:grpSpPr>
          <p:pic>
            <p:nvPicPr>
              <p:cNvPr id="107" name="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9800" y="4354560"/>
                <a:ext cx="15843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9"/>
              <p:cNvSpPr/>
              <p:nvPr/>
            </p:nvSpPr>
            <p:spPr>
              <a:xfrm>
                <a:off x="6625080" y="4489560"/>
                <a:ext cx="15177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" name="直接箭头连接符 8"/>
            <p:cNvCxnSpPr/>
            <p:nvPr/>
          </p:nvCxnSpPr>
          <p:spPr>
            <a:xfrm>
              <a:off x="2773080" y="4930560"/>
              <a:ext cx="1189800" cy="54180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0" name="直接箭头连接符 8"/>
            <p:cNvCxnSpPr/>
            <p:nvPr/>
          </p:nvCxnSpPr>
          <p:spPr>
            <a:xfrm>
              <a:off x="5797800" y="4750920"/>
              <a:ext cx="7927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11" name="Group 22"/>
            <p:cNvGrpSpPr/>
            <p:nvPr/>
          </p:nvGrpSpPr>
          <p:grpSpPr>
            <a:xfrm>
              <a:off x="3997440" y="4427640"/>
              <a:ext cx="1763640" cy="657000"/>
              <a:chOff x="3997440" y="4427640"/>
              <a:chExt cx="1763640" cy="657000"/>
            </a:xfrm>
          </p:grpSpPr>
          <p:pic>
            <p:nvPicPr>
              <p:cNvPr id="112" name="矩形 1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7440" y="4427640"/>
                <a:ext cx="1763640" cy="65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4"/>
              <p:cNvSpPr/>
              <p:nvPr/>
            </p:nvSpPr>
            <p:spPr>
              <a:xfrm>
                <a:off x="4021200" y="4452840"/>
                <a:ext cx="1717920" cy="5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机械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199"/>
          <p:cNvSpPr/>
          <p:nvPr/>
        </p:nvSpPr>
        <p:spPr>
          <a:xfrm>
            <a:off x="136692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2"/>
          <p:cNvSpPr/>
          <p:nvPr/>
        </p:nvSpPr>
        <p:spPr>
          <a:xfrm>
            <a:off x="431640" y="7603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力发电厂把煤中贮存的化学能转化为电能，供生产和生活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431640" y="573408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用电器将电能转化为内能、光能、机械能多种形式的能后，这些能量无法再变回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电子课件编制\8023729_133354474000_2.jpg"/>
          <p:cNvPicPr/>
          <p:nvPr/>
        </p:nvPicPr>
        <p:blipFill>
          <a:blip r:embed="rId1"/>
          <a:stretch/>
        </p:blipFill>
        <p:spPr>
          <a:xfrm>
            <a:off x="755640" y="2422440"/>
            <a:ext cx="22687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3059280" y="2097000"/>
            <a:ext cx="5041800" cy="2376720"/>
            <a:chOff x="3059280" y="2097000"/>
            <a:chExt cx="5041800" cy="2376720"/>
          </a:xfrm>
        </p:grpSpPr>
        <p:sp>
          <p:nvSpPr>
            <p:cNvPr id="120" name="右箭头 6"/>
            <p:cNvSpPr/>
            <p:nvPr/>
          </p:nvSpPr>
          <p:spPr>
            <a:xfrm>
              <a:off x="3059280" y="3048120"/>
              <a:ext cx="995040" cy="356400"/>
            </a:xfrm>
            <a:prstGeom prst="rightArrow">
              <a:avLst>
                <a:gd name="adj1" fmla="val 50000"/>
                <a:gd name="adj2" fmla="val 5225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4240800" y="2097000"/>
              <a:ext cx="3860280" cy="2376720"/>
              <a:chOff x="4240800" y="2097000"/>
              <a:chExt cx="3860280" cy="2376720"/>
            </a:xfrm>
          </p:grpSpPr>
          <p:pic>
            <p:nvPicPr>
              <p:cNvPr id="122" name="Picture 4" descr="C:\Users\John\Desktop\12OCA36340-13O1.jpg"/>
              <p:cNvPicPr/>
              <p:nvPr/>
            </p:nvPicPr>
            <p:blipFill>
              <a:blip r:embed="rId2"/>
              <a:stretch/>
            </p:blipFill>
            <p:spPr>
              <a:xfrm>
                <a:off x="5324400" y="3406680"/>
                <a:ext cx="97668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7" descr="C:\Users\John\Desktop\225992200818162166.jpg"/>
              <p:cNvPicPr/>
              <p:nvPr/>
            </p:nvPicPr>
            <p:blipFill>
              <a:blip r:embed="rId3"/>
              <a:stretch/>
            </p:blipFill>
            <p:spPr>
              <a:xfrm>
                <a:off x="4245120" y="3455280"/>
                <a:ext cx="1089360" cy="101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6" descr="C:\Users\John\Desktop\2f3e75f5eaaa2728eda931f86f_560.jpg"/>
              <p:cNvPicPr/>
              <p:nvPr/>
            </p:nvPicPr>
            <p:blipFill>
              <a:blip r:embed="rId4"/>
              <a:stretch/>
            </p:blipFill>
            <p:spPr>
              <a:xfrm>
                <a:off x="4240800" y="2097000"/>
                <a:ext cx="207612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5" descr="C:\Users\John\Desktop\2450617_102727521783_2.jpg"/>
              <p:cNvPicPr/>
              <p:nvPr/>
            </p:nvPicPr>
            <p:blipFill>
              <a:blip r:embed="rId5"/>
              <a:stretch/>
            </p:blipFill>
            <p:spPr>
              <a:xfrm>
                <a:off x="6249960" y="2097000"/>
                <a:ext cx="1851120" cy="237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Group 12"/>
          <p:cNvGrpSpPr/>
          <p:nvPr/>
        </p:nvGrpSpPr>
        <p:grpSpPr>
          <a:xfrm>
            <a:off x="1187280" y="4438800"/>
            <a:ext cx="7021440" cy="1366200"/>
            <a:chOff x="1187280" y="4438800"/>
            <a:chExt cx="7021440" cy="1366200"/>
          </a:xfrm>
        </p:grpSpPr>
        <p:cxnSp>
          <p:nvCxnSpPr>
            <p:cNvPr id="127" name="直接箭头连接符 8"/>
            <p:cNvCxnSpPr/>
            <p:nvPr/>
          </p:nvCxnSpPr>
          <p:spPr>
            <a:xfrm>
              <a:off x="2897280" y="4811400"/>
              <a:ext cx="10386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28" name="Group 14"/>
            <p:cNvGrpSpPr/>
            <p:nvPr/>
          </p:nvGrpSpPr>
          <p:grpSpPr>
            <a:xfrm>
              <a:off x="1187280" y="4438800"/>
              <a:ext cx="1743480" cy="674640"/>
              <a:chOff x="1187280" y="4438800"/>
              <a:chExt cx="1743480" cy="674640"/>
            </a:xfrm>
          </p:grpSpPr>
          <p:pic>
            <p:nvPicPr>
              <p:cNvPr id="129" name="矩形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87280" y="4438800"/>
                <a:ext cx="174348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6"/>
              <p:cNvSpPr/>
              <p:nvPr/>
            </p:nvSpPr>
            <p:spPr>
              <a:xfrm>
                <a:off x="1225080" y="4556160"/>
                <a:ext cx="167184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化学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7"/>
            <p:cNvGrpSpPr/>
            <p:nvPr/>
          </p:nvGrpSpPr>
          <p:grpSpPr>
            <a:xfrm>
              <a:off x="3987360" y="5130360"/>
              <a:ext cx="1396440" cy="674640"/>
              <a:chOff x="3987360" y="5130360"/>
              <a:chExt cx="1396440" cy="674640"/>
            </a:xfrm>
          </p:grpSpPr>
          <p:pic>
            <p:nvPicPr>
              <p:cNvPr id="132" name="矩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987360" y="5130360"/>
                <a:ext cx="13964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9"/>
              <p:cNvSpPr/>
              <p:nvPr/>
            </p:nvSpPr>
            <p:spPr>
              <a:xfrm>
                <a:off x="4017600" y="5249520"/>
                <a:ext cx="1337760" cy="50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20"/>
            <p:cNvGrpSpPr/>
            <p:nvPr/>
          </p:nvGrpSpPr>
          <p:grpSpPr>
            <a:xfrm>
              <a:off x="6812280" y="4461120"/>
              <a:ext cx="1396440" cy="674640"/>
              <a:chOff x="6812280" y="4461120"/>
              <a:chExt cx="1396440" cy="674640"/>
            </a:xfrm>
          </p:grpSpPr>
          <p:pic>
            <p:nvPicPr>
              <p:cNvPr id="135" name="矩形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6812280" y="4461120"/>
                <a:ext cx="139644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22"/>
              <p:cNvSpPr/>
              <p:nvPr/>
            </p:nvSpPr>
            <p:spPr>
              <a:xfrm>
                <a:off x="6841440" y="4580280"/>
                <a:ext cx="1339560" cy="50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7" name="直接箭头连接符 8"/>
            <p:cNvCxnSpPr/>
            <p:nvPr/>
          </p:nvCxnSpPr>
          <p:spPr>
            <a:xfrm>
              <a:off x="2908080" y="4874400"/>
              <a:ext cx="1048320" cy="47916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38" name="直接箭头连接符 8"/>
            <p:cNvCxnSpPr/>
            <p:nvPr/>
          </p:nvCxnSpPr>
          <p:spPr>
            <a:xfrm>
              <a:off x="5256000" y="4811400"/>
              <a:ext cx="382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grpSp>
          <p:nvGrpSpPr>
            <p:cNvPr id="139" name="Group 25"/>
            <p:cNvGrpSpPr/>
            <p:nvPr/>
          </p:nvGrpSpPr>
          <p:grpSpPr>
            <a:xfrm>
              <a:off x="3924000" y="4461120"/>
              <a:ext cx="1364400" cy="667800"/>
              <a:chOff x="3924000" y="4461120"/>
              <a:chExt cx="1364400" cy="667800"/>
            </a:xfrm>
          </p:grpSpPr>
          <p:pic>
            <p:nvPicPr>
              <p:cNvPr id="140" name="圆角矩形 1" descr=""/>
              <p:cNvPicPr/>
              <p:nvPr/>
            </p:nvPicPr>
            <p:blipFill>
              <a:blip r:embed="rId9"/>
              <a:stretch/>
            </p:blipFill>
            <p:spPr>
              <a:xfrm>
                <a:off x="3924000" y="4461120"/>
                <a:ext cx="136440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27"/>
              <p:cNvSpPr/>
              <p:nvPr/>
            </p:nvSpPr>
            <p:spPr>
              <a:xfrm>
                <a:off x="3975840" y="4530600"/>
                <a:ext cx="12823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电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2" name="直接箭头连接符 8"/>
            <p:cNvCxnSpPr/>
            <p:nvPr/>
          </p:nvCxnSpPr>
          <p:spPr>
            <a:xfrm>
              <a:off x="5796720" y="4811400"/>
              <a:ext cx="382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43" name="直接箭头连接符 8"/>
            <p:cNvCxnSpPr/>
            <p:nvPr/>
          </p:nvCxnSpPr>
          <p:spPr>
            <a:xfrm>
              <a:off x="6399000" y="4811400"/>
              <a:ext cx="382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pic>
        <p:nvPicPr>
          <p:cNvPr id="144" name="Picture 9" descr="E:\李燃\教师教学用书\2012人教教师用书项目\ppt\物理\图标.png"/>
          <p:cNvPicPr/>
          <p:nvPr/>
        </p:nvPicPr>
        <p:blipFill>
          <a:blip r:embed="rId10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2"/>
          <p:cNvSpPr/>
          <p:nvPr/>
        </p:nvSpPr>
        <p:spPr>
          <a:xfrm>
            <a:off x="431640" y="800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热传递的过程中，热量只能自发地从高温物体转移到低温物体，不能相反。如果要使热量从低温物体转移到高温物体，就需要消耗其他形式的能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如电冰箱就需要消耗电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826920" y="3105000"/>
            <a:ext cx="6697800" cy="3432240"/>
            <a:chOff x="826920" y="3105000"/>
            <a:chExt cx="6697800" cy="3432240"/>
          </a:xfrm>
        </p:grpSpPr>
        <p:pic>
          <p:nvPicPr>
            <p:cNvPr id="147" name="Picture 2" descr="C:\Users\John\Desktop\6608733_124735095000_2.jpg"/>
            <p:cNvPicPr/>
            <p:nvPr/>
          </p:nvPicPr>
          <p:blipFill>
            <a:blip r:embed="rId1">
              <a:lum bright="10000"/>
            </a:blip>
            <a:stretch/>
          </p:blipFill>
          <p:spPr>
            <a:xfrm>
              <a:off x="826920" y="3202920"/>
              <a:ext cx="6697800" cy="32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950400" y="3105000"/>
              <a:ext cx="3515040" cy="343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6" descr="电冰箱"/>
            <p:cNvPicPr/>
            <p:nvPr/>
          </p:nvPicPr>
          <p:blipFill>
            <a:blip r:embed="rId2"/>
            <a:stretch/>
          </p:blipFill>
          <p:spPr>
            <a:xfrm>
              <a:off x="2100240" y="3105000"/>
              <a:ext cx="1666800" cy="33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431640" y="76032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车制动时，由于摩擦，动能转化成轮胎、地面和空气的内能，这些消耗的能量不能再自动地被用来驱动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John\Desktop\d_201304162233245404149.jpg"/>
          <p:cNvPicPr/>
          <p:nvPr/>
        </p:nvPicPr>
        <p:blipFill>
          <a:blip r:embed="rId1"/>
          <a:stretch/>
        </p:blipFill>
        <p:spPr>
          <a:xfrm>
            <a:off x="792000" y="2247840"/>
            <a:ext cx="7525080" cy="2333520"/>
          </a:xfrm>
          <a:prstGeom prst="rect">
            <a:avLst/>
          </a:prstGeom>
          <a:ln w="0">
            <a:noFill/>
          </a:ln>
        </p:spPr>
      </p:pic>
      <p:sp>
        <p:nvSpPr>
          <p:cNvPr id="153" name="矩形 5"/>
          <p:cNvSpPr/>
          <p:nvPr/>
        </p:nvSpPr>
        <p:spPr>
          <a:xfrm>
            <a:off x="431640" y="476100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能量的转化和转移具有方向性，有些能量可以利用，有些则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们所能利用的能源是有限的，所以需要节约能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2"/>
          <p:cNvSpPr/>
          <p:nvPr/>
        </p:nvSpPr>
        <p:spPr>
          <a:xfrm>
            <a:off x="431640" y="1268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化石能源通过燃烧转化为内能，相当一部分内能没有被有效利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02尾气2"/>
          <p:cNvPicPr/>
          <p:nvPr/>
        </p:nvPicPr>
        <p:blipFill>
          <a:blip r:embed="rId1"/>
          <a:stretch/>
        </p:blipFill>
        <p:spPr>
          <a:xfrm>
            <a:off x="4356000" y="2349360"/>
            <a:ext cx="4392720" cy="3359160"/>
          </a:xfrm>
          <a:prstGeom prst="rect">
            <a:avLst/>
          </a:prstGeom>
          <a:ln w="1908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Picture 5" descr="10炼油厂冒出的浓烟"/>
          <p:cNvPicPr/>
          <p:nvPr/>
        </p:nvPicPr>
        <p:blipFill>
          <a:blip r:embed="rId2"/>
          <a:stretch/>
        </p:blipFill>
        <p:spPr>
          <a:xfrm>
            <a:off x="503280" y="2900520"/>
            <a:ext cx="4546440" cy="3387600"/>
          </a:xfrm>
          <a:prstGeom prst="rect">
            <a:avLst/>
          </a:prstGeom>
          <a:ln w="1908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9" name="矩形 4"/>
          <p:cNvSpPr/>
          <p:nvPr/>
        </p:nvSpPr>
        <p:spPr>
          <a:xfrm>
            <a:off x="431640" y="411120"/>
            <a:ext cx="5869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能源消耗对环境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431640" y="1268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汽车尾气造成空气污染和城市热岛效应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C:\Users\John\Desktop\121266579_1211n.jpg"/>
          <p:cNvPicPr/>
          <p:nvPr/>
        </p:nvPicPr>
        <p:blipFill>
          <a:blip r:embed="rId2"/>
          <a:stretch/>
        </p:blipFill>
        <p:spPr>
          <a:xfrm>
            <a:off x="3924360" y="189000"/>
            <a:ext cx="4983120" cy="6480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431640" y="3141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燃料燃烧产生的大量二氧化碳，加剧了地球的温室效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4"/>
          <p:cNvSpPr/>
          <p:nvPr/>
        </p:nvSpPr>
        <p:spPr>
          <a:xfrm>
            <a:off x="431640" y="7952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燃料燃烧还生成二氧化硫、氮氧化物、粉尘和一氧化碳等有害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C:\Users\John\Desktop\20120110084901141.jpg"/>
          <p:cNvPicPr/>
          <p:nvPr/>
        </p:nvPicPr>
        <p:blipFill>
          <a:blip r:embed="rId1"/>
          <a:stretch/>
        </p:blipFill>
        <p:spPr>
          <a:xfrm>
            <a:off x="4608360" y="1814400"/>
            <a:ext cx="4032360" cy="3079800"/>
          </a:xfrm>
          <a:prstGeom prst="rect">
            <a:avLst/>
          </a:prstGeom>
          <a:ln w="0">
            <a:noFill/>
          </a:ln>
        </p:spPr>
      </p:pic>
      <p:sp>
        <p:nvSpPr>
          <p:cNvPr id="166" name="矩形 9"/>
          <p:cNvSpPr/>
          <p:nvPr/>
        </p:nvSpPr>
        <p:spPr>
          <a:xfrm>
            <a:off x="4570560" y="491184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酸性气体形成酸雨造成危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718920" y="1916280"/>
            <a:ext cx="3156120" cy="4628160"/>
            <a:chOff x="718920" y="1916280"/>
            <a:chExt cx="3156120" cy="4628160"/>
          </a:xfrm>
        </p:grpSpPr>
        <p:pic>
          <p:nvPicPr>
            <p:cNvPr id="168" name="Picture 10" descr=""/>
            <p:cNvPicPr/>
            <p:nvPr/>
          </p:nvPicPr>
          <p:blipFill>
            <a:blip r:embed="rId2"/>
            <a:stretch/>
          </p:blipFill>
          <p:spPr>
            <a:xfrm>
              <a:off x="718920" y="1916280"/>
              <a:ext cx="3156120" cy="42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108800" y="6084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酸雨侵蚀后的汉白玉石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3Z</dcterms:modified>
  <cp:revision>3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